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CC1-609F-43FD-BD2C-C890A305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4D4-C410-4E4A-9DD8-A07301F2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08A-F685-4DA2-B93A-6ADE5153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69B2-5E4C-419C-B326-DED5A13C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DEB-5857-431C-A2B9-D01F0CA5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287-E0E3-482E-950C-657C92B4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5AE-B12B-4732-9A62-9340DA2C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F6D-20A5-4BA8-86BB-5EBE5BDE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9AB-BAB4-4A7E-B56C-3F0AFAEF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6BD-ACEF-4E87-ADEB-2E70D445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8E6-725A-4E6E-A739-5CF271BA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168-1672-4FDB-8AEE-FD7AE7D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571D-A237-4266-83A0-73A925656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71600" y="2819520"/>
            <a:ext cx="65530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ff"/>
                </a:solidFill>
                <a:latin typeface="Comic Sans MS"/>
              </a:rPr>
              <a:t>Drawing the Figure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me holds true for geometric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703440" y="2717640"/>
            <a:ext cx="7734240" cy="152640"/>
          </a:xfrm>
          <a:custGeom>
            <a:avLst/>
            <a:gdLst/>
            <a:ahLst/>
            <a:rect l="l" t="t" r="r" b="b"/>
            <a:pathLst>
              <a:path w="21483" h="423">
                <a:moveTo>
                  <a:pt x="0" y="371"/>
                </a:moveTo>
                <a:cubicBezTo>
                  <a:pt x="329" y="402"/>
                  <a:pt x="631" y="412"/>
                  <a:pt x="973" y="379"/>
                </a:cubicBezTo>
                <a:cubicBezTo>
                  <a:pt x="2178" y="264"/>
                  <a:pt x="3359" y="72"/>
                  <a:pt x="4574" y="47"/>
                </a:cubicBezTo>
                <a:cubicBezTo>
                  <a:pt x="6500" y="8"/>
                  <a:pt x="8423" y="226"/>
                  <a:pt x="10348" y="273"/>
                </a:cubicBezTo>
                <a:cubicBezTo>
                  <a:pt x="12349" y="321"/>
                  <a:pt x="14344" y="288"/>
                  <a:pt x="16344" y="226"/>
                </a:cubicBezTo>
                <a:cubicBezTo>
                  <a:pt x="18028" y="174"/>
                  <a:pt x="19706" y="-15"/>
                  <a:pt x="21392" y="4"/>
                </a:cubicBezTo>
                <a:cubicBezTo>
                  <a:pt x="21413" y="4"/>
                  <a:pt x="21470" y="8"/>
                  <a:pt x="21478" y="8"/>
                </a:cubicBezTo>
                <a:cubicBezTo>
                  <a:pt x="21490" y="8"/>
                  <a:pt x="21457" y="8"/>
                  <a:pt x="21469" y="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Freeform 5"/>
          <p:cNvSpPr/>
          <p:nvPr/>
        </p:nvSpPr>
        <p:spPr>
          <a:xfrm>
            <a:off x="987480" y="42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3144960" y="3508200"/>
            <a:ext cx="2227320" cy="158760"/>
          </a:xfrm>
          <a:custGeom>
            <a:avLst/>
            <a:gdLst/>
            <a:ahLst/>
            <a:rect l="l" t="t" r="r" b="b"/>
            <a:pathLst>
              <a:path w="6188" h="441">
                <a:moveTo>
                  <a:pt x="0" y="401"/>
                </a:moveTo>
                <a:cubicBezTo>
                  <a:pt x="23" y="406"/>
                  <a:pt x="44" y="418"/>
                  <a:pt x="68" y="423"/>
                </a:cubicBezTo>
                <a:cubicBezTo>
                  <a:pt x="240" y="456"/>
                  <a:pt x="423" y="442"/>
                  <a:pt x="597" y="436"/>
                </a:cubicBezTo>
                <a:cubicBezTo>
                  <a:pt x="1384" y="408"/>
                  <a:pt x="2158" y="324"/>
                  <a:pt x="2940" y="239"/>
                </a:cubicBezTo>
                <a:cubicBezTo>
                  <a:pt x="3983" y="126"/>
                  <a:pt x="5079" y="12"/>
                  <a:pt x="6128" y="5"/>
                </a:cubicBezTo>
                <a:cubicBezTo>
                  <a:pt x="6155" y="5"/>
                  <a:pt x="6148" y="3"/>
                  <a:pt x="6175" y="5"/>
                </a:cubicBezTo>
                <a:cubicBezTo>
                  <a:pt x="6171" y="8"/>
                  <a:pt x="6166" y="10"/>
                  <a:pt x="6162" y="1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3165480" y="3598920"/>
            <a:ext cx="2359080" cy="1698480"/>
          </a:xfrm>
          <a:custGeom>
            <a:avLst/>
            <a:gdLst/>
            <a:ahLst/>
            <a:rect l="l" t="t" r="r" b="b"/>
            <a:pathLst>
              <a:path w="6552" h="4717">
                <a:moveTo>
                  <a:pt x="60" y="0"/>
                </a:moveTo>
                <a:cubicBezTo>
                  <a:pt x="57" y="12"/>
                  <a:pt x="22" y="65"/>
                  <a:pt x="17" y="98"/>
                </a:cubicBezTo>
                <a:cubicBezTo>
                  <a:pt x="-93" y="841"/>
                  <a:pt x="40" y="1647"/>
                  <a:pt x="47" y="2394"/>
                </a:cubicBezTo>
                <a:cubicBezTo>
                  <a:pt x="53" y="3088"/>
                  <a:pt x="52" y="3805"/>
                  <a:pt x="22" y="4489"/>
                </a:cubicBezTo>
                <a:cubicBezTo>
                  <a:pt x="21" y="4517"/>
                  <a:pt x="-16" y="4600"/>
                  <a:pt x="9" y="4634"/>
                </a:cubicBezTo>
                <a:cubicBezTo>
                  <a:pt x="31" y="4664"/>
                  <a:pt x="49" y="4677"/>
                  <a:pt x="90" y="4698"/>
                </a:cubicBezTo>
                <a:cubicBezTo>
                  <a:pt x="204" y="4756"/>
                  <a:pt x="394" y="4709"/>
                  <a:pt x="512" y="4698"/>
                </a:cubicBezTo>
                <a:cubicBezTo>
                  <a:pt x="1066" y="4647"/>
                  <a:pt x="1609" y="4523"/>
                  <a:pt x="2168" y="4498"/>
                </a:cubicBezTo>
                <a:cubicBezTo>
                  <a:pt x="3534" y="4438"/>
                  <a:pt x="4896" y="4568"/>
                  <a:pt x="6252" y="4344"/>
                </a:cubicBezTo>
                <a:cubicBezTo>
                  <a:pt x="6325" y="4332"/>
                  <a:pt x="6477" y="4333"/>
                  <a:pt x="6538" y="4289"/>
                </a:cubicBezTo>
                <a:cubicBezTo>
                  <a:pt x="6553" y="4278"/>
                  <a:pt x="6540" y="4207"/>
                  <a:pt x="6551" y="419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1" name="Freeform 8"/>
          <p:cNvSpPr/>
          <p:nvPr/>
        </p:nvSpPr>
        <p:spPr>
          <a:xfrm>
            <a:off x="5335560" y="3419640"/>
            <a:ext cx="160200" cy="1711080"/>
          </a:xfrm>
          <a:custGeom>
            <a:avLst/>
            <a:gdLst/>
            <a:ahLst/>
            <a:rect l="l" t="t" r="r" b="b"/>
            <a:pathLst>
              <a:path w="445" h="4755">
                <a:moveTo>
                  <a:pt x="8" y="8"/>
                </a:moveTo>
                <a:cubicBezTo>
                  <a:pt x="8" y="20"/>
                  <a:pt x="0" y="13"/>
                  <a:pt x="0" y="25"/>
                </a:cubicBezTo>
                <a:cubicBezTo>
                  <a:pt x="2" y="79"/>
                  <a:pt x="12" y="134"/>
                  <a:pt x="17" y="188"/>
                </a:cubicBezTo>
                <a:cubicBezTo>
                  <a:pt x="41" y="435"/>
                  <a:pt x="53" y="682"/>
                  <a:pt x="68" y="930"/>
                </a:cubicBezTo>
                <a:cubicBezTo>
                  <a:pt x="110" y="1631"/>
                  <a:pt x="144" y="2334"/>
                  <a:pt x="209" y="3034"/>
                </a:cubicBezTo>
                <a:cubicBezTo>
                  <a:pt x="237" y="3338"/>
                  <a:pt x="272" y="3645"/>
                  <a:pt x="320" y="3947"/>
                </a:cubicBezTo>
                <a:cubicBezTo>
                  <a:pt x="351" y="4143"/>
                  <a:pt x="406" y="4337"/>
                  <a:pt x="435" y="4532"/>
                </a:cubicBezTo>
                <a:cubicBezTo>
                  <a:pt x="437" y="4545"/>
                  <a:pt x="438" y="4552"/>
                  <a:pt x="439" y="4566"/>
                </a:cubicBezTo>
                <a:cubicBezTo>
                  <a:pt x="443" y="4615"/>
                  <a:pt x="435" y="4727"/>
                  <a:pt x="414" y="4749"/>
                </a:cubicBezTo>
                <a:cubicBezTo>
                  <a:pt x="405" y="4759"/>
                  <a:pt x="420" y="4702"/>
                  <a:pt x="410" y="471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3132000" y="1900080"/>
            <a:ext cx="2227320" cy="1800360"/>
          </a:xfrm>
          <a:custGeom>
            <a:avLst/>
            <a:gdLst/>
            <a:ahLst/>
            <a:rect l="l" t="t" r="r" b="b"/>
            <a:pathLst>
              <a:path w="6185" h="5003">
                <a:moveTo>
                  <a:pt x="0" y="5002"/>
                </a:moveTo>
                <a:cubicBezTo>
                  <a:pt x="4" y="4997"/>
                  <a:pt x="-7" y="5001"/>
                  <a:pt x="0" y="4993"/>
                </a:cubicBezTo>
                <a:cubicBezTo>
                  <a:pt x="17" y="4975"/>
                  <a:pt x="38" y="4953"/>
                  <a:pt x="56" y="4933"/>
                </a:cubicBezTo>
                <a:cubicBezTo>
                  <a:pt x="77" y="4909"/>
                  <a:pt x="97" y="4886"/>
                  <a:pt x="120" y="4861"/>
                </a:cubicBezTo>
                <a:cubicBezTo>
                  <a:pt x="253" y="4713"/>
                  <a:pt x="390" y="4571"/>
                  <a:pt x="538" y="4438"/>
                </a:cubicBezTo>
                <a:cubicBezTo>
                  <a:pt x="603" y="4380"/>
                  <a:pt x="673" y="4329"/>
                  <a:pt x="743" y="4276"/>
                </a:cubicBezTo>
                <a:cubicBezTo>
                  <a:pt x="1007" y="4076"/>
                  <a:pt x="1295" y="3914"/>
                  <a:pt x="1558" y="3713"/>
                </a:cubicBezTo>
                <a:cubicBezTo>
                  <a:pt x="1772" y="3549"/>
                  <a:pt x="1983" y="3378"/>
                  <a:pt x="2190" y="3205"/>
                </a:cubicBezTo>
                <a:cubicBezTo>
                  <a:pt x="2257" y="3149"/>
                  <a:pt x="2325" y="3097"/>
                  <a:pt x="2394" y="3043"/>
                </a:cubicBezTo>
                <a:cubicBezTo>
                  <a:pt x="2530" y="2937"/>
                  <a:pt x="2678" y="2851"/>
                  <a:pt x="2817" y="2749"/>
                </a:cubicBezTo>
                <a:cubicBezTo>
                  <a:pt x="2939" y="2659"/>
                  <a:pt x="3062" y="2572"/>
                  <a:pt x="3184" y="2484"/>
                </a:cubicBezTo>
                <a:cubicBezTo>
                  <a:pt x="3227" y="2453"/>
                  <a:pt x="3280" y="2425"/>
                  <a:pt x="3316" y="2403"/>
                </a:cubicBezTo>
              </a:path>
              <a:path w="6185" h="5003">
                <a:moveTo>
                  <a:pt x="6184" y="4396"/>
                </a:moveTo>
                <a:cubicBezTo>
                  <a:pt x="6169" y="4369"/>
                  <a:pt x="6153" y="4342"/>
                  <a:pt x="6137" y="4315"/>
                </a:cubicBezTo>
                <a:cubicBezTo>
                  <a:pt x="6119" y="4286"/>
                  <a:pt x="6101" y="4258"/>
                  <a:pt x="6081" y="4229"/>
                </a:cubicBezTo>
                <a:cubicBezTo>
                  <a:pt x="6029" y="4152"/>
                  <a:pt x="5972" y="4071"/>
                  <a:pt x="5907" y="4003"/>
                </a:cubicBezTo>
                <a:cubicBezTo>
                  <a:pt x="5847" y="3940"/>
                  <a:pt x="5776" y="3888"/>
                  <a:pt x="5710" y="3832"/>
                </a:cubicBezTo>
                <a:cubicBezTo>
                  <a:pt x="5618" y="3754"/>
                  <a:pt x="5531" y="3672"/>
                  <a:pt x="5437" y="3598"/>
                </a:cubicBezTo>
                <a:cubicBezTo>
                  <a:pt x="5277" y="3471"/>
                  <a:pt x="5132" y="3338"/>
                  <a:pt x="4981" y="3201"/>
                </a:cubicBezTo>
                <a:cubicBezTo>
                  <a:pt x="4827" y="3062"/>
                  <a:pt x="4647" y="2942"/>
                  <a:pt x="4477" y="2825"/>
                </a:cubicBezTo>
                <a:cubicBezTo>
                  <a:pt x="4445" y="2803"/>
                  <a:pt x="4411" y="2783"/>
                  <a:pt x="4379" y="2761"/>
                </a:cubicBezTo>
                <a:cubicBezTo>
                  <a:pt x="4331" y="2729"/>
                  <a:pt x="4305" y="2697"/>
                  <a:pt x="4272" y="2650"/>
                </a:cubicBezTo>
                <a:cubicBezTo>
                  <a:pt x="4253" y="2623"/>
                  <a:pt x="4237" y="2595"/>
                  <a:pt x="4217" y="2569"/>
                </a:cubicBezTo>
                <a:cubicBezTo>
                  <a:pt x="4202" y="2549"/>
                  <a:pt x="4183" y="2530"/>
                  <a:pt x="4165" y="2514"/>
                </a:cubicBezTo>
                <a:cubicBezTo>
                  <a:pt x="4150" y="2500"/>
                  <a:pt x="4129" y="2492"/>
                  <a:pt x="4114" y="2480"/>
                </a:cubicBezTo>
                <a:cubicBezTo>
                  <a:pt x="4101" y="2470"/>
                  <a:pt x="4097" y="2463"/>
                  <a:pt x="4084" y="2454"/>
                </a:cubicBezTo>
                <a:cubicBezTo>
                  <a:pt x="4077" y="2449"/>
                  <a:pt x="4075" y="2451"/>
                  <a:pt x="4067" y="2446"/>
                </a:cubicBezTo>
              </a:path>
              <a:path w="6185" h="5003">
                <a:moveTo>
                  <a:pt x="4153" y="555"/>
                </a:moveTo>
                <a:cubicBezTo>
                  <a:pt x="4149" y="570"/>
                  <a:pt x="4144" y="585"/>
                  <a:pt x="4140" y="602"/>
                </a:cubicBezTo>
                <a:cubicBezTo>
                  <a:pt x="4120" y="685"/>
                  <a:pt x="4097" y="766"/>
                  <a:pt x="4080" y="850"/>
                </a:cubicBezTo>
                <a:cubicBezTo>
                  <a:pt x="4048" y="1012"/>
                  <a:pt x="4015" y="1173"/>
                  <a:pt x="3986" y="1336"/>
                </a:cubicBezTo>
                <a:cubicBezTo>
                  <a:pt x="3957" y="1502"/>
                  <a:pt x="3928" y="1668"/>
                  <a:pt x="3905" y="1835"/>
                </a:cubicBezTo>
                <a:cubicBezTo>
                  <a:pt x="3891" y="1939"/>
                  <a:pt x="3875" y="2043"/>
                  <a:pt x="3862" y="2147"/>
                </a:cubicBezTo>
                <a:cubicBezTo>
                  <a:pt x="3857" y="2182"/>
                  <a:pt x="3861" y="2223"/>
                  <a:pt x="3854" y="2258"/>
                </a:cubicBezTo>
                <a:cubicBezTo>
                  <a:pt x="3852" y="2266"/>
                  <a:pt x="3857" y="2267"/>
                  <a:pt x="3854" y="2275"/>
                </a:cubicBezTo>
                <a:cubicBezTo>
                  <a:pt x="3852" y="2282"/>
                  <a:pt x="3844" y="2278"/>
                  <a:pt x="3841" y="2288"/>
                </a:cubicBezTo>
                <a:cubicBezTo>
                  <a:pt x="3838" y="2284"/>
                  <a:pt x="3828" y="2273"/>
                  <a:pt x="3824" y="2266"/>
                </a:cubicBezTo>
                <a:cubicBezTo>
                  <a:pt x="3808" y="2239"/>
                  <a:pt x="3793" y="2212"/>
                  <a:pt x="3777" y="2185"/>
                </a:cubicBezTo>
                <a:cubicBezTo>
                  <a:pt x="3758" y="2152"/>
                  <a:pt x="3743" y="2114"/>
                  <a:pt x="3722" y="2083"/>
                </a:cubicBezTo>
                <a:cubicBezTo>
                  <a:pt x="3712" y="2068"/>
                  <a:pt x="3704" y="2058"/>
                  <a:pt x="3696" y="2044"/>
                </a:cubicBezTo>
                <a:cubicBezTo>
                  <a:pt x="3696" y="2043"/>
                  <a:pt x="3696" y="2041"/>
                  <a:pt x="3696" y="2040"/>
                </a:cubicBezTo>
                <a:cubicBezTo>
                  <a:pt x="3705" y="2050"/>
                  <a:pt x="3716" y="2063"/>
                  <a:pt x="3726" y="2074"/>
                </a:cubicBezTo>
                <a:cubicBezTo>
                  <a:pt x="3764" y="2112"/>
                  <a:pt x="3807" y="2151"/>
                  <a:pt x="3867" y="2138"/>
                </a:cubicBezTo>
                <a:cubicBezTo>
                  <a:pt x="3966" y="2116"/>
                  <a:pt x="4003" y="2037"/>
                  <a:pt x="4067" y="1972"/>
                </a:cubicBezTo>
                <a:cubicBezTo>
                  <a:pt x="4090" y="1952"/>
                  <a:pt x="4113" y="1932"/>
                  <a:pt x="4136" y="1912"/>
                </a:cubicBezTo>
              </a:path>
              <a:path w="6185" h="5003">
                <a:moveTo>
                  <a:pt x="4810" y="252"/>
                </a:moveTo>
                <a:cubicBezTo>
                  <a:pt x="4819" y="319"/>
                  <a:pt x="4831" y="386"/>
                  <a:pt x="4840" y="453"/>
                </a:cubicBezTo>
                <a:cubicBezTo>
                  <a:pt x="4852" y="544"/>
                  <a:pt x="4859" y="640"/>
                  <a:pt x="4878" y="730"/>
                </a:cubicBezTo>
                <a:cubicBezTo>
                  <a:pt x="4886" y="753"/>
                  <a:pt x="4886" y="759"/>
                  <a:pt x="4899" y="768"/>
                </a:cubicBezTo>
                <a:cubicBezTo>
                  <a:pt x="4940" y="745"/>
                  <a:pt x="4957" y="723"/>
                  <a:pt x="4989" y="679"/>
                </a:cubicBezTo>
                <a:cubicBezTo>
                  <a:pt x="5062" y="580"/>
                  <a:pt x="5130" y="477"/>
                  <a:pt x="5194" y="372"/>
                </a:cubicBezTo>
                <a:cubicBezTo>
                  <a:pt x="5258" y="267"/>
                  <a:pt x="5323" y="159"/>
                  <a:pt x="5382" y="52"/>
                </a:cubicBezTo>
                <a:cubicBezTo>
                  <a:pt x="5390" y="35"/>
                  <a:pt x="5399" y="17"/>
                  <a:pt x="5407" y="0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Freeform 12"/>
          <p:cNvSpPr/>
          <p:nvPr/>
        </p:nvSpPr>
        <p:spPr>
          <a:xfrm>
            <a:off x="5083200" y="1639800"/>
            <a:ext cx="1682640" cy="725400"/>
          </a:xfrm>
          <a:custGeom>
            <a:avLst/>
            <a:gdLst/>
            <a:ahLst/>
            <a:rect l="l" t="t" r="r" b="b"/>
            <a:pathLst>
              <a:path w="4674" h="2015">
                <a:moveTo>
                  <a:pt x="384" y="713"/>
                </a:moveTo>
                <a:cubicBezTo>
                  <a:pt x="377" y="721"/>
                  <a:pt x="372" y="725"/>
                  <a:pt x="363" y="734"/>
                </a:cubicBezTo>
                <a:cubicBezTo>
                  <a:pt x="342" y="755"/>
                  <a:pt x="318" y="773"/>
                  <a:pt x="294" y="794"/>
                </a:cubicBezTo>
                <a:cubicBezTo>
                  <a:pt x="248" y="833"/>
                  <a:pt x="204" y="875"/>
                  <a:pt x="166" y="922"/>
                </a:cubicBezTo>
                <a:cubicBezTo>
                  <a:pt x="71" y="1039"/>
                  <a:pt x="2" y="1180"/>
                  <a:pt x="13" y="1323"/>
                </a:cubicBezTo>
                <a:cubicBezTo>
                  <a:pt x="74" y="1291"/>
                  <a:pt x="116" y="1265"/>
                  <a:pt x="166" y="1208"/>
                </a:cubicBezTo>
                <a:cubicBezTo>
                  <a:pt x="247" y="1116"/>
                  <a:pt x="319" y="1013"/>
                  <a:pt x="384" y="909"/>
                </a:cubicBezTo>
                <a:cubicBezTo>
                  <a:pt x="407" y="871"/>
                  <a:pt x="430" y="832"/>
                  <a:pt x="452" y="794"/>
                </a:cubicBezTo>
                <a:cubicBezTo>
                  <a:pt x="451" y="830"/>
                  <a:pt x="451" y="871"/>
                  <a:pt x="448" y="909"/>
                </a:cubicBezTo>
                <a:cubicBezTo>
                  <a:pt x="440" y="1014"/>
                  <a:pt x="419" y="1130"/>
                  <a:pt x="444" y="1233"/>
                </a:cubicBezTo>
                <a:cubicBezTo>
                  <a:pt x="451" y="1257"/>
                  <a:pt x="453" y="1264"/>
                  <a:pt x="465" y="1276"/>
                </a:cubicBezTo>
                <a:cubicBezTo>
                  <a:pt x="514" y="1251"/>
                  <a:pt x="549" y="1229"/>
                  <a:pt x="589" y="1178"/>
                </a:cubicBezTo>
                <a:cubicBezTo>
                  <a:pt x="684" y="1057"/>
                  <a:pt x="758" y="917"/>
                  <a:pt x="836" y="785"/>
                </a:cubicBezTo>
                <a:cubicBezTo>
                  <a:pt x="863" y="739"/>
                  <a:pt x="894" y="714"/>
                  <a:pt x="918" y="691"/>
                </a:cubicBezTo>
                <a:cubicBezTo>
                  <a:pt x="918" y="776"/>
                  <a:pt x="914" y="859"/>
                  <a:pt x="905" y="943"/>
                </a:cubicBezTo>
                <a:cubicBezTo>
                  <a:pt x="897" y="1017"/>
                  <a:pt x="886" y="1095"/>
                  <a:pt x="888" y="1169"/>
                </a:cubicBezTo>
                <a:cubicBezTo>
                  <a:pt x="888" y="1195"/>
                  <a:pt x="886" y="1202"/>
                  <a:pt x="896" y="1216"/>
                </a:cubicBezTo>
                <a:cubicBezTo>
                  <a:pt x="920" y="1195"/>
                  <a:pt x="950" y="1174"/>
                  <a:pt x="973" y="1144"/>
                </a:cubicBezTo>
                <a:cubicBezTo>
                  <a:pt x="1031" y="1067"/>
                  <a:pt x="1082" y="976"/>
                  <a:pt x="1127" y="892"/>
                </a:cubicBezTo>
                <a:cubicBezTo>
                  <a:pt x="1161" y="829"/>
                  <a:pt x="1191" y="738"/>
                  <a:pt x="1238" y="683"/>
                </a:cubicBezTo>
                <a:cubicBezTo>
                  <a:pt x="1248" y="668"/>
                  <a:pt x="1250" y="662"/>
                  <a:pt x="1263" y="666"/>
                </a:cubicBezTo>
                <a:cubicBezTo>
                  <a:pt x="1269" y="725"/>
                  <a:pt x="1278" y="788"/>
                  <a:pt x="1280" y="849"/>
                </a:cubicBezTo>
                <a:cubicBezTo>
                  <a:pt x="1284" y="960"/>
                  <a:pt x="1286" y="1071"/>
                  <a:pt x="1297" y="1182"/>
                </a:cubicBezTo>
                <a:cubicBezTo>
                  <a:pt x="1300" y="1218"/>
                  <a:pt x="1310" y="1243"/>
                  <a:pt x="1319" y="1276"/>
                </a:cubicBezTo>
                <a:cubicBezTo>
                  <a:pt x="1352" y="1237"/>
                  <a:pt x="1378" y="1203"/>
                  <a:pt x="1408" y="1152"/>
                </a:cubicBezTo>
                <a:cubicBezTo>
                  <a:pt x="1476" y="1034"/>
                  <a:pt x="1524" y="908"/>
                  <a:pt x="1583" y="785"/>
                </a:cubicBezTo>
                <a:cubicBezTo>
                  <a:pt x="1634" y="677"/>
                  <a:pt x="1676" y="533"/>
                  <a:pt x="1758" y="444"/>
                </a:cubicBezTo>
                <a:cubicBezTo>
                  <a:pt x="1765" y="443"/>
                  <a:pt x="1773" y="441"/>
                  <a:pt x="1780" y="440"/>
                </a:cubicBezTo>
                <a:cubicBezTo>
                  <a:pt x="1798" y="513"/>
                  <a:pt x="1812" y="580"/>
                  <a:pt x="1814" y="657"/>
                </a:cubicBezTo>
                <a:cubicBezTo>
                  <a:pt x="1818" y="784"/>
                  <a:pt x="1810" y="911"/>
                  <a:pt x="1805" y="1037"/>
                </a:cubicBezTo>
                <a:cubicBezTo>
                  <a:pt x="1802" y="1127"/>
                  <a:pt x="1797" y="1216"/>
                  <a:pt x="1797" y="1306"/>
                </a:cubicBezTo>
                <a:cubicBezTo>
                  <a:pt x="1812" y="1238"/>
                  <a:pt x="1818" y="1201"/>
                  <a:pt x="1822" y="1127"/>
                </a:cubicBezTo>
              </a:path>
              <a:path w="4674" h="2015">
                <a:moveTo>
                  <a:pt x="1758" y="103"/>
                </a:moveTo>
                <a:cubicBezTo>
                  <a:pt x="1744" y="126"/>
                  <a:pt x="1745" y="135"/>
                  <a:pt x="1733" y="158"/>
                </a:cubicBezTo>
                <a:cubicBezTo>
                  <a:pt x="1740" y="160"/>
                  <a:pt x="1752" y="170"/>
                  <a:pt x="1758" y="171"/>
                </a:cubicBezTo>
                <a:cubicBezTo>
                  <a:pt x="1759" y="170"/>
                  <a:pt x="1761" y="168"/>
                  <a:pt x="1762" y="167"/>
                </a:cubicBezTo>
              </a:path>
              <a:path w="4674" h="2015">
                <a:moveTo>
                  <a:pt x="2548" y="401"/>
                </a:moveTo>
                <a:cubicBezTo>
                  <a:pt x="2524" y="389"/>
                  <a:pt x="2518" y="385"/>
                  <a:pt x="2488" y="393"/>
                </a:cubicBezTo>
                <a:cubicBezTo>
                  <a:pt x="2374" y="425"/>
                  <a:pt x="2282" y="521"/>
                  <a:pt x="2211" y="610"/>
                </a:cubicBezTo>
                <a:cubicBezTo>
                  <a:pt x="2174" y="657"/>
                  <a:pt x="2136" y="705"/>
                  <a:pt x="2104" y="756"/>
                </a:cubicBezTo>
                <a:cubicBezTo>
                  <a:pt x="2091" y="777"/>
                  <a:pt x="2090" y="787"/>
                  <a:pt x="2083" y="807"/>
                </a:cubicBezTo>
                <a:cubicBezTo>
                  <a:pt x="2103" y="818"/>
                  <a:pt x="2124" y="828"/>
                  <a:pt x="2147" y="837"/>
                </a:cubicBezTo>
                <a:cubicBezTo>
                  <a:pt x="2198" y="856"/>
                  <a:pt x="2248" y="876"/>
                  <a:pt x="2292" y="909"/>
                </a:cubicBezTo>
                <a:cubicBezTo>
                  <a:pt x="2323" y="932"/>
                  <a:pt x="2337" y="960"/>
                  <a:pt x="2326" y="999"/>
                </a:cubicBezTo>
                <a:cubicBezTo>
                  <a:pt x="2312" y="1047"/>
                  <a:pt x="2262" y="1088"/>
                  <a:pt x="2228" y="1122"/>
                </a:cubicBezTo>
                <a:cubicBezTo>
                  <a:pt x="2203" y="1148"/>
                  <a:pt x="2152" y="1195"/>
                  <a:pt x="2112" y="1195"/>
                </a:cubicBezTo>
                <a:cubicBezTo>
                  <a:pt x="2042" y="1196"/>
                  <a:pt x="2058" y="1123"/>
                  <a:pt x="2057" y="1076"/>
                </a:cubicBezTo>
              </a:path>
              <a:path w="4674" h="2015">
                <a:moveTo>
                  <a:pt x="2590" y="0"/>
                </a:moveTo>
                <a:cubicBezTo>
                  <a:pt x="2610" y="96"/>
                  <a:pt x="2623" y="188"/>
                  <a:pt x="2629" y="286"/>
                </a:cubicBezTo>
                <a:cubicBezTo>
                  <a:pt x="2635" y="395"/>
                  <a:pt x="2632" y="505"/>
                  <a:pt x="2633" y="615"/>
                </a:cubicBezTo>
                <a:cubicBezTo>
                  <a:pt x="2633" y="682"/>
                  <a:pt x="2634" y="748"/>
                  <a:pt x="2637" y="815"/>
                </a:cubicBezTo>
                <a:cubicBezTo>
                  <a:pt x="2637" y="834"/>
                  <a:pt x="2636" y="839"/>
                  <a:pt x="2642" y="849"/>
                </a:cubicBezTo>
                <a:cubicBezTo>
                  <a:pt x="2666" y="840"/>
                  <a:pt x="2682" y="831"/>
                  <a:pt x="2701" y="811"/>
                </a:cubicBezTo>
                <a:cubicBezTo>
                  <a:pt x="2739" y="771"/>
                  <a:pt x="2770" y="726"/>
                  <a:pt x="2808" y="687"/>
                </a:cubicBezTo>
                <a:cubicBezTo>
                  <a:pt x="2825" y="669"/>
                  <a:pt x="2867" y="609"/>
                  <a:pt x="2893" y="602"/>
                </a:cubicBezTo>
                <a:cubicBezTo>
                  <a:pt x="2925" y="593"/>
                  <a:pt x="2945" y="615"/>
                  <a:pt x="2962" y="640"/>
                </a:cubicBezTo>
                <a:cubicBezTo>
                  <a:pt x="2983" y="671"/>
                  <a:pt x="2999" y="708"/>
                  <a:pt x="3021" y="738"/>
                </a:cubicBezTo>
                <a:cubicBezTo>
                  <a:pt x="3025" y="742"/>
                  <a:pt x="3030" y="747"/>
                  <a:pt x="3034" y="751"/>
                </a:cubicBezTo>
                <a:cubicBezTo>
                  <a:pt x="3076" y="720"/>
                  <a:pt x="3080" y="719"/>
                  <a:pt x="3098" y="666"/>
                </a:cubicBezTo>
              </a:path>
              <a:path w="4674" h="2015">
                <a:moveTo>
                  <a:pt x="3363" y="777"/>
                </a:moveTo>
                <a:cubicBezTo>
                  <a:pt x="3367" y="867"/>
                  <a:pt x="3372" y="956"/>
                  <a:pt x="3376" y="1046"/>
                </a:cubicBezTo>
                <a:cubicBezTo>
                  <a:pt x="3376" y="1070"/>
                  <a:pt x="3376" y="1074"/>
                  <a:pt x="3376" y="1088"/>
                </a:cubicBezTo>
                <a:cubicBezTo>
                  <a:pt x="3380" y="1047"/>
                  <a:pt x="3381" y="1003"/>
                  <a:pt x="3384" y="960"/>
                </a:cubicBezTo>
              </a:path>
              <a:path w="4674" h="2015">
                <a:moveTo>
                  <a:pt x="3358" y="43"/>
                </a:moveTo>
                <a:cubicBezTo>
                  <a:pt x="3350" y="61"/>
                  <a:pt x="3346" y="79"/>
                  <a:pt x="3371" y="90"/>
                </a:cubicBezTo>
                <a:cubicBezTo>
                  <a:pt x="3391" y="99"/>
                  <a:pt x="3411" y="101"/>
                  <a:pt x="3431" y="90"/>
                </a:cubicBezTo>
                <a:cubicBezTo>
                  <a:pt x="3454" y="78"/>
                  <a:pt x="3452" y="67"/>
                  <a:pt x="3478" y="81"/>
                </a:cubicBezTo>
              </a:path>
              <a:path w="4674" h="2015">
                <a:moveTo>
                  <a:pt x="3644" y="866"/>
                </a:moveTo>
                <a:cubicBezTo>
                  <a:pt x="3650" y="884"/>
                  <a:pt x="3649" y="889"/>
                  <a:pt x="3653" y="905"/>
                </a:cubicBezTo>
                <a:cubicBezTo>
                  <a:pt x="3666" y="856"/>
                  <a:pt x="3672" y="804"/>
                  <a:pt x="3687" y="756"/>
                </a:cubicBezTo>
                <a:cubicBezTo>
                  <a:pt x="3731" y="616"/>
                  <a:pt x="3759" y="457"/>
                  <a:pt x="3832" y="329"/>
                </a:cubicBezTo>
                <a:cubicBezTo>
                  <a:pt x="3857" y="286"/>
                  <a:pt x="3863" y="277"/>
                  <a:pt x="3900" y="282"/>
                </a:cubicBezTo>
                <a:cubicBezTo>
                  <a:pt x="3940" y="341"/>
                  <a:pt x="3957" y="407"/>
                  <a:pt x="3973" y="478"/>
                </a:cubicBezTo>
                <a:cubicBezTo>
                  <a:pt x="3996" y="575"/>
                  <a:pt x="4004" y="678"/>
                  <a:pt x="4033" y="773"/>
                </a:cubicBezTo>
                <a:cubicBezTo>
                  <a:pt x="4048" y="822"/>
                  <a:pt x="4068" y="870"/>
                  <a:pt x="4105" y="905"/>
                </a:cubicBezTo>
                <a:cubicBezTo>
                  <a:pt x="4163" y="871"/>
                  <a:pt x="4158" y="866"/>
                  <a:pt x="4191" y="802"/>
                </a:cubicBezTo>
              </a:path>
              <a:path w="4674" h="2015">
                <a:moveTo>
                  <a:pt x="4669" y="606"/>
                </a:moveTo>
                <a:cubicBezTo>
                  <a:pt x="4657" y="538"/>
                  <a:pt x="4652" y="467"/>
                  <a:pt x="4634" y="401"/>
                </a:cubicBezTo>
                <a:cubicBezTo>
                  <a:pt x="4617" y="338"/>
                  <a:pt x="4593" y="306"/>
                  <a:pt x="4553" y="260"/>
                </a:cubicBezTo>
                <a:cubicBezTo>
                  <a:pt x="4528" y="281"/>
                  <a:pt x="4509" y="287"/>
                  <a:pt x="4485" y="320"/>
                </a:cubicBezTo>
                <a:cubicBezTo>
                  <a:pt x="4439" y="382"/>
                  <a:pt x="4425" y="458"/>
                  <a:pt x="4400" y="529"/>
                </a:cubicBezTo>
                <a:cubicBezTo>
                  <a:pt x="4377" y="594"/>
                  <a:pt x="4360" y="652"/>
                  <a:pt x="4357" y="721"/>
                </a:cubicBezTo>
                <a:cubicBezTo>
                  <a:pt x="4358" y="730"/>
                  <a:pt x="4360" y="738"/>
                  <a:pt x="4361" y="747"/>
                </a:cubicBezTo>
                <a:cubicBezTo>
                  <a:pt x="4389" y="738"/>
                  <a:pt x="4399" y="748"/>
                  <a:pt x="4442" y="717"/>
                </a:cubicBezTo>
                <a:cubicBezTo>
                  <a:pt x="4492" y="681"/>
                  <a:pt x="4539" y="627"/>
                  <a:pt x="4579" y="581"/>
                </a:cubicBezTo>
                <a:cubicBezTo>
                  <a:pt x="4613" y="542"/>
                  <a:pt x="4614" y="548"/>
                  <a:pt x="4652" y="529"/>
                </a:cubicBezTo>
                <a:cubicBezTo>
                  <a:pt x="4670" y="615"/>
                  <a:pt x="4674" y="686"/>
                  <a:pt x="4669" y="777"/>
                </a:cubicBezTo>
                <a:cubicBezTo>
                  <a:pt x="4658" y="960"/>
                  <a:pt x="4641" y="1147"/>
                  <a:pt x="4605" y="1327"/>
                </a:cubicBezTo>
                <a:cubicBezTo>
                  <a:pt x="4573" y="1488"/>
                  <a:pt x="4528" y="1669"/>
                  <a:pt x="4455" y="1818"/>
                </a:cubicBezTo>
                <a:cubicBezTo>
                  <a:pt x="4416" y="1897"/>
                  <a:pt x="4339" y="2003"/>
                  <a:pt x="4242" y="2014"/>
                </a:cubicBezTo>
                <a:cubicBezTo>
                  <a:pt x="4144" y="2025"/>
                  <a:pt x="4048" y="1924"/>
                  <a:pt x="3990" y="1861"/>
                </a:cubicBezTo>
                <a:cubicBezTo>
                  <a:pt x="3880" y="1742"/>
                  <a:pt x="3792" y="1603"/>
                  <a:pt x="3691" y="1477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4" name="Freeform 13"/>
          <p:cNvSpPr/>
          <p:nvPr/>
        </p:nvSpPr>
        <p:spPr>
          <a:xfrm>
            <a:off x="7130880" y="1335240"/>
            <a:ext cx="1103400" cy="817560"/>
          </a:xfrm>
          <a:custGeom>
            <a:avLst/>
            <a:gdLst/>
            <a:ahLst/>
            <a:rect l="l" t="t" r="r" b="b"/>
            <a:pathLst>
              <a:path w="3065" h="2271">
                <a:moveTo>
                  <a:pt x="379" y="1408"/>
                </a:moveTo>
                <a:cubicBezTo>
                  <a:pt x="363" y="1510"/>
                  <a:pt x="343" y="1613"/>
                  <a:pt x="332" y="1715"/>
                </a:cubicBezTo>
                <a:cubicBezTo>
                  <a:pt x="318" y="1846"/>
                  <a:pt x="309" y="1977"/>
                  <a:pt x="294" y="2108"/>
                </a:cubicBezTo>
                <a:cubicBezTo>
                  <a:pt x="288" y="2162"/>
                  <a:pt x="282" y="2216"/>
                  <a:pt x="277" y="2270"/>
                </a:cubicBezTo>
                <a:cubicBezTo>
                  <a:pt x="263" y="2223"/>
                  <a:pt x="246" y="2174"/>
                  <a:pt x="234" y="2125"/>
                </a:cubicBezTo>
                <a:cubicBezTo>
                  <a:pt x="173" y="1878"/>
                  <a:pt x="128" y="1625"/>
                  <a:pt x="89" y="1374"/>
                </a:cubicBezTo>
                <a:cubicBezTo>
                  <a:pt x="63" y="1207"/>
                  <a:pt x="39" y="1041"/>
                  <a:pt x="8" y="875"/>
                </a:cubicBezTo>
                <a:cubicBezTo>
                  <a:pt x="2" y="845"/>
                  <a:pt x="-4" y="840"/>
                  <a:pt x="4" y="824"/>
                </a:cubicBezTo>
                <a:cubicBezTo>
                  <a:pt x="36" y="854"/>
                  <a:pt x="69" y="887"/>
                  <a:pt x="106" y="913"/>
                </a:cubicBezTo>
                <a:cubicBezTo>
                  <a:pt x="232" y="1004"/>
                  <a:pt x="380" y="1056"/>
                  <a:pt x="533" y="1080"/>
                </a:cubicBezTo>
                <a:cubicBezTo>
                  <a:pt x="586" y="1088"/>
                  <a:pt x="637" y="1085"/>
                  <a:pt x="687" y="1109"/>
                </a:cubicBezTo>
                <a:cubicBezTo>
                  <a:pt x="690" y="1113"/>
                  <a:pt x="692" y="1118"/>
                  <a:pt x="695" y="1122"/>
                </a:cubicBezTo>
                <a:cubicBezTo>
                  <a:pt x="689" y="1173"/>
                  <a:pt x="682" y="1196"/>
                  <a:pt x="644" y="1246"/>
                </a:cubicBezTo>
                <a:cubicBezTo>
                  <a:pt x="561" y="1354"/>
                  <a:pt x="464" y="1446"/>
                  <a:pt x="362" y="1536"/>
                </a:cubicBezTo>
                <a:cubicBezTo>
                  <a:pt x="335" y="1559"/>
                  <a:pt x="307" y="1581"/>
                  <a:pt x="281" y="1605"/>
                </a:cubicBezTo>
                <a:cubicBezTo>
                  <a:pt x="284" y="1603"/>
                  <a:pt x="287" y="1602"/>
                  <a:pt x="290" y="1600"/>
                </a:cubicBezTo>
                <a:cubicBezTo>
                  <a:pt x="332" y="1560"/>
                  <a:pt x="374" y="1522"/>
                  <a:pt x="418" y="1485"/>
                </a:cubicBezTo>
                <a:cubicBezTo>
                  <a:pt x="502" y="1413"/>
                  <a:pt x="590" y="1346"/>
                  <a:pt x="678" y="1280"/>
                </a:cubicBezTo>
                <a:cubicBezTo>
                  <a:pt x="717" y="1251"/>
                  <a:pt x="750" y="1231"/>
                  <a:pt x="793" y="1212"/>
                </a:cubicBezTo>
                <a:cubicBezTo>
                  <a:pt x="806" y="1240"/>
                  <a:pt x="818" y="1228"/>
                  <a:pt x="819" y="1284"/>
                </a:cubicBezTo>
                <a:cubicBezTo>
                  <a:pt x="820" y="1342"/>
                  <a:pt x="812" y="1400"/>
                  <a:pt x="815" y="1459"/>
                </a:cubicBezTo>
                <a:cubicBezTo>
                  <a:pt x="819" y="1537"/>
                  <a:pt x="832" y="1564"/>
                  <a:pt x="870" y="1622"/>
                </a:cubicBezTo>
                <a:cubicBezTo>
                  <a:pt x="923" y="1612"/>
                  <a:pt x="956" y="1609"/>
                  <a:pt x="998" y="1566"/>
                </a:cubicBezTo>
                <a:cubicBezTo>
                  <a:pt x="1060" y="1503"/>
                  <a:pt x="1098" y="1423"/>
                  <a:pt x="1113" y="1336"/>
                </a:cubicBezTo>
                <a:cubicBezTo>
                  <a:pt x="1127" y="1253"/>
                  <a:pt x="1118" y="1154"/>
                  <a:pt x="1075" y="1080"/>
                </a:cubicBezTo>
                <a:cubicBezTo>
                  <a:pt x="1048" y="1033"/>
                  <a:pt x="957" y="937"/>
                  <a:pt x="891" y="977"/>
                </a:cubicBezTo>
                <a:cubicBezTo>
                  <a:pt x="849" y="1003"/>
                  <a:pt x="816" y="1048"/>
                  <a:pt x="806" y="1097"/>
                </a:cubicBezTo>
                <a:cubicBezTo>
                  <a:pt x="796" y="1144"/>
                  <a:pt x="811" y="1155"/>
                  <a:pt x="823" y="1199"/>
                </a:cubicBezTo>
              </a:path>
              <a:path w="3065" h="2271">
                <a:moveTo>
                  <a:pt x="1502" y="1242"/>
                </a:moveTo>
                <a:cubicBezTo>
                  <a:pt x="1502" y="1326"/>
                  <a:pt x="1488" y="1404"/>
                  <a:pt x="1485" y="1489"/>
                </a:cubicBezTo>
                <a:cubicBezTo>
                  <a:pt x="1484" y="1523"/>
                  <a:pt x="1485" y="1558"/>
                  <a:pt x="1485" y="1592"/>
                </a:cubicBezTo>
                <a:cubicBezTo>
                  <a:pt x="1476" y="1533"/>
                  <a:pt x="1475" y="1476"/>
                  <a:pt x="1476" y="1417"/>
                </a:cubicBezTo>
              </a:path>
              <a:path w="3065" h="2271">
                <a:moveTo>
                  <a:pt x="1288" y="964"/>
                </a:moveTo>
                <a:cubicBezTo>
                  <a:pt x="1305" y="1006"/>
                  <a:pt x="1313" y="1044"/>
                  <a:pt x="1365" y="1024"/>
                </a:cubicBezTo>
                <a:cubicBezTo>
                  <a:pt x="1402" y="1005"/>
                  <a:pt x="1416" y="997"/>
                  <a:pt x="1429" y="969"/>
                </a:cubicBezTo>
              </a:path>
              <a:path w="3065" h="2271">
                <a:moveTo>
                  <a:pt x="1736" y="960"/>
                </a:moveTo>
                <a:cubicBezTo>
                  <a:pt x="1740" y="1061"/>
                  <a:pt x="1740" y="1162"/>
                  <a:pt x="1745" y="1263"/>
                </a:cubicBezTo>
                <a:cubicBezTo>
                  <a:pt x="1747" y="1299"/>
                  <a:pt x="1751" y="1335"/>
                  <a:pt x="1753" y="1370"/>
                </a:cubicBezTo>
                <a:cubicBezTo>
                  <a:pt x="1763" y="1355"/>
                  <a:pt x="1789" y="1313"/>
                  <a:pt x="1800" y="1284"/>
                </a:cubicBezTo>
                <a:cubicBezTo>
                  <a:pt x="1838" y="1186"/>
                  <a:pt x="1873" y="1088"/>
                  <a:pt x="1911" y="990"/>
                </a:cubicBezTo>
                <a:cubicBezTo>
                  <a:pt x="1942" y="911"/>
                  <a:pt x="1971" y="811"/>
                  <a:pt x="2022" y="742"/>
                </a:cubicBezTo>
                <a:cubicBezTo>
                  <a:pt x="2033" y="720"/>
                  <a:pt x="2034" y="713"/>
                  <a:pt x="2052" y="713"/>
                </a:cubicBezTo>
                <a:cubicBezTo>
                  <a:pt x="2066" y="777"/>
                  <a:pt x="2072" y="837"/>
                  <a:pt x="2073" y="905"/>
                </a:cubicBezTo>
                <a:cubicBezTo>
                  <a:pt x="2075" y="1022"/>
                  <a:pt x="2074" y="1138"/>
                  <a:pt x="2078" y="1255"/>
                </a:cubicBezTo>
                <a:cubicBezTo>
                  <a:pt x="2080" y="1322"/>
                  <a:pt x="2088" y="1389"/>
                  <a:pt x="2116" y="1447"/>
                </a:cubicBezTo>
                <a:cubicBezTo>
                  <a:pt x="2120" y="1450"/>
                  <a:pt x="2125" y="1452"/>
                  <a:pt x="2129" y="1455"/>
                </a:cubicBezTo>
                <a:cubicBezTo>
                  <a:pt x="2198" y="1395"/>
                  <a:pt x="2234" y="1325"/>
                  <a:pt x="2274" y="1242"/>
                </a:cubicBezTo>
                <a:cubicBezTo>
                  <a:pt x="2357" y="1070"/>
                  <a:pt x="2415" y="885"/>
                  <a:pt x="2475" y="704"/>
                </a:cubicBezTo>
                <a:cubicBezTo>
                  <a:pt x="2544" y="495"/>
                  <a:pt x="2600" y="282"/>
                  <a:pt x="2671" y="73"/>
                </a:cubicBezTo>
                <a:cubicBezTo>
                  <a:pt x="2688" y="28"/>
                  <a:pt x="2686" y="18"/>
                  <a:pt x="2709" y="0"/>
                </a:cubicBezTo>
                <a:cubicBezTo>
                  <a:pt x="2711" y="102"/>
                  <a:pt x="2697" y="184"/>
                  <a:pt x="2679" y="286"/>
                </a:cubicBezTo>
                <a:cubicBezTo>
                  <a:pt x="2626" y="591"/>
                  <a:pt x="2576" y="902"/>
                  <a:pt x="2573" y="1212"/>
                </a:cubicBezTo>
                <a:cubicBezTo>
                  <a:pt x="2572" y="1289"/>
                  <a:pt x="2573" y="1367"/>
                  <a:pt x="2620" y="1430"/>
                </a:cubicBezTo>
                <a:cubicBezTo>
                  <a:pt x="2628" y="1433"/>
                  <a:pt x="2637" y="1435"/>
                  <a:pt x="2645" y="1438"/>
                </a:cubicBezTo>
                <a:cubicBezTo>
                  <a:pt x="2719" y="1411"/>
                  <a:pt x="2762" y="1391"/>
                  <a:pt x="2825" y="1336"/>
                </a:cubicBezTo>
                <a:cubicBezTo>
                  <a:pt x="2905" y="1265"/>
                  <a:pt x="2998" y="1173"/>
                  <a:pt x="3038" y="1071"/>
                </a:cubicBezTo>
                <a:cubicBezTo>
                  <a:pt x="3050" y="1024"/>
                  <a:pt x="3053" y="1010"/>
                  <a:pt x="3064" y="981"/>
                </a:cubicBezTo>
              </a:path>
              <a:path w="3065" h="2271">
                <a:moveTo>
                  <a:pt x="2274" y="764"/>
                </a:moveTo>
                <a:cubicBezTo>
                  <a:pt x="2344" y="759"/>
                  <a:pt x="2405" y="753"/>
                  <a:pt x="2475" y="734"/>
                </a:cubicBezTo>
                <a:cubicBezTo>
                  <a:pt x="2605" y="699"/>
                  <a:pt x="2732" y="658"/>
                  <a:pt x="2859" y="614"/>
                </a:cubicBezTo>
                <a:cubicBezTo>
                  <a:pt x="2948" y="582"/>
                  <a:pt x="2975" y="573"/>
                  <a:pt x="3029" y="542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me holds true for geometric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703440" y="2717640"/>
            <a:ext cx="7734240" cy="152640"/>
          </a:xfrm>
          <a:custGeom>
            <a:avLst/>
            <a:gdLst/>
            <a:ahLst/>
            <a:rect l="l" t="t" r="r" b="b"/>
            <a:pathLst>
              <a:path w="21483" h="423">
                <a:moveTo>
                  <a:pt x="0" y="371"/>
                </a:moveTo>
                <a:cubicBezTo>
                  <a:pt x="329" y="402"/>
                  <a:pt x="631" y="412"/>
                  <a:pt x="973" y="379"/>
                </a:cubicBezTo>
                <a:cubicBezTo>
                  <a:pt x="2178" y="264"/>
                  <a:pt x="3359" y="72"/>
                  <a:pt x="4574" y="47"/>
                </a:cubicBezTo>
                <a:cubicBezTo>
                  <a:pt x="6500" y="8"/>
                  <a:pt x="8423" y="226"/>
                  <a:pt x="10348" y="273"/>
                </a:cubicBezTo>
                <a:cubicBezTo>
                  <a:pt x="12349" y="321"/>
                  <a:pt x="14344" y="288"/>
                  <a:pt x="16344" y="226"/>
                </a:cubicBezTo>
                <a:cubicBezTo>
                  <a:pt x="18028" y="174"/>
                  <a:pt x="19706" y="-15"/>
                  <a:pt x="21392" y="4"/>
                </a:cubicBezTo>
                <a:cubicBezTo>
                  <a:pt x="21413" y="4"/>
                  <a:pt x="21470" y="8"/>
                  <a:pt x="21478" y="8"/>
                </a:cubicBezTo>
                <a:cubicBezTo>
                  <a:pt x="21490" y="8"/>
                  <a:pt x="21457" y="8"/>
                  <a:pt x="21469" y="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Freeform 5"/>
          <p:cNvSpPr/>
          <p:nvPr/>
        </p:nvSpPr>
        <p:spPr>
          <a:xfrm>
            <a:off x="987480" y="42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3144960" y="3508200"/>
            <a:ext cx="2227320" cy="158760"/>
          </a:xfrm>
          <a:custGeom>
            <a:avLst/>
            <a:gdLst/>
            <a:ahLst/>
            <a:rect l="l" t="t" r="r" b="b"/>
            <a:pathLst>
              <a:path w="6188" h="441">
                <a:moveTo>
                  <a:pt x="0" y="401"/>
                </a:moveTo>
                <a:cubicBezTo>
                  <a:pt x="23" y="406"/>
                  <a:pt x="44" y="418"/>
                  <a:pt x="68" y="423"/>
                </a:cubicBezTo>
                <a:cubicBezTo>
                  <a:pt x="240" y="456"/>
                  <a:pt x="423" y="442"/>
                  <a:pt x="597" y="436"/>
                </a:cubicBezTo>
                <a:cubicBezTo>
                  <a:pt x="1384" y="408"/>
                  <a:pt x="2158" y="324"/>
                  <a:pt x="2940" y="239"/>
                </a:cubicBezTo>
                <a:cubicBezTo>
                  <a:pt x="3983" y="126"/>
                  <a:pt x="5079" y="12"/>
                  <a:pt x="6128" y="5"/>
                </a:cubicBezTo>
                <a:cubicBezTo>
                  <a:pt x="6155" y="5"/>
                  <a:pt x="6148" y="3"/>
                  <a:pt x="6175" y="5"/>
                </a:cubicBezTo>
                <a:cubicBezTo>
                  <a:pt x="6171" y="8"/>
                  <a:pt x="6166" y="10"/>
                  <a:pt x="6162" y="1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9" name="Freeform 7"/>
          <p:cNvSpPr/>
          <p:nvPr/>
        </p:nvSpPr>
        <p:spPr>
          <a:xfrm>
            <a:off x="3165480" y="3598920"/>
            <a:ext cx="2359080" cy="1698480"/>
          </a:xfrm>
          <a:custGeom>
            <a:avLst/>
            <a:gdLst/>
            <a:ahLst/>
            <a:rect l="l" t="t" r="r" b="b"/>
            <a:pathLst>
              <a:path w="6552" h="4717">
                <a:moveTo>
                  <a:pt x="60" y="0"/>
                </a:moveTo>
                <a:cubicBezTo>
                  <a:pt x="57" y="12"/>
                  <a:pt x="22" y="65"/>
                  <a:pt x="17" y="98"/>
                </a:cubicBezTo>
                <a:cubicBezTo>
                  <a:pt x="-93" y="841"/>
                  <a:pt x="40" y="1647"/>
                  <a:pt x="47" y="2394"/>
                </a:cubicBezTo>
                <a:cubicBezTo>
                  <a:pt x="53" y="3088"/>
                  <a:pt x="52" y="3805"/>
                  <a:pt x="22" y="4489"/>
                </a:cubicBezTo>
                <a:cubicBezTo>
                  <a:pt x="21" y="4517"/>
                  <a:pt x="-16" y="4600"/>
                  <a:pt x="9" y="4634"/>
                </a:cubicBezTo>
                <a:cubicBezTo>
                  <a:pt x="31" y="4664"/>
                  <a:pt x="49" y="4677"/>
                  <a:pt x="90" y="4698"/>
                </a:cubicBezTo>
                <a:cubicBezTo>
                  <a:pt x="204" y="4756"/>
                  <a:pt x="394" y="4709"/>
                  <a:pt x="512" y="4698"/>
                </a:cubicBezTo>
                <a:cubicBezTo>
                  <a:pt x="1066" y="4647"/>
                  <a:pt x="1609" y="4523"/>
                  <a:pt x="2168" y="4498"/>
                </a:cubicBezTo>
                <a:cubicBezTo>
                  <a:pt x="3534" y="4438"/>
                  <a:pt x="4896" y="4568"/>
                  <a:pt x="6252" y="4344"/>
                </a:cubicBezTo>
                <a:cubicBezTo>
                  <a:pt x="6325" y="4332"/>
                  <a:pt x="6477" y="4333"/>
                  <a:pt x="6538" y="4289"/>
                </a:cubicBezTo>
                <a:cubicBezTo>
                  <a:pt x="6553" y="4278"/>
                  <a:pt x="6540" y="4207"/>
                  <a:pt x="6551" y="419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5335560" y="3419640"/>
            <a:ext cx="160200" cy="1711080"/>
          </a:xfrm>
          <a:custGeom>
            <a:avLst/>
            <a:gdLst/>
            <a:ahLst/>
            <a:rect l="l" t="t" r="r" b="b"/>
            <a:pathLst>
              <a:path w="445" h="4755">
                <a:moveTo>
                  <a:pt x="8" y="8"/>
                </a:moveTo>
                <a:cubicBezTo>
                  <a:pt x="8" y="20"/>
                  <a:pt x="0" y="13"/>
                  <a:pt x="0" y="25"/>
                </a:cubicBezTo>
                <a:cubicBezTo>
                  <a:pt x="2" y="79"/>
                  <a:pt x="12" y="134"/>
                  <a:pt x="17" y="188"/>
                </a:cubicBezTo>
                <a:cubicBezTo>
                  <a:pt x="41" y="435"/>
                  <a:pt x="53" y="682"/>
                  <a:pt x="68" y="930"/>
                </a:cubicBezTo>
                <a:cubicBezTo>
                  <a:pt x="110" y="1631"/>
                  <a:pt x="144" y="2334"/>
                  <a:pt x="209" y="3034"/>
                </a:cubicBezTo>
                <a:cubicBezTo>
                  <a:pt x="237" y="3338"/>
                  <a:pt x="272" y="3645"/>
                  <a:pt x="320" y="3947"/>
                </a:cubicBezTo>
                <a:cubicBezTo>
                  <a:pt x="351" y="4143"/>
                  <a:pt x="406" y="4337"/>
                  <a:pt x="435" y="4532"/>
                </a:cubicBezTo>
                <a:cubicBezTo>
                  <a:pt x="437" y="4545"/>
                  <a:pt x="438" y="4552"/>
                  <a:pt x="439" y="4566"/>
                </a:cubicBezTo>
                <a:cubicBezTo>
                  <a:pt x="443" y="4615"/>
                  <a:pt x="435" y="4727"/>
                  <a:pt x="414" y="4749"/>
                </a:cubicBezTo>
                <a:cubicBezTo>
                  <a:pt x="405" y="4759"/>
                  <a:pt x="420" y="4702"/>
                  <a:pt x="410" y="471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3132000" y="1900080"/>
            <a:ext cx="2227320" cy="1800360"/>
          </a:xfrm>
          <a:custGeom>
            <a:avLst/>
            <a:gdLst/>
            <a:ahLst/>
            <a:rect l="l" t="t" r="r" b="b"/>
            <a:pathLst>
              <a:path w="6185" h="5003">
                <a:moveTo>
                  <a:pt x="0" y="5002"/>
                </a:moveTo>
                <a:cubicBezTo>
                  <a:pt x="4" y="4997"/>
                  <a:pt x="-7" y="5001"/>
                  <a:pt x="0" y="4993"/>
                </a:cubicBezTo>
                <a:cubicBezTo>
                  <a:pt x="17" y="4975"/>
                  <a:pt x="38" y="4953"/>
                  <a:pt x="56" y="4933"/>
                </a:cubicBezTo>
                <a:cubicBezTo>
                  <a:pt x="77" y="4909"/>
                  <a:pt x="97" y="4886"/>
                  <a:pt x="120" y="4861"/>
                </a:cubicBezTo>
                <a:cubicBezTo>
                  <a:pt x="253" y="4713"/>
                  <a:pt x="390" y="4571"/>
                  <a:pt x="538" y="4438"/>
                </a:cubicBezTo>
                <a:cubicBezTo>
                  <a:pt x="603" y="4380"/>
                  <a:pt x="673" y="4329"/>
                  <a:pt x="743" y="4276"/>
                </a:cubicBezTo>
                <a:cubicBezTo>
                  <a:pt x="1007" y="4076"/>
                  <a:pt x="1295" y="3914"/>
                  <a:pt x="1558" y="3713"/>
                </a:cubicBezTo>
                <a:cubicBezTo>
                  <a:pt x="1772" y="3549"/>
                  <a:pt x="1983" y="3378"/>
                  <a:pt x="2190" y="3205"/>
                </a:cubicBezTo>
                <a:cubicBezTo>
                  <a:pt x="2257" y="3149"/>
                  <a:pt x="2325" y="3097"/>
                  <a:pt x="2394" y="3043"/>
                </a:cubicBezTo>
                <a:cubicBezTo>
                  <a:pt x="2530" y="2937"/>
                  <a:pt x="2678" y="2851"/>
                  <a:pt x="2817" y="2749"/>
                </a:cubicBezTo>
                <a:cubicBezTo>
                  <a:pt x="2939" y="2659"/>
                  <a:pt x="3062" y="2572"/>
                  <a:pt x="3184" y="2484"/>
                </a:cubicBezTo>
                <a:cubicBezTo>
                  <a:pt x="3227" y="2453"/>
                  <a:pt x="3280" y="2425"/>
                  <a:pt x="3316" y="2403"/>
                </a:cubicBezTo>
              </a:path>
              <a:path w="6185" h="5003">
                <a:moveTo>
                  <a:pt x="6184" y="4396"/>
                </a:moveTo>
                <a:cubicBezTo>
                  <a:pt x="6169" y="4369"/>
                  <a:pt x="6153" y="4342"/>
                  <a:pt x="6137" y="4315"/>
                </a:cubicBezTo>
                <a:cubicBezTo>
                  <a:pt x="6119" y="4286"/>
                  <a:pt x="6101" y="4258"/>
                  <a:pt x="6081" y="4229"/>
                </a:cubicBezTo>
                <a:cubicBezTo>
                  <a:pt x="6029" y="4152"/>
                  <a:pt x="5972" y="4071"/>
                  <a:pt x="5907" y="4003"/>
                </a:cubicBezTo>
                <a:cubicBezTo>
                  <a:pt x="5847" y="3940"/>
                  <a:pt x="5776" y="3888"/>
                  <a:pt x="5710" y="3832"/>
                </a:cubicBezTo>
                <a:cubicBezTo>
                  <a:pt x="5618" y="3754"/>
                  <a:pt x="5531" y="3672"/>
                  <a:pt x="5437" y="3598"/>
                </a:cubicBezTo>
                <a:cubicBezTo>
                  <a:pt x="5277" y="3471"/>
                  <a:pt x="5132" y="3338"/>
                  <a:pt x="4981" y="3201"/>
                </a:cubicBezTo>
                <a:cubicBezTo>
                  <a:pt x="4827" y="3062"/>
                  <a:pt x="4647" y="2942"/>
                  <a:pt x="4477" y="2825"/>
                </a:cubicBezTo>
                <a:cubicBezTo>
                  <a:pt x="4445" y="2803"/>
                  <a:pt x="4411" y="2783"/>
                  <a:pt x="4379" y="2761"/>
                </a:cubicBezTo>
                <a:cubicBezTo>
                  <a:pt x="4331" y="2729"/>
                  <a:pt x="4305" y="2697"/>
                  <a:pt x="4272" y="2650"/>
                </a:cubicBezTo>
                <a:cubicBezTo>
                  <a:pt x="4253" y="2623"/>
                  <a:pt x="4237" y="2595"/>
                  <a:pt x="4217" y="2569"/>
                </a:cubicBezTo>
                <a:cubicBezTo>
                  <a:pt x="4202" y="2549"/>
                  <a:pt x="4183" y="2530"/>
                  <a:pt x="4165" y="2514"/>
                </a:cubicBezTo>
                <a:cubicBezTo>
                  <a:pt x="4150" y="2500"/>
                  <a:pt x="4129" y="2492"/>
                  <a:pt x="4114" y="2480"/>
                </a:cubicBezTo>
                <a:cubicBezTo>
                  <a:pt x="4101" y="2470"/>
                  <a:pt x="4097" y="2463"/>
                  <a:pt x="4084" y="2454"/>
                </a:cubicBezTo>
                <a:cubicBezTo>
                  <a:pt x="4077" y="2449"/>
                  <a:pt x="4075" y="2451"/>
                  <a:pt x="4067" y="2446"/>
                </a:cubicBezTo>
              </a:path>
              <a:path w="6185" h="5003">
                <a:moveTo>
                  <a:pt x="4153" y="555"/>
                </a:moveTo>
                <a:cubicBezTo>
                  <a:pt x="4149" y="570"/>
                  <a:pt x="4144" y="585"/>
                  <a:pt x="4140" y="602"/>
                </a:cubicBezTo>
                <a:cubicBezTo>
                  <a:pt x="4120" y="685"/>
                  <a:pt x="4097" y="766"/>
                  <a:pt x="4080" y="850"/>
                </a:cubicBezTo>
                <a:cubicBezTo>
                  <a:pt x="4048" y="1012"/>
                  <a:pt x="4015" y="1173"/>
                  <a:pt x="3986" y="1336"/>
                </a:cubicBezTo>
                <a:cubicBezTo>
                  <a:pt x="3957" y="1502"/>
                  <a:pt x="3928" y="1668"/>
                  <a:pt x="3905" y="1835"/>
                </a:cubicBezTo>
                <a:cubicBezTo>
                  <a:pt x="3891" y="1939"/>
                  <a:pt x="3875" y="2043"/>
                  <a:pt x="3862" y="2147"/>
                </a:cubicBezTo>
                <a:cubicBezTo>
                  <a:pt x="3857" y="2182"/>
                  <a:pt x="3861" y="2223"/>
                  <a:pt x="3854" y="2258"/>
                </a:cubicBezTo>
                <a:cubicBezTo>
                  <a:pt x="3852" y="2266"/>
                  <a:pt x="3857" y="2267"/>
                  <a:pt x="3854" y="2275"/>
                </a:cubicBezTo>
                <a:cubicBezTo>
                  <a:pt x="3852" y="2282"/>
                  <a:pt x="3844" y="2278"/>
                  <a:pt x="3841" y="2288"/>
                </a:cubicBezTo>
                <a:cubicBezTo>
                  <a:pt x="3838" y="2284"/>
                  <a:pt x="3828" y="2273"/>
                  <a:pt x="3824" y="2266"/>
                </a:cubicBezTo>
                <a:cubicBezTo>
                  <a:pt x="3808" y="2239"/>
                  <a:pt x="3793" y="2212"/>
                  <a:pt x="3777" y="2185"/>
                </a:cubicBezTo>
                <a:cubicBezTo>
                  <a:pt x="3758" y="2152"/>
                  <a:pt x="3743" y="2114"/>
                  <a:pt x="3722" y="2083"/>
                </a:cubicBezTo>
                <a:cubicBezTo>
                  <a:pt x="3712" y="2068"/>
                  <a:pt x="3704" y="2058"/>
                  <a:pt x="3696" y="2044"/>
                </a:cubicBezTo>
                <a:cubicBezTo>
                  <a:pt x="3696" y="2043"/>
                  <a:pt x="3696" y="2041"/>
                  <a:pt x="3696" y="2040"/>
                </a:cubicBezTo>
                <a:cubicBezTo>
                  <a:pt x="3705" y="2050"/>
                  <a:pt x="3716" y="2063"/>
                  <a:pt x="3726" y="2074"/>
                </a:cubicBezTo>
                <a:cubicBezTo>
                  <a:pt x="3764" y="2112"/>
                  <a:pt x="3807" y="2151"/>
                  <a:pt x="3867" y="2138"/>
                </a:cubicBezTo>
                <a:cubicBezTo>
                  <a:pt x="3966" y="2116"/>
                  <a:pt x="4003" y="2037"/>
                  <a:pt x="4067" y="1972"/>
                </a:cubicBezTo>
                <a:cubicBezTo>
                  <a:pt x="4090" y="1952"/>
                  <a:pt x="4113" y="1932"/>
                  <a:pt x="4136" y="1912"/>
                </a:cubicBezTo>
              </a:path>
              <a:path w="6185" h="5003">
                <a:moveTo>
                  <a:pt x="4810" y="252"/>
                </a:moveTo>
                <a:cubicBezTo>
                  <a:pt x="4819" y="319"/>
                  <a:pt x="4831" y="386"/>
                  <a:pt x="4840" y="453"/>
                </a:cubicBezTo>
                <a:cubicBezTo>
                  <a:pt x="4852" y="544"/>
                  <a:pt x="4859" y="640"/>
                  <a:pt x="4878" y="730"/>
                </a:cubicBezTo>
                <a:cubicBezTo>
                  <a:pt x="4886" y="753"/>
                  <a:pt x="4886" y="759"/>
                  <a:pt x="4899" y="768"/>
                </a:cubicBezTo>
                <a:cubicBezTo>
                  <a:pt x="4940" y="745"/>
                  <a:pt x="4957" y="723"/>
                  <a:pt x="4989" y="679"/>
                </a:cubicBezTo>
                <a:cubicBezTo>
                  <a:pt x="5062" y="580"/>
                  <a:pt x="5130" y="477"/>
                  <a:pt x="5194" y="372"/>
                </a:cubicBezTo>
                <a:cubicBezTo>
                  <a:pt x="5258" y="267"/>
                  <a:pt x="5323" y="159"/>
                  <a:pt x="5382" y="52"/>
                </a:cubicBezTo>
                <a:cubicBezTo>
                  <a:pt x="5390" y="35"/>
                  <a:pt x="5399" y="17"/>
                  <a:pt x="5407" y="0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5083200" y="1639800"/>
            <a:ext cx="1682640" cy="725400"/>
          </a:xfrm>
          <a:custGeom>
            <a:avLst/>
            <a:gdLst/>
            <a:ahLst/>
            <a:rect l="l" t="t" r="r" b="b"/>
            <a:pathLst>
              <a:path w="4674" h="2015">
                <a:moveTo>
                  <a:pt x="384" y="713"/>
                </a:moveTo>
                <a:cubicBezTo>
                  <a:pt x="377" y="721"/>
                  <a:pt x="372" y="725"/>
                  <a:pt x="363" y="734"/>
                </a:cubicBezTo>
                <a:cubicBezTo>
                  <a:pt x="342" y="755"/>
                  <a:pt x="318" y="773"/>
                  <a:pt x="294" y="794"/>
                </a:cubicBezTo>
                <a:cubicBezTo>
                  <a:pt x="248" y="833"/>
                  <a:pt x="204" y="875"/>
                  <a:pt x="166" y="922"/>
                </a:cubicBezTo>
                <a:cubicBezTo>
                  <a:pt x="71" y="1039"/>
                  <a:pt x="2" y="1180"/>
                  <a:pt x="13" y="1323"/>
                </a:cubicBezTo>
                <a:cubicBezTo>
                  <a:pt x="74" y="1291"/>
                  <a:pt x="116" y="1265"/>
                  <a:pt x="166" y="1208"/>
                </a:cubicBezTo>
                <a:cubicBezTo>
                  <a:pt x="247" y="1116"/>
                  <a:pt x="319" y="1013"/>
                  <a:pt x="384" y="909"/>
                </a:cubicBezTo>
                <a:cubicBezTo>
                  <a:pt x="407" y="871"/>
                  <a:pt x="430" y="832"/>
                  <a:pt x="452" y="794"/>
                </a:cubicBezTo>
                <a:cubicBezTo>
                  <a:pt x="451" y="830"/>
                  <a:pt x="451" y="871"/>
                  <a:pt x="448" y="909"/>
                </a:cubicBezTo>
                <a:cubicBezTo>
                  <a:pt x="440" y="1014"/>
                  <a:pt x="419" y="1130"/>
                  <a:pt x="444" y="1233"/>
                </a:cubicBezTo>
                <a:cubicBezTo>
                  <a:pt x="451" y="1257"/>
                  <a:pt x="453" y="1264"/>
                  <a:pt x="465" y="1276"/>
                </a:cubicBezTo>
                <a:cubicBezTo>
                  <a:pt x="514" y="1251"/>
                  <a:pt x="549" y="1229"/>
                  <a:pt x="589" y="1178"/>
                </a:cubicBezTo>
                <a:cubicBezTo>
                  <a:pt x="684" y="1057"/>
                  <a:pt x="758" y="917"/>
                  <a:pt x="836" y="785"/>
                </a:cubicBezTo>
                <a:cubicBezTo>
                  <a:pt x="863" y="739"/>
                  <a:pt x="894" y="714"/>
                  <a:pt x="918" y="691"/>
                </a:cubicBezTo>
                <a:cubicBezTo>
                  <a:pt x="918" y="776"/>
                  <a:pt x="914" y="859"/>
                  <a:pt x="905" y="943"/>
                </a:cubicBezTo>
                <a:cubicBezTo>
                  <a:pt x="897" y="1017"/>
                  <a:pt x="886" y="1095"/>
                  <a:pt x="888" y="1169"/>
                </a:cubicBezTo>
                <a:cubicBezTo>
                  <a:pt x="888" y="1195"/>
                  <a:pt x="886" y="1202"/>
                  <a:pt x="896" y="1216"/>
                </a:cubicBezTo>
                <a:cubicBezTo>
                  <a:pt x="920" y="1195"/>
                  <a:pt x="950" y="1174"/>
                  <a:pt x="973" y="1144"/>
                </a:cubicBezTo>
                <a:cubicBezTo>
                  <a:pt x="1031" y="1067"/>
                  <a:pt x="1082" y="976"/>
                  <a:pt x="1127" y="892"/>
                </a:cubicBezTo>
                <a:cubicBezTo>
                  <a:pt x="1161" y="829"/>
                  <a:pt x="1191" y="738"/>
                  <a:pt x="1238" y="683"/>
                </a:cubicBezTo>
                <a:cubicBezTo>
                  <a:pt x="1248" y="668"/>
                  <a:pt x="1250" y="662"/>
                  <a:pt x="1263" y="666"/>
                </a:cubicBezTo>
                <a:cubicBezTo>
                  <a:pt x="1269" y="725"/>
                  <a:pt x="1278" y="788"/>
                  <a:pt x="1280" y="849"/>
                </a:cubicBezTo>
                <a:cubicBezTo>
                  <a:pt x="1284" y="960"/>
                  <a:pt x="1286" y="1071"/>
                  <a:pt x="1297" y="1182"/>
                </a:cubicBezTo>
                <a:cubicBezTo>
                  <a:pt x="1300" y="1218"/>
                  <a:pt x="1310" y="1243"/>
                  <a:pt x="1319" y="1276"/>
                </a:cubicBezTo>
                <a:cubicBezTo>
                  <a:pt x="1352" y="1237"/>
                  <a:pt x="1378" y="1203"/>
                  <a:pt x="1408" y="1152"/>
                </a:cubicBezTo>
                <a:cubicBezTo>
                  <a:pt x="1476" y="1034"/>
                  <a:pt x="1524" y="908"/>
                  <a:pt x="1583" y="785"/>
                </a:cubicBezTo>
                <a:cubicBezTo>
                  <a:pt x="1634" y="677"/>
                  <a:pt x="1676" y="533"/>
                  <a:pt x="1758" y="444"/>
                </a:cubicBezTo>
                <a:cubicBezTo>
                  <a:pt x="1765" y="443"/>
                  <a:pt x="1773" y="441"/>
                  <a:pt x="1780" y="440"/>
                </a:cubicBezTo>
                <a:cubicBezTo>
                  <a:pt x="1798" y="513"/>
                  <a:pt x="1812" y="580"/>
                  <a:pt x="1814" y="657"/>
                </a:cubicBezTo>
                <a:cubicBezTo>
                  <a:pt x="1818" y="784"/>
                  <a:pt x="1810" y="911"/>
                  <a:pt x="1805" y="1037"/>
                </a:cubicBezTo>
                <a:cubicBezTo>
                  <a:pt x="1802" y="1127"/>
                  <a:pt x="1797" y="1216"/>
                  <a:pt x="1797" y="1306"/>
                </a:cubicBezTo>
                <a:cubicBezTo>
                  <a:pt x="1812" y="1238"/>
                  <a:pt x="1818" y="1201"/>
                  <a:pt x="1822" y="1127"/>
                </a:cubicBezTo>
              </a:path>
              <a:path w="4674" h="2015">
                <a:moveTo>
                  <a:pt x="1758" y="103"/>
                </a:moveTo>
                <a:cubicBezTo>
                  <a:pt x="1744" y="126"/>
                  <a:pt x="1745" y="135"/>
                  <a:pt x="1733" y="158"/>
                </a:cubicBezTo>
                <a:cubicBezTo>
                  <a:pt x="1740" y="160"/>
                  <a:pt x="1752" y="170"/>
                  <a:pt x="1758" y="171"/>
                </a:cubicBezTo>
                <a:cubicBezTo>
                  <a:pt x="1759" y="170"/>
                  <a:pt x="1761" y="168"/>
                  <a:pt x="1762" y="167"/>
                </a:cubicBezTo>
              </a:path>
              <a:path w="4674" h="2015">
                <a:moveTo>
                  <a:pt x="2548" y="401"/>
                </a:moveTo>
                <a:cubicBezTo>
                  <a:pt x="2524" y="389"/>
                  <a:pt x="2518" y="385"/>
                  <a:pt x="2488" y="393"/>
                </a:cubicBezTo>
                <a:cubicBezTo>
                  <a:pt x="2374" y="425"/>
                  <a:pt x="2282" y="521"/>
                  <a:pt x="2211" y="610"/>
                </a:cubicBezTo>
                <a:cubicBezTo>
                  <a:pt x="2174" y="657"/>
                  <a:pt x="2136" y="705"/>
                  <a:pt x="2104" y="756"/>
                </a:cubicBezTo>
                <a:cubicBezTo>
                  <a:pt x="2091" y="777"/>
                  <a:pt x="2090" y="787"/>
                  <a:pt x="2083" y="807"/>
                </a:cubicBezTo>
                <a:cubicBezTo>
                  <a:pt x="2103" y="818"/>
                  <a:pt x="2124" y="828"/>
                  <a:pt x="2147" y="837"/>
                </a:cubicBezTo>
                <a:cubicBezTo>
                  <a:pt x="2198" y="856"/>
                  <a:pt x="2248" y="876"/>
                  <a:pt x="2292" y="909"/>
                </a:cubicBezTo>
                <a:cubicBezTo>
                  <a:pt x="2323" y="932"/>
                  <a:pt x="2337" y="960"/>
                  <a:pt x="2326" y="999"/>
                </a:cubicBezTo>
                <a:cubicBezTo>
                  <a:pt x="2312" y="1047"/>
                  <a:pt x="2262" y="1088"/>
                  <a:pt x="2228" y="1122"/>
                </a:cubicBezTo>
                <a:cubicBezTo>
                  <a:pt x="2203" y="1148"/>
                  <a:pt x="2152" y="1195"/>
                  <a:pt x="2112" y="1195"/>
                </a:cubicBezTo>
                <a:cubicBezTo>
                  <a:pt x="2042" y="1196"/>
                  <a:pt x="2058" y="1123"/>
                  <a:pt x="2057" y="1076"/>
                </a:cubicBezTo>
              </a:path>
              <a:path w="4674" h="2015">
                <a:moveTo>
                  <a:pt x="2590" y="0"/>
                </a:moveTo>
                <a:cubicBezTo>
                  <a:pt x="2610" y="96"/>
                  <a:pt x="2623" y="188"/>
                  <a:pt x="2629" y="286"/>
                </a:cubicBezTo>
                <a:cubicBezTo>
                  <a:pt x="2635" y="395"/>
                  <a:pt x="2632" y="505"/>
                  <a:pt x="2633" y="615"/>
                </a:cubicBezTo>
                <a:cubicBezTo>
                  <a:pt x="2633" y="682"/>
                  <a:pt x="2634" y="748"/>
                  <a:pt x="2637" y="815"/>
                </a:cubicBezTo>
                <a:cubicBezTo>
                  <a:pt x="2637" y="834"/>
                  <a:pt x="2636" y="839"/>
                  <a:pt x="2642" y="849"/>
                </a:cubicBezTo>
                <a:cubicBezTo>
                  <a:pt x="2666" y="840"/>
                  <a:pt x="2682" y="831"/>
                  <a:pt x="2701" y="811"/>
                </a:cubicBezTo>
                <a:cubicBezTo>
                  <a:pt x="2739" y="771"/>
                  <a:pt x="2770" y="726"/>
                  <a:pt x="2808" y="687"/>
                </a:cubicBezTo>
                <a:cubicBezTo>
                  <a:pt x="2825" y="669"/>
                  <a:pt x="2867" y="609"/>
                  <a:pt x="2893" y="602"/>
                </a:cubicBezTo>
                <a:cubicBezTo>
                  <a:pt x="2925" y="593"/>
                  <a:pt x="2945" y="615"/>
                  <a:pt x="2962" y="640"/>
                </a:cubicBezTo>
                <a:cubicBezTo>
                  <a:pt x="2983" y="671"/>
                  <a:pt x="2999" y="708"/>
                  <a:pt x="3021" y="738"/>
                </a:cubicBezTo>
                <a:cubicBezTo>
                  <a:pt x="3025" y="742"/>
                  <a:pt x="3030" y="747"/>
                  <a:pt x="3034" y="751"/>
                </a:cubicBezTo>
                <a:cubicBezTo>
                  <a:pt x="3076" y="720"/>
                  <a:pt x="3080" y="719"/>
                  <a:pt x="3098" y="666"/>
                </a:cubicBezTo>
              </a:path>
              <a:path w="4674" h="2015">
                <a:moveTo>
                  <a:pt x="3363" y="777"/>
                </a:moveTo>
                <a:cubicBezTo>
                  <a:pt x="3367" y="867"/>
                  <a:pt x="3372" y="956"/>
                  <a:pt x="3376" y="1046"/>
                </a:cubicBezTo>
                <a:cubicBezTo>
                  <a:pt x="3376" y="1070"/>
                  <a:pt x="3376" y="1074"/>
                  <a:pt x="3376" y="1088"/>
                </a:cubicBezTo>
                <a:cubicBezTo>
                  <a:pt x="3380" y="1047"/>
                  <a:pt x="3381" y="1003"/>
                  <a:pt x="3384" y="960"/>
                </a:cubicBezTo>
              </a:path>
              <a:path w="4674" h="2015">
                <a:moveTo>
                  <a:pt x="3358" y="43"/>
                </a:moveTo>
                <a:cubicBezTo>
                  <a:pt x="3350" y="61"/>
                  <a:pt x="3346" y="79"/>
                  <a:pt x="3371" y="90"/>
                </a:cubicBezTo>
                <a:cubicBezTo>
                  <a:pt x="3391" y="99"/>
                  <a:pt x="3411" y="101"/>
                  <a:pt x="3431" y="90"/>
                </a:cubicBezTo>
                <a:cubicBezTo>
                  <a:pt x="3454" y="78"/>
                  <a:pt x="3452" y="67"/>
                  <a:pt x="3478" y="81"/>
                </a:cubicBezTo>
              </a:path>
              <a:path w="4674" h="2015">
                <a:moveTo>
                  <a:pt x="3644" y="866"/>
                </a:moveTo>
                <a:cubicBezTo>
                  <a:pt x="3650" y="884"/>
                  <a:pt x="3649" y="889"/>
                  <a:pt x="3653" y="905"/>
                </a:cubicBezTo>
                <a:cubicBezTo>
                  <a:pt x="3666" y="856"/>
                  <a:pt x="3672" y="804"/>
                  <a:pt x="3687" y="756"/>
                </a:cubicBezTo>
                <a:cubicBezTo>
                  <a:pt x="3731" y="616"/>
                  <a:pt x="3759" y="457"/>
                  <a:pt x="3832" y="329"/>
                </a:cubicBezTo>
                <a:cubicBezTo>
                  <a:pt x="3857" y="286"/>
                  <a:pt x="3863" y="277"/>
                  <a:pt x="3900" y="282"/>
                </a:cubicBezTo>
                <a:cubicBezTo>
                  <a:pt x="3940" y="341"/>
                  <a:pt x="3957" y="407"/>
                  <a:pt x="3973" y="478"/>
                </a:cubicBezTo>
                <a:cubicBezTo>
                  <a:pt x="3996" y="575"/>
                  <a:pt x="4004" y="678"/>
                  <a:pt x="4033" y="773"/>
                </a:cubicBezTo>
                <a:cubicBezTo>
                  <a:pt x="4048" y="822"/>
                  <a:pt x="4068" y="870"/>
                  <a:pt x="4105" y="905"/>
                </a:cubicBezTo>
                <a:cubicBezTo>
                  <a:pt x="4163" y="871"/>
                  <a:pt x="4158" y="866"/>
                  <a:pt x="4191" y="802"/>
                </a:cubicBezTo>
              </a:path>
              <a:path w="4674" h="2015">
                <a:moveTo>
                  <a:pt x="4669" y="606"/>
                </a:moveTo>
                <a:cubicBezTo>
                  <a:pt x="4657" y="538"/>
                  <a:pt x="4652" y="467"/>
                  <a:pt x="4634" y="401"/>
                </a:cubicBezTo>
                <a:cubicBezTo>
                  <a:pt x="4617" y="338"/>
                  <a:pt x="4593" y="306"/>
                  <a:pt x="4553" y="260"/>
                </a:cubicBezTo>
                <a:cubicBezTo>
                  <a:pt x="4528" y="281"/>
                  <a:pt x="4509" y="287"/>
                  <a:pt x="4485" y="320"/>
                </a:cubicBezTo>
                <a:cubicBezTo>
                  <a:pt x="4439" y="382"/>
                  <a:pt x="4425" y="458"/>
                  <a:pt x="4400" y="529"/>
                </a:cubicBezTo>
                <a:cubicBezTo>
                  <a:pt x="4377" y="594"/>
                  <a:pt x="4360" y="652"/>
                  <a:pt x="4357" y="721"/>
                </a:cubicBezTo>
                <a:cubicBezTo>
                  <a:pt x="4358" y="730"/>
                  <a:pt x="4360" y="738"/>
                  <a:pt x="4361" y="747"/>
                </a:cubicBezTo>
                <a:cubicBezTo>
                  <a:pt x="4389" y="738"/>
                  <a:pt x="4399" y="748"/>
                  <a:pt x="4442" y="717"/>
                </a:cubicBezTo>
                <a:cubicBezTo>
                  <a:pt x="4492" y="681"/>
                  <a:pt x="4539" y="627"/>
                  <a:pt x="4579" y="581"/>
                </a:cubicBezTo>
                <a:cubicBezTo>
                  <a:pt x="4613" y="542"/>
                  <a:pt x="4614" y="548"/>
                  <a:pt x="4652" y="529"/>
                </a:cubicBezTo>
                <a:cubicBezTo>
                  <a:pt x="4670" y="615"/>
                  <a:pt x="4674" y="686"/>
                  <a:pt x="4669" y="777"/>
                </a:cubicBezTo>
                <a:cubicBezTo>
                  <a:pt x="4658" y="960"/>
                  <a:pt x="4641" y="1147"/>
                  <a:pt x="4605" y="1327"/>
                </a:cubicBezTo>
                <a:cubicBezTo>
                  <a:pt x="4573" y="1488"/>
                  <a:pt x="4528" y="1669"/>
                  <a:pt x="4455" y="1818"/>
                </a:cubicBezTo>
                <a:cubicBezTo>
                  <a:pt x="4416" y="1897"/>
                  <a:pt x="4339" y="2003"/>
                  <a:pt x="4242" y="2014"/>
                </a:cubicBezTo>
                <a:cubicBezTo>
                  <a:pt x="4144" y="2025"/>
                  <a:pt x="4048" y="1924"/>
                  <a:pt x="3990" y="1861"/>
                </a:cubicBezTo>
                <a:cubicBezTo>
                  <a:pt x="3880" y="1742"/>
                  <a:pt x="3792" y="1603"/>
                  <a:pt x="3691" y="1477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7130880" y="1335240"/>
            <a:ext cx="1103400" cy="817560"/>
          </a:xfrm>
          <a:custGeom>
            <a:avLst/>
            <a:gdLst/>
            <a:ahLst/>
            <a:rect l="l" t="t" r="r" b="b"/>
            <a:pathLst>
              <a:path w="3065" h="2271">
                <a:moveTo>
                  <a:pt x="379" y="1408"/>
                </a:moveTo>
                <a:cubicBezTo>
                  <a:pt x="363" y="1510"/>
                  <a:pt x="343" y="1613"/>
                  <a:pt x="332" y="1715"/>
                </a:cubicBezTo>
                <a:cubicBezTo>
                  <a:pt x="318" y="1846"/>
                  <a:pt x="309" y="1977"/>
                  <a:pt x="294" y="2108"/>
                </a:cubicBezTo>
                <a:cubicBezTo>
                  <a:pt x="288" y="2162"/>
                  <a:pt x="282" y="2216"/>
                  <a:pt x="277" y="2270"/>
                </a:cubicBezTo>
                <a:cubicBezTo>
                  <a:pt x="263" y="2223"/>
                  <a:pt x="246" y="2174"/>
                  <a:pt x="234" y="2125"/>
                </a:cubicBezTo>
                <a:cubicBezTo>
                  <a:pt x="173" y="1878"/>
                  <a:pt x="128" y="1625"/>
                  <a:pt x="89" y="1374"/>
                </a:cubicBezTo>
                <a:cubicBezTo>
                  <a:pt x="63" y="1207"/>
                  <a:pt x="39" y="1041"/>
                  <a:pt x="8" y="875"/>
                </a:cubicBezTo>
                <a:cubicBezTo>
                  <a:pt x="2" y="845"/>
                  <a:pt x="-4" y="840"/>
                  <a:pt x="4" y="824"/>
                </a:cubicBezTo>
                <a:cubicBezTo>
                  <a:pt x="36" y="854"/>
                  <a:pt x="69" y="887"/>
                  <a:pt x="106" y="913"/>
                </a:cubicBezTo>
                <a:cubicBezTo>
                  <a:pt x="232" y="1004"/>
                  <a:pt x="380" y="1056"/>
                  <a:pt x="533" y="1080"/>
                </a:cubicBezTo>
                <a:cubicBezTo>
                  <a:pt x="586" y="1088"/>
                  <a:pt x="637" y="1085"/>
                  <a:pt x="687" y="1109"/>
                </a:cubicBezTo>
                <a:cubicBezTo>
                  <a:pt x="690" y="1113"/>
                  <a:pt x="692" y="1118"/>
                  <a:pt x="695" y="1122"/>
                </a:cubicBezTo>
                <a:cubicBezTo>
                  <a:pt x="689" y="1173"/>
                  <a:pt x="682" y="1196"/>
                  <a:pt x="644" y="1246"/>
                </a:cubicBezTo>
                <a:cubicBezTo>
                  <a:pt x="561" y="1354"/>
                  <a:pt x="464" y="1446"/>
                  <a:pt x="362" y="1536"/>
                </a:cubicBezTo>
                <a:cubicBezTo>
                  <a:pt x="335" y="1559"/>
                  <a:pt x="307" y="1581"/>
                  <a:pt x="281" y="1605"/>
                </a:cubicBezTo>
                <a:cubicBezTo>
                  <a:pt x="284" y="1603"/>
                  <a:pt x="287" y="1602"/>
                  <a:pt x="290" y="1600"/>
                </a:cubicBezTo>
                <a:cubicBezTo>
                  <a:pt x="332" y="1560"/>
                  <a:pt x="374" y="1522"/>
                  <a:pt x="418" y="1485"/>
                </a:cubicBezTo>
                <a:cubicBezTo>
                  <a:pt x="502" y="1413"/>
                  <a:pt x="590" y="1346"/>
                  <a:pt x="678" y="1280"/>
                </a:cubicBezTo>
                <a:cubicBezTo>
                  <a:pt x="717" y="1251"/>
                  <a:pt x="750" y="1231"/>
                  <a:pt x="793" y="1212"/>
                </a:cubicBezTo>
                <a:cubicBezTo>
                  <a:pt x="806" y="1240"/>
                  <a:pt x="818" y="1228"/>
                  <a:pt x="819" y="1284"/>
                </a:cubicBezTo>
                <a:cubicBezTo>
                  <a:pt x="820" y="1342"/>
                  <a:pt x="812" y="1400"/>
                  <a:pt x="815" y="1459"/>
                </a:cubicBezTo>
                <a:cubicBezTo>
                  <a:pt x="819" y="1537"/>
                  <a:pt x="832" y="1564"/>
                  <a:pt x="870" y="1622"/>
                </a:cubicBezTo>
                <a:cubicBezTo>
                  <a:pt x="923" y="1612"/>
                  <a:pt x="956" y="1609"/>
                  <a:pt x="998" y="1566"/>
                </a:cubicBezTo>
                <a:cubicBezTo>
                  <a:pt x="1060" y="1503"/>
                  <a:pt x="1098" y="1423"/>
                  <a:pt x="1113" y="1336"/>
                </a:cubicBezTo>
                <a:cubicBezTo>
                  <a:pt x="1127" y="1253"/>
                  <a:pt x="1118" y="1154"/>
                  <a:pt x="1075" y="1080"/>
                </a:cubicBezTo>
                <a:cubicBezTo>
                  <a:pt x="1048" y="1033"/>
                  <a:pt x="957" y="937"/>
                  <a:pt x="891" y="977"/>
                </a:cubicBezTo>
                <a:cubicBezTo>
                  <a:pt x="849" y="1003"/>
                  <a:pt x="816" y="1048"/>
                  <a:pt x="806" y="1097"/>
                </a:cubicBezTo>
                <a:cubicBezTo>
                  <a:pt x="796" y="1144"/>
                  <a:pt x="811" y="1155"/>
                  <a:pt x="823" y="1199"/>
                </a:cubicBezTo>
              </a:path>
              <a:path w="3065" h="2271">
                <a:moveTo>
                  <a:pt x="1502" y="1242"/>
                </a:moveTo>
                <a:cubicBezTo>
                  <a:pt x="1502" y="1326"/>
                  <a:pt x="1488" y="1404"/>
                  <a:pt x="1485" y="1489"/>
                </a:cubicBezTo>
                <a:cubicBezTo>
                  <a:pt x="1484" y="1523"/>
                  <a:pt x="1485" y="1558"/>
                  <a:pt x="1485" y="1592"/>
                </a:cubicBezTo>
                <a:cubicBezTo>
                  <a:pt x="1476" y="1533"/>
                  <a:pt x="1475" y="1476"/>
                  <a:pt x="1476" y="1417"/>
                </a:cubicBezTo>
              </a:path>
              <a:path w="3065" h="2271">
                <a:moveTo>
                  <a:pt x="1288" y="964"/>
                </a:moveTo>
                <a:cubicBezTo>
                  <a:pt x="1305" y="1006"/>
                  <a:pt x="1313" y="1044"/>
                  <a:pt x="1365" y="1024"/>
                </a:cubicBezTo>
                <a:cubicBezTo>
                  <a:pt x="1402" y="1005"/>
                  <a:pt x="1416" y="997"/>
                  <a:pt x="1429" y="969"/>
                </a:cubicBezTo>
              </a:path>
              <a:path w="3065" h="2271">
                <a:moveTo>
                  <a:pt x="1736" y="960"/>
                </a:moveTo>
                <a:cubicBezTo>
                  <a:pt x="1740" y="1061"/>
                  <a:pt x="1740" y="1162"/>
                  <a:pt x="1745" y="1263"/>
                </a:cubicBezTo>
                <a:cubicBezTo>
                  <a:pt x="1747" y="1299"/>
                  <a:pt x="1751" y="1335"/>
                  <a:pt x="1753" y="1370"/>
                </a:cubicBezTo>
                <a:cubicBezTo>
                  <a:pt x="1763" y="1355"/>
                  <a:pt x="1789" y="1313"/>
                  <a:pt x="1800" y="1284"/>
                </a:cubicBezTo>
                <a:cubicBezTo>
                  <a:pt x="1838" y="1186"/>
                  <a:pt x="1873" y="1088"/>
                  <a:pt x="1911" y="990"/>
                </a:cubicBezTo>
                <a:cubicBezTo>
                  <a:pt x="1942" y="911"/>
                  <a:pt x="1971" y="811"/>
                  <a:pt x="2022" y="742"/>
                </a:cubicBezTo>
                <a:cubicBezTo>
                  <a:pt x="2033" y="720"/>
                  <a:pt x="2034" y="713"/>
                  <a:pt x="2052" y="713"/>
                </a:cubicBezTo>
                <a:cubicBezTo>
                  <a:pt x="2066" y="777"/>
                  <a:pt x="2072" y="837"/>
                  <a:pt x="2073" y="905"/>
                </a:cubicBezTo>
                <a:cubicBezTo>
                  <a:pt x="2075" y="1022"/>
                  <a:pt x="2074" y="1138"/>
                  <a:pt x="2078" y="1255"/>
                </a:cubicBezTo>
                <a:cubicBezTo>
                  <a:pt x="2080" y="1322"/>
                  <a:pt x="2088" y="1389"/>
                  <a:pt x="2116" y="1447"/>
                </a:cubicBezTo>
                <a:cubicBezTo>
                  <a:pt x="2120" y="1450"/>
                  <a:pt x="2125" y="1452"/>
                  <a:pt x="2129" y="1455"/>
                </a:cubicBezTo>
                <a:cubicBezTo>
                  <a:pt x="2198" y="1395"/>
                  <a:pt x="2234" y="1325"/>
                  <a:pt x="2274" y="1242"/>
                </a:cubicBezTo>
                <a:cubicBezTo>
                  <a:pt x="2357" y="1070"/>
                  <a:pt x="2415" y="885"/>
                  <a:pt x="2475" y="704"/>
                </a:cubicBezTo>
                <a:cubicBezTo>
                  <a:pt x="2544" y="495"/>
                  <a:pt x="2600" y="282"/>
                  <a:pt x="2671" y="73"/>
                </a:cubicBezTo>
                <a:cubicBezTo>
                  <a:pt x="2688" y="28"/>
                  <a:pt x="2686" y="18"/>
                  <a:pt x="2709" y="0"/>
                </a:cubicBezTo>
                <a:cubicBezTo>
                  <a:pt x="2711" y="102"/>
                  <a:pt x="2697" y="184"/>
                  <a:pt x="2679" y="286"/>
                </a:cubicBezTo>
                <a:cubicBezTo>
                  <a:pt x="2626" y="591"/>
                  <a:pt x="2576" y="902"/>
                  <a:pt x="2573" y="1212"/>
                </a:cubicBezTo>
                <a:cubicBezTo>
                  <a:pt x="2572" y="1289"/>
                  <a:pt x="2573" y="1367"/>
                  <a:pt x="2620" y="1430"/>
                </a:cubicBezTo>
                <a:cubicBezTo>
                  <a:pt x="2628" y="1433"/>
                  <a:pt x="2637" y="1435"/>
                  <a:pt x="2645" y="1438"/>
                </a:cubicBezTo>
                <a:cubicBezTo>
                  <a:pt x="2719" y="1411"/>
                  <a:pt x="2762" y="1391"/>
                  <a:pt x="2825" y="1336"/>
                </a:cubicBezTo>
                <a:cubicBezTo>
                  <a:pt x="2905" y="1265"/>
                  <a:pt x="2998" y="1173"/>
                  <a:pt x="3038" y="1071"/>
                </a:cubicBezTo>
                <a:cubicBezTo>
                  <a:pt x="3050" y="1024"/>
                  <a:pt x="3053" y="1010"/>
                  <a:pt x="3064" y="981"/>
                </a:cubicBezTo>
              </a:path>
              <a:path w="3065" h="2271">
                <a:moveTo>
                  <a:pt x="2274" y="764"/>
                </a:moveTo>
                <a:cubicBezTo>
                  <a:pt x="2344" y="759"/>
                  <a:pt x="2405" y="753"/>
                  <a:pt x="2475" y="734"/>
                </a:cubicBezTo>
                <a:cubicBezTo>
                  <a:pt x="2605" y="699"/>
                  <a:pt x="2732" y="658"/>
                  <a:pt x="2859" y="614"/>
                </a:cubicBezTo>
                <a:cubicBezTo>
                  <a:pt x="2948" y="582"/>
                  <a:pt x="2975" y="573"/>
                  <a:pt x="3029" y="542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4" name="Freeform 13"/>
          <p:cNvSpPr/>
          <p:nvPr/>
        </p:nvSpPr>
        <p:spPr>
          <a:xfrm>
            <a:off x="2757600" y="2351160"/>
            <a:ext cx="1458720" cy="593640"/>
          </a:xfrm>
          <a:custGeom>
            <a:avLst/>
            <a:gdLst/>
            <a:ahLst/>
            <a:rect l="l" t="t" r="r" b="b"/>
            <a:pathLst>
              <a:path w="4051" h="1652">
                <a:moveTo>
                  <a:pt x="4016" y="1651"/>
                </a:moveTo>
                <a:cubicBezTo>
                  <a:pt x="3970" y="1603"/>
                  <a:pt x="3923" y="1557"/>
                  <a:pt x="3879" y="1506"/>
                </a:cubicBezTo>
                <a:cubicBezTo>
                  <a:pt x="3793" y="1405"/>
                  <a:pt x="3709" y="1301"/>
                  <a:pt x="3619" y="1203"/>
                </a:cubicBezTo>
                <a:cubicBezTo>
                  <a:pt x="3470" y="1041"/>
                  <a:pt x="3318" y="888"/>
                  <a:pt x="3145" y="751"/>
                </a:cubicBezTo>
                <a:cubicBezTo>
                  <a:pt x="2972" y="614"/>
                  <a:pt x="2787" y="486"/>
                  <a:pt x="2591" y="384"/>
                </a:cubicBezTo>
                <a:cubicBezTo>
                  <a:pt x="2128" y="144"/>
                  <a:pt x="1617" y="11"/>
                  <a:pt x="1097" y="0"/>
                </a:cubicBezTo>
                <a:cubicBezTo>
                  <a:pt x="767" y="-7"/>
                  <a:pt x="435" y="28"/>
                  <a:pt x="107" y="59"/>
                </a:cubicBezTo>
                <a:cubicBezTo>
                  <a:pt x="69" y="63"/>
                  <a:pt x="37" y="65"/>
                  <a:pt x="0" y="68"/>
                </a:cubicBezTo>
              </a:path>
              <a:path w="4051" h="1652">
                <a:moveTo>
                  <a:pt x="3901" y="1096"/>
                </a:moveTo>
                <a:cubicBezTo>
                  <a:pt x="3913" y="1106"/>
                  <a:pt x="3896" y="1089"/>
                  <a:pt x="3905" y="1101"/>
                </a:cubicBezTo>
                <a:cubicBezTo>
                  <a:pt x="3911" y="1109"/>
                  <a:pt x="3917" y="1117"/>
                  <a:pt x="3922" y="1126"/>
                </a:cubicBezTo>
                <a:cubicBezTo>
                  <a:pt x="3933" y="1148"/>
                  <a:pt x="3944" y="1171"/>
                  <a:pt x="3952" y="1195"/>
                </a:cubicBezTo>
                <a:cubicBezTo>
                  <a:pt x="3965" y="1233"/>
                  <a:pt x="3977" y="1271"/>
                  <a:pt x="3986" y="1310"/>
                </a:cubicBezTo>
                <a:cubicBezTo>
                  <a:pt x="3998" y="1361"/>
                  <a:pt x="4007" y="1412"/>
                  <a:pt x="4020" y="1463"/>
                </a:cubicBezTo>
                <a:cubicBezTo>
                  <a:pt x="4030" y="1502"/>
                  <a:pt x="4038" y="1540"/>
                  <a:pt x="4046" y="1579"/>
                </a:cubicBezTo>
                <a:cubicBezTo>
                  <a:pt x="4050" y="1596"/>
                  <a:pt x="4049" y="1609"/>
                  <a:pt x="4050" y="1626"/>
                </a:cubicBezTo>
                <a:cubicBezTo>
                  <a:pt x="4036" y="1622"/>
                  <a:pt x="4021" y="1620"/>
                  <a:pt x="4007" y="1613"/>
                </a:cubicBezTo>
                <a:cubicBezTo>
                  <a:pt x="3975" y="1596"/>
                  <a:pt x="3943" y="1581"/>
                  <a:pt x="3909" y="1566"/>
                </a:cubicBezTo>
                <a:cubicBezTo>
                  <a:pt x="3860" y="1545"/>
                  <a:pt x="3821" y="1537"/>
                  <a:pt x="3768" y="1536"/>
                </a:cubicBezTo>
                <a:cubicBezTo>
                  <a:pt x="3720" y="1536"/>
                  <a:pt x="3706" y="1535"/>
                  <a:pt x="3679" y="155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5899320" y="3924360"/>
            <a:ext cx="1203120" cy="685800"/>
          </a:xfrm>
          <a:custGeom>
            <a:avLst/>
            <a:gdLst/>
            <a:ahLst/>
            <a:rect l="l" t="t" r="r" b="b"/>
            <a:pathLst>
              <a:path w="3342" h="1908">
                <a:moveTo>
                  <a:pt x="452" y="776"/>
                </a:moveTo>
                <a:cubicBezTo>
                  <a:pt x="451" y="813"/>
                  <a:pt x="454" y="849"/>
                  <a:pt x="457" y="887"/>
                </a:cubicBezTo>
                <a:cubicBezTo>
                  <a:pt x="465" y="1004"/>
                  <a:pt x="465" y="1120"/>
                  <a:pt x="465" y="1237"/>
                </a:cubicBezTo>
                <a:cubicBezTo>
                  <a:pt x="465" y="1451"/>
                  <a:pt x="455" y="1669"/>
                  <a:pt x="474" y="1881"/>
                </a:cubicBezTo>
                <a:cubicBezTo>
                  <a:pt x="476" y="1906"/>
                  <a:pt x="494" y="1932"/>
                  <a:pt x="474" y="1873"/>
                </a:cubicBezTo>
              </a:path>
              <a:path w="3342" h="1908">
                <a:moveTo>
                  <a:pt x="0" y="798"/>
                </a:moveTo>
                <a:cubicBezTo>
                  <a:pt x="70" y="776"/>
                  <a:pt x="116" y="750"/>
                  <a:pt x="179" y="704"/>
                </a:cubicBezTo>
                <a:cubicBezTo>
                  <a:pt x="331" y="594"/>
                  <a:pt x="485" y="489"/>
                  <a:pt x="649" y="396"/>
                </a:cubicBezTo>
                <a:cubicBezTo>
                  <a:pt x="714" y="359"/>
                  <a:pt x="815" y="292"/>
                  <a:pt x="896" y="311"/>
                </a:cubicBezTo>
                <a:cubicBezTo>
                  <a:pt x="958" y="326"/>
                  <a:pt x="944" y="404"/>
                  <a:pt x="939" y="443"/>
                </a:cubicBezTo>
                <a:cubicBezTo>
                  <a:pt x="925" y="542"/>
                  <a:pt x="888" y="650"/>
                  <a:pt x="841" y="738"/>
                </a:cubicBezTo>
                <a:cubicBezTo>
                  <a:pt x="792" y="829"/>
                  <a:pt x="724" y="920"/>
                  <a:pt x="661" y="1002"/>
                </a:cubicBezTo>
                <a:cubicBezTo>
                  <a:pt x="644" y="1024"/>
                  <a:pt x="599" y="1094"/>
                  <a:pt x="585" y="1049"/>
                </a:cubicBezTo>
                <a:cubicBezTo>
                  <a:pt x="585" y="1036"/>
                  <a:pt x="585" y="1024"/>
                  <a:pt x="585" y="1011"/>
                </a:cubicBezTo>
              </a:path>
              <a:path w="3342" h="1908">
                <a:moveTo>
                  <a:pt x="1131" y="652"/>
                </a:moveTo>
                <a:cubicBezTo>
                  <a:pt x="1126" y="768"/>
                  <a:pt x="1118" y="883"/>
                  <a:pt x="1110" y="998"/>
                </a:cubicBezTo>
                <a:cubicBezTo>
                  <a:pt x="1106" y="1055"/>
                  <a:pt x="1105" y="1097"/>
                  <a:pt x="1118" y="1139"/>
                </a:cubicBezTo>
                <a:cubicBezTo>
                  <a:pt x="1163" y="1092"/>
                  <a:pt x="1186" y="1029"/>
                  <a:pt x="1212" y="968"/>
                </a:cubicBezTo>
                <a:cubicBezTo>
                  <a:pt x="1258" y="861"/>
                  <a:pt x="1297" y="745"/>
                  <a:pt x="1323" y="631"/>
                </a:cubicBezTo>
                <a:cubicBezTo>
                  <a:pt x="1339" y="560"/>
                  <a:pt x="1358" y="469"/>
                  <a:pt x="1344" y="396"/>
                </a:cubicBezTo>
                <a:cubicBezTo>
                  <a:pt x="1341" y="390"/>
                  <a:pt x="1339" y="385"/>
                  <a:pt x="1336" y="379"/>
                </a:cubicBezTo>
                <a:cubicBezTo>
                  <a:pt x="1301" y="399"/>
                  <a:pt x="1283" y="414"/>
                  <a:pt x="1263" y="465"/>
                </a:cubicBezTo>
                <a:cubicBezTo>
                  <a:pt x="1235" y="538"/>
                  <a:pt x="1214" y="621"/>
                  <a:pt x="1203" y="699"/>
                </a:cubicBezTo>
                <a:cubicBezTo>
                  <a:pt x="1197" y="739"/>
                  <a:pt x="1206" y="838"/>
                  <a:pt x="1225" y="802"/>
                </a:cubicBezTo>
                <a:cubicBezTo>
                  <a:pt x="1226" y="791"/>
                  <a:pt x="1228" y="779"/>
                  <a:pt x="1229" y="768"/>
                </a:cubicBezTo>
              </a:path>
              <a:path w="3342" h="1908">
                <a:moveTo>
                  <a:pt x="1686" y="635"/>
                </a:moveTo>
                <a:cubicBezTo>
                  <a:pt x="1700" y="715"/>
                  <a:pt x="1701" y="790"/>
                  <a:pt x="1711" y="870"/>
                </a:cubicBezTo>
                <a:cubicBezTo>
                  <a:pt x="1715" y="901"/>
                  <a:pt x="1719" y="933"/>
                  <a:pt x="1724" y="964"/>
                </a:cubicBezTo>
                <a:cubicBezTo>
                  <a:pt x="1718" y="911"/>
                  <a:pt x="1720" y="859"/>
                  <a:pt x="1716" y="806"/>
                </a:cubicBezTo>
                <a:cubicBezTo>
                  <a:pt x="1712" y="778"/>
                  <a:pt x="1707" y="749"/>
                  <a:pt x="1703" y="721"/>
                </a:cubicBezTo>
              </a:path>
              <a:path w="3342" h="1908">
                <a:moveTo>
                  <a:pt x="1583" y="217"/>
                </a:moveTo>
                <a:cubicBezTo>
                  <a:pt x="1585" y="228"/>
                  <a:pt x="1585" y="322"/>
                  <a:pt x="1613" y="324"/>
                </a:cubicBezTo>
                <a:cubicBezTo>
                  <a:pt x="1616" y="320"/>
                  <a:pt x="1619" y="315"/>
                  <a:pt x="1622" y="311"/>
                </a:cubicBezTo>
              </a:path>
              <a:path w="3342" h="1908">
                <a:moveTo>
                  <a:pt x="2010" y="482"/>
                </a:moveTo>
                <a:cubicBezTo>
                  <a:pt x="2001" y="565"/>
                  <a:pt x="1992" y="644"/>
                  <a:pt x="1976" y="725"/>
                </a:cubicBezTo>
                <a:cubicBezTo>
                  <a:pt x="1971" y="751"/>
                  <a:pt x="1964" y="790"/>
                  <a:pt x="1959" y="810"/>
                </a:cubicBezTo>
                <a:cubicBezTo>
                  <a:pt x="1951" y="764"/>
                  <a:pt x="1952" y="730"/>
                  <a:pt x="1955" y="682"/>
                </a:cubicBezTo>
                <a:cubicBezTo>
                  <a:pt x="1962" y="582"/>
                  <a:pt x="1982" y="488"/>
                  <a:pt x="2006" y="392"/>
                </a:cubicBezTo>
                <a:cubicBezTo>
                  <a:pt x="2027" y="311"/>
                  <a:pt x="2038" y="233"/>
                  <a:pt x="2091" y="166"/>
                </a:cubicBezTo>
                <a:cubicBezTo>
                  <a:pt x="2111" y="146"/>
                  <a:pt x="2117" y="139"/>
                  <a:pt x="2138" y="145"/>
                </a:cubicBezTo>
                <a:cubicBezTo>
                  <a:pt x="2200" y="228"/>
                  <a:pt x="2218" y="322"/>
                  <a:pt x="2240" y="422"/>
                </a:cubicBezTo>
                <a:cubicBezTo>
                  <a:pt x="2262" y="525"/>
                  <a:pt x="2273" y="628"/>
                  <a:pt x="2275" y="733"/>
                </a:cubicBezTo>
                <a:cubicBezTo>
                  <a:pt x="2275" y="741"/>
                  <a:pt x="2279" y="850"/>
                  <a:pt x="2270" y="849"/>
                </a:cubicBezTo>
                <a:cubicBezTo>
                  <a:pt x="2227" y="843"/>
                  <a:pt x="2277" y="764"/>
                  <a:pt x="2279" y="721"/>
                </a:cubicBezTo>
              </a:path>
              <a:path w="3342" h="1908">
                <a:moveTo>
                  <a:pt x="2671" y="4"/>
                </a:moveTo>
                <a:cubicBezTo>
                  <a:pt x="2668" y="68"/>
                  <a:pt x="2665" y="124"/>
                  <a:pt x="2654" y="187"/>
                </a:cubicBezTo>
                <a:cubicBezTo>
                  <a:pt x="2641" y="261"/>
                  <a:pt x="2629" y="332"/>
                  <a:pt x="2607" y="405"/>
                </a:cubicBezTo>
                <a:cubicBezTo>
                  <a:pt x="2586" y="476"/>
                  <a:pt x="2550" y="545"/>
                  <a:pt x="2535" y="618"/>
                </a:cubicBezTo>
                <a:cubicBezTo>
                  <a:pt x="2528" y="655"/>
                  <a:pt x="2533" y="688"/>
                  <a:pt x="2565" y="712"/>
                </a:cubicBezTo>
                <a:cubicBezTo>
                  <a:pt x="2599" y="736"/>
                  <a:pt x="2650" y="740"/>
                  <a:pt x="2684" y="716"/>
                </a:cubicBezTo>
                <a:cubicBezTo>
                  <a:pt x="2741" y="675"/>
                  <a:pt x="2759" y="639"/>
                  <a:pt x="2791" y="580"/>
                </a:cubicBezTo>
              </a:path>
              <a:path w="3342" h="1908">
                <a:moveTo>
                  <a:pt x="2360" y="281"/>
                </a:moveTo>
                <a:cubicBezTo>
                  <a:pt x="2370" y="359"/>
                  <a:pt x="2394" y="355"/>
                  <a:pt x="2467" y="320"/>
                </a:cubicBezTo>
                <a:cubicBezTo>
                  <a:pt x="2554" y="279"/>
                  <a:pt x="2649" y="229"/>
                  <a:pt x="2731" y="179"/>
                </a:cubicBezTo>
                <a:cubicBezTo>
                  <a:pt x="2811" y="130"/>
                  <a:pt x="2885" y="63"/>
                  <a:pt x="2966" y="17"/>
                </a:cubicBezTo>
                <a:cubicBezTo>
                  <a:pt x="2980" y="11"/>
                  <a:pt x="2995" y="6"/>
                  <a:pt x="3009" y="0"/>
                </a:cubicBezTo>
              </a:path>
              <a:path w="3342" h="1908">
                <a:moveTo>
                  <a:pt x="3341" y="495"/>
                </a:moveTo>
                <a:cubicBezTo>
                  <a:pt x="3333" y="528"/>
                  <a:pt x="3337" y="600"/>
                  <a:pt x="3316" y="610"/>
                </a:cubicBezTo>
                <a:cubicBezTo>
                  <a:pt x="3317" y="608"/>
                  <a:pt x="3319" y="607"/>
                  <a:pt x="3320" y="605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6" name="Freeform 15"/>
          <p:cNvSpPr/>
          <p:nvPr/>
        </p:nvSpPr>
        <p:spPr>
          <a:xfrm>
            <a:off x="3171960" y="2935440"/>
            <a:ext cx="5064120" cy="741240"/>
          </a:xfrm>
          <a:custGeom>
            <a:avLst/>
            <a:gdLst/>
            <a:ahLst/>
            <a:rect l="l" t="t" r="r" b="b"/>
            <a:pathLst>
              <a:path w="14067" h="2057">
                <a:moveTo>
                  <a:pt x="1797" y="354"/>
                </a:moveTo>
                <a:cubicBezTo>
                  <a:pt x="1823" y="363"/>
                  <a:pt x="1851" y="375"/>
                  <a:pt x="1878" y="384"/>
                </a:cubicBezTo>
                <a:cubicBezTo>
                  <a:pt x="1908" y="394"/>
                  <a:pt x="1941" y="407"/>
                  <a:pt x="1972" y="414"/>
                </a:cubicBezTo>
                <a:cubicBezTo>
                  <a:pt x="2039" y="430"/>
                  <a:pt x="2105" y="431"/>
                  <a:pt x="2173" y="431"/>
                </a:cubicBezTo>
                <a:cubicBezTo>
                  <a:pt x="2244" y="431"/>
                  <a:pt x="2316" y="432"/>
                  <a:pt x="2386" y="426"/>
                </a:cubicBezTo>
                <a:cubicBezTo>
                  <a:pt x="2523" y="415"/>
                  <a:pt x="2660" y="405"/>
                  <a:pt x="2796" y="392"/>
                </a:cubicBezTo>
                <a:cubicBezTo>
                  <a:pt x="2910" y="381"/>
                  <a:pt x="3024" y="377"/>
                  <a:pt x="3137" y="367"/>
                </a:cubicBezTo>
                <a:cubicBezTo>
                  <a:pt x="3255" y="357"/>
                  <a:pt x="3373" y="356"/>
                  <a:pt x="3491" y="354"/>
                </a:cubicBezTo>
                <a:cubicBezTo>
                  <a:pt x="3649" y="351"/>
                  <a:pt x="3808" y="329"/>
                  <a:pt x="3965" y="332"/>
                </a:cubicBezTo>
                <a:cubicBezTo>
                  <a:pt x="4066" y="334"/>
                  <a:pt x="4167" y="336"/>
                  <a:pt x="4268" y="341"/>
                </a:cubicBezTo>
                <a:cubicBezTo>
                  <a:pt x="4344" y="344"/>
                  <a:pt x="4418" y="350"/>
                  <a:pt x="4494" y="350"/>
                </a:cubicBezTo>
                <a:cubicBezTo>
                  <a:pt x="4561" y="350"/>
                  <a:pt x="4628" y="348"/>
                  <a:pt x="4695" y="345"/>
                </a:cubicBezTo>
                <a:cubicBezTo>
                  <a:pt x="4742" y="343"/>
                  <a:pt x="4788" y="341"/>
                  <a:pt x="4835" y="341"/>
                </a:cubicBezTo>
                <a:cubicBezTo>
                  <a:pt x="4864" y="341"/>
                  <a:pt x="4894" y="343"/>
                  <a:pt x="4921" y="345"/>
                </a:cubicBezTo>
                <a:cubicBezTo>
                  <a:pt x="4938" y="347"/>
                  <a:pt x="4940" y="342"/>
                  <a:pt x="4955" y="350"/>
                </a:cubicBezTo>
                <a:cubicBezTo>
                  <a:pt x="4955" y="354"/>
                  <a:pt x="4955" y="358"/>
                  <a:pt x="4955" y="362"/>
                </a:cubicBezTo>
              </a:path>
              <a:path w="14067" h="2057">
                <a:moveTo>
                  <a:pt x="1929" y="192"/>
                </a:moveTo>
                <a:cubicBezTo>
                  <a:pt x="1919" y="200"/>
                  <a:pt x="1908" y="204"/>
                  <a:pt x="1899" y="213"/>
                </a:cubicBezTo>
                <a:cubicBezTo>
                  <a:pt x="1883" y="228"/>
                  <a:pt x="1873" y="239"/>
                  <a:pt x="1857" y="256"/>
                </a:cubicBezTo>
                <a:cubicBezTo>
                  <a:pt x="1817" y="299"/>
                  <a:pt x="1787" y="347"/>
                  <a:pt x="1750" y="392"/>
                </a:cubicBezTo>
                <a:cubicBezTo>
                  <a:pt x="1658" y="505"/>
                  <a:pt x="1553" y="608"/>
                  <a:pt x="1447" y="708"/>
                </a:cubicBezTo>
                <a:cubicBezTo>
                  <a:pt x="1295" y="851"/>
                  <a:pt x="1133" y="983"/>
                  <a:pt x="978" y="1122"/>
                </a:cubicBezTo>
                <a:cubicBezTo>
                  <a:pt x="841" y="1245"/>
                  <a:pt x="705" y="1370"/>
                  <a:pt x="572" y="1497"/>
                </a:cubicBezTo>
                <a:cubicBezTo>
                  <a:pt x="508" y="1558"/>
                  <a:pt x="446" y="1618"/>
                  <a:pt x="380" y="1677"/>
                </a:cubicBezTo>
                <a:cubicBezTo>
                  <a:pt x="325" y="1726"/>
                  <a:pt x="272" y="1776"/>
                  <a:pt x="218" y="1826"/>
                </a:cubicBezTo>
                <a:cubicBezTo>
                  <a:pt x="147" y="1892"/>
                  <a:pt x="76" y="1968"/>
                  <a:pt x="13" y="2035"/>
                </a:cubicBezTo>
                <a:cubicBezTo>
                  <a:pt x="7" y="2041"/>
                  <a:pt x="9" y="2048"/>
                  <a:pt x="5" y="2052"/>
                </a:cubicBezTo>
                <a:cubicBezTo>
                  <a:pt x="11" y="2058"/>
                  <a:pt x="10" y="2057"/>
                  <a:pt x="0" y="2048"/>
                </a:cubicBezTo>
              </a:path>
              <a:path w="14067" h="2057">
                <a:moveTo>
                  <a:pt x="4831" y="213"/>
                </a:moveTo>
                <a:cubicBezTo>
                  <a:pt x="4829" y="203"/>
                  <a:pt x="4826" y="192"/>
                  <a:pt x="4823" y="183"/>
                </a:cubicBezTo>
                <a:cubicBezTo>
                  <a:pt x="4823" y="175"/>
                  <a:pt x="4823" y="173"/>
                  <a:pt x="4818" y="170"/>
                </a:cubicBezTo>
                <a:cubicBezTo>
                  <a:pt x="4822" y="175"/>
                  <a:pt x="4828" y="184"/>
                  <a:pt x="4835" y="192"/>
                </a:cubicBezTo>
                <a:cubicBezTo>
                  <a:pt x="4868" y="231"/>
                  <a:pt x="4901" y="272"/>
                  <a:pt x="4934" y="311"/>
                </a:cubicBezTo>
                <a:cubicBezTo>
                  <a:pt x="5023" y="417"/>
                  <a:pt x="5117" y="525"/>
                  <a:pt x="5215" y="623"/>
                </a:cubicBezTo>
                <a:cubicBezTo>
                  <a:pt x="5274" y="682"/>
                  <a:pt x="5329" y="742"/>
                  <a:pt x="5386" y="802"/>
                </a:cubicBezTo>
                <a:cubicBezTo>
                  <a:pt x="5440" y="859"/>
                  <a:pt x="5501" y="912"/>
                  <a:pt x="5557" y="968"/>
                </a:cubicBezTo>
                <a:cubicBezTo>
                  <a:pt x="5627" y="1037"/>
                  <a:pt x="5704" y="1101"/>
                  <a:pt x="5778" y="1165"/>
                </a:cubicBezTo>
                <a:cubicBezTo>
                  <a:pt x="5796" y="1180"/>
                  <a:pt x="5813" y="1197"/>
                  <a:pt x="5830" y="1212"/>
                </a:cubicBezTo>
                <a:cubicBezTo>
                  <a:pt x="5841" y="1222"/>
                  <a:pt x="5854" y="1229"/>
                  <a:pt x="5864" y="1241"/>
                </a:cubicBezTo>
                <a:cubicBezTo>
                  <a:pt x="5870" y="1248"/>
                  <a:pt x="5883" y="1258"/>
                  <a:pt x="5885" y="1267"/>
                </a:cubicBezTo>
                <a:cubicBezTo>
                  <a:pt x="5888" y="1281"/>
                  <a:pt x="5875" y="1290"/>
                  <a:pt x="5877" y="1301"/>
                </a:cubicBezTo>
                <a:cubicBezTo>
                  <a:pt x="5878" y="1308"/>
                  <a:pt x="5881" y="1320"/>
                  <a:pt x="5881" y="1322"/>
                </a:cubicBezTo>
                <a:cubicBezTo>
                  <a:pt x="5889" y="1352"/>
                  <a:pt x="5911" y="1372"/>
                  <a:pt x="5924" y="1399"/>
                </a:cubicBezTo>
                <a:cubicBezTo>
                  <a:pt x="5929" y="1409"/>
                  <a:pt x="5931" y="1420"/>
                  <a:pt x="5936" y="1429"/>
                </a:cubicBezTo>
                <a:cubicBezTo>
                  <a:pt x="5939" y="1434"/>
                  <a:pt x="5943" y="1441"/>
                  <a:pt x="5945" y="1446"/>
                </a:cubicBezTo>
                <a:cubicBezTo>
                  <a:pt x="5947" y="1452"/>
                  <a:pt x="5951" y="1458"/>
                  <a:pt x="5953" y="1463"/>
                </a:cubicBezTo>
                <a:cubicBezTo>
                  <a:pt x="5953" y="1465"/>
                  <a:pt x="5953" y="1466"/>
                  <a:pt x="5953" y="1468"/>
                </a:cubicBezTo>
                <a:cubicBezTo>
                  <a:pt x="5943" y="1477"/>
                  <a:pt x="5934" y="1464"/>
                  <a:pt x="5924" y="1485"/>
                </a:cubicBezTo>
                <a:cubicBezTo>
                  <a:pt x="5916" y="1500"/>
                  <a:pt x="5912" y="1514"/>
                  <a:pt x="5906" y="1527"/>
                </a:cubicBezTo>
              </a:path>
              <a:path w="14067" h="2057">
                <a:moveTo>
                  <a:pt x="6047" y="635"/>
                </a:moveTo>
                <a:cubicBezTo>
                  <a:pt x="6058" y="636"/>
                  <a:pt x="6065" y="640"/>
                  <a:pt x="6077" y="640"/>
                </a:cubicBezTo>
                <a:cubicBezTo>
                  <a:pt x="6339" y="651"/>
                  <a:pt x="6600" y="649"/>
                  <a:pt x="6862" y="670"/>
                </a:cubicBezTo>
                <a:cubicBezTo>
                  <a:pt x="7350" y="709"/>
                  <a:pt x="7833" y="788"/>
                  <a:pt x="8318" y="849"/>
                </a:cubicBezTo>
                <a:cubicBezTo>
                  <a:pt x="8485" y="870"/>
                  <a:pt x="8655" y="888"/>
                  <a:pt x="8821" y="913"/>
                </a:cubicBezTo>
                <a:cubicBezTo>
                  <a:pt x="8887" y="923"/>
                  <a:pt x="8982" y="931"/>
                  <a:pt x="9043" y="960"/>
                </a:cubicBezTo>
                <a:cubicBezTo>
                  <a:pt x="9047" y="967"/>
                  <a:pt x="9052" y="974"/>
                  <a:pt x="9056" y="981"/>
                </a:cubicBezTo>
              </a:path>
              <a:path w="14067" h="2057">
                <a:moveTo>
                  <a:pt x="5988" y="601"/>
                </a:moveTo>
                <a:cubicBezTo>
                  <a:pt x="5992" y="606"/>
                  <a:pt x="5988" y="597"/>
                  <a:pt x="5988" y="601"/>
                </a:cubicBezTo>
                <a:cubicBezTo>
                  <a:pt x="5988" y="607"/>
                  <a:pt x="5986" y="605"/>
                  <a:pt x="5988" y="610"/>
                </a:cubicBezTo>
                <a:cubicBezTo>
                  <a:pt x="5993" y="621"/>
                  <a:pt x="6003" y="632"/>
                  <a:pt x="6009" y="644"/>
                </a:cubicBezTo>
                <a:cubicBezTo>
                  <a:pt x="6024" y="675"/>
                  <a:pt x="6038" y="709"/>
                  <a:pt x="6056" y="738"/>
                </a:cubicBezTo>
                <a:cubicBezTo>
                  <a:pt x="6077" y="772"/>
                  <a:pt x="6100" y="805"/>
                  <a:pt x="6120" y="840"/>
                </a:cubicBezTo>
                <a:cubicBezTo>
                  <a:pt x="6129" y="856"/>
                  <a:pt x="6138" y="869"/>
                  <a:pt x="6150" y="883"/>
                </a:cubicBezTo>
                <a:cubicBezTo>
                  <a:pt x="6146" y="876"/>
                  <a:pt x="6149" y="881"/>
                  <a:pt x="6145" y="874"/>
                </a:cubicBezTo>
                <a:cubicBezTo>
                  <a:pt x="6126" y="845"/>
                  <a:pt x="6106" y="817"/>
                  <a:pt x="6086" y="789"/>
                </a:cubicBezTo>
                <a:cubicBezTo>
                  <a:pt x="6064" y="757"/>
                  <a:pt x="6042" y="724"/>
                  <a:pt x="6017" y="695"/>
                </a:cubicBezTo>
                <a:cubicBezTo>
                  <a:pt x="5998" y="673"/>
                  <a:pt x="5986" y="658"/>
                  <a:pt x="5975" y="631"/>
                </a:cubicBezTo>
                <a:cubicBezTo>
                  <a:pt x="5966" y="609"/>
                  <a:pt x="5965" y="604"/>
                  <a:pt x="5975" y="584"/>
                </a:cubicBezTo>
                <a:cubicBezTo>
                  <a:pt x="5989" y="556"/>
                  <a:pt x="6038" y="529"/>
                  <a:pt x="6064" y="516"/>
                </a:cubicBezTo>
                <a:cubicBezTo>
                  <a:pt x="6136" y="479"/>
                  <a:pt x="6210" y="436"/>
                  <a:pt x="6286" y="409"/>
                </a:cubicBezTo>
                <a:cubicBezTo>
                  <a:pt x="6360" y="382"/>
                  <a:pt x="6427" y="363"/>
                  <a:pt x="6504" y="354"/>
                </a:cubicBezTo>
                <a:cubicBezTo>
                  <a:pt x="6511" y="353"/>
                  <a:pt x="6518" y="351"/>
                  <a:pt x="6525" y="350"/>
                </a:cubicBezTo>
              </a:path>
              <a:path w="14067" h="2057">
                <a:moveTo>
                  <a:pt x="9615" y="443"/>
                </a:moveTo>
                <a:cubicBezTo>
                  <a:pt x="9592" y="553"/>
                  <a:pt x="9568" y="662"/>
                  <a:pt x="9547" y="772"/>
                </a:cubicBezTo>
                <a:cubicBezTo>
                  <a:pt x="9504" y="995"/>
                  <a:pt x="9458" y="1223"/>
                  <a:pt x="9440" y="1450"/>
                </a:cubicBezTo>
                <a:cubicBezTo>
                  <a:pt x="9439" y="1461"/>
                  <a:pt x="9417" y="1635"/>
                  <a:pt x="9431" y="1643"/>
                </a:cubicBezTo>
                <a:cubicBezTo>
                  <a:pt x="9456" y="1649"/>
                  <a:pt x="9461" y="1642"/>
                  <a:pt x="9444" y="1604"/>
                </a:cubicBezTo>
              </a:path>
              <a:path w="14067" h="2057">
                <a:moveTo>
                  <a:pt x="9103" y="358"/>
                </a:moveTo>
                <a:cubicBezTo>
                  <a:pt x="9109" y="372"/>
                  <a:pt x="9095" y="362"/>
                  <a:pt x="9103" y="379"/>
                </a:cubicBezTo>
                <a:cubicBezTo>
                  <a:pt x="9136" y="445"/>
                  <a:pt x="9217" y="496"/>
                  <a:pt x="9278" y="529"/>
                </a:cubicBezTo>
                <a:cubicBezTo>
                  <a:pt x="9370" y="578"/>
                  <a:pt x="9481" y="607"/>
                  <a:pt x="9585" y="606"/>
                </a:cubicBezTo>
                <a:cubicBezTo>
                  <a:pt x="9704" y="605"/>
                  <a:pt x="9823" y="572"/>
                  <a:pt x="9926" y="512"/>
                </a:cubicBezTo>
                <a:cubicBezTo>
                  <a:pt x="10032" y="450"/>
                  <a:pt x="10135" y="350"/>
                  <a:pt x="10174" y="230"/>
                </a:cubicBezTo>
                <a:cubicBezTo>
                  <a:pt x="10183" y="204"/>
                  <a:pt x="10181" y="175"/>
                  <a:pt x="10187" y="149"/>
                </a:cubicBezTo>
                <a:cubicBezTo>
                  <a:pt x="10168" y="194"/>
                  <a:pt x="10156" y="238"/>
                  <a:pt x="10140" y="285"/>
                </a:cubicBezTo>
                <a:cubicBezTo>
                  <a:pt x="10096" y="415"/>
                  <a:pt x="10058" y="546"/>
                  <a:pt x="10020" y="678"/>
                </a:cubicBezTo>
                <a:cubicBezTo>
                  <a:pt x="9974" y="840"/>
                  <a:pt x="9926" y="1003"/>
                  <a:pt x="9897" y="1169"/>
                </a:cubicBezTo>
                <a:cubicBezTo>
                  <a:pt x="9889" y="1214"/>
                  <a:pt x="9887" y="1256"/>
                  <a:pt x="9884" y="1301"/>
                </a:cubicBezTo>
                <a:cubicBezTo>
                  <a:pt x="9902" y="1265"/>
                  <a:pt x="9919" y="1225"/>
                  <a:pt x="9935" y="1186"/>
                </a:cubicBezTo>
                <a:cubicBezTo>
                  <a:pt x="9976" y="1085"/>
                  <a:pt x="10008" y="934"/>
                  <a:pt x="10084" y="853"/>
                </a:cubicBezTo>
                <a:cubicBezTo>
                  <a:pt x="10093" y="845"/>
                  <a:pt x="10097" y="842"/>
                  <a:pt x="10106" y="849"/>
                </a:cubicBezTo>
                <a:cubicBezTo>
                  <a:pt x="10124" y="892"/>
                  <a:pt x="10138" y="936"/>
                  <a:pt x="10153" y="981"/>
                </a:cubicBezTo>
                <a:cubicBezTo>
                  <a:pt x="10170" y="1034"/>
                  <a:pt x="10202" y="1198"/>
                  <a:pt x="10268" y="1216"/>
                </a:cubicBezTo>
                <a:cubicBezTo>
                  <a:pt x="10318" y="1230"/>
                  <a:pt x="10325" y="1187"/>
                  <a:pt x="10345" y="1156"/>
                </a:cubicBezTo>
              </a:path>
              <a:path w="14067" h="2057">
                <a:moveTo>
                  <a:pt x="10268" y="943"/>
                </a:moveTo>
                <a:cubicBezTo>
                  <a:pt x="10273" y="944"/>
                  <a:pt x="10317" y="954"/>
                  <a:pt x="10332" y="960"/>
                </a:cubicBezTo>
                <a:cubicBezTo>
                  <a:pt x="10376" y="977"/>
                  <a:pt x="10426" y="994"/>
                  <a:pt x="10473" y="998"/>
                </a:cubicBezTo>
                <a:cubicBezTo>
                  <a:pt x="10540" y="1004"/>
                  <a:pt x="10587" y="982"/>
                  <a:pt x="10635" y="938"/>
                </a:cubicBezTo>
                <a:cubicBezTo>
                  <a:pt x="10695" y="884"/>
                  <a:pt x="10727" y="822"/>
                  <a:pt x="10750" y="746"/>
                </a:cubicBezTo>
                <a:cubicBezTo>
                  <a:pt x="10766" y="691"/>
                  <a:pt x="10776" y="628"/>
                  <a:pt x="10763" y="571"/>
                </a:cubicBezTo>
                <a:cubicBezTo>
                  <a:pt x="10755" y="548"/>
                  <a:pt x="10753" y="540"/>
                  <a:pt x="10737" y="533"/>
                </a:cubicBezTo>
                <a:cubicBezTo>
                  <a:pt x="10687" y="558"/>
                  <a:pt x="10672" y="574"/>
                  <a:pt x="10639" y="631"/>
                </a:cubicBezTo>
                <a:cubicBezTo>
                  <a:pt x="10588" y="718"/>
                  <a:pt x="10546" y="813"/>
                  <a:pt x="10515" y="909"/>
                </a:cubicBezTo>
                <a:cubicBezTo>
                  <a:pt x="10488" y="993"/>
                  <a:pt x="10468" y="1085"/>
                  <a:pt x="10477" y="1173"/>
                </a:cubicBezTo>
                <a:cubicBezTo>
                  <a:pt x="10482" y="1218"/>
                  <a:pt x="10486" y="1223"/>
                  <a:pt x="10520" y="1237"/>
                </a:cubicBezTo>
                <a:cubicBezTo>
                  <a:pt x="10567" y="1208"/>
                  <a:pt x="10571" y="1197"/>
                  <a:pt x="10601" y="1148"/>
                </a:cubicBezTo>
              </a:path>
              <a:path w="14067" h="2057">
                <a:moveTo>
                  <a:pt x="11151" y="593"/>
                </a:moveTo>
                <a:cubicBezTo>
                  <a:pt x="11149" y="590"/>
                  <a:pt x="11151" y="571"/>
                  <a:pt x="11121" y="576"/>
                </a:cubicBezTo>
                <a:cubicBezTo>
                  <a:pt x="11087" y="581"/>
                  <a:pt x="11046" y="616"/>
                  <a:pt x="11019" y="635"/>
                </a:cubicBezTo>
                <a:cubicBezTo>
                  <a:pt x="10967" y="672"/>
                  <a:pt x="10923" y="718"/>
                  <a:pt x="10878" y="763"/>
                </a:cubicBezTo>
                <a:cubicBezTo>
                  <a:pt x="10859" y="782"/>
                  <a:pt x="10807" y="824"/>
                  <a:pt x="10805" y="853"/>
                </a:cubicBezTo>
                <a:cubicBezTo>
                  <a:pt x="10803" y="877"/>
                  <a:pt x="10814" y="873"/>
                  <a:pt x="10835" y="887"/>
                </a:cubicBezTo>
                <a:cubicBezTo>
                  <a:pt x="10862" y="905"/>
                  <a:pt x="10895" y="917"/>
                  <a:pt x="10925" y="930"/>
                </a:cubicBezTo>
                <a:cubicBezTo>
                  <a:pt x="10944" y="938"/>
                  <a:pt x="10971" y="948"/>
                  <a:pt x="10980" y="968"/>
                </a:cubicBezTo>
                <a:cubicBezTo>
                  <a:pt x="10991" y="993"/>
                  <a:pt x="10943" y="1026"/>
                  <a:pt x="10929" y="1037"/>
                </a:cubicBezTo>
                <a:cubicBezTo>
                  <a:pt x="10888" y="1070"/>
                  <a:pt x="10835" y="1094"/>
                  <a:pt x="10788" y="1118"/>
                </a:cubicBezTo>
                <a:cubicBezTo>
                  <a:pt x="10756" y="1135"/>
                  <a:pt x="10715" y="1153"/>
                  <a:pt x="10677" y="1148"/>
                </a:cubicBezTo>
                <a:cubicBezTo>
                  <a:pt x="10649" y="1145"/>
                  <a:pt x="10659" y="1131"/>
                  <a:pt x="10648" y="1109"/>
                </a:cubicBezTo>
              </a:path>
              <a:path w="14067" h="2057">
                <a:moveTo>
                  <a:pt x="11044" y="947"/>
                </a:moveTo>
                <a:cubicBezTo>
                  <a:pt x="11057" y="951"/>
                  <a:pt x="11069" y="954"/>
                  <a:pt x="11083" y="955"/>
                </a:cubicBezTo>
                <a:cubicBezTo>
                  <a:pt x="11109" y="958"/>
                  <a:pt x="11149" y="949"/>
                  <a:pt x="11172" y="938"/>
                </a:cubicBezTo>
                <a:cubicBezTo>
                  <a:pt x="11229" y="911"/>
                  <a:pt x="11288" y="878"/>
                  <a:pt x="11335" y="836"/>
                </a:cubicBezTo>
                <a:cubicBezTo>
                  <a:pt x="11373" y="801"/>
                  <a:pt x="11404" y="756"/>
                  <a:pt x="11424" y="708"/>
                </a:cubicBezTo>
                <a:cubicBezTo>
                  <a:pt x="11435" y="681"/>
                  <a:pt x="11439" y="652"/>
                  <a:pt x="11437" y="623"/>
                </a:cubicBezTo>
                <a:cubicBezTo>
                  <a:pt x="11433" y="610"/>
                  <a:pt x="11432" y="606"/>
                  <a:pt x="11424" y="601"/>
                </a:cubicBezTo>
                <a:cubicBezTo>
                  <a:pt x="11402" y="604"/>
                  <a:pt x="11391" y="607"/>
                  <a:pt x="11369" y="623"/>
                </a:cubicBezTo>
                <a:cubicBezTo>
                  <a:pt x="11330" y="651"/>
                  <a:pt x="11299" y="701"/>
                  <a:pt x="11275" y="742"/>
                </a:cubicBezTo>
                <a:cubicBezTo>
                  <a:pt x="11246" y="791"/>
                  <a:pt x="11221" y="856"/>
                  <a:pt x="11215" y="913"/>
                </a:cubicBezTo>
                <a:cubicBezTo>
                  <a:pt x="11209" y="967"/>
                  <a:pt x="11224" y="998"/>
                  <a:pt x="11262" y="1028"/>
                </a:cubicBezTo>
                <a:cubicBezTo>
                  <a:pt x="11309" y="1065"/>
                  <a:pt x="11316" y="1050"/>
                  <a:pt x="11360" y="1032"/>
                </a:cubicBezTo>
                <a:cubicBezTo>
                  <a:pt x="11371" y="1029"/>
                  <a:pt x="11383" y="1027"/>
                  <a:pt x="11394" y="1024"/>
                </a:cubicBezTo>
              </a:path>
              <a:path w="14067" h="2057">
                <a:moveTo>
                  <a:pt x="12282" y="68"/>
                </a:moveTo>
                <a:cubicBezTo>
                  <a:pt x="12284" y="118"/>
                  <a:pt x="12288" y="167"/>
                  <a:pt x="12286" y="217"/>
                </a:cubicBezTo>
                <a:cubicBezTo>
                  <a:pt x="12280" y="364"/>
                  <a:pt x="12266" y="511"/>
                  <a:pt x="12252" y="657"/>
                </a:cubicBezTo>
                <a:cubicBezTo>
                  <a:pt x="12245" y="733"/>
                  <a:pt x="12242" y="811"/>
                  <a:pt x="12239" y="887"/>
                </a:cubicBezTo>
                <a:cubicBezTo>
                  <a:pt x="12239" y="892"/>
                  <a:pt x="12246" y="974"/>
                  <a:pt x="12248" y="973"/>
                </a:cubicBezTo>
                <a:cubicBezTo>
                  <a:pt x="12262" y="973"/>
                  <a:pt x="12265" y="967"/>
                  <a:pt x="12256" y="947"/>
                </a:cubicBezTo>
              </a:path>
              <a:path w="14067" h="2057">
                <a:moveTo>
                  <a:pt x="12534" y="499"/>
                </a:moveTo>
                <a:cubicBezTo>
                  <a:pt x="12516" y="563"/>
                  <a:pt x="12507" y="624"/>
                  <a:pt x="12504" y="691"/>
                </a:cubicBezTo>
                <a:cubicBezTo>
                  <a:pt x="12503" y="715"/>
                  <a:pt x="12501" y="739"/>
                  <a:pt x="12500" y="763"/>
                </a:cubicBezTo>
                <a:cubicBezTo>
                  <a:pt x="12500" y="723"/>
                  <a:pt x="12505" y="694"/>
                  <a:pt x="12504" y="652"/>
                </a:cubicBezTo>
              </a:path>
              <a:path w="14067" h="2057">
                <a:moveTo>
                  <a:pt x="12594" y="0"/>
                </a:moveTo>
                <a:cubicBezTo>
                  <a:pt x="12598" y="20"/>
                  <a:pt x="12597" y="45"/>
                  <a:pt x="12606" y="64"/>
                </a:cubicBezTo>
                <a:cubicBezTo>
                  <a:pt x="12621" y="96"/>
                  <a:pt x="12631" y="129"/>
                  <a:pt x="12645" y="162"/>
                </a:cubicBezTo>
                <a:cubicBezTo>
                  <a:pt x="12654" y="183"/>
                  <a:pt x="12659" y="205"/>
                  <a:pt x="12666" y="226"/>
                </a:cubicBezTo>
                <a:cubicBezTo>
                  <a:pt x="12673" y="247"/>
                  <a:pt x="12664" y="248"/>
                  <a:pt x="12679" y="234"/>
                </a:cubicBezTo>
              </a:path>
              <a:path w="14067" h="2057">
                <a:moveTo>
                  <a:pt x="12768" y="362"/>
                </a:moveTo>
                <a:cubicBezTo>
                  <a:pt x="12764" y="440"/>
                  <a:pt x="12761" y="516"/>
                  <a:pt x="12751" y="593"/>
                </a:cubicBezTo>
                <a:cubicBezTo>
                  <a:pt x="12744" y="644"/>
                  <a:pt x="12728" y="695"/>
                  <a:pt x="12722" y="746"/>
                </a:cubicBezTo>
                <a:cubicBezTo>
                  <a:pt x="12719" y="773"/>
                  <a:pt x="12723" y="783"/>
                  <a:pt x="12713" y="759"/>
                </a:cubicBezTo>
                <a:cubicBezTo>
                  <a:pt x="12741" y="707"/>
                  <a:pt x="12766" y="653"/>
                  <a:pt x="12786" y="597"/>
                </a:cubicBezTo>
                <a:cubicBezTo>
                  <a:pt x="12818" y="509"/>
                  <a:pt x="12856" y="423"/>
                  <a:pt x="12901" y="341"/>
                </a:cubicBezTo>
                <a:cubicBezTo>
                  <a:pt x="12926" y="295"/>
                  <a:pt x="12951" y="251"/>
                  <a:pt x="12995" y="226"/>
                </a:cubicBezTo>
                <a:cubicBezTo>
                  <a:pt x="13036" y="261"/>
                  <a:pt x="13044" y="311"/>
                  <a:pt x="13050" y="367"/>
                </a:cubicBezTo>
                <a:cubicBezTo>
                  <a:pt x="13059" y="457"/>
                  <a:pt x="13061" y="545"/>
                  <a:pt x="13063" y="635"/>
                </a:cubicBezTo>
                <a:cubicBezTo>
                  <a:pt x="13063" y="637"/>
                  <a:pt x="13066" y="774"/>
                  <a:pt x="13071" y="772"/>
                </a:cubicBezTo>
                <a:cubicBezTo>
                  <a:pt x="13074" y="771"/>
                  <a:pt x="13111" y="709"/>
                  <a:pt x="13118" y="699"/>
                </a:cubicBezTo>
              </a:path>
              <a:path w="14067" h="2057">
                <a:moveTo>
                  <a:pt x="13242" y="606"/>
                </a:moveTo>
                <a:cubicBezTo>
                  <a:pt x="13266" y="611"/>
                  <a:pt x="13286" y="610"/>
                  <a:pt x="13310" y="606"/>
                </a:cubicBezTo>
                <a:cubicBezTo>
                  <a:pt x="13343" y="600"/>
                  <a:pt x="13381" y="581"/>
                  <a:pt x="13409" y="563"/>
                </a:cubicBezTo>
                <a:cubicBezTo>
                  <a:pt x="13447" y="538"/>
                  <a:pt x="13474" y="505"/>
                  <a:pt x="13494" y="465"/>
                </a:cubicBezTo>
                <a:cubicBezTo>
                  <a:pt x="13516" y="421"/>
                  <a:pt x="13529" y="369"/>
                  <a:pt x="13532" y="320"/>
                </a:cubicBezTo>
                <a:cubicBezTo>
                  <a:pt x="13534" y="289"/>
                  <a:pt x="13536" y="235"/>
                  <a:pt x="13515" y="209"/>
                </a:cubicBezTo>
                <a:cubicBezTo>
                  <a:pt x="13511" y="206"/>
                  <a:pt x="13506" y="203"/>
                  <a:pt x="13502" y="200"/>
                </a:cubicBezTo>
                <a:cubicBezTo>
                  <a:pt x="13461" y="205"/>
                  <a:pt x="13450" y="232"/>
                  <a:pt x="13430" y="268"/>
                </a:cubicBezTo>
                <a:cubicBezTo>
                  <a:pt x="13396" y="330"/>
                  <a:pt x="13367" y="412"/>
                  <a:pt x="13353" y="482"/>
                </a:cubicBezTo>
                <a:cubicBezTo>
                  <a:pt x="13340" y="546"/>
                  <a:pt x="13330" y="625"/>
                  <a:pt x="13357" y="687"/>
                </a:cubicBezTo>
                <a:cubicBezTo>
                  <a:pt x="13383" y="747"/>
                  <a:pt x="13431" y="717"/>
                  <a:pt x="13464" y="691"/>
                </a:cubicBezTo>
              </a:path>
              <a:path w="14067" h="2057">
                <a:moveTo>
                  <a:pt x="13976" y="55"/>
                </a:moveTo>
                <a:cubicBezTo>
                  <a:pt x="13955" y="78"/>
                  <a:pt x="13925" y="81"/>
                  <a:pt x="13899" y="106"/>
                </a:cubicBezTo>
                <a:cubicBezTo>
                  <a:pt x="13860" y="143"/>
                  <a:pt x="13824" y="186"/>
                  <a:pt x="13793" y="230"/>
                </a:cubicBezTo>
                <a:cubicBezTo>
                  <a:pt x="13771" y="261"/>
                  <a:pt x="13743" y="302"/>
                  <a:pt x="13737" y="341"/>
                </a:cubicBezTo>
                <a:cubicBezTo>
                  <a:pt x="13733" y="371"/>
                  <a:pt x="13746" y="380"/>
                  <a:pt x="13767" y="396"/>
                </a:cubicBezTo>
                <a:cubicBezTo>
                  <a:pt x="13798" y="419"/>
                  <a:pt x="13851" y="431"/>
                  <a:pt x="13887" y="443"/>
                </a:cubicBezTo>
                <a:cubicBezTo>
                  <a:pt x="13942" y="461"/>
                  <a:pt x="13983" y="477"/>
                  <a:pt x="14027" y="516"/>
                </a:cubicBezTo>
                <a:cubicBezTo>
                  <a:pt x="14053" y="539"/>
                  <a:pt x="14082" y="568"/>
                  <a:pt x="14062" y="606"/>
                </a:cubicBezTo>
                <a:cubicBezTo>
                  <a:pt x="14037" y="654"/>
                  <a:pt x="13973" y="682"/>
                  <a:pt x="13925" y="699"/>
                </a:cubicBezTo>
                <a:cubicBezTo>
                  <a:pt x="13860" y="721"/>
                  <a:pt x="13800" y="718"/>
                  <a:pt x="13733" y="72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7" name="Freeform 16"/>
          <p:cNvSpPr/>
          <p:nvPr/>
        </p:nvSpPr>
        <p:spPr>
          <a:xfrm>
            <a:off x="5884920" y="3546360"/>
            <a:ext cx="925560" cy="424080"/>
          </a:xfrm>
          <a:custGeom>
            <a:avLst/>
            <a:gdLst/>
            <a:ahLst/>
            <a:rect l="l" t="t" r="r" b="b"/>
            <a:pathLst>
              <a:path w="2570" h="1175">
                <a:moveTo>
                  <a:pt x="25" y="550"/>
                </a:moveTo>
                <a:cubicBezTo>
                  <a:pt x="30" y="563"/>
                  <a:pt x="38" y="562"/>
                  <a:pt x="38" y="597"/>
                </a:cubicBezTo>
                <a:cubicBezTo>
                  <a:pt x="38" y="677"/>
                  <a:pt x="29" y="756"/>
                  <a:pt x="25" y="836"/>
                </a:cubicBezTo>
                <a:cubicBezTo>
                  <a:pt x="21" y="925"/>
                  <a:pt x="6" y="1012"/>
                  <a:pt x="4" y="1101"/>
                </a:cubicBezTo>
                <a:cubicBezTo>
                  <a:pt x="3" y="1126"/>
                  <a:pt x="2" y="1149"/>
                  <a:pt x="0" y="1174"/>
                </a:cubicBezTo>
                <a:cubicBezTo>
                  <a:pt x="3" y="1153"/>
                  <a:pt x="13" y="1110"/>
                  <a:pt x="17" y="1084"/>
                </a:cubicBezTo>
                <a:cubicBezTo>
                  <a:pt x="40" y="948"/>
                  <a:pt x="65" y="814"/>
                  <a:pt x="94" y="679"/>
                </a:cubicBezTo>
                <a:cubicBezTo>
                  <a:pt x="117" y="571"/>
                  <a:pt x="143" y="468"/>
                  <a:pt x="187" y="367"/>
                </a:cubicBezTo>
                <a:cubicBezTo>
                  <a:pt x="203" y="332"/>
                  <a:pt x="237" y="254"/>
                  <a:pt x="290" y="273"/>
                </a:cubicBezTo>
                <a:cubicBezTo>
                  <a:pt x="344" y="293"/>
                  <a:pt x="382" y="383"/>
                  <a:pt x="414" y="427"/>
                </a:cubicBezTo>
              </a:path>
              <a:path w="2570" h="1175">
                <a:moveTo>
                  <a:pt x="401" y="772"/>
                </a:moveTo>
                <a:cubicBezTo>
                  <a:pt x="427" y="774"/>
                  <a:pt x="454" y="776"/>
                  <a:pt x="486" y="764"/>
                </a:cubicBezTo>
                <a:cubicBezTo>
                  <a:pt x="531" y="747"/>
                  <a:pt x="574" y="719"/>
                  <a:pt x="610" y="687"/>
                </a:cubicBezTo>
                <a:cubicBezTo>
                  <a:pt x="642" y="659"/>
                  <a:pt x="663" y="624"/>
                  <a:pt x="687" y="589"/>
                </a:cubicBezTo>
                <a:cubicBezTo>
                  <a:pt x="706" y="561"/>
                  <a:pt x="711" y="537"/>
                  <a:pt x="712" y="504"/>
                </a:cubicBezTo>
                <a:cubicBezTo>
                  <a:pt x="712" y="483"/>
                  <a:pt x="697" y="459"/>
                  <a:pt x="678" y="448"/>
                </a:cubicBezTo>
                <a:cubicBezTo>
                  <a:pt x="649" y="431"/>
                  <a:pt x="630" y="437"/>
                  <a:pt x="601" y="444"/>
                </a:cubicBezTo>
                <a:cubicBezTo>
                  <a:pt x="563" y="453"/>
                  <a:pt x="527" y="475"/>
                  <a:pt x="503" y="508"/>
                </a:cubicBezTo>
                <a:cubicBezTo>
                  <a:pt x="460" y="567"/>
                  <a:pt x="431" y="634"/>
                  <a:pt x="409" y="704"/>
                </a:cubicBezTo>
                <a:cubicBezTo>
                  <a:pt x="385" y="782"/>
                  <a:pt x="370" y="878"/>
                  <a:pt x="379" y="960"/>
                </a:cubicBezTo>
                <a:cubicBezTo>
                  <a:pt x="385" y="1012"/>
                  <a:pt x="402" y="1094"/>
                  <a:pt x="448" y="1127"/>
                </a:cubicBezTo>
                <a:cubicBezTo>
                  <a:pt x="504" y="1167"/>
                  <a:pt x="538" y="1117"/>
                  <a:pt x="563" y="1080"/>
                </a:cubicBezTo>
              </a:path>
              <a:path w="2570" h="1175">
                <a:moveTo>
                  <a:pt x="1045" y="580"/>
                </a:moveTo>
                <a:cubicBezTo>
                  <a:pt x="1035" y="618"/>
                  <a:pt x="1032" y="648"/>
                  <a:pt x="1032" y="687"/>
                </a:cubicBezTo>
                <a:cubicBezTo>
                  <a:pt x="1032" y="688"/>
                  <a:pt x="1032" y="690"/>
                  <a:pt x="1032" y="691"/>
                </a:cubicBezTo>
                <a:cubicBezTo>
                  <a:pt x="1052" y="661"/>
                  <a:pt x="1053" y="628"/>
                  <a:pt x="1054" y="589"/>
                </a:cubicBezTo>
                <a:cubicBezTo>
                  <a:pt x="1056" y="505"/>
                  <a:pt x="1053" y="423"/>
                  <a:pt x="1045" y="341"/>
                </a:cubicBezTo>
                <a:cubicBezTo>
                  <a:pt x="1043" y="319"/>
                  <a:pt x="1042" y="274"/>
                  <a:pt x="1020" y="260"/>
                </a:cubicBezTo>
                <a:cubicBezTo>
                  <a:pt x="1017" y="260"/>
                  <a:pt x="1014" y="260"/>
                  <a:pt x="1011" y="260"/>
                </a:cubicBezTo>
                <a:cubicBezTo>
                  <a:pt x="983" y="282"/>
                  <a:pt x="971" y="301"/>
                  <a:pt x="956" y="333"/>
                </a:cubicBezTo>
                <a:cubicBezTo>
                  <a:pt x="928" y="391"/>
                  <a:pt x="911" y="449"/>
                  <a:pt x="896" y="512"/>
                </a:cubicBezTo>
                <a:cubicBezTo>
                  <a:pt x="879" y="581"/>
                  <a:pt x="862" y="659"/>
                  <a:pt x="866" y="730"/>
                </a:cubicBezTo>
                <a:cubicBezTo>
                  <a:pt x="868" y="770"/>
                  <a:pt x="875" y="847"/>
                  <a:pt x="904" y="879"/>
                </a:cubicBezTo>
                <a:cubicBezTo>
                  <a:pt x="935" y="914"/>
                  <a:pt x="973" y="904"/>
                  <a:pt x="1011" y="896"/>
                </a:cubicBezTo>
                <a:cubicBezTo>
                  <a:pt x="1038" y="891"/>
                  <a:pt x="1049" y="884"/>
                  <a:pt x="1054" y="858"/>
                </a:cubicBezTo>
              </a:path>
              <a:path w="2570" h="1175">
                <a:moveTo>
                  <a:pt x="1246" y="640"/>
                </a:moveTo>
                <a:cubicBezTo>
                  <a:pt x="1242" y="684"/>
                  <a:pt x="1245" y="719"/>
                  <a:pt x="1276" y="755"/>
                </a:cubicBezTo>
                <a:cubicBezTo>
                  <a:pt x="1299" y="782"/>
                  <a:pt x="1327" y="796"/>
                  <a:pt x="1361" y="781"/>
                </a:cubicBezTo>
                <a:cubicBezTo>
                  <a:pt x="1398" y="765"/>
                  <a:pt x="1430" y="712"/>
                  <a:pt x="1451" y="679"/>
                </a:cubicBezTo>
                <a:cubicBezTo>
                  <a:pt x="1484" y="626"/>
                  <a:pt x="1514" y="571"/>
                  <a:pt x="1544" y="516"/>
                </a:cubicBezTo>
                <a:cubicBezTo>
                  <a:pt x="1567" y="475"/>
                  <a:pt x="1591" y="427"/>
                  <a:pt x="1600" y="380"/>
                </a:cubicBezTo>
                <a:cubicBezTo>
                  <a:pt x="1604" y="360"/>
                  <a:pt x="1598" y="354"/>
                  <a:pt x="1591" y="337"/>
                </a:cubicBezTo>
                <a:cubicBezTo>
                  <a:pt x="1563" y="336"/>
                  <a:pt x="1558" y="337"/>
                  <a:pt x="1532" y="358"/>
                </a:cubicBezTo>
                <a:cubicBezTo>
                  <a:pt x="1490" y="392"/>
                  <a:pt x="1455" y="437"/>
                  <a:pt x="1425" y="482"/>
                </a:cubicBezTo>
                <a:cubicBezTo>
                  <a:pt x="1382" y="546"/>
                  <a:pt x="1362" y="610"/>
                  <a:pt x="1344" y="683"/>
                </a:cubicBezTo>
                <a:cubicBezTo>
                  <a:pt x="1326" y="752"/>
                  <a:pt x="1313" y="832"/>
                  <a:pt x="1357" y="896"/>
                </a:cubicBezTo>
                <a:cubicBezTo>
                  <a:pt x="1380" y="929"/>
                  <a:pt x="1421" y="944"/>
                  <a:pt x="1459" y="935"/>
                </a:cubicBezTo>
                <a:cubicBezTo>
                  <a:pt x="1494" y="926"/>
                  <a:pt x="1529" y="896"/>
                  <a:pt x="1562" y="879"/>
                </a:cubicBezTo>
              </a:path>
              <a:path w="2570" h="1175">
                <a:moveTo>
                  <a:pt x="2001" y="354"/>
                </a:moveTo>
                <a:cubicBezTo>
                  <a:pt x="1970" y="368"/>
                  <a:pt x="1942" y="384"/>
                  <a:pt x="1911" y="401"/>
                </a:cubicBezTo>
                <a:cubicBezTo>
                  <a:pt x="1866" y="425"/>
                  <a:pt x="1827" y="454"/>
                  <a:pt x="1796" y="495"/>
                </a:cubicBezTo>
                <a:cubicBezTo>
                  <a:pt x="1755" y="548"/>
                  <a:pt x="1721" y="615"/>
                  <a:pt x="1702" y="679"/>
                </a:cubicBezTo>
                <a:cubicBezTo>
                  <a:pt x="1686" y="732"/>
                  <a:pt x="1670" y="797"/>
                  <a:pt x="1677" y="853"/>
                </a:cubicBezTo>
                <a:cubicBezTo>
                  <a:pt x="1684" y="874"/>
                  <a:pt x="1683" y="880"/>
                  <a:pt x="1694" y="888"/>
                </a:cubicBezTo>
                <a:cubicBezTo>
                  <a:pt x="1739" y="896"/>
                  <a:pt x="1773" y="872"/>
                  <a:pt x="1805" y="836"/>
                </a:cubicBezTo>
                <a:cubicBezTo>
                  <a:pt x="1870" y="764"/>
                  <a:pt x="1919" y="673"/>
                  <a:pt x="1958" y="585"/>
                </a:cubicBezTo>
                <a:cubicBezTo>
                  <a:pt x="2042" y="398"/>
                  <a:pt x="2069" y="204"/>
                  <a:pt x="2095" y="4"/>
                </a:cubicBezTo>
                <a:cubicBezTo>
                  <a:pt x="2095" y="3"/>
                  <a:pt x="2095" y="1"/>
                  <a:pt x="2095" y="0"/>
                </a:cubicBezTo>
                <a:cubicBezTo>
                  <a:pt x="2094" y="62"/>
                  <a:pt x="2086" y="121"/>
                  <a:pt x="2082" y="183"/>
                </a:cubicBezTo>
                <a:cubicBezTo>
                  <a:pt x="2072" y="320"/>
                  <a:pt x="2059" y="456"/>
                  <a:pt x="2044" y="593"/>
                </a:cubicBezTo>
                <a:cubicBezTo>
                  <a:pt x="2033" y="697"/>
                  <a:pt x="2025" y="801"/>
                  <a:pt x="2018" y="905"/>
                </a:cubicBezTo>
                <a:cubicBezTo>
                  <a:pt x="2017" y="920"/>
                  <a:pt x="2016" y="1004"/>
                  <a:pt x="2022" y="922"/>
                </a:cubicBezTo>
              </a:path>
              <a:path w="2570" h="1175">
                <a:moveTo>
                  <a:pt x="2210" y="593"/>
                </a:moveTo>
                <a:cubicBezTo>
                  <a:pt x="2224" y="595"/>
                  <a:pt x="2234" y="597"/>
                  <a:pt x="2249" y="597"/>
                </a:cubicBezTo>
                <a:cubicBezTo>
                  <a:pt x="2265" y="597"/>
                  <a:pt x="2285" y="594"/>
                  <a:pt x="2300" y="589"/>
                </a:cubicBezTo>
                <a:cubicBezTo>
                  <a:pt x="2326" y="580"/>
                  <a:pt x="2360" y="546"/>
                  <a:pt x="2377" y="525"/>
                </a:cubicBezTo>
                <a:cubicBezTo>
                  <a:pt x="2407" y="489"/>
                  <a:pt x="2431" y="450"/>
                  <a:pt x="2445" y="405"/>
                </a:cubicBezTo>
                <a:cubicBezTo>
                  <a:pt x="2456" y="369"/>
                  <a:pt x="2458" y="323"/>
                  <a:pt x="2449" y="286"/>
                </a:cubicBezTo>
                <a:cubicBezTo>
                  <a:pt x="2443" y="260"/>
                  <a:pt x="2425" y="242"/>
                  <a:pt x="2406" y="226"/>
                </a:cubicBezTo>
                <a:cubicBezTo>
                  <a:pt x="2379" y="249"/>
                  <a:pt x="2367" y="265"/>
                  <a:pt x="2351" y="303"/>
                </a:cubicBezTo>
                <a:cubicBezTo>
                  <a:pt x="2320" y="378"/>
                  <a:pt x="2313" y="451"/>
                  <a:pt x="2300" y="529"/>
                </a:cubicBezTo>
                <a:cubicBezTo>
                  <a:pt x="2287" y="607"/>
                  <a:pt x="2280" y="675"/>
                  <a:pt x="2313" y="751"/>
                </a:cubicBezTo>
                <a:cubicBezTo>
                  <a:pt x="2335" y="802"/>
                  <a:pt x="2387" y="820"/>
                  <a:pt x="2436" y="789"/>
                </a:cubicBezTo>
                <a:cubicBezTo>
                  <a:pt x="2499" y="749"/>
                  <a:pt x="2528" y="711"/>
                  <a:pt x="2569" y="65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8" name="Freeform 17"/>
          <p:cNvSpPr/>
          <p:nvPr/>
        </p:nvSpPr>
        <p:spPr>
          <a:xfrm>
            <a:off x="7040520" y="3355920"/>
            <a:ext cx="480960" cy="479520"/>
          </a:xfrm>
          <a:custGeom>
            <a:avLst/>
            <a:gdLst/>
            <a:ahLst/>
            <a:rect l="l" t="t" r="r" b="b"/>
            <a:pathLst>
              <a:path w="1336" h="1328">
                <a:moveTo>
                  <a:pt x="72" y="678"/>
                </a:moveTo>
                <a:cubicBezTo>
                  <a:pt x="83" y="732"/>
                  <a:pt x="78" y="778"/>
                  <a:pt x="77" y="836"/>
                </a:cubicBezTo>
                <a:cubicBezTo>
                  <a:pt x="76" y="926"/>
                  <a:pt x="62" y="1016"/>
                  <a:pt x="51" y="1105"/>
                </a:cubicBezTo>
                <a:cubicBezTo>
                  <a:pt x="43" y="1171"/>
                  <a:pt x="28" y="1236"/>
                  <a:pt x="17" y="1301"/>
                </a:cubicBezTo>
                <a:cubicBezTo>
                  <a:pt x="5" y="1368"/>
                  <a:pt x="6" y="1277"/>
                  <a:pt x="8" y="1263"/>
                </a:cubicBezTo>
              </a:path>
              <a:path w="1336" h="1328">
                <a:moveTo>
                  <a:pt x="34" y="666"/>
                </a:moveTo>
                <a:cubicBezTo>
                  <a:pt x="40" y="688"/>
                  <a:pt x="49" y="694"/>
                  <a:pt x="34" y="700"/>
                </a:cubicBezTo>
                <a:cubicBezTo>
                  <a:pt x="40" y="684"/>
                  <a:pt x="58" y="681"/>
                  <a:pt x="68" y="666"/>
                </a:cubicBezTo>
                <a:cubicBezTo>
                  <a:pt x="89" y="634"/>
                  <a:pt x="103" y="596"/>
                  <a:pt x="123" y="563"/>
                </a:cubicBezTo>
              </a:path>
              <a:path w="1336" h="1328">
                <a:moveTo>
                  <a:pt x="286" y="725"/>
                </a:moveTo>
                <a:cubicBezTo>
                  <a:pt x="283" y="782"/>
                  <a:pt x="288" y="839"/>
                  <a:pt x="281" y="896"/>
                </a:cubicBezTo>
                <a:cubicBezTo>
                  <a:pt x="277" y="924"/>
                  <a:pt x="273" y="945"/>
                  <a:pt x="273" y="973"/>
                </a:cubicBezTo>
                <a:cubicBezTo>
                  <a:pt x="273" y="1006"/>
                  <a:pt x="270" y="973"/>
                  <a:pt x="273" y="960"/>
                </a:cubicBezTo>
                <a:cubicBezTo>
                  <a:pt x="283" y="919"/>
                  <a:pt x="292" y="877"/>
                  <a:pt x="303" y="836"/>
                </a:cubicBezTo>
                <a:cubicBezTo>
                  <a:pt x="318" y="783"/>
                  <a:pt x="333" y="732"/>
                  <a:pt x="358" y="683"/>
                </a:cubicBezTo>
                <a:cubicBezTo>
                  <a:pt x="373" y="652"/>
                  <a:pt x="382" y="633"/>
                  <a:pt x="418" y="631"/>
                </a:cubicBezTo>
                <a:cubicBezTo>
                  <a:pt x="457" y="629"/>
                  <a:pt x="480" y="687"/>
                  <a:pt x="490" y="717"/>
                </a:cubicBezTo>
                <a:cubicBezTo>
                  <a:pt x="516" y="798"/>
                  <a:pt x="521" y="885"/>
                  <a:pt x="525" y="969"/>
                </a:cubicBezTo>
                <a:cubicBezTo>
                  <a:pt x="528" y="1042"/>
                  <a:pt x="522" y="1110"/>
                  <a:pt x="512" y="1182"/>
                </a:cubicBezTo>
                <a:cubicBezTo>
                  <a:pt x="509" y="1201"/>
                  <a:pt x="508" y="1202"/>
                  <a:pt x="508" y="1212"/>
                </a:cubicBezTo>
                <a:cubicBezTo>
                  <a:pt x="532" y="1172"/>
                  <a:pt x="530" y="1164"/>
                  <a:pt x="537" y="1114"/>
                </a:cubicBezTo>
              </a:path>
              <a:path w="1336" h="1328">
                <a:moveTo>
                  <a:pt x="926" y="0"/>
                </a:moveTo>
                <a:cubicBezTo>
                  <a:pt x="929" y="96"/>
                  <a:pt x="907" y="188"/>
                  <a:pt x="900" y="286"/>
                </a:cubicBezTo>
                <a:cubicBezTo>
                  <a:pt x="886" y="480"/>
                  <a:pt x="869" y="669"/>
                  <a:pt x="845" y="862"/>
                </a:cubicBezTo>
                <a:cubicBezTo>
                  <a:pt x="834" y="952"/>
                  <a:pt x="822" y="1041"/>
                  <a:pt x="806" y="1131"/>
                </a:cubicBezTo>
                <a:cubicBezTo>
                  <a:pt x="796" y="1190"/>
                  <a:pt x="788" y="1148"/>
                  <a:pt x="785" y="1114"/>
                </a:cubicBezTo>
                <a:cubicBezTo>
                  <a:pt x="785" y="1101"/>
                  <a:pt x="785" y="1088"/>
                  <a:pt x="785" y="1075"/>
                </a:cubicBezTo>
              </a:path>
              <a:path w="1336" h="1328">
                <a:moveTo>
                  <a:pt x="636" y="742"/>
                </a:moveTo>
                <a:cubicBezTo>
                  <a:pt x="678" y="769"/>
                  <a:pt x="715" y="768"/>
                  <a:pt x="764" y="755"/>
                </a:cubicBezTo>
                <a:cubicBezTo>
                  <a:pt x="836" y="736"/>
                  <a:pt x="890" y="687"/>
                  <a:pt x="951" y="648"/>
                </a:cubicBezTo>
                <a:cubicBezTo>
                  <a:pt x="992" y="621"/>
                  <a:pt x="1030" y="583"/>
                  <a:pt x="1075" y="563"/>
                </a:cubicBezTo>
                <a:cubicBezTo>
                  <a:pt x="1088" y="557"/>
                  <a:pt x="1099" y="561"/>
                  <a:pt x="1109" y="559"/>
                </a:cubicBezTo>
                <a:cubicBezTo>
                  <a:pt x="1112" y="582"/>
                  <a:pt x="1111" y="598"/>
                  <a:pt x="1105" y="623"/>
                </a:cubicBezTo>
                <a:cubicBezTo>
                  <a:pt x="1094" y="670"/>
                  <a:pt x="1071" y="718"/>
                  <a:pt x="1054" y="764"/>
                </a:cubicBezTo>
                <a:cubicBezTo>
                  <a:pt x="1035" y="814"/>
                  <a:pt x="1015" y="860"/>
                  <a:pt x="1003" y="913"/>
                </a:cubicBezTo>
                <a:cubicBezTo>
                  <a:pt x="996" y="946"/>
                  <a:pt x="1003" y="971"/>
                  <a:pt x="1037" y="981"/>
                </a:cubicBezTo>
                <a:cubicBezTo>
                  <a:pt x="1075" y="992"/>
                  <a:pt x="1145" y="963"/>
                  <a:pt x="1178" y="947"/>
                </a:cubicBezTo>
                <a:cubicBezTo>
                  <a:pt x="1240" y="918"/>
                  <a:pt x="1294" y="860"/>
                  <a:pt x="1323" y="798"/>
                </a:cubicBezTo>
                <a:cubicBezTo>
                  <a:pt x="1357" y="724"/>
                  <a:pt x="1328" y="587"/>
                  <a:pt x="1242" y="559"/>
                </a:cubicBezTo>
                <a:cubicBezTo>
                  <a:pt x="1202" y="555"/>
                  <a:pt x="1188" y="554"/>
                  <a:pt x="1169" y="580"/>
                </a:cubicBezTo>
              </a:path>
              <a:path w="1336" h="1328">
                <a:moveTo>
                  <a:pt x="269" y="243"/>
                </a:moveTo>
                <a:cubicBezTo>
                  <a:pt x="267" y="262"/>
                  <a:pt x="278" y="275"/>
                  <a:pt x="264" y="286"/>
                </a:cubicBezTo>
                <a:cubicBezTo>
                  <a:pt x="276" y="289"/>
                  <a:pt x="275" y="295"/>
                  <a:pt x="286" y="299"/>
                </a:cubicBezTo>
                <a:cubicBezTo>
                  <a:pt x="288" y="300"/>
                  <a:pt x="292" y="292"/>
                  <a:pt x="298" y="29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9" name="Freeform 18"/>
          <p:cNvSpPr/>
          <p:nvPr/>
        </p:nvSpPr>
        <p:spPr>
          <a:xfrm>
            <a:off x="7763040" y="3162240"/>
            <a:ext cx="1180800" cy="614520"/>
          </a:xfrm>
          <a:custGeom>
            <a:avLst/>
            <a:gdLst/>
            <a:ahLst/>
            <a:rect l="l" t="t" r="r" b="b"/>
            <a:pathLst>
              <a:path w="3283" h="1704">
                <a:moveTo>
                  <a:pt x="0" y="1080"/>
                </a:moveTo>
                <a:cubicBezTo>
                  <a:pt x="8" y="1130"/>
                  <a:pt x="5" y="1179"/>
                  <a:pt x="13" y="1229"/>
                </a:cubicBezTo>
                <a:cubicBezTo>
                  <a:pt x="19" y="1265"/>
                  <a:pt x="23" y="1310"/>
                  <a:pt x="39" y="1344"/>
                </a:cubicBezTo>
                <a:cubicBezTo>
                  <a:pt x="43" y="1357"/>
                  <a:pt x="44" y="1361"/>
                  <a:pt x="52" y="1366"/>
                </a:cubicBezTo>
                <a:cubicBezTo>
                  <a:pt x="70" y="1354"/>
                  <a:pt x="74" y="1352"/>
                  <a:pt x="90" y="1332"/>
                </a:cubicBezTo>
                <a:cubicBezTo>
                  <a:pt x="130" y="1280"/>
                  <a:pt x="154" y="1223"/>
                  <a:pt x="184" y="1165"/>
                </a:cubicBezTo>
                <a:cubicBezTo>
                  <a:pt x="229" y="1076"/>
                  <a:pt x="266" y="985"/>
                  <a:pt x="303" y="892"/>
                </a:cubicBezTo>
                <a:cubicBezTo>
                  <a:pt x="324" y="840"/>
                  <a:pt x="330" y="825"/>
                  <a:pt x="338" y="790"/>
                </a:cubicBezTo>
              </a:path>
              <a:path w="3283" h="1704">
                <a:moveTo>
                  <a:pt x="577" y="790"/>
                </a:moveTo>
                <a:cubicBezTo>
                  <a:pt x="568" y="793"/>
                  <a:pt x="580" y="786"/>
                  <a:pt x="572" y="790"/>
                </a:cubicBezTo>
                <a:cubicBezTo>
                  <a:pt x="555" y="798"/>
                  <a:pt x="551" y="801"/>
                  <a:pt x="538" y="819"/>
                </a:cubicBezTo>
                <a:cubicBezTo>
                  <a:pt x="506" y="862"/>
                  <a:pt x="487" y="916"/>
                  <a:pt x="466" y="965"/>
                </a:cubicBezTo>
                <a:cubicBezTo>
                  <a:pt x="436" y="1035"/>
                  <a:pt x="409" y="1108"/>
                  <a:pt x="393" y="1182"/>
                </a:cubicBezTo>
                <a:cubicBezTo>
                  <a:pt x="386" y="1214"/>
                  <a:pt x="377" y="1284"/>
                  <a:pt x="397" y="1315"/>
                </a:cubicBezTo>
                <a:cubicBezTo>
                  <a:pt x="403" y="1319"/>
                  <a:pt x="408" y="1323"/>
                  <a:pt x="414" y="1327"/>
                </a:cubicBezTo>
                <a:cubicBezTo>
                  <a:pt x="455" y="1311"/>
                  <a:pt x="474" y="1305"/>
                  <a:pt x="504" y="1263"/>
                </a:cubicBezTo>
                <a:cubicBezTo>
                  <a:pt x="537" y="1217"/>
                  <a:pt x="566" y="1160"/>
                  <a:pt x="581" y="1105"/>
                </a:cubicBezTo>
                <a:cubicBezTo>
                  <a:pt x="593" y="1062"/>
                  <a:pt x="600" y="1014"/>
                  <a:pt x="602" y="969"/>
                </a:cubicBezTo>
                <a:cubicBezTo>
                  <a:pt x="603" y="952"/>
                  <a:pt x="604" y="932"/>
                  <a:pt x="606" y="918"/>
                </a:cubicBezTo>
                <a:cubicBezTo>
                  <a:pt x="609" y="940"/>
                  <a:pt x="610" y="960"/>
                  <a:pt x="615" y="982"/>
                </a:cubicBezTo>
                <a:cubicBezTo>
                  <a:pt x="624" y="1017"/>
                  <a:pt x="637" y="1083"/>
                  <a:pt x="662" y="1110"/>
                </a:cubicBezTo>
                <a:cubicBezTo>
                  <a:pt x="674" y="1121"/>
                  <a:pt x="677" y="1124"/>
                  <a:pt x="687" y="1127"/>
                </a:cubicBezTo>
                <a:cubicBezTo>
                  <a:pt x="714" y="1104"/>
                  <a:pt x="739" y="1084"/>
                  <a:pt x="756" y="1050"/>
                </a:cubicBezTo>
                <a:cubicBezTo>
                  <a:pt x="787" y="990"/>
                  <a:pt x="810" y="924"/>
                  <a:pt x="837" y="862"/>
                </a:cubicBezTo>
                <a:cubicBezTo>
                  <a:pt x="857" y="817"/>
                  <a:pt x="866" y="754"/>
                  <a:pt x="892" y="713"/>
                </a:cubicBezTo>
                <a:cubicBezTo>
                  <a:pt x="896" y="698"/>
                  <a:pt x="896" y="692"/>
                  <a:pt x="909" y="696"/>
                </a:cubicBezTo>
                <a:cubicBezTo>
                  <a:pt x="927" y="742"/>
                  <a:pt x="937" y="775"/>
                  <a:pt x="939" y="828"/>
                </a:cubicBezTo>
                <a:cubicBezTo>
                  <a:pt x="942" y="905"/>
                  <a:pt x="959" y="977"/>
                  <a:pt x="961" y="1054"/>
                </a:cubicBezTo>
                <a:cubicBezTo>
                  <a:pt x="962" y="1092"/>
                  <a:pt x="958" y="1132"/>
                  <a:pt x="965" y="1169"/>
                </a:cubicBezTo>
                <a:cubicBezTo>
                  <a:pt x="966" y="1171"/>
                  <a:pt x="968" y="1172"/>
                  <a:pt x="969" y="1174"/>
                </a:cubicBezTo>
                <a:cubicBezTo>
                  <a:pt x="987" y="1112"/>
                  <a:pt x="997" y="1047"/>
                  <a:pt x="1016" y="986"/>
                </a:cubicBezTo>
                <a:cubicBezTo>
                  <a:pt x="1037" y="918"/>
                  <a:pt x="1062" y="852"/>
                  <a:pt x="1084" y="785"/>
                </a:cubicBezTo>
                <a:cubicBezTo>
                  <a:pt x="1095" y="752"/>
                  <a:pt x="1101" y="746"/>
                  <a:pt x="1118" y="721"/>
                </a:cubicBezTo>
                <a:cubicBezTo>
                  <a:pt x="1142" y="759"/>
                  <a:pt x="1150" y="787"/>
                  <a:pt x="1157" y="837"/>
                </a:cubicBezTo>
                <a:cubicBezTo>
                  <a:pt x="1175" y="968"/>
                  <a:pt x="1173" y="1101"/>
                  <a:pt x="1182" y="1233"/>
                </a:cubicBezTo>
                <a:cubicBezTo>
                  <a:pt x="1182" y="1239"/>
                  <a:pt x="1183" y="1340"/>
                  <a:pt x="1208" y="1297"/>
                </a:cubicBezTo>
                <a:cubicBezTo>
                  <a:pt x="1235" y="1278"/>
                  <a:pt x="1242" y="1262"/>
                  <a:pt x="1234" y="1229"/>
                </a:cubicBezTo>
              </a:path>
              <a:path w="3283" h="1704">
                <a:moveTo>
                  <a:pt x="1430" y="939"/>
                </a:moveTo>
                <a:cubicBezTo>
                  <a:pt x="1432" y="1037"/>
                  <a:pt x="1428" y="1135"/>
                  <a:pt x="1434" y="1233"/>
                </a:cubicBezTo>
                <a:cubicBezTo>
                  <a:pt x="1438" y="1270"/>
                  <a:pt x="1439" y="1279"/>
                  <a:pt x="1443" y="1302"/>
                </a:cubicBezTo>
                <a:cubicBezTo>
                  <a:pt x="1443" y="1329"/>
                  <a:pt x="1450" y="1282"/>
                  <a:pt x="1447" y="1255"/>
                </a:cubicBezTo>
                <a:cubicBezTo>
                  <a:pt x="1434" y="1193"/>
                  <a:pt x="1429" y="1174"/>
                  <a:pt x="1451" y="1135"/>
                </a:cubicBezTo>
              </a:path>
              <a:path w="3283" h="1704">
                <a:moveTo>
                  <a:pt x="1904" y="619"/>
                </a:moveTo>
                <a:cubicBezTo>
                  <a:pt x="1882" y="609"/>
                  <a:pt x="1872" y="599"/>
                  <a:pt x="1848" y="598"/>
                </a:cubicBezTo>
                <a:cubicBezTo>
                  <a:pt x="1783" y="597"/>
                  <a:pt x="1730" y="665"/>
                  <a:pt x="1695" y="709"/>
                </a:cubicBezTo>
                <a:cubicBezTo>
                  <a:pt x="1645" y="771"/>
                  <a:pt x="1610" y="836"/>
                  <a:pt x="1579" y="909"/>
                </a:cubicBezTo>
                <a:cubicBezTo>
                  <a:pt x="1565" y="943"/>
                  <a:pt x="1535" y="1006"/>
                  <a:pt x="1567" y="1041"/>
                </a:cubicBezTo>
                <a:cubicBezTo>
                  <a:pt x="1590" y="1066"/>
                  <a:pt x="1650" y="1051"/>
                  <a:pt x="1677" y="1046"/>
                </a:cubicBezTo>
                <a:cubicBezTo>
                  <a:pt x="1721" y="1037"/>
                  <a:pt x="1766" y="1022"/>
                  <a:pt x="1810" y="1016"/>
                </a:cubicBezTo>
                <a:cubicBezTo>
                  <a:pt x="1831" y="1013"/>
                  <a:pt x="1841" y="1020"/>
                  <a:pt x="1857" y="1024"/>
                </a:cubicBezTo>
                <a:cubicBezTo>
                  <a:pt x="1843" y="1051"/>
                  <a:pt x="1826" y="1072"/>
                  <a:pt x="1806" y="1097"/>
                </a:cubicBezTo>
                <a:cubicBezTo>
                  <a:pt x="1769" y="1142"/>
                  <a:pt x="1727" y="1184"/>
                  <a:pt x="1682" y="1221"/>
                </a:cubicBezTo>
                <a:cubicBezTo>
                  <a:pt x="1671" y="1230"/>
                  <a:pt x="1608" y="1289"/>
                  <a:pt x="1588" y="1280"/>
                </a:cubicBezTo>
                <a:cubicBezTo>
                  <a:pt x="1582" y="1270"/>
                  <a:pt x="1577" y="1260"/>
                  <a:pt x="1571" y="1250"/>
                </a:cubicBezTo>
              </a:path>
              <a:path w="3283" h="1704">
                <a:moveTo>
                  <a:pt x="1908" y="278"/>
                </a:moveTo>
                <a:cubicBezTo>
                  <a:pt x="1919" y="380"/>
                  <a:pt x="1920" y="479"/>
                  <a:pt x="1938" y="581"/>
                </a:cubicBezTo>
                <a:cubicBezTo>
                  <a:pt x="1951" y="652"/>
                  <a:pt x="1973" y="711"/>
                  <a:pt x="1998" y="777"/>
                </a:cubicBezTo>
                <a:cubicBezTo>
                  <a:pt x="2005" y="794"/>
                  <a:pt x="2015" y="810"/>
                  <a:pt x="2023" y="824"/>
                </a:cubicBezTo>
                <a:cubicBezTo>
                  <a:pt x="2029" y="814"/>
                  <a:pt x="2047" y="797"/>
                  <a:pt x="2053" y="785"/>
                </a:cubicBezTo>
                <a:cubicBezTo>
                  <a:pt x="2069" y="752"/>
                  <a:pt x="2087" y="724"/>
                  <a:pt x="2113" y="696"/>
                </a:cubicBezTo>
                <a:cubicBezTo>
                  <a:pt x="2133" y="674"/>
                  <a:pt x="2147" y="650"/>
                  <a:pt x="2177" y="645"/>
                </a:cubicBezTo>
                <a:cubicBezTo>
                  <a:pt x="2204" y="641"/>
                  <a:pt x="2222" y="706"/>
                  <a:pt x="2228" y="726"/>
                </a:cubicBezTo>
                <a:cubicBezTo>
                  <a:pt x="2245" y="778"/>
                  <a:pt x="2254" y="838"/>
                  <a:pt x="2262" y="892"/>
                </a:cubicBezTo>
                <a:cubicBezTo>
                  <a:pt x="2266" y="920"/>
                  <a:pt x="2262" y="998"/>
                  <a:pt x="2275" y="973"/>
                </a:cubicBezTo>
                <a:cubicBezTo>
                  <a:pt x="2297" y="966"/>
                  <a:pt x="2302" y="955"/>
                  <a:pt x="2288" y="926"/>
                </a:cubicBezTo>
              </a:path>
              <a:path w="3283" h="1704">
                <a:moveTo>
                  <a:pt x="2531" y="423"/>
                </a:moveTo>
                <a:cubicBezTo>
                  <a:pt x="2540" y="542"/>
                  <a:pt x="2543" y="661"/>
                  <a:pt x="2544" y="781"/>
                </a:cubicBezTo>
                <a:cubicBezTo>
                  <a:pt x="2544" y="859"/>
                  <a:pt x="2542" y="934"/>
                  <a:pt x="2535" y="1012"/>
                </a:cubicBezTo>
                <a:cubicBezTo>
                  <a:pt x="2532" y="1048"/>
                  <a:pt x="2531" y="930"/>
                  <a:pt x="2531" y="926"/>
                </a:cubicBezTo>
              </a:path>
              <a:path w="3283" h="1704">
                <a:moveTo>
                  <a:pt x="2518" y="145"/>
                </a:moveTo>
                <a:cubicBezTo>
                  <a:pt x="2543" y="96"/>
                  <a:pt x="2567" y="48"/>
                  <a:pt x="2595" y="0"/>
                </a:cubicBezTo>
              </a:path>
              <a:path w="3283" h="1704">
                <a:moveTo>
                  <a:pt x="2753" y="491"/>
                </a:moveTo>
                <a:cubicBezTo>
                  <a:pt x="2760" y="544"/>
                  <a:pt x="2766" y="597"/>
                  <a:pt x="2778" y="649"/>
                </a:cubicBezTo>
                <a:cubicBezTo>
                  <a:pt x="2782" y="663"/>
                  <a:pt x="2783" y="666"/>
                  <a:pt x="2787" y="674"/>
                </a:cubicBezTo>
                <a:cubicBezTo>
                  <a:pt x="2786" y="655"/>
                  <a:pt x="2779" y="637"/>
                  <a:pt x="2778" y="619"/>
                </a:cubicBezTo>
                <a:cubicBezTo>
                  <a:pt x="2774" y="570"/>
                  <a:pt x="2774" y="519"/>
                  <a:pt x="2778" y="470"/>
                </a:cubicBezTo>
                <a:cubicBezTo>
                  <a:pt x="2782" y="422"/>
                  <a:pt x="2794" y="380"/>
                  <a:pt x="2804" y="333"/>
                </a:cubicBezTo>
                <a:cubicBezTo>
                  <a:pt x="2805" y="324"/>
                  <a:pt x="2807" y="316"/>
                  <a:pt x="2808" y="307"/>
                </a:cubicBezTo>
              </a:path>
              <a:path w="3283" h="1704">
                <a:moveTo>
                  <a:pt x="2941" y="427"/>
                </a:moveTo>
                <a:cubicBezTo>
                  <a:pt x="2963" y="467"/>
                  <a:pt x="2984" y="503"/>
                  <a:pt x="3000" y="546"/>
                </a:cubicBezTo>
                <a:cubicBezTo>
                  <a:pt x="3015" y="587"/>
                  <a:pt x="3025" y="631"/>
                  <a:pt x="3030" y="674"/>
                </a:cubicBezTo>
                <a:cubicBezTo>
                  <a:pt x="3031" y="681"/>
                  <a:pt x="3029" y="689"/>
                  <a:pt x="3030" y="696"/>
                </a:cubicBezTo>
                <a:cubicBezTo>
                  <a:pt x="3039" y="679"/>
                  <a:pt x="3050" y="658"/>
                  <a:pt x="3060" y="640"/>
                </a:cubicBezTo>
                <a:cubicBezTo>
                  <a:pt x="3092" y="584"/>
                  <a:pt x="3123" y="525"/>
                  <a:pt x="3163" y="474"/>
                </a:cubicBezTo>
                <a:cubicBezTo>
                  <a:pt x="3188" y="442"/>
                  <a:pt x="3212" y="411"/>
                  <a:pt x="3239" y="384"/>
                </a:cubicBezTo>
                <a:cubicBezTo>
                  <a:pt x="3248" y="375"/>
                  <a:pt x="3264" y="361"/>
                  <a:pt x="3269" y="350"/>
                </a:cubicBezTo>
                <a:cubicBezTo>
                  <a:pt x="3266" y="343"/>
                  <a:pt x="3266" y="341"/>
                  <a:pt x="3261" y="342"/>
                </a:cubicBezTo>
                <a:cubicBezTo>
                  <a:pt x="3249" y="346"/>
                  <a:pt x="3233" y="344"/>
                  <a:pt x="3222" y="350"/>
                </a:cubicBezTo>
                <a:cubicBezTo>
                  <a:pt x="3188" y="368"/>
                  <a:pt x="3170" y="398"/>
                  <a:pt x="3150" y="431"/>
                </a:cubicBezTo>
                <a:cubicBezTo>
                  <a:pt x="3123" y="475"/>
                  <a:pt x="3094" y="534"/>
                  <a:pt x="3081" y="585"/>
                </a:cubicBezTo>
                <a:cubicBezTo>
                  <a:pt x="3071" y="626"/>
                  <a:pt x="3078" y="654"/>
                  <a:pt x="3090" y="687"/>
                </a:cubicBezTo>
                <a:cubicBezTo>
                  <a:pt x="3093" y="690"/>
                  <a:pt x="3096" y="693"/>
                  <a:pt x="3099" y="696"/>
                </a:cubicBezTo>
                <a:cubicBezTo>
                  <a:pt x="3121" y="681"/>
                  <a:pt x="3145" y="671"/>
                  <a:pt x="3167" y="649"/>
                </a:cubicBezTo>
                <a:cubicBezTo>
                  <a:pt x="3194" y="621"/>
                  <a:pt x="3216" y="586"/>
                  <a:pt x="3239" y="555"/>
                </a:cubicBezTo>
                <a:cubicBezTo>
                  <a:pt x="3245" y="546"/>
                  <a:pt x="3256" y="529"/>
                  <a:pt x="3261" y="521"/>
                </a:cubicBezTo>
                <a:cubicBezTo>
                  <a:pt x="3270" y="568"/>
                  <a:pt x="3275" y="614"/>
                  <a:pt x="3278" y="662"/>
                </a:cubicBezTo>
                <a:cubicBezTo>
                  <a:pt x="3286" y="786"/>
                  <a:pt x="3274" y="910"/>
                  <a:pt x="3265" y="1033"/>
                </a:cubicBezTo>
                <a:cubicBezTo>
                  <a:pt x="3254" y="1176"/>
                  <a:pt x="3240" y="1314"/>
                  <a:pt x="3197" y="1451"/>
                </a:cubicBezTo>
                <a:cubicBezTo>
                  <a:pt x="3168" y="1544"/>
                  <a:pt x="3128" y="1646"/>
                  <a:pt x="3030" y="1686"/>
                </a:cubicBezTo>
                <a:cubicBezTo>
                  <a:pt x="2936" y="1725"/>
                  <a:pt x="2822" y="1696"/>
                  <a:pt x="2732" y="1664"/>
                </a:cubicBezTo>
                <a:cubicBezTo>
                  <a:pt x="2615" y="1622"/>
                  <a:pt x="2504" y="1555"/>
                  <a:pt x="2394" y="1498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0" name="Freeform 19"/>
          <p:cNvSpPr/>
          <p:nvPr/>
        </p:nvSpPr>
        <p:spPr>
          <a:xfrm>
            <a:off x="1220760" y="1515960"/>
            <a:ext cx="1395360" cy="768600"/>
          </a:xfrm>
          <a:custGeom>
            <a:avLst/>
            <a:gdLst/>
            <a:ahLst/>
            <a:rect l="l" t="t" r="r" b="b"/>
            <a:pathLst>
              <a:path w="3876" h="2134">
                <a:moveTo>
                  <a:pt x="1126" y="844"/>
                </a:moveTo>
                <a:cubicBezTo>
                  <a:pt x="1112" y="973"/>
                  <a:pt x="1080" y="1097"/>
                  <a:pt x="1058" y="1224"/>
                </a:cubicBezTo>
                <a:cubicBezTo>
                  <a:pt x="1019" y="1449"/>
                  <a:pt x="979" y="1674"/>
                  <a:pt x="939" y="1899"/>
                </a:cubicBezTo>
                <a:cubicBezTo>
                  <a:pt x="925" y="1978"/>
                  <a:pt x="909" y="2054"/>
                  <a:pt x="900" y="2133"/>
                </a:cubicBezTo>
              </a:path>
              <a:path w="3876" h="2134">
                <a:moveTo>
                  <a:pt x="17" y="1105"/>
                </a:moveTo>
                <a:cubicBezTo>
                  <a:pt x="14" y="1143"/>
                  <a:pt x="-7" y="1138"/>
                  <a:pt x="13" y="1160"/>
                </a:cubicBezTo>
                <a:cubicBezTo>
                  <a:pt x="69" y="1221"/>
                  <a:pt x="208" y="1223"/>
                  <a:pt x="281" y="1220"/>
                </a:cubicBezTo>
                <a:cubicBezTo>
                  <a:pt x="417" y="1214"/>
                  <a:pt x="539" y="1175"/>
                  <a:pt x="657" y="1109"/>
                </a:cubicBezTo>
                <a:cubicBezTo>
                  <a:pt x="839" y="1007"/>
                  <a:pt x="1002" y="858"/>
                  <a:pt x="1131" y="695"/>
                </a:cubicBezTo>
                <a:cubicBezTo>
                  <a:pt x="1196" y="612"/>
                  <a:pt x="1252" y="517"/>
                  <a:pt x="1289" y="418"/>
                </a:cubicBezTo>
                <a:cubicBezTo>
                  <a:pt x="1296" y="410"/>
                  <a:pt x="1300" y="406"/>
                  <a:pt x="1289" y="413"/>
                </a:cubicBezTo>
                <a:cubicBezTo>
                  <a:pt x="1279" y="479"/>
                  <a:pt x="1268" y="547"/>
                  <a:pt x="1259" y="614"/>
                </a:cubicBezTo>
                <a:cubicBezTo>
                  <a:pt x="1239" y="758"/>
                  <a:pt x="1219" y="904"/>
                  <a:pt x="1212" y="1049"/>
                </a:cubicBezTo>
                <a:cubicBezTo>
                  <a:pt x="1206" y="1181"/>
                  <a:pt x="1206" y="1311"/>
                  <a:pt x="1212" y="1442"/>
                </a:cubicBezTo>
                <a:cubicBezTo>
                  <a:pt x="1214" y="1480"/>
                  <a:pt x="1221" y="1536"/>
                  <a:pt x="1225" y="1566"/>
                </a:cubicBezTo>
                <a:cubicBezTo>
                  <a:pt x="1239" y="1523"/>
                  <a:pt x="1256" y="1479"/>
                  <a:pt x="1267" y="1433"/>
                </a:cubicBezTo>
                <a:cubicBezTo>
                  <a:pt x="1288" y="1347"/>
                  <a:pt x="1311" y="1262"/>
                  <a:pt x="1335" y="1177"/>
                </a:cubicBezTo>
                <a:cubicBezTo>
                  <a:pt x="1349" y="1128"/>
                  <a:pt x="1366" y="1102"/>
                  <a:pt x="1387" y="1062"/>
                </a:cubicBezTo>
                <a:cubicBezTo>
                  <a:pt x="1411" y="1109"/>
                  <a:pt x="1429" y="1148"/>
                  <a:pt x="1446" y="1199"/>
                </a:cubicBezTo>
                <a:cubicBezTo>
                  <a:pt x="1471" y="1273"/>
                  <a:pt x="1479" y="1350"/>
                  <a:pt x="1498" y="1425"/>
                </a:cubicBezTo>
                <a:cubicBezTo>
                  <a:pt x="1506" y="1459"/>
                  <a:pt x="1519" y="1494"/>
                  <a:pt x="1528" y="1527"/>
                </a:cubicBezTo>
                <a:cubicBezTo>
                  <a:pt x="1541" y="1486"/>
                  <a:pt x="1560" y="1445"/>
                  <a:pt x="1566" y="1399"/>
                </a:cubicBezTo>
                <a:cubicBezTo>
                  <a:pt x="1580" y="1295"/>
                  <a:pt x="1585" y="1188"/>
                  <a:pt x="1596" y="1083"/>
                </a:cubicBezTo>
                <a:cubicBezTo>
                  <a:pt x="1604" y="1008"/>
                  <a:pt x="1604" y="930"/>
                  <a:pt x="1621" y="857"/>
                </a:cubicBezTo>
                <a:cubicBezTo>
                  <a:pt x="1624" y="854"/>
                  <a:pt x="1627" y="852"/>
                  <a:pt x="1630" y="849"/>
                </a:cubicBezTo>
                <a:cubicBezTo>
                  <a:pt x="1651" y="905"/>
                  <a:pt x="1668" y="966"/>
                  <a:pt x="1681" y="1028"/>
                </a:cubicBezTo>
                <a:cubicBezTo>
                  <a:pt x="1712" y="1175"/>
                  <a:pt x="1738" y="1335"/>
                  <a:pt x="1788" y="1476"/>
                </a:cubicBezTo>
                <a:cubicBezTo>
                  <a:pt x="1801" y="1514"/>
                  <a:pt x="1808" y="1550"/>
                  <a:pt x="1822" y="1489"/>
                </a:cubicBezTo>
                <a:cubicBezTo>
                  <a:pt x="1821" y="1465"/>
                  <a:pt x="1819" y="1440"/>
                  <a:pt x="1818" y="1416"/>
                </a:cubicBezTo>
              </a:path>
              <a:path w="3876" h="2134">
                <a:moveTo>
                  <a:pt x="1754" y="507"/>
                </a:moveTo>
                <a:cubicBezTo>
                  <a:pt x="1742" y="543"/>
                  <a:pt x="1738" y="588"/>
                  <a:pt x="1715" y="618"/>
                </a:cubicBezTo>
                <a:cubicBezTo>
                  <a:pt x="1720" y="587"/>
                  <a:pt x="1721" y="590"/>
                  <a:pt x="1715" y="554"/>
                </a:cubicBezTo>
              </a:path>
              <a:path w="3876" h="2134">
                <a:moveTo>
                  <a:pt x="1852" y="601"/>
                </a:moveTo>
                <a:cubicBezTo>
                  <a:pt x="1849" y="597"/>
                  <a:pt x="1846" y="592"/>
                  <a:pt x="1843" y="588"/>
                </a:cubicBezTo>
                <a:cubicBezTo>
                  <a:pt x="1859" y="614"/>
                  <a:pt x="1859" y="619"/>
                  <a:pt x="1860" y="652"/>
                </a:cubicBezTo>
                <a:cubicBezTo>
                  <a:pt x="1861" y="696"/>
                  <a:pt x="1858" y="744"/>
                  <a:pt x="1843" y="785"/>
                </a:cubicBezTo>
                <a:cubicBezTo>
                  <a:pt x="1827" y="829"/>
                  <a:pt x="1799" y="879"/>
                  <a:pt x="1766" y="913"/>
                </a:cubicBezTo>
                <a:cubicBezTo>
                  <a:pt x="1747" y="933"/>
                  <a:pt x="1721" y="960"/>
                  <a:pt x="1698" y="972"/>
                </a:cubicBezTo>
                <a:cubicBezTo>
                  <a:pt x="1687" y="976"/>
                  <a:pt x="1684" y="978"/>
                  <a:pt x="1677" y="977"/>
                </a:cubicBezTo>
                <a:cubicBezTo>
                  <a:pt x="1697" y="965"/>
                  <a:pt x="1709" y="956"/>
                  <a:pt x="1732" y="947"/>
                </a:cubicBezTo>
                <a:cubicBezTo>
                  <a:pt x="1774" y="931"/>
                  <a:pt x="1821" y="927"/>
                  <a:pt x="1865" y="934"/>
                </a:cubicBezTo>
                <a:cubicBezTo>
                  <a:pt x="1919" y="942"/>
                  <a:pt x="1964" y="961"/>
                  <a:pt x="2001" y="1002"/>
                </a:cubicBezTo>
                <a:cubicBezTo>
                  <a:pt x="2039" y="1045"/>
                  <a:pt x="2060" y="1103"/>
                  <a:pt x="2061" y="1160"/>
                </a:cubicBezTo>
                <a:cubicBezTo>
                  <a:pt x="2062" y="1217"/>
                  <a:pt x="2045" y="1273"/>
                  <a:pt x="2018" y="1322"/>
                </a:cubicBezTo>
                <a:cubicBezTo>
                  <a:pt x="1996" y="1361"/>
                  <a:pt x="1973" y="1394"/>
                  <a:pt x="1924" y="1391"/>
                </a:cubicBezTo>
                <a:cubicBezTo>
                  <a:pt x="1880" y="1388"/>
                  <a:pt x="1882" y="1349"/>
                  <a:pt x="1873" y="1318"/>
                </a:cubicBezTo>
              </a:path>
              <a:path w="3876" h="2134">
                <a:moveTo>
                  <a:pt x="2449" y="221"/>
                </a:moveTo>
                <a:cubicBezTo>
                  <a:pt x="2455" y="283"/>
                  <a:pt x="2461" y="343"/>
                  <a:pt x="2462" y="405"/>
                </a:cubicBezTo>
                <a:cubicBezTo>
                  <a:pt x="2463" y="498"/>
                  <a:pt x="2469" y="589"/>
                  <a:pt x="2479" y="682"/>
                </a:cubicBezTo>
                <a:cubicBezTo>
                  <a:pt x="2488" y="764"/>
                  <a:pt x="2489" y="845"/>
                  <a:pt x="2505" y="926"/>
                </a:cubicBezTo>
                <a:cubicBezTo>
                  <a:pt x="2511" y="958"/>
                  <a:pt x="2514" y="1002"/>
                  <a:pt x="2526" y="1032"/>
                </a:cubicBezTo>
                <a:cubicBezTo>
                  <a:pt x="2530" y="1042"/>
                  <a:pt x="2536" y="1038"/>
                  <a:pt x="2535" y="1024"/>
                </a:cubicBezTo>
                <a:cubicBezTo>
                  <a:pt x="2533" y="1015"/>
                  <a:pt x="2532" y="1007"/>
                  <a:pt x="2530" y="998"/>
                </a:cubicBezTo>
              </a:path>
              <a:path w="3876" h="2134">
                <a:moveTo>
                  <a:pt x="2710" y="375"/>
                </a:moveTo>
                <a:cubicBezTo>
                  <a:pt x="2702" y="433"/>
                  <a:pt x="2713" y="490"/>
                  <a:pt x="2718" y="550"/>
                </a:cubicBezTo>
                <a:cubicBezTo>
                  <a:pt x="2723" y="611"/>
                  <a:pt x="2729" y="673"/>
                  <a:pt x="2735" y="734"/>
                </a:cubicBezTo>
                <a:cubicBezTo>
                  <a:pt x="2737" y="753"/>
                  <a:pt x="2742" y="770"/>
                  <a:pt x="2744" y="789"/>
                </a:cubicBezTo>
                <a:cubicBezTo>
                  <a:pt x="2735" y="762"/>
                  <a:pt x="2735" y="749"/>
                  <a:pt x="2727" y="716"/>
                </a:cubicBezTo>
              </a:path>
              <a:path w="3876" h="2134">
                <a:moveTo>
                  <a:pt x="2782" y="0"/>
                </a:moveTo>
                <a:cubicBezTo>
                  <a:pt x="2782" y="56"/>
                  <a:pt x="2769" y="109"/>
                  <a:pt x="2774" y="166"/>
                </a:cubicBezTo>
                <a:cubicBezTo>
                  <a:pt x="2776" y="189"/>
                  <a:pt x="2778" y="196"/>
                  <a:pt x="2795" y="196"/>
                </a:cubicBezTo>
              </a:path>
              <a:path w="3876" h="2134">
                <a:moveTo>
                  <a:pt x="3055" y="618"/>
                </a:moveTo>
                <a:cubicBezTo>
                  <a:pt x="3049" y="665"/>
                  <a:pt x="3051" y="708"/>
                  <a:pt x="3051" y="755"/>
                </a:cubicBezTo>
                <a:cubicBezTo>
                  <a:pt x="3051" y="768"/>
                  <a:pt x="3051" y="763"/>
                  <a:pt x="3051" y="776"/>
                </a:cubicBezTo>
                <a:cubicBezTo>
                  <a:pt x="3049" y="736"/>
                  <a:pt x="3045" y="697"/>
                  <a:pt x="3047" y="657"/>
                </a:cubicBezTo>
                <a:cubicBezTo>
                  <a:pt x="3051" y="577"/>
                  <a:pt x="3057" y="496"/>
                  <a:pt x="3072" y="418"/>
                </a:cubicBezTo>
                <a:cubicBezTo>
                  <a:pt x="3082" y="363"/>
                  <a:pt x="3096" y="303"/>
                  <a:pt x="3128" y="256"/>
                </a:cubicBezTo>
                <a:cubicBezTo>
                  <a:pt x="3132" y="252"/>
                  <a:pt x="3137" y="247"/>
                  <a:pt x="3141" y="243"/>
                </a:cubicBezTo>
                <a:cubicBezTo>
                  <a:pt x="3187" y="270"/>
                  <a:pt x="3197" y="312"/>
                  <a:pt x="3217" y="362"/>
                </a:cubicBezTo>
                <a:cubicBezTo>
                  <a:pt x="3248" y="440"/>
                  <a:pt x="3268" y="523"/>
                  <a:pt x="3286" y="605"/>
                </a:cubicBezTo>
                <a:cubicBezTo>
                  <a:pt x="3293" y="634"/>
                  <a:pt x="3297" y="732"/>
                  <a:pt x="3324" y="755"/>
                </a:cubicBezTo>
                <a:cubicBezTo>
                  <a:pt x="3324" y="740"/>
                  <a:pt x="3325" y="735"/>
                  <a:pt x="3337" y="729"/>
                </a:cubicBezTo>
              </a:path>
              <a:path w="3876" h="2134">
                <a:moveTo>
                  <a:pt x="3482" y="512"/>
                </a:moveTo>
                <a:cubicBezTo>
                  <a:pt x="3501" y="550"/>
                  <a:pt x="3489" y="568"/>
                  <a:pt x="3537" y="554"/>
                </a:cubicBezTo>
                <a:cubicBezTo>
                  <a:pt x="3575" y="543"/>
                  <a:pt x="3603" y="500"/>
                  <a:pt x="3631" y="473"/>
                </a:cubicBezTo>
                <a:cubicBezTo>
                  <a:pt x="3671" y="435"/>
                  <a:pt x="3704" y="395"/>
                  <a:pt x="3729" y="345"/>
                </a:cubicBezTo>
                <a:cubicBezTo>
                  <a:pt x="3746" y="310"/>
                  <a:pt x="3759" y="268"/>
                  <a:pt x="3747" y="230"/>
                </a:cubicBezTo>
                <a:cubicBezTo>
                  <a:pt x="3738" y="202"/>
                  <a:pt x="3712" y="183"/>
                  <a:pt x="3683" y="179"/>
                </a:cubicBezTo>
                <a:cubicBezTo>
                  <a:pt x="3636" y="172"/>
                  <a:pt x="3612" y="202"/>
                  <a:pt x="3589" y="238"/>
                </a:cubicBezTo>
                <a:cubicBezTo>
                  <a:pt x="3543" y="310"/>
                  <a:pt x="3549" y="384"/>
                  <a:pt x="3550" y="465"/>
                </a:cubicBezTo>
                <a:cubicBezTo>
                  <a:pt x="3552" y="567"/>
                  <a:pt x="3554" y="656"/>
                  <a:pt x="3614" y="742"/>
                </a:cubicBezTo>
                <a:cubicBezTo>
                  <a:pt x="3661" y="810"/>
                  <a:pt x="3748" y="838"/>
                  <a:pt x="3828" y="806"/>
                </a:cubicBezTo>
                <a:cubicBezTo>
                  <a:pt x="3844" y="793"/>
                  <a:pt x="3859" y="781"/>
                  <a:pt x="3875" y="768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1" name="Freeform 20"/>
          <p:cNvSpPr/>
          <p:nvPr/>
        </p:nvSpPr>
        <p:spPr>
          <a:xfrm>
            <a:off x="1630440" y="1963800"/>
            <a:ext cx="939600" cy="609480"/>
          </a:xfrm>
          <a:custGeom>
            <a:avLst/>
            <a:gdLst/>
            <a:ahLst/>
            <a:rect l="l" t="t" r="r" b="b"/>
            <a:pathLst>
              <a:path w="2613" h="1695">
                <a:moveTo>
                  <a:pt x="725" y="675"/>
                </a:moveTo>
                <a:cubicBezTo>
                  <a:pt x="741" y="645"/>
                  <a:pt x="748" y="653"/>
                  <a:pt x="747" y="611"/>
                </a:cubicBezTo>
                <a:cubicBezTo>
                  <a:pt x="747" y="597"/>
                  <a:pt x="750" y="593"/>
                  <a:pt x="742" y="589"/>
                </a:cubicBezTo>
                <a:cubicBezTo>
                  <a:pt x="699" y="609"/>
                  <a:pt x="659" y="631"/>
                  <a:pt x="619" y="662"/>
                </a:cubicBezTo>
                <a:cubicBezTo>
                  <a:pt x="541" y="722"/>
                  <a:pt x="467" y="786"/>
                  <a:pt x="393" y="850"/>
                </a:cubicBezTo>
                <a:cubicBezTo>
                  <a:pt x="299" y="930"/>
                  <a:pt x="203" y="1007"/>
                  <a:pt x="102" y="1076"/>
                </a:cubicBezTo>
                <a:cubicBezTo>
                  <a:pt x="70" y="1098"/>
                  <a:pt x="46" y="1121"/>
                  <a:pt x="13" y="1140"/>
                </a:cubicBezTo>
                <a:cubicBezTo>
                  <a:pt x="37" y="1142"/>
                  <a:pt x="60" y="1142"/>
                  <a:pt x="85" y="1144"/>
                </a:cubicBezTo>
                <a:cubicBezTo>
                  <a:pt x="152" y="1149"/>
                  <a:pt x="221" y="1163"/>
                  <a:pt x="286" y="1178"/>
                </a:cubicBezTo>
                <a:cubicBezTo>
                  <a:pt x="368" y="1198"/>
                  <a:pt x="447" y="1222"/>
                  <a:pt x="525" y="1255"/>
                </a:cubicBezTo>
                <a:cubicBezTo>
                  <a:pt x="571" y="1275"/>
                  <a:pt x="631" y="1298"/>
                  <a:pt x="644" y="1353"/>
                </a:cubicBezTo>
                <a:cubicBezTo>
                  <a:pt x="657" y="1405"/>
                  <a:pt x="594" y="1457"/>
                  <a:pt x="559" y="1485"/>
                </a:cubicBezTo>
                <a:cubicBezTo>
                  <a:pt x="485" y="1544"/>
                  <a:pt x="401" y="1576"/>
                  <a:pt x="311" y="1601"/>
                </a:cubicBezTo>
                <a:cubicBezTo>
                  <a:pt x="239" y="1621"/>
                  <a:pt x="129" y="1642"/>
                  <a:pt x="55" y="1618"/>
                </a:cubicBezTo>
                <a:cubicBezTo>
                  <a:pt x="37" y="1608"/>
                  <a:pt x="18" y="1598"/>
                  <a:pt x="0" y="1588"/>
                </a:cubicBezTo>
              </a:path>
              <a:path w="2613" h="1695">
                <a:moveTo>
                  <a:pt x="1016" y="252"/>
                </a:moveTo>
                <a:cubicBezTo>
                  <a:pt x="1048" y="368"/>
                  <a:pt x="1051" y="481"/>
                  <a:pt x="1062" y="602"/>
                </a:cubicBezTo>
                <a:cubicBezTo>
                  <a:pt x="1077" y="757"/>
                  <a:pt x="1095" y="911"/>
                  <a:pt x="1105" y="1067"/>
                </a:cubicBezTo>
                <a:cubicBezTo>
                  <a:pt x="1107" y="1096"/>
                  <a:pt x="1144" y="1274"/>
                  <a:pt x="1109" y="1298"/>
                </a:cubicBezTo>
                <a:cubicBezTo>
                  <a:pt x="1102" y="1295"/>
                  <a:pt x="1095" y="1292"/>
                  <a:pt x="1088" y="1289"/>
                </a:cubicBezTo>
              </a:path>
              <a:path w="2613" h="1695">
                <a:moveTo>
                  <a:pt x="589" y="896"/>
                </a:moveTo>
                <a:cubicBezTo>
                  <a:pt x="676" y="936"/>
                  <a:pt x="668" y="950"/>
                  <a:pt x="768" y="901"/>
                </a:cubicBezTo>
                <a:cubicBezTo>
                  <a:pt x="893" y="840"/>
                  <a:pt x="1020" y="747"/>
                  <a:pt x="1118" y="649"/>
                </a:cubicBezTo>
                <a:cubicBezTo>
                  <a:pt x="1217" y="550"/>
                  <a:pt x="1301" y="437"/>
                  <a:pt x="1408" y="346"/>
                </a:cubicBezTo>
                <a:cubicBezTo>
                  <a:pt x="1411" y="345"/>
                  <a:pt x="1414" y="343"/>
                  <a:pt x="1417" y="342"/>
                </a:cubicBezTo>
                <a:cubicBezTo>
                  <a:pt x="1399" y="370"/>
                  <a:pt x="1382" y="399"/>
                  <a:pt x="1361" y="427"/>
                </a:cubicBezTo>
                <a:cubicBezTo>
                  <a:pt x="1317" y="486"/>
                  <a:pt x="1273" y="550"/>
                  <a:pt x="1237" y="615"/>
                </a:cubicBezTo>
                <a:cubicBezTo>
                  <a:pt x="1176" y="726"/>
                  <a:pt x="1111" y="921"/>
                  <a:pt x="1144" y="1050"/>
                </a:cubicBezTo>
                <a:cubicBezTo>
                  <a:pt x="1151" y="1078"/>
                  <a:pt x="1153" y="1086"/>
                  <a:pt x="1165" y="1101"/>
                </a:cubicBezTo>
                <a:cubicBezTo>
                  <a:pt x="1194" y="1072"/>
                  <a:pt x="1224" y="1056"/>
                  <a:pt x="1250" y="1016"/>
                </a:cubicBezTo>
                <a:cubicBezTo>
                  <a:pt x="1290" y="954"/>
                  <a:pt x="1302" y="877"/>
                  <a:pt x="1319" y="807"/>
                </a:cubicBezTo>
                <a:cubicBezTo>
                  <a:pt x="1332" y="754"/>
                  <a:pt x="1340" y="702"/>
                  <a:pt x="1348" y="649"/>
                </a:cubicBezTo>
                <a:cubicBezTo>
                  <a:pt x="1348" y="633"/>
                  <a:pt x="1348" y="628"/>
                  <a:pt x="1353" y="619"/>
                </a:cubicBezTo>
                <a:cubicBezTo>
                  <a:pt x="1358" y="630"/>
                  <a:pt x="1375" y="667"/>
                  <a:pt x="1383" y="687"/>
                </a:cubicBezTo>
                <a:cubicBezTo>
                  <a:pt x="1410" y="754"/>
                  <a:pt x="1432" y="828"/>
                  <a:pt x="1472" y="888"/>
                </a:cubicBezTo>
                <a:cubicBezTo>
                  <a:pt x="1498" y="927"/>
                  <a:pt x="1505" y="915"/>
                  <a:pt x="1536" y="939"/>
                </a:cubicBezTo>
                <a:cubicBezTo>
                  <a:pt x="1578" y="896"/>
                  <a:pt x="1604" y="879"/>
                  <a:pt x="1630" y="815"/>
                </a:cubicBezTo>
                <a:cubicBezTo>
                  <a:pt x="1675" y="705"/>
                  <a:pt x="1695" y="588"/>
                  <a:pt x="1707" y="470"/>
                </a:cubicBezTo>
                <a:cubicBezTo>
                  <a:pt x="1712" y="417"/>
                  <a:pt x="1710" y="382"/>
                  <a:pt x="1711" y="329"/>
                </a:cubicBezTo>
                <a:cubicBezTo>
                  <a:pt x="1714" y="385"/>
                  <a:pt x="1719" y="439"/>
                  <a:pt x="1724" y="495"/>
                </a:cubicBezTo>
                <a:cubicBezTo>
                  <a:pt x="1732" y="582"/>
                  <a:pt x="1739" y="676"/>
                  <a:pt x="1767" y="760"/>
                </a:cubicBezTo>
                <a:cubicBezTo>
                  <a:pt x="1780" y="800"/>
                  <a:pt x="1806" y="828"/>
                  <a:pt x="1822" y="858"/>
                </a:cubicBezTo>
                <a:cubicBezTo>
                  <a:pt x="1876" y="827"/>
                  <a:pt x="1895" y="814"/>
                  <a:pt x="1925" y="743"/>
                </a:cubicBezTo>
                <a:cubicBezTo>
                  <a:pt x="2002" y="561"/>
                  <a:pt x="2017" y="355"/>
                  <a:pt x="2078" y="171"/>
                </a:cubicBezTo>
                <a:cubicBezTo>
                  <a:pt x="2098" y="228"/>
                  <a:pt x="2110" y="286"/>
                  <a:pt x="2117" y="350"/>
                </a:cubicBezTo>
                <a:cubicBezTo>
                  <a:pt x="2139" y="560"/>
                  <a:pt x="2155" y="771"/>
                  <a:pt x="2168" y="982"/>
                </a:cubicBezTo>
                <a:cubicBezTo>
                  <a:pt x="2180" y="1178"/>
                  <a:pt x="2202" y="1409"/>
                  <a:pt x="2129" y="1596"/>
                </a:cubicBezTo>
                <a:cubicBezTo>
                  <a:pt x="2100" y="1671"/>
                  <a:pt x="2045" y="1696"/>
                  <a:pt x="1967" y="1694"/>
                </a:cubicBezTo>
                <a:cubicBezTo>
                  <a:pt x="1873" y="1691"/>
                  <a:pt x="1785" y="1615"/>
                  <a:pt x="1715" y="1562"/>
                </a:cubicBezTo>
                <a:cubicBezTo>
                  <a:pt x="1632" y="1499"/>
                  <a:pt x="1548" y="1434"/>
                  <a:pt x="1472" y="1362"/>
                </a:cubicBezTo>
                <a:cubicBezTo>
                  <a:pt x="1435" y="1327"/>
                  <a:pt x="1405" y="1293"/>
                  <a:pt x="1374" y="1255"/>
                </a:cubicBezTo>
              </a:path>
              <a:path w="2613" h="1695">
                <a:moveTo>
                  <a:pt x="2612" y="0"/>
                </a:moveTo>
                <a:cubicBezTo>
                  <a:pt x="2586" y="31"/>
                  <a:pt x="2572" y="71"/>
                  <a:pt x="2543" y="107"/>
                </a:cubicBezTo>
                <a:cubicBezTo>
                  <a:pt x="2502" y="158"/>
                  <a:pt x="2447" y="205"/>
                  <a:pt x="2394" y="244"/>
                </a:cubicBezTo>
                <a:cubicBezTo>
                  <a:pt x="2342" y="283"/>
                  <a:pt x="2289" y="316"/>
                  <a:pt x="2232" y="346"/>
                </a:cubicBezTo>
                <a:cubicBezTo>
                  <a:pt x="2205" y="360"/>
                  <a:pt x="2181" y="378"/>
                  <a:pt x="2155" y="393"/>
                </a:cubicBezTo>
                <a:cubicBezTo>
                  <a:pt x="2193" y="385"/>
                  <a:pt x="2231" y="370"/>
                  <a:pt x="2270" y="363"/>
                </a:cubicBezTo>
                <a:cubicBezTo>
                  <a:pt x="2314" y="355"/>
                  <a:pt x="2381" y="341"/>
                  <a:pt x="2424" y="355"/>
                </a:cubicBezTo>
                <a:cubicBezTo>
                  <a:pt x="2471" y="370"/>
                  <a:pt x="2489" y="408"/>
                  <a:pt x="2492" y="453"/>
                </a:cubicBezTo>
                <a:cubicBezTo>
                  <a:pt x="2497" y="520"/>
                  <a:pt x="2467" y="581"/>
                  <a:pt x="2432" y="636"/>
                </a:cubicBezTo>
                <a:cubicBezTo>
                  <a:pt x="2394" y="696"/>
                  <a:pt x="2354" y="739"/>
                  <a:pt x="2283" y="751"/>
                </a:cubicBezTo>
                <a:cubicBezTo>
                  <a:pt x="2274" y="751"/>
                  <a:pt x="2266" y="751"/>
                  <a:pt x="2257" y="75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2" name="Freeform 21"/>
          <p:cNvSpPr/>
          <p:nvPr/>
        </p:nvSpPr>
        <p:spPr>
          <a:xfrm>
            <a:off x="2784600" y="1400040"/>
            <a:ext cx="1549440" cy="650880"/>
          </a:xfrm>
          <a:custGeom>
            <a:avLst/>
            <a:gdLst/>
            <a:ahLst/>
            <a:rect l="l" t="t" r="r" b="b"/>
            <a:pathLst>
              <a:path w="4307" h="1807">
                <a:moveTo>
                  <a:pt x="0" y="897"/>
                </a:moveTo>
                <a:cubicBezTo>
                  <a:pt x="0" y="1121"/>
                  <a:pt x="8" y="1343"/>
                  <a:pt x="25" y="1567"/>
                </a:cubicBezTo>
                <a:cubicBezTo>
                  <a:pt x="32" y="1652"/>
                  <a:pt x="35" y="1729"/>
                  <a:pt x="64" y="1806"/>
                </a:cubicBezTo>
                <a:cubicBezTo>
                  <a:pt x="80" y="1768"/>
                  <a:pt x="101" y="1727"/>
                  <a:pt x="111" y="1686"/>
                </a:cubicBezTo>
                <a:cubicBezTo>
                  <a:pt x="135" y="1591"/>
                  <a:pt x="158" y="1495"/>
                  <a:pt x="183" y="1400"/>
                </a:cubicBezTo>
                <a:cubicBezTo>
                  <a:pt x="199" y="1337"/>
                  <a:pt x="204" y="1239"/>
                  <a:pt x="239" y="1183"/>
                </a:cubicBezTo>
                <a:cubicBezTo>
                  <a:pt x="250" y="1160"/>
                  <a:pt x="251" y="1153"/>
                  <a:pt x="269" y="1153"/>
                </a:cubicBezTo>
                <a:cubicBezTo>
                  <a:pt x="294" y="1204"/>
                  <a:pt x="313" y="1254"/>
                  <a:pt x="328" y="1311"/>
                </a:cubicBezTo>
                <a:cubicBezTo>
                  <a:pt x="356" y="1418"/>
                  <a:pt x="368" y="1594"/>
                  <a:pt x="439" y="1682"/>
                </a:cubicBezTo>
                <a:cubicBezTo>
                  <a:pt x="459" y="1704"/>
                  <a:pt x="463" y="1711"/>
                  <a:pt x="482" y="1716"/>
                </a:cubicBezTo>
                <a:cubicBezTo>
                  <a:pt x="518" y="1679"/>
                  <a:pt x="546" y="1649"/>
                  <a:pt x="563" y="1592"/>
                </a:cubicBezTo>
                <a:cubicBezTo>
                  <a:pt x="599" y="1471"/>
                  <a:pt x="614" y="1338"/>
                  <a:pt x="619" y="1212"/>
                </a:cubicBezTo>
                <a:cubicBezTo>
                  <a:pt x="621" y="1153"/>
                  <a:pt x="622" y="1080"/>
                  <a:pt x="627" y="1029"/>
                </a:cubicBezTo>
                <a:cubicBezTo>
                  <a:pt x="629" y="1106"/>
                  <a:pt x="637" y="1182"/>
                  <a:pt x="648" y="1259"/>
                </a:cubicBezTo>
                <a:cubicBezTo>
                  <a:pt x="662" y="1352"/>
                  <a:pt x="666" y="1460"/>
                  <a:pt x="695" y="1550"/>
                </a:cubicBezTo>
                <a:cubicBezTo>
                  <a:pt x="711" y="1601"/>
                  <a:pt x="725" y="1625"/>
                  <a:pt x="759" y="1660"/>
                </a:cubicBezTo>
                <a:cubicBezTo>
                  <a:pt x="791" y="1621"/>
                  <a:pt x="802" y="1600"/>
                  <a:pt x="815" y="1541"/>
                </a:cubicBezTo>
                <a:cubicBezTo>
                  <a:pt x="834" y="1456"/>
                  <a:pt x="837" y="1355"/>
                  <a:pt x="828" y="1268"/>
                </a:cubicBezTo>
                <a:cubicBezTo>
                  <a:pt x="821" y="1197"/>
                  <a:pt x="790" y="1069"/>
                  <a:pt x="738" y="1016"/>
                </a:cubicBezTo>
                <a:cubicBezTo>
                  <a:pt x="724" y="1002"/>
                  <a:pt x="719" y="998"/>
                  <a:pt x="704" y="1008"/>
                </a:cubicBezTo>
                <a:cubicBezTo>
                  <a:pt x="658" y="1074"/>
                  <a:pt x="633" y="1136"/>
                  <a:pt x="640" y="1221"/>
                </a:cubicBezTo>
                <a:cubicBezTo>
                  <a:pt x="640" y="1233"/>
                  <a:pt x="640" y="1237"/>
                  <a:pt x="648" y="1242"/>
                </a:cubicBezTo>
                <a:cubicBezTo>
                  <a:pt x="668" y="1222"/>
                  <a:pt x="685" y="1208"/>
                  <a:pt x="704" y="1183"/>
                </a:cubicBezTo>
                <a:cubicBezTo>
                  <a:pt x="731" y="1147"/>
                  <a:pt x="754" y="1104"/>
                  <a:pt x="785" y="1072"/>
                </a:cubicBezTo>
                <a:cubicBezTo>
                  <a:pt x="808" y="1048"/>
                  <a:pt x="814" y="1052"/>
                  <a:pt x="840" y="1037"/>
                </a:cubicBezTo>
                <a:cubicBezTo>
                  <a:pt x="877" y="1072"/>
                  <a:pt x="903" y="1099"/>
                  <a:pt x="926" y="1148"/>
                </a:cubicBezTo>
                <a:cubicBezTo>
                  <a:pt x="960" y="1219"/>
                  <a:pt x="982" y="1292"/>
                  <a:pt x="1007" y="1366"/>
                </a:cubicBezTo>
                <a:cubicBezTo>
                  <a:pt x="1021" y="1408"/>
                  <a:pt x="1028" y="1457"/>
                  <a:pt x="1045" y="1498"/>
                </a:cubicBezTo>
                <a:cubicBezTo>
                  <a:pt x="1049" y="1505"/>
                  <a:pt x="1049" y="1508"/>
                  <a:pt x="1054" y="1507"/>
                </a:cubicBezTo>
                <a:cubicBezTo>
                  <a:pt x="1055" y="1457"/>
                  <a:pt x="1058" y="1407"/>
                  <a:pt x="1062" y="1357"/>
                </a:cubicBezTo>
                <a:cubicBezTo>
                  <a:pt x="1073" y="1224"/>
                  <a:pt x="1064" y="1078"/>
                  <a:pt x="1096" y="948"/>
                </a:cubicBezTo>
                <a:cubicBezTo>
                  <a:pt x="1111" y="887"/>
                  <a:pt x="1128" y="882"/>
                  <a:pt x="1165" y="845"/>
                </a:cubicBezTo>
                <a:cubicBezTo>
                  <a:pt x="1209" y="871"/>
                  <a:pt x="1237" y="888"/>
                  <a:pt x="1276" y="926"/>
                </a:cubicBezTo>
                <a:cubicBezTo>
                  <a:pt x="1291" y="941"/>
                  <a:pt x="1367" y="1062"/>
                  <a:pt x="1382" y="1063"/>
                </a:cubicBezTo>
                <a:cubicBezTo>
                  <a:pt x="1409" y="1065"/>
                  <a:pt x="1401" y="1096"/>
                  <a:pt x="1387" y="1033"/>
                </a:cubicBezTo>
              </a:path>
              <a:path w="4307" h="1807">
                <a:moveTo>
                  <a:pt x="1361" y="1003"/>
                </a:moveTo>
                <a:cubicBezTo>
                  <a:pt x="1387" y="1114"/>
                  <a:pt x="1404" y="1226"/>
                  <a:pt x="1434" y="1336"/>
                </a:cubicBezTo>
                <a:cubicBezTo>
                  <a:pt x="1443" y="1369"/>
                  <a:pt x="1453" y="1402"/>
                  <a:pt x="1463" y="1434"/>
                </a:cubicBezTo>
                <a:cubicBezTo>
                  <a:pt x="1448" y="1362"/>
                  <a:pt x="1429" y="1292"/>
                  <a:pt x="1412" y="1221"/>
                </a:cubicBezTo>
                <a:cubicBezTo>
                  <a:pt x="1388" y="1111"/>
                  <a:pt x="1379" y="1067"/>
                  <a:pt x="1361" y="990"/>
                </a:cubicBezTo>
              </a:path>
              <a:path w="4307" h="1807">
                <a:moveTo>
                  <a:pt x="1178" y="508"/>
                </a:moveTo>
                <a:cubicBezTo>
                  <a:pt x="1179" y="565"/>
                  <a:pt x="1179" y="627"/>
                  <a:pt x="1207" y="679"/>
                </a:cubicBezTo>
                <a:cubicBezTo>
                  <a:pt x="1219" y="695"/>
                  <a:pt x="1223" y="702"/>
                  <a:pt x="1224" y="679"/>
                </a:cubicBezTo>
              </a:path>
              <a:path w="4307" h="1807">
                <a:moveTo>
                  <a:pt x="1634" y="722"/>
                </a:moveTo>
                <a:cubicBezTo>
                  <a:pt x="1621" y="697"/>
                  <a:pt x="1612" y="673"/>
                  <a:pt x="1600" y="649"/>
                </a:cubicBezTo>
                <a:cubicBezTo>
                  <a:pt x="1596" y="641"/>
                  <a:pt x="1594" y="638"/>
                  <a:pt x="1591" y="632"/>
                </a:cubicBezTo>
                <a:cubicBezTo>
                  <a:pt x="1586" y="650"/>
                  <a:pt x="1579" y="668"/>
                  <a:pt x="1574" y="688"/>
                </a:cubicBezTo>
                <a:cubicBezTo>
                  <a:pt x="1565" y="724"/>
                  <a:pt x="1557" y="761"/>
                  <a:pt x="1549" y="798"/>
                </a:cubicBezTo>
                <a:cubicBezTo>
                  <a:pt x="1544" y="820"/>
                  <a:pt x="1543" y="845"/>
                  <a:pt x="1540" y="862"/>
                </a:cubicBezTo>
                <a:cubicBezTo>
                  <a:pt x="1540" y="860"/>
                  <a:pt x="1544" y="840"/>
                  <a:pt x="1549" y="824"/>
                </a:cubicBezTo>
                <a:cubicBezTo>
                  <a:pt x="1567" y="771"/>
                  <a:pt x="1586" y="723"/>
                  <a:pt x="1617" y="675"/>
                </a:cubicBezTo>
                <a:cubicBezTo>
                  <a:pt x="1653" y="619"/>
                  <a:pt x="1698" y="562"/>
                  <a:pt x="1754" y="525"/>
                </a:cubicBezTo>
                <a:cubicBezTo>
                  <a:pt x="1780" y="508"/>
                  <a:pt x="1836" y="483"/>
                  <a:pt x="1865" y="508"/>
                </a:cubicBezTo>
                <a:cubicBezTo>
                  <a:pt x="1906" y="542"/>
                  <a:pt x="1896" y="615"/>
                  <a:pt x="1890" y="658"/>
                </a:cubicBezTo>
                <a:cubicBezTo>
                  <a:pt x="1881" y="723"/>
                  <a:pt x="1863" y="796"/>
                  <a:pt x="1843" y="858"/>
                </a:cubicBezTo>
                <a:cubicBezTo>
                  <a:pt x="1823" y="919"/>
                  <a:pt x="1802" y="976"/>
                  <a:pt x="1788" y="1037"/>
                </a:cubicBezTo>
                <a:cubicBezTo>
                  <a:pt x="1779" y="1075"/>
                  <a:pt x="1771" y="1113"/>
                  <a:pt x="1775" y="1153"/>
                </a:cubicBezTo>
                <a:cubicBezTo>
                  <a:pt x="1778" y="1178"/>
                  <a:pt x="1783" y="1199"/>
                  <a:pt x="1809" y="1208"/>
                </a:cubicBezTo>
                <a:cubicBezTo>
                  <a:pt x="1831" y="1216"/>
                  <a:pt x="1895" y="1181"/>
                  <a:pt x="1912" y="1170"/>
                </a:cubicBezTo>
                <a:cubicBezTo>
                  <a:pt x="1971" y="1132"/>
                  <a:pt x="2032" y="1077"/>
                  <a:pt x="2044" y="1008"/>
                </a:cubicBezTo>
                <a:cubicBezTo>
                  <a:pt x="2048" y="979"/>
                  <a:pt x="2049" y="971"/>
                  <a:pt x="2052" y="952"/>
                </a:cubicBezTo>
              </a:path>
              <a:path w="4307" h="1807">
                <a:moveTo>
                  <a:pt x="1540" y="880"/>
                </a:moveTo>
                <a:cubicBezTo>
                  <a:pt x="1564" y="913"/>
                  <a:pt x="1582" y="898"/>
                  <a:pt x="1621" y="880"/>
                </a:cubicBezTo>
                <a:cubicBezTo>
                  <a:pt x="1691" y="848"/>
                  <a:pt x="1760" y="809"/>
                  <a:pt x="1822" y="764"/>
                </a:cubicBezTo>
                <a:cubicBezTo>
                  <a:pt x="1840" y="750"/>
                  <a:pt x="1859" y="736"/>
                  <a:pt x="1877" y="722"/>
                </a:cubicBezTo>
              </a:path>
              <a:path w="4307" h="1807">
                <a:moveTo>
                  <a:pt x="2283" y="572"/>
                </a:moveTo>
                <a:cubicBezTo>
                  <a:pt x="2254" y="622"/>
                  <a:pt x="2224" y="671"/>
                  <a:pt x="2197" y="722"/>
                </a:cubicBezTo>
                <a:cubicBezTo>
                  <a:pt x="2169" y="775"/>
                  <a:pt x="2139" y="838"/>
                  <a:pt x="2125" y="897"/>
                </a:cubicBezTo>
                <a:cubicBezTo>
                  <a:pt x="2118" y="925"/>
                  <a:pt x="2108" y="965"/>
                  <a:pt x="2125" y="990"/>
                </a:cubicBezTo>
                <a:cubicBezTo>
                  <a:pt x="2131" y="993"/>
                  <a:pt x="2136" y="996"/>
                  <a:pt x="2142" y="999"/>
                </a:cubicBezTo>
                <a:cubicBezTo>
                  <a:pt x="2181" y="986"/>
                  <a:pt x="2204" y="978"/>
                  <a:pt x="2236" y="948"/>
                </a:cubicBezTo>
                <a:cubicBezTo>
                  <a:pt x="2295" y="892"/>
                  <a:pt x="2315" y="818"/>
                  <a:pt x="2317" y="739"/>
                </a:cubicBezTo>
                <a:cubicBezTo>
                  <a:pt x="2319" y="671"/>
                  <a:pt x="2302" y="607"/>
                  <a:pt x="2270" y="547"/>
                </a:cubicBezTo>
                <a:cubicBezTo>
                  <a:pt x="2261" y="530"/>
                  <a:pt x="2246" y="512"/>
                  <a:pt x="2236" y="500"/>
                </a:cubicBezTo>
                <a:cubicBezTo>
                  <a:pt x="2255" y="509"/>
                  <a:pt x="2279" y="522"/>
                  <a:pt x="2300" y="530"/>
                </a:cubicBezTo>
                <a:cubicBezTo>
                  <a:pt x="2361" y="553"/>
                  <a:pt x="2425" y="564"/>
                  <a:pt x="2488" y="581"/>
                </a:cubicBezTo>
                <a:cubicBezTo>
                  <a:pt x="2542" y="596"/>
                  <a:pt x="2611" y="625"/>
                  <a:pt x="2637" y="679"/>
                </a:cubicBezTo>
                <a:cubicBezTo>
                  <a:pt x="2657" y="722"/>
                  <a:pt x="2654" y="774"/>
                  <a:pt x="2654" y="820"/>
                </a:cubicBezTo>
                <a:cubicBezTo>
                  <a:pt x="2654" y="846"/>
                  <a:pt x="2643" y="870"/>
                  <a:pt x="2641" y="892"/>
                </a:cubicBezTo>
                <a:cubicBezTo>
                  <a:pt x="2643" y="888"/>
                  <a:pt x="2644" y="884"/>
                  <a:pt x="2646" y="880"/>
                </a:cubicBezTo>
                <a:cubicBezTo>
                  <a:pt x="2661" y="835"/>
                  <a:pt x="2676" y="789"/>
                  <a:pt x="2692" y="743"/>
                </a:cubicBezTo>
                <a:cubicBezTo>
                  <a:pt x="2730" y="635"/>
                  <a:pt x="2765" y="512"/>
                  <a:pt x="2838" y="427"/>
                </a:cubicBezTo>
                <a:cubicBezTo>
                  <a:pt x="2876" y="461"/>
                  <a:pt x="2892" y="484"/>
                  <a:pt x="2914" y="538"/>
                </a:cubicBezTo>
                <a:cubicBezTo>
                  <a:pt x="2946" y="615"/>
                  <a:pt x="2973" y="695"/>
                  <a:pt x="3004" y="773"/>
                </a:cubicBezTo>
                <a:cubicBezTo>
                  <a:pt x="3009" y="787"/>
                  <a:pt x="3040" y="887"/>
                  <a:pt x="3077" y="854"/>
                </a:cubicBezTo>
                <a:cubicBezTo>
                  <a:pt x="3078" y="841"/>
                  <a:pt x="3080" y="829"/>
                  <a:pt x="3081" y="816"/>
                </a:cubicBezTo>
              </a:path>
              <a:path w="4307" h="1807">
                <a:moveTo>
                  <a:pt x="3226" y="487"/>
                </a:moveTo>
                <a:cubicBezTo>
                  <a:pt x="3246" y="632"/>
                  <a:pt x="3274" y="773"/>
                  <a:pt x="3311" y="914"/>
                </a:cubicBezTo>
                <a:cubicBezTo>
                  <a:pt x="3327" y="974"/>
                  <a:pt x="3347" y="1039"/>
                  <a:pt x="3367" y="1097"/>
                </a:cubicBezTo>
                <a:cubicBezTo>
                  <a:pt x="3367" y="1094"/>
                  <a:pt x="3367" y="1092"/>
                  <a:pt x="3367" y="1089"/>
                </a:cubicBezTo>
                <a:cubicBezTo>
                  <a:pt x="3349" y="1020"/>
                  <a:pt x="3323" y="951"/>
                  <a:pt x="3298" y="884"/>
                </a:cubicBezTo>
                <a:cubicBezTo>
                  <a:pt x="3251" y="757"/>
                  <a:pt x="3192" y="634"/>
                  <a:pt x="3141" y="508"/>
                </a:cubicBezTo>
              </a:path>
              <a:path w="4307" h="1807">
                <a:moveTo>
                  <a:pt x="3038" y="632"/>
                </a:moveTo>
                <a:cubicBezTo>
                  <a:pt x="3146" y="658"/>
                  <a:pt x="3237" y="639"/>
                  <a:pt x="3333" y="577"/>
                </a:cubicBezTo>
                <a:cubicBezTo>
                  <a:pt x="3413" y="525"/>
                  <a:pt x="3484" y="461"/>
                  <a:pt x="3554" y="397"/>
                </a:cubicBezTo>
                <a:cubicBezTo>
                  <a:pt x="3592" y="362"/>
                  <a:pt x="3628" y="325"/>
                  <a:pt x="3670" y="295"/>
                </a:cubicBezTo>
                <a:cubicBezTo>
                  <a:pt x="3671" y="295"/>
                  <a:pt x="3673" y="295"/>
                  <a:pt x="3674" y="295"/>
                </a:cubicBezTo>
                <a:cubicBezTo>
                  <a:pt x="3672" y="361"/>
                  <a:pt x="3650" y="403"/>
                  <a:pt x="3631" y="466"/>
                </a:cubicBezTo>
                <a:cubicBezTo>
                  <a:pt x="3601" y="565"/>
                  <a:pt x="3558" y="661"/>
                  <a:pt x="3529" y="760"/>
                </a:cubicBezTo>
                <a:cubicBezTo>
                  <a:pt x="3521" y="786"/>
                  <a:pt x="3531" y="796"/>
                  <a:pt x="3529" y="811"/>
                </a:cubicBezTo>
                <a:cubicBezTo>
                  <a:pt x="3575" y="775"/>
                  <a:pt x="3609" y="739"/>
                  <a:pt x="3644" y="692"/>
                </a:cubicBezTo>
                <a:cubicBezTo>
                  <a:pt x="3683" y="641"/>
                  <a:pt x="3705" y="591"/>
                  <a:pt x="3729" y="534"/>
                </a:cubicBezTo>
                <a:cubicBezTo>
                  <a:pt x="3741" y="506"/>
                  <a:pt x="3739" y="494"/>
                  <a:pt x="3751" y="466"/>
                </a:cubicBezTo>
                <a:cubicBezTo>
                  <a:pt x="3751" y="470"/>
                  <a:pt x="3751" y="474"/>
                  <a:pt x="3751" y="478"/>
                </a:cubicBezTo>
                <a:cubicBezTo>
                  <a:pt x="3761" y="520"/>
                  <a:pt x="3769" y="558"/>
                  <a:pt x="3781" y="598"/>
                </a:cubicBezTo>
                <a:cubicBezTo>
                  <a:pt x="3798" y="655"/>
                  <a:pt x="3806" y="712"/>
                  <a:pt x="3853" y="752"/>
                </a:cubicBezTo>
                <a:cubicBezTo>
                  <a:pt x="3860" y="753"/>
                  <a:pt x="3868" y="755"/>
                  <a:pt x="3875" y="756"/>
                </a:cubicBezTo>
                <a:cubicBezTo>
                  <a:pt x="3908" y="720"/>
                  <a:pt x="3931" y="693"/>
                  <a:pt x="3947" y="641"/>
                </a:cubicBezTo>
                <a:cubicBezTo>
                  <a:pt x="3980" y="530"/>
                  <a:pt x="3985" y="409"/>
                  <a:pt x="3990" y="295"/>
                </a:cubicBezTo>
                <a:cubicBezTo>
                  <a:pt x="3994" y="207"/>
                  <a:pt x="3975" y="108"/>
                  <a:pt x="3994" y="22"/>
                </a:cubicBezTo>
                <a:cubicBezTo>
                  <a:pt x="3994" y="7"/>
                  <a:pt x="3992" y="3"/>
                  <a:pt x="4003" y="0"/>
                </a:cubicBezTo>
                <a:cubicBezTo>
                  <a:pt x="4027" y="51"/>
                  <a:pt x="4050" y="103"/>
                  <a:pt x="4067" y="158"/>
                </a:cubicBezTo>
                <a:cubicBezTo>
                  <a:pt x="4106" y="281"/>
                  <a:pt x="4146" y="406"/>
                  <a:pt x="4182" y="530"/>
                </a:cubicBezTo>
                <a:cubicBezTo>
                  <a:pt x="4221" y="662"/>
                  <a:pt x="4261" y="795"/>
                  <a:pt x="4301" y="926"/>
                </a:cubicBezTo>
                <a:cubicBezTo>
                  <a:pt x="4305" y="941"/>
                  <a:pt x="4307" y="943"/>
                  <a:pt x="4306" y="952"/>
                </a:cubicBezTo>
                <a:cubicBezTo>
                  <a:pt x="4293" y="935"/>
                  <a:pt x="4278" y="917"/>
                  <a:pt x="4263" y="901"/>
                </a:cubicBezTo>
                <a:cubicBezTo>
                  <a:pt x="4239" y="876"/>
                  <a:pt x="4215" y="853"/>
                  <a:pt x="4190" y="828"/>
                </a:cubicBezTo>
              </a:path>
              <a:path w="4307" h="1807">
                <a:moveTo>
                  <a:pt x="3094" y="167"/>
                </a:moveTo>
                <a:cubicBezTo>
                  <a:pt x="3089" y="148"/>
                  <a:pt x="3083" y="138"/>
                  <a:pt x="3089" y="120"/>
                </a:cubicBezTo>
                <a:cubicBezTo>
                  <a:pt x="3091" y="120"/>
                  <a:pt x="3092" y="120"/>
                  <a:pt x="3094" y="120"/>
                </a:cubicBezTo>
                <a:cubicBezTo>
                  <a:pt x="3096" y="131"/>
                  <a:pt x="3100" y="146"/>
                  <a:pt x="3102" y="158"/>
                </a:cubicBezTo>
                <a:cubicBezTo>
                  <a:pt x="3110" y="219"/>
                  <a:pt x="3118" y="281"/>
                  <a:pt x="3128" y="342"/>
                </a:cubicBezTo>
                <a:cubicBezTo>
                  <a:pt x="3145" y="444"/>
                  <a:pt x="3160" y="548"/>
                  <a:pt x="3183" y="649"/>
                </a:cubicBezTo>
                <a:cubicBezTo>
                  <a:pt x="3209" y="764"/>
                  <a:pt x="3239" y="875"/>
                  <a:pt x="3277" y="98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3"/>
          <p:cNvSpPr/>
          <p:nvPr/>
        </p:nvSpPr>
        <p:spPr>
          <a:xfrm>
            <a:off x="3514680" y="860400"/>
            <a:ext cx="1655640" cy="1295280"/>
          </a:xfrm>
          <a:custGeom>
            <a:avLst/>
            <a:gdLst/>
            <a:ahLst/>
            <a:rect l="l" t="t" r="r" b="b"/>
            <a:pathLst>
              <a:path w="4597" h="3599">
                <a:moveTo>
                  <a:pt x="1617" y="218"/>
                </a:moveTo>
                <a:cubicBezTo>
                  <a:pt x="1614" y="224"/>
                  <a:pt x="1605" y="234"/>
                  <a:pt x="1600" y="244"/>
                </a:cubicBezTo>
                <a:cubicBezTo>
                  <a:pt x="1574" y="292"/>
                  <a:pt x="1546" y="339"/>
                  <a:pt x="1523" y="389"/>
                </a:cubicBezTo>
                <a:cubicBezTo>
                  <a:pt x="1456" y="532"/>
                  <a:pt x="1392" y="676"/>
                  <a:pt x="1327" y="820"/>
                </a:cubicBezTo>
                <a:cubicBezTo>
                  <a:pt x="1111" y="1295"/>
                  <a:pt x="916" y="1778"/>
                  <a:pt x="691" y="2249"/>
                </a:cubicBezTo>
                <a:cubicBezTo>
                  <a:pt x="528" y="2590"/>
                  <a:pt x="347" y="2920"/>
                  <a:pt x="175" y="3256"/>
                </a:cubicBezTo>
                <a:cubicBezTo>
                  <a:pt x="118" y="3367"/>
                  <a:pt x="56" y="3479"/>
                  <a:pt x="0" y="3589"/>
                </a:cubicBezTo>
                <a:cubicBezTo>
                  <a:pt x="0" y="3593"/>
                  <a:pt x="0" y="3595"/>
                  <a:pt x="0" y="3598"/>
                </a:cubicBezTo>
                <a:cubicBezTo>
                  <a:pt x="2" y="3598"/>
                  <a:pt x="23" y="3590"/>
                  <a:pt x="30" y="3589"/>
                </a:cubicBezTo>
                <a:cubicBezTo>
                  <a:pt x="117" y="3572"/>
                  <a:pt x="205" y="3553"/>
                  <a:pt x="294" y="3542"/>
                </a:cubicBezTo>
                <a:cubicBezTo>
                  <a:pt x="577" y="3507"/>
                  <a:pt x="861" y="3479"/>
                  <a:pt x="1144" y="3453"/>
                </a:cubicBezTo>
                <a:cubicBezTo>
                  <a:pt x="2093" y="3366"/>
                  <a:pt x="3059" y="3388"/>
                  <a:pt x="4003" y="3295"/>
                </a:cubicBezTo>
                <a:cubicBezTo>
                  <a:pt x="4052" y="3290"/>
                  <a:pt x="4083" y="3309"/>
                  <a:pt x="4105" y="3273"/>
                </a:cubicBezTo>
                <a:cubicBezTo>
                  <a:pt x="4114" y="3259"/>
                  <a:pt x="4069" y="3205"/>
                  <a:pt x="4071" y="3197"/>
                </a:cubicBezTo>
              </a:path>
              <a:path w="4597" h="3599">
                <a:moveTo>
                  <a:pt x="1438" y="0"/>
                </a:moveTo>
                <a:cubicBezTo>
                  <a:pt x="1478" y="42"/>
                  <a:pt x="1519" y="86"/>
                  <a:pt x="1562" y="128"/>
                </a:cubicBezTo>
                <a:cubicBezTo>
                  <a:pt x="1690" y="251"/>
                  <a:pt x="1822" y="368"/>
                  <a:pt x="1946" y="495"/>
                </a:cubicBezTo>
                <a:cubicBezTo>
                  <a:pt x="2087" y="639"/>
                  <a:pt x="2223" y="787"/>
                  <a:pt x="2360" y="935"/>
                </a:cubicBezTo>
                <a:cubicBezTo>
                  <a:pt x="2515" y="1103"/>
                  <a:pt x="2668" y="1272"/>
                  <a:pt x="2825" y="1438"/>
                </a:cubicBezTo>
                <a:cubicBezTo>
                  <a:pt x="2982" y="1605"/>
                  <a:pt x="3141" y="1771"/>
                  <a:pt x="3303" y="1933"/>
                </a:cubicBezTo>
                <a:cubicBezTo>
                  <a:pt x="3607" y="2237"/>
                  <a:pt x="3965" y="2467"/>
                  <a:pt x="4280" y="2753"/>
                </a:cubicBezTo>
                <a:cubicBezTo>
                  <a:pt x="4341" y="2808"/>
                  <a:pt x="4397" y="2872"/>
                  <a:pt x="4417" y="2953"/>
                </a:cubicBezTo>
                <a:cubicBezTo>
                  <a:pt x="4424" y="2982"/>
                  <a:pt x="4411" y="3012"/>
                  <a:pt x="4421" y="3039"/>
                </a:cubicBezTo>
                <a:cubicBezTo>
                  <a:pt x="4436" y="3080"/>
                  <a:pt x="4446" y="3100"/>
                  <a:pt x="4472" y="3133"/>
                </a:cubicBezTo>
                <a:cubicBezTo>
                  <a:pt x="4480" y="3143"/>
                  <a:pt x="4487" y="3152"/>
                  <a:pt x="4498" y="3158"/>
                </a:cubicBezTo>
                <a:cubicBezTo>
                  <a:pt x="4508" y="3163"/>
                  <a:pt x="4502" y="3165"/>
                  <a:pt x="4506" y="3167"/>
                </a:cubicBezTo>
                <a:cubicBezTo>
                  <a:pt x="4511" y="3169"/>
                  <a:pt x="4501" y="3165"/>
                  <a:pt x="4506" y="3167"/>
                </a:cubicBezTo>
                <a:cubicBezTo>
                  <a:pt x="4512" y="3169"/>
                  <a:pt x="4505" y="3160"/>
                  <a:pt x="4511" y="3162"/>
                </a:cubicBezTo>
                <a:cubicBezTo>
                  <a:pt x="4519" y="3164"/>
                  <a:pt x="4506" y="3133"/>
                  <a:pt x="4532" y="3137"/>
                </a:cubicBezTo>
              </a:path>
              <a:path w="4597" h="3599">
                <a:moveTo>
                  <a:pt x="3730" y="3333"/>
                </a:moveTo>
                <a:cubicBezTo>
                  <a:pt x="3777" y="3324"/>
                  <a:pt x="3809" y="3303"/>
                  <a:pt x="3853" y="3286"/>
                </a:cubicBezTo>
                <a:cubicBezTo>
                  <a:pt x="3960" y="3246"/>
                  <a:pt x="4071" y="3217"/>
                  <a:pt x="4182" y="3192"/>
                </a:cubicBezTo>
                <a:cubicBezTo>
                  <a:pt x="4250" y="3177"/>
                  <a:pt x="4318" y="3163"/>
                  <a:pt x="4387" y="3150"/>
                </a:cubicBezTo>
                <a:cubicBezTo>
                  <a:pt x="4436" y="3141"/>
                  <a:pt x="4484" y="3130"/>
                  <a:pt x="4532" y="3120"/>
                </a:cubicBezTo>
                <a:cubicBezTo>
                  <a:pt x="4552" y="3116"/>
                  <a:pt x="4572" y="3110"/>
                  <a:pt x="4592" y="3107"/>
                </a:cubicBezTo>
                <a:cubicBezTo>
                  <a:pt x="4593" y="3107"/>
                  <a:pt x="4595" y="3107"/>
                  <a:pt x="4596" y="3107"/>
                </a:cubicBezTo>
                <a:cubicBezTo>
                  <a:pt x="4586" y="3106"/>
                  <a:pt x="4564" y="3098"/>
                  <a:pt x="4562" y="3098"/>
                </a:cubicBezTo>
                <a:cubicBezTo>
                  <a:pt x="4565" y="3100"/>
                  <a:pt x="4567" y="3101"/>
                  <a:pt x="4570" y="310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4" name="Freeform 4"/>
          <p:cNvSpPr/>
          <p:nvPr/>
        </p:nvSpPr>
        <p:spPr>
          <a:xfrm>
            <a:off x="6622920" y="3714840"/>
            <a:ext cx="1338480" cy="1184040"/>
          </a:xfrm>
          <a:custGeom>
            <a:avLst/>
            <a:gdLst/>
            <a:ahLst/>
            <a:rect l="l" t="t" r="r" b="b"/>
            <a:pathLst>
              <a:path w="3718" h="3291">
                <a:moveTo>
                  <a:pt x="2582" y="226"/>
                </a:moveTo>
                <a:cubicBezTo>
                  <a:pt x="2514" y="178"/>
                  <a:pt x="2456" y="127"/>
                  <a:pt x="2377" y="94"/>
                </a:cubicBezTo>
                <a:cubicBezTo>
                  <a:pt x="2162" y="2"/>
                  <a:pt x="1894" y="-13"/>
                  <a:pt x="1664" y="4"/>
                </a:cubicBezTo>
                <a:cubicBezTo>
                  <a:pt x="1281" y="32"/>
                  <a:pt x="939" y="158"/>
                  <a:pt x="657" y="423"/>
                </a:cubicBezTo>
                <a:cubicBezTo>
                  <a:pt x="444" y="624"/>
                  <a:pt x="275" y="892"/>
                  <a:pt x="162" y="1161"/>
                </a:cubicBezTo>
                <a:cubicBezTo>
                  <a:pt x="-14" y="1581"/>
                  <a:pt x="-101" y="2110"/>
                  <a:pt x="171" y="2509"/>
                </a:cubicBezTo>
                <a:cubicBezTo>
                  <a:pt x="315" y="2720"/>
                  <a:pt x="509" y="2864"/>
                  <a:pt x="734" y="2979"/>
                </a:cubicBezTo>
                <a:cubicBezTo>
                  <a:pt x="980" y="3105"/>
                  <a:pt x="1257" y="3189"/>
                  <a:pt x="1528" y="3239"/>
                </a:cubicBezTo>
                <a:cubicBezTo>
                  <a:pt x="2117" y="3348"/>
                  <a:pt x="2746" y="3293"/>
                  <a:pt x="3209" y="2881"/>
                </a:cubicBezTo>
                <a:cubicBezTo>
                  <a:pt x="3489" y="2632"/>
                  <a:pt x="3651" y="2280"/>
                  <a:pt x="3700" y="1912"/>
                </a:cubicBezTo>
                <a:cubicBezTo>
                  <a:pt x="3746" y="1563"/>
                  <a:pt x="3727" y="1129"/>
                  <a:pt x="3529" y="824"/>
                </a:cubicBezTo>
                <a:cubicBezTo>
                  <a:pt x="3354" y="556"/>
                  <a:pt x="3123" y="459"/>
                  <a:pt x="2834" y="354"/>
                </a:cubicBezTo>
                <a:cubicBezTo>
                  <a:pt x="2593" y="267"/>
                  <a:pt x="2367" y="147"/>
                  <a:pt x="2129" y="5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5" name="Freeform 5"/>
          <p:cNvSpPr/>
          <p:nvPr/>
        </p:nvSpPr>
        <p:spPr>
          <a:xfrm>
            <a:off x="1077840" y="3678120"/>
            <a:ext cx="1338480" cy="2200320"/>
          </a:xfrm>
          <a:custGeom>
            <a:avLst/>
            <a:gdLst/>
            <a:ahLst/>
            <a:rect l="l" t="t" r="r" b="b"/>
            <a:pathLst>
              <a:path w="3718" h="6112">
                <a:moveTo>
                  <a:pt x="175" y="89"/>
                </a:moveTo>
                <a:cubicBezTo>
                  <a:pt x="175" y="84"/>
                  <a:pt x="175" y="94"/>
                  <a:pt x="175" y="89"/>
                </a:cubicBezTo>
                <a:cubicBezTo>
                  <a:pt x="175" y="84"/>
                  <a:pt x="175" y="94"/>
                  <a:pt x="175" y="89"/>
                </a:cubicBezTo>
                <a:cubicBezTo>
                  <a:pt x="175" y="88"/>
                  <a:pt x="175" y="86"/>
                  <a:pt x="175" y="85"/>
                </a:cubicBezTo>
                <a:cubicBezTo>
                  <a:pt x="174" y="90"/>
                  <a:pt x="171" y="84"/>
                  <a:pt x="170" y="89"/>
                </a:cubicBezTo>
                <a:cubicBezTo>
                  <a:pt x="165" y="115"/>
                  <a:pt x="162" y="139"/>
                  <a:pt x="158" y="166"/>
                </a:cubicBezTo>
                <a:cubicBezTo>
                  <a:pt x="152" y="211"/>
                  <a:pt x="152" y="258"/>
                  <a:pt x="145" y="303"/>
                </a:cubicBezTo>
                <a:cubicBezTo>
                  <a:pt x="126" y="426"/>
                  <a:pt x="124" y="546"/>
                  <a:pt x="123" y="670"/>
                </a:cubicBezTo>
                <a:cubicBezTo>
                  <a:pt x="120" y="1404"/>
                  <a:pt x="139" y="2134"/>
                  <a:pt x="115" y="2867"/>
                </a:cubicBezTo>
                <a:cubicBezTo>
                  <a:pt x="108" y="3065"/>
                  <a:pt x="100" y="3263"/>
                  <a:pt x="94" y="3461"/>
                </a:cubicBezTo>
                <a:cubicBezTo>
                  <a:pt x="89" y="3615"/>
                  <a:pt x="91" y="3767"/>
                  <a:pt x="94" y="3921"/>
                </a:cubicBezTo>
                <a:cubicBezTo>
                  <a:pt x="95" y="3967"/>
                  <a:pt x="95" y="4009"/>
                  <a:pt x="102" y="4054"/>
                </a:cubicBezTo>
                <a:cubicBezTo>
                  <a:pt x="106" y="4082"/>
                  <a:pt x="102" y="4043"/>
                  <a:pt x="102" y="4015"/>
                </a:cubicBezTo>
              </a:path>
              <a:path w="3718" h="6112">
                <a:moveTo>
                  <a:pt x="166" y="0"/>
                </a:moveTo>
                <a:cubicBezTo>
                  <a:pt x="171" y="4"/>
                  <a:pt x="169" y="4"/>
                  <a:pt x="175" y="8"/>
                </a:cubicBezTo>
                <a:cubicBezTo>
                  <a:pt x="222" y="41"/>
                  <a:pt x="269" y="76"/>
                  <a:pt x="315" y="111"/>
                </a:cubicBezTo>
                <a:cubicBezTo>
                  <a:pt x="817" y="488"/>
                  <a:pt x="1322" y="837"/>
                  <a:pt x="1877" y="1135"/>
                </a:cubicBezTo>
                <a:cubicBezTo>
                  <a:pt x="2258" y="1340"/>
                  <a:pt x="2630" y="1558"/>
                  <a:pt x="2961" y="1839"/>
                </a:cubicBezTo>
                <a:cubicBezTo>
                  <a:pt x="3165" y="2012"/>
                  <a:pt x="3353" y="2202"/>
                  <a:pt x="3563" y="2368"/>
                </a:cubicBezTo>
                <a:cubicBezTo>
                  <a:pt x="3619" y="2412"/>
                  <a:pt x="3674" y="2466"/>
                  <a:pt x="3712" y="2509"/>
                </a:cubicBezTo>
                <a:cubicBezTo>
                  <a:pt x="3714" y="2515"/>
                  <a:pt x="3715" y="2520"/>
                  <a:pt x="3717" y="2526"/>
                </a:cubicBezTo>
              </a:path>
              <a:path w="3718" h="6112">
                <a:moveTo>
                  <a:pt x="25" y="3913"/>
                </a:moveTo>
                <a:cubicBezTo>
                  <a:pt x="15" y="3908"/>
                  <a:pt x="14" y="3918"/>
                  <a:pt x="4" y="3913"/>
                </a:cubicBezTo>
                <a:cubicBezTo>
                  <a:pt x="3" y="3910"/>
                  <a:pt x="1" y="3907"/>
                  <a:pt x="0" y="3904"/>
                </a:cubicBezTo>
                <a:cubicBezTo>
                  <a:pt x="8" y="3912"/>
                  <a:pt x="-2" y="3918"/>
                  <a:pt x="12" y="3930"/>
                </a:cubicBezTo>
                <a:cubicBezTo>
                  <a:pt x="58" y="3970"/>
                  <a:pt x="111" y="4005"/>
                  <a:pt x="158" y="4045"/>
                </a:cubicBezTo>
                <a:cubicBezTo>
                  <a:pt x="348" y="4208"/>
                  <a:pt x="547" y="4354"/>
                  <a:pt x="742" y="4510"/>
                </a:cubicBezTo>
                <a:cubicBezTo>
                  <a:pt x="969" y="4691"/>
                  <a:pt x="1212" y="4841"/>
                  <a:pt x="1459" y="4993"/>
                </a:cubicBezTo>
                <a:cubicBezTo>
                  <a:pt x="1749" y="5172"/>
                  <a:pt x="2055" y="5317"/>
                  <a:pt x="2355" y="5479"/>
                </a:cubicBezTo>
                <a:cubicBezTo>
                  <a:pt x="2557" y="5588"/>
                  <a:pt x="2759" y="5709"/>
                  <a:pt x="2974" y="5791"/>
                </a:cubicBezTo>
                <a:cubicBezTo>
                  <a:pt x="3031" y="5813"/>
                  <a:pt x="3102" y="5838"/>
                  <a:pt x="3162" y="5842"/>
                </a:cubicBezTo>
                <a:cubicBezTo>
                  <a:pt x="3177" y="5843"/>
                  <a:pt x="3172" y="5851"/>
                  <a:pt x="3187" y="5850"/>
                </a:cubicBezTo>
                <a:cubicBezTo>
                  <a:pt x="3184" y="5836"/>
                  <a:pt x="3185" y="5831"/>
                  <a:pt x="3175" y="5829"/>
                </a:cubicBezTo>
              </a:path>
              <a:path w="3718" h="6112">
                <a:moveTo>
                  <a:pt x="3644" y="2261"/>
                </a:moveTo>
                <a:cubicBezTo>
                  <a:pt x="3644" y="2266"/>
                  <a:pt x="3640" y="2275"/>
                  <a:pt x="3640" y="2287"/>
                </a:cubicBezTo>
                <a:cubicBezTo>
                  <a:pt x="3638" y="2352"/>
                  <a:pt x="3639" y="2415"/>
                  <a:pt x="3640" y="2479"/>
                </a:cubicBezTo>
                <a:cubicBezTo>
                  <a:pt x="3642" y="2654"/>
                  <a:pt x="3650" y="2829"/>
                  <a:pt x="3653" y="3004"/>
                </a:cubicBezTo>
                <a:cubicBezTo>
                  <a:pt x="3658" y="3274"/>
                  <a:pt x="3666" y="3545"/>
                  <a:pt x="3665" y="3815"/>
                </a:cubicBezTo>
                <a:cubicBezTo>
                  <a:pt x="3664" y="4099"/>
                  <a:pt x="3658" y="4385"/>
                  <a:pt x="3644" y="4668"/>
                </a:cubicBezTo>
                <a:cubicBezTo>
                  <a:pt x="3633" y="4877"/>
                  <a:pt x="3620" y="5087"/>
                  <a:pt x="3601" y="5296"/>
                </a:cubicBezTo>
                <a:cubicBezTo>
                  <a:pt x="3590" y="5418"/>
                  <a:pt x="3579" y="5542"/>
                  <a:pt x="3559" y="5663"/>
                </a:cubicBezTo>
                <a:cubicBezTo>
                  <a:pt x="3541" y="5771"/>
                  <a:pt x="3521" y="5878"/>
                  <a:pt x="3512" y="5987"/>
                </a:cubicBezTo>
                <a:cubicBezTo>
                  <a:pt x="3508" y="6030"/>
                  <a:pt x="3492" y="6148"/>
                  <a:pt x="3503" y="6106"/>
                </a:cubicBezTo>
                <a:cubicBezTo>
                  <a:pt x="3505" y="6099"/>
                  <a:pt x="3511" y="6060"/>
                  <a:pt x="3512" y="6038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3514680" y="860400"/>
            <a:ext cx="1655640" cy="1295280"/>
          </a:xfrm>
          <a:custGeom>
            <a:avLst/>
            <a:gdLst/>
            <a:ahLst/>
            <a:rect l="l" t="t" r="r" b="b"/>
            <a:pathLst>
              <a:path w="4597" h="3599">
                <a:moveTo>
                  <a:pt x="1617" y="218"/>
                </a:moveTo>
                <a:cubicBezTo>
                  <a:pt x="1614" y="224"/>
                  <a:pt x="1605" y="234"/>
                  <a:pt x="1600" y="244"/>
                </a:cubicBezTo>
                <a:cubicBezTo>
                  <a:pt x="1574" y="292"/>
                  <a:pt x="1546" y="339"/>
                  <a:pt x="1523" y="389"/>
                </a:cubicBezTo>
                <a:cubicBezTo>
                  <a:pt x="1456" y="532"/>
                  <a:pt x="1392" y="676"/>
                  <a:pt x="1327" y="820"/>
                </a:cubicBezTo>
                <a:cubicBezTo>
                  <a:pt x="1111" y="1295"/>
                  <a:pt x="916" y="1778"/>
                  <a:pt x="691" y="2249"/>
                </a:cubicBezTo>
                <a:cubicBezTo>
                  <a:pt x="528" y="2590"/>
                  <a:pt x="347" y="2920"/>
                  <a:pt x="175" y="3256"/>
                </a:cubicBezTo>
                <a:cubicBezTo>
                  <a:pt x="118" y="3367"/>
                  <a:pt x="56" y="3479"/>
                  <a:pt x="0" y="3589"/>
                </a:cubicBezTo>
                <a:cubicBezTo>
                  <a:pt x="0" y="3593"/>
                  <a:pt x="0" y="3595"/>
                  <a:pt x="0" y="3598"/>
                </a:cubicBezTo>
                <a:cubicBezTo>
                  <a:pt x="2" y="3598"/>
                  <a:pt x="23" y="3590"/>
                  <a:pt x="30" y="3589"/>
                </a:cubicBezTo>
                <a:cubicBezTo>
                  <a:pt x="117" y="3572"/>
                  <a:pt x="205" y="3553"/>
                  <a:pt x="294" y="3542"/>
                </a:cubicBezTo>
                <a:cubicBezTo>
                  <a:pt x="577" y="3507"/>
                  <a:pt x="861" y="3479"/>
                  <a:pt x="1144" y="3453"/>
                </a:cubicBezTo>
                <a:cubicBezTo>
                  <a:pt x="2093" y="3366"/>
                  <a:pt x="3059" y="3388"/>
                  <a:pt x="4003" y="3295"/>
                </a:cubicBezTo>
                <a:cubicBezTo>
                  <a:pt x="4052" y="3290"/>
                  <a:pt x="4083" y="3309"/>
                  <a:pt x="4105" y="3273"/>
                </a:cubicBezTo>
                <a:cubicBezTo>
                  <a:pt x="4114" y="3259"/>
                  <a:pt x="4069" y="3205"/>
                  <a:pt x="4071" y="3197"/>
                </a:cubicBezTo>
              </a:path>
              <a:path w="4597" h="3599">
                <a:moveTo>
                  <a:pt x="1438" y="0"/>
                </a:moveTo>
                <a:cubicBezTo>
                  <a:pt x="1478" y="42"/>
                  <a:pt x="1519" y="86"/>
                  <a:pt x="1562" y="128"/>
                </a:cubicBezTo>
                <a:cubicBezTo>
                  <a:pt x="1690" y="251"/>
                  <a:pt x="1822" y="368"/>
                  <a:pt x="1946" y="495"/>
                </a:cubicBezTo>
                <a:cubicBezTo>
                  <a:pt x="2087" y="639"/>
                  <a:pt x="2223" y="787"/>
                  <a:pt x="2360" y="935"/>
                </a:cubicBezTo>
                <a:cubicBezTo>
                  <a:pt x="2515" y="1103"/>
                  <a:pt x="2668" y="1272"/>
                  <a:pt x="2825" y="1438"/>
                </a:cubicBezTo>
                <a:cubicBezTo>
                  <a:pt x="2982" y="1605"/>
                  <a:pt x="3141" y="1771"/>
                  <a:pt x="3303" y="1933"/>
                </a:cubicBezTo>
                <a:cubicBezTo>
                  <a:pt x="3607" y="2237"/>
                  <a:pt x="3965" y="2467"/>
                  <a:pt x="4280" y="2753"/>
                </a:cubicBezTo>
                <a:cubicBezTo>
                  <a:pt x="4341" y="2808"/>
                  <a:pt x="4397" y="2872"/>
                  <a:pt x="4417" y="2953"/>
                </a:cubicBezTo>
                <a:cubicBezTo>
                  <a:pt x="4424" y="2982"/>
                  <a:pt x="4411" y="3012"/>
                  <a:pt x="4421" y="3039"/>
                </a:cubicBezTo>
                <a:cubicBezTo>
                  <a:pt x="4436" y="3080"/>
                  <a:pt x="4446" y="3100"/>
                  <a:pt x="4472" y="3133"/>
                </a:cubicBezTo>
                <a:cubicBezTo>
                  <a:pt x="4480" y="3143"/>
                  <a:pt x="4487" y="3152"/>
                  <a:pt x="4498" y="3158"/>
                </a:cubicBezTo>
                <a:cubicBezTo>
                  <a:pt x="4508" y="3163"/>
                  <a:pt x="4502" y="3165"/>
                  <a:pt x="4506" y="3167"/>
                </a:cubicBezTo>
                <a:cubicBezTo>
                  <a:pt x="4511" y="3169"/>
                  <a:pt x="4501" y="3165"/>
                  <a:pt x="4506" y="3167"/>
                </a:cubicBezTo>
                <a:cubicBezTo>
                  <a:pt x="4512" y="3169"/>
                  <a:pt x="4505" y="3160"/>
                  <a:pt x="4511" y="3162"/>
                </a:cubicBezTo>
                <a:cubicBezTo>
                  <a:pt x="4519" y="3164"/>
                  <a:pt x="4506" y="3133"/>
                  <a:pt x="4532" y="3137"/>
                </a:cubicBezTo>
              </a:path>
              <a:path w="4597" h="3599">
                <a:moveTo>
                  <a:pt x="3730" y="3333"/>
                </a:moveTo>
                <a:cubicBezTo>
                  <a:pt x="3777" y="3324"/>
                  <a:pt x="3809" y="3303"/>
                  <a:pt x="3853" y="3286"/>
                </a:cubicBezTo>
                <a:cubicBezTo>
                  <a:pt x="3960" y="3246"/>
                  <a:pt x="4071" y="3217"/>
                  <a:pt x="4182" y="3192"/>
                </a:cubicBezTo>
                <a:cubicBezTo>
                  <a:pt x="4250" y="3177"/>
                  <a:pt x="4318" y="3163"/>
                  <a:pt x="4387" y="3150"/>
                </a:cubicBezTo>
                <a:cubicBezTo>
                  <a:pt x="4436" y="3141"/>
                  <a:pt x="4484" y="3130"/>
                  <a:pt x="4532" y="3120"/>
                </a:cubicBezTo>
                <a:cubicBezTo>
                  <a:pt x="4552" y="3116"/>
                  <a:pt x="4572" y="3110"/>
                  <a:pt x="4592" y="3107"/>
                </a:cubicBezTo>
                <a:cubicBezTo>
                  <a:pt x="4593" y="3107"/>
                  <a:pt x="4595" y="3107"/>
                  <a:pt x="4596" y="3107"/>
                </a:cubicBezTo>
                <a:cubicBezTo>
                  <a:pt x="4586" y="3106"/>
                  <a:pt x="4564" y="3098"/>
                  <a:pt x="4562" y="3098"/>
                </a:cubicBezTo>
                <a:cubicBezTo>
                  <a:pt x="4565" y="3100"/>
                  <a:pt x="4567" y="3101"/>
                  <a:pt x="4570" y="310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6622920" y="3714840"/>
            <a:ext cx="1338480" cy="1184040"/>
          </a:xfrm>
          <a:custGeom>
            <a:avLst/>
            <a:gdLst/>
            <a:ahLst/>
            <a:rect l="l" t="t" r="r" b="b"/>
            <a:pathLst>
              <a:path w="3718" h="3291">
                <a:moveTo>
                  <a:pt x="2582" y="226"/>
                </a:moveTo>
                <a:cubicBezTo>
                  <a:pt x="2514" y="178"/>
                  <a:pt x="2456" y="127"/>
                  <a:pt x="2377" y="94"/>
                </a:cubicBezTo>
                <a:cubicBezTo>
                  <a:pt x="2162" y="2"/>
                  <a:pt x="1894" y="-13"/>
                  <a:pt x="1664" y="4"/>
                </a:cubicBezTo>
                <a:cubicBezTo>
                  <a:pt x="1281" y="32"/>
                  <a:pt x="939" y="158"/>
                  <a:pt x="657" y="423"/>
                </a:cubicBezTo>
                <a:cubicBezTo>
                  <a:pt x="444" y="624"/>
                  <a:pt x="275" y="892"/>
                  <a:pt x="162" y="1161"/>
                </a:cubicBezTo>
                <a:cubicBezTo>
                  <a:pt x="-14" y="1581"/>
                  <a:pt x="-101" y="2110"/>
                  <a:pt x="171" y="2509"/>
                </a:cubicBezTo>
                <a:cubicBezTo>
                  <a:pt x="315" y="2720"/>
                  <a:pt x="509" y="2864"/>
                  <a:pt x="734" y="2979"/>
                </a:cubicBezTo>
                <a:cubicBezTo>
                  <a:pt x="980" y="3105"/>
                  <a:pt x="1257" y="3189"/>
                  <a:pt x="1528" y="3239"/>
                </a:cubicBezTo>
                <a:cubicBezTo>
                  <a:pt x="2117" y="3348"/>
                  <a:pt x="2746" y="3293"/>
                  <a:pt x="3209" y="2881"/>
                </a:cubicBezTo>
                <a:cubicBezTo>
                  <a:pt x="3489" y="2632"/>
                  <a:pt x="3651" y="2280"/>
                  <a:pt x="3700" y="1912"/>
                </a:cubicBezTo>
                <a:cubicBezTo>
                  <a:pt x="3746" y="1563"/>
                  <a:pt x="3727" y="1129"/>
                  <a:pt x="3529" y="824"/>
                </a:cubicBezTo>
                <a:cubicBezTo>
                  <a:pt x="3354" y="556"/>
                  <a:pt x="3123" y="459"/>
                  <a:pt x="2834" y="354"/>
                </a:cubicBezTo>
                <a:cubicBezTo>
                  <a:pt x="2593" y="267"/>
                  <a:pt x="2367" y="147"/>
                  <a:pt x="2129" y="5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8" name="Freeform 4"/>
          <p:cNvSpPr/>
          <p:nvPr/>
        </p:nvSpPr>
        <p:spPr>
          <a:xfrm>
            <a:off x="1077840" y="3678120"/>
            <a:ext cx="1338480" cy="2200320"/>
          </a:xfrm>
          <a:custGeom>
            <a:avLst/>
            <a:gdLst/>
            <a:ahLst/>
            <a:rect l="l" t="t" r="r" b="b"/>
            <a:pathLst>
              <a:path w="3718" h="6112">
                <a:moveTo>
                  <a:pt x="175" y="89"/>
                </a:moveTo>
                <a:cubicBezTo>
                  <a:pt x="175" y="84"/>
                  <a:pt x="175" y="94"/>
                  <a:pt x="175" y="89"/>
                </a:cubicBezTo>
                <a:cubicBezTo>
                  <a:pt x="175" y="84"/>
                  <a:pt x="175" y="94"/>
                  <a:pt x="175" y="89"/>
                </a:cubicBezTo>
                <a:cubicBezTo>
                  <a:pt x="175" y="88"/>
                  <a:pt x="175" y="86"/>
                  <a:pt x="175" y="85"/>
                </a:cubicBezTo>
                <a:cubicBezTo>
                  <a:pt x="174" y="90"/>
                  <a:pt x="171" y="84"/>
                  <a:pt x="170" y="89"/>
                </a:cubicBezTo>
                <a:cubicBezTo>
                  <a:pt x="165" y="115"/>
                  <a:pt x="162" y="139"/>
                  <a:pt x="158" y="166"/>
                </a:cubicBezTo>
                <a:cubicBezTo>
                  <a:pt x="152" y="211"/>
                  <a:pt x="152" y="258"/>
                  <a:pt x="145" y="303"/>
                </a:cubicBezTo>
                <a:cubicBezTo>
                  <a:pt x="126" y="426"/>
                  <a:pt x="124" y="546"/>
                  <a:pt x="123" y="670"/>
                </a:cubicBezTo>
                <a:cubicBezTo>
                  <a:pt x="120" y="1404"/>
                  <a:pt x="139" y="2134"/>
                  <a:pt x="115" y="2867"/>
                </a:cubicBezTo>
                <a:cubicBezTo>
                  <a:pt x="108" y="3065"/>
                  <a:pt x="100" y="3263"/>
                  <a:pt x="94" y="3461"/>
                </a:cubicBezTo>
                <a:cubicBezTo>
                  <a:pt x="89" y="3615"/>
                  <a:pt x="91" y="3767"/>
                  <a:pt x="94" y="3921"/>
                </a:cubicBezTo>
                <a:cubicBezTo>
                  <a:pt x="95" y="3967"/>
                  <a:pt x="95" y="4009"/>
                  <a:pt x="102" y="4054"/>
                </a:cubicBezTo>
                <a:cubicBezTo>
                  <a:pt x="106" y="4082"/>
                  <a:pt x="102" y="4043"/>
                  <a:pt x="102" y="4015"/>
                </a:cubicBezTo>
              </a:path>
              <a:path w="3718" h="6112">
                <a:moveTo>
                  <a:pt x="166" y="0"/>
                </a:moveTo>
                <a:cubicBezTo>
                  <a:pt x="171" y="4"/>
                  <a:pt x="169" y="4"/>
                  <a:pt x="175" y="8"/>
                </a:cubicBezTo>
                <a:cubicBezTo>
                  <a:pt x="222" y="41"/>
                  <a:pt x="269" y="76"/>
                  <a:pt x="315" y="111"/>
                </a:cubicBezTo>
                <a:cubicBezTo>
                  <a:pt x="817" y="488"/>
                  <a:pt x="1322" y="837"/>
                  <a:pt x="1877" y="1135"/>
                </a:cubicBezTo>
                <a:cubicBezTo>
                  <a:pt x="2258" y="1340"/>
                  <a:pt x="2630" y="1558"/>
                  <a:pt x="2961" y="1839"/>
                </a:cubicBezTo>
                <a:cubicBezTo>
                  <a:pt x="3165" y="2012"/>
                  <a:pt x="3353" y="2202"/>
                  <a:pt x="3563" y="2368"/>
                </a:cubicBezTo>
                <a:cubicBezTo>
                  <a:pt x="3619" y="2412"/>
                  <a:pt x="3674" y="2466"/>
                  <a:pt x="3712" y="2509"/>
                </a:cubicBezTo>
                <a:cubicBezTo>
                  <a:pt x="3714" y="2515"/>
                  <a:pt x="3715" y="2520"/>
                  <a:pt x="3717" y="2526"/>
                </a:cubicBezTo>
              </a:path>
              <a:path w="3718" h="6112">
                <a:moveTo>
                  <a:pt x="25" y="3913"/>
                </a:moveTo>
                <a:cubicBezTo>
                  <a:pt x="15" y="3908"/>
                  <a:pt x="14" y="3918"/>
                  <a:pt x="4" y="3913"/>
                </a:cubicBezTo>
                <a:cubicBezTo>
                  <a:pt x="3" y="3910"/>
                  <a:pt x="1" y="3907"/>
                  <a:pt x="0" y="3904"/>
                </a:cubicBezTo>
                <a:cubicBezTo>
                  <a:pt x="8" y="3912"/>
                  <a:pt x="-2" y="3918"/>
                  <a:pt x="12" y="3930"/>
                </a:cubicBezTo>
                <a:cubicBezTo>
                  <a:pt x="58" y="3970"/>
                  <a:pt x="111" y="4005"/>
                  <a:pt x="158" y="4045"/>
                </a:cubicBezTo>
                <a:cubicBezTo>
                  <a:pt x="348" y="4208"/>
                  <a:pt x="547" y="4354"/>
                  <a:pt x="742" y="4510"/>
                </a:cubicBezTo>
                <a:cubicBezTo>
                  <a:pt x="969" y="4691"/>
                  <a:pt x="1212" y="4841"/>
                  <a:pt x="1459" y="4993"/>
                </a:cubicBezTo>
                <a:cubicBezTo>
                  <a:pt x="1749" y="5172"/>
                  <a:pt x="2055" y="5317"/>
                  <a:pt x="2355" y="5479"/>
                </a:cubicBezTo>
                <a:cubicBezTo>
                  <a:pt x="2557" y="5588"/>
                  <a:pt x="2759" y="5709"/>
                  <a:pt x="2974" y="5791"/>
                </a:cubicBezTo>
                <a:cubicBezTo>
                  <a:pt x="3031" y="5813"/>
                  <a:pt x="3102" y="5838"/>
                  <a:pt x="3162" y="5842"/>
                </a:cubicBezTo>
                <a:cubicBezTo>
                  <a:pt x="3177" y="5843"/>
                  <a:pt x="3172" y="5851"/>
                  <a:pt x="3187" y="5850"/>
                </a:cubicBezTo>
                <a:cubicBezTo>
                  <a:pt x="3184" y="5836"/>
                  <a:pt x="3185" y="5831"/>
                  <a:pt x="3175" y="5829"/>
                </a:cubicBezTo>
              </a:path>
              <a:path w="3718" h="6112">
                <a:moveTo>
                  <a:pt x="3644" y="2261"/>
                </a:moveTo>
                <a:cubicBezTo>
                  <a:pt x="3644" y="2266"/>
                  <a:pt x="3640" y="2275"/>
                  <a:pt x="3640" y="2287"/>
                </a:cubicBezTo>
                <a:cubicBezTo>
                  <a:pt x="3638" y="2352"/>
                  <a:pt x="3639" y="2415"/>
                  <a:pt x="3640" y="2479"/>
                </a:cubicBezTo>
                <a:cubicBezTo>
                  <a:pt x="3642" y="2654"/>
                  <a:pt x="3650" y="2829"/>
                  <a:pt x="3653" y="3004"/>
                </a:cubicBezTo>
                <a:cubicBezTo>
                  <a:pt x="3658" y="3274"/>
                  <a:pt x="3666" y="3545"/>
                  <a:pt x="3665" y="3815"/>
                </a:cubicBezTo>
                <a:cubicBezTo>
                  <a:pt x="3664" y="4099"/>
                  <a:pt x="3658" y="4385"/>
                  <a:pt x="3644" y="4668"/>
                </a:cubicBezTo>
                <a:cubicBezTo>
                  <a:pt x="3633" y="4877"/>
                  <a:pt x="3620" y="5087"/>
                  <a:pt x="3601" y="5296"/>
                </a:cubicBezTo>
                <a:cubicBezTo>
                  <a:pt x="3590" y="5418"/>
                  <a:pt x="3579" y="5542"/>
                  <a:pt x="3559" y="5663"/>
                </a:cubicBezTo>
                <a:cubicBezTo>
                  <a:pt x="3541" y="5771"/>
                  <a:pt x="3521" y="5878"/>
                  <a:pt x="3512" y="5987"/>
                </a:cubicBezTo>
                <a:cubicBezTo>
                  <a:pt x="3508" y="6030"/>
                  <a:pt x="3492" y="6148"/>
                  <a:pt x="3503" y="6106"/>
                </a:cubicBezTo>
                <a:cubicBezTo>
                  <a:pt x="3505" y="6099"/>
                  <a:pt x="3511" y="6060"/>
                  <a:pt x="3512" y="6038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2206800" y="3079800"/>
            <a:ext cx="1133280" cy="2725560"/>
          </a:xfrm>
          <a:custGeom>
            <a:avLst/>
            <a:gdLst/>
            <a:ahLst/>
            <a:rect l="l" t="t" r="r" b="b"/>
            <a:pathLst>
              <a:path w="3151" h="7571">
                <a:moveTo>
                  <a:pt x="521" y="3785"/>
                </a:moveTo>
                <a:cubicBezTo>
                  <a:pt x="515" y="3789"/>
                  <a:pt x="517" y="3784"/>
                  <a:pt x="512" y="3789"/>
                </a:cubicBezTo>
                <a:cubicBezTo>
                  <a:pt x="508" y="3793"/>
                  <a:pt x="511" y="3784"/>
                  <a:pt x="508" y="3789"/>
                </a:cubicBezTo>
                <a:cubicBezTo>
                  <a:pt x="509" y="3790"/>
                  <a:pt x="511" y="3792"/>
                  <a:pt x="512" y="3793"/>
                </a:cubicBezTo>
                <a:cubicBezTo>
                  <a:pt x="507" y="3792"/>
                  <a:pt x="517" y="3794"/>
                  <a:pt x="512" y="3793"/>
                </a:cubicBezTo>
                <a:cubicBezTo>
                  <a:pt x="502" y="3790"/>
                  <a:pt x="514" y="3790"/>
                  <a:pt x="504" y="3789"/>
                </a:cubicBezTo>
                <a:cubicBezTo>
                  <a:pt x="499" y="3788"/>
                  <a:pt x="509" y="3789"/>
                  <a:pt x="504" y="3789"/>
                </a:cubicBezTo>
                <a:cubicBezTo>
                  <a:pt x="498" y="3789"/>
                  <a:pt x="501" y="3789"/>
                  <a:pt x="495" y="3789"/>
                </a:cubicBezTo>
                <a:cubicBezTo>
                  <a:pt x="472" y="3788"/>
                  <a:pt x="450" y="3791"/>
                  <a:pt x="427" y="3793"/>
                </a:cubicBezTo>
                <a:cubicBezTo>
                  <a:pt x="447" y="3772"/>
                  <a:pt x="468" y="3742"/>
                  <a:pt x="491" y="3721"/>
                </a:cubicBezTo>
                <a:cubicBezTo>
                  <a:pt x="576" y="3644"/>
                  <a:pt x="663" y="3569"/>
                  <a:pt x="747" y="3490"/>
                </a:cubicBezTo>
                <a:cubicBezTo>
                  <a:pt x="991" y="3260"/>
                  <a:pt x="1241" y="3037"/>
                  <a:pt x="1490" y="2812"/>
                </a:cubicBezTo>
                <a:cubicBezTo>
                  <a:pt x="1689" y="2632"/>
                  <a:pt x="1886" y="2448"/>
                  <a:pt x="2087" y="2270"/>
                </a:cubicBezTo>
                <a:cubicBezTo>
                  <a:pt x="2186" y="2182"/>
                  <a:pt x="2277" y="2084"/>
                  <a:pt x="2377" y="1997"/>
                </a:cubicBezTo>
                <a:cubicBezTo>
                  <a:pt x="2423" y="1957"/>
                  <a:pt x="2480" y="1921"/>
                  <a:pt x="2522" y="1877"/>
                </a:cubicBezTo>
                <a:cubicBezTo>
                  <a:pt x="2530" y="1869"/>
                  <a:pt x="2556" y="1859"/>
                  <a:pt x="2561" y="1852"/>
                </a:cubicBezTo>
                <a:cubicBezTo>
                  <a:pt x="2570" y="1839"/>
                  <a:pt x="2528" y="1863"/>
                  <a:pt x="2544" y="1843"/>
                </a:cubicBezTo>
              </a:path>
              <a:path w="3151" h="7571">
                <a:moveTo>
                  <a:pt x="4" y="21"/>
                </a:moveTo>
                <a:cubicBezTo>
                  <a:pt x="4" y="12"/>
                  <a:pt x="4" y="12"/>
                  <a:pt x="4" y="0"/>
                </a:cubicBezTo>
                <a:cubicBezTo>
                  <a:pt x="7" y="3"/>
                  <a:pt x="7" y="9"/>
                  <a:pt x="13" y="13"/>
                </a:cubicBezTo>
                <a:cubicBezTo>
                  <a:pt x="83" y="63"/>
                  <a:pt x="160" y="92"/>
                  <a:pt x="239" y="128"/>
                </a:cubicBezTo>
                <a:cubicBezTo>
                  <a:pt x="363" y="185"/>
                  <a:pt x="494" y="226"/>
                  <a:pt x="619" y="281"/>
                </a:cubicBezTo>
                <a:cubicBezTo>
                  <a:pt x="1041" y="466"/>
                  <a:pt x="1449" y="692"/>
                  <a:pt x="1848" y="921"/>
                </a:cubicBezTo>
                <a:cubicBezTo>
                  <a:pt x="2162" y="1101"/>
                  <a:pt x="2454" y="1305"/>
                  <a:pt x="2753" y="1506"/>
                </a:cubicBezTo>
                <a:cubicBezTo>
                  <a:pt x="2806" y="1541"/>
                  <a:pt x="2862" y="1581"/>
                  <a:pt x="2919" y="1609"/>
                </a:cubicBezTo>
                <a:cubicBezTo>
                  <a:pt x="2933" y="1616"/>
                  <a:pt x="2953" y="1619"/>
                  <a:pt x="2966" y="1626"/>
                </a:cubicBezTo>
                <a:cubicBezTo>
                  <a:pt x="2961" y="1632"/>
                  <a:pt x="2967" y="1620"/>
                  <a:pt x="2962" y="1626"/>
                </a:cubicBezTo>
                <a:cubicBezTo>
                  <a:pt x="2957" y="1631"/>
                  <a:pt x="2950" y="1633"/>
                  <a:pt x="2945" y="1638"/>
                </a:cubicBezTo>
                <a:cubicBezTo>
                  <a:pt x="2936" y="1648"/>
                  <a:pt x="2943" y="1647"/>
                  <a:pt x="2936" y="1655"/>
                </a:cubicBezTo>
              </a:path>
              <a:path w="3151" h="7571">
                <a:moveTo>
                  <a:pt x="2241" y="1954"/>
                </a:moveTo>
                <a:lnTo>
                  <a:pt x="2241" y="1954"/>
                </a:lnTo>
              </a:path>
              <a:path w="3151" h="7571">
                <a:moveTo>
                  <a:pt x="2279" y="1843"/>
                </a:moveTo>
                <a:cubicBezTo>
                  <a:pt x="2319" y="1845"/>
                  <a:pt x="2358" y="1834"/>
                  <a:pt x="2398" y="1822"/>
                </a:cubicBezTo>
                <a:cubicBezTo>
                  <a:pt x="2471" y="1801"/>
                  <a:pt x="2545" y="1783"/>
                  <a:pt x="2616" y="1754"/>
                </a:cubicBezTo>
                <a:cubicBezTo>
                  <a:pt x="2679" y="1728"/>
                  <a:pt x="2748" y="1704"/>
                  <a:pt x="2808" y="1673"/>
                </a:cubicBezTo>
                <a:cubicBezTo>
                  <a:pt x="2824" y="1665"/>
                  <a:pt x="2870" y="1649"/>
                  <a:pt x="2881" y="1634"/>
                </a:cubicBezTo>
                <a:cubicBezTo>
                  <a:pt x="2889" y="1624"/>
                  <a:pt x="2866" y="1627"/>
                  <a:pt x="2881" y="1634"/>
                </a:cubicBezTo>
              </a:path>
              <a:path w="3151" h="7571">
                <a:moveTo>
                  <a:pt x="3026" y="1570"/>
                </a:moveTo>
                <a:lnTo>
                  <a:pt x="3026" y="1570"/>
                </a:lnTo>
              </a:path>
              <a:path w="3151" h="7571">
                <a:moveTo>
                  <a:pt x="3004" y="1638"/>
                </a:moveTo>
                <a:cubicBezTo>
                  <a:pt x="3004" y="1639"/>
                  <a:pt x="2996" y="1648"/>
                  <a:pt x="2996" y="1651"/>
                </a:cubicBezTo>
                <a:cubicBezTo>
                  <a:pt x="2995" y="1840"/>
                  <a:pt x="3015" y="2031"/>
                  <a:pt x="3022" y="2219"/>
                </a:cubicBezTo>
                <a:cubicBezTo>
                  <a:pt x="3044" y="2807"/>
                  <a:pt x="3070" y="3394"/>
                  <a:pt x="3098" y="3981"/>
                </a:cubicBezTo>
                <a:cubicBezTo>
                  <a:pt x="3111" y="4247"/>
                  <a:pt x="3126" y="4513"/>
                  <a:pt x="3137" y="4779"/>
                </a:cubicBezTo>
                <a:cubicBezTo>
                  <a:pt x="3142" y="4899"/>
                  <a:pt x="3152" y="5022"/>
                  <a:pt x="3150" y="5142"/>
                </a:cubicBezTo>
                <a:cubicBezTo>
                  <a:pt x="3150" y="5148"/>
                  <a:pt x="3152" y="5210"/>
                  <a:pt x="3141" y="5202"/>
                </a:cubicBezTo>
                <a:cubicBezTo>
                  <a:pt x="3129" y="5193"/>
                  <a:pt x="3135" y="5152"/>
                  <a:pt x="3128" y="5142"/>
                </a:cubicBezTo>
                <a:cubicBezTo>
                  <a:pt x="3121" y="5136"/>
                  <a:pt x="3114" y="5131"/>
                  <a:pt x="3107" y="5125"/>
                </a:cubicBezTo>
              </a:path>
              <a:path w="3151" h="7571">
                <a:moveTo>
                  <a:pt x="269" y="7532"/>
                </a:moveTo>
                <a:cubicBezTo>
                  <a:pt x="272" y="7546"/>
                  <a:pt x="275" y="7557"/>
                  <a:pt x="278" y="7570"/>
                </a:cubicBezTo>
                <a:cubicBezTo>
                  <a:pt x="290" y="7562"/>
                  <a:pt x="307" y="7554"/>
                  <a:pt x="320" y="7544"/>
                </a:cubicBezTo>
                <a:cubicBezTo>
                  <a:pt x="397" y="7486"/>
                  <a:pt x="474" y="7427"/>
                  <a:pt x="551" y="7369"/>
                </a:cubicBezTo>
                <a:cubicBezTo>
                  <a:pt x="737" y="7230"/>
                  <a:pt x="916" y="7083"/>
                  <a:pt x="1093" y="6934"/>
                </a:cubicBezTo>
                <a:cubicBezTo>
                  <a:pt x="1334" y="6731"/>
                  <a:pt x="1563" y="6515"/>
                  <a:pt x="1788" y="6294"/>
                </a:cubicBezTo>
                <a:cubicBezTo>
                  <a:pt x="2035" y="6052"/>
                  <a:pt x="2273" y="5800"/>
                  <a:pt x="2518" y="5556"/>
                </a:cubicBezTo>
                <a:cubicBezTo>
                  <a:pt x="2641" y="5433"/>
                  <a:pt x="2771" y="5269"/>
                  <a:pt x="2928" y="5185"/>
                </a:cubicBezTo>
                <a:cubicBezTo>
                  <a:pt x="2959" y="5168"/>
                  <a:pt x="2998" y="5174"/>
                  <a:pt x="3017" y="5168"/>
                </a:cubicBezTo>
                <a:cubicBezTo>
                  <a:pt x="3031" y="5163"/>
                  <a:pt x="2995" y="5184"/>
                  <a:pt x="3009" y="5180"/>
                </a:cubicBezTo>
                <a:cubicBezTo>
                  <a:pt x="3010" y="5176"/>
                  <a:pt x="3012" y="5172"/>
                  <a:pt x="3013" y="516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0" name="Freeform 7"/>
          <p:cNvSpPr/>
          <p:nvPr/>
        </p:nvSpPr>
        <p:spPr>
          <a:xfrm>
            <a:off x="4046400" y="566640"/>
            <a:ext cx="2092320" cy="1478160"/>
          </a:xfrm>
          <a:custGeom>
            <a:avLst/>
            <a:gdLst/>
            <a:ahLst/>
            <a:rect l="l" t="t" r="r" b="b"/>
            <a:pathLst>
              <a:path w="5813" h="4106">
                <a:moveTo>
                  <a:pt x="294" y="931"/>
                </a:moveTo>
                <a:cubicBezTo>
                  <a:pt x="244" y="901"/>
                  <a:pt x="273" y="849"/>
                  <a:pt x="166" y="854"/>
                </a:cubicBezTo>
                <a:cubicBezTo>
                  <a:pt x="91" y="857"/>
                  <a:pt x="57" y="898"/>
                  <a:pt x="0" y="922"/>
                </a:cubicBezTo>
                <a:cubicBezTo>
                  <a:pt x="2" y="922"/>
                  <a:pt x="12" y="933"/>
                  <a:pt x="25" y="931"/>
                </a:cubicBezTo>
                <a:cubicBezTo>
                  <a:pt x="101" y="917"/>
                  <a:pt x="176" y="899"/>
                  <a:pt x="251" y="879"/>
                </a:cubicBezTo>
                <a:cubicBezTo>
                  <a:pt x="391" y="842"/>
                  <a:pt x="531" y="798"/>
                  <a:pt x="670" y="756"/>
                </a:cubicBezTo>
                <a:cubicBezTo>
                  <a:pt x="1103" y="625"/>
                  <a:pt x="1532" y="484"/>
                  <a:pt x="1967" y="359"/>
                </a:cubicBezTo>
                <a:cubicBezTo>
                  <a:pt x="2327" y="256"/>
                  <a:pt x="2688" y="160"/>
                  <a:pt x="3051" y="69"/>
                </a:cubicBezTo>
                <a:cubicBezTo>
                  <a:pt x="3100" y="57"/>
                  <a:pt x="3318" y="-35"/>
                  <a:pt x="3371" y="0"/>
                </a:cubicBezTo>
                <a:cubicBezTo>
                  <a:pt x="3378" y="4"/>
                  <a:pt x="3365" y="17"/>
                  <a:pt x="3384" y="30"/>
                </a:cubicBezTo>
                <a:cubicBezTo>
                  <a:pt x="3421" y="55"/>
                  <a:pt x="3463" y="164"/>
                  <a:pt x="3486" y="201"/>
                </a:cubicBezTo>
                <a:cubicBezTo>
                  <a:pt x="3590" y="365"/>
                  <a:pt x="3686" y="538"/>
                  <a:pt x="3806" y="692"/>
                </a:cubicBezTo>
                <a:cubicBezTo>
                  <a:pt x="4165" y="1152"/>
                  <a:pt x="4629" y="1592"/>
                  <a:pt x="5065" y="1980"/>
                </a:cubicBezTo>
                <a:cubicBezTo>
                  <a:pt x="5184" y="2086"/>
                  <a:pt x="5375" y="2194"/>
                  <a:pt x="5458" y="2335"/>
                </a:cubicBezTo>
                <a:cubicBezTo>
                  <a:pt x="5475" y="2364"/>
                  <a:pt x="5492" y="2394"/>
                  <a:pt x="5500" y="2428"/>
                </a:cubicBezTo>
                <a:cubicBezTo>
                  <a:pt x="5512" y="2479"/>
                  <a:pt x="5492" y="2511"/>
                  <a:pt x="5492" y="2561"/>
                </a:cubicBezTo>
                <a:cubicBezTo>
                  <a:pt x="5489" y="2577"/>
                  <a:pt x="5486" y="2592"/>
                  <a:pt x="5483" y="2608"/>
                </a:cubicBezTo>
              </a:path>
              <a:path w="5813" h="4106">
                <a:moveTo>
                  <a:pt x="2859" y="4105"/>
                </a:moveTo>
                <a:cubicBezTo>
                  <a:pt x="2974" y="4061"/>
                  <a:pt x="3088" y="4019"/>
                  <a:pt x="3200" y="3969"/>
                </a:cubicBezTo>
                <a:cubicBezTo>
                  <a:pt x="3708" y="3742"/>
                  <a:pt x="4205" y="3494"/>
                  <a:pt x="4702" y="3243"/>
                </a:cubicBezTo>
                <a:cubicBezTo>
                  <a:pt x="4961" y="3112"/>
                  <a:pt x="5225" y="2977"/>
                  <a:pt x="5492" y="2864"/>
                </a:cubicBezTo>
                <a:cubicBezTo>
                  <a:pt x="5568" y="2832"/>
                  <a:pt x="5652" y="2798"/>
                  <a:pt x="5731" y="2774"/>
                </a:cubicBezTo>
                <a:cubicBezTo>
                  <a:pt x="5754" y="2767"/>
                  <a:pt x="5780" y="2764"/>
                  <a:pt x="5803" y="2757"/>
                </a:cubicBezTo>
                <a:cubicBezTo>
                  <a:pt x="5808" y="2757"/>
                  <a:pt x="5810" y="2756"/>
                  <a:pt x="5812" y="2753"/>
                </a:cubicBezTo>
                <a:cubicBezTo>
                  <a:pt x="5811" y="2752"/>
                  <a:pt x="5796" y="2752"/>
                  <a:pt x="5790" y="2748"/>
                </a:cubicBezTo>
                <a:cubicBezTo>
                  <a:pt x="5778" y="2741"/>
                  <a:pt x="5763" y="2735"/>
                  <a:pt x="5752" y="2727"/>
                </a:cubicBezTo>
                <a:cubicBezTo>
                  <a:pt x="5742" y="2719"/>
                  <a:pt x="5731" y="2710"/>
                  <a:pt x="5722" y="2702"/>
                </a:cubicBezTo>
                <a:cubicBezTo>
                  <a:pt x="5704" y="2685"/>
                  <a:pt x="5692" y="2660"/>
                  <a:pt x="5675" y="2642"/>
                </a:cubicBezTo>
                <a:cubicBezTo>
                  <a:pt x="5660" y="2626"/>
                  <a:pt x="5647" y="2614"/>
                  <a:pt x="5633" y="2595"/>
                </a:cubicBezTo>
                <a:cubicBezTo>
                  <a:pt x="5612" y="2566"/>
                  <a:pt x="5594" y="2532"/>
                  <a:pt x="5573" y="2501"/>
                </a:cubicBezTo>
                <a:cubicBezTo>
                  <a:pt x="5554" y="2473"/>
                  <a:pt x="5539" y="2454"/>
                  <a:pt x="5522" y="242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1" name="Freeform 8"/>
          <p:cNvSpPr/>
          <p:nvPr/>
        </p:nvSpPr>
        <p:spPr>
          <a:xfrm>
            <a:off x="6603840" y="2347920"/>
            <a:ext cx="1322640" cy="1779480"/>
          </a:xfrm>
          <a:custGeom>
            <a:avLst/>
            <a:gdLst/>
            <a:ahLst/>
            <a:rect l="l" t="t" r="r" b="b"/>
            <a:pathLst>
              <a:path w="3671" h="4947">
                <a:moveTo>
                  <a:pt x="0" y="4946"/>
                </a:moveTo>
                <a:cubicBezTo>
                  <a:pt x="2" y="4941"/>
                  <a:pt x="13" y="4920"/>
                  <a:pt x="17" y="4912"/>
                </a:cubicBezTo>
                <a:cubicBezTo>
                  <a:pt x="44" y="4851"/>
                  <a:pt x="65" y="4787"/>
                  <a:pt x="89" y="4724"/>
                </a:cubicBezTo>
                <a:cubicBezTo>
                  <a:pt x="233" y="4353"/>
                  <a:pt x="354" y="3972"/>
                  <a:pt x="478" y="3593"/>
                </a:cubicBezTo>
                <a:cubicBezTo>
                  <a:pt x="625" y="3142"/>
                  <a:pt x="779" y="2694"/>
                  <a:pt x="943" y="2249"/>
                </a:cubicBezTo>
                <a:cubicBezTo>
                  <a:pt x="1166" y="1646"/>
                  <a:pt x="1408" y="1058"/>
                  <a:pt x="1771" y="525"/>
                </a:cubicBezTo>
                <a:cubicBezTo>
                  <a:pt x="1836" y="430"/>
                  <a:pt x="1898" y="328"/>
                  <a:pt x="1971" y="239"/>
                </a:cubicBezTo>
                <a:cubicBezTo>
                  <a:pt x="1987" y="219"/>
                  <a:pt x="1996" y="195"/>
                  <a:pt x="2014" y="179"/>
                </a:cubicBezTo>
                <a:cubicBezTo>
                  <a:pt x="2019" y="175"/>
                  <a:pt x="2009" y="183"/>
                  <a:pt x="2014" y="179"/>
                </a:cubicBezTo>
                <a:cubicBezTo>
                  <a:pt x="2029" y="166"/>
                  <a:pt x="2056" y="157"/>
                  <a:pt x="2074" y="145"/>
                </a:cubicBezTo>
                <a:cubicBezTo>
                  <a:pt x="2286" y="1"/>
                  <a:pt x="2549" y="-47"/>
                  <a:pt x="2778" y="81"/>
                </a:cubicBezTo>
                <a:cubicBezTo>
                  <a:pt x="2941" y="172"/>
                  <a:pt x="3075" y="334"/>
                  <a:pt x="3200" y="470"/>
                </a:cubicBezTo>
                <a:cubicBezTo>
                  <a:pt x="3245" y="519"/>
                  <a:pt x="3291" y="563"/>
                  <a:pt x="3316" y="623"/>
                </a:cubicBezTo>
                <a:cubicBezTo>
                  <a:pt x="3322" y="637"/>
                  <a:pt x="3319" y="654"/>
                  <a:pt x="3324" y="670"/>
                </a:cubicBezTo>
                <a:cubicBezTo>
                  <a:pt x="3356" y="776"/>
                  <a:pt x="3360" y="906"/>
                  <a:pt x="3375" y="1016"/>
                </a:cubicBezTo>
                <a:cubicBezTo>
                  <a:pt x="3419" y="1344"/>
                  <a:pt x="3447" y="1673"/>
                  <a:pt x="3486" y="2002"/>
                </a:cubicBezTo>
                <a:cubicBezTo>
                  <a:pt x="3563" y="2652"/>
                  <a:pt x="3609" y="3297"/>
                  <a:pt x="3610" y="3952"/>
                </a:cubicBezTo>
                <a:cubicBezTo>
                  <a:pt x="3611" y="4180"/>
                  <a:pt x="3626" y="4410"/>
                  <a:pt x="3640" y="4635"/>
                </a:cubicBezTo>
                <a:cubicBezTo>
                  <a:pt x="3644" y="4699"/>
                  <a:pt x="3655" y="4760"/>
                  <a:pt x="3661" y="4822"/>
                </a:cubicBezTo>
                <a:cubicBezTo>
                  <a:pt x="3664" y="4846"/>
                  <a:pt x="3667" y="4839"/>
                  <a:pt x="3670" y="4865"/>
                </a:cubicBezTo>
                <a:cubicBezTo>
                  <a:pt x="3660" y="4875"/>
                  <a:pt x="3657" y="4880"/>
                  <a:pt x="3665" y="4891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2" name="Freeform 9"/>
          <p:cNvSpPr/>
          <p:nvPr/>
        </p:nvSpPr>
        <p:spPr>
          <a:xfrm>
            <a:off x="6626160" y="3949560"/>
            <a:ext cx="47520" cy="366840"/>
          </a:xfrm>
          <a:custGeom>
            <a:avLst/>
            <a:gdLst/>
            <a:ahLst/>
            <a:rect l="l" t="t" r="r" b="b"/>
            <a:pathLst>
              <a:path w="133" h="1021">
                <a:moveTo>
                  <a:pt x="132" y="0"/>
                </a:moveTo>
                <a:cubicBezTo>
                  <a:pt x="112" y="67"/>
                  <a:pt x="93" y="134"/>
                  <a:pt x="76" y="201"/>
                </a:cubicBezTo>
                <a:cubicBezTo>
                  <a:pt x="56" y="281"/>
                  <a:pt x="37" y="362"/>
                  <a:pt x="25" y="444"/>
                </a:cubicBezTo>
                <a:cubicBezTo>
                  <a:pt x="12" y="531"/>
                  <a:pt x="8" y="616"/>
                  <a:pt x="4" y="704"/>
                </a:cubicBezTo>
                <a:cubicBezTo>
                  <a:pt x="1" y="775"/>
                  <a:pt x="6" y="843"/>
                  <a:pt x="8" y="913"/>
                </a:cubicBezTo>
                <a:cubicBezTo>
                  <a:pt x="9" y="950"/>
                  <a:pt x="11" y="982"/>
                  <a:pt x="25" y="1016"/>
                </a:cubicBezTo>
                <a:cubicBezTo>
                  <a:pt x="26" y="1017"/>
                  <a:pt x="28" y="1019"/>
                  <a:pt x="29" y="102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1104840" y="3103560"/>
            <a:ext cx="1131840" cy="550800"/>
          </a:xfrm>
          <a:custGeom>
            <a:avLst/>
            <a:gdLst/>
            <a:ahLst/>
            <a:rect l="l" t="t" r="r" b="b"/>
            <a:pathLst>
              <a:path w="3147" h="1533">
                <a:moveTo>
                  <a:pt x="5" y="1527"/>
                </a:moveTo>
                <a:cubicBezTo>
                  <a:pt x="23" y="1517"/>
                  <a:pt x="29" y="1516"/>
                  <a:pt x="47" y="1506"/>
                </a:cubicBezTo>
                <a:cubicBezTo>
                  <a:pt x="130" y="1458"/>
                  <a:pt x="211" y="1408"/>
                  <a:pt x="295" y="1361"/>
                </a:cubicBezTo>
                <a:cubicBezTo>
                  <a:pt x="471" y="1262"/>
                  <a:pt x="643" y="1159"/>
                  <a:pt x="820" y="1062"/>
                </a:cubicBezTo>
                <a:cubicBezTo>
                  <a:pt x="1182" y="863"/>
                  <a:pt x="1543" y="667"/>
                  <a:pt x="1912" y="482"/>
                </a:cubicBezTo>
                <a:cubicBezTo>
                  <a:pt x="2128" y="373"/>
                  <a:pt x="2345" y="271"/>
                  <a:pt x="2569" y="179"/>
                </a:cubicBezTo>
                <a:cubicBezTo>
                  <a:pt x="2709" y="122"/>
                  <a:pt x="2853" y="60"/>
                  <a:pt x="3000" y="25"/>
                </a:cubicBezTo>
                <a:cubicBezTo>
                  <a:pt x="3027" y="18"/>
                  <a:pt x="3055" y="18"/>
                  <a:pt x="3082" y="13"/>
                </a:cubicBezTo>
                <a:cubicBezTo>
                  <a:pt x="3092" y="11"/>
                  <a:pt x="3100" y="6"/>
                  <a:pt x="3111" y="4"/>
                </a:cubicBezTo>
                <a:cubicBezTo>
                  <a:pt x="3127" y="1"/>
                  <a:pt x="3139" y="1"/>
                  <a:pt x="3146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2"/>
          <p:cNvSpPr/>
          <p:nvPr/>
        </p:nvSpPr>
        <p:spPr>
          <a:xfrm>
            <a:off x="3514680" y="860400"/>
            <a:ext cx="1655640" cy="1295280"/>
          </a:xfrm>
          <a:custGeom>
            <a:avLst/>
            <a:gdLst/>
            <a:ahLst/>
            <a:rect l="l" t="t" r="r" b="b"/>
            <a:pathLst>
              <a:path w="4597" h="3599">
                <a:moveTo>
                  <a:pt x="1617" y="218"/>
                </a:moveTo>
                <a:cubicBezTo>
                  <a:pt x="1614" y="224"/>
                  <a:pt x="1605" y="234"/>
                  <a:pt x="1600" y="244"/>
                </a:cubicBezTo>
                <a:cubicBezTo>
                  <a:pt x="1574" y="292"/>
                  <a:pt x="1546" y="339"/>
                  <a:pt x="1523" y="389"/>
                </a:cubicBezTo>
                <a:cubicBezTo>
                  <a:pt x="1456" y="532"/>
                  <a:pt x="1392" y="676"/>
                  <a:pt x="1327" y="820"/>
                </a:cubicBezTo>
                <a:cubicBezTo>
                  <a:pt x="1111" y="1295"/>
                  <a:pt x="916" y="1778"/>
                  <a:pt x="691" y="2249"/>
                </a:cubicBezTo>
                <a:cubicBezTo>
                  <a:pt x="528" y="2590"/>
                  <a:pt x="347" y="2920"/>
                  <a:pt x="175" y="3256"/>
                </a:cubicBezTo>
                <a:cubicBezTo>
                  <a:pt x="118" y="3367"/>
                  <a:pt x="56" y="3479"/>
                  <a:pt x="0" y="3589"/>
                </a:cubicBezTo>
                <a:cubicBezTo>
                  <a:pt x="0" y="3593"/>
                  <a:pt x="0" y="3595"/>
                  <a:pt x="0" y="3598"/>
                </a:cubicBezTo>
                <a:cubicBezTo>
                  <a:pt x="2" y="3598"/>
                  <a:pt x="23" y="3590"/>
                  <a:pt x="30" y="3589"/>
                </a:cubicBezTo>
                <a:cubicBezTo>
                  <a:pt x="117" y="3572"/>
                  <a:pt x="205" y="3553"/>
                  <a:pt x="294" y="3542"/>
                </a:cubicBezTo>
                <a:cubicBezTo>
                  <a:pt x="577" y="3507"/>
                  <a:pt x="861" y="3479"/>
                  <a:pt x="1144" y="3453"/>
                </a:cubicBezTo>
                <a:cubicBezTo>
                  <a:pt x="2093" y="3366"/>
                  <a:pt x="3059" y="3388"/>
                  <a:pt x="4003" y="3295"/>
                </a:cubicBezTo>
                <a:cubicBezTo>
                  <a:pt x="4052" y="3290"/>
                  <a:pt x="4083" y="3309"/>
                  <a:pt x="4105" y="3273"/>
                </a:cubicBezTo>
                <a:cubicBezTo>
                  <a:pt x="4114" y="3259"/>
                  <a:pt x="4069" y="3205"/>
                  <a:pt x="4071" y="3197"/>
                </a:cubicBezTo>
              </a:path>
              <a:path w="4597" h="3599">
                <a:moveTo>
                  <a:pt x="1438" y="0"/>
                </a:moveTo>
                <a:cubicBezTo>
                  <a:pt x="1478" y="42"/>
                  <a:pt x="1519" y="86"/>
                  <a:pt x="1562" y="128"/>
                </a:cubicBezTo>
                <a:cubicBezTo>
                  <a:pt x="1690" y="251"/>
                  <a:pt x="1822" y="368"/>
                  <a:pt x="1946" y="495"/>
                </a:cubicBezTo>
                <a:cubicBezTo>
                  <a:pt x="2087" y="639"/>
                  <a:pt x="2223" y="787"/>
                  <a:pt x="2360" y="935"/>
                </a:cubicBezTo>
                <a:cubicBezTo>
                  <a:pt x="2515" y="1103"/>
                  <a:pt x="2668" y="1272"/>
                  <a:pt x="2825" y="1438"/>
                </a:cubicBezTo>
                <a:cubicBezTo>
                  <a:pt x="2982" y="1605"/>
                  <a:pt x="3141" y="1771"/>
                  <a:pt x="3303" y="1933"/>
                </a:cubicBezTo>
                <a:cubicBezTo>
                  <a:pt x="3607" y="2237"/>
                  <a:pt x="3965" y="2467"/>
                  <a:pt x="4280" y="2753"/>
                </a:cubicBezTo>
                <a:cubicBezTo>
                  <a:pt x="4341" y="2808"/>
                  <a:pt x="4397" y="2872"/>
                  <a:pt x="4417" y="2953"/>
                </a:cubicBezTo>
                <a:cubicBezTo>
                  <a:pt x="4424" y="2982"/>
                  <a:pt x="4411" y="3012"/>
                  <a:pt x="4421" y="3039"/>
                </a:cubicBezTo>
                <a:cubicBezTo>
                  <a:pt x="4436" y="3080"/>
                  <a:pt x="4446" y="3100"/>
                  <a:pt x="4472" y="3133"/>
                </a:cubicBezTo>
                <a:cubicBezTo>
                  <a:pt x="4480" y="3143"/>
                  <a:pt x="4487" y="3152"/>
                  <a:pt x="4498" y="3158"/>
                </a:cubicBezTo>
                <a:cubicBezTo>
                  <a:pt x="4508" y="3163"/>
                  <a:pt x="4502" y="3165"/>
                  <a:pt x="4506" y="3167"/>
                </a:cubicBezTo>
                <a:cubicBezTo>
                  <a:pt x="4511" y="3169"/>
                  <a:pt x="4501" y="3165"/>
                  <a:pt x="4506" y="3167"/>
                </a:cubicBezTo>
                <a:cubicBezTo>
                  <a:pt x="4512" y="3169"/>
                  <a:pt x="4505" y="3160"/>
                  <a:pt x="4511" y="3162"/>
                </a:cubicBezTo>
                <a:cubicBezTo>
                  <a:pt x="4519" y="3164"/>
                  <a:pt x="4506" y="3133"/>
                  <a:pt x="4532" y="3137"/>
                </a:cubicBezTo>
              </a:path>
              <a:path w="4597" h="3599">
                <a:moveTo>
                  <a:pt x="3730" y="3333"/>
                </a:moveTo>
                <a:cubicBezTo>
                  <a:pt x="3777" y="3324"/>
                  <a:pt x="3809" y="3303"/>
                  <a:pt x="3853" y="3286"/>
                </a:cubicBezTo>
                <a:cubicBezTo>
                  <a:pt x="3960" y="3246"/>
                  <a:pt x="4071" y="3217"/>
                  <a:pt x="4182" y="3192"/>
                </a:cubicBezTo>
                <a:cubicBezTo>
                  <a:pt x="4250" y="3177"/>
                  <a:pt x="4318" y="3163"/>
                  <a:pt x="4387" y="3150"/>
                </a:cubicBezTo>
                <a:cubicBezTo>
                  <a:pt x="4436" y="3141"/>
                  <a:pt x="4484" y="3130"/>
                  <a:pt x="4532" y="3120"/>
                </a:cubicBezTo>
                <a:cubicBezTo>
                  <a:pt x="4552" y="3116"/>
                  <a:pt x="4572" y="3110"/>
                  <a:pt x="4592" y="3107"/>
                </a:cubicBezTo>
                <a:cubicBezTo>
                  <a:pt x="4593" y="3107"/>
                  <a:pt x="4595" y="3107"/>
                  <a:pt x="4596" y="3107"/>
                </a:cubicBezTo>
                <a:cubicBezTo>
                  <a:pt x="4586" y="3106"/>
                  <a:pt x="4564" y="3098"/>
                  <a:pt x="4562" y="3098"/>
                </a:cubicBezTo>
                <a:cubicBezTo>
                  <a:pt x="4565" y="3100"/>
                  <a:pt x="4567" y="3101"/>
                  <a:pt x="4570" y="310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6622920" y="3714840"/>
            <a:ext cx="1338480" cy="1184040"/>
          </a:xfrm>
          <a:custGeom>
            <a:avLst/>
            <a:gdLst/>
            <a:ahLst/>
            <a:rect l="l" t="t" r="r" b="b"/>
            <a:pathLst>
              <a:path w="3718" h="3291">
                <a:moveTo>
                  <a:pt x="2582" y="226"/>
                </a:moveTo>
                <a:cubicBezTo>
                  <a:pt x="2514" y="178"/>
                  <a:pt x="2456" y="127"/>
                  <a:pt x="2377" y="94"/>
                </a:cubicBezTo>
                <a:cubicBezTo>
                  <a:pt x="2162" y="2"/>
                  <a:pt x="1894" y="-13"/>
                  <a:pt x="1664" y="4"/>
                </a:cubicBezTo>
                <a:cubicBezTo>
                  <a:pt x="1281" y="32"/>
                  <a:pt x="939" y="158"/>
                  <a:pt x="657" y="423"/>
                </a:cubicBezTo>
                <a:cubicBezTo>
                  <a:pt x="444" y="624"/>
                  <a:pt x="275" y="892"/>
                  <a:pt x="162" y="1161"/>
                </a:cubicBezTo>
                <a:cubicBezTo>
                  <a:pt x="-14" y="1581"/>
                  <a:pt x="-101" y="2110"/>
                  <a:pt x="171" y="2509"/>
                </a:cubicBezTo>
                <a:cubicBezTo>
                  <a:pt x="315" y="2720"/>
                  <a:pt x="509" y="2864"/>
                  <a:pt x="734" y="2979"/>
                </a:cubicBezTo>
                <a:cubicBezTo>
                  <a:pt x="980" y="3105"/>
                  <a:pt x="1257" y="3189"/>
                  <a:pt x="1528" y="3239"/>
                </a:cubicBezTo>
                <a:cubicBezTo>
                  <a:pt x="2117" y="3348"/>
                  <a:pt x="2746" y="3293"/>
                  <a:pt x="3209" y="2881"/>
                </a:cubicBezTo>
                <a:cubicBezTo>
                  <a:pt x="3489" y="2632"/>
                  <a:pt x="3651" y="2280"/>
                  <a:pt x="3700" y="1912"/>
                </a:cubicBezTo>
                <a:cubicBezTo>
                  <a:pt x="3746" y="1563"/>
                  <a:pt x="3727" y="1129"/>
                  <a:pt x="3529" y="824"/>
                </a:cubicBezTo>
                <a:cubicBezTo>
                  <a:pt x="3354" y="556"/>
                  <a:pt x="3123" y="459"/>
                  <a:pt x="2834" y="354"/>
                </a:cubicBezTo>
                <a:cubicBezTo>
                  <a:pt x="2593" y="267"/>
                  <a:pt x="2367" y="147"/>
                  <a:pt x="2129" y="5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6" name="Freeform 4"/>
          <p:cNvSpPr/>
          <p:nvPr/>
        </p:nvSpPr>
        <p:spPr>
          <a:xfrm>
            <a:off x="1077840" y="3678120"/>
            <a:ext cx="1338480" cy="2200320"/>
          </a:xfrm>
          <a:custGeom>
            <a:avLst/>
            <a:gdLst/>
            <a:ahLst/>
            <a:rect l="l" t="t" r="r" b="b"/>
            <a:pathLst>
              <a:path w="3718" h="6112">
                <a:moveTo>
                  <a:pt x="175" y="89"/>
                </a:moveTo>
                <a:cubicBezTo>
                  <a:pt x="175" y="84"/>
                  <a:pt x="175" y="94"/>
                  <a:pt x="175" y="89"/>
                </a:cubicBezTo>
                <a:cubicBezTo>
                  <a:pt x="175" y="84"/>
                  <a:pt x="175" y="94"/>
                  <a:pt x="175" y="89"/>
                </a:cubicBezTo>
                <a:cubicBezTo>
                  <a:pt x="175" y="88"/>
                  <a:pt x="175" y="86"/>
                  <a:pt x="175" y="85"/>
                </a:cubicBezTo>
                <a:cubicBezTo>
                  <a:pt x="174" y="90"/>
                  <a:pt x="171" y="84"/>
                  <a:pt x="170" y="89"/>
                </a:cubicBezTo>
                <a:cubicBezTo>
                  <a:pt x="165" y="115"/>
                  <a:pt x="162" y="139"/>
                  <a:pt x="158" y="166"/>
                </a:cubicBezTo>
                <a:cubicBezTo>
                  <a:pt x="152" y="211"/>
                  <a:pt x="152" y="258"/>
                  <a:pt x="145" y="303"/>
                </a:cubicBezTo>
                <a:cubicBezTo>
                  <a:pt x="126" y="426"/>
                  <a:pt x="124" y="546"/>
                  <a:pt x="123" y="670"/>
                </a:cubicBezTo>
                <a:cubicBezTo>
                  <a:pt x="120" y="1404"/>
                  <a:pt x="139" y="2134"/>
                  <a:pt x="115" y="2867"/>
                </a:cubicBezTo>
                <a:cubicBezTo>
                  <a:pt x="108" y="3065"/>
                  <a:pt x="100" y="3263"/>
                  <a:pt x="94" y="3461"/>
                </a:cubicBezTo>
                <a:cubicBezTo>
                  <a:pt x="89" y="3615"/>
                  <a:pt x="91" y="3767"/>
                  <a:pt x="94" y="3921"/>
                </a:cubicBezTo>
                <a:cubicBezTo>
                  <a:pt x="95" y="3967"/>
                  <a:pt x="95" y="4009"/>
                  <a:pt x="102" y="4054"/>
                </a:cubicBezTo>
                <a:cubicBezTo>
                  <a:pt x="106" y="4082"/>
                  <a:pt x="102" y="4043"/>
                  <a:pt x="102" y="4015"/>
                </a:cubicBezTo>
              </a:path>
              <a:path w="3718" h="6112">
                <a:moveTo>
                  <a:pt x="166" y="0"/>
                </a:moveTo>
                <a:cubicBezTo>
                  <a:pt x="171" y="4"/>
                  <a:pt x="169" y="4"/>
                  <a:pt x="175" y="8"/>
                </a:cubicBezTo>
                <a:cubicBezTo>
                  <a:pt x="222" y="41"/>
                  <a:pt x="269" y="76"/>
                  <a:pt x="315" y="111"/>
                </a:cubicBezTo>
                <a:cubicBezTo>
                  <a:pt x="817" y="488"/>
                  <a:pt x="1322" y="837"/>
                  <a:pt x="1877" y="1135"/>
                </a:cubicBezTo>
                <a:cubicBezTo>
                  <a:pt x="2258" y="1340"/>
                  <a:pt x="2630" y="1558"/>
                  <a:pt x="2961" y="1839"/>
                </a:cubicBezTo>
                <a:cubicBezTo>
                  <a:pt x="3165" y="2012"/>
                  <a:pt x="3353" y="2202"/>
                  <a:pt x="3563" y="2368"/>
                </a:cubicBezTo>
                <a:cubicBezTo>
                  <a:pt x="3619" y="2412"/>
                  <a:pt x="3674" y="2466"/>
                  <a:pt x="3712" y="2509"/>
                </a:cubicBezTo>
                <a:cubicBezTo>
                  <a:pt x="3714" y="2515"/>
                  <a:pt x="3715" y="2520"/>
                  <a:pt x="3717" y="2526"/>
                </a:cubicBezTo>
              </a:path>
              <a:path w="3718" h="6112">
                <a:moveTo>
                  <a:pt x="25" y="3913"/>
                </a:moveTo>
                <a:cubicBezTo>
                  <a:pt x="15" y="3908"/>
                  <a:pt x="14" y="3918"/>
                  <a:pt x="4" y="3913"/>
                </a:cubicBezTo>
                <a:cubicBezTo>
                  <a:pt x="3" y="3910"/>
                  <a:pt x="1" y="3907"/>
                  <a:pt x="0" y="3904"/>
                </a:cubicBezTo>
                <a:cubicBezTo>
                  <a:pt x="8" y="3912"/>
                  <a:pt x="-2" y="3918"/>
                  <a:pt x="12" y="3930"/>
                </a:cubicBezTo>
                <a:cubicBezTo>
                  <a:pt x="58" y="3970"/>
                  <a:pt x="111" y="4005"/>
                  <a:pt x="158" y="4045"/>
                </a:cubicBezTo>
                <a:cubicBezTo>
                  <a:pt x="348" y="4208"/>
                  <a:pt x="547" y="4354"/>
                  <a:pt x="742" y="4510"/>
                </a:cubicBezTo>
                <a:cubicBezTo>
                  <a:pt x="969" y="4691"/>
                  <a:pt x="1212" y="4841"/>
                  <a:pt x="1459" y="4993"/>
                </a:cubicBezTo>
                <a:cubicBezTo>
                  <a:pt x="1749" y="5172"/>
                  <a:pt x="2055" y="5317"/>
                  <a:pt x="2355" y="5479"/>
                </a:cubicBezTo>
                <a:cubicBezTo>
                  <a:pt x="2557" y="5588"/>
                  <a:pt x="2759" y="5709"/>
                  <a:pt x="2974" y="5791"/>
                </a:cubicBezTo>
                <a:cubicBezTo>
                  <a:pt x="3031" y="5813"/>
                  <a:pt x="3102" y="5838"/>
                  <a:pt x="3162" y="5842"/>
                </a:cubicBezTo>
                <a:cubicBezTo>
                  <a:pt x="3177" y="5843"/>
                  <a:pt x="3172" y="5851"/>
                  <a:pt x="3187" y="5850"/>
                </a:cubicBezTo>
                <a:cubicBezTo>
                  <a:pt x="3184" y="5836"/>
                  <a:pt x="3185" y="5831"/>
                  <a:pt x="3175" y="5829"/>
                </a:cubicBezTo>
              </a:path>
              <a:path w="3718" h="6112">
                <a:moveTo>
                  <a:pt x="3644" y="2261"/>
                </a:moveTo>
                <a:cubicBezTo>
                  <a:pt x="3644" y="2266"/>
                  <a:pt x="3640" y="2275"/>
                  <a:pt x="3640" y="2287"/>
                </a:cubicBezTo>
                <a:cubicBezTo>
                  <a:pt x="3638" y="2352"/>
                  <a:pt x="3639" y="2415"/>
                  <a:pt x="3640" y="2479"/>
                </a:cubicBezTo>
                <a:cubicBezTo>
                  <a:pt x="3642" y="2654"/>
                  <a:pt x="3650" y="2829"/>
                  <a:pt x="3653" y="3004"/>
                </a:cubicBezTo>
                <a:cubicBezTo>
                  <a:pt x="3658" y="3274"/>
                  <a:pt x="3666" y="3545"/>
                  <a:pt x="3665" y="3815"/>
                </a:cubicBezTo>
                <a:cubicBezTo>
                  <a:pt x="3664" y="4099"/>
                  <a:pt x="3658" y="4385"/>
                  <a:pt x="3644" y="4668"/>
                </a:cubicBezTo>
                <a:cubicBezTo>
                  <a:pt x="3633" y="4877"/>
                  <a:pt x="3620" y="5087"/>
                  <a:pt x="3601" y="5296"/>
                </a:cubicBezTo>
                <a:cubicBezTo>
                  <a:pt x="3590" y="5418"/>
                  <a:pt x="3579" y="5542"/>
                  <a:pt x="3559" y="5663"/>
                </a:cubicBezTo>
                <a:cubicBezTo>
                  <a:pt x="3541" y="5771"/>
                  <a:pt x="3521" y="5878"/>
                  <a:pt x="3512" y="5987"/>
                </a:cubicBezTo>
                <a:cubicBezTo>
                  <a:pt x="3508" y="6030"/>
                  <a:pt x="3492" y="6148"/>
                  <a:pt x="3503" y="6106"/>
                </a:cubicBezTo>
                <a:cubicBezTo>
                  <a:pt x="3505" y="6099"/>
                  <a:pt x="3511" y="6060"/>
                  <a:pt x="3512" y="6038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7" name="Freeform 5"/>
          <p:cNvSpPr/>
          <p:nvPr/>
        </p:nvSpPr>
        <p:spPr>
          <a:xfrm>
            <a:off x="2206800" y="3079800"/>
            <a:ext cx="1133280" cy="2725560"/>
          </a:xfrm>
          <a:custGeom>
            <a:avLst/>
            <a:gdLst/>
            <a:ahLst/>
            <a:rect l="l" t="t" r="r" b="b"/>
            <a:pathLst>
              <a:path w="3151" h="7571">
                <a:moveTo>
                  <a:pt x="521" y="3785"/>
                </a:moveTo>
                <a:cubicBezTo>
                  <a:pt x="515" y="3789"/>
                  <a:pt x="517" y="3784"/>
                  <a:pt x="512" y="3789"/>
                </a:cubicBezTo>
                <a:cubicBezTo>
                  <a:pt x="508" y="3793"/>
                  <a:pt x="511" y="3784"/>
                  <a:pt x="508" y="3789"/>
                </a:cubicBezTo>
                <a:cubicBezTo>
                  <a:pt x="509" y="3790"/>
                  <a:pt x="511" y="3792"/>
                  <a:pt x="512" y="3793"/>
                </a:cubicBezTo>
                <a:cubicBezTo>
                  <a:pt x="507" y="3792"/>
                  <a:pt x="517" y="3794"/>
                  <a:pt x="512" y="3793"/>
                </a:cubicBezTo>
                <a:cubicBezTo>
                  <a:pt x="502" y="3790"/>
                  <a:pt x="514" y="3790"/>
                  <a:pt x="504" y="3789"/>
                </a:cubicBezTo>
                <a:cubicBezTo>
                  <a:pt x="499" y="3788"/>
                  <a:pt x="509" y="3789"/>
                  <a:pt x="504" y="3789"/>
                </a:cubicBezTo>
                <a:cubicBezTo>
                  <a:pt x="498" y="3789"/>
                  <a:pt x="501" y="3789"/>
                  <a:pt x="495" y="3789"/>
                </a:cubicBezTo>
                <a:cubicBezTo>
                  <a:pt x="472" y="3788"/>
                  <a:pt x="450" y="3791"/>
                  <a:pt x="427" y="3793"/>
                </a:cubicBezTo>
                <a:cubicBezTo>
                  <a:pt x="447" y="3772"/>
                  <a:pt x="468" y="3742"/>
                  <a:pt x="491" y="3721"/>
                </a:cubicBezTo>
                <a:cubicBezTo>
                  <a:pt x="576" y="3644"/>
                  <a:pt x="663" y="3569"/>
                  <a:pt x="747" y="3490"/>
                </a:cubicBezTo>
                <a:cubicBezTo>
                  <a:pt x="991" y="3260"/>
                  <a:pt x="1241" y="3037"/>
                  <a:pt x="1490" y="2812"/>
                </a:cubicBezTo>
                <a:cubicBezTo>
                  <a:pt x="1689" y="2632"/>
                  <a:pt x="1886" y="2448"/>
                  <a:pt x="2087" y="2270"/>
                </a:cubicBezTo>
                <a:cubicBezTo>
                  <a:pt x="2186" y="2182"/>
                  <a:pt x="2277" y="2084"/>
                  <a:pt x="2377" y="1997"/>
                </a:cubicBezTo>
                <a:cubicBezTo>
                  <a:pt x="2423" y="1957"/>
                  <a:pt x="2480" y="1921"/>
                  <a:pt x="2522" y="1877"/>
                </a:cubicBezTo>
                <a:cubicBezTo>
                  <a:pt x="2530" y="1869"/>
                  <a:pt x="2556" y="1859"/>
                  <a:pt x="2561" y="1852"/>
                </a:cubicBezTo>
                <a:cubicBezTo>
                  <a:pt x="2570" y="1839"/>
                  <a:pt x="2528" y="1863"/>
                  <a:pt x="2544" y="1843"/>
                </a:cubicBezTo>
              </a:path>
              <a:path w="3151" h="7571">
                <a:moveTo>
                  <a:pt x="4" y="21"/>
                </a:moveTo>
                <a:cubicBezTo>
                  <a:pt x="4" y="12"/>
                  <a:pt x="4" y="12"/>
                  <a:pt x="4" y="0"/>
                </a:cubicBezTo>
                <a:cubicBezTo>
                  <a:pt x="7" y="3"/>
                  <a:pt x="7" y="9"/>
                  <a:pt x="13" y="13"/>
                </a:cubicBezTo>
                <a:cubicBezTo>
                  <a:pt x="83" y="63"/>
                  <a:pt x="160" y="92"/>
                  <a:pt x="239" y="128"/>
                </a:cubicBezTo>
                <a:cubicBezTo>
                  <a:pt x="363" y="185"/>
                  <a:pt x="494" y="226"/>
                  <a:pt x="619" y="281"/>
                </a:cubicBezTo>
                <a:cubicBezTo>
                  <a:pt x="1041" y="466"/>
                  <a:pt x="1449" y="692"/>
                  <a:pt x="1848" y="921"/>
                </a:cubicBezTo>
                <a:cubicBezTo>
                  <a:pt x="2162" y="1101"/>
                  <a:pt x="2454" y="1305"/>
                  <a:pt x="2753" y="1506"/>
                </a:cubicBezTo>
                <a:cubicBezTo>
                  <a:pt x="2806" y="1541"/>
                  <a:pt x="2862" y="1581"/>
                  <a:pt x="2919" y="1609"/>
                </a:cubicBezTo>
                <a:cubicBezTo>
                  <a:pt x="2933" y="1616"/>
                  <a:pt x="2953" y="1619"/>
                  <a:pt x="2966" y="1626"/>
                </a:cubicBezTo>
                <a:cubicBezTo>
                  <a:pt x="2961" y="1632"/>
                  <a:pt x="2967" y="1620"/>
                  <a:pt x="2962" y="1626"/>
                </a:cubicBezTo>
                <a:cubicBezTo>
                  <a:pt x="2957" y="1631"/>
                  <a:pt x="2950" y="1633"/>
                  <a:pt x="2945" y="1638"/>
                </a:cubicBezTo>
                <a:cubicBezTo>
                  <a:pt x="2936" y="1648"/>
                  <a:pt x="2943" y="1647"/>
                  <a:pt x="2936" y="1655"/>
                </a:cubicBezTo>
              </a:path>
              <a:path w="3151" h="7571">
                <a:moveTo>
                  <a:pt x="2241" y="1954"/>
                </a:moveTo>
                <a:lnTo>
                  <a:pt x="2241" y="1954"/>
                </a:lnTo>
              </a:path>
              <a:path w="3151" h="7571">
                <a:moveTo>
                  <a:pt x="2279" y="1843"/>
                </a:moveTo>
                <a:cubicBezTo>
                  <a:pt x="2319" y="1845"/>
                  <a:pt x="2358" y="1834"/>
                  <a:pt x="2398" y="1822"/>
                </a:cubicBezTo>
                <a:cubicBezTo>
                  <a:pt x="2471" y="1801"/>
                  <a:pt x="2545" y="1783"/>
                  <a:pt x="2616" y="1754"/>
                </a:cubicBezTo>
                <a:cubicBezTo>
                  <a:pt x="2679" y="1728"/>
                  <a:pt x="2748" y="1704"/>
                  <a:pt x="2808" y="1673"/>
                </a:cubicBezTo>
                <a:cubicBezTo>
                  <a:pt x="2824" y="1665"/>
                  <a:pt x="2870" y="1649"/>
                  <a:pt x="2881" y="1634"/>
                </a:cubicBezTo>
                <a:cubicBezTo>
                  <a:pt x="2889" y="1624"/>
                  <a:pt x="2866" y="1627"/>
                  <a:pt x="2881" y="1634"/>
                </a:cubicBezTo>
              </a:path>
              <a:path w="3151" h="7571">
                <a:moveTo>
                  <a:pt x="3026" y="1570"/>
                </a:moveTo>
                <a:lnTo>
                  <a:pt x="3026" y="1570"/>
                </a:lnTo>
              </a:path>
              <a:path w="3151" h="7571">
                <a:moveTo>
                  <a:pt x="3004" y="1638"/>
                </a:moveTo>
                <a:cubicBezTo>
                  <a:pt x="3004" y="1639"/>
                  <a:pt x="2996" y="1648"/>
                  <a:pt x="2996" y="1651"/>
                </a:cubicBezTo>
                <a:cubicBezTo>
                  <a:pt x="2995" y="1840"/>
                  <a:pt x="3015" y="2031"/>
                  <a:pt x="3022" y="2219"/>
                </a:cubicBezTo>
                <a:cubicBezTo>
                  <a:pt x="3044" y="2807"/>
                  <a:pt x="3070" y="3394"/>
                  <a:pt x="3098" y="3981"/>
                </a:cubicBezTo>
                <a:cubicBezTo>
                  <a:pt x="3111" y="4247"/>
                  <a:pt x="3126" y="4513"/>
                  <a:pt x="3137" y="4779"/>
                </a:cubicBezTo>
                <a:cubicBezTo>
                  <a:pt x="3142" y="4899"/>
                  <a:pt x="3152" y="5022"/>
                  <a:pt x="3150" y="5142"/>
                </a:cubicBezTo>
                <a:cubicBezTo>
                  <a:pt x="3150" y="5148"/>
                  <a:pt x="3152" y="5210"/>
                  <a:pt x="3141" y="5202"/>
                </a:cubicBezTo>
                <a:cubicBezTo>
                  <a:pt x="3129" y="5193"/>
                  <a:pt x="3135" y="5152"/>
                  <a:pt x="3128" y="5142"/>
                </a:cubicBezTo>
                <a:cubicBezTo>
                  <a:pt x="3121" y="5136"/>
                  <a:pt x="3114" y="5131"/>
                  <a:pt x="3107" y="5125"/>
                </a:cubicBezTo>
              </a:path>
              <a:path w="3151" h="7571">
                <a:moveTo>
                  <a:pt x="269" y="7532"/>
                </a:moveTo>
                <a:cubicBezTo>
                  <a:pt x="272" y="7546"/>
                  <a:pt x="275" y="7557"/>
                  <a:pt x="278" y="7570"/>
                </a:cubicBezTo>
                <a:cubicBezTo>
                  <a:pt x="290" y="7562"/>
                  <a:pt x="307" y="7554"/>
                  <a:pt x="320" y="7544"/>
                </a:cubicBezTo>
                <a:cubicBezTo>
                  <a:pt x="397" y="7486"/>
                  <a:pt x="474" y="7427"/>
                  <a:pt x="551" y="7369"/>
                </a:cubicBezTo>
                <a:cubicBezTo>
                  <a:pt x="737" y="7230"/>
                  <a:pt x="916" y="7083"/>
                  <a:pt x="1093" y="6934"/>
                </a:cubicBezTo>
                <a:cubicBezTo>
                  <a:pt x="1334" y="6731"/>
                  <a:pt x="1563" y="6515"/>
                  <a:pt x="1788" y="6294"/>
                </a:cubicBezTo>
                <a:cubicBezTo>
                  <a:pt x="2035" y="6052"/>
                  <a:pt x="2273" y="5800"/>
                  <a:pt x="2518" y="5556"/>
                </a:cubicBezTo>
                <a:cubicBezTo>
                  <a:pt x="2641" y="5433"/>
                  <a:pt x="2771" y="5269"/>
                  <a:pt x="2928" y="5185"/>
                </a:cubicBezTo>
                <a:cubicBezTo>
                  <a:pt x="2959" y="5168"/>
                  <a:pt x="2998" y="5174"/>
                  <a:pt x="3017" y="5168"/>
                </a:cubicBezTo>
                <a:cubicBezTo>
                  <a:pt x="3031" y="5163"/>
                  <a:pt x="2995" y="5184"/>
                  <a:pt x="3009" y="5180"/>
                </a:cubicBezTo>
                <a:cubicBezTo>
                  <a:pt x="3010" y="5176"/>
                  <a:pt x="3012" y="5172"/>
                  <a:pt x="3013" y="516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8" name="Freeform 6"/>
          <p:cNvSpPr/>
          <p:nvPr/>
        </p:nvSpPr>
        <p:spPr>
          <a:xfrm>
            <a:off x="4046400" y="566640"/>
            <a:ext cx="2092320" cy="1478160"/>
          </a:xfrm>
          <a:custGeom>
            <a:avLst/>
            <a:gdLst/>
            <a:ahLst/>
            <a:rect l="l" t="t" r="r" b="b"/>
            <a:pathLst>
              <a:path w="5813" h="4106">
                <a:moveTo>
                  <a:pt x="294" y="931"/>
                </a:moveTo>
                <a:cubicBezTo>
                  <a:pt x="244" y="901"/>
                  <a:pt x="273" y="849"/>
                  <a:pt x="166" y="854"/>
                </a:cubicBezTo>
                <a:cubicBezTo>
                  <a:pt x="91" y="857"/>
                  <a:pt x="57" y="898"/>
                  <a:pt x="0" y="922"/>
                </a:cubicBezTo>
                <a:cubicBezTo>
                  <a:pt x="2" y="922"/>
                  <a:pt x="12" y="933"/>
                  <a:pt x="25" y="931"/>
                </a:cubicBezTo>
                <a:cubicBezTo>
                  <a:pt x="101" y="917"/>
                  <a:pt x="176" y="899"/>
                  <a:pt x="251" y="879"/>
                </a:cubicBezTo>
                <a:cubicBezTo>
                  <a:pt x="391" y="842"/>
                  <a:pt x="531" y="798"/>
                  <a:pt x="670" y="756"/>
                </a:cubicBezTo>
                <a:cubicBezTo>
                  <a:pt x="1103" y="625"/>
                  <a:pt x="1532" y="484"/>
                  <a:pt x="1967" y="359"/>
                </a:cubicBezTo>
                <a:cubicBezTo>
                  <a:pt x="2327" y="256"/>
                  <a:pt x="2688" y="160"/>
                  <a:pt x="3051" y="69"/>
                </a:cubicBezTo>
                <a:cubicBezTo>
                  <a:pt x="3100" y="57"/>
                  <a:pt x="3318" y="-35"/>
                  <a:pt x="3371" y="0"/>
                </a:cubicBezTo>
                <a:cubicBezTo>
                  <a:pt x="3378" y="4"/>
                  <a:pt x="3365" y="17"/>
                  <a:pt x="3384" y="30"/>
                </a:cubicBezTo>
                <a:cubicBezTo>
                  <a:pt x="3421" y="55"/>
                  <a:pt x="3463" y="164"/>
                  <a:pt x="3486" y="201"/>
                </a:cubicBezTo>
                <a:cubicBezTo>
                  <a:pt x="3590" y="365"/>
                  <a:pt x="3686" y="538"/>
                  <a:pt x="3806" y="692"/>
                </a:cubicBezTo>
                <a:cubicBezTo>
                  <a:pt x="4165" y="1152"/>
                  <a:pt x="4629" y="1592"/>
                  <a:pt x="5065" y="1980"/>
                </a:cubicBezTo>
                <a:cubicBezTo>
                  <a:pt x="5184" y="2086"/>
                  <a:pt x="5375" y="2194"/>
                  <a:pt x="5458" y="2335"/>
                </a:cubicBezTo>
                <a:cubicBezTo>
                  <a:pt x="5475" y="2364"/>
                  <a:pt x="5492" y="2394"/>
                  <a:pt x="5500" y="2428"/>
                </a:cubicBezTo>
                <a:cubicBezTo>
                  <a:pt x="5512" y="2479"/>
                  <a:pt x="5492" y="2511"/>
                  <a:pt x="5492" y="2561"/>
                </a:cubicBezTo>
                <a:cubicBezTo>
                  <a:pt x="5489" y="2577"/>
                  <a:pt x="5486" y="2592"/>
                  <a:pt x="5483" y="2608"/>
                </a:cubicBezTo>
              </a:path>
              <a:path w="5813" h="4106">
                <a:moveTo>
                  <a:pt x="2859" y="4105"/>
                </a:moveTo>
                <a:cubicBezTo>
                  <a:pt x="2974" y="4061"/>
                  <a:pt x="3088" y="4019"/>
                  <a:pt x="3200" y="3969"/>
                </a:cubicBezTo>
                <a:cubicBezTo>
                  <a:pt x="3708" y="3742"/>
                  <a:pt x="4205" y="3494"/>
                  <a:pt x="4702" y="3243"/>
                </a:cubicBezTo>
                <a:cubicBezTo>
                  <a:pt x="4961" y="3112"/>
                  <a:pt x="5225" y="2977"/>
                  <a:pt x="5492" y="2864"/>
                </a:cubicBezTo>
                <a:cubicBezTo>
                  <a:pt x="5568" y="2832"/>
                  <a:pt x="5652" y="2798"/>
                  <a:pt x="5731" y="2774"/>
                </a:cubicBezTo>
                <a:cubicBezTo>
                  <a:pt x="5754" y="2767"/>
                  <a:pt x="5780" y="2764"/>
                  <a:pt x="5803" y="2757"/>
                </a:cubicBezTo>
                <a:cubicBezTo>
                  <a:pt x="5808" y="2757"/>
                  <a:pt x="5810" y="2756"/>
                  <a:pt x="5812" y="2753"/>
                </a:cubicBezTo>
                <a:cubicBezTo>
                  <a:pt x="5811" y="2752"/>
                  <a:pt x="5796" y="2752"/>
                  <a:pt x="5790" y="2748"/>
                </a:cubicBezTo>
                <a:cubicBezTo>
                  <a:pt x="5778" y="2741"/>
                  <a:pt x="5763" y="2735"/>
                  <a:pt x="5752" y="2727"/>
                </a:cubicBezTo>
                <a:cubicBezTo>
                  <a:pt x="5742" y="2719"/>
                  <a:pt x="5731" y="2710"/>
                  <a:pt x="5722" y="2702"/>
                </a:cubicBezTo>
                <a:cubicBezTo>
                  <a:pt x="5704" y="2685"/>
                  <a:pt x="5692" y="2660"/>
                  <a:pt x="5675" y="2642"/>
                </a:cubicBezTo>
                <a:cubicBezTo>
                  <a:pt x="5660" y="2626"/>
                  <a:pt x="5647" y="2614"/>
                  <a:pt x="5633" y="2595"/>
                </a:cubicBezTo>
                <a:cubicBezTo>
                  <a:pt x="5612" y="2566"/>
                  <a:pt x="5594" y="2532"/>
                  <a:pt x="5573" y="2501"/>
                </a:cubicBezTo>
                <a:cubicBezTo>
                  <a:pt x="5554" y="2473"/>
                  <a:pt x="5539" y="2454"/>
                  <a:pt x="5522" y="242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9" name="Freeform 7"/>
          <p:cNvSpPr/>
          <p:nvPr/>
        </p:nvSpPr>
        <p:spPr>
          <a:xfrm>
            <a:off x="6603840" y="2347920"/>
            <a:ext cx="1322640" cy="1779480"/>
          </a:xfrm>
          <a:custGeom>
            <a:avLst/>
            <a:gdLst/>
            <a:ahLst/>
            <a:rect l="l" t="t" r="r" b="b"/>
            <a:pathLst>
              <a:path w="3671" h="4947">
                <a:moveTo>
                  <a:pt x="0" y="4946"/>
                </a:moveTo>
                <a:cubicBezTo>
                  <a:pt x="2" y="4941"/>
                  <a:pt x="13" y="4920"/>
                  <a:pt x="17" y="4912"/>
                </a:cubicBezTo>
                <a:cubicBezTo>
                  <a:pt x="44" y="4851"/>
                  <a:pt x="65" y="4787"/>
                  <a:pt x="89" y="4724"/>
                </a:cubicBezTo>
                <a:cubicBezTo>
                  <a:pt x="233" y="4353"/>
                  <a:pt x="354" y="3972"/>
                  <a:pt x="478" y="3593"/>
                </a:cubicBezTo>
                <a:cubicBezTo>
                  <a:pt x="625" y="3142"/>
                  <a:pt x="779" y="2694"/>
                  <a:pt x="943" y="2249"/>
                </a:cubicBezTo>
                <a:cubicBezTo>
                  <a:pt x="1166" y="1646"/>
                  <a:pt x="1408" y="1058"/>
                  <a:pt x="1771" y="525"/>
                </a:cubicBezTo>
                <a:cubicBezTo>
                  <a:pt x="1836" y="430"/>
                  <a:pt x="1898" y="328"/>
                  <a:pt x="1971" y="239"/>
                </a:cubicBezTo>
                <a:cubicBezTo>
                  <a:pt x="1987" y="219"/>
                  <a:pt x="1996" y="195"/>
                  <a:pt x="2014" y="179"/>
                </a:cubicBezTo>
                <a:cubicBezTo>
                  <a:pt x="2019" y="175"/>
                  <a:pt x="2009" y="183"/>
                  <a:pt x="2014" y="179"/>
                </a:cubicBezTo>
                <a:cubicBezTo>
                  <a:pt x="2029" y="166"/>
                  <a:pt x="2056" y="157"/>
                  <a:pt x="2074" y="145"/>
                </a:cubicBezTo>
                <a:cubicBezTo>
                  <a:pt x="2286" y="1"/>
                  <a:pt x="2549" y="-47"/>
                  <a:pt x="2778" y="81"/>
                </a:cubicBezTo>
                <a:cubicBezTo>
                  <a:pt x="2941" y="172"/>
                  <a:pt x="3075" y="334"/>
                  <a:pt x="3200" y="470"/>
                </a:cubicBezTo>
                <a:cubicBezTo>
                  <a:pt x="3245" y="519"/>
                  <a:pt x="3291" y="563"/>
                  <a:pt x="3316" y="623"/>
                </a:cubicBezTo>
                <a:cubicBezTo>
                  <a:pt x="3322" y="637"/>
                  <a:pt x="3319" y="654"/>
                  <a:pt x="3324" y="670"/>
                </a:cubicBezTo>
                <a:cubicBezTo>
                  <a:pt x="3356" y="776"/>
                  <a:pt x="3360" y="906"/>
                  <a:pt x="3375" y="1016"/>
                </a:cubicBezTo>
                <a:cubicBezTo>
                  <a:pt x="3419" y="1344"/>
                  <a:pt x="3447" y="1673"/>
                  <a:pt x="3486" y="2002"/>
                </a:cubicBezTo>
                <a:cubicBezTo>
                  <a:pt x="3563" y="2652"/>
                  <a:pt x="3609" y="3297"/>
                  <a:pt x="3610" y="3952"/>
                </a:cubicBezTo>
                <a:cubicBezTo>
                  <a:pt x="3611" y="4180"/>
                  <a:pt x="3626" y="4410"/>
                  <a:pt x="3640" y="4635"/>
                </a:cubicBezTo>
                <a:cubicBezTo>
                  <a:pt x="3644" y="4699"/>
                  <a:pt x="3655" y="4760"/>
                  <a:pt x="3661" y="4822"/>
                </a:cubicBezTo>
                <a:cubicBezTo>
                  <a:pt x="3664" y="4846"/>
                  <a:pt x="3667" y="4839"/>
                  <a:pt x="3670" y="4865"/>
                </a:cubicBezTo>
                <a:cubicBezTo>
                  <a:pt x="3660" y="4875"/>
                  <a:pt x="3657" y="4880"/>
                  <a:pt x="3665" y="4891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0" name="Freeform 8"/>
          <p:cNvSpPr/>
          <p:nvPr/>
        </p:nvSpPr>
        <p:spPr>
          <a:xfrm>
            <a:off x="6626160" y="3949560"/>
            <a:ext cx="47520" cy="366840"/>
          </a:xfrm>
          <a:custGeom>
            <a:avLst/>
            <a:gdLst/>
            <a:ahLst/>
            <a:rect l="l" t="t" r="r" b="b"/>
            <a:pathLst>
              <a:path w="133" h="1021">
                <a:moveTo>
                  <a:pt x="132" y="0"/>
                </a:moveTo>
                <a:cubicBezTo>
                  <a:pt x="112" y="67"/>
                  <a:pt x="93" y="134"/>
                  <a:pt x="76" y="201"/>
                </a:cubicBezTo>
                <a:cubicBezTo>
                  <a:pt x="56" y="281"/>
                  <a:pt x="37" y="362"/>
                  <a:pt x="25" y="444"/>
                </a:cubicBezTo>
                <a:cubicBezTo>
                  <a:pt x="12" y="531"/>
                  <a:pt x="8" y="616"/>
                  <a:pt x="4" y="704"/>
                </a:cubicBezTo>
                <a:cubicBezTo>
                  <a:pt x="1" y="775"/>
                  <a:pt x="6" y="843"/>
                  <a:pt x="8" y="913"/>
                </a:cubicBezTo>
                <a:cubicBezTo>
                  <a:pt x="9" y="950"/>
                  <a:pt x="11" y="982"/>
                  <a:pt x="25" y="1016"/>
                </a:cubicBezTo>
                <a:cubicBezTo>
                  <a:pt x="26" y="1017"/>
                  <a:pt x="28" y="1019"/>
                  <a:pt x="29" y="102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1" name="Freeform 9"/>
          <p:cNvSpPr/>
          <p:nvPr/>
        </p:nvSpPr>
        <p:spPr>
          <a:xfrm>
            <a:off x="1104840" y="3103560"/>
            <a:ext cx="1131840" cy="550800"/>
          </a:xfrm>
          <a:custGeom>
            <a:avLst/>
            <a:gdLst/>
            <a:ahLst/>
            <a:rect l="l" t="t" r="r" b="b"/>
            <a:pathLst>
              <a:path w="3147" h="1533">
                <a:moveTo>
                  <a:pt x="5" y="1527"/>
                </a:moveTo>
                <a:cubicBezTo>
                  <a:pt x="23" y="1517"/>
                  <a:pt x="29" y="1516"/>
                  <a:pt x="47" y="1506"/>
                </a:cubicBezTo>
                <a:cubicBezTo>
                  <a:pt x="130" y="1458"/>
                  <a:pt x="211" y="1408"/>
                  <a:pt x="295" y="1361"/>
                </a:cubicBezTo>
                <a:cubicBezTo>
                  <a:pt x="471" y="1262"/>
                  <a:pt x="643" y="1159"/>
                  <a:pt x="820" y="1062"/>
                </a:cubicBezTo>
                <a:cubicBezTo>
                  <a:pt x="1182" y="863"/>
                  <a:pt x="1543" y="667"/>
                  <a:pt x="1912" y="482"/>
                </a:cubicBezTo>
                <a:cubicBezTo>
                  <a:pt x="2128" y="373"/>
                  <a:pt x="2345" y="271"/>
                  <a:pt x="2569" y="179"/>
                </a:cubicBezTo>
                <a:cubicBezTo>
                  <a:pt x="2709" y="122"/>
                  <a:pt x="2853" y="60"/>
                  <a:pt x="3000" y="25"/>
                </a:cubicBezTo>
                <a:cubicBezTo>
                  <a:pt x="3027" y="18"/>
                  <a:pt x="3055" y="18"/>
                  <a:pt x="3082" y="13"/>
                </a:cubicBezTo>
                <a:cubicBezTo>
                  <a:pt x="3092" y="11"/>
                  <a:pt x="3100" y="6"/>
                  <a:pt x="3111" y="4"/>
                </a:cubicBezTo>
                <a:cubicBezTo>
                  <a:pt x="3127" y="1"/>
                  <a:pt x="3139" y="1"/>
                  <a:pt x="3146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4179960" y="4970520"/>
            <a:ext cx="1152360" cy="690480"/>
          </a:xfrm>
          <a:custGeom>
            <a:avLst/>
            <a:gdLst/>
            <a:ahLst/>
            <a:rect l="l" t="t" r="r" b="b"/>
            <a:pathLst>
              <a:path w="3201" h="1917">
                <a:moveTo>
                  <a:pt x="555" y="478"/>
                </a:moveTo>
                <a:cubicBezTo>
                  <a:pt x="553" y="482"/>
                  <a:pt x="554" y="471"/>
                  <a:pt x="546" y="486"/>
                </a:cubicBezTo>
                <a:cubicBezTo>
                  <a:pt x="523" y="531"/>
                  <a:pt x="515" y="580"/>
                  <a:pt x="499" y="627"/>
                </a:cubicBezTo>
                <a:cubicBezTo>
                  <a:pt x="450" y="778"/>
                  <a:pt x="393" y="925"/>
                  <a:pt x="341" y="1075"/>
                </a:cubicBezTo>
                <a:cubicBezTo>
                  <a:pt x="276" y="1263"/>
                  <a:pt x="208" y="1447"/>
                  <a:pt x="132" y="1630"/>
                </a:cubicBezTo>
                <a:cubicBezTo>
                  <a:pt x="94" y="1722"/>
                  <a:pt x="40" y="1814"/>
                  <a:pt x="0" y="1899"/>
                </a:cubicBezTo>
                <a:cubicBezTo>
                  <a:pt x="0" y="1905"/>
                  <a:pt x="0" y="1910"/>
                  <a:pt x="0" y="1916"/>
                </a:cubicBezTo>
              </a:path>
              <a:path w="3201" h="1917">
                <a:moveTo>
                  <a:pt x="405" y="649"/>
                </a:moveTo>
                <a:cubicBezTo>
                  <a:pt x="415" y="653"/>
                  <a:pt x="438" y="665"/>
                  <a:pt x="452" y="670"/>
                </a:cubicBezTo>
                <a:cubicBezTo>
                  <a:pt x="505" y="691"/>
                  <a:pt x="525" y="732"/>
                  <a:pt x="550" y="781"/>
                </a:cubicBezTo>
                <a:cubicBezTo>
                  <a:pt x="600" y="879"/>
                  <a:pt x="625" y="991"/>
                  <a:pt x="653" y="1097"/>
                </a:cubicBezTo>
                <a:cubicBezTo>
                  <a:pt x="684" y="1213"/>
                  <a:pt x="708" y="1331"/>
                  <a:pt x="738" y="1447"/>
                </a:cubicBezTo>
                <a:cubicBezTo>
                  <a:pt x="752" y="1496"/>
                  <a:pt x="753" y="1506"/>
                  <a:pt x="768" y="1532"/>
                </a:cubicBezTo>
              </a:path>
              <a:path w="3201" h="1917">
                <a:moveTo>
                  <a:pt x="1203" y="0"/>
                </a:moveTo>
                <a:cubicBezTo>
                  <a:pt x="1198" y="17"/>
                  <a:pt x="1207" y="4"/>
                  <a:pt x="1199" y="25"/>
                </a:cubicBezTo>
                <a:cubicBezTo>
                  <a:pt x="1175" y="85"/>
                  <a:pt x="1153" y="142"/>
                  <a:pt x="1135" y="205"/>
                </a:cubicBezTo>
                <a:cubicBezTo>
                  <a:pt x="1085" y="375"/>
                  <a:pt x="1043" y="547"/>
                  <a:pt x="994" y="717"/>
                </a:cubicBezTo>
                <a:cubicBezTo>
                  <a:pt x="933" y="931"/>
                  <a:pt x="873" y="1146"/>
                  <a:pt x="802" y="1357"/>
                </a:cubicBezTo>
                <a:cubicBezTo>
                  <a:pt x="771" y="1448"/>
                  <a:pt x="732" y="1671"/>
                  <a:pt x="657" y="1741"/>
                </a:cubicBezTo>
                <a:cubicBezTo>
                  <a:pt x="683" y="1741"/>
                  <a:pt x="688" y="1728"/>
                  <a:pt x="674" y="1690"/>
                </a:cubicBezTo>
              </a:path>
              <a:path w="3201" h="1917">
                <a:moveTo>
                  <a:pt x="1225" y="947"/>
                </a:moveTo>
                <a:cubicBezTo>
                  <a:pt x="1221" y="981"/>
                  <a:pt x="1203" y="1018"/>
                  <a:pt x="1190" y="1050"/>
                </a:cubicBezTo>
                <a:cubicBezTo>
                  <a:pt x="1157" y="1130"/>
                  <a:pt x="1125" y="1211"/>
                  <a:pt x="1097" y="1293"/>
                </a:cubicBezTo>
                <a:cubicBezTo>
                  <a:pt x="1067" y="1380"/>
                  <a:pt x="1035" y="1466"/>
                  <a:pt x="1007" y="1553"/>
                </a:cubicBezTo>
                <a:cubicBezTo>
                  <a:pt x="996" y="1587"/>
                  <a:pt x="989" y="1616"/>
                  <a:pt x="986" y="1651"/>
                </a:cubicBezTo>
                <a:cubicBezTo>
                  <a:pt x="1013" y="1643"/>
                  <a:pt x="1026" y="1631"/>
                  <a:pt x="1054" y="1604"/>
                </a:cubicBezTo>
                <a:cubicBezTo>
                  <a:pt x="1111" y="1549"/>
                  <a:pt x="1158" y="1483"/>
                  <a:pt x="1203" y="1417"/>
                </a:cubicBezTo>
                <a:cubicBezTo>
                  <a:pt x="1257" y="1338"/>
                  <a:pt x="1293" y="1259"/>
                  <a:pt x="1323" y="1169"/>
                </a:cubicBezTo>
              </a:path>
              <a:path w="3201" h="1917">
                <a:moveTo>
                  <a:pt x="1984" y="188"/>
                </a:moveTo>
                <a:cubicBezTo>
                  <a:pt x="2002" y="235"/>
                  <a:pt x="1992" y="234"/>
                  <a:pt x="1993" y="277"/>
                </a:cubicBezTo>
                <a:cubicBezTo>
                  <a:pt x="1995" y="345"/>
                  <a:pt x="1968" y="430"/>
                  <a:pt x="1950" y="495"/>
                </a:cubicBezTo>
                <a:cubicBezTo>
                  <a:pt x="1909" y="642"/>
                  <a:pt x="1856" y="786"/>
                  <a:pt x="1805" y="930"/>
                </a:cubicBezTo>
                <a:cubicBezTo>
                  <a:pt x="1754" y="1074"/>
                  <a:pt x="1700" y="1217"/>
                  <a:pt x="1651" y="1361"/>
                </a:cubicBezTo>
                <a:cubicBezTo>
                  <a:pt x="1631" y="1419"/>
                  <a:pt x="1638" y="1577"/>
                  <a:pt x="1592" y="1536"/>
                </a:cubicBezTo>
                <a:cubicBezTo>
                  <a:pt x="1587" y="1532"/>
                  <a:pt x="1591" y="1500"/>
                  <a:pt x="1583" y="1472"/>
                </a:cubicBezTo>
              </a:path>
              <a:path w="3201" h="1917">
                <a:moveTo>
                  <a:pt x="1583" y="896"/>
                </a:moveTo>
                <a:cubicBezTo>
                  <a:pt x="1596" y="960"/>
                  <a:pt x="1598" y="1015"/>
                  <a:pt x="1651" y="1058"/>
                </a:cubicBezTo>
                <a:cubicBezTo>
                  <a:pt x="1680" y="1081"/>
                  <a:pt x="1726" y="1086"/>
                  <a:pt x="1762" y="1084"/>
                </a:cubicBezTo>
                <a:cubicBezTo>
                  <a:pt x="1793" y="1082"/>
                  <a:pt x="1819" y="1072"/>
                  <a:pt x="1848" y="1062"/>
                </a:cubicBezTo>
                <a:cubicBezTo>
                  <a:pt x="1856" y="1059"/>
                  <a:pt x="1873" y="1050"/>
                  <a:pt x="1882" y="1050"/>
                </a:cubicBezTo>
                <a:cubicBezTo>
                  <a:pt x="1901" y="1051"/>
                  <a:pt x="1921" y="1053"/>
                  <a:pt x="1941" y="1045"/>
                </a:cubicBezTo>
                <a:cubicBezTo>
                  <a:pt x="1962" y="1034"/>
                  <a:pt x="1968" y="1030"/>
                  <a:pt x="1984" y="1028"/>
                </a:cubicBezTo>
              </a:path>
              <a:path w="3201" h="1917">
                <a:moveTo>
                  <a:pt x="2321" y="683"/>
                </a:moveTo>
                <a:cubicBezTo>
                  <a:pt x="2306" y="742"/>
                  <a:pt x="2295" y="806"/>
                  <a:pt x="2287" y="866"/>
                </a:cubicBezTo>
                <a:cubicBezTo>
                  <a:pt x="2272" y="972"/>
                  <a:pt x="2254" y="1077"/>
                  <a:pt x="2236" y="1182"/>
                </a:cubicBezTo>
                <a:cubicBezTo>
                  <a:pt x="2222" y="1263"/>
                  <a:pt x="2205" y="1345"/>
                  <a:pt x="2189" y="1425"/>
                </a:cubicBezTo>
                <a:cubicBezTo>
                  <a:pt x="2186" y="1452"/>
                  <a:pt x="2187" y="1457"/>
                  <a:pt x="2180" y="1472"/>
                </a:cubicBezTo>
                <a:cubicBezTo>
                  <a:pt x="2154" y="1402"/>
                  <a:pt x="2173" y="1317"/>
                  <a:pt x="2176" y="1242"/>
                </a:cubicBezTo>
              </a:path>
              <a:path w="3201" h="1917">
                <a:moveTo>
                  <a:pt x="2552" y="175"/>
                </a:moveTo>
                <a:cubicBezTo>
                  <a:pt x="2553" y="247"/>
                  <a:pt x="2550" y="317"/>
                  <a:pt x="2547" y="388"/>
                </a:cubicBezTo>
                <a:cubicBezTo>
                  <a:pt x="2546" y="408"/>
                  <a:pt x="2541" y="410"/>
                  <a:pt x="2543" y="418"/>
                </a:cubicBezTo>
                <a:cubicBezTo>
                  <a:pt x="2538" y="406"/>
                  <a:pt x="2535" y="392"/>
                  <a:pt x="2530" y="380"/>
                </a:cubicBezTo>
                <a:cubicBezTo>
                  <a:pt x="2525" y="363"/>
                  <a:pt x="2522" y="356"/>
                  <a:pt x="2513" y="346"/>
                </a:cubicBezTo>
              </a:path>
              <a:path w="3201" h="1917">
                <a:moveTo>
                  <a:pt x="2821" y="695"/>
                </a:moveTo>
                <a:cubicBezTo>
                  <a:pt x="2799" y="750"/>
                  <a:pt x="2798" y="806"/>
                  <a:pt x="2778" y="862"/>
                </a:cubicBezTo>
                <a:cubicBezTo>
                  <a:pt x="2765" y="900"/>
                  <a:pt x="2754" y="934"/>
                  <a:pt x="2744" y="973"/>
                </a:cubicBezTo>
                <a:cubicBezTo>
                  <a:pt x="2739" y="993"/>
                  <a:pt x="2737" y="983"/>
                  <a:pt x="2731" y="994"/>
                </a:cubicBezTo>
                <a:cubicBezTo>
                  <a:pt x="2728" y="981"/>
                  <a:pt x="2725" y="948"/>
                  <a:pt x="2722" y="930"/>
                </a:cubicBezTo>
                <a:cubicBezTo>
                  <a:pt x="2714" y="879"/>
                  <a:pt x="2696" y="830"/>
                  <a:pt x="2680" y="781"/>
                </a:cubicBezTo>
                <a:cubicBezTo>
                  <a:pt x="2668" y="745"/>
                  <a:pt x="2656" y="707"/>
                  <a:pt x="2616" y="695"/>
                </a:cubicBezTo>
                <a:cubicBezTo>
                  <a:pt x="2572" y="682"/>
                  <a:pt x="2546" y="779"/>
                  <a:pt x="2539" y="802"/>
                </a:cubicBezTo>
                <a:cubicBezTo>
                  <a:pt x="2507" y="904"/>
                  <a:pt x="2490" y="1012"/>
                  <a:pt x="2479" y="1118"/>
                </a:cubicBezTo>
                <a:cubicBezTo>
                  <a:pt x="2468" y="1227"/>
                  <a:pt x="2466" y="1334"/>
                  <a:pt x="2483" y="1442"/>
                </a:cubicBezTo>
                <a:cubicBezTo>
                  <a:pt x="2491" y="1496"/>
                  <a:pt x="2498" y="1504"/>
                  <a:pt x="2539" y="1532"/>
                </a:cubicBezTo>
                <a:cubicBezTo>
                  <a:pt x="2581" y="1496"/>
                  <a:pt x="2604" y="1457"/>
                  <a:pt x="2637" y="1408"/>
                </a:cubicBezTo>
              </a:path>
              <a:path w="3201" h="1917">
                <a:moveTo>
                  <a:pt x="3025" y="1054"/>
                </a:moveTo>
                <a:cubicBezTo>
                  <a:pt x="3022" y="1043"/>
                  <a:pt x="3020" y="1040"/>
                  <a:pt x="3021" y="1033"/>
                </a:cubicBezTo>
                <a:cubicBezTo>
                  <a:pt x="3023" y="1041"/>
                  <a:pt x="3016" y="1030"/>
                  <a:pt x="3021" y="1037"/>
                </a:cubicBezTo>
                <a:cubicBezTo>
                  <a:pt x="3030" y="1050"/>
                  <a:pt x="3039" y="1070"/>
                  <a:pt x="3055" y="1075"/>
                </a:cubicBezTo>
                <a:cubicBezTo>
                  <a:pt x="3087" y="1085"/>
                  <a:pt x="3110" y="1067"/>
                  <a:pt x="3128" y="1041"/>
                </a:cubicBezTo>
                <a:cubicBezTo>
                  <a:pt x="3167" y="987"/>
                  <a:pt x="3184" y="914"/>
                  <a:pt x="3192" y="849"/>
                </a:cubicBezTo>
                <a:cubicBezTo>
                  <a:pt x="3200" y="781"/>
                  <a:pt x="3205" y="708"/>
                  <a:pt x="3192" y="640"/>
                </a:cubicBezTo>
                <a:cubicBezTo>
                  <a:pt x="3185" y="604"/>
                  <a:pt x="3176" y="609"/>
                  <a:pt x="3158" y="589"/>
                </a:cubicBezTo>
                <a:cubicBezTo>
                  <a:pt x="3111" y="636"/>
                  <a:pt x="3098" y="691"/>
                  <a:pt x="3077" y="755"/>
                </a:cubicBezTo>
                <a:cubicBezTo>
                  <a:pt x="3035" y="884"/>
                  <a:pt x="3003" y="1015"/>
                  <a:pt x="2978" y="1148"/>
                </a:cubicBezTo>
                <a:cubicBezTo>
                  <a:pt x="2957" y="1259"/>
                  <a:pt x="2939" y="1376"/>
                  <a:pt x="2949" y="1489"/>
                </a:cubicBezTo>
                <a:cubicBezTo>
                  <a:pt x="2954" y="1541"/>
                  <a:pt x="2981" y="1599"/>
                  <a:pt x="3038" y="1557"/>
                </a:cubicBezTo>
                <a:cubicBezTo>
                  <a:pt x="3104" y="1509"/>
                  <a:pt x="3142" y="1452"/>
                  <a:pt x="3188" y="1387"/>
                </a:cubicBezTo>
              </a:path>
              <a:path w="3201" h="1917">
                <a:moveTo>
                  <a:pt x="1318" y="1058"/>
                </a:moveTo>
                <a:cubicBezTo>
                  <a:pt x="1325" y="1080"/>
                  <a:pt x="1328" y="1095"/>
                  <a:pt x="1331" y="111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5703840" y="4878360"/>
            <a:ext cx="1182600" cy="561960"/>
          </a:xfrm>
          <a:custGeom>
            <a:avLst/>
            <a:gdLst/>
            <a:ahLst/>
            <a:rect l="l" t="t" r="r" b="b"/>
            <a:pathLst>
              <a:path w="3283" h="1562">
                <a:moveTo>
                  <a:pt x="235" y="943"/>
                </a:moveTo>
                <a:cubicBezTo>
                  <a:pt x="229" y="954"/>
                  <a:pt x="232" y="944"/>
                  <a:pt x="226" y="955"/>
                </a:cubicBezTo>
                <a:cubicBezTo>
                  <a:pt x="203" y="1002"/>
                  <a:pt x="187" y="1052"/>
                  <a:pt x="167" y="1101"/>
                </a:cubicBezTo>
                <a:cubicBezTo>
                  <a:pt x="129" y="1193"/>
                  <a:pt x="93" y="1284"/>
                  <a:pt x="60" y="1378"/>
                </a:cubicBezTo>
                <a:cubicBezTo>
                  <a:pt x="39" y="1437"/>
                  <a:pt x="19" y="1504"/>
                  <a:pt x="4" y="1561"/>
                </a:cubicBezTo>
                <a:cubicBezTo>
                  <a:pt x="23" y="1540"/>
                  <a:pt x="53" y="1512"/>
                  <a:pt x="73" y="1485"/>
                </a:cubicBezTo>
                <a:cubicBezTo>
                  <a:pt x="113" y="1430"/>
                  <a:pt x="153" y="1372"/>
                  <a:pt x="188" y="1314"/>
                </a:cubicBezTo>
                <a:cubicBezTo>
                  <a:pt x="208" y="1280"/>
                  <a:pt x="228" y="1244"/>
                  <a:pt x="248" y="1211"/>
                </a:cubicBezTo>
                <a:cubicBezTo>
                  <a:pt x="249" y="1208"/>
                  <a:pt x="251" y="1206"/>
                  <a:pt x="252" y="1203"/>
                </a:cubicBezTo>
                <a:cubicBezTo>
                  <a:pt x="256" y="1227"/>
                  <a:pt x="262" y="1254"/>
                  <a:pt x="265" y="1280"/>
                </a:cubicBezTo>
                <a:cubicBezTo>
                  <a:pt x="272" y="1332"/>
                  <a:pt x="274" y="1404"/>
                  <a:pt x="303" y="1450"/>
                </a:cubicBezTo>
                <a:cubicBezTo>
                  <a:pt x="318" y="1461"/>
                  <a:pt x="321" y="1465"/>
                  <a:pt x="333" y="1468"/>
                </a:cubicBezTo>
                <a:cubicBezTo>
                  <a:pt x="374" y="1415"/>
                  <a:pt x="401" y="1372"/>
                  <a:pt x="423" y="1305"/>
                </a:cubicBezTo>
                <a:cubicBezTo>
                  <a:pt x="460" y="1193"/>
                  <a:pt x="478" y="1077"/>
                  <a:pt x="491" y="960"/>
                </a:cubicBezTo>
                <a:cubicBezTo>
                  <a:pt x="503" y="855"/>
                  <a:pt x="506" y="750"/>
                  <a:pt x="508" y="644"/>
                </a:cubicBezTo>
                <a:cubicBezTo>
                  <a:pt x="525" y="677"/>
                  <a:pt x="542" y="718"/>
                  <a:pt x="559" y="755"/>
                </a:cubicBezTo>
                <a:cubicBezTo>
                  <a:pt x="595" y="832"/>
                  <a:pt x="637" y="898"/>
                  <a:pt x="696" y="960"/>
                </a:cubicBezTo>
                <a:cubicBezTo>
                  <a:pt x="786" y="1055"/>
                  <a:pt x="905" y="1094"/>
                  <a:pt x="1029" y="1032"/>
                </a:cubicBezTo>
                <a:cubicBezTo>
                  <a:pt x="1189" y="952"/>
                  <a:pt x="1298" y="761"/>
                  <a:pt x="1370" y="606"/>
                </a:cubicBezTo>
                <a:cubicBezTo>
                  <a:pt x="1425" y="488"/>
                  <a:pt x="1476" y="351"/>
                  <a:pt x="1494" y="221"/>
                </a:cubicBezTo>
                <a:cubicBezTo>
                  <a:pt x="1503" y="154"/>
                  <a:pt x="1504" y="77"/>
                  <a:pt x="1485" y="12"/>
                </a:cubicBezTo>
                <a:cubicBezTo>
                  <a:pt x="1481" y="8"/>
                  <a:pt x="1476" y="4"/>
                  <a:pt x="1472" y="0"/>
                </a:cubicBezTo>
                <a:cubicBezTo>
                  <a:pt x="1426" y="50"/>
                  <a:pt x="1400" y="93"/>
                  <a:pt x="1370" y="157"/>
                </a:cubicBezTo>
                <a:cubicBezTo>
                  <a:pt x="1296" y="312"/>
                  <a:pt x="1253" y="478"/>
                  <a:pt x="1195" y="640"/>
                </a:cubicBezTo>
                <a:cubicBezTo>
                  <a:pt x="1128" y="828"/>
                  <a:pt x="1072" y="1018"/>
                  <a:pt x="1020" y="1211"/>
                </a:cubicBezTo>
                <a:cubicBezTo>
                  <a:pt x="991" y="1318"/>
                  <a:pt x="962" y="1427"/>
                  <a:pt x="956" y="1532"/>
                </a:cubicBezTo>
                <a:cubicBezTo>
                  <a:pt x="1003" y="1459"/>
                  <a:pt x="1047" y="1387"/>
                  <a:pt x="1084" y="1305"/>
                </a:cubicBezTo>
                <a:cubicBezTo>
                  <a:pt x="1136" y="1191"/>
                  <a:pt x="1176" y="1073"/>
                  <a:pt x="1229" y="960"/>
                </a:cubicBezTo>
                <a:cubicBezTo>
                  <a:pt x="1251" y="913"/>
                  <a:pt x="1277" y="880"/>
                  <a:pt x="1302" y="840"/>
                </a:cubicBezTo>
                <a:cubicBezTo>
                  <a:pt x="1323" y="894"/>
                  <a:pt x="1337" y="924"/>
                  <a:pt x="1344" y="990"/>
                </a:cubicBezTo>
                <a:cubicBezTo>
                  <a:pt x="1354" y="1093"/>
                  <a:pt x="1360" y="1197"/>
                  <a:pt x="1361" y="1301"/>
                </a:cubicBezTo>
                <a:cubicBezTo>
                  <a:pt x="1362" y="1356"/>
                  <a:pt x="1373" y="1402"/>
                  <a:pt x="1383" y="1450"/>
                </a:cubicBezTo>
                <a:cubicBezTo>
                  <a:pt x="1421" y="1399"/>
                  <a:pt x="1456" y="1350"/>
                  <a:pt x="1481" y="1288"/>
                </a:cubicBezTo>
                <a:cubicBezTo>
                  <a:pt x="1528" y="1171"/>
                  <a:pt x="1569" y="1053"/>
                  <a:pt x="1609" y="934"/>
                </a:cubicBezTo>
                <a:cubicBezTo>
                  <a:pt x="1633" y="864"/>
                  <a:pt x="1647" y="787"/>
                  <a:pt x="1681" y="721"/>
                </a:cubicBezTo>
                <a:cubicBezTo>
                  <a:pt x="1684" y="721"/>
                  <a:pt x="1687" y="721"/>
                  <a:pt x="1690" y="721"/>
                </a:cubicBezTo>
                <a:cubicBezTo>
                  <a:pt x="1711" y="787"/>
                  <a:pt x="1727" y="849"/>
                  <a:pt x="1733" y="921"/>
                </a:cubicBezTo>
                <a:cubicBezTo>
                  <a:pt x="1745" y="1061"/>
                  <a:pt x="1746" y="1201"/>
                  <a:pt x="1741" y="1340"/>
                </a:cubicBezTo>
                <a:cubicBezTo>
                  <a:pt x="1739" y="1393"/>
                  <a:pt x="1743" y="1445"/>
                  <a:pt x="1745" y="1497"/>
                </a:cubicBezTo>
                <a:cubicBezTo>
                  <a:pt x="1758" y="1447"/>
                  <a:pt x="1770" y="1395"/>
                  <a:pt x="1784" y="1344"/>
                </a:cubicBezTo>
                <a:cubicBezTo>
                  <a:pt x="1808" y="1266"/>
                  <a:pt x="1815" y="1233"/>
                  <a:pt x="1805" y="1173"/>
                </a:cubicBezTo>
              </a:path>
              <a:path w="3283" h="1562">
                <a:moveTo>
                  <a:pt x="1963" y="290"/>
                </a:moveTo>
                <a:cubicBezTo>
                  <a:pt x="1952" y="349"/>
                  <a:pt x="1942" y="396"/>
                  <a:pt x="1925" y="452"/>
                </a:cubicBezTo>
                <a:cubicBezTo>
                  <a:pt x="1920" y="472"/>
                  <a:pt x="1919" y="477"/>
                  <a:pt x="1920" y="490"/>
                </a:cubicBezTo>
                <a:cubicBezTo>
                  <a:pt x="1933" y="467"/>
                  <a:pt x="1931" y="463"/>
                  <a:pt x="1933" y="435"/>
                </a:cubicBezTo>
              </a:path>
              <a:path w="3283" h="1562">
                <a:moveTo>
                  <a:pt x="2258" y="836"/>
                </a:moveTo>
                <a:cubicBezTo>
                  <a:pt x="2261" y="843"/>
                  <a:pt x="2263" y="850"/>
                  <a:pt x="2266" y="857"/>
                </a:cubicBezTo>
                <a:cubicBezTo>
                  <a:pt x="2235" y="848"/>
                  <a:pt x="2245" y="850"/>
                  <a:pt x="2232" y="874"/>
                </a:cubicBezTo>
                <a:cubicBezTo>
                  <a:pt x="2225" y="888"/>
                  <a:pt x="2222" y="889"/>
                  <a:pt x="2219" y="904"/>
                </a:cubicBezTo>
                <a:cubicBezTo>
                  <a:pt x="2198" y="904"/>
                  <a:pt x="2202" y="898"/>
                  <a:pt x="2194" y="879"/>
                </a:cubicBezTo>
                <a:cubicBezTo>
                  <a:pt x="2190" y="869"/>
                  <a:pt x="2185" y="859"/>
                  <a:pt x="2181" y="849"/>
                </a:cubicBezTo>
              </a:path>
              <a:path w="3283" h="1562">
                <a:moveTo>
                  <a:pt x="2087" y="652"/>
                </a:moveTo>
                <a:cubicBezTo>
                  <a:pt x="2061" y="704"/>
                  <a:pt x="2039" y="751"/>
                  <a:pt x="2027" y="810"/>
                </a:cubicBezTo>
                <a:cubicBezTo>
                  <a:pt x="2002" y="934"/>
                  <a:pt x="1999" y="1064"/>
                  <a:pt x="1993" y="1190"/>
                </a:cubicBezTo>
                <a:cubicBezTo>
                  <a:pt x="1989" y="1276"/>
                  <a:pt x="1979" y="1431"/>
                  <a:pt x="2036" y="1506"/>
                </a:cubicBezTo>
                <a:cubicBezTo>
                  <a:pt x="2060" y="1538"/>
                  <a:pt x="2066" y="1549"/>
                  <a:pt x="2095" y="1553"/>
                </a:cubicBezTo>
                <a:cubicBezTo>
                  <a:pt x="2195" y="1498"/>
                  <a:pt x="2238" y="1421"/>
                  <a:pt x="2296" y="1322"/>
                </a:cubicBezTo>
                <a:cubicBezTo>
                  <a:pt x="2398" y="1149"/>
                  <a:pt x="2470" y="963"/>
                  <a:pt x="2531" y="772"/>
                </a:cubicBezTo>
                <a:cubicBezTo>
                  <a:pt x="2589" y="590"/>
                  <a:pt x="2634" y="408"/>
                  <a:pt x="2671" y="221"/>
                </a:cubicBezTo>
                <a:cubicBezTo>
                  <a:pt x="2687" y="142"/>
                  <a:pt x="2690" y="103"/>
                  <a:pt x="2710" y="25"/>
                </a:cubicBezTo>
                <a:cubicBezTo>
                  <a:pt x="2707" y="178"/>
                  <a:pt x="2696" y="334"/>
                  <a:pt x="2676" y="486"/>
                </a:cubicBezTo>
                <a:cubicBezTo>
                  <a:pt x="2652" y="671"/>
                  <a:pt x="2638" y="857"/>
                  <a:pt x="2607" y="1041"/>
                </a:cubicBezTo>
                <a:cubicBezTo>
                  <a:pt x="2592" y="1129"/>
                  <a:pt x="2563" y="1240"/>
                  <a:pt x="2573" y="1331"/>
                </a:cubicBezTo>
                <a:cubicBezTo>
                  <a:pt x="2576" y="1338"/>
                  <a:pt x="2579" y="1345"/>
                  <a:pt x="2582" y="1352"/>
                </a:cubicBezTo>
                <a:cubicBezTo>
                  <a:pt x="2623" y="1281"/>
                  <a:pt x="2660" y="1212"/>
                  <a:pt x="2693" y="1135"/>
                </a:cubicBezTo>
                <a:cubicBezTo>
                  <a:pt x="2737" y="1031"/>
                  <a:pt x="2785" y="927"/>
                  <a:pt x="2838" y="827"/>
                </a:cubicBezTo>
                <a:cubicBezTo>
                  <a:pt x="2880" y="747"/>
                  <a:pt x="2874" y="780"/>
                  <a:pt x="2928" y="746"/>
                </a:cubicBezTo>
                <a:cubicBezTo>
                  <a:pt x="2978" y="856"/>
                  <a:pt x="3005" y="962"/>
                  <a:pt x="3026" y="1083"/>
                </a:cubicBezTo>
                <a:cubicBezTo>
                  <a:pt x="3048" y="1208"/>
                  <a:pt x="3057" y="1337"/>
                  <a:pt x="3094" y="1459"/>
                </a:cubicBezTo>
                <a:cubicBezTo>
                  <a:pt x="3111" y="1515"/>
                  <a:pt x="3151" y="1582"/>
                  <a:pt x="3209" y="1510"/>
                </a:cubicBezTo>
                <a:cubicBezTo>
                  <a:pt x="3241" y="1437"/>
                  <a:pt x="3254" y="1409"/>
                  <a:pt x="3282" y="136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4" name="Freeform 13"/>
          <p:cNvSpPr/>
          <p:nvPr/>
        </p:nvSpPr>
        <p:spPr>
          <a:xfrm>
            <a:off x="4179960" y="5784840"/>
            <a:ext cx="888840" cy="554040"/>
          </a:xfrm>
          <a:custGeom>
            <a:avLst/>
            <a:gdLst/>
            <a:ahLst/>
            <a:rect l="l" t="t" r="r" b="b"/>
            <a:pathLst>
              <a:path w="2467" h="1537">
                <a:moveTo>
                  <a:pt x="559" y="0"/>
                </a:moveTo>
                <a:cubicBezTo>
                  <a:pt x="556" y="7"/>
                  <a:pt x="560" y="-2"/>
                  <a:pt x="555" y="8"/>
                </a:cubicBezTo>
                <a:cubicBezTo>
                  <a:pt x="543" y="32"/>
                  <a:pt x="531" y="72"/>
                  <a:pt x="520" y="102"/>
                </a:cubicBezTo>
                <a:cubicBezTo>
                  <a:pt x="476" y="227"/>
                  <a:pt x="436" y="352"/>
                  <a:pt x="397" y="478"/>
                </a:cubicBezTo>
                <a:cubicBezTo>
                  <a:pt x="337" y="671"/>
                  <a:pt x="276" y="865"/>
                  <a:pt x="205" y="1054"/>
                </a:cubicBezTo>
                <a:cubicBezTo>
                  <a:pt x="154" y="1192"/>
                  <a:pt x="97" y="1327"/>
                  <a:pt x="42" y="1463"/>
                </a:cubicBezTo>
                <a:cubicBezTo>
                  <a:pt x="25" y="1508"/>
                  <a:pt x="27" y="1518"/>
                  <a:pt x="4" y="1536"/>
                </a:cubicBezTo>
                <a:cubicBezTo>
                  <a:pt x="11" y="1476"/>
                  <a:pt x="26" y="1410"/>
                  <a:pt x="42" y="1348"/>
                </a:cubicBezTo>
              </a:path>
              <a:path w="2467" h="1537">
                <a:moveTo>
                  <a:pt x="764" y="550"/>
                </a:moveTo>
                <a:cubicBezTo>
                  <a:pt x="761" y="559"/>
                  <a:pt x="756" y="594"/>
                  <a:pt x="751" y="606"/>
                </a:cubicBezTo>
                <a:cubicBezTo>
                  <a:pt x="725" y="675"/>
                  <a:pt x="706" y="745"/>
                  <a:pt x="683" y="815"/>
                </a:cubicBezTo>
                <a:cubicBezTo>
                  <a:pt x="654" y="906"/>
                  <a:pt x="627" y="997"/>
                  <a:pt x="597" y="1088"/>
                </a:cubicBezTo>
                <a:cubicBezTo>
                  <a:pt x="585" y="1125"/>
                  <a:pt x="570" y="1162"/>
                  <a:pt x="559" y="1199"/>
                </a:cubicBezTo>
                <a:cubicBezTo>
                  <a:pt x="545" y="1170"/>
                  <a:pt x="541" y="1158"/>
                  <a:pt x="555" y="1135"/>
                </a:cubicBezTo>
              </a:path>
              <a:path w="2467" h="1537">
                <a:moveTo>
                  <a:pt x="785" y="85"/>
                </a:moveTo>
                <a:cubicBezTo>
                  <a:pt x="776" y="147"/>
                  <a:pt x="769" y="206"/>
                  <a:pt x="764" y="268"/>
                </a:cubicBezTo>
                <a:cubicBezTo>
                  <a:pt x="763" y="281"/>
                  <a:pt x="764" y="294"/>
                  <a:pt x="764" y="307"/>
                </a:cubicBezTo>
                <a:cubicBezTo>
                  <a:pt x="771" y="292"/>
                  <a:pt x="772" y="276"/>
                  <a:pt x="781" y="260"/>
                </a:cubicBezTo>
              </a:path>
              <a:path w="2467" h="1537">
                <a:moveTo>
                  <a:pt x="1088" y="678"/>
                </a:moveTo>
                <a:cubicBezTo>
                  <a:pt x="1050" y="721"/>
                  <a:pt x="1023" y="765"/>
                  <a:pt x="986" y="810"/>
                </a:cubicBezTo>
                <a:cubicBezTo>
                  <a:pt x="952" y="852"/>
                  <a:pt x="925" y="895"/>
                  <a:pt x="900" y="943"/>
                </a:cubicBezTo>
                <a:cubicBezTo>
                  <a:pt x="884" y="974"/>
                  <a:pt x="885" y="1059"/>
                  <a:pt x="858" y="1037"/>
                </a:cubicBezTo>
                <a:cubicBezTo>
                  <a:pt x="856" y="1035"/>
                  <a:pt x="892" y="947"/>
                  <a:pt x="896" y="938"/>
                </a:cubicBezTo>
                <a:cubicBezTo>
                  <a:pt x="925" y="868"/>
                  <a:pt x="935" y="840"/>
                  <a:pt x="951" y="789"/>
                </a:cubicBezTo>
              </a:path>
              <a:path w="2467" h="1537">
                <a:moveTo>
                  <a:pt x="1254" y="273"/>
                </a:moveTo>
                <a:cubicBezTo>
                  <a:pt x="1331" y="287"/>
                  <a:pt x="1321" y="352"/>
                  <a:pt x="1318" y="426"/>
                </a:cubicBezTo>
                <a:cubicBezTo>
                  <a:pt x="1312" y="581"/>
                  <a:pt x="1284" y="740"/>
                  <a:pt x="1250" y="891"/>
                </a:cubicBezTo>
                <a:cubicBezTo>
                  <a:pt x="1222" y="1016"/>
                  <a:pt x="1194" y="1146"/>
                  <a:pt x="1152" y="1267"/>
                </a:cubicBezTo>
                <a:cubicBezTo>
                  <a:pt x="1112" y="1383"/>
                  <a:pt x="1125" y="1220"/>
                  <a:pt x="1126" y="1199"/>
                </a:cubicBezTo>
              </a:path>
              <a:path w="2467" h="1537">
                <a:moveTo>
                  <a:pt x="1596" y="418"/>
                </a:moveTo>
                <a:cubicBezTo>
                  <a:pt x="1587" y="459"/>
                  <a:pt x="1577" y="514"/>
                  <a:pt x="1574" y="563"/>
                </a:cubicBezTo>
                <a:cubicBezTo>
                  <a:pt x="1570" y="637"/>
                  <a:pt x="1569" y="716"/>
                  <a:pt x="1583" y="789"/>
                </a:cubicBezTo>
                <a:cubicBezTo>
                  <a:pt x="1589" y="818"/>
                  <a:pt x="1600" y="842"/>
                  <a:pt x="1609" y="866"/>
                </a:cubicBezTo>
                <a:cubicBezTo>
                  <a:pt x="1656" y="839"/>
                  <a:pt x="1681" y="794"/>
                  <a:pt x="1707" y="746"/>
                </a:cubicBezTo>
                <a:cubicBezTo>
                  <a:pt x="1762" y="646"/>
                  <a:pt x="1800" y="531"/>
                  <a:pt x="1835" y="422"/>
                </a:cubicBezTo>
                <a:cubicBezTo>
                  <a:pt x="1864" y="330"/>
                  <a:pt x="1886" y="238"/>
                  <a:pt x="1907" y="145"/>
                </a:cubicBezTo>
                <a:cubicBezTo>
                  <a:pt x="1914" y="112"/>
                  <a:pt x="1910" y="102"/>
                  <a:pt x="1907" y="81"/>
                </a:cubicBezTo>
                <a:cubicBezTo>
                  <a:pt x="1881" y="126"/>
                  <a:pt x="1863" y="169"/>
                  <a:pt x="1843" y="217"/>
                </a:cubicBezTo>
                <a:cubicBezTo>
                  <a:pt x="1797" y="324"/>
                  <a:pt x="1747" y="429"/>
                  <a:pt x="1703" y="537"/>
                </a:cubicBezTo>
                <a:cubicBezTo>
                  <a:pt x="1657" y="649"/>
                  <a:pt x="1598" y="767"/>
                  <a:pt x="1562" y="883"/>
                </a:cubicBezTo>
                <a:cubicBezTo>
                  <a:pt x="1541" y="950"/>
                  <a:pt x="1521" y="1022"/>
                  <a:pt x="1519" y="1092"/>
                </a:cubicBezTo>
                <a:cubicBezTo>
                  <a:pt x="1519" y="1101"/>
                  <a:pt x="1519" y="1109"/>
                  <a:pt x="1519" y="1118"/>
                </a:cubicBezTo>
                <a:cubicBezTo>
                  <a:pt x="1561" y="1137"/>
                  <a:pt x="1562" y="1143"/>
                  <a:pt x="1613" y="1118"/>
                </a:cubicBezTo>
                <a:cubicBezTo>
                  <a:pt x="1686" y="1082"/>
                  <a:pt x="1735" y="1025"/>
                  <a:pt x="1796" y="973"/>
                </a:cubicBezTo>
              </a:path>
              <a:path w="2467" h="1537">
                <a:moveTo>
                  <a:pt x="2466" y="251"/>
                </a:moveTo>
                <a:cubicBezTo>
                  <a:pt x="2450" y="284"/>
                  <a:pt x="2423" y="295"/>
                  <a:pt x="2381" y="315"/>
                </a:cubicBezTo>
                <a:cubicBezTo>
                  <a:pt x="2318" y="345"/>
                  <a:pt x="2250" y="356"/>
                  <a:pt x="2189" y="392"/>
                </a:cubicBezTo>
                <a:cubicBezTo>
                  <a:pt x="2142" y="420"/>
                  <a:pt x="2088" y="448"/>
                  <a:pt x="2052" y="490"/>
                </a:cubicBezTo>
                <a:cubicBezTo>
                  <a:pt x="2021" y="526"/>
                  <a:pt x="1994" y="578"/>
                  <a:pt x="2023" y="623"/>
                </a:cubicBezTo>
                <a:cubicBezTo>
                  <a:pt x="2050" y="666"/>
                  <a:pt x="2102" y="693"/>
                  <a:pt x="2142" y="721"/>
                </a:cubicBezTo>
                <a:cubicBezTo>
                  <a:pt x="2194" y="757"/>
                  <a:pt x="2253" y="781"/>
                  <a:pt x="2304" y="819"/>
                </a:cubicBezTo>
                <a:cubicBezTo>
                  <a:pt x="2337" y="843"/>
                  <a:pt x="2389" y="875"/>
                  <a:pt x="2381" y="921"/>
                </a:cubicBezTo>
                <a:cubicBezTo>
                  <a:pt x="2371" y="982"/>
                  <a:pt x="2291" y="1042"/>
                  <a:pt x="2240" y="1066"/>
                </a:cubicBezTo>
                <a:cubicBezTo>
                  <a:pt x="2182" y="1094"/>
                  <a:pt x="2137" y="1106"/>
                  <a:pt x="2078" y="1096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5" name="Freeform 14"/>
          <p:cNvSpPr/>
          <p:nvPr/>
        </p:nvSpPr>
        <p:spPr>
          <a:xfrm>
            <a:off x="5418000" y="5711760"/>
            <a:ext cx="920880" cy="701640"/>
          </a:xfrm>
          <a:custGeom>
            <a:avLst/>
            <a:gdLst/>
            <a:ahLst/>
            <a:rect l="l" t="t" r="r" b="b"/>
            <a:pathLst>
              <a:path w="2558" h="1951">
                <a:moveTo>
                  <a:pt x="628" y="452"/>
                </a:moveTo>
                <a:cubicBezTo>
                  <a:pt x="611" y="449"/>
                  <a:pt x="593" y="441"/>
                  <a:pt x="576" y="439"/>
                </a:cubicBezTo>
                <a:cubicBezTo>
                  <a:pt x="517" y="432"/>
                  <a:pt x="453" y="448"/>
                  <a:pt x="397" y="465"/>
                </a:cubicBezTo>
                <a:cubicBezTo>
                  <a:pt x="332" y="485"/>
                  <a:pt x="265" y="516"/>
                  <a:pt x="209" y="555"/>
                </a:cubicBezTo>
                <a:cubicBezTo>
                  <a:pt x="167" y="584"/>
                  <a:pt x="111" y="633"/>
                  <a:pt x="86" y="678"/>
                </a:cubicBezTo>
                <a:cubicBezTo>
                  <a:pt x="60" y="724"/>
                  <a:pt x="50" y="782"/>
                  <a:pt x="77" y="828"/>
                </a:cubicBezTo>
                <a:cubicBezTo>
                  <a:pt x="105" y="876"/>
                  <a:pt x="154" y="907"/>
                  <a:pt x="197" y="939"/>
                </a:cubicBezTo>
                <a:cubicBezTo>
                  <a:pt x="243" y="973"/>
                  <a:pt x="287" y="1006"/>
                  <a:pt x="329" y="1045"/>
                </a:cubicBezTo>
                <a:cubicBezTo>
                  <a:pt x="354" y="1068"/>
                  <a:pt x="387" y="1117"/>
                  <a:pt x="372" y="1156"/>
                </a:cubicBezTo>
                <a:cubicBezTo>
                  <a:pt x="354" y="1201"/>
                  <a:pt x="302" y="1248"/>
                  <a:pt x="261" y="1271"/>
                </a:cubicBezTo>
                <a:cubicBezTo>
                  <a:pt x="218" y="1295"/>
                  <a:pt x="127" y="1327"/>
                  <a:pt x="77" y="1314"/>
                </a:cubicBezTo>
                <a:cubicBezTo>
                  <a:pt x="36" y="1291"/>
                  <a:pt x="27" y="1285"/>
                  <a:pt x="0" y="1276"/>
                </a:cubicBezTo>
              </a:path>
              <a:path w="2558" h="1951">
                <a:moveTo>
                  <a:pt x="1208" y="0"/>
                </a:moveTo>
                <a:cubicBezTo>
                  <a:pt x="1176" y="151"/>
                  <a:pt x="1137" y="303"/>
                  <a:pt x="1093" y="452"/>
                </a:cubicBezTo>
                <a:cubicBezTo>
                  <a:pt x="1044" y="619"/>
                  <a:pt x="1009" y="789"/>
                  <a:pt x="961" y="956"/>
                </a:cubicBezTo>
                <a:cubicBezTo>
                  <a:pt x="957" y="970"/>
                  <a:pt x="875" y="1260"/>
                  <a:pt x="862" y="1259"/>
                </a:cubicBezTo>
                <a:cubicBezTo>
                  <a:pt x="814" y="1255"/>
                  <a:pt x="885" y="1275"/>
                  <a:pt x="820" y="1212"/>
                </a:cubicBezTo>
              </a:path>
              <a:path w="2558" h="1951">
                <a:moveTo>
                  <a:pt x="675" y="670"/>
                </a:moveTo>
                <a:cubicBezTo>
                  <a:pt x="696" y="727"/>
                  <a:pt x="693" y="800"/>
                  <a:pt x="768" y="811"/>
                </a:cubicBezTo>
                <a:cubicBezTo>
                  <a:pt x="839" y="822"/>
                  <a:pt x="936" y="769"/>
                  <a:pt x="995" y="738"/>
                </a:cubicBezTo>
                <a:cubicBezTo>
                  <a:pt x="1076" y="696"/>
                  <a:pt x="1155" y="645"/>
                  <a:pt x="1238" y="606"/>
                </a:cubicBezTo>
                <a:cubicBezTo>
                  <a:pt x="1306" y="574"/>
                  <a:pt x="1379" y="557"/>
                  <a:pt x="1451" y="542"/>
                </a:cubicBezTo>
                <a:cubicBezTo>
                  <a:pt x="1526" y="526"/>
                  <a:pt x="1603" y="532"/>
                  <a:pt x="1677" y="520"/>
                </a:cubicBezTo>
                <a:cubicBezTo>
                  <a:pt x="1706" y="515"/>
                  <a:pt x="1732" y="510"/>
                  <a:pt x="1759" y="499"/>
                </a:cubicBezTo>
                <a:cubicBezTo>
                  <a:pt x="1762" y="495"/>
                  <a:pt x="1764" y="490"/>
                  <a:pt x="1767" y="486"/>
                </a:cubicBezTo>
                <a:cubicBezTo>
                  <a:pt x="1736" y="451"/>
                  <a:pt x="1738" y="421"/>
                  <a:pt x="1673" y="418"/>
                </a:cubicBezTo>
                <a:cubicBezTo>
                  <a:pt x="1554" y="412"/>
                  <a:pt x="1485" y="575"/>
                  <a:pt x="1443" y="657"/>
                </a:cubicBezTo>
                <a:cubicBezTo>
                  <a:pt x="1399" y="743"/>
                  <a:pt x="1365" y="833"/>
                  <a:pt x="1353" y="930"/>
                </a:cubicBezTo>
                <a:cubicBezTo>
                  <a:pt x="1347" y="983"/>
                  <a:pt x="1353" y="1005"/>
                  <a:pt x="1357" y="1054"/>
                </a:cubicBezTo>
                <a:cubicBezTo>
                  <a:pt x="1411" y="1039"/>
                  <a:pt x="1438" y="1061"/>
                  <a:pt x="1490" y="1003"/>
                </a:cubicBezTo>
                <a:cubicBezTo>
                  <a:pt x="1575" y="909"/>
                  <a:pt x="1642" y="771"/>
                  <a:pt x="1695" y="657"/>
                </a:cubicBezTo>
                <a:cubicBezTo>
                  <a:pt x="1720" y="604"/>
                  <a:pt x="1742" y="548"/>
                  <a:pt x="1767" y="499"/>
                </a:cubicBezTo>
                <a:cubicBezTo>
                  <a:pt x="1768" y="498"/>
                  <a:pt x="1770" y="496"/>
                  <a:pt x="1771" y="495"/>
                </a:cubicBezTo>
                <a:cubicBezTo>
                  <a:pt x="1775" y="553"/>
                  <a:pt x="1772" y="607"/>
                  <a:pt x="1771" y="665"/>
                </a:cubicBezTo>
                <a:cubicBezTo>
                  <a:pt x="1768" y="769"/>
                  <a:pt x="1766" y="873"/>
                  <a:pt x="1771" y="977"/>
                </a:cubicBezTo>
                <a:cubicBezTo>
                  <a:pt x="1774" y="1046"/>
                  <a:pt x="1785" y="1083"/>
                  <a:pt x="1805" y="1135"/>
                </a:cubicBezTo>
                <a:cubicBezTo>
                  <a:pt x="1850" y="1076"/>
                  <a:pt x="1881" y="1016"/>
                  <a:pt x="1912" y="943"/>
                </a:cubicBezTo>
                <a:cubicBezTo>
                  <a:pt x="1971" y="806"/>
                  <a:pt x="2016" y="667"/>
                  <a:pt x="2062" y="525"/>
                </a:cubicBezTo>
                <a:cubicBezTo>
                  <a:pt x="2092" y="433"/>
                  <a:pt x="2124" y="354"/>
                  <a:pt x="2168" y="269"/>
                </a:cubicBezTo>
                <a:cubicBezTo>
                  <a:pt x="2182" y="295"/>
                  <a:pt x="2216" y="342"/>
                  <a:pt x="2224" y="409"/>
                </a:cubicBezTo>
                <a:cubicBezTo>
                  <a:pt x="2239" y="535"/>
                  <a:pt x="2239" y="663"/>
                  <a:pt x="2249" y="789"/>
                </a:cubicBezTo>
                <a:cubicBezTo>
                  <a:pt x="2256" y="876"/>
                  <a:pt x="2252" y="974"/>
                  <a:pt x="2275" y="1058"/>
                </a:cubicBezTo>
                <a:cubicBezTo>
                  <a:pt x="2281" y="1064"/>
                  <a:pt x="2286" y="1069"/>
                  <a:pt x="2292" y="1075"/>
                </a:cubicBezTo>
                <a:cubicBezTo>
                  <a:pt x="2319" y="1033"/>
                  <a:pt x="2343" y="996"/>
                  <a:pt x="2364" y="939"/>
                </a:cubicBezTo>
                <a:cubicBezTo>
                  <a:pt x="2405" y="829"/>
                  <a:pt x="2439" y="719"/>
                  <a:pt x="2471" y="606"/>
                </a:cubicBezTo>
                <a:cubicBezTo>
                  <a:pt x="2488" y="546"/>
                  <a:pt x="2501" y="468"/>
                  <a:pt x="2539" y="418"/>
                </a:cubicBezTo>
                <a:cubicBezTo>
                  <a:pt x="2542" y="421"/>
                  <a:pt x="2545" y="423"/>
                  <a:pt x="2548" y="426"/>
                </a:cubicBezTo>
                <a:cubicBezTo>
                  <a:pt x="2555" y="523"/>
                  <a:pt x="2555" y="618"/>
                  <a:pt x="2552" y="717"/>
                </a:cubicBezTo>
                <a:cubicBezTo>
                  <a:pt x="2546" y="910"/>
                  <a:pt x="2536" y="1102"/>
                  <a:pt x="2510" y="1293"/>
                </a:cubicBezTo>
                <a:cubicBezTo>
                  <a:pt x="2487" y="1460"/>
                  <a:pt x="2461" y="1628"/>
                  <a:pt x="2407" y="1788"/>
                </a:cubicBezTo>
                <a:cubicBezTo>
                  <a:pt x="2377" y="1879"/>
                  <a:pt x="2347" y="1944"/>
                  <a:pt x="2245" y="1950"/>
                </a:cubicBezTo>
                <a:cubicBezTo>
                  <a:pt x="2101" y="1959"/>
                  <a:pt x="1931" y="1690"/>
                  <a:pt x="1844" y="1604"/>
                </a:cubicBezTo>
                <a:cubicBezTo>
                  <a:pt x="1827" y="1588"/>
                  <a:pt x="1810" y="1573"/>
                  <a:pt x="1793" y="155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6" name="Freeform 15"/>
          <p:cNvSpPr/>
          <p:nvPr/>
        </p:nvSpPr>
        <p:spPr>
          <a:xfrm>
            <a:off x="6621480" y="5445000"/>
            <a:ext cx="1563840" cy="874800"/>
          </a:xfrm>
          <a:custGeom>
            <a:avLst/>
            <a:gdLst/>
            <a:ahLst/>
            <a:rect l="l" t="t" r="r" b="b"/>
            <a:pathLst>
              <a:path w="4345" h="2430">
                <a:moveTo>
                  <a:pt x="205" y="1379"/>
                </a:moveTo>
                <a:cubicBezTo>
                  <a:pt x="178" y="1448"/>
                  <a:pt x="159" y="1527"/>
                  <a:pt x="145" y="1601"/>
                </a:cubicBezTo>
                <a:cubicBezTo>
                  <a:pt x="121" y="1732"/>
                  <a:pt x="101" y="1866"/>
                  <a:pt x="81" y="1998"/>
                </a:cubicBezTo>
                <a:cubicBezTo>
                  <a:pt x="64" y="2110"/>
                  <a:pt x="45" y="2223"/>
                  <a:pt x="30" y="2335"/>
                </a:cubicBezTo>
                <a:cubicBezTo>
                  <a:pt x="26" y="2367"/>
                  <a:pt x="22" y="2398"/>
                  <a:pt x="17" y="2429"/>
                </a:cubicBezTo>
                <a:cubicBezTo>
                  <a:pt x="7" y="2381"/>
                  <a:pt x="0" y="2334"/>
                  <a:pt x="0" y="2284"/>
                </a:cubicBezTo>
                <a:cubicBezTo>
                  <a:pt x="1" y="2116"/>
                  <a:pt x="-3" y="1948"/>
                  <a:pt x="17" y="1780"/>
                </a:cubicBezTo>
                <a:cubicBezTo>
                  <a:pt x="43" y="1559"/>
                  <a:pt x="75" y="1335"/>
                  <a:pt x="145" y="1123"/>
                </a:cubicBezTo>
                <a:cubicBezTo>
                  <a:pt x="185" y="1001"/>
                  <a:pt x="243" y="839"/>
                  <a:pt x="362" y="769"/>
                </a:cubicBezTo>
                <a:cubicBezTo>
                  <a:pt x="445" y="720"/>
                  <a:pt x="527" y="786"/>
                  <a:pt x="580" y="845"/>
                </a:cubicBezTo>
                <a:cubicBezTo>
                  <a:pt x="644" y="916"/>
                  <a:pt x="687" y="1017"/>
                  <a:pt x="708" y="1110"/>
                </a:cubicBezTo>
                <a:cubicBezTo>
                  <a:pt x="724" y="1182"/>
                  <a:pt x="725" y="1269"/>
                  <a:pt x="691" y="1336"/>
                </a:cubicBezTo>
                <a:cubicBezTo>
                  <a:pt x="665" y="1387"/>
                  <a:pt x="625" y="1429"/>
                  <a:pt x="572" y="1451"/>
                </a:cubicBezTo>
                <a:cubicBezTo>
                  <a:pt x="492" y="1485"/>
                  <a:pt x="409" y="1433"/>
                  <a:pt x="350" y="1387"/>
                </a:cubicBezTo>
              </a:path>
              <a:path w="4345" h="2430">
                <a:moveTo>
                  <a:pt x="1314" y="995"/>
                </a:moveTo>
                <a:cubicBezTo>
                  <a:pt x="1285" y="1055"/>
                  <a:pt x="1260" y="1114"/>
                  <a:pt x="1233" y="1174"/>
                </a:cubicBezTo>
                <a:cubicBezTo>
                  <a:pt x="1225" y="1198"/>
                  <a:pt x="1222" y="1206"/>
                  <a:pt x="1216" y="1221"/>
                </a:cubicBezTo>
                <a:cubicBezTo>
                  <a:pt x="1208" y="1205"/>
                  <a:pt x="1195" y="1182"/>
                  <a:pt x="1190" y="1153"/>
                </a:cubicBezTo>
                <a:cubicBezTo>
                  <a:pt x="1176" y="1073"/>
                  <a:pt x="1166" y="993"/>
                  <a:pt x="1152" y="914"/>
                </a:cubicBezTo>
                <a:cubicBezTo>
                  <a:pt x="1140" y="849"/>
                  <a:pt x="1138" y="766"/>
                  <a:pt x="1109" y="705"/>
                </a:cubicBezTo>
                <a:cubicBezTo>
                  <a:pt x="1103" y="698"/>
                  <a:pt x="1098" y="690"/>
                  <a:pt x="1092" y="683"/>
                </a:cubicBezTo>
                <a:cubicBezTo>
                  <a:pt x="1055" y="724"/>
                  <a:pt x="1032" y="761"/>
                  <a:pt x="1015" y="820"/>
                </a:cubicBezTo>
                <a:cubicBezTo>
                  <a:pt x="970" y="975"/>
                  <a:pt x="921" y="1136"/>
                  <a:pt x="892" y="1294"/>
                </a:cubicBezTo>
                <a:cubicBezTo>
                  <a:pt x="875" y="1386"/>
                  <a:pt x="842" y="1490"/>
                  <a:pt x="840" y="1584"/>
                </a:cubicBezTo>
                <a:cubicBezTo>
                  <a:pt x="844" y="1610"/>
                  <a:pt x="840" y="1616"/>
                  <a:pt x="853" y="1626"/>
                </a:cubicBezTo>
                <a:cubicBezTo>
                  <a:pt x="924" y="1528"/>
                  <a:pt x="966" y="1435"/>
                  <a:pt x="1007" y="1319"/>
                </a:cubicBezTo>
                <a:cubicBezTo>
                  <a:pt x="1057" y="1179"/>
                  <a:pt x="1100" y="1040"/>
                  <a:pt x="1139" y="897"/>
                </a:cubicBezTo>
                <a:cubicBezTo>
                  <a:pt x="1154" y="843"/>
                  <a:pt x="1167" y="781"/>
                  <a:pt x="1190" y="739"/>
                </a:cubicBezTo>
                <a:cubicBezTo>
                  <a:pt x="1204" y="822"/>
                  <a:pt x="1212" y="901"/>
                  <a:pt x="1216" y="986"/>
                </a:cubicBezTo>
                <a:cubicBezTo>
                  <a:pt x="1222" y="1119"/>
                  <a:pt x="1232" y="1254"/>
                  <a:pt x="1233" y="1387"/>
                </a:cubicBezTo>
                <a:cubicBezTo>
                  <a:pt x="1234" y="1454"/>
                  <a:pt x="1230" y="1521"/>
                  <a:pt x="1233" y="1588"/>
                </a:cubicBezTo>
                <a:cubicBezTo>
                  <a:pt x="1248" y="1549"/>
                  <a:pt x="1264" y="1505"/>
                  <a:pt x="1276" y="1460"/>
                </a:cubicBezTo>
                <a:cubicBezTo>
                  <a:pt x="1308" y="1337"/>
                  <a:pt x="1331" y="1213"/>
                  <a:pt x="1357" y="1089"/>
                </a:cubicBezTo>
                <a:cubicBezTo>
                  <a:pt x="1378" y="991"/>
                  <a:pt x="1390" y="853"/>
                  <a:pt x="1446" y="769"/>
                </a:cubicBezTo>
                <a:cubicBezTo>
                  <a:pt x="1452" y="769"/>
                  <a:pt x="1457" y="769"/>
                  <a:pt x="1463" y="769"/>
                </a:cubicBezTo>
                <a:cubicBezTo>
                  <a:pt x="1487" y="845"/>
                  <a:pt x="1504" y="918"/>
                  <a:pt x="1515" y="999"/>
                </a:cubicBezTo>
                <a:cubicBezTo>
                  <a:pt x="1533" y="1128"/>
                  <a:pt x="1545" y="1257"/>
                  <a:pt x="1553" y="1387"/>
                </a:cubicBezTo>
                <a:cubicBezTo>
                  <a:pt x="1558" y="1457"/>
                  <a:pt x="1568" y="1532"/>
                  <a:pt x="1570" y="1601"/>
                </a:cubicBezTo>
                <a:cubicBezTo>
                  <a:pt x="1569" y="1605"/>
                  <a:pt x="1567" y="1610"/>
                  <a:pt x="1566" y="1614"/>
                </a:cubicBezTo>
                <a:cubicBezTo>
                  <a:pt x="1573" y="1577"/>
                  <a:pt x="1580" y="1533"/>
                  <a:pt x="1587" y="1494"/>
                </a:cubicBezTo>
                <a:cubicBezTo>
                  <a:pt x="1607" y="1386"/>
                  <a:pt x="1627" y="1276"/>
                  <a:pt x="1655" y="1170"/>
                </a:cubicBezTo>
                <a:cubicBezTo>
                  <a:pt x="1679" y="1079"/>
                  <a:pt x="1705" y="980"/>
                  <a:pt x="1758" y="901"/>
                </a:cubicBezTo>
                <a:cubicBezTo>
                  <a:pt x="1789" y="855"/>
                  <a:pt x="1819" y="842"/>
                  <a:pt x="1865" y="871"/>
                </a:cubicBezTo>
                <a:cubicBezTo>
                  <a:pt x="1915" y="903"/>
                  <a:pt x="1945" y="972"/>
                  <a:pt x="1988" y="1012"/>
                </a:cubicBezTo>
                <a:cubicBezTo>
                  <a:pt x="1997" y="1018"/>
                  <a:pt x="2005" y="1023"/>
                  <a:pt x="2014" y="1029"/>
                </a:cubicBezTo>
                <a:cubicBezTo>
                  <a:pt x="2081" y="982"/>
                  <a:pt x="2078" y="967"/>
                  <a:pt x="2116" y="892"/>
                </a:cubicBezTo>
                <a:cubicBezTo>
                  <a:pt x="2129" y="871"/>
                  <a:pt x="2142" y="849"/>
                  <a:pt x="2155" y="828"/>
                </a:cubicBezTo>
              </a:path>
              <a:path w="4345" h="2430">
                <a:moveTo>
                  <a:pt x="2343" y="739"/>
                </a:moveTo>
                <a:cubicBezTo>
                  <a:pt x="2349" y="767"/>
                  <a:pt x="2351" y="788"/>
                  <a:pt x="2351" y="816"/>
                </a:cubicBezTo>
                <a:cubicBezTo>
                  <a:pt x="2351" y="817"/>
                  <a:pt x="2351" y="819"/>
                  <a:pt x="2351" y="820"/>
                </a:cubicBezTo>
                <a:cubicBezTo>
                  <a:pt x="2341" y="813"/>
                  <a:pt x="2336" y="811"/>
                  <a:pt x="2321" y="803"/>
                </a:cubicBezTo>
                <a:cubicBezTo>
                  <a:pt x="2271" y="775"/>
                  <a:pt x="2227" y="798"/>
                  <a:pt x="2197" y="845"/>
                </a:cubicBezTo>
                <a:cubicBezTo>
                  <a:pt x="2151" y="917"/>
                  <a:pt x="2118" y="999"/>
                  <a:pt x="2091" y="1080"/>
                </a:cubicBezTo>
                <a:cubicBezTo>
                  <a:pt x="2063" y="1163"/>
                  <a:pt x="2045" y="1254"/>
                  <a:pt x="2031" y="1340"/>
                </a:cubicBezTo>
                <a:cubicBezTo>
                  <a:pt x="2028" y="1373"/>
                  <a:pt x="2024" y="1381"/>
                  <a:pt x="2035" y="1400"/>
                </a:cubicBezTo>
                <a:cubicBezTo>
                  <a:pt x="2088" y="1388"/>
                  <a:pt x="2098" y="1380"/>
                  <a:pt x="2138" y="1332"/>
                </a:cubicBezTo>
                <a:cubicBezTo>
                  <a:pt x="2194" y="1264"/>
                  <a:pt x="2248" y="1193"/>
                  <a:pt x="2296" y="1119"/>
                </a:cubicBezTo>
                <a:cubicBezTo>
                  <a:pt x="2327" y="1072"/>
                  <a:pt x="2356" y="1012"/>
                  <a:pt x="2389" y="973"/>
                </a:cubicBezTo>
                <a:cubicBezTo>
                  <a:pt x="2404" y="1023"/>
                  <a:pt x="2398" y="1078"/>
                  <a:pt x="2398" y="1131"/>
                </a:cubicBezTo>
                <a:cubicBezTo>
                  <a:pt x="2398" y="1221"/>
                  <a:pt x="2399" y="1314"/>
                  <a:pt x="2394" y="1404"/>
                </a:cubicBezTo>
                <a:cubicBezTo>
                  <a:pt x="2392" y="1445"/>
                  <a:pt x="2393" y="1456"/>
                  <a:pt x="2398" y="1494"/>
                </a:cubicBezTo>
                <a:cubicBezTo>
                  <a:pt x="2438" y="1445"/>
                  <a:pt x="2435" y="1440"/>
                  <a:pt x="2453" y="1375"/>
                </a:cubicBezTo>
              </a:path>
              <a:path w="4345" h="2430">
                <a:moveTo>
                  <a:pt x="2983" y="133"/>
                </a:moveTo>
                <a:cubicBezTo>
                  <a:pt x="2979" y="141"/>
                  <a:pt x="2986" y="121"/>
                  <a:pt x="2983" y="129"/>
                </a:cubicBezTo>
                <a:cubicBezTo>
                  <a:pt x="2977" y="144"/>
                  <a:pt x="2970" y="161"/>
                  <a:pt x="2966" y="184"/>
                </a:cubicBezTo>
                <a:cubicBezTo>
                  <a:pt x="2942" y="334"/>
                  <a:pt x="2927" y="486"/>
                  <a:pt x="2902" y="636"/>
                </a:cubicBezTo>
                <a:cubicBezTo>
                  <a:pt x="2874" y="804"/>
                  <a:pt x="2856" y="971"/>
                  <a:pt x="2838" y="1140"/>
                </a:cubicBezTo>
                <a:cubicBezTo>
                  <a:pt x="2831" y="1204"/>
                  <a:pt x="2823" y="1268"/>
                  <a:pt x="2820" y="1332"/>
                </a:cubicBezTo>
                <a:cubicBezTo>
                  <a:pt x="2833" y="1287"/>
                  <a:pt x="2844" y="1225"/>
                  <a:pt x="2850" y="1170"/>
                </a:cubicBezTo>
              </a:path>
              <a:path w="4345" h="2430">
                <a:moveTo>
                  <a:pt x="3350" y="86"/>
                </a:moveTo>
                <a:cubicBezTo>
                  <a:pt x="3362" y="217"/>
                  <a:pt x="3353" y="343"/>
                  <a:pt x="3337" y="474"/>
                </a:cubicBezTo>
                <a:cubicBezTo>
                  <a:pt x="3319" y="618"/>
                  <a:pt x="3285" y="758"/>
                  <a:pt x="3260" y="901"/>
                </a:cubicBezTo>
                <a:cubicBezTo>
                  <a:pt x="3242" y="1005"/>
                  <a:pt x="3219" y="1108"/>
                  <a:pt x="3200" y="1212"/>
                </a:cubicBezTo>
                <a:cubicBezTo>
                  <a:pt x="3197" y="1241"/>
                  <a:pt x="3197" y="1247"/>
                  <a:pt x="3192" y="1264"/>
                </a:cubicBezTo>
                <a:cubicBezTo>
                  <a:pt x="3211" y="1211"/>
                  <a:pt x="3221" y="1162"/>
                  <a:pt x="3234" y="1106"/>
                </a:cubicBezTo>
                <a:cubicBezTo>
                  <a:pt x="3241" y="1080"/>
                  <a:pt x="3249" y="1055"/>
                  <a:pt x="3256" y="1029"/>
                </a:cubicBezTo>
              </a:path>
              <a:path w="4345" h="2430">
                <a:moveTo>
                  <a:pt x="3495" y="841"/>
                </a:moveTo>
                <a:cubicBezTo>
                  <a:pt x="3507" y="849"/>
                  <a:pt x="3540" y="880"/>
                  <a:pt x="3554" y="880"/>
                </a:cubicBezTo>
                <a:cubicBezTo>
                  <a:pt x="3577" y="881"/>
                  <a:pt x="3604" y="855"/>
                  <a:pt x="3618" y="841"/>
                </a:cubicBezTo>
                <a:cubicBezTo>
                  <a:pt x="3661" y="797"/>
                  <a:pt x="3686" y="743"/>
                  <a:pt x="3712" y="688"/>
                </a:cubicBezTo>
                <a:cubicBezTo>
                  <a:pt x="3734" y="642"/>
                  <a:pt x="3763" y="561"/>
                  <a:pt x="3759" y="508"/>
                </a:cubicBezTo>
                <a:cubicBezTo>
                  <a:pt x="3749" y="479"/>
                  <a:pt x="3747" y="473"/>
                  <a:pt x="3738" y="457"/>
                </a:cubicBezTo>
                <a:cubicBezTo>
                  <a:pt x="3694" y="466"/>
                  <a:pt x="3678" y="473"/>
                  <a:pt x="3648" y="521"/>
                </a:cubicBezTo>
                <a:cubicBezTo>
                  <a:pt x="3590" y="612"/>
                  <a:pt x="3561" y="718"/>
                  <a:pt x="3529" y="820"/>
                </a:cubicBezTo>
                <a:cubicBezTo>
                  <a:pt x="3492" y="939"/>
                  <a:pt x="3467" y="1066"/>
                  <a:pt x="3465" y="1191"/>
                </a:cubicBezTo>
                <a:cubicBezTo>
                  <a:pt x="3464" y="1236"/>
                  <a:pt x="3464" y="1356"/>
                  <a:pt x="3533" y="1362"/>
                </a:cubicBezTo>
                <a:cubicBezTo>
                  <a:pt x="3608" y="1368"/>
                  <a:pt x="3692" y="1261"/>
                  <a:pt x="3725" y="1208"/>
                </a:cubicBezTo>
                <a:cubicBezTo>
                  <a:pt x="3774" y="1110"/>
                  <a:pt x="3792" y="1076"/>
                  <a:pt x="3836" y="1016"/>
                </a:cubicBezTo>
              </a:path>
              <a:path w="4345" h="2430">
                <a:moveTo>
                  <a:pt x="4335" y="0"/>
                </a:moveTo>
                <a:cubicBezTo>
                  <a:pt x="4335" y="24"/>
                  <a:pt x="4332" y="37"/>
                  <a:pt x="4335" y="60"/>
                </a:cubicBezTo>
                <a:cubicBezTo>
                  <a:pt x="4347" y="152"/>
                  <a:pt x="4341" y="245"/>
                  <a:pt x="4340" y="338"/>
                </a:cubicBezTo>
                <a:cubicBezTo>
                  <a:pt x="4339" y="527"/>
                  <a:pt x="4322" y="716"/>
                  <a:pt x="4310" y="905"/>
                </a:cubicBezTo>
                <a:cubicBezTo>
                  <a:pt x="4299" y="1078"/>
                  <a:pt x="4282" y="1250"/>
                  <a:pt x="4263" y="1422"/>
                </a:cubicBezTo>
                <a:cubicBezTo>
                  <a:pt x="4258" y="1470"/>
                  <a:pt x="4236" y="1484"/>
                  <a:pt x="4254" y="1528"/>
                </a:cubicBezTo>
                <a:cubicBezTo>
                  <a:pt x="4270" y="1470"/>
                  <a:pt x="4278" y="1413"/>
                  <a:pt x="4288" y="135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7" name="Freeform 16"/>
          <p:cNvSpPr/>
          <p:nvPr/>
        </p:nvSpPr>
        <p:spPr>
          <a:xfrm>
            <a:off x="1855800" y="3359160"/>
            <a:ext cx="1044720" cy="1844640"/>
          </a:xfrm>
          <a:custGeom>
            <a:avLst/>
            <a:gdLst/>
            <a:ahLst/>
            <a:rect l="l" t="t" r="r" b="b"/>
            <a:pathLst>
              <a:path w="2903" h="5122">
                <a:moveTo>
                  <a:pt x="2650" y="2228"/>
                </a:moveTo>
                <a:cubicBezTo>
                  <a:pt x="2647" y="2322"/>
                  <a:pt x="2639" y="2416"/>
                  <a:pt x="2637" y="2510"/>
                </a:cubicBezTo>
                <a:cubicBezTo>
                  <a:pt x="2634" y="2686"/>
                  <a:pt x="2641" y="2863"/>
                  <a:pt x="2646" y="3039"/>
                </a:cubicBezTo>
                <a:cubicBezTo>
                  <a:pt x="2652" y="3257"/>
                  <a:pt x="2667" y="3475"/>
                  <a:pt x="2684" y="3692"/>
                </a:cubicBezTo>
                <a:cubicBezTo>
                  <a:pt x="2701" y="3917"/>
                  <a:pt x="2719" y="4141"/>
                  <a:pt x="2736" y="4366"/>
                </a:cubicBezTo>
                <a:cubicBezTo>
                  <a:pt x="2745" y="4481"/>
                  <a:pt x="2758" y="4596"/>
                  <a:pt x="2761" y="4712"/>
                </a:cubicBezTo>
                <a:cubicBezTo>
                  <a:pt x="2762" y="4757"/>
                  <a:pt x="2768" y="4807"/>
                  <a:pt x="2766" y="4852"/>
                </a:cubicBezTo>
                <a:cubicBezTo>
                  <a:pt x="2765" y="4868"/>
                  <a:pt x="2764" y="4883"/>
                  <a:pt x="2761" y="4899"/>
                </a:cubicBezTo>
                <a:cubicBezTo>
                  <a:pt x="2759" y="4913"/>
                  <a:pt x="2750" y="4927"/>
                  <a:pt x="2748" y="4942"/>
                </a:cubicBezTo>
                <a:cubicBezTo>
                  <a:pt x="2744" y="4970"/>
                  <a:pt x="2742" y="4998"/>
                  <a:pt x="2740" y="5027"/>
                </a:cubicBezTo>
                <a:cubicBezTo>
                  <a:pt x="2738" y="5051"/>
                  <a:pt x="2733" y="5078"/>
                  <a:pt x="2731" y="5100"/>
                </a:cubicBezTo>
                <a:cubicBezTo>
                  <a:pt x="2730" y="5113"/>
                  <a:pt x="2732" y="5111"/>
                  <a:pt x="2731" y="5121"/>
                </a:cubicBezTo>
                <a:cubicBezTo>
                  <a:pt x="2724" y="5109"/>
                  <a:pt x="2709" y="5090"/>
                  <a:pt x="2701" y="5074"/>
                </a:cubicBezTo>
                <a:cubicBezTo>
                  <a:pt x="2661" y="4996"/>
                  <a:pt x="2625" y="4915"/>
                  <a:pt x="2591" y="4835"/>
                </a:cubicBezTo>
                <a:cubicBezTo>
                  <a:pt x="2568" y="4781"/>
                  <a:pt x="2548" y="4726"/>
                  <a:pt x="2522" y="4673"/>
                </a:cubicBezTo>
                <a:cubicBezTo>
                  <a:pt x="2517" y="4662"/>
                  <a:pt x="2520" y="4675"/>
                  <a:pt x="2514" y="4665"/>
                </a:cubicBezTo>
                <a:cubicBezTo>
                  <a:pt x="2515" y="4668"/>
                  <a:pt x="2517" y="4670"/>
                  <a:pt x="2518" y="4673"/>
                </a:cubicBezTo>
                <a:cubicBezTo>
                  <a:pt x="2537" y="4708"/>
                  <a:pt x="2553" y="4746"/>
                  <a:pt x="2578" y="4780"/>
                </a:cubicBezTo>
                <a:cubicBezTo>
                  <a:pt x="2598" y="4807"/>
                  <a:pt x="2620" y="4833"/>
                  <a:pt x="2655" y="4840"/>
                </a:cubicBezTo>
                <a:cubicBezTo>
                  <a:pt x="2693" y="4848"/>
                  <a:pt x="2717" y="4828"/>
                  <a:pt x="2740" y="4805"/>
                </a:cubicBezTo>
                <a:cubicBezTo>
                  <a:pt x="2788" y="4756"/>
                  <a:pt x="2792" y="4689"/>
                  <a:pt x="2812" y="4626"/>
                </a:cubicBezTo>
              </a:path>
              <a:path w="2903" h="5122">
                <a:moveTo>
                  <a:pt x="2599" y="2236"/>
                </a:moveTo>
                <a:cubicBezTo>
                  <a:pt x="2592" y="2260"/>
                  <a:pt x="2583" y="2284"/>
                  <a:pt x="2578" y="2309"/>
                </a:cubicBezTo>
                <a:cubicBezTo>
                  <a:pt x="2566" y="2369"/>
                  <a:pt x="2551" y="2428"/>
                  <a:pt x="2539" y="2488"/>
                </a:cubicBezTo>
                <a:cubicBezTo>
                  <a:pt x="2527" y="2549"/>
                  <a:pt x="2511" y="2608"/>
                  <a:pt x="2492" y="2667"/>
                </a:cubicBezTo>
                <a:cubicBezTo>
                  <a:pt x="2485" y="2690"/>
                  <a:pt x="2483" y="2695"/>
                  <a:pt x="2480" y="2710"/>
                </a:cubicBezTo>
                <a:cubicBezTo>
                  <a:pt x="2489" y="2689"/>
                  <a:pt x="2489" y="2688"/>
                  <a:pt x="2497" y="2667"/>
                </a:cubicBezTo>
                <a:cubicBezTo>
                  <a:pt x="2520" y="2602"/>
                  <a:pt x="2542" y="2537"/>
                  <a:pt x="2561" y="2471"/>
                </a:cubicBezTo>
                <a:cubicBezTo>
                  <a:pt x="2580" y="2405"/>
                  <a:pt x="2605" y="2341"/>
                  <a:pt x="2625" y="2275"/>
                </a:cubicBezTo>
                <a:cubicBezTo>
                  <a:pt x="2632" y="2250"/>
                  <a:pt x="2630" y="2243"/>
                  <a:pt x="2646" y="2236"/>
                </a:cubicBezTo>
                <a:cubicBezTo>
                  <a:pt x="2667" y="2268"/>
                  <a:pt x="2682" y="2312"/>
                  <a:pt x="2697" y="2356"/>
                </a:cubicBezTo>
                <a:cubicBezTo>
                  <a:pt x="2729" y="2452"/>
                  <a:pt x="2751" y="2550"/>
                  <a:pt x="2783" y="2646"/>
                </a:cubicBezTo>
                <a:cubicBezTo>
                  <a:pt x="2797" y="2688"/>
                  <a:pt x="2820" y="2801"/>
                  <a:pt x="2872" y="2813"/>
                </a:cubicBezTo>
                <a:cubicBezTo>
                  <a:pt x="2882" y="2813"/>
                  <a:pt x="2892" y="2813"/>
                  <a:pt x="2902" y="2813"/>
                </a:cubicBezTo>
              </a:path>
              <a:path w="2903" h="5122">
                <a:moveTo>
                  <a:pt x="231" y="1712"/>
                </a:moveTo>
                <a:cubicBezTo>
                  <a:pt x="236" y="1709"/>
                  <a:pt x="228" y="1712"/>
                  <a:pt x="239" y="1707"/>
                </a:cubicBezTo>
                <a:cubicBezTo>
                  <a:pt x="260" y="1697"/>
                  <a:pt x="283" y="1690"/>
                  <a:pt x="303" y="1677"/>
                </a:cubicBezTo>
                <a:cubicBezTo>
                  <a:pt x="369" y="1635"/>
                  <a:pt x="432" y="1588"/>
                  <a:pt x="495" y="1541"/>
                </a:cubicBezTo>
                <a:cubicBezTo>
                  <a:pt x="622" y="1446"/>
                  <a:pt x="746" y="1348"/>
                  <a:pt x="867" y="1246"/>
                </a:cubicBezTo>
                <a:cubicBezTo>
                  <a:pt x="1037" y="1102"/>
                  <a:pt x="1211" y="962"/>
                  <a:pt x="1383" y="820"/>
                </a:cubicBezTo>
                <a:cubicBezTo>
                  <a:pt x="1498" y="725"/>
                  <a:pt x="1614" y="633"/>
                  <a:pt x="1729" y="538"/>
                </a:cubicBezTo>
                <a:cubicBezTo>
                  <a:pt x="1808" y="473"/>
                  <a:pt x="1881" y="404"/>
                  <a:pt x="1959" y="338"/>
                </a:cubicBezTo>
                <a:cubicBezTo>
                  <a:pt x="1997" y="306"/>
                  <a:pt x="2037" y="279"/>
                  <a:pt x="2074" y="248"/>
                </a:cubicBezTo>
                <a:cubicBezTo>
                  <a:pt x="2086" y="238"/>
                  <a:pt x="2105" y="230"/>
                  <a:pt x="2113" y="222"/>
                </a:cubicBezTo>
                <a:cubicBezTo>
                  <a:pt x="2113" y="219"/>
                  <a:pt x="2113" y="217"/>
                  <a:pt x="2113" y="214"/>
                </a:cubicBezTo>
                <a:cubicBezTo>
                  <a:pt x="2099" y="204"/>
                  <a:pt x="2092" y="194"/>
                  <a:pt x="2074" y="184"/>
                </a:cubicBezTo>
                <a:cubicBezTo>
                  <a:pt x="2048" y="169"/>
                  <a:pt x="2028" y="157"/>
                  <a:pt x="1997" y="150"/>
                </a:cubicBezTo>
                <a:cubicBezTo>
                  <a:pt x="1965" y="143"/>
                  <a:pt x="1937" y="150"/>
                  <a:pt x="1908" y="150"/>
                </a:cubicBezTo>
                <a:cubicBezTo>
                  <a:pt x="1906" y="150"/>
                  <a:pt x="1905" y="150"/>
                  <a:pt x="1903" y="150"/>
                </a:cubicBezTo>
                <a:cubicBezTo>
                  <a:pt x="1912" y="150"/>
                  <a:pt x="1907" y="158"/>
                  <a:pt x="1916" y="158"/>
                </a:cubicBezTo>
                <a:cubicBezTo>
                  <a:pt x="1953" y="158"/>
                  <a:pt x="1995" y="155"/>
                  <a:pt x="2032" y="150"/>
                </a:cubicBezTo>
                <a:cubicBezTo>
                  <a:pt x="2081" y="143"/>
                  <a:pt x="2134" y="131"/>
                  <a:pt x="2181" y="116"/>
                </a:cubicBezTo>
                <a:cubicBezTo>
                  <a:pt x="2226" y="101"/>
                  <a:pt x="2274" y="80"/>
                  <a:pt x="2317" y="64"/>
                </a:cubicBezTo>
                <a:cubicBezTo>
                  <a:pt x="2320" y="63"/>
                  <a:pt x="2323" y="61"/>
                  <a:pt x="2326" y="60"/>
                </a:cubicBezTo>
                <a:cubicBezTo>
                  <a:pt x="2316" y="74"/>
                  <a:pt x="2303" y="96"/>
                  <a:pt x="2292" y="111"/>
                </a:cubicBezTo>
                <a:cubicBezTo>
                  <a:pt x="2210" y="217"/>
                  <a:pt x="2147" y="336"/>
                  <a:pt x="2074" y="444"/>
                </a:cubicBezTo>
                <a:cubicBezTo>
                  <a:pt x="2066" y="451"/>
                  <a:pt x="2057" y="459"/>
                  <a:pt x="2049" y="466"/>
                </a:cubicBezTo>
              </a:path>
              <a:path w="2903" h="5122">
                <a:moveTo>
                  <a:pt x="418" y="1357"/>
                </a:moveTo>
                <a:cubicBezTo>
                  <a:pt x="415" y="1365"/>
                  <a:pt x="409" y="1375"/>
                  <a:pt x="406" y="1387"/>
                </a:cubicBezTo>
                <a:cubicBezTo>
                  <a:pt x="395" y="1430"/>
                  <a:pt x="387" y="1473"/>
                  <a:pt x="376" y="1515"/>
                </a:cubicBezTo>
                <a:cubicBezTo>
                  <a:pt x="359" y="1577"/>
                  <a:pt x="336" y="1640"/>
                  <a:pt x="312" y="1699"/>
                </a:cubicBezTo>
                <a:cubicBezTo>
                  <a:pt x="295" y="1740"/>
                  <a:pt x="273" y="1781"/>
                  <a:pt x="248" y="1818"/>
                </a:cubicBezTo>
                <a:cubicBezTo>
                  <a:pt x="239" y="1831"/>
                  <a:pt x="229" y="1846"/>
                  <a:pt x="222" y="1857"/>
                </a:cubicBezTo>
                <a:cubicBezTo>
                  <a:pt x="234" y="1846"/>
                  <a:pt x="237" y="1848"/>
                  <a:pt x="252" y="1840"/>
                </a:cubicBezTo>
                <a:cubicBezTo>
                  <a:pt x="311" y="1809"/>
                  <a:pt x="376" y="1785"/>
                  <a:pt x="440" y="1767"/>
                </a:cubicBezTo>
                <a:cubicBezTo>
                  <a:pt x="496" y="1754"/>
                  <a:pt x="515" y="1749"/>
                  <a:pt x="546" y="1724"/>
                </a:cubicBezTo>
              </a:path>
              <a:path w="2903" h="5122">
                <a:moveTo>
                  <a:pt x="56" y="60"/>
                </a:moveTo>
                <a:cubicBezTo>
                  <a:pt x="46" y="52"/>
                  <a:pt x="53" y="56"/>
                  <a:pt x="47" y="47"/>
                </a:cubicBezTo>
                <a:cubicBezTo>
                  <a:pt x="51" y="53"/>
                  <a:pt x="43" y="58"/>
                  <a:pt x="47" y="64"/>
                </a:cubicBezTo>
                <a:cubicBezTo>
                  <a:pt x="74" y="105"/>
                  <a:pt x="106" y="145"/>
                  <a:pt x="137" y="184"/>
                </a:cubicBezTo>
                <a:cubicBezTo>
                  <a:pt x="250" y="327"/>
                  <a:pt x="376" y="455"/>
                  <a:pt x="508" y="581"/>
                </a:cubicBezTo>
                <a:cubicBezTo>
                  <a:pt x="656" y="722"/>
                  <a:pt x="806" y="860"/>
                  <a:pt x="952" y="1003"/>
                </a:cubicBezTo>
                <a:cubicBezTo>
                  <a:pt x="1117" y="1165"/>
                  <a:pt x="1261" y="1344"/>
                  <a:pt x="1438" y="1494"/>
                </a:cubicBezTo>
                <a:cubicBezTo>
                  <a:pt x="1519" y="1562"/>
                  <a:pt x="1608" y="1619"/>
                  <a:pt x="1703" y="1665"/>
                </a:cubicBezTo>
                <a:cubicBezTo>
                  <a:pt x="1769" y="1697"/>
                  <a:pt x="1834" y="1730"/>
                  <a:pt x="1899" y="1763"/>
                </a:cubicBezTo>
                <a:cubicBezTo>
                  <a:pt x="1936" y="1782"/>
                  <a:pt x="1970" y="1803"/>
                  <a:pt x="2002" y="1823"/>
                </a:cubicBezTo>
                <a:cubicBezTo>
                  <a:pt x="2013" y="1830"/>
                  <a:pt x="2027" y="1832"/>
                  <a:pt x="2036" y="1840"/>
                </a:cubicBezTo>
                <a:cubicBezTo>
                  <a:pt x="2043" y="1846"/>
                  <a:pt x="2027" y="1842"/>
                  <a:pt x="2040" y="1852"/>
                </a:cubicBezTo>
                <a:cubicBezTo>
                  <a:pt x="2044" y="1857"/>
                  <a:pt x="2045" y="1859"/>
                  <a:pt x="2049" y="1861"/>
                </a:cubicBezTo>
                <a:cubicBezTo>
                  <a:pt x="2044" y="1864"/>
                  <a:pt x="2043" y="1875"/>
                  <a:pt x="2036" y="1878"/>
                </a:cubicBezTo>
                <a:cubicBezTo>
                  <a:pt x="2021" y="1884"/>
                  <a:pt x="2014" y="1904"/>
                  <a:pt x="1993" y="1904"/>
                </a:cubicBezTo>
                <a:cubicBezTo>
                  <a:pt x="1960" y="1904"/>
                  <a:pt x="1911" y="1887"/>
                  <a:pt x="1882" y="1874"/>
                </a:cubicBezTo>
                <a:cubicBezTo>
                  <a:pt x="1815" y="1845"/>
                  <a:pt x="1757" y="1796"/>
                  <a:pt x="1690" y="1767"/>
                </a:cubicBezTo>
                <a:cubicBezTo>
                  <a:pt x="1672" y="1759"/>
                  <a:pt x="1637" y="1755"/>
                  <a:pt x="1622" y="1741"/>
                </a:cubicBezTo>
                <a:cubicBezTo>
                  <a:pt x="1614" y="1734"/>
                  <a:pt x="1611" y="1748"/>
                  <a:pt x="1630" y="1746"/>
                </a:cubicBezTo>
                <a:cubicBezTo>
                  <a:pt x="1660" y="1743"/>
                  <a:pt x="1699" y="1762"/>
                  <a:pt x="1729" y="1767"/>
                </a:cubicBezTo>
                <a:cubicBezTo>
                  <a:pt x="1788" y="1777"/>
                  <a:pt x="1852" y="1788"/>
                  <a:pt x="1912" y="1793"/>
                </a:cubicBezTo>
                <a:cubicBezTo>
                  <a:pt x="1967" y="1798"/>
                  <a:pt x="2024" y="1796"/>
                  <a:pt x="2078" y="1805"/>
                </a:cubicBezTo>
                <a:cubicBezTo>
                  <a:pt x="2109" y="1810"/>
                  <a:pt x="2138" y="1817"/>
                  <a:pt x="2168" y="1823"/>
                </a:cubicBezTo>
                <a:cubicBezTo>
                  <a:pt x="2177" y="1825"/>
                  <a:pt x="2188" y="1829"/>
                  <a:pt x="2198" y="1831"/>
                </a:cubicBezTo>
                <a:cubicBezTo>
                  <a:pt x="2188" y="1817"/>
                  <a:pt x="2164" y="1796"/>
                  <a:pt x="2155" y="1780"/>
                </a:cubicBezTo>
                <a:cubicBezTo>
                  <a:pt x="2126" y="1729"/>
                  <a:pt x="2099" y="1671"/>
                  <a:pt x="2070" y="1618"/>
                </a:cubicBezTo>
                <a:cubicBezTo>
                  <a:pt x="2040" y="1566"/>
                  <a:pt x="2034" y="1553"/>
                  <a:pt x="2010" y="1524"/>
                </a:cubicBezTo>
              </a:path>
              <a:path w="2903" h="5122">
                <a:moveTo>
                  <a:pt x="120" y="0"/>
                </a:moveTo>
                <a:cubicBezTo>
                  <a:pt x="118" y="2"/>
                  <a:pt x="114" y="-6"/>
                  <a:pt x="111" y="9"/>
                </a:cubicBezTo>
                <a:cubicBezTo>
                  <a:pt x="107" y="34"/>
                  <a:pt x="107" y="61"/>
                  <a:pt x="103" y="86"/>
                </a:cubicBezTo>
                <a:cubicBezTo>
                  <a:pt x="95" y="134"/>
                  <a:pt x="98" y="183"/>
                  <a:pt x="94" y="231"/>
                </a:cubicBezTo>
                <a:cubicBezTo>
                  <a:pt x="92" y="264"/>
                  <a:pt x="95" y="300"/>
                  <a:pt x="90" y="333"/>
                </a:cubicBezTo>
                <a:cubicBezTo>
                  <a:pt x="88" y="345"/>
                  <a:pt x="84" y="354"/>
                  <a:pt x="81" y="363"/>
                </a:cubicBezTo>
                <a:cubicBezTo>
                  <a:pt x="71" y="357"/>
                  <a:pt x="73" y="362"/>
                  <a:pt x="64" y="350"/>
                </a:cubicBezTo>
                <a:cubicBezTo>
                  <a:pt x="53" y="337"/>
                  <a:pt x="42" y="323"/>
                  <a:pt x="34" y="308"/>
                </a:cubicBezTo>
                <a:cubicBezTo>
                  <a:pt x="22" y="286"/>
                  <a:pt x="16" y="259"/>
                  <a:pt x="9" y="235"/>
                </a:cubicBezTo>
                <a:cubicBezTo>
                  <a:pt x="3" y="212"/>
                  <a:pt x="0" y="195"/>
                  <a:pt x="0" y="171"/>
                </a:cubicBezTo>
                <a:cubicBezTo>
                  <a:pt x="0" y="154"/>
                  <a:pt x="2" y="139"/>
                  <a:pt x="4" y="124"/>
                </a:cubicBezTo>
                <a:cubicBezTo>
                  <a:pt x="4" y="121"/>
                  <a:pt x="4" y="119"/>
                  <a:pt x="4" y="116"/>
                </a:cubicBezTo>
                <a:cubicBezTo>
                  <a:pt x="14" y="114"/>
                  <a:pt x="9" y="112"/>
                  <a:pt x="22" y="116"/>
                </a:cubicBezTo>
                <a:cubicBezTo>
                  <a:pt x="52" y="124"/>
                  <a:pt x="70" y="141"/>
                  <a:pt x="98" y="158"/>
                </a:cubicBezTo>
                <a:cubicBezTo>
                  <a:pt x="144" y="185"/>
                  <a:pt x="191" y="207"/>
                  <a:pt x="239" y="227"/>
                </a:cubicBezTo>
                <a:cubicBezTo>
                  <a:pt x="304" y="254"/>
                  <a:pt x="352" y="256"/>
                  <a:pt x="418" y="248"/>
                </a:cubicBezTo>
                <a:cubicBezTo>
                  <a:pt x="427" y="248"/>
                  <a:pt x="435" y="248"/>
                  <a:pt x="444" y="24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8" name="Freeform 17"/>
          <p:cNvSpPr/>
          <p:nvPr/>
        </p:nvSpPr>
        <p:spPr>
          <a:xfrm>
            <a:off x="7273800" y="2451240"/>
            <a:ext cx="179640" cy="1145880"/>
          </a:xfrm>
          <a:custGeom>
            <a:avLst/>
            <a:gdLst/>
            <a:ahLst/>
            <a:rect l="l" t="t" r="r" b="b"/>
            <a:pathLst>
              <a:path w="496" h="3181">
                <a:moveTo>
                  <a:pt x="495" y="0"/>
                </a:moveTo>
                <a:cubicBezTo>
                  <a:pt x="492" y="14"/>
                  <a:pt x="489" y="25"/>
                  <a:pt x="487" y="39"/>
                </a:cubicBezTo>
                <a:cubicBezTo>
                  <a:pt x="477" y="98"/>
                  <a:pt x="467" y="158"/>
                  <a:pt x="457" y="218"/>
                </a:cubicBezTo>
                <a:cubicBezTo>
                  <a:pt x="428" y="385"/>
                  <a:pt x="407" y="554"/>
                  <a:pt x="384" y="722"/>
                </a:cubicBezTo>
                <a:cubicBezTo>
                  <a:pt x="347" y="991"/>
                  <a:pt x="313" y="1259"/>
                  <a:pt x="278" y="1528"/>
                </a:cubicBezTo>
                <a:cubicBezTo>
                  <a:pt x="248" y="1758"/>
                  <a:pt x="224" y="1989"/>
                  <a:pt x="197" y="2219"/>
                </a:cubicBezTo>
                <a:cubicBezTo>
                  <a:pt x="181" y="2354"/>
                  <a:pt x="173" y="2486"/>
                  <a:pt x="167" y="2621"/>
                </a:cubicBezTo>
                <a:cubicBezTo>
                  <a:pt x="164" y="2701"/>
                  <a:pt x="156" y="2780"/>
                  <a:pt x="158" y="2860"/>
                </a:cubicBezTo>
                <a:cubicBezTo>
                  <a:pt x="160" y="2925"/>
                  <a:pt x="167" y="2988"/>
                  <a:pt x="158" y="3052"/>
                </a:cubicBezTo>
                <a:cubicBezTo>
                  <a:pt x="155" y="3072"/>
                  <a:pt x="141" y="3103"/>
                  <a:pt x="141" y="3120"/>
                </a:cubicBezTo>
                <a:cubicBezTo>
                  <a:pt x="141" y="3133"/>
                  <a:pt x="146" y="3165"/>
                  <a:pt x="145" y="3171"/>
                </a:cubicBezTo>
                <a:cubicBezTo>
                  <a:pt x="150" y="3180"/>
                  <a:pt x="152" y="3183"/>
                  <a:pt x="141" y="3180"/>
                </a:cubicBezTo>
                <a:cubicBezTo>
                  <a:pt x="134" y="3163"/>
                  <a:pt x="127" y="3146"/>
                  <a:pt x="120" y="3128"/>
                </a:cubicBezTo>
                <a:cubicBezTo>
                  <a:pt x="101" y="3079"/>
                  <a:pt x="82" y="3031"/>
                  <a:pt x="64" y="2983"/>
                </a:cubicBezTo>
                <a:cubicBezTo>
                  <a:pt x="49" y="2941"/>
                  <a:pt x="34" y="2903"/>
                  <a:pt x="13" y="2864"/>
                </a:cubicBezTo>
                <a:cubicBezTo>
                  <a:pt x="10" y="2858"/>
                  <a:pt x="3" y="2852"/>
                  <a:pt x="0" y="2847"/>
                </a:cubicBezTo>
                <a:cubicBezTo>
                  <a:pt x="4" y="2860"/>
                  <a:pt x="5" y="2873"/>
                  <a:pt x="9" y="2885"/>
                </a:cubicBezTo>
                <a:cubicBezTo>
                  <a:pt x="28" y="2939"/>
                  <a:pt x="48" y="2990"/>
                  <a:pt x="77" y="3039"/>
                </a:cubicBezTo>
                <a:cubicBezTo>
                  <a:pt x="98" y="3074"/>
                  <a:pt x="130" y="3133"/>
                  <a:pt x="167" y="3154"/>
                </a:cubicBezTo>
                <a:cubicBezTo>
                  <a:pt x="182" y="3162"/>
                  <a:pt x="186" y="3175"/>
                  <a:pt x="205" y="3171"/>
                </a:cubicBezTo>
                <a:cubicBezTo>
                  <a:pt x="237" y="3164"/>
                  <a:pt x="250" y="3114"/>
                  <a:pt x="261" y="3090"/>
                </a:cubicBezTo>
                <a:cubicBezTo>
                  <a:pt x="304" y="2994"/>
                  <a:pt x="319" y="2887"/>
                  <a:pt x="329" y="278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9" name="Freeform 18"/>
          <p:cNvSpPr/>
          <p:nvPr/>
        </p:nvSpPr>
        <p:spPr>
          <a:xfrm>
            <a:off x="7348680" y="2444760"/>
            <a:ext cx="218880" cy="135000"/>
          </a:xfrm>
          <a:custGeom>
            <a:avLst/>
            <a:gdLst/>
            <a:ahLst/>
            <a:rect l="l" t="t" r="r" b="b"/>
            <a:pathLst>
              <a:path w="611" h="377">
                <a:moveTo>
                  <a:pt x="167" y="64"/>
                </a:moveTo>
                <a:cubicBezTo>
                  <a:pt x="163" y="68"/>
                  <a:pt x="156" y="77"/>
                  <a:pt x="150" y="85"/>
                </a:cubicBezTo>
                <a:cubicBezTo>
                  <a:pt x="129" y="113"/>
                  <a:pt x="114" y="142"/>
                  <a:pt x="98" y="171"/>
                </a:cubicBezTo>
                <a:cubicBezTo>
                  <a:pt x="74" y="214"/>
                  <a:pt x="47" y="253"/>
                  <a:pt x="30" y="299"/>
                </a:cubicBezTo>
                <a:cubicBezTo>
                  <a:pt x="21" y="323"/>
                  <a:pt x="8" y="344"/>
                  <a:pt x="0" y="367"/>
                </a:cubicBezTo>
                <a:cubicBezTo>
                  <a:pt x="0" y="370"/>
                  <a:pt x="0" y="373"/>
                  <a:pt x="0" y="376"/>
                </a:cubicBezTo>
                <a:cubicBezTo>
                  <a:pt x="14" y="353"/>
                  <a:pt x="26" y="330"/>
                  <a:pt x="39" y="307"/>
                </a:cubicBezTo>
                <a:cubicBezTo>
                  <a:pt x="66" y="259"/>
                  <a:pt x="92" y="210"/>
                  <a:pt x="120" y="162"/>
                </a:cubicBezTo>
                <a:cubicBezTo>
                  <a:pt x="145" y="118"/>
                  <a:pt x="167" y="72"/>
                  <a:pt x="201" y="34"/>
                </a:cubicBezTo>
                <a:cubicBezTo>
                  <a:pt x="219" y="14"/>
                  <a:pt x="227" y="-3"/>
                  <a:pt x="256" y="0"/>
                </a:cubicBezTo>
                <a:cubicBezTo>
                  <a:pt x="276" y="2"/>
                  <a:pt x="295" y="18"/>
                  <a:pt x="307" y="34"/>
                </a:cubicBezTo>
                <a:cubicBezTo>
                  <a:pt x="328" y="63"/>
                  <a:pt x="353" y="95"/>
                  <a:pt x="380" y="120"/>
                </a:cubicBezTo>
                <a:cubicBezTo>
                  <a:pt x="415" y="153"/>
                  <a:pt x="451" y="179"/>
                  <a:pt x="491" y="205"/>
                </a:cubicBezTo>
                <a:cubicBezTo>
                  <a:pt x="526" y="227"/>
                  <a:pt x="564" y="254"/>
                  <a:pt x="589" y="286"/>
                </a:cubicBezTo>
                <a:cubicBezTo>
                  <a:pt x="611" y="314"/>
                  <a:pt x="617" y="313"/>
                  <a:pt x="589" y="324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Freeform 19"/>
          <p:cNvSpPr/>
          <p:nvPr/>
        </p:nvSpPr>
        <p:spPr>
          <a:xfrm>
            <a:off x="4832280" y="760320"/>
            <a:ext cx="677880" cy="849240"/>
          </a:xfrm>
          <a:custGeom>
            <a:avLst/>
            <a:gdLst/>
            <a:ahLst/>
            <a:rect l="l" t="t" r="r" b="b"/>
            <a:pathLst>
              <a:path w="1879" h="2361">
                <a:moveTo>
                  <a:pt x="5" y="0"/>
                </a:moveTo>
                <a:cubicBezTo>
                  <a:pt x="8" y="8"/>
                  <a:pt x="6" y="9"/>
                  <a:pt x="9" y="17"/>
                </a:cubicBezTo>
                <a:cubicBezTo>
                  <a:pt x="21" y="48"/>
                  <a:pt x="35" y="77"/>
                  <a:pt x="52" y="107"/>
                </a:cubicBezTo>
                <a:cubicBezTo>
                  <a:pt x="137" y="257"/>
                  <a:pt x="238" y="398"/>
                  <a:pt x="333" y="542"/>
                </a:cubicBezTo>
                <a:cubicBezTo>
                  <a:pt x="419" y="671"/>
                  <a:pt x="505" y="800"/>
                  <a:pt x="594" y="926"/>
                </a:cubicBezTo>
                <a:cubicBezTo>
                  <a:pt x="701" y="1077"/>
                  <a:pt x="817" y="1223"/>
                  <a:pt x="935" y="1366"/>
                </a:cubicBezTo>
                <a:cubicBezTo>
                  <a:pt x="1047" y="1501"/>
                  <a:pt x="1161" y="1635"/>
                  <a:pt x="1281" y="1762"/>
                </a:cubicBezTo>
                <a:cubicBezTo>
                  <a:pt x="1397" y="1885"/>
                  <a:pt x="1516" y="2006"/>
                  <a:pt x="1631" y="2129"/>
                </a:cubicBezTo>
                <a:cubicBezTo>
                  <a:pt x="1698" y="2200"/>
                  <a:pt x="1775" y="2288"/>
                  <a:pt x="1857" y="2343"/>
                </a:cubicBezTo>
                <a:cubicBezTo>
                  <a:pt x="1869" y="2351"/>
                  <a:pt x="1855" y="2349"/>
                  <a:pt x="1870" y="2351"/>
                </a:cubicBezTo>
                <a:cubicBezTo>
                  <a:pt x="1863" y="2343"/>
                  <a:pt x="1855" y="2334"/>
                  <a:pt x="1848" y="2326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Freeform 20"/>
          <p:cNvSpPr/>
          <p:nvPr/>
        </p:nvSpPr>
        <p:spPr>
          <a:xfrm>
            <a:off x="4829040" y="760320"/>
            <a:ext cx="179640" cy="157320"/>
          </a:xfrm>
          <a:custGeom>
            <a:avLst/>
            <a:gdLst/>
            <a:ahLst/>
            <a:rect l="l" t="t" r="r" b="b"/>
            <a:pathLst>
              <a:path w="500" h="436">
                <a:moveTo>
                  <a:pt x="94" y="90"/>
                </a:moveTo>
                <a:cubicBezTo>
                  <a:pt x="84" y="87"/>
                  <a:pt x="80" y="83"/>
                  <a:pt x="68" y="85"/>
                </a:cubicBezTo>
                <a:cubicBezTo>
                  <a:pt x="57" y="87"/>
                  <a:pt x="56" y="89"/>
                  <a:pt x="47" y="94"/>
                </a:cubicBezTo>
                <a:cubicBezTo>
                  <a:pt x="35" y="101"/>
                  <a:pt x="36" y="99"/>
                  <a:pt x="30" y="115"/>
                </a:cubicBezTo>
                <a:cubicBezTo>
                  <a:pt x="20" y="141"/>
                  <a:pt x="12" y="169"/>
                  <a:pt x="8" y="196"/>
                </a:cubicBezTo>
                <a:cubicBezTo>
                  <a:pt x="1" y="241"/>
                  <a:pt x="-4" y="292"/>
                  <a:pt x="4" y="337"/>
                </a:cubicBezTo>
                <a:cubicBezTo>
                  <a:pt x="9" y="367"/>
                  <a:pt x="11" y="398"/>
                  <a:pt x="21" y="427"/>
                </a:cubicBezTo>
                <a:cubicBezTo>
                  <a:pt x="22" y="430"/>
                  <a:pt x="24" y="432"/>
                  <a:pt x="25" y="435"/>
                </a:cubicBezTo>
                <a:cubicBezTo>
                  <a:pt x="25" y="405"/>
                  <a:pt x="25" y="372"/>
                  <a:pt x="25" y="341"/>
                </a:cubicBezTo>
                <a:cubicBezTo>
                  <a:pt x="25" y="274"/>
                  <a:pt x="32" y="208"/>
                  <a:pt x="34" y="141"/>
                </a:cubicBezTo>
                <a:cubicBezTo>
                  <a:pt x="35" y="98"/>
                  <a:pt x="39" y="56"/>
                  <a:pt x="42" y="13"/>
                </a:cubicBezTo>
                <a:cubicBezTo>
                  <a:pt x="42" y="9"/>
                  <a:pt x="42" y="4"/>
                  <a:pt x="42" y="0"/>
                </a:cubicBezTo>
                <a:cubicBezTo>
                  <a:pt x="62" y="23"/>
                  <a:pt x="87" y="54"/>
                  <a:pt x="111" y="77"/>
                </a:cubicBezTo>
                <a:cubicBezTo>
                  <a:pt x="173" y="138"/>
                  <a:pt x="236" y="201"/>
                  <a:pt x="307" y="252"/>
                </a:cubicBezTo>
                <a:cubicBezTo>
                  <a:pt x="367" y="296"/>
                  <a:pt x="432" y="326"/>
                  <a:pt x="499" y="35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2" name="Freeform 21"/>
          <p:cNvSpPr/>
          <p:nvPr/>
        </p:nvSpPr>
        <p:spPr>
          <a:xfrm>
            <a:off x="5367240" y="1511280"/>
            <a:ext cx="179640" cy="149400"/>
          </a:xfrm>
          <a:custGeom>
            <a:avLst/>
            <a:gdLst/>
            <a:ahLst/>
            <a:rect l="l" t="t" r="r" b="b"/>
            <a:pathLst>
              <a:path w="496" h="415">
                <a:moveTo>
                  <a:pt x="294" y="8"/>
                </a:moveTo>
                <a:cubicBezTo>
                  <a:pt x="290" y="22"/>
                  <a:pt x="290" y="20"/>
                  <a:pt x="294" y="34"/>
                </a:cubicBezTo>
                <a:cubicBezTo>
                  <a:pt x="303" y="61"/>
                  <a:pt x="316" y="86"/>
                  <a:pt x="328" y="111"/>
                </a:cubicBezTo>
                <a:cubicBezTo>
                  <a:pt x="347" y="151"/>
                  <a:pt x="371" y="199"/>
                  <a:pt x="396" y="234"/>
                </a:cubicBezTo>
                <a:cubicBezTo>
                  <a:pt x="421" y="269"/>
                  <a:pt x="444" y="305"/>
                  <a:pt x="469" y="341"/>
                </a:cubicBezTo>
                <a:cubicBezTo>
                  <a:pt x="482" y="360"/>
                  <a:pt x="492" y="374"/>
                  <a:pt x="495" y="397"/>
                </a:cubicBezTo>
                <a:cubicBezTo>
                  <a:pt x="495" y="405"/>
                  <a:pt x="495" y="408"/>
                  <a:pt x="495" y="414"/>
                </a:cubicBezTo>
                <a:cubicBezTo>
                  <a:pt x="470" y="414"/>
                  <a:pt x="449" y="416"/>
                  <a:pt x="426" y="405"/>
                </a:cubicBezTo>
                <a:cubicBezTo>
                  <a:pt x="382" y="384"/>
                  <a:pt x="338" y="366"/>
                  <a:pt x="290" y="354"/>
                </a:cubicBezTo>
                <a:cubicBezTo>
                  <a:pt x="231" y="340"/>
                  <a:pt x="167" y="331"/>
                  <a:pt x="106" y="337"/>
                </a:cubicBezTo>
                <a:cubicBezTo>
                  <a:pt x="69" y="341"/>
                  <a:pt x="37" y="359"/>
                  <a:pt x="0" y="36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3" name="Freeform 22"/>
          <p:cNvSpPr/>
          <p:nvPr/>
        </p:nvSpPr>
        <p:spPr>
          <a:xfrm>
            <a:off x="4815000" y="1127160"/>
            <a:ext cx="741240" cy="334800"/>
          </a:xfrm>
          <a:custGeom>
            <a:avLst/>
            <a:gdLst/>
            <a:ahLst/>
            <a:rect l="l" t="t" r="r" b="b"/>
            <a:pathLst>
              <a:path w="2058" h="931">
                <a:moveTo>
                  <a:pt x="22" y="900"/>
                </a:moveTo>
                <a:cubicBezTo>
                  <a:pt x="14" y="910"/>
                  <a:pt x="7" y="921"/>
                  <a:pt x="0" y="930"/>
                </a:cubicBezTo>
                <a:cubicBezTo>
                  <a:pt x="16" y="922"/>
                  <a:pt x="34" y="913"/>
                  <a:pt x="51" y="905"/>
                </a:cubicBezTo>
                <a:cubicBezTo>
                  <a:pt x="122" y="870"/>
                  <a:pt x="193" y="834"/>
                  <a:pt x="265" y="802"/>
                </a:cubicBezTo>
                <a:cubicBezTo>
                  <a:pt x="593" y="656"/>
                  <a:pt x="921" y="509"/>
                  <a:pt x="1251" y="367"/>
                </a:cubicBezTo>
                <a:cubicBezTo>
                  <a:pt x="1340" y="329"/>
                  <a:pt x="1429" y="297"/>
                  <a:pt x="1519" y="264"/>
                </a:cubicBezTo>
                <a:cubicBezTo>
                  <a:pt x="1582" y="241"/>
                  <a:pt x="1647" y="223"/>
                  <a:pt x="1711" y="205"/>
                </a:cubicBezTo>
                <a:cubicBezTo>
                  <a:pt x="1733" y="199"/>
                  <a:pt x="1763" y="196"/>
                  <a:pt x="1784" y="188"/>
                </a:cubicBezTo>
                <a:cubicBezTo>
                  <a:pt x="1793" y="184"/>
                  <a:pt x="1793" y="187"/>
                  <a:pt x="1801" y="183"/>
                </a:cubicBezTo>
                <a:cubicBezTo>
                  <a:pt x="1827" y="170"/>
                  <a:pt x="1858" y="149"/>
                  <a:pt x="1882" y="132"/>
                </a:cubicBezTo>
                <a:cubicBezTo>
                  <a:pt x="1887" y="128"/>
                  <a:pt x="1893" y="121"/>
                  <a:pt x="1895" y="119"/>
                </a:cubicBezTo>
                <a:cubicBezTo>
                  <a:pt x="1896" y="118"/>
                  <a:pt x="1898" y="116"/>
                  <a:pt x="1899" y="115"/>
                </a:cubicBezTo>
                <a:cubicBezTo>
                  <a:pt x="1892" y="108"/>
                  <a:pt x="1889" y="96"/>
                  <a:pt x="1878" y="89"/>
                </a:cubicBezTo>
                <a:cubicBezTo>
                  <a:pt x="1848" y="68"/>
                  <a:pt x="1823" y="52"/>
                  <a:pt x="1788" y="38"/>
                </a:cubicBezTo>
                <a:cubicBezTo>
                  <a:pt x="1741" y="20"/>
                  <a:pt x="1698" y="11"/>
                  <a:pt x="1647" y="4"/>
                </a:cubicBezTo>
                <a:cubicBezTo>
                  <a:pt x="1616" y="0"/>
                  <a:pt x="1588" y="4"/>
                  <a:pt x="1558" y="4"/>
                </a:cubicBezTo>
                <a:cubicBezTo>
                  <a:pt x="1555" y="4"/>
                  <a:pt x="1552" y="4"/>
                  <a:pt x="1549" y="4"/>
                </a:cubicBezTo>
                <a:cubicBezTo>
                  <a:pt x="1561" y="5"/>
                  <a:pt x="1563" y="7"/>
                  <a:pt x="1575" y="8"/>
                </a:cubicBezTo>
                <a:cubicBezTo>
                  <a:pt x="1611" y="10"/>
                  <a:pt x="1646" y="14"/>
                  <a:pt x="1682" y="17"/>
                </a:cubicBezTo>
                <a:cubicBezTo>
                  <a:pt x="1773" y="24"/>
                  <a:pt x="1856" y="35"/>
                  <a:pt x="1942" y="68"/>
                </a:cubicBezTo>
                <a:cubicBezTo>
                  <a:pt x="1979" y="82"/>
                  <a:pt x="2028" y="100"/>
                  <a:pt x="2057" y="128"/>
                </a:cubicBezTo>
                <a:cubicBezTo>
                  <a:pt x="2057" y="132"/>
                  <a:pt x="2057" y="137"/>
                  <a:pt x="2057" y="141"/>
                </a:cubicBezTo>
                <a:cubicBezTo>
                  <a:pt x="2035" y="156"/>
                  <a:pt x="2014" y="170"/>
                  <a:pt x="1989" y="183"/>
                </a:cubicBezTo>
                <a:cubicBezTo>
                  <a:pt x="1939" y="209"/>
                  <a:pt x="1881" y="249"/>
                  <a:pt x="1831" y="269"/>
                </a:cubicBezTo>
                <a:cubicBezTo>
                  <a:pt x="1817" y="272"/>
                  <a:pt x="1802" y="274"/>
                  <a:pt x="1788" y="27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Freeform 23"/>
          <p:cNvSpPr/>
          <p:nvPr/>
        </p:nvSpPr>
        <p:spPr>
          <a:xfrm>
            <a:off x="4832280" y="1370160"/>
            <a:ext cx="154080" cy="183960"/>
          </a:xfrm>
          <a:custGeom>
            <a:avLst/>
            <a:gdLst/>
            <a:ahLst/>
            <a:rect l="l" t="t" r="r" b="b"/>
            <a:pathLst>
              <a:path w="432" h="509">
                <a:moveTo>
                  <a:pt x="60" y="0"/>
                </a:moveTo>
                <a:cubicBezTo>
                  <a:pt x="50" y="38"/>
                  <a:pt x="35" y="73"/>
                  <a:pt x="26" y="111"/>
                </a:cubicBezTo>
                <a:cubicBezTo>
                  <a:pt x="12" y="168"/>
                  <a:pt x="2" y="227"/>
                  <a:pt x="0" y="286"/>
                </a:cubicBezTo>
                <a:cubicBezTo>
                  <a:pt x="-2" y="332"/>
                  <a:pt x="2" y="373"/>
                  <a:pt x="9" y="418"/>
                </a:cubicBezTo>
                <a:cubicBezTo>
                  <a:pt x="14" y="445"/>
                  <a:pt x="23" y="474"/>
                  <a:pt x="43" y="495"/>
                </a:cubicBezTo>
                <a:cubicBezTo>
                  <a:pt x="63" y="515"/>
                  <a:pt x="103" y="510"/>
                  <a:pt x="128" y="508"/>
                </a:cubicBezTo>
                <a:cubicBezTo>
                  <a:pt x="188" y="504"/>
                  <a:pt x="251" y="468"/>
                  <a:pt x="303" y="440"/>
                </a:cubicBezTo>
                <a:cubicBezTo>
                  <a:pt x="362" y="404"/>
                  <a:pt x="384" y="392"/>
                  <a:pt x="431" y="384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10"/>
          <p:cNvSpPr/>
          <p:nvPr/>
        </p:nvSpPr>
        <p:spPr>
          <a:xfrm>
            <a:off x="4332240" y="2741760"/>
            <a:ext cx="2292480" cy="2228760"/>
          </a:xfrm>
          <a:custGeom>
            <a:avLst/>
            <a:gdLst/>
            <a:ahLst/>
            <a:rect l="l" t="t" r="r" b="b"/>
            <a:pathLst>
              <a:path w="6368" h="6192">
                <a:moveTo>
                  <a:pt x="0" y="6186"/>
                </a:moveTo>
                <a:cubicBezTo>
                  <a:pt x="5" y="6182"/>
                  <a:pt x="-5" y="6190"/>
                  <a:pt x="0" y="6186"/>
                </a:cubicBezTo>
                <a:cubicBezTo>
                  <a:pt x="9" y="6179"/>
                  <a:pt x="13" y="6180"/>
                  <a:pt x="22" y="6173"/>
                </a:cubicBezTo>
                <a:cubicBezTo>
                  <a:pt x="88" y="6118"/>
                  <a:pt x="150" y="6056"/>
                  <a:pt x="218" y="6003"/>
                </a:cubicBezTo>
                <a:cubicBezTo>
                  <a:pt x="300" y="5939"/>
                  <a:pt x="382" y="5874"/>
                  <a:pt x="465" y="5811"/>
                </a:cubicBezTo>
                <a:cubicBezTo>
                  <a:pt x="861" y="5509"/>
                  <a:pt x="1242" y="5190"/>
                  <a:pt x="1635" y="4884"/>
                </a:cubicBezTo>
                <a:cubicBezTo>
                  <a:pt x="1799" y="4756"/>
                  <a:pt x="1969" y="4637"/>
                  <a:pt x="2138" y="4517"/>
                </a:cubicBezTo>
                <a:cubicBezTo>
                  <a:pt x="2505" y="4256"/>
                  <a:pt x="2880" y="4006"/>
                  <a:pt x="3256" y="3757"/>
                </a:cubicBezTo>
                <a:cubicBezTo>
                  <a:pt x="3881" y="3343"/>
                  <a:pt x="4468" y="2887"/>
                  <a:pt x="5070" y="2442"/>
                </a:cubicBezTo>
                <a:cubicBezTo>
                  <a:pt x="5443" y="2167"/>
                  <a:pt x="5852" y="1922"/>
                  <a:pt x="6218" y="1644"/>
                </a:cubicBezTo>
                <a:cubicBezTo>
                  <a:pt x="6308" y="1576"/>
                  <a:pt x="6313" y="1521"/>
                  <a:pt x="6367" y="1439"/>
                </a:cubicBezTo>
              </a:path>
              <a:path w="6368" h="6192">
                <a:moveTo>
                  <a:pt x="6252" y="0"/>
                </a:moveTo>
                <a:cubicBezTo>
                  <a:pt x="6247" y="5"/>
                  <a:pt x="6235" y="8"/>
                  <a:pt x="6231" y="17"/>
                </a:cubicBezTo>
                <a:cubicBezTo>
                  <a:pt x="6224" y="32"/>
                  <a:pt x="6223" y="61"/>
                  <a:pt x="6222" y="77"/>
                </a:cubicBezTo>
                <a:cubicBezTo>
                  <a:pt x="6216" y="145"/>
                  <a:pt x="6218" y="214"/>
                  <a:pt x="6218" y="282"/>
                </a:cubicBezTo>
                <a:cubicBezTo>
                  <a:pt x="6218" y="424"/>
                  <a:pt x="6215" y="567"/>
                  <a:pt x="6214" y="709"/>
                </a:cubicBezTo>
                <a:cubicBezTo>
                  <a:pt x="6213" y="854"/>
                  <a:pt x="6220" y="999"/>
                  <a:pt x="6222" y="1144"/>
                </a:cubicBezTo>
                <a:cubicBezTo>
                  <a:pt x="6223" y="1229"/>
                  <a:pt x="6230" y="1312"/>
                  <a:pt x="6244" y="1396"/>
                </a:cubicBezTo>
                <a:cubicBezTo>
                  <a:pt x="6250" y="1430"/>
                  <a:pt x="6263" y="1461"/>
                  <a:pt x="6269" y="1494"/>
                </a:cubicBezTo>
                <a:cubicBezTo>
                  <a:pt x="6274" y="1518"/>
                  <a:pt x="6274" y="1490"/>
                  <a:pt x="6273" y="1499"/>
                </a:cubicBezTo>
                <a:cubicBezTo>
                  <a:pt x="6272" y="1512"/>
                  <a:pt x="6259" y="1529"/>
                  <a:pt x="6252" y="154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Freeform 14"/>
          <p:cNvSpPr/>
          <p:nvPr/>
        </p:nvSpPr>
        <p:spPr>
          <a:xfrm>
            <a:off x="3813120" y="1422360"/>
            <a:ext cx="1646280" cy="90360"/>
          </a:xfrm>
          <a:custGeom>
            <a:avLst/>
            <a:gdLst/>
            <a:ahLst/>
            <a:rect l="l" t="t" r="r" b="b"/>
            <a:pathLst>
              <a:path w="4575" h="248">
                <a:moveTo>
                  <a:pt x="34" y="120"/>
                </a:moveTo>
                <a:cubicBezTo>
                  <a:pt x="20" y="123"/>
                  <a:pt x="18" y="125"/>
                  <a:pt x="9" y="124"/>
                </a:cubicBezTo>
                <a:cubicBezTo>
                  <a:pt x="17" y="125"/>
                  <a:pt x="5" y="127"/>
                  <a:pt x="13" y="128"/>
                </a:cubicBezTo>
                <a:cubicBezTo>
                  <a:pt x="126" y="144"/>
                  <a:pt x="237" y="167"/>
                  <a:pt x="350" y="188"/>
                </a:cubicBezTo>
                <a:cubicBezTo>
                  <a:pt x="497" y="216"/>
                  <a:pt x="641" y="218"/>
                  <a:pt x="790" y="230"/>
                </a:cubicBezTo>
                <a:cubicBezTo>
                  <a:pt x="993" y="246"/>
                  <a:pt x="1196" y="247"/>
                  <a:pt x="1400" y="243"/>
                </a:cubicBezTo>
                <a:cubicBezTo>
                  <a:pt x="1636" y="239"/>
                  <a:pt x="1873" y="222"/>
                  <a:pt x="2108" y="201"/>
                </a:cubicBezTo>
                <a:cubicBezTo>
                  <a:pt x="2353" y="179"/>
                  <a:pt x="2597" y="141"/>
                  <a:pt x="2842" y="115"/>
                </a:cubicBezTo>
                <a:cubicBezTo>
                  <a:pt x="3312" y="65"/>
                  <a:pt x="3781" y="10"/>
                  <a:pt x="4254" y="0"/>
                </a:cubicBezTo>
                <a:cubicBezTo>
                  <a:pt x="4332" y="-2"/>
                  <a:pt x="4411" y="-1"/>
                  <a:pt x="4489" y="4"/>
                </a:cubicBezTo>
                <a:cubicBezTo>
                  <a:pt x="4514" y="6"/>
                  <a:pt x="4541" y="14"/>
                  <a:pt x="4566" y="13"/>
                </a:cubicBezTo>
                <a:cubicBezTo>
                  <a:pt x="4572" y="13"/>
                  <a:pt x="4560" y="9"/>
                  <a:pt x="4566" y="9"/>
                </a:cubicBezTo>
                <a:cubicBezTo>
                  <a:pt x="4566" y="9"/>
                  <a:pt x="4556" y="4"/>
                  <a:pt x="4557" y="4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7" name="Freeform 13"/>
          <p:cNvSpPr/>
          <p:nvPr/>
        </p:nvSpPr>
        <p:spPr>
          <a:xfrm>
            <a:off x="4214880" y="1441440"/>
            <a:ext cx="2690640" cy="1449360"/>
          </a:xfrm>
          <a:custGeom>
            <a:avLst/>
            <a:gdLst/>
            <a:ahLst/>
            <a:rect l="l" t="t" r="r" b="b"/>
            <a:pathLst>
              <a:path w="7476" h="4026">
                <a:moveTo>
                  <a:pt x="0" y="4008"/>
                </a:moveTo>
                <a:cubicBezTo>
                  <a:pt x="13" y="3994"/>
                  <a:pt x="35" y="3966"/>
                  <a:pt x="55" y="3944"/>
                </a:cubicBezTo>
                <a:cubicBezTo>
                  <a:pt x="107" y="3889"/>
                  <a:pt x="161" y="3834"/>
                  <a:pt x="213" y="3778"/>
                </a:cubicBezTo>
                <a:cubicBezTo>
                  <a:pt x="308" y="3674"/>
                  <a:pt x="396" y="3566"/>
                  <a:pt x="486" y="3458"/>
                </a:cubicBezTo>
                <a:cubicBezTo>
                  <a:pt x="886" y="2977"/>
                  <a:pt x="1251" y="2466"/>
                  <a:pt x="1638" y="1974"/>
                </a:cubicBezTo>
                <a:cubicBezTo>
                  <a:pt x="1969" y="1553"/>
                  <a:pt x="2320" y="1138"/>
                  <a:pt x="2709" y="768"/>
                </a:cubicBezTo>
                <a:cubicBezTo>
                  <a:pt x="2948" y="540"/>
                  <a:pt x="3252" y="379"/>
                  <a:pt x="3486" y="154"/>
                </a:cubicBezTo>
                <a:cubicBezTo>
                  <a:pt x="3500" y="140"/>
                  <a:pt x="3510" y="142"/>
                  <a:pt x="3524" y="128"/>
                </a:cubicBezTo>
                <a:cubicBezTo>
                  <a:pt x="3529" y="123"/>
                  <a:pt x="3523" y="125"/>
                  <a:pt x="3524" y="124"/>
                </a:cubicBezTo>
                <a:cubicBezTo>
                  <a:pt x="3535" y="113"/>
                  <a:pt x="3523" y="104"/>
                  <a:pt x="3533" y="94"/>
                </a:cubicBezTo>
                <a:cubicBezTo>
                  <a:pt x="3556" y="71"/>
                  <a:pt x="3589" y="24"/>
                  <a:pt x="3609" y="0"/>
                </a:cubicBezTo>
                <a:cubicBezTo>
                  <a:pt x="3616" y="11"/>
                  <a:pt x="3620" y="46"/>
                  <a:pt x="3631" y="60"/>
                </a:cubicBezTo>
                <a:cubicBezTo>
                  <a:pt x="3646" y="79"/>
                  <a:pt x="3658" y="108"/>
                  <a:pt x="3678" y="132"/>
                </a:cubicBezTo>
                <a:cubicBezTo>
                  <a:pt x="3760" y="233"/>
                  <a:pt x="3860" y="324"/>
                  <a:pt x="3951" y="418"/>
                </a:cubicBezTo>
                <a:cubicBezTo>
                  <a:pt x="4409" y="891"/>
                  <a:pt x="4897" y="1300"/>
                  <a:pt x="5410" y="1710"/>
                </a:cubicBezTo>
                <a:cubicBezTo>
                  <a:pt x="5850" y="2062"/>
                  <a:pt x="6159" y="2481"/>
                  <a:pt x="6507" y="2917"/>
                </a:cubicBezTo>
                <a:cubicBezTo>
                  <a:pt x="6770" y="3246"/>
                  <a:pt x="7140" y="3485"/>
                  <a:pt x="7394" y="3812"/>
                </a:cubicBezTo>
                <a:cubicBezTo>
                  <a:pt x="7425" y="3852"/>
                  <a:pt x="7442" y="3893"/>
                  <a:pt x="7467" y="3931"/>
                </a:cubicBezTo>
                <a:cubicBezTo>
                  <a:pt x="7474" y="3941"/>
                  <a:pt x="7469" y="3961"/>
                  <a:pt x="7475" y="3970"/>
                </a:cubicBezTo>
                <a:cubicBezTo>
                  <a:pt x="7416" y="3977"/>
                  <a:pt x="7356" y="3989"/>
                  <a:pt x="7296" y="3995"/>
                </a:cubicBezTo>
                <a:cubicBezTo>
                  <a:pt x="7077" y="4016"/>
                  <a:pt x="6852" y="4019"/>
                  <a:pt x="6635" y="4017"/>
                </a:cubicBezTo>
                <a:cubicBezTo>
                  <a:pt x="6656" y="3979"/>
                  <a:pt x="6680" y="3936"/>
                  <a:pt x="6703" y="389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2108160" y="2540160"/>
            <a:ext cx="2185920" cy="365040"/>
          </a:xfrm>
          <a:custGeom>
            <a:avLst/>
            <a:gdLst/>
            <a:ahLst/>
            <a:rect l="l" t="t" r="r" b="b"/>
            <a:pathLst>
              <a:path w="6073" h="1011">
                <a:moveTo>
                  <a:pt x="166" y="4"/>
                </a:moveTo>
                <a:cubicBezTo>
                  <a:pt x="161" y="6"/>
                  <a:pt x="146" y="14"/>
                  <a:pt x="137" y="17"/>
                </a:cubicBezTo>
                <a:cubicBezTo>
                  <a:pt x="117" y="23"/>
                  <a:pt x="98" y="28"/>
                  <a:pt x="77" y="34"/>
                </a:cubicBezTo>
                <a:cubicBezTo>
                  <a:pt x="58" y="39"/>
                  <a:pt x="40" y="42"/>
                  <a:pt x="21" y="47"/>
                </a:cubicBezTo>
                <a:cubicBezTo>
                  <a:pt x="12" y="52"/>
                  <a:pt x="8" y="53"/>
                  <a:pt x="0" y="51"/>
                </a:cubicBezTo>
                <a:cubicBezTo>
                  <a:pt x="5" y="53"/>
                  <a:pt x="9" y="75"/>
                  <a:pt x="34" y="81"/>
                </a:cubicBezTo>
                <a:cubicBezTo>
                  <a:pt x="381" y="160"/>
                  <a:pt x="736" y="136"/>
                  <a:pt x="1088" y="132"/>
                </a:cubicBezTo>
                <a:cubicBezTo>
                  <a:pt x="1209" y="131"/>
                  <a:pt x="1330" y="134"/>
                  <a:pt x="1451" y="145"/>
                </a:cubicBezTo>
                <a:cubicBezTo>
                  <a:pt x="1568" y="155"/>
                  <a:pt x="1681" y="178"/>
                  <a:pt x="1796" y="200"/>
                </a:cubicBezTo>
                <a:cubicBezTo>
                  <a:pt x="2399" y="314"/>
                  <a:pt x="3003" y="430"/>
                  <a:pt x="3605" y="550"/>
                </a:cubicBezTo>
                <a:cubicBezTo>
                  <a:pt x="3992" y="627"/>
                  <a:pt x="4376" y="715"/>
                  <a:pt x="4766" y="776"/>
                </a:cubicBezTo>
                <a:cubicBezTo>
                  <a:pt x="4938" y="803"/>
                  <a:pt x="5110" y="826"/>
                  <a:pt x="5282" y="853"/>
                </a:cubicBezTo>
                <a:cubicBezTo>
                  <a:pt x="5458" y="880"/>
                  <a:pt x="5624" y="915"/>
                  <a:pt x="5794" y="959"/>
                </a:cubicBezTo>
                <a:cubicBezTo>
                  <a:pt x="5830" y="968"/>
                  <a:pt x="5865" y="978"/>
                  <a:pt x="5901" y="985"/>
                </a:cubicBezTo>
                <a:cubicBezTo>
                  <a:pt x="5946" y="994"/>
                  <a:pt x="6057" y="1007"/>
                  <a:pt x="6063" y="1006"/>
                </a:cubicBezTo>
                <a:cubicBezTo>
                  <a:pt x="6063" y="994"/>
                  <a:pt x="6062" y="990"/>
                  <a:pt x="6072" y="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2057400" y="1398600"/>
            <a:ext cx="1919160" cy="1219320"/>
          </a:xfrm>
          <a:custGeom>
            <a:avLst/>
            <a:gdLst/>
            <a:ahLst/>
            <a:rect l="l" t="t" r="r" b="b"/>
            <a:pathLst>
              <a:path w="5330" h="3386">
                <a:moveTo>
                  <a:pt x="0" y="3385"/>
                </a:moveTo>
                <a:cubicBezTo>
                  <a:pt x="89" y="3340"/>
                  <a:pt x="181" y="3298"/>
                  <a:pt x="269" y="3249"/>
                </a:cubicBezTo>
                <a:cubicBezTo>
                  <a:pt x="885" y="2907"/>
                  <a:pt x="1464" y="2464"/>
                  <a:pt x="2036" y="2055"/>
                </a:cubicBezTo>
                <a:cubicBezTo>
                  <a:pt x="2270" y="1887"/>
                  <a:pt x="2503" y="1718"/>
                  <a:pt x="2735" y="1548"/>
                </a:cubicBezTo>
                <a:cubicBezTo>
                  <a:pt x="2963" y="1381"/>
                  <a:pt x="3195" y="1219"/>
                  <a:pt x="3426" y="1057"/>
                </a:cubicBezTo>
                <a:cubicBezTo>
                  <a:pt x="3926" y="707"/>
                  <a:pt x="4471" y="432"/>
                  <a:pt x="5014" y="158"/>
                </a:cubicBezTo>
                <a:cubicBezTo>
                  <a:pt x="5116" y="107"/>
                  <a:pt x="5228" y="49"/>
                  <a:pt x="5325" y="0"/>
                </a:cubicBezTo>
                <a:cubicBezTo>
                  <a:pt x="5331" y="-3"/>
                  <a:pt x="5323" y="11"/>
                  <a:pt x="5329" y="8"/>
                </a:cubicBezTo>
                <a:cubicBezTo>
                  <a:pt x="5326" y="7"/>
                  <a:pt x="5324" y="5"/>
                  <a:pt x="5321" y="4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0" name="Freeform 16"/>
          <p:cNvSpPr/>
          <p:nvPr/>
        </p:nvSpPr>
        <p:spPr>
          <a:xfrm>
            <a:off x="2276640" y="2565360"/>
            <a:ext cx="4289400" cy="2360520"/>
          </a:xfrm>
          <a:custGeom>
            <a:avLst/>
            <a:gdLst/>
            <a:ahLst/>
            <a:rect l="l" t="t" r="r" b="b"/>
            <a:pathLst>
              <a:path w="11916" h="6556">
                <a:moveTo>
                  <a:pt x="5450" y="1182"/>
                </a:moveTo>
                <a:cubicBezTo>
                  <a:pt x="5454" y="1220"/>
                  <a:pt x="5455" y="1253"/>
                  <a:pt x="5459" y="1293"/>
                </a:cubicBezTo>
                <a:cubicBezTo>
                  <a:pt x="5463" y="1326"/>
                  <a:pt x="5469" y="1363"/>
                  <a:pt x="5471" y="1396"/>
                </a:cubicBezTo>
                <a:cubicBezTo>
                  <a:pt x="5473" y="1443"/>
                  <a:pt x="5473" y="1488"/>
                  <a:pt x="5476" y="1536"/>
                </a:cubicBezTo>
                <a:cubicBezTo>
                  <a:pt x="5497" y="1835"/>
                  <a:pt x="5565" y="2129"/>
                  <a:pt x="5591" y="2428"/>
                </a:cubicBezTo>
                <a:cubicBezTo>
                  <a:pt x="5612" y="2670"/>
                  <a:pt x="5638" y="2912"/>
                  <a:pt x="5663" y="3154"/>
                </a:cubicBezTo>
                <a:cubicBezTo>
                  <a:pt x="5715" y="3658"/>
                  <a:pt x="5845" y="4146"/>
                  <a:pt x="5915" y="4647"/>
                </a:cubicBezTo>
                <a:cubicBezTo>
                  <a:pt x="5935" y="4786"/>
                  <a:pt x="5940" y="4926"/>
                  <a:pt x="5954" y="5066"/>
                </a:cubicBezTo>
                <a:cubicBezTo>
                  <a:pt x="5975" y="5278"/>
                  <a:pt x="5999" y="5492"/>
                  <a:pt x="6030" y="5701"/>
                </a:cubicBezTo>
                <a:cubicBezTo>
                  <a:pt x="6032" y="5714"/>
                  <a:pt x="6037" y="5727"/>
                  <a:pt x="6039" y="5740"/>
                </a:cubicBezTo>
                <a:cubicBezTo>
                  <a:pt x="6042" y="5766"/>
                  <a:pt x="6045" y="5791"/>
                  <a:pt x="6047" y="5817"/>
                </a:cubicBezTo>
                <a:cubicBezTo>
                  <a:pt x="6053" y="5896"/>
                  <a:pt x="6058" y="5976"/>
                  <a:pt x="6064" y="6056"/>
                </a:cubicBezTo>
                <a:cubicBezTo>
                  <a:pt x="6066" y="6084"/>
                  <a:pt x="6071" y="6113"/>
                  <a:pt x="6073" y="6137"/>
                </a:cubicBezTo>
                <a:cubicBezTo>
                  <a:pt x="6074" y="6150"/>
                  <a:pt x="6072" y="6165"/>
                  <a:pt x="6073" y="6179"/>
                </a:cubicBezTo>
                <a:cubicBezTo>
                  <a:pt x="6075" y="6204"/>
                  <a:pt x="6075" y="6232"/>
                  <a:pt x="6077" y="6256"/>
                </a:cubicBezTo>
                <a:cubicBezTo>
                  <a:pt x="6079" y="6286"/>
                  <a:pt x="6085" y="6316"/>
                  <a:pt x="6086" y="6346"/>
                </a:cubicBezTo>
                <a:cubicBezTo>
                  <a:pt x="6088" y="6415"/>
                  <a:pt x="6086" y="6485"/>
                  <a:pt x="6086" y="6555"/>
                </a:cubicBezTo>
                <a:cubicBezTo>
                  <a:pt x="6083" y="6536"/>
                  <a:pt x="6080" y="6527"/>
                  <a:pt x="6077" y="6508"/>
                </a:cubicBezTo>
                <a:cubicBezTo>
                  <a:pt x="6076" y="6495"/>
                  <a:pt x="6074" y="6482"/>
                  <a:pt x="6073" y="6469"/>
                </a:cubicBezTo>
              </a:path>
              <a:path w="11916" h="6556">
                <a:moveTo>
                  <a:pt x="0" y="243"/>
                </a:moveTo>
                <a:cubicBezTo>
                  <a:pt x="0" y="250"/>
                  <a:pt x="4" y="253"/>
                  <a:pt x="5" y="265"/>
                </a:cubicBezTo>
                <a:cubicBezTo>
                  <a:pt x="16" y="499"/>
                  <a:pt x="19" y="734"/>
                  <a:pt x="26" y="969"/>
                </a:cubicBezTo>
                <a:cubicBezTo>
                  <a:pt x="41" y="1474"/>
                  <a:pt x="66" y="1974"/>
                  <a:pt x="103" y="2475"/>
                </a:cubicBezTo>
                <a:cubicBezTo>
                  <a:pt x="107" y="2527"/>
                  <a:pt x="102" y="2653"/>
                  <a:pt x="116" y="2676"/>
                </a:cubicBezTo>
                <a:cubicBezTo>
                  <a:pt x="148" y="2730"/>
                  <a:pt x="257" y="2788"/>
                  <a:pt x="303" y="2834"/>
                </a:cubicBezTo>
                <a:cubicBezTo>
                  <a:pt x="626" y="3155"/>
                  <a:pt x="1054" y="3414"/>
                  <a:pt x="1434" y="3662"/>
                </a:cubicBezTo>
                <a:cubicBezTo>
                  <a:pt x="1849" y="3933"/>
                  <a:pt x="2307" y="4105"/>
                  <a:pt x="2740" y="4340"/>
                </a:cubicBezTo>
                <a:cubicBezTo>
                  <a:pt x="3034" y="4499"/>
                  <a:pt x="3300" y="4698"/>
                  <a:pt x="3572" y="4891"/>
                </a:cubicBezTo>
                <a:cubicBezTo>
                  <a:pt x="3960" y="5167"/>
                  <a:pt x="4348" y="5440"/>
                  <a:pt x="4737" y="5714"/>
                </a:cubicBezTo>
                <a:cubicBezTo>
                  <a:pt x="4911" y="5836"/>
                  <a:pt x="5113" y="5905"/>
                  <a:pt x="5284" y="6026"/>
                </a:cubicBezTo>
                <a:cubicBezTo>
                  <a:pt x="5479" y="6164"/>
                  <a:pt x="5760" y="6453"/>
                  <a:pt x="6009" y="6478"/>
                </a:cubicBezTo>
                <a:cubicBezTo>
                  <a:pt x="6018" y="6479"/>
                  <a:pt x="6000" y="6464"/>
                  <a:pt x="6009" y="6465"/>
                </a:cubicBezTo>
                <a:cubicBezTo>
                  <a:pt x="6029" y="6466"/>
                  <a:pt x="5968" y="6409"/>
                  <a:pt x="5988" y="6410"/>
                </a:cubicBezTo>
              </a:path>
              <a:path w="11916" h="6556">
                <a:moveTo>
                  <a:pt x="11915" y="56"/>
                </a:moveTo>
                <a:cubicBezTo>
                  <a:pt x="11912" y="44"/>
                  <a:pt x="11914" y="33"/>
                  <a:pt x="11911" y="21"/>
                </a:cubicBezTo>
                <a:cubicBezTo>
                  <a:pt x="11910" y="16"/>
                  <a:pt x="11904" y="11"/>
                  <a:pt x="11902" y="9"/>
                </a:cubicBezTo>
                <a:cubicBezTo>
                  <a:pt x="11898" y="5"/>
                  <a:pt x="11899" y="8"/>
                  <a:pt x="11894" y="4"/>
                </a:cubicBezTo>
                <a:cubicBezTo>
                  <a:pt x="11885" y="31"/>
                  <a:pt x="11882" y="59"/>
                  <a:pt x="11877" y="90"/>
                </a:cubicBezTo>
                <a:cubicBezTo>
                  <a:pt x="11860" y="193"/>
                  <a:pt x="11838" y="310"/>
                  <a:pt x="11834" y="414"/>
                </a:cubicBezTo>
                <a:cubicBezTo>
                  <a:pt x="11835" y="457"/>
                  <a:pt x="11837" y="499"/>
                  <a:pt x="11838" y="542"/>
                </a:cubicBezTo>
              </a:path>
              <a:path w="11916" h="6556">
                <a:moveTo>
                  <a:pt x="8702" y="1733"/>
                </a:moveTo>
                <a:cubicBezTo>
                  <a:pt x="8700" y="1743"/>
                  <a:pt x="8695" y="1740"/>
                  <a:pt x="8693" y="1750"/>
                </a:cubicBezTo>
                <a:cubicBezTo>
                  <a:pt x="8686" y="1793"/>
                  <a:pt x="8686" y="1842"/>
                  <a:pt x="8685" y="1886"/>
                </a:cubicBezTo>
                <a:cubicBezTo>
                  <a:pt x="8675" y="2236"/>
                  <a:pt x="8685" y="2591"/>
                  <a:pt x="8697" y="2940"/>
                </a:cubicBezTo>
                <a:cubicBezTo>
                  <a:pt x="8705" y="3172"/>
                  <a:pt x="8727" y="3401"/>
                  <a:pt x="8740" y="3632"/>
                </a:cubicBezTo>
                <a:cubicBezTo>
                  <a:pt x="8748" y="3770"/>
                  <a:pt x="8749" y="3909"/>
                  <a:pt x="8774" y="4046"/>
                </a:cubicBezTo>
                <a:cubicBezTo>
                  <a:pt x="8781" y="4087"/>
                  <a:pt x="8787" y="4125"/>
                  <a:pt x="8791" y="4165"/>
                </a:cubicBezTo>
                <a:cubicBezTo>
                  <a:pt x="8780" y="4135"/>
                  <a:pt x="8770" y="4108"/>
                  <a:pt x="8761" y="4075"/>
                </a:cubicBezTo>
                <a:cubicBezTo>
                  <a:pt x="8757" y="4060"/>
                  <a:pt x="8753" y="4044"/>
                  <a:pt x="8749" y="4029"/>
                </a:cubicBezTo>
              </a:path>
              <a:path w="11916" h="6556">
                <a:moveTo>
                  <a:pt x="9662" y="1404"/>
                </a:moveTo>
                <a:cubicBezTo>
                  <a:pt x="9660" y="1409"/>
                  <a:pt x="9659" y="1395"/>
                  <a:pt x="9658" y="1400"/>
                </a:cubicBezTo>
                <a:cubicBezTo>
                  <a:pt x="9657" y="1405"/>
                  <a:pt x="9663" y="1399"/>
                  <a:pt x="9662" y="1404"/>
                </a:cubicBezTo>
                <a:cubicBezTo>
                  <a:pt x="9660" y="1413"/>
                  <a:pt x="9654" y="1440"/>
                  <a:pt x="9653" y="1455"/>
                </a:cubicBezTo>
                <a:cubicBezTo>
                  <a:pt x="9644" y="1547"/>
                  <a:pt x="9641" y="1645"/>
                  <a:pt x="9641" y="1737"/>
                </a:cubicBezTo>
                <a:cubicBezTo>
                  <a:pt x="9642" y="1932"/>
                  <a:pt x="9645" y="2127"/>
                  <a:pt x="9653" y="2322"/>
                </a:cubicBezTo>
                <a:cubicBezTo>
                  <a:pt x="9664" y="2594"/>
                  <a:pt x="9686" y="2865"/>
                  <a:pt x="9700" y="3137"/>
                </a:cubicBezTo>
                <a:cubicBezTo>
                  <a:pt x="9706" y="3257"/>
                  <a:pt x="9714" y="3376"/>
                  <a:pt x="9726" y="3495"/>
                </a:cubicBezTo>
                <a:cubicBezTo>
                  <a:pt x="9728" y="3510"/>
                  <a:pt x="9739" y="3593"/>
                  <a:pt x="9726" y="3589"/>
                </a:cubicBezTo>
                <a:cubicBezTo>
                  <a:pt x="9726" y="3570"/>
                  <a:pt x="9722" y="3559"/>
                  <a:pt x="9709" y="3546"/>
                </a:cubicBezTo>
              </a:path>
              <a:path w="11916" h="6556">
                <a:moveTo>
                  <a:pt x="8454" y="2074"/>
                </a:moveTo>
                <a:cubicBezTo>
                  <a:pt x="8471" y="2061"/>
                  <a:pt x="8489" y="2049"/>
                  <a:pt x="8505" y="2036"/>
                </a:cubicBezTo>
                <a:cubicBezTo>
                  <a:pt x="8563" y="1989"/>
                  <a:pt x="8623" y="1942"/>
                  <a:pt x="8685" y="1899"/>
                </a:cubicBezTo>
                <a:cubicBezTo>
                  <a:pt x="8799" y="1820"/>
                  <a:pt x="8914" y="1739"/>
                  <a:pt x="9026" y="1656"/>
                </a:cubicBezTo>
                <a:cubicBezTo>
                  <a:pt x="9144" y="1568"/>
                  <a:pt x="9262" y="1479"/>
                  <a:pt x="9380" y="1391"/>
                </a:cubicBezTo>
                <a:cubicBezTo>
                  <a:pt x="9436" y="1349"/>
                  <a:pt x="9491" y="1307"/>
                  <a:pt x="9551" y="1272"/>
                </a:cubicBezTo>
                <a:cubicBezTo>
                  <a:pt x="9563" y="1265"/>
                  <a:pt x="9570" y="1267"/>
                  <a:pt x="9581" y="1259"/>
                </a:cubicBezTo>
                <a:cubicBezTo>
                  <a:pt x="9588" y="1254"/>
                  <a:pt x="9575" y="1258"/>
                  <a:pt x="9577" y="1255"/>
                </a:cubicBezTo>
              </a:path>
              <a:path w="11916" h="6556">
                <a:moveTo>
                  <a:pt x="1806" y="1221"/>
                </a:moveTo>
                <a:cubicBezTo>
                  <a:pt x="1800" y="1273"/>
                  <a:pt x="1799" y="1326"/>
                  <a:pt x="1793" y="1379"/>
                </a:cubicBezTo>
                <a:cubicBezTo>
                  <a:pt x="1779" y="1497"/>
                  <a:pt x="1755" y="1614"/>
                  <a:pt x="1742" y="1733"/>
                </a:cubicBezTo>
                <a:cubicBezTo>
                  <a:pt x="1732" y="1820"/>
                  <a:pt x="1714" y="1906"/>
                  <a:pt x="1703" y="1993"/>
                </a:cubicBezTo>
                <a:cubicBezTo>
                  <a:pt x="1702" y="2003"/>
                  <a:pt x="1698" y="2111"/>
                  <a:pt x="1686" y="2117"/>
                </a:cubicBezTo>
                <a:cubicBezTo>
                  <a:pt x="1674" y="2122"/>
                  <a:pt x="1691" y="2106"/>
                  <a:pt x="1678" y="2104"/>
                </a:cubicBezTo>
                <a:cubicBezTo>
                  <a:pt x="1670" y="2103"/>
                  <a:pt x="1677" y="2082"/>
                  <a:pt x="1669" y="2083"/>
                </a:cubicBezTo>
                <a:cubicBezTo>
                  <a:pt x="1673" y="2087"/>
                  <a:pt x="1661" y="2074"/>
                  <a:pt x="1665" y="2078"/>
                </a:cubicBezTo>
                <a:cubicBezTo>
                  <a:pt x="1676" y="2091"/>
                  <a:pt x="1686" y="2105"/>
                  <a:pt x="1699" y="2117"/>
                </a:cubicBezTo>
                <a:cubicBezTo>
                  <a:pt x="1776" y="2186"/>
                  <a:pt x="1868" y="2243"/>
                  <a:pt x="1951" y="2305"/>
                </a:cubicBezTo>
                <a:cubicBezTo>
                  <a:pt x="2040" y="2372"/>
                  <a:pt x="2129" y="2438"/>
                  <a:pt x="2215" y="2509"/>
                </a:cubicBezTo>
                <a:cubicBezTo>
                  <a:pt x="2400" y="2662"/>
                  <a:pt x="2583" y="2819"/>
                  <a:pt x="2770" y="2970"/>
                </a:cubicBezTo>
                <a:cubicBezTo>
                  <a:pt x="2809" y="3001"/>
                  <a:pt x="2893" y="3097"/>
                  <a:pt x="2949" y="3098"/>
                </a:cubicBezTo>
                <a:cubicBezTo>
                  <a:pt x="2984" y="3099"/>
                  <a:pt x="2953" y="3082"/>
                  <a:pt x="2966" y="3047"/>
                </a:cubicBezTo>
              </a:path>
              <a:path w="11916" h="6556">
                <a:moveTo>
                  <a:pt x="2382" y="1178"/>
                </a:moveTo>
                <a:cubicBezTo>
                  <a:pt x="2492" y="1171"/>
                  <a:pt x="2600" y="1157"/>
                  <a:pt x="2710" y="1148"/>
                </a:cubicBezTo>
                <a:cubicBezTo>
                  <a:pt x="2796" y="1141"/>
                  <a:pt x="2884" y="1134"/>
                  <a:pt x="2971" y="1131"/>
                </a:cubicBezTo>
                <a:cubicBezTo>
                  <a:pt x="3015" y="1129"/>
                  <a:pt x="3059" y="1132"/>
                  <a:pt x="3103" y="1135"/>
                </a:cubicBezTo>
                <a:cubicBezTo>
                  <a:pt x="3117" y="1136"/>
                  <a:pt x="3133" y="1136"/>
                  <a:pt x="3146" y="1140"/>
                </a:cubicBezTo>
                <a:cubicBezTo>
                  <a:pt x="3153" y="1140"/>
                  <a:pt x="3155" y="1139"/>
                  <a:pt x="3154" y="1144"/>
                </a:cubicBezTo>
                <a:cubicBezTo>
                  <a:pt x="3143" y="1146"/>
                  <a:pt x="3144" y="1146"/>
                  <a:pt x="3137" y="1148"/>
                </a:cubicBezTo>
                <a:cubicBezTo>
                  <a:pt x="3131" y="1150"/>
                  <a:pt x="3127" y="1152"/>
                  <a:pt x="3120" y="1152"/>
                </a:cubicBezTo>
                <a:cubicBezTo>
                  <a:pt x="3119" y="1152"/>
                  <a:pt x="3108" y="1143"/>
                  <a:pt x="3103" y="1140"/>
                </a:cubicBezTo>
                <a:cubicBezTo>
                  <a:pt x="3099" y="1140"/>
                  <a:pt x="3097" y="1140"/>
                  <a:pt x="3099" y="1135"/>
                </a:cubicBezTo>
              </a:path>
              <a:path w="11916" h="6556">
                <a:moveTo>
                  <a:pt x="3077" y="1135"/>
                </a:moveTo>
                <a:cubicBezTo>
                  <a:pt x="3075" y="1140"/>
                  <a:pt x="3071" y="1138"/>
                  <a:pt x="3069" y="1148"/>
                </a:cubicBezTo>
                <a:cubicBezTo>
                  <a:pt x="3060" y="1193"/>
                  <a:pt x="3059" y="1243"/>
                  <a:pt x="3056" y="1289"/>
                </a:cubicBezTo>
                <a:cubicBezTo>
                  <a:pt x="3047" y="1432"/>
                  <a:pt x="3041" y="1576"/>
                  <a:pt x="3035" y="1720"/>
                </a:cubicBezTo>
                <a:cubicBezTo>
                  <a:pt x="3027" y="1925"/>
                  <a:pt x="3020" y="2129"/>
                  <a:pt x="3013" y="2334"/>
                </a:cubicBezTo>
                <a:cubicBezTo>
                  <a:pt x="3008" y="2476"/>
                  <a:pt x="3006" y="2619"/>
                  <a:pt x="3000" y="2761"/>
                </a:cubicBezTo>
                <a:cubicBezTo>
                  <a:pt x="2998" y="2816"/>
                  <a:pt x="2996" y="2838"/>
                  <a:pt x="2996" y="2893"/>
                </a:cubicBezTo>
                <a:cubicBezTo>
                  <a:pt x="2993" y="2853"/>
                  <a:pt x="2996" y="2832"/>
                  <a:pt x="2992" y="2791"/>
                </a:cubicBezTo>
              </a:path>
              <a:path w="11916" h="6556">
                <a:moveTo>
                  <a:pt x="1639" y="1293"/>
                </a:moveTo>
                <a:cubicBezTo>
                  <a:pt x="1675" y="1270"/>
                  <a:pt x="1706" y="1251"/>
                  <a:pt x="1746" y="1233"/>
                </a:cubicBezTo>
                <a:cubicBezTo>
                  <a:pt x="1798" y="1209"/>
                  <a:pt x="1848" y="1195"/>
                  <a:pt x="1904" y="1182"/>
                </a:cubicBezTo>
                <a:cubicBezTo>
                  <a:pt x="1950" y="1171"/>
                  <a:pt x="1988" y="1165"/>
                  <a:pt x="2036" y="1165"/>
                </a:cubicBezTo>
                <a:cubicBezTo>
                  <a:pt x="2087" y="1165"/>
                  <a:pt x="2135" y="1170"/>
                  <a:pt x="2185" y="1174"/>
                </a:cubicBezTo>
                <a:cubicBezTo>
                  <a:pt x="2240" y="1178"/>
                  <a:pt x="2293" y="1188"/>
                  <a:pt x="2348" y="1195"/>
                </a:cubicBezTo>
                <a:cubicBezTo>
                  <a:pt x="2386" y="1200"/>
                  <a:pt x="2425" y="1205"/>
                  <a:pt x="2463" y="1212"/>
                </a:cubicBezTo>
                <a:cubicBezTo>
                  <a:pt x="2480" y="1215"/>
                  <a:pt x="2502" y="1220"/>
                  <a:pt x="2518" y="1221"/>
                </a:cubicBezTo>
                <a:cubicBezTo>
                  <a:pt x="2527" y="1222"/>
                  <a:pt x="2531" y="1218"/>
                  <a:pt x="2540" y="1221"/>
                </a:cubicBezTo>
                <a:cubicBezTo>
                  <a:pt x="2551" y="1225"/>
                  <a:pt x="2542" y="1222"/>
                  <a:pt x="2535" y="1212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1" name="Freeform 17"/>
          <p:cNvSpPr/>
          <p:nvPr/>
        </p:nvSpPr>
        <p:spPr>
          <a:xfrm>
            <a:off x="5467320" y="1535040"/>
            <a:ext cx="1173240" cy="1612800"/>
          </a:xfrm>
          <a:custGeom>
            <a:avLst/>
            <a:gdLst/>
            <a:ahLst/>
            <a:rect l="l" t="t" r="r" b="b"/>
            <a:pathLst>
              <a:path w="3257" h="4481">
                <a:moveTo>
                  <a:pt x="47" y="55"/>
                </a:moveTo>
                <a:cubicBezTo>
                  <a:pt x="35" y="74"/>
                  <a:pt x="-3" y="-12"/>
                  <a:pt x="8" y="8"/>
                </a:cubicBezTo>
                <a:cubicBezTo>
                  <a:pt x="11" y="13"/>
                  <a:pt x="-3" y="-5"/>
                  <a:pt x="0" y="0"/>
                </a:cubicBezTo>
                <a:cubicBezTo>
                  <a:pt x="3" y="5"/>
                  <a:pt x="3" y="10"/>
                  <a:pt x="8" y="17"/>
                </a:cubicBezTo>
                <a:cubicBezTo>
                  <a:pt x="36" y="56"/>
                  <a:pt x="66" y="97"/>
                  <a:pt x="94" y="136"/>
                </a:cubicBezTo>
                <a:cubicBezTo>
                  <a:pt x="146" y="210"/>
                  <a:pt x="201" y="276"/>
                  <a:pt x="260" y="341"/>
                </a:cubicBezTo>
                <a:cubicBezTo>
                  <a:pt x="360" y="450"/>
                  <a:pt x="469" y="523"/>
                  <a:pt x="589" y="606"/>
                </a:cubicBezTo>
                <a:cubicBezTo>
                  <a:pt x="734" y="706"/>
                  <a:pt x="844" y="834"/>
                  <a:pt x="977" y="951"/>
                </a:cubicBezTo>
                <a:cubicBezTo>
                  <a:pt x="1132" y="1088"/>
                  <a:pt x="1309" y="1195"/>
                  <a:pt x="1468" y="1327"/>
                </a:cubicBezTo>
                <a:cubicBezTo>
                  <a:pt x="1609" y="1444"/>
                  <a:pt x="1709" y="1599"/>
                  <a:pt x="1848" y="1719"/>
                </a:cubicBezTo>
                <a:cubicBezTo>
                  <a:pt x="1941" y="1799"/>
                  <a:pt x="2047" y="1867"/>
                  <a:pt x="2134" y="1954"/>
                </a:cubicBezTo>
                <a:cubicBezTo>
                  <a:pt x="2222" y="2043"/>
                  <a:pt x="2291" y="2144"/>
                  <a:pt x="2385" y="2227"/>
                </a:cubicBezTo>
                <a:cubicBezTo>
                  <a:pt x="2518" y="2344"/>
                  <a:pt x="2675" y="2433"/>
                  <a:pt x="2795" y="2564"/>
                </a:cubicBezTo>
                <a:cubicBezTo>
                  <a:pt x="2821" y="2592"/>
                  <a:pt x="2835" y="2623"/>
                  <a:pt x="2859" y="2650"/>
                </a:cubicBezTo>
                <a:cubicBezTo>
                  <a:pt x="2925" y="2725"/>
                  <a:pt x="3005" y="2809"/>
                  <a:pt x="3064" y="2872"/>
                </a:cubicBezTo>
                <a:cubicBezTo>
                  <a:pt x="3064" y="2878"/>
                  <a:pt x="3060" y="2861"/>
                  <a:pt x="3060" y="2867"/>
                </a:cubicBezTo>
                <a:cubicBezTo>
                  <a:pt x="3063" y="2899"/>
                  <a:pt x="3066" y="2933"/>
                  <a:pt x="3068" y="2966"/>
                </a:cubicBezTo>
                <a:cubicBezTo>
                  <a:pt x="3075" y="3087"/>
                  <a:pt x="3087" y="3207"/>
                  <a:pt x="3098" y="3328"/>
                </a:cubicBezTo>
                <a:cubicBezTo>
                  <a:pt x="3132" y="3693"/>
                  <a:pt x="3238" y="4048"/>
                  <a:pt x="3256" y="4416"/>
                </a:cubicBezTo>
                <a:cubicBezTo>
                  <a:pt x="3255" y="4437"/>
                  <a:pt x="3253" y="4459"/>
                  <a:pt x="3252" y="448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4332240" y="2741760"/>
            <a:ext cx="2292480" cy="2228760"/>
          </a:xfrm>
          <a:custGeom>
            <a:avLst/>
            <a:gdLst/>
            <a:ahLst/>
            <a:rect l="l" t="t" r="r" b="b"/>
            <a:pathLst>
              <a:path w="6368" h="6192">
                <a:moveTo>
                  <a:pt x="0" y="6186"/>
                </a:moveTo>
                <a:cubicBezTo>
                  <a:pt x="5" y="6182"/>
                  <a:pt x="-5" y="6190"/>
                  <a:pt x="0" y="6186"/>
                </a:cubicBezTo>
                <a:cubicBezTo>
                  <a:pt x="9" y="6179"/>
                  <a:pt x="13" y="6180"/>
                  <a:pt x="22" y="6173"/>
                </a:cubicBezTo>
                <a:cubicBezTo>
                  <a:pt x="88" y="6118"/>
                  <a:pt x="150" y="6056"/>
                  <a:pt x="218" y="6003"/>
                </a:cubicBezTo>
                <a:cubicBezTo>
                  <a:pt x="300" y="5939"/>
                  <a:pt x="382" y="5874"/>
                  <a:pt x="465" y="5811"/>
                </a:cubicBezTo>
                <a:cubicBezTo>
                  <a:pt x="861" y="5509"/>
                  <a:pt x="1242" y="5190"/>
                  <a:pt x="1635" y="4884"/>
                </a:cubicBezTo>
                <a:cubicBezTo>
                  <a:pt x="1799" y="4756"/>
                  <a:pt x="1969" y="4637"/>
                  <a:pt x="2138" y="4517"/>
                </a:cubicBezTo>
                <a:cubicBezTo>
                  <a:pt x="2505" y="4256"/>
                  <a:pt x="2880" y="4006"/>
                  <a:pt x="3256" y="3757"/>
                </a:cubicBezTo>
                <a:cubicBezTo>
                  <a:pt x="3881" y="3343"/>
                  <a:pt x="4468" y="2887"/>
                  <a:pt x="5070" y="2442"/>
                </a:cubicBezTo>
                <a:cubicBezTo>
                  <a:pt x="5443" y="2167"/>
                  <a:pt x="5852" y="1922"/>
                  <a:pt x="6218" y="1644"/>
                </a:cubicBezTo>
                <a:cubicBezTo>
                  <a:pt x="6308" y="1576"/>
                  <a:pt x="6313" y="1521"/>
                  <a:pt x="6367" y="1439"/>
                </a:cubicBezTo>
              </a:path>
              <a:path w="6368" h="6192">
                <a:moveTo>
                  <a:pt x="6252" y="0"/>
                </a:moveTo>
                <a:cubicBezTo>
                  <a:pt x="6247" y="5"/>
                  <a:pt x="6235" y="8"/>
                  <a:pt x="6231" y="17"/>
                </a:cubicBezTo>
                <a:cubicBezTo>
                  <a:pt x="6224" y="32"/>
                  <a:pt x="6223" y="61"/>
                  <a:pt x="6222" y="77"/>
                </a:cubicBezTo>
                <a:cubicBezTo>
                  <a:pt x="6216" y="145"/>
                  <a:pt x="6218" y="214"/>
                  <a:pt x="6218" y="282"/>
                </a:cubicBezTo>
                <a:cubicBezTo>
                  <a:pt x="6218" y="424"/>
                  <a:pt x="6215" y="567"/>
                  <a:pt x="6214" y="709"/>
                </a:cubicBezTo>
                <a:cubicBezTo>
                  <a:pt x="6213" y="854"/>
                  <a:pt x="6220" y="999"/>
                  <a:pt x="6222" y="1144"/>
                </a:cubicBezTo>
                <a:cubicBezTo>
                  <a:pt x="6223" y="1229"/>
                  <a:pt x="6230" y="1312"/>
                  <a:pt x="6244" y="1396"/>
                </a:cubicBezTo>
                <a:cubicBezTo>
                  <a:pt x="6250" y="1430"/>
                  <a:pt x="6263" y="1461"/>
                  <a:pt x="6269" y="1494"/>
                </a:cubicBezTo>
                <a:cubicBezTo>
                  <a:pt x="6274" y="1518"/>
                  <a:pt x="6274" y="1490"/>
                  <a:pt x="6273" y="1499"/>
                </a:cubicBezTo>
                <a:cubicBezTo>
                  <a:pt x="6272" y="1512"/>
                  <a:pt x="6259" y="1529"/>
                  <a:pt x="6252" y="154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3813120" y="1422360"/>
            <a:ext cx="1646280" cy="90360"/>
          </a:xfrm>
          <a:custGeom>
            <a:avLst/>
            <a:gdLst/>
            <a:ahLst/>
            <a:rect l="l" t="t" r="r" b="b"/>
            <a:pathLst>
              <a:path w="4575" h="248">
                <a:moveTo>
                  <a:pt x="34" y="120"/>
                </a:moveTo>
                <a:cubicBezTo>
                  <a:pt x="20" y="123"/>
                  <a:pt x="18" y="125"/>
                  <a:pt x="9" y="124"/>
                </a:cubicBezTo>
                <a:cubicBezTo>
                  <a:pt x="17" y="125"/>
                  <a:pt x="5" y="127"/>
                  <a:pt x="13" y="128"/>
                </a:cubicBezTo>
                <a:cubicBezTo>
                  <a:pt x="126" y="144"/>
                  <a:pt x="237" y="167"/>
                  <a:pt x="350" y="188"/>
                </a:cubicBezTo>
                <a:cubicBezTo>
                  <a:pt x="497" y="216"/>
                  <a:pt x="641" y="218"/>
                  <a:pt x="790" y="230"/>
                </a:cubicBezTo>
                <a:cubicBezTo>
                  <a:pt x="993" y="246"/>
                  <a:pt x="1196" y="247"/>
                  <a:pt x="1400" y="243"/>
                </a:cubicBezTo>
                <a:cubicBezTo>
                  <a:pt x="1636" y="239"/>
                  <a:pt x="1873" y="222"/>
                  <a:pt x="2108" y="201"/>
                </a:cubicBezTo>
                <a:cubicBezTo>
                  <a:pt x="2353" y="179"/>
                  <a:pt x="2597" y="141"/>
                  <a:pt x="2842" y="115"/>
                </a:cubicBezTo>
                <a:cubicBezTo>
                  <a:pt x="3312" y="65"/>
                  <a:pt x="3781" y="10"/>
                  <a:pt x="4254" y="0"/>
                </a:cubicBezTo>
                <a:cubicBezTo>
                  <a:pt x="4332" y="-2"/>
                  <a:pt x="4411" y="-1"/>
                  <a:pt x="4489" y="4"/>
                </a:cubicBezTo>
                <a:cubicBezTo>
                  <a:pt x="4514" y="6"/>
                  <a:pt x="4541" y="14"/>
                  <a:pt x="4566" y="13"/>
                </a:cubicBezTo>
                <a:cubicBezTo>
                  <a:pt x="4572" y="13"/>
                  <a:pt x="4560" y="9"/>
                  <a:pt x="4566" y="9"/>
                </a:cubicBezTo>
                <a:cubicBezTo>
                  <a:pt x="4566" y="9"/>
                  <a:pt x="4556" y="4"/>
                  <a:pt x="4557" y="4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4" name="Freeform 4"/>
          <p:cNvSpPr/>
          <p:nvPr/>
        </p:nvSpPr>
        <p:spPr>
          <a:xfrm>
            <a:off x="4214880" y="1441440"/>
            <a:ext cx="2690640" cy="1449360"/>
          </a:xfrm>
          <a:custGeom>
            <a:avLst/>
            <a:gdLst/>
            <a:ahLst/>
            <a:rect l="l" t="t" r="r" b="b"/>
            <a:pathLst>
              <a:path w="7476" h="4026">
                <a:moveTo>
                  <a:pt x="0" y="4008"/>
                </a:moveTo>
                <a:cubicBezTo>
                  <a:pt x="13" y="3994"/>
                  <a:pt x="35" y="3966"/>
                  <a:pt x="55" y="3944"/>
                </a:cubicBezTo>
                <a:cubicBezTo>
                  <a:pt x="107" y="3889"/>
                  <a:pt x="161" y="3834"/>
                  <a:pt x="213" y="3778"/>
                </a:cubicBezTo>
                <a:cubicBezTo>
                  <a:pt x="308" y="3674"/>
                  <a:pt x="396" y="3566"/>
                  <a:pt x="486" y="3458"/>
                </a:cubicBezTo>
                <a:cubicBezTo>
                  <a:pt x="886" y="2977"/>
                  <a:pt x="1251" y="2466"/>
                  <a:pt x="1638" y="1974"/>
                </a:cubicBezTo>
                <a:cubicBezTo>
                  <a:pt x="1969" y="1553"/>
                  <a:pt x="2320" y="1138"/>
                  <a:pt x="2709" y="768"/>
                </a:cubicBezTo>
                <a:cubicBezTo>
                  <a:pt x="2948" y="540"/>
                  <a:pt x="3252" y="379"/>
                  <a:pt x="3486" y="154"/>
                </a:cubicBezTo>
                <a:cubicBezTo>
                  <a:pt x="3500" y="140"/>
                  <a:pt x="3510" y="142"/>
                  <a:pt x="3524" y="128"/>
                </a:cubicBezTo>
                <a:cubicBezTo>
                  <a:pt x="3529" y="123"/>
                  <a:pt x="3523" y="125"/>
                  <a:pt x="3524" y="124"/>
                </a:cubicBezTo>
                <a:cubicBezTo>
                  <a:pt x="3535" y="113"/>
                  <a:pt x="3523" y="104"/>
                  <a:pt x="3533" y="94"/>
                </a:cubicBezTo>
                <a:cubicBezTo>
                  <a:pt x="3556" y="71"/>
                  <a:pt x="3589" y="24"/>
                  <a:pt x="3609" y="0"/>
                </a:cubicBezTo>
                <a:cubicBezTo>
                  <a:pt x="3616" y="11"/>
                  <a:pt x="3620" y="46"/>
                  <a:pt x="3631" y="60"/>
                </a:cubicBezTo>
                <a:cubicBezTo>
                  <a:pt x="3646" y="79"/>
                  <a:pt x="3658" y="108"/>
                  <a:pt x="3678" y="132"/>
                </a:cubicBezTo>
                <a:cubicBezTo>
                  <a:pt x="3760" y="233"/>
                  <a:pt x="3860" y="324"/>
                  <a:pt x="3951" y="418"/>
                </a:cubicBezTo>
                <a:cubicBezTo>
                  <a:pt x="4409" y="891"/>
                  <a:pt x="4897" y="1300"/>
                  <a:pt x="5410" y="1710"/>
                </a:cubicBezTo>
                <a:cubicBezTo>
                  <a:pt x="5850" y="2062"/>
                  <a:pt x="6159" y="2481"/>
                  <a:pt x="6507" y="2917"/>
                </a:cubicBezTo>
                <a:cubicBezTo>
                  <a:pt x="6770" y="3246"/>
                  <a:pt x="7140" y="3485"/>
                  <a:pt x="7394" y="3812"/>
                </a:cubicBezTo>
                <a:cubicBezTo>
                  <a:pt x="7425" y="3852"/>
                  <a:pt x="7442" y="3893"/>
                  <a:pt x="7467" y="3931"/>
                </a:cubicBezTo>
                <a:cubicBezTo>
                  <a:pt x="7474" y="3941"/>
                  <a:pt x="7469" y="3961"/>
                  <a:pt x="7475" y="3970"/>
                </a:cubicBezTo>
                <a:cubicBezTo>
                  <a:pt x="7416" y="3977"/>
                  <a:pt x="7356" y="3989"/>
                  <a:pt x="7296" y="3995"/>
                </a:cubicBezTo>
                <a:cubicBezTo>
                  <a:pt x="7077" y="4016"/>
                  <a:pt x="6852" y="4019"/>
                  <a:pt x="6635" y="4017"/>
                </a:cubicBezTo>
                <a:cubicBezTo>
                  <a:pt x="6656" y="3979"/>
                  <a:pt x="6680" y="3936"/>
                  <a:pt x="6703" y="389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Freeform 5"/>
          <p:cNvSpPr/>
          <p:nvPr/>
        </p:nvSpPr>
        <p:spPr>
          <a:xfrm>
            <a:off x="2108160" y="2540160"/>
            <a:ext cx="2185920" cy="365040"/>
          </a:xfrm>
          <a:custGeom>
            <a:avLst/>
            <a:gdLst/>
            <a:ahLst/>
            <a:rect l="l" t="t" r="r" b="b"/>
            <a:pathLst>
              <a:path w="6073" h="1011">
                <a:moveTo>
                  <a:pt x="166" y="4"/>
                </a:moveTo>
                <a:cubicBezTo>
                  <a:pt x="161" y="6"/>
                  <a:pt x="146" y="14"/>
                  <a:pt x="137" y="17"/>
                </a:cubicBezTo>
                <a:cubicBezTo>
                  <a:pt x="117" y="23"/>
                  <a:pt x="98" y="28"/>
                  <a:pt x="77" y="34"/>
                </a:cubicBezTo>
                <a:cubicBezTo>
                  <a:pt x="58" y="39"/>
                  <a:pt x="40" y="42"/>
                  <a:pt x="21" y="47"/>
                </a:cubicBezTo>
                <a:cubicBezTo>
                  <a:pt x="12" y="52"/>
                  <a:pt x="8" y="53"/>
                  <a:pt x="0" y="51"/>
                </a:cubicBezTo>
                <a:cubicBezTo>
                  <a:pt x="5" y="53"/>
                  <a:pt x="9" y="75"/>
                  <a:pt x="34" y="81"/>
                </a:cubicBezTo>
                <a:cubicBezTo>
                  <a:pt x="381" y="160"/>
                  <a:pt x="736" y="136"/>
                  <a:pt x="1088" y="132"/>
                </a:cubicBezTo>
                <a:cubicBezTo>
                  <a:pt x="1209" y="131"/>
                  <a:pt x="1330" y="134"/>
                  <a:pt x="1451" y="145"/>
                </a:cubicBezTo>
                <a:cubicBezTo>
                  <a:pt x="1568" y="155"/>
                  <a:pt x="1681" y="178"/>
                  <a:pt x="1796" y="200"/>
                </a:cubicBezTo>
                <a:cubicBezTo>
                  <a:pt x="2399" y="314"/>
                  <a:pt x="3003" y="430"/>
                  <a:pt x="3605" y="550"/>
                </a:cubicBezTo>
                <a:cubicBezTo>
                  <a:pt x="3992" y="627"/>
                  <a:pt x="4376" y="715"/>
                  <a:pt x="4766" y="776"/>
                </a:cubicBezTo>
                <a:cubicBezTo>
                  <a:pt x="4938" y="803"/>
                  <a:pt x="5110" y="826"/>
                  <a:pt x="5282" y="853"/>
                </a:cubicBezTo>
                <a:cubicBezTo>
                  <a:pt x="5458" y="880"/>
                  <a:pt x="5624" y="915"/>
                  <a:pt x="5794" y="959"/>
                </a:cubicBezTo>
                <a:cubicBezTo>
                  <a:pt x="5830" y="968"/>
                  <a:pt x="5865" y="978"/>
                  <a:pt x="5901" y="985"/>
                </a:cubicBezTo>
                <a:cubicBezTo>
                  <a:pt x="5946" y="994"/>
                  <a:pt x="6057" y="1007"/>
                  <a:pt x="6063" y="1006"/>
                </a:cubicBezTo>
                <a:cubicBezTo>
                  <a:pt x="6063" y="994"/>
                  <a:pt x="6062" y="990"/>
                  <a:pt x="6072" y="98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2057400" y="1398600"/>
            <a:ext cx="1919160" cy="1219320"/>
          </a:xfrm>
          <a:custGeom>
            <a:avLst/>
            <a:gdLst/>
            <a:ahLst/>
            <a:rect l="l" t="t" r="r" b="b"/>
            <a:pathLst>
              <a:path w="5330" h="3386">
                <a:moveTo>
                  <a:pt x="0" y="3385"/>
                </a:moveTo>
                <a:cubicBezTo>
                  <a:pt x="89" y="3340"/>
                  <a:pt x="181" y="3298"/>
                  <a:pt x="269" y="3249"/>
                </a:cubicBezTo>
                <a:cubicBezTo>
                  <a:pt x="885" y="2907"/>
                  <a:pt x="1464" y="2464"/>
                  <a:pt x="2036" y="2055"/>
                </a:cubicBezTo>
                <a:cubicBezTo>
                  <a:pt x="2270" y="1887"/>
                  <a:pt x="2503" y="1718"/>
                  <a:pt x="2735" y="1548"/>
                </a:cubicBezTo>
                <a:cubicBezTo>
                  <a:pt x="2963" y="1381"/>
                  <a:pt x="3195" y="1219"/>
                  <a:pt x="3426" y="1057"/>
                </a:cubicBezTo>
                <a:cubicBezTo>
                  <a:pt x="3926" y="707"/>
                  <a:pt x="4471" y="432"/>
                  <a:pt x="5014" y="158"/>
                </a:cubicBezTo>
                <a:cubicBezTo>
                  <a:pt x="5116" y="107"/>
                  <a:pt x="5228" y="49"/>
                  <a:pt x="5325" y="0"/>
                </a:cubicBezTo>
                <a:cubicBezTo>
                  <a:pt x="5331" y="-3"/>
                  <a:pt x="5323" y="11"/>
                  <a:pt x="5329" y="8"/>
                </a:cubicBezTo>
                <a:cubicBezTo>
                  <a:pt x="5326" y="7"/>
                  <a:pt x="5324" y="5"/>
                  <a:pt x="5321" y="4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2276640" y="2565360"/>
            <a:ext cx="4289400" cy="2360520"/>
          </a:xfrm>
          <a:custGeom>
            <a:avLst/>
            <a:gdLst/>
            <a:ahLst/>
            <a:rect l="l" t="t" r="r" b="b"/>
            <a:pathLst>
              <a:path w="11916" h="6556">
                <a:moveTo>
                  <a:pt x="5450" y="1182"/>
                </a:moveTo>
                <a:cubicBezTo>
                  <a:pt x="5454" y="1220"/>
                  <a:pt x="5455" y="1253"/>
                  <a:pt x="5459" y="1293"/>
                </a:cubicBezTo>
                <a:cubicBezTo>
                  <a:pt x="5463" y="1326"/>
                  <a:pt x="5469" y="1363"/>
                  <a:pt x="5471" y="1396"/>
                </a:cubicBezTo>
                <a:cubicBezTo>
                  <a:pt x="5473" y="1443"/>
                  <a:pt x="5473" y="1488"/>
                  <a:pt x="5476" y="1536"/>
                </a:cubicBezTo>
                <a:cubicBezTo>
                  <a:pt x="5497" y="1835"/>
                  <a:pt x="5565" y="2129"/>
                  <a:pt x="5591" y="2428"/>
                </a:cubicBezTo>
                <a:cubicBezTo>
                  <a:pt x="5612" y="2670"/>
                  <a:pt x="5638" y="2912"/>
                  <a:pt x="5663" y="3154"/>
                </a:cubicBezTo>
                <a:cubicBezTo>
                  <a:pt x="5715" y="3658"/>
                  <a:pt x="5845" y="4146"/>
                  <a:pt x="5915" y="4647"/>
                </a:cubicBezTo>
                <a:cubicBezTo>
                  <a:pt x="5935" y="4786"/>
                  <a:pt x="5940" y="4926"/>
                  <a:pt x="5954" y="5066"/>
                </a:cubicBezTo>
                <a:cubicBezTo>
                  <a:pt x="5975" y="5278"/>
                  <a:pt x="5999" y="5492"/>
                  <a:pt x="6030" y="5701"/>
                </a:cubicBezTo>
                <a:cubicBezTo>
                  <a:pt x="6032" y="5714"/>
                  <a:pt x="6037" y="5727"/>
                  <a:pt x="6039" y="5740"/>
                </a:cubicBezTo>
                <a:cubicBezTo>
                  <a:pt x="6042" y="5766"/>
                  <a:pt x="6045" y="5791"/>
                  <a:pt x="6047" y="5817"/>
                </a:cubicBezTo>
                <a:cubicBezTo>
                  <a:pt x="6053" y="5896"/>
                  <a:pt x="6058" y="5976"/>
                  <a:pt x="6064" y="6056"/>
                </a:cubicBezTo>
                <a:cubicBezTo>
                  <a:pt x="6066" y="6084"/>
                  <a:pt x="6071" y="6113"/>
                  <a:pt x="6073" y="6137"/>
                </a:cubicBezTo>
                <a:cubicBezTo>
                  <a:pt x="6074" y="6150"/>
                  <a:pt x="6072" y="6165"/>
                  <a:pt x="6073" y="6179"/>
                </a:cubicBezTo>
                <a:cubicBezTo>
                  <a:pt x="6075" y="6204"/>
                  <a:pt x="6075" y="6232"/>
                  <a:pt x="6077" y="6256"/>
                </a:cubicBezTo>
                <a:cubicBezTo>
                  <a:pt x="6079" y="6286"/>
                  <a:pt x="6085" y="6316"/>
                  <a:pt x="6086" y="6346"/>
                </a:cubicBezTo>
                <a:cubicBezTo>
                  <a:pt x="6088" y="6415"/>
                  <a:pt x="6086" y="6485"/>
                  <a:pt x="6086" y="6555"/>
                </a:cubicBezTo>
                <a:cubicBezTo>
                  <a:pt x="6083" y="6536"/>
                  <a:pt x="6080" y="6527"/>
                  <a:pt x="6077" y="6508"/>
                </a:cubicBezTo>
                <a:cubicBezTo>
                  <a:pt x="6076" y="6495"/>
                  <a:pt x="6074" y="6482"/>
                  <a:pt x="6073" y="6469"/>
                </a:cubicBezTo>
              </a:path>
              <a:path w="11916" h="6556">
                <a:moveTo>
                  <a:pt x="0" y="243"/>
                </a:moveTo>
                <a:cubicBezTo>
                  <a:pt x="0" y="250"/>
                  <a:pt x="4" y="253"/>
                  <a:pt x="5" y="265"/>
                </a:cubicBezTo>
                <a:cubicBezTo>
                  <a:pt x="16" y="499"/>
                  <a:pt x="19" y="734"/>
                  <a:pt x="26" y="969"/>
                </a:cubicBezTo>
                <a:cubicBezTo>
                  <a:pt x="41" y="1474"/>
                  <a:pt x="66" y="1974"/>
                  <a:pt x="103" y="2475"/>
                </a:cubicBezTo>
                <a:cubicBezTo>
                  <a:pt x="107" y="2527"/>
                  <a:pt x="102" y="2653"/>
                  <a:pt x="116" y="2676"/>
                </a:cubicBezTo>
                <a:cubicBezTo>
                  <a:pt x="148" y="2730"/>
                  <a:pt x="257" y="2788"/>
                  <a:pt x="303" y="2834"/>
                </a:cubicBezTo>
                <a:cubicBezTo>
                  <a:pt x="626" y="3155"/>
                  <a:pt x="1054" y="3414"/>
                  <a:pt x="1434" y="3662"/>
                </a:cubicBezTo>
                <a:cubicBezTo>
                  <a:pt x="1849" y="3933"/>
                  <a:pt x="2307" y="4105"/>
                  <a:pt x="2740" y="4340"/>
                </a:cubicBezTo>
                <a:cubicBezTo>
                  <a:pt x="3034" y="4499"/>
                  <a:pt x="3300" y="4698"/>
                  <a:pt x="3572" y="4891"/>
                </a:cubicBezTo>
                <a:cubicBezTo>
                  <a:pt x="3960" y="5167"/>
                  <a:pt x="4348" y="5440"/>
                  <a:pt x="4737" y="5714"/>
                </a:cubicBezTo>
                <a:cubicBezTo>
                  <a:pt x="4911" y="5836"/>
                  <a:pt x="5113" y="5905"/>
                  <a:pt x="5284" y="6026"/>
                </a:cubicBezTo>
                <a:cubicBezTo>
                  <a:pt x="5479" y="6164"/>
                  <a:pt x="5760" y="6453"/>
                  <a:pt x="6009" y="6478"/>
                </a:cubicBezTo>
                <a:cubicBezTo>
                  <a:pt x="6018" y="6479"/>
                  <a:pt x="6000" y="6464"/>
                  <a:pt x="6009" y="6465"/>
                </a:cubicBezTo>
                <a:cubicBezTo>
                  <a:pt x="6029" y="6466"/>
                  <a:pt x="5968" y="6409"/>
                  <a:pt x="5988" y="6410"/>
                </a:cubicBezTo>
              </a:path>
              <a:path w="11916" h="6556">
                <a:moveTo>
                  <a:pt x="11915" y="56"/>
                </a:moveTo>
                <a:cubicBezTo>
                  <a:pt x="11912" y="44"/>
                  <a:pt x="11914" y="33"/>
                  <a:pt x="11911" y="21"/>
                </a:cubicBezTo>
                <a:cubicBezTo>
                  <a:pt x="11910" y="16"/>
                  <a:pt x="11904" y="11"/>
                  <a:pt x="11902" y="9"/>
                </a:cubicBezTo>
                <a:cubicBezTo>
                  <a:pt x="11898" y="5"/>
                  <a:pt x="11899" y="8"/>
                  <a:pt x="11894" y="4"/>
                </a:cubicBezTo>
                <a:cubicBezTo>
                  <a:pt x="11885" y="31"/>
                  <a:pt x="11882" y="59"/>
                  <a:pt x="11877" y="90"/>
                </a:cubicBezTo>
                <a:cubicBezTo>
                  <a:pt x="11860" y="193"/>
                  <a:pt x="11838" y="310"/>
                  <a:pt x="11834" y="414"/>
                </a:cubicBezTo>
                <a:cubicBezTo>
                  <a:pt x="11835" y="457"/>
                  <a:pt x="11837" y="499"/>
                  <a:pt x="11838" y="542"/>
                </a:cubicBezTo>
              </a:path>
              <a:path w="11916" h="6556">
                <a:moveTo>
                  <a:pt x="8702" y="1733"/>
                </a:moveTo>
                <a:cubicBezTo>
                  <a:pt x="8700" y="1743"/>
                  <a:pt x="8695" y="1740"/>
                  <a:pt x="8693" y="1750"/>
                </a:cubicBezTo>
                <a:cubicBezTo>
                  <a:pt x="8686" y="1793"/>
                  <a:pt x="8686" y="1842"/>
                  <a:pt x="8685" y="1886"/>
                </a:cubicBezTo>
                <a:cubicBezTo>
                  <a:pt x="8675" y="2236"/>
                  <a:pt x="8685" y="2591"/>
                  <a:pt x="8697" y="2940"/>
                </a:cubicBezTo>
                <a:cubicBezTo>
                  <a:pt x="8705" y="3172"/>
                  <a:pt x="8727" y="3401"/>
                  <a:pt x="8740" y="3632"/>
                </a:cubicBezTo>
                <a:cubicBezTo>
                  <a:pt x="8748" y="3770"/>
                  <a:pt x="8749" y="3909"/>
                  <a:pt x="8774" y="4046"/>
                </a:cubicBezTo>
                <a:cubicBezTo>
                  <a:pt x="8781" y="4087"/>
                  <a:pt x="8787" y="4125"/>
                  <a:pt x="8791" y="4165"/>
                </a:cubicBezTo>
                <a:cubicBezTo>
                  <a:pt x="8780" y="4135"/>
                  <a:pt x="8770" y="4108"/>
                  <a:pt x="8761" y="4075"/>
                </a:cubicBezTo>
                <a:cubicBezTo>
                  <a:pt x="8757" y="4060"/>
                  <a:pt x="8753" y="4044"/>
                  <a:pt x="8749" y="4029"/>
                </a:cubicBezTo>
              </a:path>
              <a:path w="11916" h="6556">
                <a:moveTo>
                  <a:pt x="9662" y="1404"/>
                </a:moveTo>
                <a:cubicBezTo>
                  <a:pt x="9660" y="1409"/>
                  <a:pt x="9659" y="1395"/>
                  <a:pt x="9658" y="1400"/>
                </a:cubicBezTo>
                <a:cubicBezTo>
                  <a:pt x="9657" y="1405"/>
                  <a:pt x="9663" y="1399"/>
                  <a:pt x="9662" y="1404"/>
                </a:cubicBezTo>
                <a:cubicBezTo>
                  <a:pt x="9660" y="1413"/>
                  <a:pt x="9654" y="1440"/>
                  <a:pt x="9653" y="1455"/>
                </a:cubicBezTo>
                <a:cubicBezTo>
                  <a:pt x="9644" y="1547"/>
                  <a:pt x="9641" y="1645"/>
                  <a:pt x="9641" y="1737"/>
                </a:cubicBezTo>
                <a:cubicBezTo>
                  <a:pt x="9642" y="1932"/>
                  <a:pt x="9645" y="2127"/>
                  <a:pt x="9653" y="2322"/>
                </a:cubicBezTo>
                <a:cubicBezTo>
                  <a:pt x="9664" y="2594"/>
                  <a:pt x="9686" y="2865"/>
                  <a:pt x="9700" y="3137"/>
                </a:cubicBezTo>
                <a:cubicBezTo>
                  <a:pt x="9706" y="3257"/>
                  <a:pt x="9714" y="3376"/>
                  <a:pt x="9726" y="3495"/>
                </a:cubicBezTo>
                <a:cubicBezTo>
                  <a:pt x="9728" y="3510"/>
                  <a:pt x="9739" y="3593"/>
                  <a:pt x="9726" y="3589"/>
                </a:cubicBezTo>
                <a:cubicBezTo>
                  <a:pt x="9726" y="3570"/>
                  <a:pt x="9722" y="3559"/>
                  <a:pt x="9709" y="3546"/>
                </a:cubicBezTo>
              </a:path>
              <a:path w="11916" h="6556">
                <a:moveTo>
                  <a:pt x="8454" y="2074"/>
                </a:moveTo>
                <a:cubicBezTo>
                  <a:pt x="8471" y="2061"/>
                  <a:pt x="8489" y="2049"/>
                  <a:pt x="8505" y="2036"/>
                </a:cubicBezTo>
                <a:cubicBezTo>
                  <a:pt x="8563" y="1989"/>
                  <a:pt x="8623" y="1942"/>
                  <a:pt x="8685" y="1899"/>
                </a:cubicBezTo>
                <a:cubicBezTo>
                  <a:pt x="8799" y="1820"/>
                  <a:pt x="8914" y="1739"/>
                  <a:pt x="9026" y="1656"/>
                </a:cubicBezTo>
                <a:cubicBezTo>
                  <a:pt x="9144" y="1568"/>
                  <a:pt x="9262" y="1479"/>
                  <a:pt x="9380" y="1391"/>
                </a:cubicBezTo>
                <a:cubicBezTo>
                  <a:pt x="9436" y="1349"/>
                  <a:pt x="9491" y="1307"/>
                  <a:pt x="9551" y="1272"/>
                </a:cubicBezTo>
                <a:cubicBezTo>
                  <a:pt x="9563" y="1265"/>
                  <a:pt x="9570" y="1267"/>
                  <a:pt x="9581" y="1259"/>
                </a:cubicBezTo>
                <a:cubicBezTo>
                  <a:pt x="9588" y="1254"/>
                  <a:pt x="9575" y="1258"/>
                  <a:pt x="9577" y="1255"/>
                </a:cubicBezTo>
              </a:path>
              <a:path w="11916" h="6556">
                <a:moveTo>
                  <a:pt x="1806" y="1221"/>
                </a:moveTo>
                <a:cubicBezTo>
                  <a:pt x="1800" y="1273"/>
                  <a:pt x="1799" y="1326"/>
                  <a:pt x="1793" y="1379"/>
                </a:cubicBezTo>
                <a:cubicBezTo>
                  <a:pt x="1779" y="1497"/>
                  <a:pt x="1755" y="1614"/>
                  <a:pt x="1742" y="1733"/>
                </a:cubicBezTo>
                <a:cubicBezTo>
                  <a:pt x="1732" y="1820"/>
                  <a:pt x="1714" y="1906"/>
                  <a:pt x="1703" y="1993"/>
                </a:cubicBezTo>
                <a:cubicBezTo>
                  <a:pt x="1702" y="2003"/>
                  <a:pt x="1698" y="2111"/>
                  <a:pt x="1686" y="2117"/>
                </a:cubicBezTo>
                <a:cubicBezTo>
                  <a:pt x="1674" y="2122"/>
                  <a:pt x="1691" y="2106"/>
                  <a:pt x="1678" y="2104"/>
                </a:cubicBezTo>
                <a:cubicBezTo>
                  <a:pt x="1670" y="2103"/>
                  <a:pt x="1677" y="2082"/>
                  <a:pt x="1669" y="2083"/>
                </a:cubicBezTo>
                <a:cubicBezTo>
                  <a:pt x="1673" y="2087"/>
                  <a:pt x="1661" y="2074"/>
                  <a:pt x="1665" y="2078"/>
                </a:cubicBezTo>
                <a:cubicBezTo>
                  <a:pt x="1676" y="2091"/>
                  <a:pt x="1686" y="2105"/>
                  <a:pt x="1699" y="2117"/>
                </a:cubicBezTo>
                <a:cubicBezTo>
                  <a:pt x="1776" y="2186"/>
                  <a:pt x="1868" y="2243"/>
                  <a:pt x="1951" y="2305"/>
                </a:cubicBezTo>
                <a:cubicBezTo>
                  <a:pt x="2040" y="2372"/>
                  <a:pt x="2129" y="2438"/>
                  <a:pt x="2215" y="2509"/>
                </a:cubicBezTo>
                <a:cubicBezTo>
                  <a:pt x="2400" y="2662"/>
                  <a:pt x="2583" y="2819"/>
                  <a:pt x="2770" y="2970"/>
                </a:cubicBezTo>
                <a:cubicBezTo>
                  <a:pt x="2809" y="3001"/>
                  <a:pt x="2893" y="3097"/>
                  <a:pt x="2949" y="3098"/>
                </a:cubicBezTo>
                <a:cubicBezTo>
                  <a:pt x="2984" y="3099"/>
                  <a:pt x="2953" y="3082"/>
                  <a:pt x="2966" y="3047"/>
                </a:cubicBezTo>
              </a:path>
              <a:path w="11916" h="6556">
                <a:moveTo>
                  <a:pt x="2382" y="1178"/>
                </a:moveTo>
                <a:cubicBezTo>
                  <a:pt x="2492" y="1171"/>
                  <a:pt x="2600" y="1157"/>
                  <a:pt x="2710" y="1148"/>
                </a:cubicBezTo>
                <a:cubicBezTo>
                  <a:pt x="2796" y="1141"/>
                  <a:pt x="2884" y="1134"/>
                  <a:pt x="2971" y="1131"/>
                </a:cubicBezTo>
                <a:cubicBezTo>
                  <a:pt x="3015" y="1129"/>
                  <a:pt x="3059" y="1132"/>
                  <a:pt x="3103" y="1135"/>
                </a:cubicBezTo>
                <a:cubicBezTo>
                  <a:pt x="3117" y="1136"/>
                  <a:pt x="3133" y="1136"/>
                  <a:pt x="3146" y="1140"/>
                </a:cubicBezTo>
                <a:cubicBezTo>
                  <a:pt x="3153" y="1140"/>
                  <a:pt x="3155" y="1139"/>
                  <a:pt x="3154" y="1144"/>
                </a:cubicBezTo>
                <a:cubicBezTo>
                  <a:pt x="3143" y="1146"/>
                  <a:pt x="3144" y="1146"/>
                  <a:pt x="3137" y="1148"/>
                </a:cubicBezTo>
                <a:cubicBezTo>
                  <a:pt x="3131" y="1150"/>
                  <a:pt x="3127" y="1152"/>
                  <a:pt x="3120" y="1152"/>
                </a:cubicBezTo>
                <a:cubicBezTo>
                  <a:pt x="3119" y="1152"/>
                  <a:pt x="3108" y="1143"/>
                  <a:pt x="3103" y="1140"/>
                </a:cubicBezTo>
                <a:cubicBezTo>
                  <a:pt x="3099" y="1140"/>
                  <a:pt x="3097" y="1140"/>
                  <a:pt x="3099" y="1135"/>
                </a:cubicBezTo>
              </a:path>
              <a:path w="11916" h="6556">
                <a:moveTo>
                  <a:pt x="3077" y="1135"/>
                </a:moveTo>
                <a:cubicBezTo>
                  <a:pt x="3075" y="1140"/>
                  <a:pt x="3071" y="1138"/>
                  <a:pt x="3069" y="1148"/>
                </a:cubicBezTo>
                <a:cubicBezTo>
                  <a:pt x="3060" y="1193"/>
                  <a:pt x="3059" y="1243"/>
                  <a:pt x="3056" y="1289"/>
                </a:cubicBezTo>
                <a:cubicBezTo>
                  <a:pt x="3047" y="1432"/>
                  <a:pt x="3041" y="1576"/>
                  <a:pt x="3035" y="1720"/>
                </a:cubicBezTo>
                <a:cubicBezTo>
                  <a:pt x="3027" y="1925"/>
                  <a:pt x="3020" y="2129"/>
                  <a:pt x="3013" y="2334"/>
                </a:cubicBezTo>
                <a:cubicBezTo>
                  <a:pt x="3008" y="2476"/>
                  <a:pt x="3006" y="2619"/>
                  <a:pt x="3000" y="2761"/>
                </a:cubicBezTo>
                <a:cubicBezTo>
                  <a:pt x="2998" y="2816"/>
                  <a:pt x="2996" y="2838"/>
                  <a:pt x="2996" y="2893"/>
                </a:cubicBezTo>
                <a:cubicBezTo>
                  <a:pt x="2993" y="2853"/>
                  <a:pt x="2996" y="2832"/>
                  <a:pt x="2992" y="2791"/>
                </a:cubicBezTo>
              </a:path>
              <a:path w="11916" h="6556">
                <a:moveTo>
                  <a:pt x="1639" y="1293"/>
                </a:moveTo>
                <a:cubicBezTo>
                  <a:pt x="1675" y="1270"/>
                  <a:pt x="1706" y="1251"/>
                  <a:pt x="1746" y="1233"/>
                </a:cubicBezTo>
                <a:cubicBezTo>
                  <a:pt x="1798" y="1209"/>
                  <a:pt x="1848" y="1195"/>
                  <a:pt x="1904" y="1182"/>
                </a:cubicBezTo>
                <a:cubicBezTo>
                  <a:pt x="1950" y="1171"/>
                  <a:pt x="1988" y="1165"/>
                  <a:pt x="2036" y="1165"/>
                </a:cubicBezTo>
                <a:cubicBezTo>
                  <a:pt x="2087" y="1165"/>
                  <a:pt x="2135" y="1170"/>
                  <a:pt x="2185" y="1174"/>
                </a:cubicBezTo>
                <a:cubicBezTo>
                  <a:pt x="2240" y="1178"/>
                  <a:pt x="2293" y="1188"/>
                  <a:pt x="2348" y="1195"/>
                </a:cubicBezTo>
                <a:cubicBezTo>
                  <a:pt x="2386" y="1200"/>
                  <a:pt x="2425" y="1205"/>
                  <a:pt x="2463" y="1212"/>
                </a:cubicBezTo>
                <a:cubicBezTo>
                  <a:pt x="2480" y="1215"/>
                  <a:pt x="2502" y="1220"/>
                  <a:pt x="2518" y="1221"/>
                </a:cubicBezTo>
                <a:cubicBezTo>
                  <a:pt x="2527" y="1222"/>
                  <a:pt x="2531" y="1218"/>
                  <a:pt x="2540" y="1221"/>
                </a:cubicBezTo>
                <a:cubicBezTo>
                  <a:pt x="2551" y="1225"/>
                  <a:pt x="2542" y="1222"/>
                  <a:pt x="2535" y="1212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5467320" y="1535040"/>
            <a:ext cx="1173240" cy="1612800"/>
          </a:xfrm>
          <a:custGeom>
            <a:avLst/>
            <a:gdLst/>
            <a:ahLst/>
            <a:rect l="l" t="t" r="r" b="b"/>
            <a:pathLst>
              <a:path w="3257" h="4481">
                <a:moveTo>
                  <a:pt x="47" y="55"/>
                </a:moveTo>
                <a:cubicBezTo>
                  <a:pt x="35" y="74"/>
                  <a:pt x="-3" y="-12"/>
                  <a:pt x="8" y="8"/>
                </a:cubicBezTo>
                <a:cubicBezTo>
                  <a:pt x="11" y="13"/>
                  <a:pt x="-3" y="-5"/>
                  <a:pt x="0" y="0"/>
                </a:cubicBezTo>
                <a:cubicBezTo>
                  <a:pt x="3" y="5"/>
                  <a:pt x="3" y="10"/>
                  <a:pt x="8" y="17"/>
                </a:cubicBezTo>
                <a:cubicBezTo>
                  <a:pt x="36" y="56"/>
                  <a:pt x="66" y="97"/>
                  <a:pt x="94" y="136"/>
                </a:cubicBezTo>
                <a:cubicBezTo>
                  <a:pt x="146" y="210"/>
                  <a:pt x="201" y="276"/>
                  <a:pt x="260" y="341"/>
                </a:cubicBezTo>
                <a:cubicBezTo>
                  <a:pt x="360" y="450"/>
                  <a:pt x="469" y="523"/>
                  <a:pt x="589" y="606"/>
                </a:cubicBezTo>
                <a:cubicBezTo>
                  <a:pt x="734" y="706"/>
                  <a:pt x="844" y="834"/>
                  <a:pt x="977" y="951"/>
                </a:cubicBezTo>
                <a:cubicBezTo>
                  <a:pt x="1132" y="1088"/>
                  <a:pt x="1309" y="1195"/>
                  <a:pt x="1468" y="1327"/>
                </a:cubicBezTo>
                <a:cubicBezTo>
                  <a:pt x="1609" y="1444"/>
                  <a:pt x="1709" y="1599"/>
                  <a:pt x="1848" y="1719"/>
                </a:cubicBezTo>
                <a:cubicBezTo>
                  <a:pt x="1941" y="1799"/>
                  <a:pt x="2047" y="1867"/>
                  <a:pt x="2134" y="1954"/>
                </a:cubicBezTo>
                <a:cubicBezTo>
                  <a:pt x="2222" y="2043"/>
                  <a:pt x="2291" y="2144"/>
                  <a:pt x="2385" y="2227"/>
                </a:cubicBezTo>
                <a:cubicBezTo>
                  <a:pt x="2518" y="2344"/>
                  <a:pt x="2675" y="2433"/>
                  <a:pt x="2795" y="2564"/>
                </a:cubicBezTo>
                <a:cubicBezTo>
                  <a:pt x="2821" y="2592"/>
                  <a:pt x="2835" y="2623"/>
                  <a:pt x="2859" y="2650"/>
                </a:cubicBezTo>
                <a:cubicBezTo>
                  <a:pt x="2925" y="2725"/>
                  <a:pt x="3005" y="2809"/>
                  <a:pt x="3064" y="2872"/>
                </a:cubicBezTo>
                <a:cubicBezTo>
                  <a:pt x="3064" y="2878"/>
                  <a:pt x="3060" y="2861"/>
                  <a:pt x="3060" y="2867"/>
                </a:cubicBezTo>
                <a:cubicBezTo>
                  <a:pt x="3063" y="2899"/>
                  <a:pt x="3066" y="2933"/>
                  <a:pt x="3068" y="2966"/>
                </a:cubicBezTo>
                <a:cubicBezTo>
                  <a:pt x="3075" y="3087"/>
                  <a:pt x="3087" y="3207"/>
                  <a:pt x="3098" y="3328"/>
                </a:cubicBezTo>
                <a:cubicBezTo>
                  <a:pt x="3132" y="3693"/>
                  <a:pt x="3238" y="4048"/>
                  <a:pt x="3256" y="4416"/>
                </a:cubicBezTo>
                <a:cubicBezTo>
                  <a:pt x="3255" y="4437"/>
                  <a:pt x="3253" y="4459"/>
                  <a:pt x="3252" y="4480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2473200" y="569880"/>
            <a:ext cx="420840" cy="465120"/>
          </a:xfrm>
          <a:custGeom>
            <a:avLst/>
            <a:gdLst/>
            <a:ahLst/>
            <a:rect l="l" t="t" r="r" b="b"/>
            <a:pathLst>
              <a:path w="1170" h="1294">
                <a:moveTo>
                  <a:pt x="580" y="0"/>
                </a:moveTo>
                <a:cubicBezTo>
                  <a:pt x="522" y="59"/>
                  <a:pt x="468" y="123"/>
                  <a:pt x="401" y="171"/>
                </a:cubicBezTo>
                <a:cubicBezTo>
                  <a:pt x="398" y="172"/>
                  <a:pt x="395" y="174"/>
                  <a:pt x="392" y="175"/>
                </a:cubicBezTo>
                <a:cubicBezTo>
                  <a:pt x="404" y="160"/>
                  <a:pt x="418" y="140"/>
                  <a:pt x="435" y="124"/>
                </a:cubicBezTo>
                <a:cubicBezTo>
                  <a:pt x="475" y="86"/>
                  <a:pt x="527" y="56"/>
                  <a:pt x="580" y="42"/>
                </a:cubicBezTo>
                <a:cubicBezTo>
                  <a:pt x="653" y="23"/>
                  <a:pt x="710" y="36"/>
                  <a:pt x="751" y="106"/>
                </a:cubicBezTo>
                <a:cubicBezTo>
                  <a:pt x="815" y="215"/>
                  <a:pt x="824" y="363"/>
                  <a:pt x="823" y="486"/>
                </a:cubicBezTo>
                <a:cubicBezTo>
                  <a:pt x="822" y="648"/>
                  <a:pt x="788" y="825"/>
                  <a:pt x="721" y="973"/>
                </a:cubicBezTo>
                <a:cubicBezTo>
                  <a:pt x="661" y="1105"/>
                  <a:pt x="551" y="1244"/>
                  <a:pt x="405" y="1284"/>
                </a:cubicBezTo>
                <a:cubicBezTo>
                  <a:pt x="319" y="1307"/>
                  <a:pt x="216" y="1276"/>
                  <a:pt x="145" y="1225"/>
                </a:cubicBezTo>
                <a:cubicBezTo>
                  <a:pt x="57" y="1162"/>
                  <a:pt x="-38" y="1019"/>
                  <a:pt x="17" y="909"/>
                </a:cubicBezTo>
                <a:cubicBezTo>
                  <a:pt x="65" y="814"/>
                  <a:pt x="213" y="786"/>
                  <a:pt x="307" y="776"/>
                </a:cubicBezTo>
                <a:cubicBezTo>
                  <a:pt x="469" y="759"/>
                  <a:pt x="631" y="775"/>
                  <a:pt x="793" y="772"/>
                </a:cubicBezTo>
                <a:cubicBezTo>
                  <a:pt x="939" y="769"/>
                  <a:pt x="1040" y="751"/>
                  <a:pt x="1169" y="683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3189240" y="480960"/>
            <a:ext cx="1809720" cy="608040"/>
          </a:xfrm>
          <a:custGeom>
            <a:avLst/>
            <a:gdLst/>
            <a:ahLst/>
            <a:rect l="l" t="t" r="r" b="b"/>
            <a:pathLst>
              <a:path w="5028" h="1691">
                <a:moveTo>
                  <a:pt x="0" y="448"/>
                </a:moveTo>
                <a:cubicBezTo>
                  <a:pt x="21" y="495"/>
                  <a:pt x="28" y="542"/>
                  <a:pt x="39" y="593"/>
                </a:cubicBezTo>
              </a:path>
              <a:path w="5028" h="1691">
                <a:moveTo>
                  <a:pt x="64" y="978"/>
                </a:moveTo>
                <a:cubicBezTo>
                  <a:pt x="61" y="1059"/>
                  <a:pt x="51" y="1144"/>
                  <a:pt x="64" y="1225"/>
                </a:cubicBezTo>
                <a:cubicBezTo>
                  <a:pt x="72" y="1254"/>
                  <a:pt x="72" y="1260"/>
                  <a:pt x="81" y="1276"/>
                </a:cubicBezTo>
                <a:cubicBezTo>
                  <a:pt x="139" y="1253"/>
                  <a:pt x="169" y="1203"/>
                  <a:pt x="201" y="1148"/>
                </a:cubicBezTo>
                <a:cubicBezTo>
                  <a:pt x="270" y="1029"/>
                  <a:pt x="319" y="903"/>
                  <a:pt x="372" y="777"/>
                </a:cubicBezTo>
                <a:cubicBezTo>
                  <a:pt x="417" y="669"/>
                  <a:pt x="456" y="553"/>
                  <a:pt x="508" y="448"/>
                </a:cubicBezTo>
                <a:cubicBezTo>
                  <a:pt x="542" y="378"/>
                  <a:pt x="546" y="388"/>
                  <a:pt x="585" y="423"/>
                </a:cubicBezTo>
              </a:path>
              <a:path w="5028" h="1691">
                <a:moveTo>
                  <a:pt x="1007" y="534"/>
                </a:moveTo>
                <a:cubicBezTo>
                  <a:pt x="991" y="551"/>
                  <a:pt x="973" y="577"/>
                  <a:pt x="952" y="589"/>
                </a:cubicBezTo>
                <a:cubicBezTo>
                  <a:pt x="930" y="601"/>
                  <a:pt x="906" y="601"/>
                  <a:pt x="884" y="611"/>
                </a:cubicBezTo>
                <a:cubicBezTo>
                  <a:pt x="817" y="642"/>
                  <a:pt x="777" y="688"/>
                  <a:pt x="739" y="751"/>
                </a:cubicBezTo>
                <a:cubicBezTo>
                  <a:pt x="696" y="822"/>
                  <a:pt x="665" y="903"/>
                  <a:pt x="653" y="986"/>
                </a:cubicBezTo>
                <a:cubicBezTo>
                  <a:pt x="644" y="1051"/>
                  <a:pt x="653" y="1093"/>
                  <a:pt x="670" y="1152"/>
                </a:cubicBezTo>
                <a:cubicBezTo>
                  <a:pt x="730" y="1151"/>
                  <a:pt x="751" y="1155"/>
                  <a:pt x="807" y="1106"/>
                </a:cubicBezTo>
                <a:cubicBezTo>
                  <a:pt x="913" y="1013"/>
                  <a:pt x="993" y="856"/>
                  <a:pt x="1025" y="721"/>
                </a:cubicBezTo>
                <a:cubicBezTo>
                  <a:pt x="1031" y="694"/>
                  <a:pt x="1036" y="667"/>
                  <a:pt x="1042" y="640"/>
                </a:cubicBezTo>
                <a:cubicBezTo>
                  <a:pt x="1037" y="677"/>
                  <a:pt x="1032" y="714"/>
                  <a:pt x="1029" y="751"/>
                </a:cubicBezTo>
                <a:cubicBezTo>
                  <a:pt x="1023" y="825"/>
                  <a:pt x="1020" y="898"/>
                  <a:pt x="1020" y="973"/>
                </a:cubicBezTo>
                <a:cubicBezTo>
                  <a:pt x="1020" y="1009"/>
                  <a:pt x="1015" y="1064"/>
                  <a:pt x="1042" y="1093"/>
                </a:cubicBezTo>
                <a:cubicBezTo>
                  <a:pt x="1048" y="1093"/>
                  <a:pt x="1053" y="1093"/>
                  <a:pt x="1059" y="1093"/>
                </a:cubicBezTo>
                <a:cubicBezTo>
                  <a:pt x="1116" y="1052"/>
                  <a:pt x="1160" y="1005"/>
                  <a:pt x="1199" y="943"/>
                </a:cubicBezTo>
                <a:cubicBezTo>
                  <a:pt x="1238" y="880"/>
                  <a:pt x="1273" y="813"/>
                  <a:pt x="1306" y="747"/>
                </a:cubicBezTo>
                <a:cubicBezTo>
                  <a:pt x="1321" y="716"/>
                  <a:pt x="1344" y="697"/>
                  <a:pt x="1349" y="692"/>
                </a:cubicBezTo>
                <a:cubicBezTo>
                  <a:pt x="1351" y="741"/>
                  <a:pt x="1355" y="789"/>
                  <a:pt x="1357" y="837"/>
                </a:cubicBezTo>
                <a:cubicBezTo>
                  <a:pt x="1360" y="892"/>
                  <a:pt x="1360" y="954"/>
                  <a:pt x="1379" y="1007"/>
                </a:cubicBezTo>
                <a:cubicBezTo>
                  <a:pt x="1393" y="1044"/>
                  <a:pt x="1401" y="1030"/>
                  <a:pt x="1421" y="1050"/>
                </a:cubicBezTo>
                <a:cubicBezTo>
                  <a:pt x="1515" y="986"/>
                  <a:pt x="1581" y="903"/>
                  <a:pt x="1639" y="803"/>
                </a:cubicBezTo>
                <a:cubicBezTo>
                  <a:pt x="1686" y="723"/>
                  <a:pt x="1729" y="642"/>
                  <a:pt x="1771" y="559"/>
                </a:cubicBezTo>
                <a:cubicBezTo>
                  <a:pt x="1788" y="524"/>
                  <a:pt x="1793" y="526"/>
                  <a:pt x="1810" y="508"/>
                </a:cubicBezTo>
                <a:cubicBezTo>
                  <a:pt x="1820" y="570"/>
                  <a:pt x="1829" y="633"/>
                  <a:pt x="1835" y="696"/>
                </a:cubicBezTo>
                <a:cubicBezTo>
                  <a:pt x="1845" y="806"/>
                  <a:pt x="1847" y="922"/>
                  <a:pt x="1878" y="1029"/>
                </a:cubicBezTo>
                <a:cubicBezTo>
                  <a:pt x="1890" y="1061"/>
                  <a:pt x="1893" y="1071"/>
                  <a:pt x="1908" y="1088"/>
                </a:cubicBezTo>
                <a:cubicBezTo>
                  <a:pt x="1951" y="1076"/>
                  <a:pt x="1997" y="1060"/>
                  <a:pt x="2023" y="1007"/>
                </a:cubicBezTo>
                <a:cubicBezTo>
                  <a:pt x="2030" y="982"/>
                  <a:pt x="2037" y="956"/>
                  <a:pt x="2044" y="931"/>
                </a:cubicBezTo>
              </a:path>
              <a:path w="5028" h="1691">
                <a:moveTo>
                  <a:pt x="2177" y="175"/>
                </a:moveTo>
                <a:cubicBezTo>
                  <a:pt x="2179" y="255"/>
                  <a:pt x="2182" y="334"/>
                  <a:pt x="2185" y="414"/>
                </a:cubicBezTo>
                <a:cubicBezTo>
                  <a:pt x="2187" y="457"/>
                  <a:pt x="2188" y="496"/>
                  <a:pt x="2194" y="538"/>
                </a:cubicBezTo>
                <a:cubicBezTo>
                  <a:pt x="2194" y="541"/>
                  <a:pt x="2194" y="544"/>
                  <a:pt x="2194" y="547"/>
                </a:cubicBezTo>
                <a:cubicBezTo>
                  <a:pt x="2194" y="507"/>
                  <a:pt x="2198" y="480"/>
                  <a:pt x="2194" y="440"/>
                </a:cubicBezTo>
              </a:path>
              <a:path w="5028" h="1691">
                <a:moveTo>
                  <a:pt x="2881" y="278"/>
                </a:moveTo>
                <a:cubicBezTo>
                  <a:pt x="2877" y="272"/>
                  <a:pt x="2872" y="267"/>
                  <a:pt x="2868" y="261"/>
                </a:cubicBezTo>
                <a:cubicBezTo>
                  <a:pt x="2851" y="280"/>
                  <a:pt x="2841" y="283"/>
                  <a:pt x="2825" y="303"/>
                </a:cubicBezTo>
                <a:cubicBezTo>
                  <a:pt x="2792" y="344"/>
                  <a:pt x="2760" y="385"/>
                  <a:pt x="2723" y="423"/>
                </a:cubicBezTo>
                <a:cubicBezTo>
                  <a:pt x="2677" y="471"/>
                  <a:pt x="2621" y="511"/>
                  <a:pt x="2565" y="547"/>
                </a:cubicBezTo>
                <a:cubicBezTo>
                  <a:pt x="2525" y="573"/>
                  <a:pt x="2481" y="597"/>
                  <a:pt x="2437" y="615"/>
                </a:cubicBezTo>
                <a:cubicBezTo>
                  <a:pt x="2421" y="621"/>
                  <a:pt x="2399" y="628"/>
                  <a:pt x="2386" y="636"/>
                </a:cubicBezTo>
                <a:cubicBezTo>
                  <a:pt x="2386" y="637"/>
                  <a:pt x="2386" y="639"/>
                  <a:pt x="2386" y="640"/>
                </a:cubicBezTo>
                <a:cubicBezTo>
                  <a:pt x="2414" y="648"/>
                  <a:pt x="2445" y="656"/>
                  <a:pt x="2475" y="662"/>
                </a:cubicBezTo>
                <a:cubicBezTo>
                  <a:pt x="2543" y="675"/>
                  <a:pt x="2607" y="692"/>
                  <a:pt x="2672" y="717"/>
                </a:cubicBezTo>
                <a:cubicBezTo>
                  <a:pt x="2733" y="741"/>
                  <a:pt x="2803" y="774"/>
                  <a:pt x="2813" y="845"/>
                </a:cubicBezTo>
                <a:cubicBezTo>
                  <a:pt x="2822" y="912"/>
                  <a:pt x="2774" y="957"/>
                  <a:pt x="2727" y="995"/>
                </a:cubicBezTo>
                <a:cubicBezTo>
                  <a:pt x="2690" y="1025"/>
                  <a:pt x="2634" y="1052"/>
                  <a:pt x="2586" y="1059"/>
                </a:cubicBezTo>
                <a:cubicBezTo>
                  <a:pt x="2520" y="1069"/>
                  <a:pt x="2517" y="1007"/>
                  <a:pt x="2505" y="960"/>
                </a:cubicBezTo>
              </a:path>
              <a:path w="5028" h="1691">
                <a:moveTo>
                  <a:pt x="3107" y="0"/>
                </a:moveTo>
                <a:cubicBezTo>
                  <a:pt x="3118" y="112"/>
                  <a:pt x="3122" y="224"/>
                  <a:pt x="3128" y="337"/>
                </a:cubicBezTo>
                <a:cubicBezTo>
                  <a:pt x="3133" y="432"/>
                  <a:pt x="3133" y="528"/>
                  <a:pt x="3137" y="623"/>
                </a:cubicBezTo>
                <a:cubicBezTo>
                  <a:pt x="3139" y="662"/>
                  <a:pt x="3141" y="707"/>
                  <a:pt x="3145" y="743"/>
                </a:cubicBezTo>
                <a:cubicBezTo>
                  <a:pt x="3164" y="713"/>
                  <a:pt x="3183" y="683"/>
                  <a:pt x="3201" y="653"/>
                </a:cubicBezTo>
                <a:cubicBezTo>
                  <a:pt x="3228" y="608"/>
                  <a:pt x="3259" y="563"/>
                  <a:pt x="3291" y="521"/>
                </a:cubicBezTo>
                <a:cubicBezTo>
                  <a:pt x="3306" y="502"/>
                  <a:pt x="3310" y="498"/>
                  <a:pt x="3320" y="487"/>
                </a:cubicBezTo>
                <a:cubicBezTo>
                  <a:pt x="3352" y="514"/>
                  <a:pt x="3359" y="530"/>
                  <a:pt x="3372" y="581"/>
                </a:cubicBezTo>
                <a:cubicBezTo>
                  <a:pt x="3392" y="662"/>
                  <a:pt x="3411" y="743"/>
                  <a:pt x="3431" y="824"/>
                </a:cubicBezTo>
                <a:cubicBezTo>
                  <a:pt x="3444" y="879"/>
                  <a:pt x="3458" y="930"/>
                  <a:pt x="3487" y="978"/>
                </a:cubicBezTo>
                <a:cubicBezTo>
                  <a:pt x="3535" y="939"/>
                  <a:pt x="3527" y="939"/>
                  <a:pt x="3551" y="875"/>
                </a:cubicBezTo>
              </a:path>
              <a:path w="5028" h="1691">
                <a:moveTo>
                  <a:pt x="2151" y="781"/>
                </a:moveTo>
                <a:cubicBezTo>
                  <a:pt x="2138" y="787"/>
                  <a:pt x="2150" y="804"/>
                  <a:pt x="2155" y="820"/>
                </a:cubicBezTo>
                <a:cubicBezTo>
                  <a:pt x="2164" y="847"/>
                  <a:pt x="2173" y="882"/>
                  <a:pt x="2177" y="909"/>
                </a:cubicBezTo>
                <a:cubicBezTo>
                  <a:pt x="2182" y="944"/>
                  <a:pt x="2180" y="990"/>
                  <a:pt x="2172" y="1024"/>
                </a:cubicBezTo>
                <a:cubicBezTo>
                  <a:pt x="2168" y="1040"/>
                  <a:pt x="2162" y="1056"/>
                  <a:pt x="2160" y="1071"/>
                </a:cubicBezTo>
                <a:cubicBezTo>
                  <a:pt x="2159" y="1077"/>
                  <a:pt x="2160" y="1087"/>
                  <a:pt x="2155" y="1088"/>
                </a:cubicBezTo>
                <a:cubicBezTo>
                  <a:pt x="2154" y="1087"/>
                  <a:pt x="2152" y="1085"/>
                  <a:pt x="2151" y="1084"/>
                </a:cubicBezTo>
              </a:path>
              <a:path w="5028" h="1691">
                <a:moveTo>
                  <a:pt x="3815" y="444"/>
                </a:moveTo>
                <a:cubicBezTo>
                  <a:pt x="3813" y="498"/>
                  <a:pt x="3807" y="552"/>
                  <a:pt x="3807" y="606"/>
                </a:cubicBezTo>
                <a:cubicBezTo>
                  <a:pt x="3806" y="689"/>
                  <a:pt x="3798" y="771"/>
                  <a:pt x="3798" y="854"/>
                </a:cubicBezTo>
                <a:cubicBezTo>
                  <a:pt x="3798" y="877"/>
                  <a:pt x="3775" y="961"/>
                  <a:pt x="3790" y="982"/>
                </a:cubicBezTo>
                <a:cubicBezTo>
                  <a:pt x="3790" y="988"/>
                  <a:pt x="3792" y="988"/>
                  <a:pt x="3798" y="978"/>
                </a:cubicBezTo>
              </a:path>
              <a:path w="5028" h="1691">
                <a:moveTo>
                  <a:pt x="3820" y="350"/>
                </a:moveTo>
                <a:cubicBezTo>
                  <a:pt x="3829" y="341"/>
                  <a:pt x="3833" y="336"/>
                  <a:pt x="3832" y="325"/>
                </a:cubicBezTo>
              </a:path>
              <a:path w="5028" h="1691">
                <a:moveTo>
                  <a:pt x="4306" y="636"/>
                </a:moveTo>
                <a:cubicBezTo>
                  <a:pt x="4301" y="659"/>
                  <a:pt x="4301" y="649"/>
                  <a:pt x="4293" y="666"/>
                </a:cubicBezTo>
                <a:cubicBezTo>
                  <a:pt x="4288" y="677"/>
                  <a:pt x="4280" y="690"/>
                  <a:pt x="4276" y="700"/>
                </a:cubicBezTo>
                <a:cubicBezTo>
                  <a:pt x="4271" y="711"/>
                  <a:pt x="4270" y="714"/>
                  <a:pt x="4263" y="717"/>
                </a:cubicBezTo>
                <a:cubicBezTo>
                  <a:pt x="4262" y="717"/>
                  <a:pt x="4260" y="717"/>
                  <a:pt x="4259" y="717"/>
                </a:cubicBezTo>
                <a:cubicBezTo>
                  <a:pt x="4260" y="692"/>
                  <a:pt x="4267" y="673"/>
                  <a:pt x="4272" y="649"/>
                </a:cubicBezTo>
                <a:cubicBezTo>
                  <a:pt x="4288" y="566"/>
                  <a:pt x="4309" y="485"/>
                  <a:pt x="4340" y="406"/>
                </a:cubicBezTo>
                <a:cubicBezTo>
                  <a:pt x="4350" y="380"/>
                  <a:pt x="4365" y="343"/>
                  <a:pt x="4391" y="329"/>
                </a:cubicBezTo>
                <a:cubicBezTo>
                  <a:pt x="4417" y="315"/>
                  <a:pt x="4464" y="361"/>
                  <a:pt x="4477" y="376"/>
                </a:cubicBezTo>
                <a:cubicBezTo>
                  <a:pt x="4529" y="435"/>
                  <a:pt x="4565" y="509"/>
                  <a:pt x="4596" y="581"/>
                </a:cubicBezTo>
                <a:cubicBezTo>
                  <a:pt x="4614" y="623"/>
                  <a:pt x="4628" y="668"/>
                  <a:pt x="4648" y="709"/>
                </a:cubicBezTo>
                <a:cubicBezTo>
                  <a:pt x="4656" y="721"/>
                  <a:pt x="4658" y="725"/>
                  <a:pt x="4660" y="734"/>
                </a:cubicBezTo>
                <a:cubicBezTo>
                  <a:pt x="4677" y="717"/>
                  <a:pt x="4684" y="712"/>
                  <a:pt x="4707" y="696"/>
                </a:cubicBezTo>
              </a:path>
              <a:path w="5028" h="1691">
                <a:moveTo>
                  <a:pt x="4997" y="721"/>
                </a:moveTo>
                <a:cubicBezTo>
                  <a:pt x="5002" y="718"/>
                  <a:pt x="5000" y="761"/>
                  <a:pt x="5019" y="700"/>
                </a:cubicBezTo>
                <a:cubicBezTo>
                  <a:pt x="5039" y="636"/>
                  <a:pt x="5029" y="553"/>
                  <a:pt x="5027" y="487"/>
                </a:cubicBezTo>
                <a:cubicBezTo>
                  <a:pt x="5024" y="400"/>
                  <a:pt x="5010" y="308"/>
                  <a:pt x="4980" y="226"/>
                </a:cubicBezTo>
                <a:cubicBezTo>
                  <a:pt x="4958" y="167"/>
                  <a:pt x="4946" y="169"/>
                  <a:pt x="4904" y="158"/>
                </a:cubicBezTo>
                <a:cubicBezTo>
                  <a:pt x="4853" y="220"/>
                  <a:pt x="4835" y="282"/>
                  <a:pt x="4810" y="359"/>
                </a:cubicBezTo>
                <a:cubicBezTo>
                  <a:pt x="4778" y="458"/>
                  <a:pt x="4752" y="553"/>
                  <a:pt x="4741" y="657"/>
                </a:cubicBezTo>
                <a:cubicBezTo>
                  <a:pt x="4736" y="707"/>
                  <a:pt x="4731" y="768"/>
                  <a:pt x="4754" y="815"/>
                </a:cubicBezTo>
                <a:cubicBezTo>
                  <a:pt x="4758" y="817"/>
                  <a:pt x="4763" y="818"/>
                  <a:pt x="4767" y="820"/>
                </a:cubicBezTo>
                <a:cubicBezTo>
                  <a:pt x="4801" y="797"/>
                  <a:pt x="4820" y="785"/>
                  <a:pt x="4848" y="751"/>
                </a:cubicBezTo>
                <a:cubicBezTo>
                  <a:pt x="4876" y="717"/>
                  <a:pt x="4897" y="681"/>
                  <a:pt x="4921" y="645"/>
                </a:cubicBezTo>
                <a:cubicBezTo>
                  <a:pt x="4929" y="633"/>
                  <a:pt x="4931" y="629"/>
                  <a:pt x="4938" y="623"/>
                </a:cubicBezTo>
                <a:cubicBezTo>
                  <a:pt x="4937" y="659"/>
                  <a:pt x="4934" y="704"/>
                  <a:pt x="4933" y="743"/>
                </a:cubicBezTo>
                <a:cubicBezTo>
                  <a:pt x="4929" y="864"/>
                  <a:pt x="4921" y="985"/>
                  <a:pt x="4912" y="1106"/>
                </a:cubicBezTo>
                <a:cubicBezTo>
                  <a:pt x="4902" y="1237"/>
                  <a:pt x="4886" y="1362"/>
                  <a:pt x="4857" y="1490"/>
                </a:cubicBezTo>
                <a:cubicBezTo>
                  <a:pt x="4840" y="1564"/>
                  <a:pt x="4824" y="1629"/>
                  <a:pt x="4758" y="1673"/>
                </a:cubicBezTo>
                <a:cubicBezTo>
                  <a:pt x="4705" y="1708"/>
                  <a:pt x="4642" y="1678"/>
                  <a:pt x="4596" y="1643"/>
                </a:cubicBezTo>
                <a:cubicBezTo>
                  <a:pt x="4506" y="1575"/>
                  <a:pt x="4440" y="1486"/>
                  <a:pt x="4374" y="1396"/>
                </a:cubicBezTo>
                <a:cubicBezTo>
                  <a:pt x="4343" y="1354"/>
                  <a:pt x="4315" y="1308"/>
                  <a:pt x="4285" y="126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1" name="Freeform 12"/>
          <p:cNvSpPr/>
          <p:nvPr/>
        </p:nvSpPr>
        <p:spPr>
          <a:xfrm>
            <a:off x="5425920" y="463680"/>
            <a:ext cx="1100160" cy="536400"/>
          </a:xfrm>
          <a:custGeom>
            <a:avLst/>
            <a:gdLst/>
            <a:ahLst/>
            <a:rect l="l" t="t" r="r" b="b"/>
            <a:pathLst>
              <a:path w="3056" h="1491">
                <a:moveTo>
                  <a:pt x="320" y="598"/>
                </a:moveTo>
                <a:cubicBezTo>
                  <a:pt x="288" y="624"/>
                  <a:pt x="274" y="641"/>
                  <a:pt x="264" y="696"/>
                </a:cubicBezTo>
                <a:cubicBezTo>
                  <a:pt x="244" y="802"/>
                  <a:pt x="231" y="913"/>
                  <a:pt x="222" y="1020"/>
                </a:cubicBezTo>
                <a:cubicBezTo>
                  <a:pt x="213" y="1132"/>
                  <a:pt x="205" y="1245"/>
                  <a:pt x="209" y="1357"/>
                </a:cubicBezTo>
                <a:cubicBezTo>
                  <a:pt x="211" y="1401"/>
                  <a:pt x="214" y="1446"/>
                  <a:pt x="217" y="1490"/>
                </a:cubicBezTo>
                <a:cubicBezTo>
                  <a:pt x="216" y="1467"/>
                  <a:pt x="213" y="1415"/>
                  <a:pt x="209" y="1383"/>
                </a:cubicBezTo>
                <a:cubicBezTo>
                  <a:pt x="193" y="1270"/>
                  <a:pt x="172" y="1157"/>
                  <a:pt x="149" y="1046"/>
                </a:cubicBezTo>
                <a:cubicBezTo>
                  <a:pt x="121" y="909"/>
                  <a:pt x="88" y="771"/>
                  <a:pt x="51" y="636"/>
                </a:cubicBezTo>
                <a:cubicBezTo>
                  <a:pt x="34" y="572"/>
                  <a:pt x="10" y="506"/>
                  <a:pt x="0" y="440"/>
                </a:cubicBezTo>
                <a:cubicBezTo>
                  <a:pt x="1" y="437"/>
                  <a:pt x="3" y="434"/>
                  <a:pt x="4" y="431"/>
                </a:cubicBezTo>
                <a:cubicBezTo>
                  <a:pt x="43" y="432"/>
                  <a:pt x="80" y="438"/>
                  <a:pt x="119" y="436"/>
                </a:cubicBezTo>
                <a:cubicBezTo>
                  <a:pt x="297" y="429"/>
                  <a:pt x="467" y="373"/>
                  <a:pt x="640" y="342"/>
                </a:cubicBezTo>
                <a:cubicBezTo>
                  <a:pt x="646" y="342"/>
                  <a:pt x="651" y="342"/>
                  <a:pt x="657" y="342"/>
                </a:cubicBezTo>
                <a:cubicBezTo>
                  <a:pt x="632" y="374"/>
                  <a:pt x="606" y="411"/>
                  <a:pt x="576" y="444"/>
                </a:cubicBezTo>
                <a:cubicBezTo>
                  <a:pt x="500" y="527"/>
                  <a:pt x="429" y="613"/>
                  <a:pt x="354" y="696"/>
                </a:cubicBezTo>
                <a:cubicBezTo>
                  <a:pt x="281" y="777"/>
                  <a:pt x="211" y="859"/>
                  <a:pt x="166" y="956"/>
                </a:cubicBezTo>
                <a:cubicBezTo>
                  <a:pt x="217" y="929"/>
                  <a:pt x="264" y="896"/>
                  <a:pt x="311" y="854"/>
                </a:cubicBezTo>
                <a:cubicBezTo>
                  <a:pt x="457" y="723"/>
                  <a:pt x="580" y="567"/>
                  <a:pt x="725" y="436"/>
                </a:cubicBezTo>
                <a:cubicBezTo>
                  <a:pt x="750" y="418"/>
                  <a:pt x="754" y="413"/>
                  <a:pt x="772" y="406"/>
                </a:cubicBezTo>
                <a:cubicBezTo>
                  <a:pt x="782" y="460"/>
                  <a:pt x="780" y="493"/>
                  <a:pt x="772" y="551"/>
                </a:cubicBezTo>
                <a:cubicBezTo>
                  <a:pt x="760" y="638"/>
                  <a:pt x="747" y="728"/>
                  <a:pt x="742" y="815"/>
                </a:cubicBezTo>
                <a:cubicBezTo>
                  <a:pt x="739" y="875"/>
                  <a:pt x="734" y="944"/>
                  <a:pt x="764" y="999"/>
                </a:cubicBezTo>
                <a:cubicBezTo>
                  <a:pt x="771" y="1003"/>
                  <a:pt x="778" y="1008"/>
                  <a:pt x="785" y="1012"/>
                </a:cubicBezTo>
                <a:cubicBezTo>
                  <a:pt x="845" y="997"/>
                  <a:pt x="877" y="987"/>
                  <a:pt x="926" y="939"/>
                </a:cubicBezTo>
                <a:cubicBezTo>
                  <a:pt x="992" y="874"/>
                  <a:pt x="1045" y="777"/>
                  <a:pt x="1079" y="692"/>
                </a:cubicBezTo>
                <a:cubicBezTo>
                  <a:pt x="1109" y="617"/>
                  <a:pt x="1120" y="522"/>
                  <a:pt x="1092" y="444"/>
                </a:cubicBezTo>
                <a:cubicBezTo>
                  <a:pt x="1059" y="351"/>
                  <a:pt x="950" y="348"/>
                  <a:pt x="879" y="397"/>
                </a:cubicBezTo>
                <a:cubicBezTo>
                  <a:pt x="831" y="430"/>
                  <a:pt x="772" y="507"/>
                  <a:pt x="772" y="568"/>
                </a:cubicBezTo>
                <a:cubicBezTo>
                  <a:pt x="779" y="591"/>
                  <a:pt x="775" y="604"/>
                  <a:pt x="789" y="594"/>
                </a:cubicBezTo>
              </a:path>
              <a:path w="3056" h="1491">
                <a:moveTo>
                  <a:pt x="1455" y="636"/>
                </a:moveTo>
                <a:cubicBezTo>
                  <a:pt x="1471" y="733"/>
                  <a:pt x="1481" y="828"/>
                  <a:pt x="1489" y="926"/>
                </a:cubicBezTo>
                <a:cubicBezTo>
                  <a:pt x="1492" y="962"/>
                  <a:pt x="1496" y="997"/>
                  <a:pt x="1498" y="1033"/>
                </a:cubicBezTo>
                <a:cubicBezTo>
                  <a:pt x="1498" y="982"/>
                  <a:pt x="1496" y="920"/>
                  <a:pt x="1493" y="867"/>
                </a:cubicBezTo>
              </a:path>
              <a:path w="3056" h="1491">
                <a:moveTo>
                  <a:pt x="1271" y="256"/>
                </a:moveTo>
                <a:cubicBezTo>
                  <a:pt x="1283" y="272"/>
                  <a:pt x="1312" y="329"/>
                  <a:pt x="1344" y="299"/>
                </a:cubicBezTo>
                <a:cubicBezTo>
                  <a:pt x="1348" y="289"/>
                  <a:pt x="1353" y="279"/>
                  <a:pt x="1357" y="269"/>
                </a:cubicBezTo>
              </a:path>
              <a:path w="3056" h="1491">
                <a:moveTo>
                  <a:pt x="1783" y="653"/>
                </a:moveTo>
                <a:cubicBezTo>
                  <a:pt x="1799" y="738"/>
                  <a:pt x="1817" y="821"/>
                  <a:pt x="1835" y="905"/>
                </a:cubicBezTo>
                <a:cubicBezTo>
                  <a:pt x="1840" y="929"/>
                  <a:pt x="1845" y="950"/>
                  <a:pt x="1852" y="973"/>
                </a:cubicBezTo>
                <a:cubicBezTo>
                  <a:pt x="1860" y="943"/>
                  <a:pt x="1868" y="898"/>
                  <a:pt x="1873" y="862"/>
                </a:cubicBezTo>
                <a:cubicBezTo>
                  <a:pt x="1892" y="734"/>
                  <a:pt x="1904" y="604"/>
                  <a:pt x="1937" y="478"/>
                </a:cubicBezTo>
                <a:cubicBezTo>
                  <a:pt x="1949" y="444"/>
                  <a:pt x="1952" y="436"/>
                  <a:pt x="1958" y="414"/>
                </a:cubicBezTo>
                <a:cubicBezTo>
                  <a:pt x="1993" y="423"/>
                  <a:pt x="1993" y="432"/>
                  <a:pt x="2010" y="487"/>
                </a:cubicBezTo>
                <a:cubicBezTo>
                  <a:pt x="2037" y="575"/>
                  <a:pt x="2051" y="666"/>
                  <a:pt x="2069" y="756"/>
                </a:cubicBezTo>
                <a:cubicBezTo>
                  <a:pt x="2083" y="828"/>
                  <a:pt x="2094" y="914"/>
                  <a:pt x="2121" y="982"/>
                </a:cubicBezTo>
                <a:cubicBezTo>
                  <a:pt x="2125" y="988"/>
                  <a:pt x="2129" y="993"/>
                  <a:pt x="2133" y="999"/>
                </a:cubicBezTo>
                <a:cubicBezTo>
                  <a:pt x="2165" y="933"/>
                  <a:pt x="2182" y="871"/>
                  <a:pt x="2202" y="798"/>
                </a:cubicBezTo>
                <a:cubicBezTo>
                  <a:pt x="2233" y="687"/>
                  <a:pt x="2245" y="646"/>
                  <a:pt x="2257" y="568"/>
                </a:cubicBezTo>
              </a:path>
              <a:path w="3056" h="1491">
                <a:moveTo>
                  <a:pt x="2539" y="94"/>
                </a:moveTo>
                <a:cubicBezTo>
                  <a:pt x="2524" y="302"/>
                  <a:pt x="2505" y="509"/>
                  <a:pt x="2488" y="717"/>
                </a:cubicBezTo>
                <a:cubicBezTo>
                  <a:pt x="2479" y="820"/>
                  <a:pt x="2477" y="930"/>
                  <a:pt x="2466" y="1029"/>
                </a:cubicBezTo>
                <a:cubicBezTo>
                  <a:pt x="2457" y="950"/>
                  <a:pt x="2444" y="873"/>
                  <a:pt x="2432" y="794"/>
                </a:cubicBezTo>
                <a:cubicBezTo>
                  <a:pt x="2410" y="645"/>
                  <a:pt x="2384" y="497"/>
                  <a:pt x="2351" y="350"/>
                </a:cubicBezTo>
                <a:cubicBezTo>
                  <a:pt x="2328" y="248"/>
                  <a:pt x="2310" y="133"/>
                  <a:pt x="2270" y="35"/>
                </a:cubicBezTo>
                <a:cubicBezTo>
                  <a:pt x="2256" y="11"/>
                  <a:pt x="2257" y="3"/>
                  <a:pt x="2240" y="0"/>
                </a:cubicBezTo>
                <a:cubicBezTo>
                  <a:pt x="2221" y="42"/>
                  <a:pt x="2208" y="74"/>
                  <a:pt x="2206" y="124"/>
                </a:cubicBezTo>
                <a:cubicBezTo>
                  <a:pt x="2203" y="195"/>
                  <a:pt x="2204" y="256"/>
                  <a:pt x="2236" y="320"/>
                </a:cubicBezTo>
                <a:cubicBezTo>
                  <a:pt x="2272" y="393"/>
                  <a:pt x="2345" y="405"/>
                  <a:pt x="2419" y="384"/>
                </a:cubicBezTo>
                <a:cubicBezTo>
                  <a:pt x="2498" y="361"/>
                  <a:pt x="2565" y="316"/>
                  <a:pt x="2628" y="265"/>
                </a:cubicBezTo>
                <a:cubicBezTo>
                  <a:pt x="2681" y="222"/>
                  <a:pt x="2726" y="175"/>
                  <a:pt x="2782" y="137"/>
                </a:cubicBezTo>
                <a:cubicBezTo>
                  <a:pt x="2819" y="112"/>
                  <a:pt x="2857" y="113"/>
                  <a:pt x="2893" y="141"/>
                </a:cubicBezTo>
                <a:cubicBezTo>
                  <a:pt x="2926" y="167"/>
                  <a:pt x="2958" y="206"/>
                  <a:pt x="2983" y="239"/>
                </a:cubicBezTo>
                <a:cubicBezTo>
                  <a:pt x="2999" y="261"/>
                  <a:pt x="3016" y="285"/>
                  <a:pt x="3030" y="308"/>
                </a:cubicBezTo>
                <a:cubicBezTo>
                  <a:pt x="3030" y="309"/>
                  <a:pt x="3030" y="311"/>
                  <a:pt x="3030" y="312"/>
                </a:cubicBezTo>
                <a:cubicBezTo>
                  <a:pt x="3023" y="314"/>
                  <a:pt x="3000" y="318"/>
                  <a:pt x="2987" y="320"/>
                </a:cubicBezTo>
                <a:cubicBezTo>
                  <a:pt x="2949" y="326"/>
                  <a:pt x="2908" y="332"/>
                  <a:pt x="2872" y="346"/>
                </a:cubicBezTo>
                <a:cubicBezTo>
                  <a:pt x="2835" y="360"/>
                  <a:pt x="2808" y="378"/>
                  <a:pt x="2791" y="414"/>
                </a:cubicBezTo>
                <a:cubicBezTo>
                  <a:pt x="2770" y="457"/>
                  <a:pt x="2813" y="516"/>
                  <a:pt x="2833" y="551"/>
                </a:cubicBezTo>
                <a:cubicBezTo>
                  <a:pt x="2868" y="613"/>
                  <a:pt x="2922" y="661"/>
                  <a:pt x="2970" y="713"/>
                </a:cubicBezTo>
                <a:cubicBezTo>
                  <a:pt x="3003" y="748"/>
                  <a:pt x="3050" y="795"/>
                  <a:pt x="3055" y="845"/>
                </a:cubicBezTo>
                <a:cubicBezTo>
                  <a:pt x="3061" y="907"/>
                  <a:pt x="2987" y="961"/>
                  <a:pt x="2936" y="978"/>
                </a:cubicBezTo>
                <a:cubicBezTo>
                  <a:pt x="2872" y="999"/>
                  <a:pt x="2820" y="996"/>
                  <a:pt x="2756" y="990"/>
                </a:cubicBezTo>
                <a:cubicBezTo>
                  <a:pt x="2748" y="990"/>
                  <a:pt x="2739" y="990"/>
                  <a:pt x="2731" y="99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6918480" y="1082520"/>
            <a:ext cx="1414440" cy="414360"/>
          </a:xfrm>
          <a:custGeom>
            <a:avLst/>
            <a:gdLst/>
            <a:ahLst/>
            <a:rect l="l" t="t" r="r" b="b"/>
            <a:pathLst>
              <a:path w="3932" h="1149">
                <a:moveTo>
                  <a:pt x="43" y="167"/>
                </a:moveTo>
                <a:cubicBezTo>
                  <a:pt x="24" y="153"/>
                  <a:pt x="16" y="150"/>
                  <a:pt x="0" y="141"/>
                </a:cubicBezTo>
                <a:cubicBezTo>
                  <a:pt x="26" y="123"/>
                  <a:pt x="42" y="99"/>
                  <a:pt x="77" y="81"/>
                </a:cubicBezTo>
                <a:cubicBezTo>
                  <a:pt x="176" y="29"/>
                  <a:pt x="285" y="6"/>
                  <a:pt x="397" y="0"/>
                </a:cubicBezTo>
                <a:cubicBezTo>
                  <a:pt x="978" y="-33"/>
                  <a:pt x="1586" y="158"/>
                  <a:pt x="2134" y="324"/>
                </a:cubicBezTo>
                <a:cubicBezTo>
                  <a:pt x="2603" y="467"/>
                  <a:pt x="3094" y="595"/>
                  <a:pt x="3542" y="798"/>
                </a:cubicBezTo>
                <a:cubicBezTo>
                  <a:pt x="3673" y="857"/>
                  <a:pt x="3833" y="927"/>
                  <a:pt x="3914" y="1054"/>
                </a:cubicBezTo>
                <a:cubicBezTo>
                  <a:pt x="3926" y="1074"/>
                  <a:pt x="3921" y="1083"/>
                  <a:pt x="3926" y="1097"/>
                </a:cubicBezTo>
                <a:cubicBezTo>
                  <a:pt x="3922" y="1101"/>
                  <a:pt x="3922" y="1102"/>
                  <a:pt x="3918" y="1101"/>
                </a:cubicBezTo>
                <a:cubicBezTo>
                  <a:pt x="3904" y="1091"/>
                  <a:pt x="3878" y="1085"/>
                  <a:pt x="3862" y="1071"/>
                </a:cubicBezTo>
                <a:cubicBezTo>
                  <a:pt x="3657" y="891"/>
                  <a:pt x="3469" y="692"/>
                  <a:pt x="3261" y="516"/>
                </a:cubicBezTo>
                <a:cubicBezTo>
                  <a:pt x="3258" y="515"/>
                  <a:pt x="3255" y="513"/>
                  <a:pt x="3252" y="512"/>
                </a:cubicBezTo>
                <a:cubicBezTo>
                  <a:pt x="3262" y="519"/>
                  <a:pt x="3269" y="518"/>
                  <a:pt x="3278" y="525"/>
                </a:cubicBezTo>
                <a:cubicBezTo>
                  <a:pt x="3354" y="582"/>
                  <a:pt x="3419" y="644"/>
                  <a:pt x="3483" y="717"/>
                </a:cubicBezTo>
                <a:cubicBezTo>
                  <a:pt x="3545" y="788"/>
                  <a:pt x="3597" y="862"/>
                  <a:pt x="3645" y="943"/>
                </a:cubicBezTo>
                <a:cubicBezTo>
                  <a:pt x="3676" y="996"/>
                  <a:pt x="3711" y="1061"/>
                  <a:pt x="3730" y="1118"/>
                </a:cubicBezTo>
                <a:cubicBezTo>
                  <a:pt x="3729" y="1124"/>
                  <a:pt x="3727" y="1129"/>
                  <a:pt x="3726" y="1135"/>
                </a:cubicBezTo>
                <a:cubicBezTo>
                  <a:pt x="3698" y="1135"/>
                  <a:pt x="3668" y="1150"/>
                  <a:pt x="3632" y="1144"/>
                </a:cubicBezTo>
                <a:cubicBezTo>
                  <a:pt x="3552" y="1132"/>
                  <a:pt x="3470" y="1109"/>
                  <a:pt x="3389" y="1097"/>
                </a:cubicBezTo>
                <a:cubicBezTo>
                  <a:pt x="3268" y="1079"/>
                  <a:pt x="3156" y="1093"/>
                  <a:pt x="3034" y="1101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3" name="Freeform 14"/>
          <p:cNvSpPr/>
          <p:nvPr/>
        </p:nvSpPr>
        <p:spPr>
          <a:xfrm>
            <a:off x="3200400" y="644400"/>
            <a:ext cx="12600" cy="244440"/>
          </a:xfrm>
          <a:custGeom>
            <a:avLst/>
            <a:gdLst/>
            <a:ahLst/>
            <a:rect l="l" t="t" r="r" b="b"/>
            <a:pathLst>
              <a:path w="35" h="679">
                <a:moveTo>
                  <a:pt x="9" y="4"/>
                </a:moveTo>
                <a:cubicBezTo>
                  <a:pt x="5" y="10"/>
                  <a:pt x="4" y="1"/>
                  <a:pt x="4" y="8"/>
                </a:cubicBezTo>
                <a:cubicBezTo>
                  <a:pt x="3" y="27"/>
                  <a:pt x="0" y="45"/>
                  <a:pt x="0" y="64"/>
                </a:cubicBezTo>
                <a:cubicBezTo>
                  <a:pt x="-1" y="144"/>
                  <a:pt x="-1" y="224"/>
                  <a:pt x="4" y="303"/>
                </a:cubicBezTo>
                <a:cubicBezTo>
                  <a:pt x="9" y="380"/>
                  <a:pt x="9" y="456"/>
                  <a:pt x="17" y="533"/>
                </a:cubicBezTo>
                <a:cubicBezTo>
                  <a:pt x="21" y="572"/>
                  <a:pt x="27" y="611"/>
                  <a:pt x="30" y="649"/>
                </a:cubicBezTo>
                <a:cubicBezTo>
                  <a:pt x="30" y="651"/>
                  <a:pt x="37" y="676"/>
                  <a:pt x="34" y="678"/>
                </a:cubicBezTo>
                <a:cubicBezTo>
                  <a:pt x="29" y="682"/>
                  <a:pt x="31" y="674"/>
                  <a:pt x="26" y="67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493560" y="973080"/>
            <a:ext cx="1660680" cy="928800"/>
          </a:xfrm>
          <a:custGeom>
            <a:avLst/>
            <a:gdLst/>
            <a:ahLst/>
            <a:rect l="l" t="t" r="r" b="b"/>
            <a:pathLst>
              <a:path w="4614" h="2579">
                <a:moveTo>
                  <a:pt x="4613" y="21"/>
                </a:moveTo>
                <a:cubicBezTo>
                  <a:pt x="4587" y="18"/>
                  <a:pt x="4549" y="11"/>
                  <a:pt x="4519" y="9"/>
                </a:cubicBezTo>
                <a:cubicBezTo>
                  <a:pt x="4448" y="3"/>
                  <a:pt x="4378" y="0"/>
                  <a:pt x="4306" y="0"/>
                </a:cubicBezTo>
                <a:cubicBezTo>
                  <a:pt x="4199" y="0"/>
                  <a:pt x="4088" y="5"/>
                  <a:pt x="3982" y="21"/>
                </a:cubicBezTo>
                <a:cubicBezTo>
                  <a:pt x="3553" y="84"/>
                  <a:pt x="3145" y="236"/>
                  <a:pt x="2761" y="435"/>
                </a:cubicBezTo>
                <a:cubicBezTo>
                  <a:pt x="1867" y="897"/>
                  <a:pt x="1192" y="1578"/>
                  <a:pt x="435" y="2215"/>
                </a:cubicBezTo>
                <a:cubicBezTo>
                  <a:pt x="352" y="2285"/>
                  <a:pt x="265" y="2347"/>
                  <a:pt x="171" y="2398"/>
                </a:cubicBezTo>
                <a:cubicBezTo>
                  <a:pt x="156" y="2406"/>
                  <a:pt x="137" y="2413"/>
                  <a:pt x="124" y="2420"/>
                </a:cubicBezTo>
                <a:cubicBezTo>
                  <a:pt x="117" y="2423"/>
                  <a:pt x="116" y="2425"/>
                  <a:pt x="111" y="2424"/>
                </a:cubicBezTo>
                <a:cubicBezTo>
                  <a:pt x="111" y="2408"/>
                  <a:pt x="111" y="2390"/>
                  <a:pt x="111" y="2373"/>
                </a:cubicBezTo>
                <a:cubicBezTo>
                  <a:pt x="110" y="2246"/>
                  <a:pt x="115" y="2118"/>
                  <a:pt x="102" y="1993"/>
                </a:cubicBezTo>
                <a:cubicBezTo>
                  <a:pt x="100" y="1978"/>
                  <a:pt x="96" y="1982"/>
                  <a:pt x="94" y="1967"/>
                </a:cubicBezTo>
                <a:cubicBezTo>
                  <a:pt x="89" y="1988"/>
                  <a:pt x="79" y="2009"/>
                  <a:pt x="73" y="2031"/>
                </a:cubicBezTo>
                <a:cubicBezTo>
                  <a:pt x="50" y="2112"/>
                  <a:pt x="30" y="2197"/>
                  <a:pt x="17" y="2279"/>
                </a:cubicBezTo>
                <a:cubicBezTo>
                  <a:pt x="5" y="2359"/>
                  <a:pt x="-34" y="2516"/>
                  <a:pt x="43" y="2573"/>
                </a:cubicBezTo>
                <a:cubicBezTo>
                  <a:pt x="140" y="2645"/>
                  <a:pt x="376" y="2445"/>
                  <a:pt x="444" y="2407"/>
                </a:cubicBezTo>
                <a:cubicBezTo>
                  <a:pt x="474" y="2391"/>
                  <a:pt x="503" y="2376"/>
                  <a:pt x="533" y="236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Freeform 16"/>
          <p:cNvSpPr/>
          <p:nvPr/>
        </p:nvSpPr>
        <p:spPr>
          <a:xfrm>
            <a:off x="6230880" y="2617920"/>
            <a:ext cx="125640" cy="182520"/>
          </a:xfrm>
          <a:custGeom>
            <a:avLst/>
            <a:gdLst/>
            <a:ahLst/>
            <a:rect l="l" t="t" r="r" b="b"/>
            <a:pathLst>
              <a:path w="346" h="509">
                <a:moveTo>
                  <a:pt x="13" y="4"/>
                </a:moveTo>
                <a:cubicBezTo>
                  <a:pt x="1" y="8"/>
                  <a:pt x="-1" y="0"/>
                  <a:pt x="17" y="9"/>
                </a:cubicBezTo>
                <a:cubicBezTo>
                  <a:pt x="40" y="21"/>
                  <a:pt x="59" y="27"/>
                  <a:pt x="85" y="34"/>
                </a:cubicBezTo>
                <a:cubicBezTo>
                  <a:pt x="132" y="46"/>
                  <a:pt x="179" y="47"/>
                  <a:pt x="226" y="56"/>
                </a:cubicBezTo>
                <a:cubicBezTo>
                  <a:pt x="254" y="61"/>
                  <a:pt x="303" y="66"/>
                  <a:pt x="328" y="81"/>
                </a:cubicBezTo>
                <a:cubicBezTo>
                  <a:pt x="354" y="97"/>
                  <a:pt x="347" y="129"/>
                  <a:pt x="333" y="150"/>
                </a:cubicBezTo>
                <a:cubicBezTo>
                  <a:pt x="299" y="201"/>
                  <a:pt x="253" y="244"/>
                  <a:pt x="213" y="290"/>
                </a:cubicBezTo>
                <a:cubicBezTo>
                  <a:pt x="166" y="344"/>
                  <a:pt x="102" y="397"/>
                  <a:pt x="60" y="453"/>
                </a:cubicBezTo>
                <a:cubicBezTo>
                  <a:pt x="39" y="493"/>
                  <a:pt x="34" y="506"/>
                  <a:pt x="0" y="50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6" name="Freeform 17"/>
          <p:cNvSpPr/>
          <p:nvPr/>
        </p:nvSpPr>
        <p:spPr>
          <a:xfrm>
            <a:off x="4521240" y="3691080"/>
            <a:ext cx="665280" cy="368280"/>
          </a:xfrm>
          <a:custGeom>
            <a:avLst/>
            <a:gdLst/>
            <a:ahLst/>
            <a:rect l="l" t="t" r="r" b="b"/>
            <a:pathLst>
              <a:path w="1849" h="1021">
                <a:moveTo>
                  <a:pt x="226" y="593"/>
                </a:moveTo>
                <a:cubicBezTo>
                  <a:pt x="395" y="573"/>
                  <a:pt x="561" y="533"/>
                  <a:pt x="726" y="491"/>
                </a:cubicBezTo>
                <a:cubicBezTo>
                  <a:pt x="865" y="456"/>
                  <a:pt x="1002" y="416"/>
                  <a:pt x="1140" y="380"/>
                </a:cubicBezTo>
                <a:cubicBezTo>
                  <a:pt x="1248" y="352"/>
                  <a:pt x="1356" y="322"/>
                  <a:pt x="1464" y="295"/>
                </a:cubicBezTo>
                <a:cubicBezTo>
                  <a:pt x="1518" y="282"/>
                  <a:pt x="1575" y="268"/>
                  <a:pt x="1630" y="260"/>
                </a:cubicBezTo>
                <a:cubicBezTo>
                  <a:pt x="1660" y="255"/>
                  <a:pt x="1691" y="258"/>
                  <a:pt x="1720" y="256"/>
                </a:cubicBezTo>
                <a:cubicBezTo>
                  <a:pt x="1732" y="255"/>
                  <a:pt x="1746" y="253"/>
                  <a:pt x="1758" y="252"/>
                </a:cubicBezTo>
                <a:cubicBezTo>
                  <a:pt x="1757" y="251"/>
                  <a:pt x="1753" y="230"/>
                  <a:pt x="1746" y="222"/>
                </a:cubicBezTo>
                <a:cubicBezTo>
                  <a:pt x="1721" y="191"/>
                  <a:pt x="1686" y="168"/>
                  <a:pt x="1656" y="141"/>
                </a:cubicBezTo>
                <a:cubicBezTo>
                  <a:pt x="1617" y="106"/>
                  <a:pt x="1577" y="83"/>
                  <a:pt x="1532" y="56"/>
                </a:cubicBezTo>
                <a:cubicBezTo>
                  <a:pt x="1499" y="36"/>
                  <a:pt x="1468" y="23"/>
                  <a:pt x="1434" y="9"/>
                </a:cubicBezTo>
                <a:cubicBezTo>
                  <a:pt x="1422" y="1"/>
                  <a:pt x="1418" y="-2"/>
                  <a:pt x="1408" y="0"/>
                </a:cubicBezTo>
                <a:cubicBezTo>
                  <a:pt x="1425" y="11"/>
                  <a:pt x="1442" y="20"/>
                  <a:pt x="1464" y="30"/>
                </a:cubicBezTo>
                <a:cubicBezTo>
                  <a:pt x="1515" y="53"/>
                  <a:pt x="1567" y="75"/>
                  <a:pt x="1622" y="90"/>
                </a:cubicBezTo>
                <a:cubicBezTo>
                  <a:pt x="1679" y="106"/>
                  <a:pt x="1739" y="114"/>
                  <a:pt x="1797" y="124"/>
                </a:cubicBezTo>
                <a:cubicBezTo>
                  <a:pt x="1819" y="128"/>
                  <a:pt x="1825" y="128"/>
                  <a:pt x="1839" y="132"/>
                </a:cubicBezTo>
                <a:cubicBezTo>
                  <a:pt x="1837" y="174"/>
                  <a:pt x="1846" y="181"/>
                  <a:pt x="1814" y="226"/>
                </a:cubicBezTo>
                <a:cubicBezTo>
                  <a:pt x="1751" y="314"/>
                  <a:pt x="1672" y="389"/>
                  <a:pt x="1583" y="444"/>
                </a:cubicBezTo>
              </a:path>
              <a:path w="1849" h="1021">
                <a:moveTo>
                  <a:pt x="26" y="495"/>
                </a:moveTo>
                <a:cubicBezTo>
                  <a:pt x="22" y="498"/>
                  <a:pt x="18" y="501"/>
                  <a:pt x="13" y="504"/>
                </a:cubicBezTo>
                <a:cubicBezTo>
                  <a:pt x="3" y="510"/>
                  <a:pt x="2" y="511"/>
                  <a:pt x="0" y="521"/>
                </a:cubicBezTo>
                <a:cubicBezTo>
                  <a:pt x="-5" y="544"/>
                  <a:pt x="2" y="568"/>
                  <a:pt x="9" y="589"/>
                </a:cubicBezTo>
                <a:cubicBezTo>
                  <a:pt x="28" y="646"/>
                  <a:pt x="70" y="697"/>
                  <a:pt x="107" y="743"/>
                </a:cubicBezTo>
                <a:cubicBezTo>
                  <a:pt x="148" y="795"/>
                  <a:pt x="192" y="842"/>
                  <a:pt x="239" y="888"/>
                </a:cubicBezTo>
                <a:cubicBezTo>
                  <a:pt x="270" y="918"/>
                  <a:pt x="298" y="951"/>
                  <a:pt x="324" y="986"/>
                </a:cubicBezTo>
                <a:cubicBezTo>
                  <a:pt x="333" y="998"/>
                  <a:pt x="345" y="1011"/>
                  <a:pt x="354" y="1020"/>
                </a:cubicBezTo>
                <a:cubicBezTo>
                  <a:pt x="346" y="997"/>
                  <a:pt x="342" y="974"/>
                  <a:pt x="329" y="952"/>
                </a:cubicBezTo>
                <a:cubicBezTo>
                  <a:pt x="296" y="895"/>
                  <a:pt x="266" y="836"/>
                  <a:pt x="235" y="777"/>
                </a:cubicBezTo>
                <a:cubicBezTo>
                  <a:pt x="204" y="718"/>
                  <a:pt x="166" y="657"/>
                  <a:pt x="124" y="606"/>
                </a:cubicBezTo>
                <a:cubicBezTo>
                  <a:pt x="104" y="582"/>
                  <a:pt x="77" y="555"/>
                  <a:pt x="51" y="538"/>
                </a:cubicBezTo>
                <a:cubicBezTo>
                  <a:pt x="36" y="529"/>
                  <a:pt x="36" y="532"/>
                  <a:pt x="22" y="529"/>
                </a:cubicBezTo>
                <a:cubicBezTo>
                  <a:pt x="35" y="522"/>
                  <a:pt x="44" y="514"/>
                  <a:pt x="60" y="504"/>
                </a:cubicBezTo>
                <a:cubicBezTo>
                  <a:pt x="111" y="472"/>
                  <a:pt x="166" y="443"/>
                  <a:pt x="214" y="406"/>
                </a:cubicBezTo>
                <a:cubicBezTo>
                  <a:pt x="270" y="359"/>
                  <a:pt x="288" y="343"/>
                  <a:pt x="337" y="329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7" name="Freeform 18"/>
          <p:cNvSpPr/>
          <p:nvPr/>
        </p:nvSpPr>
        <p:spPr>
          <a:xfrm>
            <a:off x="3400560" y="3327480"/>
            <a:ext cx="744480" cy="311040"/>
          </a:xfrm>
          <a:custGeom>
            <a:avLst/>
            <a:gdLst/>
            <a:ahLst/>
            <a:rect l="l" t="t" r="r" b="b"/>
            <a:pathLst>
              <a:path w="2071" h="863">
                <a:moveTo>
                  <a:pt x="17" y="25"/>
                </a:moveTo>
                <a:cubicBezTo>
                  <a:pt x="25" y="20"/>
                  <a:pt x="-19" y="6"/>
                  <a:pt x="34" y="0"/>
                </a:cubicBezTo>
                <a:cubicBezTo>
                  <a:pt x="74" y="-5"/>
                  <a:pt x="129" y="22"/>
                  <a:pt x="166" y="34"/>
                </a:cubicBezTo>
                <a:cubicBezTo>
                  <a:pt x="274" y="69"/>
                  <a:pt x="368" y="125"/>
                  <a:pt x="469" y="175"/>
                </a:cubicBezTo>
                <a:cubicBezTo>
                  <a:pt x="704" y="292"/>
                  <a:pt x="944" y="393"/>
                  <a:pt x="1186" y="495"/>
                </a:cubicBezTo>
                <a:cubicBezTo>
                  <a:pt x="1305" y="545"/>
                  <a:pt x="1425" y="590"/>
                  <a:pt x="1545" y="636"/>
                </a:cubicBezTo>
                <a:cubicBezTo>
                  <a:pt x="1606" y="659"/>
                  <a:pt x="1670" y="683"/>
                  <a:pt x="1728" y="712"/>
                </a:cubicBezTo>
                <a:cubicBezTo>
                  <a:pt x="1761" y="729"/>
                  <a:pt x="1792" y="748"/>
                  <a:pt x="1822" y="768"/>
                </a:cubicBezTo>
                <a:cubicBezTo>
                  <a:pt x="1833" y="775"/>
                  <a:pt x="1839" y="782"/>
                  <a:pt x="1848" y="789"/>
                </a:cubicBezTo>
                <a:cubicBezTo>
                  <a:pt x="1834" y="772"/>
                  <a:pt x="1818" y="755"/>
                  <a:pt x="1805" y="738"/>
                </a:cubicBezTo>
                <a:cubicBezTo>
                  <a:pt x="1765" y="686"/>
                  <a:pt x="1726" y="632"/>
                  <a:pt x="1686" y="580"/>
                </a:cubicBezTo>
                <a:cubicBezTo>
                  <a:pt x="1646" y="528"/>
                  <a:pt x="1612" y="469"/>
                  <a:pt x="1570" y="418"/>
                </a:cubicBezTo>
                <a:cubicBezTo>
                  <a:pt x="1555" y="400"/>
                  <a:pt x="1535" y="385"/>
                  <a:pt x="1519" y="367"/>
                </a:cubicBezTo>
                <a:cubicBezTo>
                  <a:pt x="1534" y="395"/>
                  <a:pt x="1546" y="427"/>
                  <a:pt x="1566" y="456"/>
                </a:cubicBezTo>
                <a:cubicBezTo>
                  <a:pt x="1617" y="527"/>
                  <a:pt x="1669" y="590"/>
                  <a:pt x="1737" y="644"/>
                </a:cubicBezTo>
                <a:cubicBezTo>
                  <a:pt x="1792" y="688"/>
                  <a:pt x="1846" y="733"/>
                  <a:pt x="1907" y="768"/>
                </a:cubicBezTo>
                <a:cubicBezTo>
                  <a:pt x="1949" y="792"/>
                  <a:pt x="1995" y="810"/>
                  <a:pt x="2036" y="836"/>
                </a:cubicBezTo>
                <a:cubicBezTo>
                  <a:pt x="2048" y="844"/>
                  <a:pt x="2058" y="855"/>
                  <a:pt x="2070" y="862"/>
                </a:cubicBezTo>
                <a:cubicBezTo>
                  <a:pt x="1984" y="853"/>
                  <a:pt x="1894" y="852"/>
                  <a:pt x="1809" y="836"/>
                </a:cubicBezTo>
                <a:cubicBezTo>
                  <a:pt x="1738" y="822"/>
                  <a:pt x="1668" y="811"/>
                  <a:pt x="1596" y="798"/>
                </a:cubicBezTo>
              </a:path>
              <a:path w="2071" h="863">
                <a:moveTo>
                  <a:pt x="358" y="115"/>
                </a:moveTo>
                <a:cubicBezTo>
                  <a:pt x="347" y="109"/>
                  <a:pt x="335" y="99"/>
                  <a:pt x="324" y="94"/>
                </a:cubicBezTo>
                <a:cubicBezTo>
                  <a:pt x="323" y="94"/>
                  <a:pt x="321" y="94"/>
                  <a:pt x="320" y="94"/>
                </a:cubicBezTo>
                <a:cubicBezTo>
                  <a:pt x="312" y="112"/>
                  <a:pt x="307" y="129"/>
                  <a:pt x="303" y="149"/>
                </a:cubicBezTo>
                <a:cubicBezTo>
                  <a:pt x="294" y="200"/>
                  <a:pt x="291" y="251"/>
                  <a:pt x="294" y="303"/>
                </a:cubicBezTo>
                <a:cubicBezTo>
                  <a:pt x="298" y="365"/>
                  <a:pt x="310" y="427"/>
                  <a:pt x="329" y="486"/>
                </a:cubicBezTo>
                <a:cubicBezTo>
                  <a:pt x="340" y="520"/>
                  <a:pt x="348" y="553"/>
                  <a:pt x="371" y="580"/>
                </a:cubicBezTo>
                <a:cubicBezTo>
                  <a:pt x="378" y="587"/>
                  <a:pt x="378" y="590"/>
                  <a:pt x="384" y="589"/>
                </a:cubicBezTo>
                <a:cubicBezTo>
                  <a:pt x="381" y="560"/>
                  <a:pt x="375" y="537"/>
                  <a:pt x="367" y="508"/>
                </a:cubicBezTo>
                <a:cubicBezTo>
                  <a:pt x="347" y="438"/>
                  <a:pt x="323" y="370"/>
                  <a:pt x="294" y="303"/>
                </a:cubicBezTo>
                <a:cubicBezTo>
                  <a:pt x="260" y="224"/>
                  <a:pt x="234" y="137"/>
                  <a:pt x="188" y="64"/>
                </a:cubicBezTo>
                <a:cubicBezTo>
                  <a:pt x="185" y="60"/>
                  <a:pt x="182" y="55"/>
                  <a:pt x="179" y="51"/>
                </a:cubicBezTo>
                <a:cubicBezTo>
                  <a:pt x="201" y="55"/>
                  <a:pt x="205" y="57"/>
                  <a:pt x="226" y="64"/>
                </a:cubicBezTo>
                <a:cubicBezTo>
                  <a:pt x="296" y="86"/>
                  <a:pt x="366" y="109"/>
                  <a:pt x="435" y="132"/>
                </a:cubicBezTo>
                <a:cubicBezTo>
                  <a:pt x="532" y="164"/>
                  <a:pt x="628" y="192"/>
                  <a:pt x="725" y="222"/>
                </a:cubicBezTo>
                <a:cubicBezTo>
                  <a:pt x="790" y="243"/>
                  <a:pt x="813" y="251"/>
                  <a:pt x="849" y="28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Freeform 19"/>
          <p:cNvSpPr/>
          <p:nvPr/>
        </p:nvSpPr>
        <p:spPr>
          <a:xfrm>
            <a:off x="2238480" y="2984400"/>
            <a:ext cx="519120" cy="588960"/>
          </a:xfrm>
          <a:custGeom>
            <a:avLst/>
            <a:gdLst/>
            <a:ahLst/>
            <a:rect l="l" t="t" r="r" b="b"/>
            <a:pathLst>
              <a:path w="1443" h="1636">
                <a:moveTo>
                  <a:pt x="764" y="1379"/>
                </a:moveTo>
                <a:cubicBezTo>
                  <a:pt x="747" y="1362"/>
                  <a:pt x="753" y="1365"/>
                  <a:pt x="747" y="1353"/>
                </a:cubicBezTo>
              </a:path>
              <a:path w="1443" h="1636">
                <a:moveTo>
                  <a:pt x="730" y="1319"/>
                </a:moveTo>
                <a:cubicBezTo>
                  <a:pt x="715" y="1312"/>
                  <a:pt x="702" y="1304"/>
                  <a:pt x="687" y="1297"/>
                </a:cubicBezTo>
                <a:cubicBezTo>
                  <a:pt x="672" y="1290"/>
                  <a:pt x="662" y="1285"/>
                  <a:pt x="648" y="1280"/>
                </a:cubicBezTo>
                <a:cubicBezTo>
                  <a:pt x="643" y="1278"/>
                  <a:pt x="649" y="1281"/>
                  <a:pt x="644" y="1280"/>
                </a:cubicBezTo>
                <a:cubicBezTo>
                  <a:pt x="664" y="1317"/>
                  <a:pt x="684" y="1354"/>
                  <a:pt x="704" y="1391"/>
                </a:cubicBezTo>
                <a:cubicBezTo>
                  <a:pt x="740" y="1458"/>
                  <a:pt x="785" y="1520"/>
                  <a:pt x="832" y="1579"/>
                </a:cubicBezTo>
                <a:cubicBezTo>
                  <a:pt x="851" y="1603"/>
                  <a:pt x="869" y="1619"/>
                  <a:pt x="892" y="1635"/>
                </a:cubicBezTo>
                <a:cubicBezTo>
                  <a:pt x="894" y="1598"/>
                  <a:pt x="890" y="1570"/>
                  <a:pt x="883" y="1532"/>
                </a:cubicBezTo>
                <a:cubicBezTo>
                  <a:pt x="868" y="1451"/>
                  <a:pt x="850" y="1372"/>
                  <a:pt x="828" y="1293"/>
                </a:cubicBezTo>
                <a:cubicBezTo>
                  <a:pt x="809" y="1224"/>
                  <a:pt x="793" y="1154"/>
                  <a:pt x="764" y="1088"/>
                </a:cubicBezTo>
                <a:cubicBezTo>
                  <a:pt x="756" y="1069"/>
                  <a:pt x="749" y="1052"/>
                  <a:pt x="742" y="1033"/>
                </a:cubicBezTo>
                <a:cubicBezTo>
                  <a:pt x="777" y="1068"/>
                  <a:pt x="812" y="1090"/>
                  <a:pt x="853" y="1118"/>
                </a:cubicBezTo>
                <a:cubicBezTo>
                  <a:pt x="941" y="1179"/>
                  <a:pt x="1029" y="1221"/>
                  <a:pt x="1131" y="1255"/>
                </a:cubicBezTo>
                <a:cubicBezTo>
                  <a:pt x="1167" y="1267"/>
                  <a:pt x="1198" y="1275"/>
                  <a:pt x="1233" y="1289"/>
                </a:cubicBezTo>
              </a:path>
              <a:path w="1443" h="1636">
                <a:moveTo>
                  <a:pt x="0" y="0"/>
                </a:moveTo>
                <a:cubicBezTo>
                  <a:pt x="38" y="13"/>
                  <a:pt x="77" y="25"/>
                  <a:pt x="115" y="39"/>
                </a:cubicBezTo>
                <a:cubicBezTo>
                  <a:pt x="234" y="83"/>
                  <a:pt x="333" y="157"/>
                  <a:pt x="444" y="214"/>
                </a:cubicBezTo>
                <a:cubicBezTo>
                  <a:pt x="533" y="259"/>
                  <a:pt x="625" y="303"/>
                  <a:pt x="717" y="342"/>
                </a:cubicBezTo>
                <a:cubicBezTo>
                  <a:pt x="809" y="381"/>
                  <a:pt x="901" y="414"/>
                  <a:pt x="994" y="448"/>
                </a:cubicBezTo>
                <a:cubicBezTo>
                  <a:pt x="1112" y="491"/>
                  <a:pt x="1231" y="534"/>
                  <a:pt x="1348" y="581"/>
                </a:cubicBezTo>
                <a:cubicBezTo>
                  <a:pt x="1369" y="589"/>
                  <a:pt x="1375" y="591"/>
                  <a:pt x="1387" y="598"/>
                </a:cubicBezTo>
              </a:path>
              <a:path w="1443" h="1636">
                <a:moveTo>
                  <a:pt x="1161" y="278"/>
                </a:moveTo>
                <a:cubicBezTo>
                  <a:pt x="1189" y="323"/>
                  <a:pt x="1219" y="366"/>
                  <a:pt x="1259" y="401"/>
                </a:cubicBezTo>
                <a:cubicBezTo>
                  <a:pt x="1294" y="432"/>
                  <a:pt x="1333" y="461"/>
                  <a:pt x="1370" y="491"/>
                </a:cubicBezTo>
                <a:cubicBezTo>
                  <a:pt x="1391" y="508"/>
                  <a:pt x="1414" y="521"/>
                  <a:pt x="1429" y="542"/>
                </a:cubicBezTo>
                <a:cubicBezTo>
                  <a:pt x="1437" y="553"/>
                  <a:pt x="1445" y="562"/>
                  <a:pt x="1442" y="576"/>
                </a:cubicBezTo>
                <a:cubicBezTo>
                  <a:pt x="1438" y="597"/>
                  <a:pt x="1424" y="596"/>
                  <a:pt x="1404" y="602"/>
                </a:cubicBezTo>
                <a:cubicBezTo>
                  <a:pt x="1364" y="614"/>
                  <a:pt x="1318" y="613"/>
                  <a:pt x="1276" y="615"/>
                </a:cubicBezTo>
                <a:cubicBezTo>
                  <a:pt x="1218" y="618"/>
                  <a:pt x="1161" y="623"/>
                  <a:pt x="1105" y="640"/>
                </a:cubicBezTo>
                <a:cubicBezTo>
                  <a:pt x="1094" y="644"/>
                  <a:pt x="1082" y="649"/>
                  <a:pt x="1071" y="653"/>
                </a:cubicBezTo>
              </a:path>
              <a:path w="1443" h="1636">
                <a:moveTo>
                  <a:pt x="324" y="184"/>
                </a:moveTo>
                <a:cubicBezTo>
                  <a:pt x="312" y="200"/>
                  <a:pt x="299" y="190"/>
                  <a:pt x="299" y="214"/>
                </a:cubicBezTo>
                <a:cubicBezTo>
                  <a:pt x="299" y="244"/>
                  <a:pt x="302" y="277"/>
                  <a:pt x="307" y="307"/>
                </a:cubicBezTo>
                <a:cubicBezTo>
                  <a:pt x="316" y="359"/>
                  <a:pt x="325" y="411"/>
                  <a:pt x="341" y="461"/>
                </a:cubicBezTo>
                <a:cubicBezTo>
                  <a:pt x="350" y="490"/>
                  <a:pt x="365" y="534"/>
                  <a:pt x="388" y="555"/>
                </a:cubicBezTo>
                <a:cubicBezTo>
                  <a:pt x="395" y="561"/>
                  <a:pt x="395" y="564"/>
                  <a:pt x="401" y="563"/>
                </a:cubicBezTo>
                <a:cubicBezTo>
                  <a:pt x="411" y="524"/>
                  <a:pt x="409" y="489"/>
                  <a:pt x="405" y="448"/>
                </a:cubicBezTo>
                <a:cubicBezTo>
                  <a:pt x="399" y="383"/>
                  <a:pt x="385" y="320"/>
                  <a:pt x="375" y="256"/>
                </a:cubicBezTo>
                <a:cubicBezTo>
                  <a:pt x="368" y="212"/>
                  <a:pt x="359" y="171"/>
                  <a:pt x="350" y="128"/>
                </a:cubicBezTo>
                <a:cubicBezTo>
                  <a:pt x="350" y="125"/>
                  <a:pt x="350" y="123"/>
                  <a:pt x="350" y="120"/>
                </a:cubicBezTo>
                <a:cubicBezTo>
                  <a:pt x="373" y="140"/>
                  <a:pt x="391" y="169"/>
                  <a:pt x="414" y="192"/>
                </a:cubicBezTo>
                <a:cubicBezTo>
                  <a:pt x="490" y="270"/>
                  <a:pt x="576" y="318"/>
                  <a:pt x="670" y="37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9" name="Freeform 20"/>
          <p:cNvSpPr/>
          <p:nvPr/>
        </p:nvSpPr>
        <p:spPr>
          <a:xfrm>
            <a:off x="4289400" y="2703600"/>
            <a:ext cx="2143080" cy="707760"/>
          </a:xfrm>
          <a:custGeom>
            <a:avLst/>
            <a:gdLst/>
            <a:ahLst/>
            <a:rect l="l" t="t" r="r" b="b"/>
            <a:pathLst>
              <a:path w="5954" h="1968">
                <a:moveTo>
                  <a:pt x="4549" y="1643"/>
                </a:moveTo>
                <a:cubicBezTo>
                  <a:pt x="4523" y="1649"/>
                  <a:pt x="4498" y="1656"/>
                  <a:pt x="4472" y="1664"/>
                </a:cubicBezTo>
                <a:cubicBezTo>
                  <a:pt x="4457" y="1668"/>
                  <a:pt x="4444" y="1672"/>
                  <a:pt x="4429" y="1677"/>
                </a:cubicBezTo>
                <a:cubicBezTo>
                  <a:pt x="4438" y="1675"/>
                  <a:pt x="4425" y="1679"/>
                  <a:pt x="4434" y="1677"/>
                </a:cubicBezTo>
                <a:cubicBezTo>
                  <a:pt x="4519" y="1661"/>
                  <a:pt x="4605" y="1652"/>
                  <a:pt x="4690" y="1635"/>
                </a:cubicBezTo>
                <a:cubicBezTo>
                  <a:pt x="4880" y="1597"/>
                  <a:pt x="5072" y="1541"/>
                  <a:pt x="5253" y="1472"/>
                </a:cubicBezTo>
                <a:cubicBezTo>
                  <a:pt x="5354" y="1433"/>
                  <a:pt x="5454" y="1390"/>
                  <a:pt x="5552" y="1344"/>
                </a:cubicBezTo>
                <a:cubicBezTo>
                  <a:pt x="5611" y="1317"/>
                  <a:pt x="5668" y="1286"/>
                  <a:pt x="5727" y="1259"/>
                </a:cubicBezTo>
                <a:cubicBezTo>
                  <a:pt x="5752" y="1247"/>
                  <a:pt x="5788" y="1227"/>
                  <a:pt x="5816" y="1225"/>
                </a:cubicBezTo>
                <a:cubicBezTo>
                  <a:pt x="5827" y="1224"/>
                  <a:pt x="5838" y="1229"/>
                  <a:pt x="5846" y="1229"/>
                </a:cubicBezTo>
                <a:cubicBezTo>
                  <a:pt x="5848" y="1229"/>
                  <a:pt x="5855" y="1233"/>
                  <a:pt x="5859" y="1233"/>
                </a:cubicBezTo>
                <a:cubicBezTo>
                  <a:pt x="5849" y="1221"/>
                  <a:pt x="5842" y="1208"/>
                  <a:pt x="5829" y="1195"/>
                </a:cubicBezTo>
                <a:cubicBezTo>
                  <a:pt x="5800" y="1165"/>
                  <a:pt x="5768" y="1130"/>
                  <a:pt x="5735" y="1105"/>
                </a:cubicBezTo>
                <a:cubicBezTo>
                  <a:pt x="5680" y="1063"/>
                  <a:pt x="5621" y="1027"/>
                  <a:pt x="5560" y="995"/>
                </a:cubicBezTo>
                <a:cubicBezTo>
                  <a:pt x="5548" y="987"/>
                  <a:pt x="5545" y="984"/>
                  <a:pt x="5535" y="982"/>
                </a:cubicBezTo>
                <a:cubicBezTo>
                  <a:pt x="5539" y="989"/>
                  <a:pt x="5538" y="1013"/>
                  <a:pt x="5552" y="1029"/>
                </a:cubicBezTo>
                <a:cubicBezTo>
                  <a:pt x="5586" y="1067"/>
                  <a:pt x="5638" y="1112"/>
                  <a:pt x="5680" y="1140"/>
                </a:cubicBezTo>
                <a:cubicBezTo>
                  <a:pt x="5735" y="1177"/>
                  <a:pt x="5794" y="1208"/>
                  <a:pt x="5855" y="1233"/>
                </a:cubicBezTo>
                <a:cubicBezTo>
                  <a:pt x="5888" y="1246"/>
                  <a:pt x="5920" y="1259"/>
                  <a:pt x="5953" y="1272"/>
                </a:cubicBezTo>
                <a:cubicBezTo>
                  <a:pt x="5858" y="1321"/>
                  <a:pt x="5761" y="1373"/>
                  <a:pt x="5663" y="1413"/>
                </a:cubicBezTo>
              </a:path>
              <a:path w="5954" h="1968">
                <a:moveTo>
                  <a:pt x="4374" y="1788"/>
                </a:moveTo>
                <a:cubicBezTo>
                  <a:pt x="4396" y="1840"/>
                  <a:pt x="4415" y="1893"/>
                  <a:pt x="4451" y="1938"/>
                </a:cubicBezTo>
                <a:cubicBezTo>
                  <a:pt x="4468" y="1959"/>
                  <a:pt x="4476" y="1961"/>
                  <a:pt x="4498" y="1967"/>
                </a:cubicBezTo>
                <a:cubicBezTo>
                  <a:pt x="4501" y="1948"/>
                  <a:pt x="4504" y="1929"/>
                  <a:pt x="4502" y="1908"/>
                </a:cubicBezTo>
                <a:cubicBezTo>
                  <a:pt x="4498" y="1860"/>
                  <a:pt x="4498" y="1812"/>
                  <a:pt x="4498" y="1763"/>
                </a:cubicBezTo>
                <a:cubicBezTo>
                  <a:pt x="4498" y="1733"/>
                  <a:pt x="4493" y="1669"/>
                  <a:pt x="4510" y="1643"/>
                </a:cubicBezTo>
                <a:cubicBezTo>
                  <a:pt x="4531" y="1611"/>
                  <a:pt x="4571" y="1635"/>
                  <a:pt x="4596" y="1635"/>
                </a:cubicBezTo>
                <a:cubicBezTo>
                  <a:pt x="4607" y="1633"/>
                  <a:pt x="4619" y="1632"/>
                  <a:pt x="4630" y="1630"/>
                </a:cubicBezTo>
              </a:path>
              <a:path w="5954" h="1968">
                <a:moveTo>
                  <a:pt x="4331" y="1541"/>
                </a:moveTo>
                <a:cubicBezTo>
                  <a:pt x="4341" y="1532"/>
                  <a:pt x="4347" y="1523"/>
                  <a:pt x="4357" y="1511"/>
                </a:cubicBezTo>
                <a:cubicBezTo>
                  <a:pt x="4380" y="1484"/>
                  <a:pt x="4409" y="1467"/>
                  <a:pt x="4434" y="1443"/>
                </a:cubicBezTo>
                <a:cubicBezTo>
                  <a:pt x="4458" y="1420"/>
                  <a:pt x="4477" y="1397"/>
                  <a:pt x="4506" y="1379"/>
                </a:cubicBezTo>
                <a:cubicBezTo>
                  <a:pt x="4523" y="1369"/>
                  <a:pt x="4519" y="1381"/>
                  <a:pt x="4506" y="1366"/>
                </a:cubicBezTo>
              </a:path>
              <a:path w="5954" h="1968">
                <a:moveTo>
                  <a:pt x="5697" y="0"/>
                </a:moveTo>
                <a:cubicBezTo>
                  <a:pt x="5633" y="15"/>
                  <a:pt x="5570" y="33"/>
                  <a:pt x="5505" y="47"/>
                </a:cubicBezTo>
                <a:cubicBezTo>
                  <a:pt x="4609" y="236"/>
                  <a:pt x="3716" y="428"/>
                  <a:pt x="2829" y="657"/>
                </a:cubicBezTo>
                <a:cubicBezTo>
                  <a:pt x="2543" y="731"/>
                  <a:pt x="2258" y="808"/>
                  <a:pt x="1971" y="879"/>
                </a:cubicBezTo>
                <a:cubicBezTo>
                  <a:pt x="1712" y="943"/>
                  <a:pt x="1452" y="1001"/>
                  <a:pt x="1190" y="1050"/>
                </a:cubicBezTo>
                <a:cubicBezTo>
                  <a:pt x="823" y="1118"/>
                  <a:pt x="441" y="1182"/>
                  <a:pt x="68" y="1127"/>
                </a:cubicBezTo>
                <a:cubicBezTo>
                  <a:pt x="38" y="1123"/>
                  <a:pt x="24" y="1119"/>
                  <a:pt x="0" y="1114"/>
                </a:cubicBezTo>
                <a:cubicBezTo>
                  <a:pt x="0" y="1113"/>
                  <a:pt x="0" y="1111"/>
                  <a:pt x="0" y="1110"/>
                </a:cubicBezTo>
                <a:cubicBezTo>
                  <a:pt x="13" y="1107"/>
                  <a:pt x="16" y="1106"/>
                  <a:pt x="34" y="1101"/>
                </a:cubicBezTo>
                <a:cubicBezTo>
                  <a:pt x="249" y="1045"/>
                  <a:pt x="417" y="976"/>
                  <a:pt x="593" y="841"/>
                </a:cubicBezTo>
                <a:cubicBezTo>
                  <a:pt x="585" y="848"/>
                  <a:pt x="601" y="838"/>
                  <a:pt x="593" y="845"/>
                </a:cubicBezTo>
                <a:cubicBezTo>
                  <a:pt x="521" y="909"/>
                  <a:pt x="375" y="992"/>
                  <a:pt x="409" y="1105"/>
                </a:cubicBezTo>
                <a:cubicBezTo>
                  <a:pt x="425" y="1157"/>
                  <a:pt x="479" y="1199"/>
                  <a:pt x="525" y="1221"/>
                </a:cubicBezTo>
                <a:cubicBezTo>
                  <a:pt x="574" y="1230"/>
                  <a:pt x="595" y="1234"/>
                  <a:pt x="631" y="123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4076640" y="4208400"/>
            <a:ext cx="193680" cy="222480"/>
          </a:xfrm>
          <a:custGeom>
            <a:avLst/>
            <a:gdLst/>
            <a:ahLst/>
            <a:rect l="l" t="t" r="r" b="b"/>
            <a:pathLst>
              <a:path w="534" h="616">
                <a:moveTo>
                  <a:pt x="380" y="0"/>
                </a:moveTo>
                <a:cubicBezTo>
                  <a:pt x="375" y="4"/>
                  <a:pt x="371" y="5"/>
                  <a:pt x="363" y="9"/>
                </a:cubicBezTo>
                <a:cubicBezTo>
                  <a:pt x="357" y="12"/>
                  <a:pt x="357" y="13"/>
                  <a:pt x="350" y="17"/>
                </a:cubicBezTo>
                <a:cubicBezTo>
                  <a:pt x="336" y="25"/>
                  <a:pt x="331" y="26"/>
                  <a:pt x="328" y="43"/>
                </a:cubicBezTo>
                <a:cubicBezTo>
                  <a:pt x="322" y="76"/>
                  <a:pt x="337" y="107"/>
                  <a:pt x="350" y="137"/>
                </a:cubicBezTo>
                <a:cubicBezTo>
                  <a:pt x="374" y="193"/>
                  <a:pt x="399" y="243"/>
                  <a:pt x="431" y="295"/>
                </a:cubicBezTo>
                <a:cubicBezTo>
                  <a:pt x="456" y="335"/>
                  <a:pt x="482" y="367"/>
                  <a:pt x="512" y="401"/>
                </a:cubicBezTo>
                <a:cubicBezTo>
                  <a:pt x="525" y="416"/>
                  <a:pt x="532" y="425"/>
                  <a:pt x="533" y="444"/>
                </a:cubicBezTo>
                <a:cubicBezTo>
                  <a:pt x="534" y="465"/>
                  <a:pt x="498" y="474"/>
                  <a:pt x="482" y="482"/>
                </a:cubicBezTo>
                <a:cubicBezTo>
                  <a:pt x="428" y="509"/>
                  <a:pt x="375" y="507"/>
                  <a:pt x="316" y="512"/>
                </a:cubicBezTo>
                <a:cubicBezTo>
                  <a:pt x="268" y="516"/>
                  <a:pt x="219" y="515"/>
                  <a:pt x="171" y="512"/>
                </a:cubicBezTo>
                <a:cubicBezTo>
                  <a:pt x="129" y="509"/>
                  <a:pt x="101" y="508"/>
                  <a:pt x="68" y="534"/>
                </a:cubicBezTo>
                <a:cubicBezTo>
                  <a:pt x="35" y="560"/>
                  <a:pt x="25" y="586"/>
                  <a:pt x="0" y="615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1" name="Freeform 22"/>
          <p:cNvSpPr/>
          <p:nvPr/>
        </p:nvSpPr>
        <p:spPr>
          <a:xfrm>
            <a:off x="1030320" y="5173560"/>
            <a:ext cx="1109520" cy="949320"/>
          </a:xfrm>
          <a:custGeom>
            <a:avLst/>
            <a:gdLst/>
            <a:ahLst/>
            <a:rect l="l" t="t" r="r" b="b"/>
            <a:pathLst>
              <a:path w="3082" h="2638">
                <a:moveTo>
                  <a:pt x="290" y="534"/>
                </a:moveTo>
                <a:cubicBezTo>
                  <a:pt x="300" y="582"/>
                  <a:pt x="296" y="521"/>
                  <a:pt x="298" y="551"/>
                </a:cubicBezTo>
                <a:cubicBezTo>
                  <a:pt x="302" y="614"/>
                  <a:pt x="293" y="681"/>
                  <a:pt x="286" y="743"/>
                </a:cubicBezTo>
                <a:cubicBezTo>
                  <a:pt x="265" y="929"/>
                  <a:pt x="251" y="1116"/>
                  <a:pt x="230" y="1302"/>
                </a:cubicBezTo>
                <a:cubicBezTo>
                  <a:pt x="202" y="1557"/>
                  <a:pt x="176" y="1812"/>
                  <a:pt x="140" y="2066"/>
                </a:cubicBezTo>
                <a:cubicBezTo>
                  <a:pt x="123" y="2186"/>
                  <a:pt x="117" y="2518"/>
                  <a:pt x="29" y="2616"/>
                </a:cubicBezTo>
                <a:cubicBezTo>
                  <a:pt x="-14" y="2664"/>
                  <a:pt x="9" y="2595"/>
                  <a:pt x="8" y="2573"/>
                </a:cubicBezTo>
              </a:path>
              <a:path w="3082" h="2638">
                <a:moveTo>
                  <a:pt x="72" y="751"/>
                </a:moveTo>
                <a:cubicBezTo>
                  <a:pt x="88" y="803"/>
                  <a:pt x="92" y="857"/>
                  <a:pt x="106" y="913"/>
                </a:cubicBezTo>
                <a:cubicBezTo>
                  <a:pt x="143" y="1061"/>
                  <a:pt x="211" y="1195"/>
                  <a:pt x="277" y="1332"/>
                </a:cubicBezTo>
                <a:cubicBezTo>
                  <a:pt x="353" y="1492"/>
                  <a:pt x="439" y="1653"/>
                  <a:pt x="529" y="1805"/>
                </a:cubicBezTo>
                <a:cubicBezTo>
                  <a:pt x="611" y="1944"/>
                  <a:pt x="724" y="2214"/>
                  <a:pt x="879" y="2287"/>
                </a:cubicBezTo>
                <a:cubicBezTo>
                  <a:pt x="923" y="2296"/>
                  <a:pt x="938" y="2298"/>
                  <a:pt x="943" y="2253"/>
                </a:cubicBezTo>
              </a:path>
              <a:path w="3082" h="2638">
                <a:moveTo>
                  <a:pt x="998" y="0"/>
                </a:moveTo>
                <a:cubicBezTo>
                  <a:pt x="1000" y="95"/>
                  <a:pt x="985" y="176"/>
                  <a:pt x="977" y="269"/>
                </a:cubicBezTo>
                <a:cubicBezTo>
                  <a:pt x="958" y="483"/>
                  <a:pt x="952" y="699"/>
                  <a:pt x="947" y="913"/>
                </a:cubicBezTo>
                <a:cubicBezTo>
                  <a:pt x="940" y="1209"/>
                  <a:pt x="912" y="1503"/>
                  <a:pt x="879" y="1797"/>
                </a:cubicBezTo>
                <a:cubicBezTo>
                  <a:pt x="863" y="1941"/>
                  <a:pt x="831" y="2084"/>
                  <a:pt x="810" y="2223"/>
                </a:cubicBezTo>
                <a:cubicBezTo>
                  <a:pt x="812" y="2230"/>
                  <a:pt x="813" y="2238"/>
                  <a:pt x="815" y="2245"/>
                </a:cubicBezTo>
              </a:path>
              <a:path w="3082" h="2638">
                <a:moveTo>
                  <a:pt x="1369" y="1541"/>
                </a:moveTo>
                <a:cubicBezTo>
                  <a:pt x="1358" y="1581"/>
                  <a:pt x="1367" y="1589"/>
                  <a:pt x="1323" y="1592"/>
                </a:cubicBezTo>
                <a:cubicBezTo>
                  <a:pt x="1293" y="1594"/>
                  <a:pt x="1282" y="1601"/>
                  <a:pt x="1259" y="1622"/>
                </a:cubicBezTo>
                <a:cubicBezTo>
                  <a:pt x="1195" y="1681"/>
                  <a:pt x="1158" y="1776"/>
                  <a:pt x="1130" y="1856"/>
                </a:cubicBezTo>
                <a:cubicBezTo>
                  <a:pt x="1098" y="1949"/>
                  <a:pt x="1073" y="2052"/>
                  <a:pt x="1066" y="2151"/>
                </a:cubicBezTo>
                <a:cubicBezTo>
                  <a:pt x="1062" y="2200"/>
                  <a:pt x="1069" y="2223"/>
                  <a:pt x="1092" y="2262"/>
                </a:cubicBezTo>
                <a:cubicBezTo>
                  <a:pt x="1145" y="2257"/>
                  <a:pt x="1182" y="2206"/>
                  <a:pt x="1212" y="2159"/>
                </a:cubicBezTo>
                <a:cubicBezTo>
                  <a:pt x="1289" y="2036"/>
                  <a:pt x="1330" y="1883"/>
                  <a:pt x="1352" y="1741"/>
                </a:cubicBezTo>
                <a:cubicBezTo>
                  <a:pt x="1365" y="1661"/>
                  <a:pt x="1375" y="1564"/>
                  <a:pt x="1335" y="1489"/>
                </a:cubicBezTo>
                <a:cubicBezTo>
                  <a:pt x="1319" y="1473"/>
                  <a:pt x="1314" y="1467"/>
                  <a:pt x="1297" y="1468"/>
                </a:cubicBezTo>
                <a:cubicBezTo>
                  <a:pt x="1255" y="1514"/>
                  <a:pt x="1243" y="1548"/>
                  <a:pt x="1229" y="1609"/>
                </a:cubicBezTo>
                <a:cubicBezTo>
                  <a:pt x="1220" y="1649"/>
                  <a:pt x="1217" y="1663"/>
                  <a:pt x="1233" y="1690"/>
                </a:cubicBezTo>
              </a:path>
              <a:path w="3082" h="2638">
                <a:moveTo>
                  <a:pt x="1826" y="559"/>
                </a:moveTo>
                <a:cubicBezTo>
                  <a:pt x="1828" y="691"/>
                  <a:pt x="1824" y="820"/>
                  <a:pt x="1822" y="952"/>
                </a:cubicBezTo>
                <a:cubicBezTo>
                  <a:pt x="1818" y="1167"/>
                  <a:pt x="1803" y="1378"/>
                  <a:pt x="1779" y="1592"/>
                </a:cubicBezTo>
                <a:cubicBezTo>
                  <a:pt x="1761" y="1754"/>
                  <a:pt x="1739" y="1915"/>
                  <a:pt x="1702" y="2074"/>
                </a:cubicBezTo>
                <a:cubicBezTo>
                  <a:pt x="1688" y="2135"/>
                  <a:pt x="1672" y="2154"/>
                  <a:pt x="1647" y="2198"/>
                </a:cubicBezTo>
                <a:cubicBezTo>
                  <a:pt x="1623" y="2162"/>
                  <a:pt x="1609" y="2141"/>
                  <a:pt x="1587" y="2095"/>
                </a:cubicBezTo>
              </a:path>
              <a:path w="3082" h="2638">
                <a:moveTo>
                  <a:pt x="1429" y="1472"/>
                </a:moveTo>
                <a:cubicBezTo>
                  <a:pt x="1449" y="1556"/>
                  <a:pt x="1463" y="1637"/>
                  <a:pt x="1510" y="1711"/>
                </a:cubicBezTo>
                <a:cubicBezTo>
                  <a:pt x="1542" y="1761"/>
                  <a:pt x="1584" y="1800"/>
                  <a:pt x="1647" y="1792"/>
                </a:cubicBezTo>
                <a:cubicBezTo>
                  <a:pt x="1711" y="1784"/>
                  <a:pt x="1766" y="1714"/>
                  <a:pt x="1800" y="1664"/>
                </a:cubicBezTo>
                <a:cubicBezTo>
                  <a:pt x="1832" y="1618"/>
                  <a:pt x="1854" y="1570"/>
                  <a:pt x="1877" y="1519"/>
                </a:cubicBezTo>
              </a:path>
              <a:path w="3082" h="2638">
                <a:moveTo>
                  <a:pt x="2163" y="1656"/>
                </a:moveTo>
                <a:cubicBezTo>
                  <a:pt x="2171" y="1754"/>
                  <a:pt x="2177" y="1848"/>
                  <a:pt x="2176" y="1946"/>
                </a:cubicBezTo>
                <a:cubicBezTo>
                  <a:pt x="2175" y="2027"/>
                  <a:pt x="2178" y="2111"/>
                  <a:pt x="2155" y="2189"/>
                </a:cubicBezTo>
                <a:cubicBezTo>
                  <a:pt x="2152" y="2195"/>
                  <a:pt x="2149" y="2200"/>
                  <a:pt x="2146" y="2206"/>
                </a:cubicBezTo>
                <a:cubicBezTo>
                  <a:pt x="2107" y="2138"/>
                  <a:pt x="2121" y="2059"/>
                  <a:pt x="2121" y="1984"/>
                </a:cubicBezTo>
              </a:path>
              <a:path w="3082" h="2638">
                <a:moveTo>
                  <a:pt x="2394" y="849"/>
                </a:moveTo>
                <a:cubicBezTo>
                  <a:pt x="2404" y="977"/>
                  <a:pt x="2415" y="1101"/>
                  <a:pt x="2415" y="1229"/>
                </a:cubicBezTo>
                <a:cubicBezTo>
                  <a:pt x="2415" y="1238"/>
                  <a:pt x="2420" y="1372"/>
                  <a:pt x="2445" y="1319"/>
                </a:cubicBezTo>
                <a:cubicBezTo>
                  <a:pt x="2449" y="1309"/>
                  <a:pt x="2454" y="1299"/>
                  <a:pt x="2458" y="1289"/>
                </a:cubicBezTo>
              </a:path>
              <a:path w="3082" h="2638">
                <a:moveTo>
                  <a:pt x="2645" y="1699"/>
                </a:moveTo>
                <a:cubicBezTo>
                  <a:pt x="2628" y="1730"/>
                  <a:pt x="2639" y="1723"/>
                  <a:pt x="2633" y="1690"/>
                </a:cubicBezTo>
                <a:cubicBezTo>
                  <a:pt x="2625" y="1643"/>
                  <a:pt x="2615" y="1599"/>
                  <a:pt x="2603" y="1553"/>
                </a:cubicBezTo>
                <a:cubicBezTo>
                  <a:pt x="2590" y="1500"/>
                  <a:pt x="2569" y="1462"/>
                  <a:pt x="2547" y="1413"/>
                </a:cubicBezTo>
                <a:cubicBezTo>
                  <a:pt x="2534" y="1385"/>
                  <a:pt x="2529" y="1390"/>
                  <a:pt x="2505" y="1374"/>
                </a:cubicBezTo>
                <a:cubicBezTo>
                  <a:pt x="2477" y="1413"/>
                  <a:pt x="2456" y="1449"/>
                  <a:pt x="2441" y="1498"/>
                </a:cubicBezTo>
                <a:cubicBezTo>
                  <a:pt x="2409" y="1605"/>
                  <a:pt x="2375" y="1716"/>
                  <a:pt x="2359" y="1827"/>
                </a:cubicBezTo>
                <a:cubicBezTo>
                  <a:pt x="2342" y="1942"/>
                  <a:pt x="2312" y="2073"/>
                  <a:pt x="2347" y="2185"/>
                </a:cubicBezTo>
                <a:cubicBezTo>
                  <a:pt x="2351" y="2195"/>
                  <a:pt x="2355" y="2205"/>
                  <a:pt x="2359" y="2215"/>
                </a:cubicBezTo>
                <a:cubicBezTo>
                  <a:pt x="2456" y="2211"/>
                  <a:pt x="2472" y="2163"/>
                  <a:pt x="2526" y="2087"/>
                </a:cubicBezTo>
                <a:cubicBezTo>
                  <a:pt x="2544" y="2061"/>
                  <a:pt x="2563" y="2036"/>
                  <a:pt x="2581" y="2010"/>
                </a:cubicBezTo>
              </a:path>
              <a:path w="3082" h="2638">
                <a:moveTo>
                  <a:pt x="2731" y="1626"/>
                </a:moveTo>
                <a:cubicBezTo>
                  <a:pt x="2735" y="1695"/>
                  <a:pt x="2736" y="1756"/>
                  <a:pt x="2761" y="1822"/>
                </a:cubicBezTo>
                <a:cubicBezTo>
                  <a:pt x="2776" y="1864"/>
                  <a:pt x="2801" y="1907"/>
                  <a:pt x="2850" y="1908"/>
                </a:cubicBezTo>
                <a:cubicBezTo>
                  <a:pt x="2904" y="1909"/>
                  <a:pt x="2945" y="1855"/>
                  <a:pt x="2970" y="1814"/>
                </a:cubicBezTo>
                <a:cubicBezTo>
                  <a:pt x="3016" y="1736"/>
                  <a:pt x="3038" y="1652"/>
                  <a:pt x="3059" y="1566"/>
                </a:cubicBezTo>
                <a:cubicBezTo>
                  <a:pt x="3076" y="1498"/>
                  <a:pt x="3094" y="1424"/>
                  <a:pt x="3076" y="1353"/>
                </a:cubicBezTo>
                <a:cubicBezTo>
                  <a:pt x="3066" y="1331"/>
                  <a:pt x="3066" y="1325"/>
                  <a:pt x="3051" y="1319"/>
                </a:cubicBezTo>
                <a:cubicBezTo>
                  <a:pt x="2996" y="1344"/>
                  <a:pt x="2970" y="1406"/>
                  <a:pt x="2948" y="1464"/>
                </a:cubicBezTo>
                <a:cubicBezTo>
                  <a:pt x="2877" y="1654"/>
                  <a:pt x="2842" y="1865"/>
                  <a:pt x="2825" y="2066"/>
                </a:cubicBezTo>
                <a:cubicBezTo>
                  <a:pt x="2819" y="2143"/>
                  <a:pt x="2810" y="2212"/>
                  <a:pt x="2859" y="2270"/>
                </a:cubicBezTo>
                <a:cubicBezTo>
                  <a:pt x="2959" y="2226"/>
                  <a:pt x="2986" y="2150"/>
                  <a:pt x="3042" y="205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2" name="Freeform 23"/>
          <p:cNvSpPr/>
          <p:nvPr/>
        </p:nvSpPr>
        <p:spPr>
          <a:xfrm>
            <a:off x="2413080" y="5370480"/>
            <a:ext cx="1033560" cy="577800"/>
          </a:xfrm>
          <a:custGeom>
            <a:avLst/>
            <a:gdLst/>
            <a:ahLst/>
            <a:rect l="l" t="t" r="r" b="b"/>
            <a:pathLst>
              <a:path w="2869" h="1606">
                <a:moveTo>
                  <a:pt x="86" y="995"/>
                </a:moveTo>
                <a:cubicBezTo>
                  <a:pt x="75" y="1111"/>
                  <a:pt x="46" y="1220"/>
                  <a:pt x="30" y="1336"/>
                </a:cubicBezTo>
                <a:cubicBezTo>
                  <a:pt x="20" y="1410"/>
                  <a:pt x="14" y="1485"/>
                  <a:pt x="5" y="1558"/>
                </a:cubicBezTo>
                <a:cubicBezTo>
                  <a:pt x="0" y="1578"/>
                  <a:pt x="-2" y="1584"/>
                  <a:pt x="5" y="1596"/>
                </a:cubicBezTo>
                <a:cubicBezTo>
                  <a:pt x="31" y="1564"/>
                  <a:pt x="56" y="1528"/>
                  <a:pt x="77" y="1490"/>
                </a:cubicBezTo>
                <a:cubicBezTo>
                  <a:pt x="124" y="1407"/>
                  <a:pt x="174" y="1325"/>
                  <a:pt x="222" y="1242"/>
                </a:cubicBezTo>
                <a:cubicBezTo>
                  <a:pt x="260" y="1175"/>
                  <a:pt x="286" y="1127"/>
                  <a:pt x="350" y="1084"/>
                </a:cubicBezTo>
                <a:cubicBezTo>
                  <a:pt x="403" y="1108"/>
                  <a:pt x="412" y="1153"/>
                  <a:pt x="431" y="1208"/>
                </a:cubicBezTo>
                <a:cubicBezTo>
                  <a:pt x="460" y="1292"/>
                  <a:pt x="475" y="1379"/>
                  <a:pt x="500" y="1464"/>
                </a:cubicBezTo>
                <a:cubicBezTo>
                  <a:pt x="512" y="1507"/>
                  <a:pt x="518" y="1562"/>
                  <a:pt x="538" y="1601"/>
                </a:cubicBezTo>
                <a:cubicBezTo>
                  <a:pt x="539" y="1602"/>
                  <a:pt x="541" y="1604"/>
                  <a:pt x="542" y="1605"/>
                </a:cubicBezTo>
                <a:cubicBezTo>
                  <a:pt x="550" y="1549"/>
                  <a:pt x="551" y="1496"/>
                  <a:pt x="551" y="1438"/>
                </a:cubicBezTo>
                <a:cubicBezTo>
                  <a:pt x="551" y="1332"/>
                  <a:pt x="548" y="1229"/>
                  <a:pt x="542" y="1123"/>
                </a:cubicBezTo>
              </a:path>
              <a:path w="2869" h="1606">
                <a:moveTo>
                  <a:pt x="888" y="120"/>
                </a:moveTo>
                <a:cubicBezTo>
                  <a:pt x="895" y="112"/>
                  <a:pt x="896" y="68"/>
                  <a:pt x="905" y="99"/>
                </a:cubicBezTo>
                <a:cubicBezTo>
                  <a:pt x="924" y="163"/>
                  <a:pt x="893" y="277"/>
                  <a:pt x="892" y="342"/>
                </a:cubicBezTo>
                <a:cubicBezTo>
                  <a:pt x="889" y="506"/>
                  <a:pt x="883" y="669"/>
                  <a:pt x="879" y="833"/>
                </a:cubicBezTo>
                <a:cubicBezTo>
                  <a:pt x="875" y="997"/>
                  <a:pt x="874" y="1172"/>
                  <a:pt x="884" y="1332"/>
                </a:cubicBezTo>
                <a:cubicBezTo>
                  <a:pt x="895" y="1275"/>
                  <a:pt x="904" y="1218"/>
                  <a:pt x="914" y="1161"/>
                </a:cubicBezTo>
                <a:cubicBezTo>
                  <a:pt x="925" y="1095"/>
                  <a:pt x="937" y="1030"/>
                  <a:pt x="952" y="965"/>
                </a:cubicBezTo>
                <a:cubicBezTo>
                  <a:pt x="977" y="997"/>
                  <a:pt x="988" y="1031"/>
                  <a:pt x="1003" y="1076"/>
                </a:cubicBezTo>
                <a:cubicBezTo>
                  <a:pt x="1032" y="1164"/>
                  <a:pt x="1063" y="1252"/>
                  <a:pt x="1093" y="1340"/>
                </a:cubicBezTo>
                <a:cubicBezTo>
                  <a:pt x="1111" y="1392"/>
                  <a:pt x="1129" y="1456"/>
                  <a:pt x="1170" y="1494"/>
                </a:cubicBezTo>
                <a:cubicBezTo>
                  <a:pt x="1176" y="1494"/>
                  <a:pt x="1181" y="1494"/>
                  <a:pt x="1187" y="1494"/>
                </a:cubicBezTo>
                <a:cubicBezTo>
                  <a:pt x="1219" y="1419"/>
                  <a:pt x="1240" y="1354"/>
                  <a:pt x="1259" y="1272"/>
                </a:cubicBezTo>
                <a:cubicBezTo>
                  <a:pt x="1290" y="1136"/>
                  <a:pt x="1318" y="999"/>
                  <a:pt x="1345" y="862"/>
                </a:cubicBezTo>
                <a:cubicBezTo>
                  <a:pt x="1360" y="783"/>
                  <a:pt x="1382" y="717"/>
                  <a:pt x="1413" y="645"/>
                </a:cubicBezTo>
                <a:cubicBezTo>
                  <a:pt x="1449" y="708"/>
                  <a:pt x="1468" y="760"/>
                  <a:pt x="1481" y="841"/>
                </a:cubicBezTo>
                <a:cubicBezTo>
                  <a:pt x="1504" y="983"/>
                  <a:pt x="1534" y="1129"/>
                  <a:pt x="1545" y="1272"/>
                </a:cubicBezTo>
                <a:cubicBezTo>
                  <a:pt x="1552" y="1363"/>
                  <a:pt x="1551" y="1454"/>
                  <a:pt x="1558" y="1545"/>
                </a:cubicBezTo>
                <a:cubicBezTo>
                  <a:pt x="1560" y="1566"/>
                  <a:pt x="1546" y="1400"/>
                  <a:pt x="1545" y="1379"/>
                </a:cubicBezTo>
              </a:path>
              <a:path w="2869" h="1606">
                <a:moveTo>
                  <a:pt x="1438" y="107"/>
                </a:moveTo>
                <a:cubicBezTo>
                  <a:pt x="1446" y="235"/>
                  <a:pt x="1449" y="364"/>
                  <a:pt x="1460" y="491"/>
                </a:cubicBezTo>
                <a:cubicBezTo>
                  <a:pt x="1464" y="543"/>
                  <a:pt x="1459" y="597"/>
                  <a:pt x="1515" y="602"/>
                </a:cubicBezTo>
              </a:path>
              <a:path w="2869" h="1606">
                <a:moveTo>
                  <a:pt x="2083" y="986"/>
                </a:moveTo>
                <a:cubicBezTo>
                  <a:pt x="2083" y="999"/>
                  <a:pt x="2083" y="1028"/>
                  <a:pt x="2083" y="1033"/>
                </a:cubicBezTo>
                <a:cubicBezTo>
                  <a:pt x="2074" y="1017"/>
                  <a:pt x="2064" y="1006"/>
                  <a:pt x="2053" y="990"/>
                </a:cubicBezTo>
                <a:cubicBezTo>
                  <a:pt x="2030" y="957"/>
                  <a:pt x="2011" y="921"/>
                  <a:pt x="1989" y="888"/>
                </a:cubicBezTo>
                <a:cubicBezTo>
                  <a:pt x="1968" y="857"/>
                  <a:pt x="1954" y="823"/>
                  <a:pt x="1925" y="798"/>
                </a:cubicBezTo>
                <a:cubicBezTo>
                  <a:pt x="1904" y="780"/>
                  <a:pt x="1899" y="789"/>
                  <a:pt x="1874" y="786"/>
                </a:cubicBezTo>
                <a:cubicBezTo>
                  <a:pt x="1842" y="827"/>
                  <a:pt x="1824" y="860"/>
                  <a:pt x="1805" y="909"/>
                </a:cubicBezTo>
                <a:cubicBezTo>
                  <a:pt x="1774" y="991"/>
                  <a:pt x="1763" y="1075"/>
                  <a:pt x="1754" y="1161"/>
                </a:cubicBezTo>
                <a:cubicBezTo>
                  <a:pt x="1745" y="1248"/>
                  <a:pt x="1729" y="1359"/>
                  <a:pt x="1776" y="1438"/>
                </a:cubicBezTo>
                <a:cubicBezTo>
                  <a:pt x="1804" y="1486"/>
                  <a:pt x="1856" y="1494"/>
                  <a:pt x="1904" y="1468"/>
                </a:cubicBezTo>
                <a:cubicBezTo>
                  <a:pt x="2003" y="1415"/>
                  <a:pt x="2059" y="1300"/>
                  <a:pt x="2104" y="1204"/>
                </a:cubicBezTo>
                <a:cubicBezTo>
                  <a:pt x="2185" y="1030"/>
                  <a:pt x="2230" y="847"/>
                  <a:pt x="2279" y="662"/>
                </a:cubicBezTo>
              </a:path>
              <a:path w="2869" h="1606">
                <a:moveTo>
                  <a:pt x="2369" y="163"/>
                </a:moveTo>
                <a:cubicBezTo>
                  <a:pt x="2374" y="109"/>
                  <a:pt x="2380" y="54"/>
                  <a:pt x="2386" y="0"/>
                </a:cubicBezTo>
                <a:cubicBezTo>
                  <a:pt x="2396" y="75"/>
                  <a:pt x="2401" y="158"/>
                  <a:pt x="2399" y="235"/>
                </a:cubicBezTo>
                <a:cubicBezTo>
                  <a:pt x="2393" y="441"/>
                  <a:pt x="2395" y="648"/>
                  <a:pt x="2386" y="854"/>
                </a:cubicBezTo>
                <a:cubicBezTo>
                  <a:pt x="2378" y="1035"/>
                  <a:pt x="2373" y="1215"/>
                  <a:pt x="2369" y="1396"/>
                </a:cubicBezTo>
                <a:cubicBezTo>
                  <a:pt x="2368" y="1423"/>
                  <a:pt x="2368" y="1523"/>
                  <a:pt x="2369" y="1537"/>
                </a:cubicBezTo>
                <a:cubicBezTo>
                  <a:pt x="2394" y="1451"/>
                  <a:pt x="2405" y="1360"/>
                  <a:pt x="2424" y="1272"/>
                </a:cubicBezTo>
                <a:cubicBezTo>
                  <a:pt x="2451" y="1143"/>
                  <a:pt x="2455" y="881"/>
                  <a:pt x="2544" y="777"/>
                </a:cubicBezTo>
                <a:cubicBezTo>
                  <a:pt x="2552" y="774"/>
                  <a:pt x="2561" y="772"/>
                  <a:pt x="2569" y="769"/>
                </a:cubicBezTo>
                <a:cubicBezTo>
                  <a:pt x="2604" y="842"/>
                  <a:pt x="2632" y="915"/>
                  <a:pt x="2655" y="995"/>
                </a:cubicBezTo>
                <a:cubicBezTo>
                  <a:pt x="2684" y="1093"/>
                  <a:pt x="2707" y="1402"/>
                  <a:pt x="2804" y="1460"/>
                </a:cubicBezTo>
                <a:cubicBezTo>
                  <a:pt x="2843" y="1483"/>
                  <a:pt x="2832" y="1452"/>
                  <a:pt x="2868" y="141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Freeform 24"/>
          <p:cNvSpPr/>
          <p:nvPr/>
        </p:nvSpPr>
        <p:spPr>
          <a:xfrm>
            <a:off x="3767040" y="5288040"/>
            <a:ext cx="663840" cy="593640"/>
          </a:xfrm>
          <a:custGeom>
            <a:avLst/>
            <a:gdLst/>
            <a:ahLst/>
            <a:rect l="l" t="t" r="r" b="b"/>
            <a:pathLst>
              <a:path w="1844" h="1648">
                <a:moveTo>
                  <a:pt x="51" y="26"/>
                </a:moveTo>
                <a:cubicBezTo>
                  <a:pt x="65" y="13"/>
                  <a:pt x="61" y="10"/>
                  <a:pt x="72" y="0"/>
                </a:cubicBezTo>
                <a:cubicBezTo>
                  <a:pt x="74" y="26"/>
                  <a:pt x="79" y="49"/>
                  <a:pt x="77" y="77"/>
                </a:cubicBezTo>
                <a:cubicBezTo>
                  <a:pt x="72" y="163"/>
                  <a:pt x="66" y="248"/>
                  <a:pt x="60" y="333"/>
                </a:cubicBezTo>
                <a:cubicBezTo>
                  <a:pt x="49" y="484"/>
                  <a:pt x="29" y="634"/>
                  <a:pt x="21" y="785"/>
                </a:cubicBezTo>
                <a:cubicBezTo>
                  <a:pt x="12" y="945"/>
                  <a:pt x="1" y="1103"/>
                  <a:pt x="0" y="1263"/>
                </a:cubicBezTo>
                <a:cubicBezTo>
                  <a:pt x="0" y="1364"/>
                  <a:pt x="-4" y="1465"/>
                  <a:pt x="4" y="1566"/>
                </a:cubicBezTo>
                <a:cubicBezTo>
                  <a:pt x="7" y="1605"/>
                  <a:pt x="5" y="1656"/>
                  <a:pt x="25" y="1626"/>
                </a:cubicBezTo>
                <a:cubicBezTo>
                  <a:pt x="29" y="1616"/>
                  <a:pt x="34" y="1606"/>
                  <a:pt x="38" y="1596"/>
                </a:cubicBezTo>
              </a:path>
              <a:path w="1844" h="1648">
                <a:moveTo>
                  <a:pt x="375" y="866"/>
                </a:moveTo>
                <a:cubicBezTo>
                  <a:pt x="389" y="895"/>
                  <a:pt x="388" y="911"/>
                  <a:pt x="392" y="947"/>
                </a:cubicBezTo>
                <a:cubicBezTo>
                  <a:pt x="402" y="1038"/>
                  <a:pt x="400" y="1129"/>
                  <a:pt x="397" y="1220"/>
                </a:cubicBezTo>
                <a:cubicBezTo>
                  <a:pt x="393" y="1331"/>
                  <a:pt x="382" y="1439"/>
                  <a:pt x="371" y="1549"/>
                </a:cubicBezTo>
                <a:cubicBezTo>
                  <a:pt x="368" y="1589"/>
                  <a:pt x="371" y="1597"/>
                  <a:pt x="358" y="1617"/>
                </a:cubicBezTo>
                <a:cubicBezTo>
                  <a:pt x="357" y="1568"/>
                  <a:pt x="359" y="1525"/>
                  <a:pt x="358" y="1472"/>
                </a:cubicBezTo>
              </a:path>
              <a:path w="1844" h="1648">
                <a:moveTo>
                  <a:pt x="448" y="486"/>
                </a:moveTo>
                <a:cubicBezTo>
                  <a:pt x="443" y="559"/>
                  <a:pt x="438" y="628"/>
                  <a:pt x="431" y="700"/>
                </a:cubicBezTo>
                <a:cubicBezTo>
                  <a:pt x="429" y="721"/>
                  <a:pt x="435" y="747"/>
                  <a:pt x="448" y="764"/>
                </a:cubicBezTo>
                <a:cubicBezTo>
                  <a:pt x="454" y="772"/>
                  <a:pt x="462" y="791"/>
                  <a:pt x="461" y="781"/>
                </a:cubicBezTo>
                <a:cubicBezTo>
                  <a:pt x="459" y="777"/>
                  <a:pt x="458" y="772"/>
                  <a:pt x="456" y="768"/>
                </a:cubicBezTo>
              </a:path>
              <a:path w="1844" h="1648">
                <a:moveTo>
                  <a:pt x="789" y="853"/>
                </a:moveTo>
                <a:cubicBezTo>
                  <a:pt x="797" y="920"/>
                  <a:pt x="803" y="997"/>
                  <a:pt x="794" y="1067"/>
                </a:cubicBezTo>
                <a:cubicBezTo>
                  <a:pt x="786" y="1132"/>
                  <a:pt x="763" y="1198"/>
                  <a:pt x="755" y="1263"/>
                </a:cubicBezTo>
                <a:cubicBezTo>
                  <a:pt x="751" y="1295"/>
                  <a:pt x="751" y="1311"/>
                  <a:pt x="738" y="1340"/>
                </a:cubicBezTo>
                <a:cubicBezTo>
                  <a:pt x="737" y="1327"/>
                  <a:pt x="742" y="1264"/>
                  <a:pt x="747" y="1237"/>
                </a:cubicBezTo>
                <a:cubicBezTo>
                  <a:pt x="766" y="1137"/>
                  <a:pt x="785" y="1038"/>
                  <a:pt x="811" y="939"/>
                </a:cubicBezTo>
                <a:cubicBezTo>
                  <a:pt x="831" y="862"/>
                  <a:pt x="856" y="773"/>
                  <a:pt x="896" y="704"/>
                </a:cubicBezTo>
                <a:cubicBezTo>
                  <a:pt x="900" y="700"/>
                  <a:pt x="905" y="695"/>
                  <a:pt x="909" y="691"/>
                </a:cubicBezTo>
                <a:cubicBezTo>
                  <a:pt x="956" y="746"/>
                  <a:pt x="966" y="804"/>
                  <a:pt x="981" y="875"/>
                </a:cubicBezTo>
                <a:cubicBezTo>
                  <a:pt x="1008" y="1006"/>
                  <a:pt x="1022" y="1140"/>
                  <a:pt x="1041" y="1272"/>
                </a:cubicBezTo>
                <a:cubicBezTo>
                  <a:pt x="1053" y="1354"/>
                  <a:pt x="986" y="1539"/>
                  <a:pt x="1067" y="1519"/>
                </a:cubicBezTo>
                <a:cubicBezTo>
                  <a:pt x="1076" y="1517"/>
                  <a:pt x="1080" y="1457"/>
                  <a:pt x="1084" y="1425"/>
                </a:cubicBezTo>
              </a:path>
              <a:path w="1844" h="1648">
                <a:moveTo>
                  <a:pt x="1242" y="1118"/>
                </a:moveTo>
                <a:cubicBezTo>
                  <a:pt x="1254" y="1142"/>
                  <a:pt x="1271" y="1153"/>
                  <a:pt x="1254" y="1152"/>
                </a:cubicBezTo>
                <a:cubicBezTo>
                  <a:pt x="1277" y="1133"/>
                  <a:pt x="1293" y="1111"/>
                  <a:pt x="1306" y="1084"/>
                </a:cubicBezTo>
                <a:cubicBezTo>
                  <a:pt x="1318" y="1061"/>
                  <a:pt x="1327" y="1038"/>
                  <a:pt x="1340" y="1016"/>
                </a:cubicBezTo>
                <a:cubicBezTo>
                  <a:pt x="1348" y="1004"/>
                  <a:pt x="1356" y="992"/>
                  <a:pt x="1365" y="981"/>
                </a:cubicBezTo>
                <a:cubicBezTo>
                  <a:pt x="1383" y="959"/>
                  <a:pt x="1403" y="935"/>
                  <a:pt x="1408" y="905"/>
                </a:cubicBezTo>
                <a:cubicBezTo>
                  <a:pt x="1417" y="856"/>
                  <a:pt x="1415" y="799"/>
                  <a:pt x="1404" y="751"/>
                </a:cubicBezTo>
                <a:cubicBezTo>
                  <a:pt x="1393" y="700"/>
                  <a:pt x="1371" y="646"/>
                  <a:pt x="1331" y="610"/>
                </a:cubicBezTo>
                <a:cubicBezTo>
                  <a:pt x="1288" y="571"/>
                  <a:pt x="1248" y="633"/>
                  <a:pt x="1229" y="666"/>
                </a:cubicBezTo>
                <a:cubicBezTo>
                  <a:pt x="1177" y="758"/>
                  <a:pt x="1166" y="867"/>
                  <a:pt x="1148" y="969"/>
                </a:cubicBezTo>
                <a:cubicBezTo>
                  <a:pt x="1128" y="1083"/>
                  <a:pt x="1120" y="1194"/>
                  <a:pt x="1131" y="1310"/>
                </a:cubicBezTo>
                <a:cubicBezTo>
                  <a:pt x="1137" y="1372"/>
                  <a:pt x="1140" y="1384"/>
                  <a:pt x="1182" y="1421"/>
                </a:cubicBezTo>
                <a:cubicBezTo>
                  <a:pt x="1241" y="1403"/>
                  <a:pt x="1248" y="1382"/>
                  <a:pt x="1293" y="1327"/>
                </a:cubicBezTo>
              </a:path>
              <a:path w="1844" h="1648">
                <a:moveTo>
                  <a:pt x="1792" y="785"/>
                </a:moveTo>
                <a:cubicBezTo>
                  <a:pt x="1767" y="780"/>
                  <a:pt x="1740" y="771"/>
                  <a:pt x="1715" y="768"/>
                </a:cubicBezTo>
                <a:cubicBezTo>
                  <a:pt x="1678" y="763"/>
                  <a:pt x="1622" y="774"/>
                  <a:pt x="1592" y="794"/>
                </a:cubicBezTo>
                <a:cubicBezTo>
                  <a:pt x="1550" y="822"/>
                  <a:pt x="1511" y="868"/>
                  <a:pt x="1489" y="913"/>
                </a:cubicBezTo>
                <a:cubicBezTo>
                  <a:pt x="1468" y="955"/>
                  <a:pt x="1456" y="1007"/>
                  <a:pt x="1481" y="1050"/>
                </a:cubicBezTo>
                <a:cubicBezTo>
                  <a:pt x="1514" y="1106"/>
                  <a:pt x="1594" y="1127"/>
                  <a:pt x="1651" y="1144"/>
                </a:cubicBezTo>
                <a:cubicBezTo>
                  <a:pt x="1707" y="1161"/>
                  <a:pt x="1774" y="1162"/>
                  <a:pt x="1826" y="1186"/>
                </a:cubicBezTo>
                <a:cubicBezTo>
                  <a:pt x="1838" y="1195"/>
                  <a:pt x="1843" y="1197"/>
                  <a:pt x="1843" y="1208"/>
                </a:cubicBezTo>
                <a:cubicBezTo>
                  <a:pt x="1819" y="1237"/>
                  <a:pt x="1785" y="1252"/>
                  <a:pt x="1750" y="1267"/>
                </a:cubicBezTo>
                <a:cubicBezTo>
                  <a:pt x="1686" y="1295"/>
                  <a:pt x="1634" y="1298"/>
                  <a:pt x="1566" y="129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Freeform 25"/>
          <p:cNvSpPr/>
          <p:nvPr/>
        </p:nvSpPr>
        <p:spPr>
          <a:xfrm>
            <a:off x="4722840" y="5257800"/>
            <a:ext cx="708120" cy="743040"/>
          </a:xfrm>
          <a:custGeom>
            <a:avLst/>
            <a:gdLst/>
            <a:ahLst/>
            <a:rect l="l" t="t" r="r" b="b"/>
            <a:pathLst>
              <a:path w="1968" h="2062">
                <a:moveTo>
                  <a:pt x="589" y="683"/>
                </a:moveTo>
                <a:cubicBezTo>
                  <a:pt x="549" y="656"/>
                  <a:pt x="521" y="644"/>
                  <a:pt x="470" y="649"/>
                </a:cubicBezTo>
                <a:cubicBezTo>
                  <a:pt x="404" y="656"/>
                  <a:pt x="330" y="685"/>
                  <a:pt x="273" y="717"/>
                </a:cubicBezTo>
                <a:cubicBezTo>
                  <a:pt x="202" y="756"/>
                  <a:pt x="137" y="809"/>
                  <a:pt x="77" y="862"/>
                </a:cubicBezTo>
                <a:cubicBezTo>
                  <a:pt x="41" y="894"/>
                  <a:pt x="14" y="917"/>
                  <a:pt x="0" y="960"/>
                </a:cubicBezTo>
                <a:cubicBezTo>
                  <a:pt x="0" y="964"/>
                  <a:pt x="0" y="969"/>
                  <a:pt x="0" y="973"/>
                </a:cubicBezTo>
                <a:cubicBezTo>
                  <a:pt x="37" y="982"/>
                  <a:pt x="71" y="984"/>
                  <a:pt x="111" y="990"/>
                </a:cubicBezTo>
                <a:cubicBezTo>
                  <a:pt x="174" y="999"/>
                  <a:pt x="239" y="1006"/>
                  <a:pt x="299" y="1028"/>
                </a:cubicBezTo>
                <a:cubicBezTo>
                  <a:pt x="345" y="1044"/>
                  <a:pt x="400" y="1076"/>
                  <a:pt x="406" y="1131"/>
                </a:cubicBezTo>
                <a:cubicBezTo>
                  <a:pt x="412" y="1192"/>
                  <a:pt x="377" y="1243"/>
                  <a:pt x="337" y="1284"/>
                </a:cubicBezTo>
                <a:cubicBezTo>
                  <a:pt x="292" y="1329"/>
                  <a:pt x="212" y="1372"/>
                  <a:pt x="145" y="1361"/>
                </a:cubicBezTo>
                <a:cubicBezTo>
                  <a:pt x="93" y="1341"/>
                  <a:pt x="78" y="1336"/>
                  <a:pt x="47" y="1318"/>
                </a:cubicBezTo>
              </a:path>
              <a:path w="1968" h="2062">
                <a:moveTo>
                  <a:pt x="649" y="0"/>
                </a:moveTo>
                <a:cubicBezTo>
                  <a:pt x="686" y="140"/>
                  <a:pt x="705" y="277"/>
                  <a:pt x="717" y="422"/>
                </a:cubicBezTo>
                <a:cubicBezTo>
                  <a:pt x="732" y="611"/>
                  <a:pt x="745" y="801"/>
                  <a:pt x="743" y="990"/>
                </a:cubicBezTo>
                <a:cubicBezTo>
                  <a:pt x="742" y="1122"/>
                  <a:pt x="734" y="1255"/>
                  <a:pt x="730" y="1387"/>
                </a:cubicBezTo>
                <a:cubicBezTo>
                  <a:pt x="728" y="1446"/>
                  <a:pt x="731" y="1501"/>
                  <a:pt x="713" y="1412"/>
                </a:cubicBezTo>
              </a:path>
              <a:path w="1968" h="2062">
                <a:moveTo>
                  <a:pt x="295" y="661"/>
                </a:moveTo>
                <a:cubicBezTo>
                  <a:pt x="326" y="773"/>
                  <a:pt x="330" y="844"/>
                  <a:pt x="444" y="887"/>
                </a:cubicBezTo>
                <a:cubicBezTo>
                  <a:pt x="536" y="921"/>
                  <a:pt x="640" y="895"/>
                  <a:pt x="730" y="866"/>
                </a:cubicBezTo>
                <a:cubicBezTo>
                  <a:pt x="824" y="836"/>
                  <a:pt x="914" y="793"/>
                  <a:pt x="1007" y="759"/>
                </a:cubicBezTo>
                <a:cubicBezTo>
                  <a:pt x="1081" y="732"/>
                  <a:pt x="1151" y="722"/>
                  <a:pt x="1229" y="725"/>
                </a:cubicBezTo>
                <a:cubicBezTo>
                  <a:pt x="1258" y="726"/>
                  <a:pt x="1284" y="728"/>
                  <a:pt x="1310" y="742"/>
                </a:cubicBezTo>
                <a:cubicBezTo>
                  <a:pt x="1318" y="750"/>
                  <a:pt x="1321" y="751"/>
                  <a:pt x="1319" y="759"/>
                </a:cubicBezTo>
                <a:cubicBezTo>
                  <a:pt x="1290" y="763"/>
                  <a:pt x="1265" y="769"/>
                  <a:pt x="1229" y="768"/>
                </a:cubicBezTo>
                <a:cubicBezTo>
                  <a:pt x="1187" y="766"/>
                  <a:pt x="1139" y="760"/>
                  <a:pt x="1097" y="772"/>
                </a:cubicBezTo>
                <a:cubicBezTo>
                  <a:pt x="1048" y="786"/>
                  <a:pt x="1007" y="821"/>
                  <a:pt x="977" y="862"/>
                </a:cubicBezTo>
                <a:cubicBezTo>
                  <a:pt x="939" y="913"/>
                  <a:pt x="909" y="985"/>
                  <a:pt x="913" y="1050"/>
                </a:cubicBezTo>
                <a:cubicBezTo>
                  <a:pt x="916" y="1097"/>
                  <a:pt x="938" y="1078"/>
                  <a:pt x="952" y="1109"/>
                </a:cubicBezTo>
                <a:cubicBezTo>
                  <a:pt x="1033" y="1086"/>
                  <a:pt x="1079" y="1059"/>
                  <a:pt x="1140" y="994"/>
                </a:cubicBezTo>
                <a:cubicBezTo>
                  <a:pt x="1214" y="916"/>
                  <a:pt x="1259" y="812"/>
                  <a:pt x="1306" y="717"/>
                </a:cubicBezTo>
                <a:cubicBezTo>
                  <a:pt x="1313" y="701"/>
                  <a:pt x="1311" y="698"/>
                  <a:pt x="1319" y="691"/>
                </a:cubicBezTo>
                <a:cubicBezTo>
                  <a:pt x="1323" y="753"/>
                  <a:pt x="1328" y="813"/>
                  <a:pt x="1336" y="875"/>
                </a:cubicBezTo>
                <a:cubicBezTo>
                  <a:pt x="1347" y="957"/>
                  <a:pt x="1354" y="1053"/>
                  <a:pt x="1421" y="1109"/>
                </a:cubicBezTo>
                <a:cubicBezTo>
                  <a:pt x="1428" y="1109"/>
                  <a:pt x="1436" y="1109"/>
                  <a:pt x="1443" y="1109"/>
                </a:cubicBezTo>
                <a:cubicBezTo>
                  <a:pt x="1509" y="1056"/>
                  <a:pt x="1545" y="1007"/>
                  <a:pt x="1575" y="922"/>
                </a:cubicBezTo>
                <a:cubicBezTo>
                  <a:pt x="1613" y="814"/>
                  <a:pt x="1630" y="701"/>
                  <a:pt x="1643" y="589"/>
                </a:cubicBezTo>
                <a:cubicBezTo>
                  <a:pt x="1642" y="634"/>
                  <a:pt x="1641" y="683"/>
                  <a:pt x="1643" y="730"/>
                </a:cubicBezTo>
                <a:cubicBezTo>
                  <a:pt x="1649" y="857"/>
                  <a:pt x="1640" y="1025"/>
                  <a:pt x="1690" y="1144"/>
                </a:cubicBezTo>
                <a:cubicBezTo>
                  <a:pt x="1706" y="1176"/>
                  <a:pt x="1710" y="1185"/>
                  <a:pt x="1724" y="1203"/>
                </a:cubicBezTo>
                <a:cubicBezTo>
                  <a:pt x="1769" y="1178"/>
                  <a:pt x="1771" y="1196"/>
                  <a:pt x="1810" y="1135"/>
                </a:cubicBezTo>
                <a:cubicBezTo>
                  <a:pt x="1883" y="1021"/>
                  <a:pt x="1908" y="886"/>
                  <a:pt x="1946" y="759"/>
                </a:cubicBezTo>
                <a:cubicBezTo>
                  <a:pt x="1949" y="752"/>
                  <a:pt x="1952" y="745"/>
                  <a:pt x="1955" y="738"/>
                </a:cubicBezTo>
                <a:cubicBezTo>
                  <a:pt x="1959" y="791"/>
                  <a:pt x="1966" y="843"/>
                  <a:pt x="1967" y="896"/>
                </a:cubicBezTo>
                <a:cubicBezTo>
                  <a:pt x="1973" y="1177"/>
                  <a:pt x="1989" y="1473"/>
                  <a:pt x="1933" y="1749"/>
                </a:cubicBezTo>
                <a:cubicBezTo>
                  <a:pt x="1913" y="1846"/>
                  <a:pt x="1881" y="1970"/>
                  <a:pt x="1801" y="2035"/>
                </a:cubicBezTo>
                <a:cubicBezTo>
                  <a:pt x="1737" y="2087"/>
                  <a:pt x="1644" y="2057"/>
                  <a:pt x="1579" y="2023"/>
                </a:cubicBezTo>
                <a:cubicBezTo>
                  <a:pt x="1487" y="1975"/>
                  <a:pt x="1407" y="1903"/>
                  <a:pt x="1323" y="1843"/>
                </a:cubicBezTo>
                <a:cubicBezTo>
                  <a:pt x="1273" y="1807"/>
                  <a:pt x="1223" y="1772"/>
                  <a:pt x="1174" y="173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5" name="Freeform 26"/>
          <p:cNvSpPr/>
          <p:nvPr/>
        </p:nvSpPr>
        <p:spPr>
          <a:xfrm>
            <a:off x="5681520" y="5078520"/>
            <a:ext cx="1219320" cy="765000"/>
          </a:xfrm>
          <a:custGeom>
            <a:avLst/>
            <a:gdLst/>
            <a:ahLst/>
            <a:rect l="l" t="t" r="r" b="b"/>
            <a:pathLst>
              <a:path w="3389" h="2126">
                <a:moveTo>
                  <a:pt x="124" y="1404"/>
                </a:moveTo>
                <a:cubicBezTo>
                  <a:pt x="117" y="1424"/>
                  <a:pt x="127" y="1388"/>
                  <a:pt x="120" y="1412"/>
                </a:cubicBezTo>
                <a:cubicBezTo>
                  <a:pt x="108" y="1453"/>
                  <a:pt x="110" y="1488"/>
                  <a:pt x="107" y="1532"/>
                </a:cubicBezTo>
                <a:cubicBezTo>
                  <a:pt x="101" y="1626"/>
                  <a:pt x="102" y="1719"/>
                  <a:pt x="102" y="1813"/>
                </a:cubicBezTo>
                <a:cubicBezTo>
                  <a:pt x="102" y="1899"/>
                  <a:pt x="113" y="1980"/>
                  <a:pt x="120" y="2065"/>
                </a:cubicBezTo>
                <a:cubicBezTo>
                  <a:pt x="122" y="2084"/>
                  <a:pt x="120" y="2106"/>
                  <a:pt x="120" y="2125"/>
                </a:cubicBezTo>
                <a:cubicBezTo>
                  <a:pt x="109" y="2067"/>
                  <a:pt x="98" y="2009"/>
                  <a:pt x="90" y="1950"/>
                </a:cubicBezTo>
                <a:cubicBezTo>
                  <a:pt x="69" y="1803"/>
                  <a:pt x="49" y="1657"/>
                  <a:pt x="34" y="1510"/>
                </a:cubicBezTo>
                <a:cubicBezTo>
                  <a:pt x="20" y="1371"/>
                  <a:pt x="0" y="1228"/>
                  <a:pt x="0" y="1088"/>
                </a:cubicBezTo>
                <a:cubicBezTo>
                  <a:pt x="0" y="1037"/>
                  <a:pt x="10" y="1015"/>
                  <a:pt x="21" y="973"/>
                </a:cubicBezTo>
                <a:cubicBezTo>
                  <a:pt x="64" y="1004"/>
                  <a:pt x="94" y="1036"/>
                  <a:pt x="132" y="1079"/>
                </a:cubicBezTo>
                <a:cubicBezTo>
                  <a:pt x="189" y="1144"/>
                  <a:pt x="248" y="1208"/>
                  <a:pt x="312" y="1267"/>
                </a:cubicBezTo>
                <a:cubicBezTo>
                  <a:pt x="358" y="1310"/>
                  <a:pt x="411" y="1343"/>
                  <a:pt x="461" y="1378"/>
                </a:cubicBezTo>
                <a:cubicBezTo>
                  <a:pt x="452" y="1387"/>
                  <a:pt x="442" y="1401"/>
                  <a:pt x="423" y="1412"/>
                </a:cubicBezTo>
                <a:cubicBezTo>
                  <a:pt x="387" y="1433"/>
                  <a:pt x="346" y="1454"/>
                  <a:pt x="307" y="1468"/>
                </a:cubicBezTo>
                <a:cubicBezTo>
                  <a:pt x="267" y="1483"/>
                  <a:pt x="240" y="1505"/>
                  <a:pt x="209" y="1532"/>
                </a:cubicBezTo>
                <a:cubicBezTo>
                  <a:pt x="195" y="1544"/>
                  <a:pt x="186" y="1553"/>
                  <a:pt x="175" y="1566"/>
                </a:cubicBezTo>
              </a:path>
              <a:path w="3389" h="2126">
                <a:moveTo>
                  <a:pt x="905" y="985"/>
                </a:moveTo>
                <a:cubicBezTo>
                  <a:pt x="878" y="985"/>
                  <a:pt x="881" y="980"/>
                  <a:pt x="854" y="994"/>
                </a:cubicBezTo>
                <a:cubicBezTo>
                  <a:pt x="823" y="1010"/>
                  <a:pt x="805" y="1029"/>
                  <a:pt x="781" y="1054"/>
                </a:cubicBezTo>
                <a:cubicBezTo>
                  <a:pt x="727" y="1109"/>
                  <a:pt x="693" y="1166"/>
                  <a:pt x="662" y="1237"/>
                </a:cubicBezTo>
                <a:cubicBezTo>
                  <a:pt x="637" y="1294"/>
                  <a:pt x="619" y="1350"/>
                  <a:pt x="615" y="1412"/>
                </a:cubicBezTo>
                <a:cubicBezTo>
                  <a:pt x="613" y="1449"/>
                  <a:pt x="622" y="1447"/>
                  <a:pt x="636" y="1476"/>
                </a:cubicBezTo>
                <a:cubicBezTo>
                  <a:pt x="682" y="1457"/>
                  <a:pt x="710" y="1446"/>
                  <a:pt x="747" y="1404"/>
                </a:cubicBezTo>
                <a:cubicBezTo>
                  <a:pt x="792" y="1353"/>
                  <a:pt x="833" y="1293"/>
                  <a:pt x="866" y="1233"/>
                </a:cubicBezTo>
                <a:cubicBezTo>
                  <a:pt x="884" y="1201"/>
                  <a:pt x="895" y="1166"/>
                  <a:pt x="913" y="1135"/>
                </a:cubicBezTo>
                <a:cubicBezTo>
                  <a:pt x="915" y="1133"/>
                  <a:pt x="916" y="1132"/>
                  <a:pt x="918" y="1130"/>
                </a:cubicBezTo>
                <a:cubicBezTo>
                  <a:pt x="920" y="1156"/>
                  <a:pt x="920" y="1181"/>
                  <a:pt x="922" y="1207"/>
                </a:cubicBezTo>
                <a:cubicBezTo>
                  <a:pt x="926" y="1264"/>
                  <a:pt x="940" y="1322"/>
                  <a:pt x="952" y="1378"/>
                </a:cubicBezTo>
                <a:cubicBezTo>
                  <a:pt x="962" y="1426"/>
                  <a:pt x="976" y="1443"/>
                  <a:pt x="999" y="1468"/>
                </a:cubicBezTo>
                <a:cubicBezTo>
                  <a:pt x="1042" y="1419"/>
                  <a:pt x="1054" y="1377"/>
                  <a:pt x="1075" y="1314"/>
                </a:cubicBezTo>
                <a:cubicBezTo>
                  <a:pt x="1106" y="1221"/>
                  <a:pt x="1118" y="1116"/>
                  <a:pt x="1161" y="1028"/>
                </a:cubicBezTo>
                <a:cubicBezTo>
                  <a:pt x="1162" y="1028"/>
                  <a:pt x="1164" y="1028"/>
                  <a:pt x="1165" y="1028"/>
                </a:cubicBezTo>
                <a:cubicBezTo>
                  <a:pt x="1196" y="1122"/>
                  <a:pt x="1204" y="1221"/>
                  <a:pt x="1225" y="1318"/>
                </a:cubicBezTo>
                <a:cubicBezTo>
                  <a:pt x="1239" y="1379"/>
                  <a:pt x="1247" y="1442"/>
                  <a:pt x="1263" y="1502"/>
                </a:cubicBezTo>
                <a:cubicBezTo>
                  <a:pt x="1272" y="1536"/>
                  <a:pt x="1280" y="1521"/>
                  <a:pt x="1289" y="1536"/>
                </a:cubicBezTo>
                <a:cubicBezTo>
                  <a:pt x="1306" y="1491"/>
                  <a:pt x="1322" y="1446"/>
                  <a:pt x="1336" y="1399"/>
                </a:cubicBezTo>
                <a:cubicBezTo>
                  <a:pt x="1362" y="1308"/>
                  <a:pt x="1383" y="1216"/>
                  <a:pt x="1413" y="1126"/>
                </a:cubicBezTo>
                <a:cubicBezTo>
                  <a:pt x="1429" y="1077"/>
                  <a:pt x="1442" y="1003"/>
                  <a:pt x="1489" y="973"/>
                </a:cubicBezTo>
                <a:cubicBezTo>
                  <a:pt x="1495" y="971"/>
                  <a:pt x="1500" y="970"/>
                  <a:pt x="1506" y="968"/>
                </a:cubicBezTo>
                <a:cubicBezTo>
                  <a:pt x="1533" y="992"/>
                  <a:pt x="1551" y="1013"/>
                  <a:pt x="1575" y="1041"/>
                </a:cubicBezTo>
                <a:cubicBezTo>
                  <a:pt x="1627" y="1103"/>
                  <a:pt x="1657" y="1120"/>
                  <a:pt x="1716" y="1079"/>
                </a:cubicBezTo>
              </a:path>
              <a:path w="3389" h="2126">
                <a:moveTo>
                  <a:pt x="1903" y="793"/>
                </a:moveTo>
                <a:cubicBezTo>
                  <a:pt x="1880" y="864"/>
                  <a:pt x="1844" y="927"/>
                  <a:pt x="1809" y="994"/>
                </a:cubicBezTo>
                <a:cubicBezTo>
                  <a:pt x="1772" y="1064"/>
                  <a:pt x="1725" y="1132"/>
                  <a:pt x="1677" y="1194"/>
                </a:cubicBezTo>
                <a:cubicBezTo>
                  <a:pt x="1640" y="1241"/>
                  <a:pt x="1605" y="1290"/>
                  <a:pt x="1566" y="1335"/>
                </a:cubicBezTo>
                <a:cubicBezTo>
                  <a:pt x="1538" y="1367"/>
                  <a:pt x="1548" y="1366"/>
                  <a:pt x="1545" y="1391"/>
                </a:cubicBezTo>
                <a:cubicBezTo>
                  <a:pt x="1583" y="1374"/>
                  <a:pt x="1615" y="1355"/>
                  <a:pt x="1652" y="1335"/>
                </a:cubicBezTo>
                <a:cubicBezTo>
                  <a:pt x="1738" y="1288"/>
                  <a:pt x="1816" y="1220"/>
                  <a:pt x="1886" y="1152"/>
                </a:cubicBezTo>
                <a:cubicBezTo>
                  <a:pt x="1916" y="1122"/>
                  <a:pt x="1950" y="1082"/>
                  <a:pt x="1989" y="1062"/>
                </a:cubicBezTo>
                <a:cubicBezTo>
                  <a:pt x="1992" y="1062"/>
                  <a:pt x="1994" y="1062"/>
                  <a:pt x="1997" y="1062"/>
                </a:cubicBezTo>
                <a:cubicBezTo>
                  <a:pt x="2003" y="1099"/>
                  <a:pt x="2003" y="1136"/>
                  <a:pt x="2001" y="1177"/>
                </a:cubicBezTo>
                <a:cubicBezTo>
                  <a:pt x="1997" y="1248"/>
                  <a:pt x="1994" y="1320"/>
                  <a:pt x="1997" y="1391"/>
                </a:cubicBezTo>
                <a:cubicBezTo>
                  <a:pt x="1999" y="1431"/>
                  <a:pt x="2008" y="1440"/>
                  <a:pt x="2019" y="1468"/>
                </a:cubicBezTo>
                <a:cubicBezTo>
                  <a:pt x="2027" y="1455"/>
                  <a:pt x="2058" y="1406"/>
                  <a:pt x="2070" y="1378"/>
                </a:cubicBezTo>
              </a:path>
              <a:path w="3389" h="2126">
                <a:moveTo>
                  <a:pt x="2266" y="435"/>
                </a:moveTo>
                <a:cubicBezTo>
                  <a:pt x="2279" y="588"/>
                  <a:pt x="2290" y="742"/>
                  <a:pt x="2300" y="896"/>
                </a:cubicBezTo>
                <a:cubicBezTo>
                  <a:pt x="2309" y="1032"/>
                  <a:pt x="2317" y="1169"/>
                  <a:pt x="2334" y="1305"/>
                </a:cubicBezTo>
                <a:cubicBezTo>
                  <a:pt x="2340" y="1352"/>
                  <a:pt x="2351" y="1408"/>
                  <a:pt x="2360" y="1450"/>
                </a:cubicBezTo>
                <a:cubicBezTo>
                  <a:pt x="2360" y="1315"/>
                  <a:pt x="2361" y="1180"/>
                  <a:pt x="2368" y="1045"/>
                </a:cubicBezTo>
              </a:path>
              <a:path w="3389" h="2126">
                <a:moveTo>
                  <a:pt x="2526" y="243"/>
                </a:moveTo>
                <a:cubicBezTo>
                  <a:pt x="2541" y="400"/>
                  <a:pt x="2561" y="560"/>
                  <a:pt x="2573" y="717"/>
                </a:cubicBezTo>
                <a:cubicBezTo>
                  <a:pt x="2583" y="846"/>
                  <a:pt x="2590" y="979"/>
                  <a:pt x="2595" y="1109"/>
                </a:cubicBezTo>
                <a:cubicBezTo>
                  <a:pt x="2597" y="1151"/>
                  <a:pt x="2599" y="1188"/>
                  <a:pt x="2603" y="1229"/>
                </a:cubicBezTo>
                <a:cubicBezTo>
                  <a:pt x="2612" y="1191"/>
                  <a:pt x="2611" y="1154"/>
                  <a:pt x="2616" y="1113"/>
                </a:cubicBezTo>
                <a:cubicBezTo>
                  <a:pt x="2623" y="1046"/>
                  <a:pt x="2632" y="980"/>
                  <a:pt x="2637" y="913"/>
                </a:cubicBezTo>
              </a:path>
              <a:path w="3389" h="2126">
                <a:moveTo>
                  <a:pt x="2735" y="930"/>
                </a:moveTo>
                <a:cubicBezTo>
                  <a:pt x="2746" y="955"/>
                  <a:pt x="2752" y="976"/>
                  <a:pt x="2770" y="998"/>
                </a:cubicBezTo>
                <a:cubicBezTo>
                  <a:pt x="2784" y="1015"/>
                  <a:pt x="2795" y="1013"/>
                  <a:pt x="2812" y="1015"/>
                </a:cubicBezTo>
                <a:cubicBezTo>
                  <a:pt x="2848" y="1020"/>
                  <a:pt x="2883" y="992"/>
                  <a:pt x="2906" y="968"/>
                </a:cubicBezTo>
                <a:cubicBezTo>
                  <a:pt x="2934" y="939"/>
                  <a:pt x="2958" y="898"/>
                  <a:pt x="2974" y="862"/>
                </a:cubicBezTo>
                <a:cubicBezTo>
                  <a:pt x="2988" y="829"/>
                  <a:pt x="2987" y="795"/>
                  <a:pt x="2974" y="763"/>
                </a:cubicBezTo>
                <a:cubicBezTo>
                  <a:pt x="2961" y="730"/>
                  <a:pt x="2929" y="732"/>
                  <a:pt x="2902" y="746"/>
                </a:cubicBezTo>
                <a:cubicBezTo>
                  <a:pt x="2850" y="774"/>
                  <a:pt x="2826" y="845"/>
                  <a:pt x="2804" y="896"/>
                </a:cubicBezTo>
                <a:cubicBezTo>
                  <a:pt x="2769" y="979"/>
                  <a:pt x="2761" y="1062"/>
                  <a:pt x="2765" y="1152"/>
                </a:cubicBezTo>
                <a:cubicBezTo>
                  <a:pt x="2769" y="1226"/>
                  <a:pt x="2783" y="1295"/>
                  <a:pt x="2842" y="1344"/>
                </a:cubicBezTo>
                <a:cubicBezTo>
                  <a:pt x="2893" y="1386"/>
                  <a:pt x="2955" y="1352"/>
                  <a:pt x="2987" y="1305"/>
                </a:cubicBezTo>
                <a:cubicBezTo>
                  <a:pt x="3041" y="1223"/>
                  <a:pt x="3063" y="1142"/>
                  <a:pt x="3090" y="1049"/>
                </a:cubicBezTo>
              </a:path>
              <a:path w="3389" h="2126">
                <a:moveTo>
                  <a:pt x="3329" y="0"/>
                </a:moveTo>
                <a:cubicBezTo>
                  <a:pt x="3334" y="98"/>
                  <a:pt x="3360" y="193"/>
                  <a:pt x="3367" y="290"/>
                </a:cubicBezTo>
                <a:cubicBezTo>
                  <a:pt x="3375" y="402"/>
                  <a:pt x="3390" y="518"/>
                  <a:pt x="3388" y="631"/>
                </a:cubicBezTo>
                <a:cubicBezTo>
                  <a:pt x="3386" y="756"/>
                  <a:pt x="3387" y="882"/>
                  <a:pt x="3384" y="1007"/>
                </a:cubicBezTo>
                <a:cubicBezTo>
                  <a:pt x="3382" y="1076"/>
                  <a:pt x="3376" y="1143"/>
                  <a:pt x="3376" y="1212"/>
                </a:cubicBezTo>
                <a:cubicBezTo>
                  <a:pt x="3376" y="1218"/>
                  <a:pt x="3376" y="1223"/>
                  <a:pt x="3376" y="1229"/>
                </a:cubicBezTo>
                <a:cubicBezTo>
                  <a:pt x="3370" y="1188"/>
                  <a:pt x="3370" y="1152"/>
                  <a:pt x="3371" y="1109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6" name="Freeform 27"/>
          <p:cNvSpPr/>
          <p:nvPr/>
        </p:nvSpPr>
        <p:spPr>
          <a:xfrm>
            <a:off x="7137360" y="4818240"/>
            <a:ext cx="934920" cy="966600"/>
          </a:xfrm>
          <a:custGeom>
            <a:avLst/>
            <a:gdLst/>
            <a:ahLst/>
            <a:rect l="l" t="t" r="r" b="b"/>
            <a:pathLst>
              <a:path w="2595" h="2685">
                <a:moveTo>
                  <a:pt x="738" y="290"/>
                </a:moveTo>
                <a:cubicBezTo>
                  <a:pt x="733" y="294"/>
                  <a:pt x="743" y="286"/>
                  <a:pt x="738" y="290"/>
                </a:cubicBezTo>
                <a:cubicBezTo>
                  <a:pt x="731" y="295"/>
                  <a:pt x="738" y="292"/>
                  <a:pt x="734" y="295"/>
                </a:cubicBezTo>
                <a:cubicBezTo>
                  <a:pt x="731" y="297"/>
                  <a:pt x="724" y="296"/>
                  <a:pt x="721" y="299"/>
                </a:cubicBezTo>
                <a:cubicBezTo>
                  <a:pt x="669" y="348"/>
                  <a:pt x="625" y="402"/>
                  <a:pt x="580" y="457"/>
                </a:cubicBezTo>
                <a:cubicBezTo>
                  <a:pt x="423" y="650"/>
                  <a:pt x="298" y="876"/>
                  <a:pt x="187" y="1097"/>
                </a:cubicBezTo>
                <a:cubicBezTo>
                  <a:pt x="121" y="1228"/>
                  <a:pt x="60" y="1363"/>
                  <a:pt x="29" y="1507"/>
                </a:cubicBezTo>
                <a:cubicBezTo>
                  <a:pt x="-21" y="1737"/>
                  <a:pt x="-11" y="1981"/>
                  <a:pt x="76" y="2202"/>
                </a:cubicBezTo>
                <a:cubicBezTo>
                  <a:pt x="128" y="2334"/>
                  <a:pt x="206" y="2458"/>
                  <a:pt x="303" y="2561"/>
                </a:cubicBezTo>
                <a:cubicBezTo>
                  <a:pt x="361" y="2622"/>
                  <a:pt x="417" y="2676"/>
                  <a:pt x="499" y="2680"/>
                </a:cubicBezTo>
                <a:cubicBezTo>
                  <a:pt x="515" y="2674"/>
                  <a:pt x="530" y="2669"/>
                  <a:pt x="546" y="2663"/>
                </a:cubicBezTo>
              </a:path>
              <a:path w="2595" h="2685">
                <a:moveTo>
                  <a:pt x="1310" y="295"/>
                </a:moveTo>
                <a:cubicBezTo>
                  <a:pt x="1308" y="422"/>
                  <a:pt x="1292" y="551"/>
                  <a:pt x="1276" y="679"/>
                </a:cubicBezTo>
                <a:cubicBezTo>
                  <a:pt x="1249" y="894"/>
                  <a:pt x="1217" y="1109"/>
                  <a:pt x="1182" y="1323"/>
                </a:cubicBezTo>
                <a:cubicBezTo>
                  <a:pt x="1153" y="1500"/>
                  <a:pt x="1120" y="1677"/>
                  <a:pt x="1083" y="1852"/>
                </a:cubicBezTo>
                <a:cubicBezTo>
                  <a:pt x="1064" y="1940"/>
                  <a:pt x="1063" y="1963"/>
                  <a:pt x="1002" y="2010"/>
                </a:cubicBezTo>
              </a:path>
              <a:path w="2595" h="2685">
                <a:moveTo>
                  <a:pt x="512" y="1016"/>
                </a:moveTo>
                <a:cubicBezTo>
                  <a:pt x="517" y="1129"/>
                  <a:pt x="520" y="1249"/>
                  <a:pt x="580" y="1349"/>
                </a:cubicBezTo>
                <a:cubicBezTo>
                  <a:pt x="658" y="1479"/>
                  <a:pt x="787" y="1543"/>
                  <a:pt x="934" y="1494"/>
                </a:cubicBezTo>
                <a:cubicBezTo>
                  <a:pt x="1088" y="1443"/>
                  <a:pt x="1208" y="1296"/>
                  <a:pt x="1297" y="1169"/>
                </a:cubicBezTo>
                <a:cubicBezTo>
                  <a:pt x="1420" y="994"/>
                  <a:pt x="1504" y="791"/>
                  <a:pt x="1570" y="589"/>
                </a:cubicBezTo>
                <a:cubicBezTo>
                  <a:pt x="1621" y="433"/>
                  <a:pt x="1659" y="273"/>
                  <a:pt x="1685" y="111"/>
                </a:cubicBezTo>
                <a:cubicBezTo>
                  <a:pt x="1693" y="51"/>
                  <a:pt x="1695" y="37"/>
                  <a:pt x="1698" y="0"/>
                </a:cubicBezTo>
                <a:cubicBezTo>
                  <a:pt x="1688" y="118"/>
                  <a:pt x="1675" y="236"/>
                  <a:pt x="1660" y="354"/>
                </a:cubicBezTo>
                <a:cubicBezTo>
                  <a:pt x="1629" y="593"/>
                  <a:pt x="1586" y="832"/>
                  <a:pt x="1561" y="1071"/>
                </a:cubicBezTo>
                <a:cubicBezTo>
                  <a:pt x="1543" y="1239"/>
                  <a:pt x="1525" y="1406"/>
                  <a:pt x="1519" y="1575"/>
                </a:cubicBezTo>
                <a:cubicBezTo>
                  <a:pt x="1518" y="1613"/>
                  <a:pt x="1520" y="1652"/>
                  <a:pt x="1519" y="1690"/>
                </a:cubicBezTo>
                <a:cubicBezTo>
                  <a:pt x="1533" y="1655"/>
                  <a:pt x="1548" y="1615"/>
                  <a:pt x="1561" y="1575"/>
                </a:cubicBezTo>
                <a:cubicBezTo>
                  <a:pt x="1589" y="1488"/>
                  <a:pt x="1611" y="1400"/>
                  <a:pt x="1630" y="1310"/>
                </a:cubicBezTo>
                <a:cubicBezTo>
                  <a:pt x="1641" y="1258"/>
                  <a:pt x="1659" y="1206"/>
                  <a:pt x="1672" y="1157"/>
                </a:cubicBezTo>
                <a:cubicBezTo>
                  <a:pt x="1684" y="1198"/>
                  <a:pt x="1698" y="1243"/>
                  <a:pt x="1707" y="1289"/>
                </a:cubicBezTo>
                <a:cubicBezTo>
                  <a:pt x="1723" y="1371"/>
                  <a:pt x="1739" y="1455"/>
                  <a:pt x="1762" y="1536"/>
                </a:cubicBezTo>
                <a:cubicBezTo>
                  <a:pt x="1778" y="1593"/>
                  <a:pt x="1808" y="1624"/>
                  <a:pt x="1830" y="1664"/>
                </a:cubicBezTo>
                <a:cubicBezTo>
                  <a:pt x="1877" y="1629"/>
                  <a:pt x="1901" y="1626"/>
                  <a:pt x="1941" y="1562"/>
                </a:cubicBezTo>
                <a:cubicBezTo>
                  <a:pt x="1998" y="1471"/>
                  <a:pt x="2035" y="1361"/>
                  <a:pt x="2069" y="1259"/>
                </a:cubicBezTo>
                <a:cubicBezTo>
                  <a:pt x="2099" y="1170"/>
                  <a:pt x="2119" y="1078"/>
                  <a:pt x="2138" y="986"/>
                </a:cubicBezTo>
                <a:cubicBezTo>
                  <a:pt x="2144" y="959"/>
                  <a:pt x="2145" y="932"/>
                  <a:pt x="2150" y="905"/>
                </a:cubicBezTo>
                <a:cubicBezTo>
                  <a:pt x="2128" y="952"/>
                  <a:pt x="2105" y="999"/>
                  <a:pt x="2082" y="1046"/>
                </a:cubicBezTo>
                <a:cubicBezTo>
                  <a:pt x="2047" y="1117"/>
                  <a:pt x="2001" y="1189"/>
                  <a:pt x="1988" y="1268"/>
                </a:cubicBezTo>
                <a:cubicBezTo>
                  <a:pt x="1972" y="1369"/>
                  <a:pt x="1993" y="1469"/>
                  <a:pt x="2078" y="1532"/>
                </a:cubicBezTo>
                <a:cubicBezTo>
                  <a:pt x="2145" y="1582"/>
                  <a:pt x="2220" y="1585"/>
                  <a:pt x="2300" y="1583"/>
                </a:cubicBezTo>
                <a:cubicBezTo>
                  <a:pt x="2370" y="1581"/>
                  <a:pt x="2472" y="1565"/>
                  <a:pt x="2534" y="1528"/>
                </a:cubicBezTo>
                <a:cubicBezTo>
                  <a:pt x="2563" y="1503"/>
                  <a:pt x="2572" y="1495"/>
                  <a:pt x="2594" y="148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7" name="Freeform 28"/>
          <p:cNvSpPr/>
          <p:nvPr/>
        </p:nvSpPr>
        <p:spPr>
          <a:xfrm>
            <a:off x="4016520" y="5888160"/>
            <a:ext cx="1160280" cy="550800"/>
          </a:xfrm>
          <a:custGeom>
            <a:avLst/>
            <a:gdLst/>
            <a:ahLst/>
            <a:rect l="l" t="t" r="r" b="b"/>
            <a:pathLst>
              <a:path w="3223" h="1529">
                <a:moveTo>
                  <a:pt x="9" y="1153"/>
                </a:moveTo>
                <a:cubicBezTo>
                  <a:pt x="9" y="1160"/>
                  <a:pt x="9" y="1150"/>
                  <a:pt x="9" y="1157"/>
                </a:cubicBezTo>
                <a:cubicBezTo>
                  <a:pt x="9" y="1201"/>
                  <a:pt x="4" y="1242"/>
                  <a:pt x="0" y="1285"/>
                </a:cubicBezTo>
                <a:cubicBezTo>
                  <a:pt x="-4" y="1332"/>
                  <a:pt x="4" y="1380"/>
                  <a:pt x="9" y="1426"/>
                </a:cubicBezTo>
                <a:cubicBezTo>
                  <a:pt x="12" y="1450"/>
                  <a:pt x="17" y="1490"/>
                  <a:pt x="34" y="1507"/>
                </a:cubicBezTo>
                <a:cubicBezTo>
                  <a:pt x="46" y="1519"/>
                  <a:pt x="61" y="1535"/>
                  <a:pt x="81" y="1524"/>
                </a:cubicBezTo>
                <a:cubicBezTo>
                  <a:pt x="119" y="1503"/>
                  <a:pt x="137" y="1450"/>
                  <a:pt x="150" y="1413"/>
                </a:cubicBezTo>
                <a:cubicBezTo>
                  <a:pt x="186" y="1313"/>
                  <a:pt x="204" y="1205"/>
                  <a:pt x="226" y="1101"/>
                </a:cubicBezTo>
                <a:cubicBezTo>
                  <a:pt x="249" y="989"/>
                  <a:pt x="281" y="880"/>
                  <a:pt x="307" y="769"/>
                </a:cubicBezTo>
              </a:path>
              <a:path w="3223" h="1529">
                <a:moveTo>
                  <a:pt x="546" y="1195"/>
                </a:moveTo>
                <a:cubicBezTo>
                  <a:pt x="565" y="1214"/>
                  <a:pt x="572" y="1221"/>
                  <a:pt x="585" y="1234"/>
                </a:cubicBezTo>
              </a:path>
              <a:path w="3223" h="1529">
                <a:moveTo>
                  <a:pt x="679" y="1242"/>
                </a:moveTo>
                <a:cubicBezTo>
                  <a:pt x="731" y="1195"/>
                  <a:pt x="755" y="1144"/>
                  <a:pt x="773" y="1076"/>
                </a:cubicBezTo>
                <a:cubicBezTo>
                  <a:pt x="790" y="1012"/>
                  <a:pt x="798" y="941"/>
                  <a:pt x="785" y="875"/>
                </a:cubicBezTo>
                <a:cubicBezTo>
                  <a:pt x="777" y="838"/>
                  <a:pt x="762" y="817"/>
                  <a:pt x="738" y="790"/>
                </a:cubicBezTo>
                <a:cubicBezTo>
                  <a:pt x="684" y="790"/>
                  <a:pt x="658" y="819"/>
                  <a:pt x="628" y="867"/>
                </a:cubicBezTo>
                <a:cubicBezTo>
                  <a:pt x="580" y="946"/>
                  <a:pt x="548" y="1041"/>
                  <a:pt x="529" y="1131"/>
                </a:cubicBezTo>
                <a:cubicBezTo>
                  <a:pt x="510" y="1221"/>
                  <a:pt x="495" y="1316"/>
                  <a:pt x="499" y="1409"/>
                </a:cubicBezTo>
                <a:cubicBezTo>
                  <a:pt x="501" y="1471"/>
                  <a:pt x="512" y="1483"/>
                  <a:pt x="546" y="1524"/>
                </a:cubicBezTo>
                <a:cubicBezTo>
                  <a:pt x="602" y="1515"/>
                  <a:pt x="630" y="1475"/>
                  <a:pt x="662" y="1426"/>
                </a:cubicBezTo>
                <a:cubicBezTo>
                  <a:pt x="713" y="1347"/>
                  <a:pt x="754" y="1252"/>
                  <a:pt x="790" y="1165"/>
                </a:cubicBezTo>
                <a:cubicBezTo>
                  <a:pt x="820" y="1093"/>
                  <a:pt x="839" y="1021"/>
                  <a:pt x="875" y="952"/>
                </a:cubicBezTo>
                <a:cubicBezTo>
                  <a:pt x="918" y="979"/>
                  <a:pt x="918" y="1026"/>
                  <a:pt x="930" y="1076"/>
                </a:cubicBezTo>
                <a:cubicBezTo>
                  <a:pt x="950" y="1160"/>
                  <a:pt x="966" y="1247"/>
                  <a:pt x="977" y="1332"/>
                </a:cubicBezTo>
                <a:cubicBezTo>
                  <a:pt x="984" y="1386"/>
                  <a:pt x="989" y="1438"/>
                  <a:pt x="999" y="1490"/>
                </a:cubicBezTo>
                <a:cubicBezTo>
                  <a:pt x="999" y="1493"/>
                  <a:pt x="999" y="1495"/>
                  <a:pt x="999" y="1498"/>
                </a:cubicBezTo>
                <a:cubicBezTo>
                  <a:pt x="1002" y="1451"/>
                  <a:pt x="1001" y="1405"/>
                  <a:pt x="1003" y="1358"/>
                </a:cubicBezTo>
                <a:cubicBezTo>
                  <a:pt x="1007" y="1257"/>
                  <a:pt x="1008" y="1150"/>
                  <a:pt x="1024" y="1050"/>
                </a:cubicBezTo>
                <a:cubicBezTo>
                  <a:pt x="1035" y="980"/>
                  <a:pt x="1050" y="882"/>
                  <a:pt x="1088" y="820"/>
                </a:cubicBezTo>
                <a:cubicBezTo>
                  <a:pt x="1108" y="800"/>
                  <a:pt x="1113" y="794"/>
                  <a:pt x="1131" y="790"/>
                </a:cubicBezTo>
                <a:cubicBezTo>
                  <a:pt x="1184" y="823"/>
                  <a:pt x="1211" y="871"/>
                  <a:pt x="1251" y="918"/>
                </a:cubicBezTo>
                <a:cubicBezTo>
                  <a:pt x="1261" y="929"/>
                  <a:pt x="1270" y="941"/>
                  <a:pt x="1280" y="952"/>
                </a:cubicBezTo>
              </a:path>
              <a:path w="3223" h="1529">
                <a:moveTo>
                  <a:pt x="1571" y="286"/>
                </a:moveTo>
                <a:cubicBezTo>
                  <a:pt x="1576" y="441"/>
                  <a:pt x="1572" y="592"/>
                  <a:pt x="1558" y="747"/>
                </a:cubicBezTo>
                <a:cubicBezTo>
                  <a:pt x="1546" y="884"/>
                  <a:pt x="1545" y="1020"/>
                  <a:pt x="1541" y="1157"/>
                </a:cubicBezTo>
                <a:cubicBezTo>
                  <a:pt x="1540" y="1186"/>
                  <a:pt x="1542" y="1222"/>
                  <a:pt x="1536" y="1251"/>
                </a:cubicBezTo>
                <a:cubicBezTo>
                  <a:pt x="1535" y="1251"/>
                  <a:pt x="1533" y="1251"/>
                  <a:pt x="1532" y="1251"/>
                </a:cubicBezTo>
                <a:cubicBezTo>
                  <a:pt x="1525" y="1207"/>
                  <a:pt x="1516" y="1163"/>
                  <a:pt x="1507" y="1119"/>
                </a:cubicBezTo>
                <a:cubicBezTo>
                  <a:pt x="1491" y="1045"/>
                  <a:pt x="1474" y="969"/>
                  <a:pt x="1451" y="897"/>
                </a:cubicBezTo>
                <a:cubicBezTo>
                  <a:pt x="1435" y="848"/>
                  <a:pt x="1419" y="806"/>
                  <a:pt x="1387" y="769"/>
                </a:cubicBezTo>
                <a:cubicBezTo>
                  <a:pt x="1374" y="796"/>
                  <a:pt x="1365" y="811"/>
                  <a:pt x="1370" y="845"/>
                </a:cubicBezTo>
                <a:cubicBezTo>
                  <a:pt x="1378" y="896"/>
                  <a:pt x="1383" y="945"/>
                  <a:pt x="1408" y="991"/>
                </a:cubicBezTo>
                <a:cubicBezTo>
                  <a:pt x="1435" y="1040"/>
                  <a:pt x="1479" y="1091"/>
                  <a:pt x="1541" y="1080"/>
                </a:cubicBezTo>
                <a:cubicBezTo>
                  <a:pt x="1607" y="1068"/>
                  <a:pt x="1647" y="1017"/>
                  <a:pt x="1686" y="969"/>
                </a:cubicBezTo>
                <a:cubicBezTo>
                  <a:pt x="1731" y="913"/>
                  <a:pt x="1766" y="859"/>
                  <a:pt x="1797" y="794"/>
                </a:cubicBezTo>
                <a:cubicBezTo>
                  <a:pt x="1805" y="776"/>
                  <a:pt x="1830" y="736"/>
                  <a:pt x="1831" y="734"/>
                </a:cubicBezTo>
                <a:cubicBezTo>
                  <a:pt x="1849" y="781"/>
                  <a:pt x="1868" y="829"/>
                  <a:pt x="1878" y="880"/>
                </a:cubicBezTo>
                <a:cubicBezTo>
                  <a:pt x="1894" y="966"/>
                  <a:pt x="1919" y="1048"/>
                  <a:pt x="1929" y="1136"/>
                </a:cubicBezTo>
                <a:cubicBezTo>
                  <a:pt x="1931" y="1152"/>
                  <a:pt x="1948" y="1318"/>
                  <a:pt x="1942" y="1212"/>
                </a:cubicBezTo>
                <a:cubicBezTo>
                  <a:pt x="1942" y="1198"/>
                  <a:pt x="1942" y="1184"/>
                  <a:pt x="1942" y="1170"/>
                </a:cubicBezTo>
              </a:path>
              <a:path w="3223" h="1529">
                <a:moveTo>
                  <a:pt x="2087" y="0"/>
                </a:moveTo>
                <a:cubicBezTo>
                  <a:pt x="2103" y="135"/>
                  <a:pt x="2105" y="267"/>
                  <a:pt x="2121" y="402"/>
                </a:cubicBezTo>
                <a:cubicBezTo>
                  <a:pt x="2129" y="452"/>
                  <a:pt x="2131" y="466"/>
                  <a:pt x="2142" y="496"/>
                </a:cubicBezTo>
              </a:path>
              <a:path w="3223" h="1529">
                <a:moveTo>
                  <a:pt x="2411" y="760"/>
                </a:moveTo>
                <a:cubicBezTo>
                  <a:pt x="2414" y="812"/>
                  <a:pt x="2417" y="865"/>
                  <a:pt x="2433" y="914"/>
                </a:cubicBezTo>
                <a:cubicBezTo>
                  <a:pt x="2430" y="885"/>
                  <a:pt x="2425" y="858"/>
                  <a:pt x="2420" y="828"/>
                </a:cubicBezTo>
                <a:cubicBezTo>
                  <a:pt x="2408" y="764"/>
                  <a:pt x="2396" y="699"/>
                  <a:pt x="2377" y="636"/>
                </a:cubicBezTo>
                <a:cubicBezTo>
                  <a:pt x="2364" y="593"/>
                  <a:pt x="2349" y="541"/>
                  <a:pt x="2322" y="504"/>
                </a:cubicBezTo>
                <a:cubicBezTo>
                  <a:pt x="2318" y="500"/>
                  <a:pt x="2313" y="495"/>
                  <a:pt x="2309" y="491"/>
                </a:cubicBezTo>
                <a:cubicBezTo>
                  <a:pt x="2267" y="514"/>
                  <a:pt x="2266" y="548"/>
                  <a:pt x="2253" y="594"/>
                </a:cubicBezTo>
                <a:cubicBezTo>
                  <a:pt x="2227" y="684"/>
                  <a:pt x="2207" y="778"/>
                  <a:pt x="2194" y="871"/>
                </a:cubicBezTo>
                <a:cubicBezTo>
                  <a:pt x="2182" y="959"/>
                  <a:pt x="2175" y="1047"/>
                  <a:pt x="2172" y="1136"/>
                </a:cubicBezTo>
                <a:cubicBezTo>
                  <a:pt x="2171" y="1177"/>
                  <a:pt x="2177" y="1174"/>
                  <a:pt x="2189" y="1204"/>
                </a:cubicBezTo>
                <a:cubicBezTo>
                  <a:pt x="2240" y="1173"/>
                  <a:pt x="2265" y="1131"/>
                  <a:pt x="2292" y="1076"/>
                </a:cubicBezTo>
                <a:cubicBezTo>
                  <a:pt x="2322" y="1008"/>
                  <a:pt x="2332" y="986"/>
                  <a:pt x="2369" y="952"/>
                </a:cubicBezTo>
              </a:path>
              <a:path w="3223" h="1529">
                <a:moveTo>
                  <a:pt x="2872" y="734"/>
                </a:moveTo>
                <a:cubicBezTo>
                  <a:pt x="2889" y="736"/>
                  <a:pt x="2909" y="744"/>
                  <a:pt x="2889" y="717"/>
                </a:cubicBezTo>
                <a:cubicBezTo>
                  <a:pt x="2872" y="693"/>
                  <a:pt x="2829" y="676"/>
                  <a:pt x="2804" y="662"/>
                </a:cubicBezTo>
                <a:cubicBezTo>
                  <a:pt x="2762" y="638"/>
                  <a:pt x="2728" y="626"/>
                  <a:pt x="2680" y="645"/>
                </a:cubicBezTo>
                <a:cubicBezTo>
                  <a:pt x="2625" y="667"/>
                  <a:pt x="2597" y="729"/>
                  <a:pt x="2578" y="781"/>
                </a:cubicBezTo>
                <a:cubicBezTo>
                  <a:pt x="2550" y="859"/>
                  <a:pt x="2545" y="934"/>
                  <a:pt x="2544" y="1016"/>
                </a:cubicBezTo>
                <a:cubicBezTo>
                  <a:pt x="2544" y="1068"/>
                  <a:pt x="2541" y="1112"/>
                  <a:pt x="2582" y="1144"/>
                </a:cubicBezTo>
                <a:cubicBezTo>
                  <a:pt x="2636" y="1139"/>
                  <a:pt x="2654" y="1101"/>
                  <a:pt x="2680" y="1050"/>
                </a:cubicBezTo>
                <a:cubicBezTo>
                  <a:pt x="2721" y="971"/>
                  <a:pt x="2733" y="886"/>
                  <a:pt x="2761" y="803"/>
                </a:cubicBezTo>
                <a:cubicBezTo>
                  <a:pt x="2778" y="753"/>
                  <a:pt x="2783" y="710"/>
                  <a:pt x="2795" y="658"/>
                </a:cubicBezTo>
                <a:cubicBezTo>
                  <a:pt x="2812" y="700"/>
                  <a:pt x="2816" y="745"/>
                  <a:pt x="2825" y="790"/>
                </a:cubicBezTo>
                <a:cubicBezTo>
                  <a:pt x="2840" y="867"/>
                  <a:pt x="2861" y="941"/>
                  <a:pt x="2885" y="1016"/>
                </a:cubicBezTo>
                <a:cubicBezTo>
                  <a:pt x="2895" y="1048"/>
                  <a:pt x="2906" y="1079"/>
                  <a:pt x="2919" y="1110"/>
                </a:cubicBezTo>
                <a:cubicBezTo>
                  <a:pt x="2931" y="1070"/>
                  <a:pt x="2954" y="988"/>
                  <a:pt x="2958" y="935"/>
                </a:cubicBezTo>
                <a:cubicBezTo>
                  <a:pt x="2958" y="902"/>
                  <a:pt x="2958" y="870"/>
                  <a:pt x="2958" y="837"/>
                </a:cubicBezTo>
              </a:path>
              <a:path w="3223" h="1529">
                <a:moveTo>
                  <a:pt x="3175" y="60"/>
                </a:moveTo>
                <a:cubicBezTo>
                  <a:pt x="3185" y="247"/>
                  <a:pt x="3178" y="432"/>
                  <a:pt x="3179" y="619"/>
                </a:cubicBezTo>
                <a:cubicBezTo>
                  <a:pt x="3180" y="749"/>
                  <a:pt x="3179" y="883"/>
                  <a:pt x="3196" y="1012"/>
                </a:cubicBezTo>
                <a:cubicBezTo>
                  <a:pt x="3203" y="1049"/>
                  <a:pt x="3206" y="1054"/>
                  <a:pt x="3205" y="1076"/>
                </a:cubicBezTo>
                <a:cubicBezTo>
                  <a:pt x="3211" y="1021"/>
                  <a:pt x="3215" y="952"/>
                  <a:pt x="3222" y="892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8" name="Freeform 29"/>
          <p:cNvSpPr/>
          <p:nvPr/>
        </p:nvSpPr>
        <p:spPr>
          <a:xfrm>
            <a:off x="5410080" y="5827680"/>
            <a:ext cx="857520" cy="495360"/>
          </a:xfrm>
          <a:custGeom>
            <a:avLst/>
            <a:gdLst/>
            <a:ahLst/>
            <a:rect l="l" t="t" r="r" b="b"/>
            <a:pathLst>
              <a:path w="2378" h="1375">
                <a:moveTo>
                  <a:pt x="184" y="401"/>
                </a:moveTo>
                <a:cubicBezTo>
                  <a:pt x="172" y="420"/>
                  <a:pt x="160" y="462"/>
                  <a:pt x="149" y="495"/>
                </a:cubicBezTo>
                <a:cubicBezTo>
                  <a:pt x="115" y="599"/>
                  <a:pt x="89" y="705"/>
                  <a:pt x="64" y="811"/>
                </a:cubicBezTo>
                <a:cubicBezTo>
                  <a:pt x="38" y="921"/>
                  <a:pt x="15" y="1032"/>
                  <a:pt x="4" y="1144"/>
                </a:cubicBezTo>
                <a:cubicBezTo>
                  <a:pt x="0" y="1185"/>
                  <a:pt x="5" y="1211"/>
                  <a:pt x="9" y="1250"/>
                </a:cubicBezTo>
                <a:cubicBezTo>
                  <a:pt x="44" y="1220"/>
                  <a:pt x="81" y="1182"/>
                  <a:pt x="107" y="1127"/>
                </a:cubicBezTo>
                <a:cubicBezTo>
                  <a:pt x="160" y="1016"/>
                  <a:pt x="206" y="889"/>
                  <a:pt x="230" y="768"/>
                </a:cubicBezTo>
                <a:cubicBezTo>
                  <a:pt x="251" y="663"/>
                  <a:pt x="269" y="541"/>
                  <a:pt x="260" y="435"/>
                </a:cubicBezTo>
                <a:cubicBezTo>
                  <a:pt x="256" y="386"/>
                  <a:pt x="240" y="384"/>
                  <a:pt x="222" y="354"/>
                </a:cubicBezTo>
                <a:cubicBezTo>
                  <a:pt x="193" y="399"/>
                  <a:pt x="179" y="430"/>
                  <a:pt x="166" y="487"/>
                </a:cubicBezTo>
                <a:cubicBezTo>
                  <a:pt x="151" y="557"/>
                  <a:pt x="145" y="633"/>
                  <a:pt x="154" y="704"/>
                </a:cubicBezTo>
                <a:cubicBezTo>
                  <a:pt x="160" y="754"/>
                  <a:pt x="174" y="758"/>
                  <a:pt x="196" y="794"/>
                </a:cubicBezTo>
                <a:cubicBezTo>
                  <a:pt x="245" y="789"/>
                  <a:pt x="264" y="789"/>
                  <a:pt x="307" y="747"/>
                </a:cubicBezTo>
                <a:cubicBezTo>
                  <a:pt x="351" y="704"/>
                  <a:pt x="383" y="652"/>
                  <a:pt x="422" y="606"/>
                </a:cubicBezTo>
                <a:cubicBezTo>
                  <a:pt x="447" y="576"/>
                  <a:pt x="461" y="571"/>
                  <a:pt x="486" y="559"/>
                </a:cubicBezTo>
                <a:cubicBezTo>
                  <a:pt x="502" y="612"/>
                  <a:pt x="516" y="665"/>
                  <a:pt x="525" y="721"/>
                </a:cubicBezTo>
                <a:cubicBezTo>
                  <a:pt x="540" y="816"/>
                  <a:pt x="551" y="912"/>
                  <a:pt x="563" y="1007"/>
                </a:cubicBezTo>
                <a:cubicBezTo>
                  <a:pt x="570" y="1062"/>
                  <a:pt x="572" y="1120"/>
                  <a:pt x="585" y="1174"/>
                </a:cubicBezTo>
                <a:cubicBezTo>
                  <a:pt x="586" y="1174"/>
                  <a:pt x="588" y="1174"/>
                  <a:pt x="589" y="1174"/>
                </a:cubicBezTo>
                <a:cubicBezTo>
                  <a:pt x="606" y="1113"/>
                  <a:pt x="619" y="1052"/>
                  <a:pt x="632" y="990"/>
                </a:cubicBezTo>
                <a:cubicBezTo>
                  <a:pt x="655" y="879"/>
                  <a:pt x="677" y="767"/>
                  <a:pt x="704" y="657"/>
                </a:cubicBezTo>
                <a:cubicBezTo>
                  <a:pt x="717" y="606"/>
                  <a:pt x="733" y="562"/>
                  <a:pt x="755" y="516"/>
                </a:cubicBezTo>
                <a:cubicBezTo>
                  <a:pt x="779" y="541"/>
                  <a:pt x="800" y="576"/>
                  <a:pt x="811" y="632"/>
                </a:cubicBezTo>
                <a:cubicBezTo>
                  <a:pt x="838" y="769"/>
                  <a:pt x="862" y="908"/>
                  <a:pt x="883" y="1046"/>
                </a:cubicBezTo>
                <a:cubicBezTo>
                  <a:pt x="885" y="1061"/>
                  <a:pt x="886" y="1194"/>
                  <a:pt x="917" y="1195"/>
                </a:cubicBezTo>
                <a:cubicBezTo>
                  <a:pt x="964" y="1196"/>
                  <a:pt x="937" y="1105"/>
                  <a:pt x="939" y="1058"/>
                </a:cubicBezTo>
              </a:path>
              <a:path w="2378" h="1375">
                <a:moveTo>
                  <a:pt x="1105" y="819"/>
                </a:moveTo>
                <a:cubicBezTo>
                  <a:pt x="1118" y="854"/>
                  <a:pt x="1129" y="877"/>
                  <a:pt x="1148" y="909"/>
                </a:cubicBezTo>
                <a:cubicBezTo>
                  <a:pt x="1192" y="897"/>
                  <a:pt x="1218" y="875"/>
                  <a:pt x="1246" y="836"/>
                </a:cubicBezTo>
                <a:cubicBezTo>
                  <a:pt x="1288" y="777"/>
                  <a:pt x="1303" y="720"/>
                  <a:pt x="1327" y="653"/>
                </a:cubicBezTo>
                <a:cubicBezTo>
                  <a:pt x="1347" y="598"/>
                  <a:pt x="1356" y="546"/>
                  <a:pt x="1353" y="487"/>
                </a:cubicBezTo>
                <a:cubicBezTo>
                  <a:pt x="1351" y="444"/>
                  <a:pt x="1341" y="441"/>
                  <a:pt x="1314" y="423"/>
                </a:cubicBezTo>
                <a:cubicBezTo>
                  <a:pt x="1266" y="447"/>
                  <a:pt x="1247" y="477"/>
                  <a:pt x="1220" y="525"/>
                </a:cubicBezTo>
                <a:cubicBezTo>
                  <a:pt x="1161" y="630"/>
                  <a:pt x="1122" y="735"/>
                  <a:pt x="1101" y="854"/>
                </a:cubicBezTo>
                <a:cubicBezTo>
                  <a:pt x="1087" y="933"/>
                  <a:pt x="1076" y="1016"/>
                  <a:pt x="1105" y="1093"/>
                </a:cubicBezTo>
                <a:cubicBezTo>
                  <a:pt x="1125" y="1145"/>
                  <a:pt x="1164" y="1178"/>
                  <a:pt x="1220" y="1152"/>
                </a:cubicBezTo>
                <a:cubicBezTo>
                  <a:pt x="1277" y="1125"/>
                  <a:pt x="1309" y="1049"/>
                  <a:pt x="1344" y="999"/>
                </a:cubicBezTo>
              </a:path>
              <a:path w="2378" h="1375">
                <a:moveTo>
                  <a:pt x="1865" y="465"/>
                </a:moveTo>
                <a:cubicBezTo>
                  <a:pt x="1846" y="465"/>
                  <a:pt x="1821" y="456"/>
                  <a:pt x="1805" y="457"/>
                </a:cubicBezTo>
                <a:cubicBezTo>
                  <a:pt x="1759" y="460"/>
                  <a:pt x="1699" y="482"/>
                  <a:pt x="1660" y="504"/>
                </a:cubicBezTo>
                <a:cubicBezTo>
                  <a:pt x="1597" y="540"/>
                  <a:pt x="1559" y="585"/>
                  <a:pt x="1515" y="640"/>
                </a:cubicBezTo>
                <a:cubicBezTo>
                  <a:pt x="1490" y="671"/>
                  <a:pt x="1458" y="715"/>
                  <a:pt x="1481" y="755"/>
                </a:cubicBezTo>
                <a:cubicBezTo>
                  <a:pt x="1498" y="786"/>
                  <a:pt x="1570" y="772"/>
                  <a:pt x="1596" y="768"/>
                </a:cubicBezTo>
                <a:cubicBezTo>
                  <a:pt x="1649" y="760"/>
                  <a:pt x="1700" y="746"/>
                  <a:pt x="1754" y="743"/>
                </a:cubicBezTo>
                <a:cubicBezTo>
                  <a:pt x="1781" y="742"/>
                  <a:pt x="1829" y="739"/>
                  <a:pt x="1826" y="781"/>
                </a:cubicBezTo>
                <a:cubicBezTo>
                  <a:pt x="1823" y="822"/>
                  <a:pt x="1787" y="866"/>
                  <a:pt x="1758" y="892"/>
                </a:cubicBezTo>
                <a:cubicBezTo>
                  <a:pt x="1727" y="920"/>
                  <a:pt x="1698" y="923"/>
                  <a:pt x="1660" y="935"/>
                </a:cubicBezTo>
              </a:path>
              <a:path w="2378" h="1375">
                <a:moveTo>
                  <a:pt x="1856" y="0"/>
                </a:moveTo>
                <a:cubicBezTo>
                  <a:pt x="1887" y="36"/>
                  <a:pt x="1883" y="32"/>
                  <a:pt x="1937" y="43"/>
                </a:cubicBezTo>
                <a:cubicBezTo>
                  <a:pt x="2066" y="69"/>
                  <a:pt x="2198" y="112"/>
                  <a:pt x="2283" y="218"/>
                </a:cubicBezTo>
                <a:cubicBezTo>
                  <a:pt x="2371" y="328"/>
                  <a:pt x="2391" y="473"/>
                  <a:pt x="2373" y="610"/>
                </a:cubicBezTo>
                <a:cubicBezTo>
                  <a:pt x="2343" y="838"/>
                  <a:pt x="2217" y="1049"/>
                  <a:pt x="2074" y="1225"/>
                </a:cubicBezTo>
                <a:cubicBezTo>
                  <a:pt x="1994" y="1324"/>
                  <a:pt x="1937" y="1338"/>
                  <a:pt x="1822" y="1374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9" name="Freeform 30"/>
          <p:cNvSpPr/>
          <p:nvPr/>
        </p:nvSpPr>
        <p:spPr>
          <a:xfrm>
            <a:off x="5504040" y="1854360"/>
            <a:ext cx="3138480" cy="2252520"/>
          </a:xfrm>
          <a:custGeom>
            <a:avLst/>
            <a:gdLst/>
            <a:ahLst/>
            <a:rect l="l" t="t" r="r" b="b"/>
            <a:pathLst>
              <a:path w="8715" h="6257">
                <a:moveTo>
                  <a:pt x="0" y="6256"/>
                </a:moveTo>
                <a:cubicBezTo>
                  <a:pt x="797" y="5690"/>
                  <a:pt x="1578" y="5104"/>
                  <a:pt x="2377" y="4541"/>
                </a:cubicBezTo>
                <a:cubicBezTo>
                  <a:pt x="3297" y="3893"/>
                  <a:pt x="4180" y="3194"/>
                  <a:pt x="5104" y="2552"/>
                </a:cubicBezTo>
                <a:cubicBezTo>
                  <a:pt x="6291" y="1727"/>
                  <a:pt x="7416" y="795"/>
                  <a:pt x="8642" y="30"/>
                </a:cubicBezTo>
                <a:cubicBezTo>
                  <a:pt x="8666" y="20"/>
                  <a:pt x="8690" y="10"/>
                  <a:pt x="8714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0" name="Freeform 31"/>
          <p:cNvSpPr/>
          <p:nvPr/>
        </p:nvSpPr>
        <p:spPr>
          <a:xfrm>
            <a:off x="4548240" y="1638360"/>
            <a:ext cx="4056120" cy="1198440"/>
          </a:xfrm>
          <a:custGeom>
            <a:avLst/>
            <a:gdLst/>
            <a:ahLst/>
            <a:rect l="l" t="t" r="r" b="b"/>
            <a:pathLst>
              <a:path w="11263" h="3329">
                <a:moveTo>
                  <a:pt x="0" y="3328"/>
                </a:moveTo>
                <a:cubicBezTo>
                  <a:pt x="462" y="3190"/>
                  <a:pt x="921" y="3048"/>
                  <a:pt x="1383" y="2910"/>
                </a:cubicBezTo>
                <a:cubicBezTo>
                  <a:pt x="2195" y="2667"/>
                  <a:pt x="3000" y="2399"/>
                  <a:pt x="3811" y="2151"/>
                </a:cubicBezTo>
                <a:cubicBezTo>
                  <a:pt x="4465" y="1951"/>
                  <a:pt x="5127" y="1769"/>
                  <a:pt x="5787" y="1587"/>
                </a:cubicBezTo>
                <a:cubicBezTo>
                  <a:pt x="6695" y="1337"/>
                  <a:pt x="7608" y="1108"/>
                  <a:pt x="8513" y="849"/>
                </a:cubicBezTo>
                <a:cubicBezTo>
                  <a:pt x="9270" y="632"/>
                  <a:pt x="10053" y="472"/>
                  <a:pt x="10801" y="230"/>
                </a:cubicBezTo>
                <a:cubicBezTo>
                  <a:pt x="10965" y="177"/>
                  <a:pt x="11093" y="96"/>
                  <a:pt x="11232" y="17"/>
                </a:cubicBezTo>
                <a:cubicBezTo>
                  <a:pt x="11242" y="11"/>
                  <a:pt x="11252" y="6"/>
                  <a:pt x="11262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1" name="Freeform 32"/>
          <p:cNvSpPr/>
          <p:nvPr/>
        </p:nvSpPr>
        <p:spPr>
          <a:xfrm>
            <a:off x="371520" y="2182680"/>
            <a:ext cx="3867120" cy="662040"/>
          </a:xfrm>
          <a:custGeom>
            <a:avLst/>
            <a:gdLst/>
            <a:ahLst/>
            <a:rect l="l" t="t" r="r" b="b"/>
            <a:pathLst>
              <a:path w="10742" h="1840">
                <a:moveTo>
                  <a:pt x="10741" y="1839"/>
                </a:moveTo>
                <a:cubicBezTo>
                  <a:pt x="10584" y="1795"/>
                  <a:pt x="10429" y="1758"/>
                  <a:pt x="10263" y="1728"/>
                </a:cubicBezTo>
                <a:cubicBezTo>
                  <a:pt x="9708" y="1629"/>
                  <a:pt x="9152" y="1544"/>
                  <a:pt x="8599" y="1438"/>
                </a:cubicBezTo>
                <a:cubicBezTo>
                  <a:pt x="7823" y="1290"/>
                  <a:pt x="7045" y="1161"/>
                  <a:pt x="6264" y="1045"/>
                </a:cubicBezTo>
                <a:cubicBezTo>
                  <a:pt x="5141" y="879"/>
                  <a:pt x="4020" y="693"/>
                  <a:pt x="2897" y="529"/>
                </a:cubicBezTo>
                <a:cubicBezTo>
                  <a:pt x="1931" y="388"/>
                  <a:pt x="963" y="237"/>
                  <a:pt x="17" y="8"/>
                </a:cubicBezTo>
                <a:cubicBezTo>
                  <a:pt x="11" y="5"/>
                  <a:pt x="6" y="3"/>
                  <a:pt x="0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2" name="Freeform 33"/>
          <p:cNvSpPr/>
          <p:nvPr/>
        </p:nvSpPr>
        <p:spPr>
          <a:xfrm>
            <a:off x="87480" y="2139840"/>
            <a:ext cx="4305240" cy="2760840"/>
          </a:xfrm>
          <a:custGeom>
            <a:avLst/>
            <a:gdLst/>
            <a:ahLst/>
            <a:rect l="l" t="t" r="r" b="b"/>
            <a:pathLst>
              <a:path w="11959" h="7670">
                <a:moveTo>
                  <a:pt x="11958" y="7669"/>
                </a:moveTo>
                <a:cubicBezTo>
                  <a:pt x="11929" y="7647"/>
                  <a:pt x="11861" y="7607"/>
                  <a:pt x="11821" y="7575"/>
                </a:cubicBezTo>
                <a:cubicBezTo>
                  <a:pt x="11416" y="7254"/>
                  <a:pt x="11022" y="6934"/>
                  <a:pt x="10592" y="6644"/>
                </a:cubicBezTo>
                <a:cubicBezTo>
                  <a:pt x="9956" y="6215"/>
                  <a:pt x="9298" y="5818"/>
                  <a:pt x="8659" y="5394"/>
                </a:cubicBezTo>
                <a:cubicBezTo>
                  <a:pt x="7761" y="4798"/>
                  <a:pt x="6845" y="4265"/>
                  <a:pt x="5975" y="3623"/>
                </a:cubicBezTo>
                <a:cubicBezTo>
                  <a:pt x="5188" y="3042"/>
                  <a:pt x="4411" y="2540"/>
                  <a:pt x="3495" y="2189"/>
                </a:cubicBezTo>
                <a:cubicBezTo>
                  <a:pt x="2785" y="1917"/>
                  <a:pt x="2196" y="1648"/>
                  <a:pt x="1605" y="1165"/>
                </a:cubicBezTo>
                <a:cubicBezTo>
                  <a:pt x="1087" y="742"/>
                  <a:pt x="567" y="335"/>
                  <a:pt x="0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3" name="Freeform 34"/>
          <p:cNvSpPr/>
          <p:nvPr/>
        </p:nvSpPr>
        <p:spPr>
          <a:xfrm>
            <a:off x="-139680" y="1741320"/>
            <a:ext cx="9221760" cy="650880"/>
          </a:xfrm>
          <a:custGeom>
            <a:avLst/>
            <a:gdLst/>
            <a:ahLst/>
            <a:rect l="l" t="t" r="r" b="b"/>
            <a:pathLst>
              <a:path w="25618" h="1806">
                <a:moveTo>
                  <a:pt x="34" y="1724"/>
                </a:moveTo>
                <a:cubicBezTo>
                  <a:pt x="52" y="1725"/>
                  <a:pt x="-10" y="1692"/>
                  <a:pt x="8" y="1694"/>
                </a:cubicBezTo>
                <a:cubicBezTo>
                  <a:pt x="195" y="1712"/>
                  <a:pt x="404" y="1754"/>
                  <a:pt x="601" y="1767"/>
                </a:cubicBezTo>
                <a:cubicBezTo>
                  <a:pt x="1698" y="1842"/>
                  <a:pt x="2783" y="1753"/>
                  <a:pt x="3879" y="1720"/>
                </a:cubicBezTo>
                <a:cubicBezTo>
                  <a:pt x="5231" y="1679"/>
                  <a:pt x="6575" y="1620"/>
                  <a:pt x="7928" y="1604"/>
                </a:cubicBezTo>
                <a:cubicBezTo>
                  <a:pt x="10002" y="1580"/>
                  <a:pt x="12078" y="1283"/>
                  <a:pt x="14146" y="1122"/>
                </a:cubicBezTo>
                <a:cubicBezTo>
                  <a:pt x="16057" y="973"/>
                  <a:pt x="17980" y="852"/>
                  <a:pt x="19881" y="602"/>
                </a:cubicBezTo>
                <a:cubicBezTo>
                  <a:pt x="21715" y="361"/>
                  <a:pt x="23552" y="244"/>
                  <a:pt x="25386" y="38"/>
                </a:cubicBezTo>
                <a:cubicBezTo>
                  <a:pt x="25454" y="30"/>
                  <a:pt x="25561" y="10"/>
                  <a:pt x="25613" y="4"/>
                </a:cubicBezTo>
                <a:cubicBezTo>
                  <a:pt x="25632" y="2"/>
                  <a:pt x="25594" y="2"/>
                  <a:pt x="25613" y="0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4" name="Freeform 35"/>
          <p:cNvSpPr/>
          <p:nvPr/>
        </p:nvSpPr>
        <p:spPr>
          <a:xfrm>
            <a:off x="2506680" y="3409920"/>
            <a:ext cx="1641600" cy="934920"/>
          </a:xfrm>
          <a:custGeom>
            <a:avLst/>
            <a:gdLst/>
            <a:ahLst/>
            <a:rect l="l" t="t" r="r" b="b"/>
            <a:pathLst>
              <a:path w="4558" h="2596">
                <a:moveTo>
                  <a:pt x="34" y="22"/>
                </a:moveTo>
                <a:cubicBezTo>
                  <a:pt x="16" y="12"/>
                  <a:pt x="19" y="17"/>
                  <a:pt x="4" y="4"/>
                </a:cubicBezTo>
                <a:cubicBezTo>
                  <a:pt x="4" y="3"/>
                  <a:pt x="4" y="1"/>
                  <a:pt x="4" y="0"/>
                </a:cubicBezTo>
                <a:cubicBezTo>
                  <a:pt x="11" y="10"/>
                  <a:pt x="-6" y="5"/>
                  <a:pt x="4" y="17"/>
                </a:cubicBezTo>
                <a:cubicBezTo>
                  <a:pt x="35" y="56"/>
                  <a:pt x="63" y="91"/>
                  <a:pt x="98" y="128"/>
                </a:cubicBezTo>
                <a:cubicBezTo>
                  <a:pt x="248" y="283"/>
                  <a:pt x="447" y="389"/>
                  <a:pt x="627" y="504"/>
                </a:cubicBezTo>
                <a:cubicBezTo>
                  <a:pt x="965" y="720"/>
                  <a:pt x="1311" y="906"/>
                  <a:pt x="1677" y="1071"/>
                </a:cubicBezTo>
                <a:cubicBezTo>
                  <a:pt x="2165" y="1291"/>
                  <a:pt x="2668" y="1466"/>
                  <a:pt x="3162" y="1669"/>
                </a:cubicBezTo>
                <a:cubicBezTo>
                  <a:pt x="3441" y="1784"/>
                  <a:pt x="3741" y="1896"/>
                  <a:pt x="3977" y="2091"/>
                </a:cubicBezTo>
                <a:cubicBezTo>
                  <a:pt x="4052" y="2153"/>
                  <a:pt x="4117" y="2231"/>
                  <a:pt x="4186" y="2300"/>
                </a:cubicBezTo>
                <a:cubicBezTo>
                  <a:pt x="4286" y="2401"/>
                  <a:pt x="4386" y="2508"/>
                  <a:pt x="4510" y="2578"/>
                </a:cubicBezTo>
                <a:cubicBezTo>
                  <a:pt x="4525" y="2586"/>
                  <a:pt x="4538" y="2583"/>
                  <a:pt x="4553" y="2591"/>
                </a:cubicBezTo>
                <a:cubicBezTo>
                  <a:pt x="4554" y="2592"/>
                  <a:pt x="4556" y="2594"/>
                  <a:pt x="4557" y="2595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o-laughl-cubes"/>
          <p:cNvPicPr/>
          <p:nvPr/>
        </p:nvPicPr>
        <p:blipFill>
          <a:blip r:embed="rId1"/>
          <a:stretch/>
        </p:blipFill>
        <p:spPr>
          <a:xfrm>
            <a:off x="533520" y="380880"/>
            <a:ext cx="8127720" cy="60962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4572000" y="7621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 direction of the light indicates where the shadows will fall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sper-logo"/>
          <p:cNvPicPr/>
          <p:nvPr/>
        </p:nvPicPr>
        <p:blipFill>
          <a:blip r:embed="rId1"/>
          <a:stretch/>
        </p:blipFill>
        <p:spPr>
          <a:xfrm>
            <a:off x="838080" y="1447920"/>
            <a:ext cx="7543800" cy="3030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5"/>
          <p:cNvSpPr/>
          <p:nvPr/>
        </p:nvSpPr>
        <p:spPr>
          <a:xfrm>
            <a:off x="1981080" y="4876920"/>
            <a:ext cx="58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s classic Superman comic lettering shows a good use of perspective and light and shadow to create a 3-D illusion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2133720" y="28195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aw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15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geometric shapes.  Use shading and perspective to make them look 3-D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5 minutes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205740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4429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752480" y="5122800"/>
            <a:ext cx="5867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ost things we draw, including the human body, can be constructed out of simple geometric shapes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ambiaso_02"/>
          <p:cNvPicPr/>
          <p:nvPr/>
        </p:nvPicPr>
        <p:blipFill>
          <a:blip r:embed="rId1"/>
          <a:stretch/>
        </p:blipFill>
        <p:spPr>
          <a:xfrm>
            <a:off x="2666880" y="654120"/>
            <a:ext cx="3810240" cy="554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019852403x_leonardo-da-vinci_2"/>
          <p:cNvPicPr/>
          <p:nvPr/>
        </p:nvPicPr>
        <p:blipFill>
          <a:blip r:embed="rId1"/>
          <a:stretch/>
        </p:blipFill>
        <p:spPr>
          <a:xfrm>
            <a:off x="380880" y="228600"/>
            <a:ext cx="5118120" cy="6400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5715000" y="76212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e need to understand that the body has a frame underneath it which gives it shape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_wordpress_wp-content_images_skeletondrawing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66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_wordpress_wp-content_images_skeletondrawing"/>
          <p:cNvPicPr/>
          <p:nvPr/>
        </p:nvPicPr>
        <p:blipFill>
          <a:blip r:embed="rId1"/>
          <a:stretch/>
        </p:blipFill>
        <p:spPr>
          <a:xfrm>
            <a:off x="609480" y="914400"/>
            <a:ext cx="7696440" cy="4664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236" name="Text Box 3"/>
          <p:cNvSpPr/>
          <p:nvPr/>
        </p:nvSpPr>
        <p:spPr>
          <a:xfrm>
            <a:off x="1523880" y="5715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e frame is made up of lines…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5500800" y="2390760"/>
            <a:ext cx="1531800" cy="2163600"/>
          </a:xfrm>
          <a:custGeom>
            <a:avLst/>
            <a:gdLst/>
            <a:ahLst/>
            <a:rect l="l" t="t" r="r" b="b"/>
            <a:pathLst>
              <a:path w="4255" h="6013">
                <a:moveTo>
                  <a:pt x="3593" y="341"/>
                </a:moveTo>
                <a:cubicBezTo>
                  <a:pt x="3586" y="318"/>
                  <a:pt x="3572" y="304"/>
                  <a:pt x="3567" y="277"/>
                </a:cubicBezTo>
                <a:cubicBezTo>
                  <a:pt x="3557" y="228"/>
                  <a:pt x="3557" y="188"/>
                  <a:pt x="3537" y="140"/>
                </a:cubicBezTo>
                <a:cubicBezTo>
                  <a:pt x="3504" y="63"/>
                  <a:pt x="3452" y="29"/>
                  <a:pt x="3371" y="8"/>
                </a:cubicBezTo>
                <a:cubicBezTo>
                  <a:pt x="3318" y="-6"/>
                  <a:pt x="3262" y="0"/>
                  <a:pt x="3209" y="4"/>
                </a:cubicBezTo>
                <a:cubicBezTo>
                  <a:pt x="3202" y="7"/>
                  <a:pt x="3201" y="9"/>
                  <a:pt x="3196" y="8"/>
                </a:cubicBezTo>
                <a:cubicBezTo>
                  <a:pt x="3198" y="16"/>
                  <a:pt x="3208" y="17"/>
                  <a:pt x="3209" y="25"/>
                </a:cubicBezTo>
                <a:cubicBezTo>
                  <a:pt x="3219" y="79"/>
                  <a:pt x="3227" y="128"/>
                  <a:pt x="3243" y="183"/>
                </a:cubicBezTo>
                <a:cubicBezTo>
                  <a:pt x="3279" y="303"/>
                  <a:pt x="3317" y="422"/>
                  <a:pt x="3354" y="542"/>
                </a:cubicBezTo>
                <a:cubicBezTo>
                  <a:pt x="3455" y="865"/>
                  <a:pt x="3570" y="1185"/>
                  <a:pt x="3678" y="1506"/>
                </a:cubicBezTo>
                <a:cubicBezTo>
                  <a:pt x="3753" y="1729"/>
                  <a:pt x="3819" y="1955"/>
                  <a:pt x="3900" y="2176"/>
                </a:cubicBezTo>
                <a:cubicBezTo>
                  <a:pt x="3995" y="2435"/>
                  <a:pt x="4096" y="2690"/>
                  <a:pt x="4211" y="2940"/>
                </a:cubicBezTo>
                <a:cubicBezTo>
                  <a:pt x="4226" y="2973"/>
                  <a:pt x="4240" y="3005"/>
                  <a:pt x="4254" y="3038"/>
                </a:cubicBezTo>
                <a:cubicBezTo>
                  <a:pt x="4244" y="3029"/>
                  <a:pt x="4243" y="3022"/>
                  <a:pt x="4233" y="3012"/>
                </a:cubicBezTo>
                <a:cubicBezTo>
                  <a:pt x="4206" y="2985"/>
                  <a:pt x="4178" y="2965"/>
                  <a:pt x="4147" y="2944"/>
                </a:cubicBezTo>
                <a:cubicBezTo>
                  <a:pt x="4118" y="2924"/>
                  <a:pt x="4089" y="2907"/>
                  <a:pt x="4058" y="2889"/>
                </a:cubicBezTo>
              </a:path>
              <a:path w="4255" h="6013">
                <a:moveTo>
                  <a:pt x="4199" y="4523"/>
                </a:moveTo>
                <a:cubicBezTo>
                  <a:pt x="4206" y="4518"/>
                  <a:pt x="4216" y="4511"/>
                  <a:pt x="4224" y="4506"/>
                </a:cubicBezTo>
                <a:cubicBezTo>
                  <a:pt x="4208" y="4511"/>
                  <a:pt x="4202" y="4510"/>
                  <a:pt x="4186" y="4515"/>
                </a:cubicBezTo>
                <a:cubicBezTo>
                  <a:pt x="4137" y="4530"/>
                  <a:pt x="4092" y="4548"/>
                  <a:pt x="4045" y="4566"/>
                </a:cubicBezTo>
                <a:cubicBezTo>
                  <a:pt x="3932" y="4610"/>
                  <a:pt x="3819" y="4657"/>
                  <a:pt x="3708" y="4707"/>
                </a:cubicBezTo>
                <a:cubicBezTo>
                  <a:pt x="3551" y="4777"/>
                  <a:pt x="3395" y="4849"/>
                  <a:pt x="3238" y="4920"/>
                </a:cubicBezTo>
                <a:cubicBezTo>
                  <a:pt x="2314" y="5339"/>
                  <a:pt x="1363" y="5769"/>
                  <a:pt x="362" y="5965"/>
                </a:cubicBezTo>
                <a:cubicBezTo>
                  <a:pt x="242" y="5989"/>
                  <a:pt x="118" y="6000"/>
                  <a:pt x="0" y="6008"/>
                </a:cubicBezTo>
                <a:cubicBezTo>
                  <a:pt x="29" y="6001"/>
                  <a:pt x="59" y="5993"/>
                  <a:pt x="89" y="5987"/>
                </a:cubicBezTo>
                <a:cubicBezTo>
                  <a:pt x="170" y="5970"/>
                  <a:pt x="251" y="5959"/>
                  <a:pt x="332" y="5944"/>
                </a:cubicBezTo>
                <a:cubicBezTo>
                  <a:pt x="412" y="5929"/>
                  <a:pt x="479" y="5902"/>
                  <a:pt x="554" y="588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8" name="Freeform 6"/>
          <p:cNvSpPr/>
          <p:nvPr/>
        </p:nvSpPr>
        <p:spPr>
          <a:xfrm>
            <a:off x="4361040" y="1743120"/>
            <a:ext cx="1717560" cy="2268360"/>
          </a:xfrm>
          <a:custGeom>
            <a:avLst/>
            <a:gdLst/>
            <a:ahLst/>
            <a:rect l="l" t="t" r="r" b="b"/>
            <a:pathLst>
              <a:path w="4772" h="6300">
                <a:moveTo>
                  <a:pt x="4473" y="94"/>
                </a:moveTo>
                <a:cubicBezTo>
                  <a:pt x="4428" y="62"/>
                  <a:pt x="4384" y="31"/>
                  <a:pt x="4340" y="0"/>
                </a:cubicBezTo>
                <a:cubicBezTo>
                  <a:pt x="4379" y="169"/>
                  <a:pt x="4420" y="337"/>
                  <a:pt x="4477" y="504"/>
                </a:cubicBezTo>
                <a:cubicBezTo>
                  <a:pt x="4754" y="1313"/>
                  <a:pt x="4891" y="2130"/>
                  <a:pt x="4613" y="2966"/>
                </a:cubicBezTo>
                <a:cubicBezTo>
                  <a:pt x="4507" y="3286"/>
                  <a:pt x="4350" y="3589"/>
                  <a:pt x="4174" y="3875"/>
                </a:cubicBezTo>
                <a:cubicBezTo>
                  <a:pt x="3743" y="4575"/>
                  <a:pt x="3137" y="5195"/>
                  <a:pt x="2386" y="5543"/>
                </a:cubicBezTo>
                <a:cubicBezTo>
                  <a:pt x="1827" y="5802"/>
                  <a:pt x="1208" y="5911"/>
                  <a:pt x="611" y="6047"/>
                </a:cubicBezTo>
                <a:cubicBezTo>
                  <a:pt x="545" y="6062"/>
                  <a:pt x="466" y="6084"/>
                  <a:pt x="406" y="6098"/>
                </a:cubicBezTo>
                <a:cubicBezTo>
                  <a:pt x="405" y="6100"/>
                  <a:pt x="524" y="6125"/>
                  <a:pt x="491" y="6141"/>
                </a:cubicBezTo>
                <a:cubicBezTo>
                  <a:pt x="408" y="6180"/>
                  <a:pt x="313" y="6191"/>
                  <a:pt x="227" y="6222"/>
                </a:cubicBezTo>
                <a:cubicBezTo>
                  <a:pt x="150" y="6250"/>
                  <a:pt x="77" y="6274"/>
                  <a:pt x="0" y="629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9" name="Freeform 7"/>
          <p:cNvSpPr/>
          <p:nvPr/>
        </p:nvSpPr>
        <p:spPr>
          <a:xfrm>
            <a:off x="2824200" y="2476440"/>
            <a:ext cx="826920" cy="1190520"/>
          </a:xfrm>
          <a:custGeom>
            <a:avLst/>
            <a:gdLst/>
            <a:ahLst/>
            <a:rect l="l" t="t" r="r" b="b"/>
            <a:pathLst>
              <a:path w="2297" h="3308">
                <a:moveTo>
                  <a:pt x="2296" y="3303"/>
                </a:moveTo>
                <a:cubicBezTo>
                  <a:pt x="2261" y="3286"/>
                  <a:pt x="2230" y="3306"/>
                  <a:pt x="2193" y="3273"/>
                </a:cubicBezTo>
                <a:cubicBezTo>
                  <a:pt x="2149" y="3233"/>
                  <a:pt x="2120" y="3179"/>
                  <a:pt x="2091" y="3128"/>
                </a:cubicBezTo>
                <a:cubicBezTo>
                  <a:pt x="1940" y="2857"/>
                  <a:pt x="1819" y="2569"/>
                  <a:pt x="1681" y="2291"/>
                </a:cubicBezTo>
                <a:cubicBezTo>
                  <a:pt x="1394" y="1714"/>
                  <a:pt x="1067" y="1023"/>
                  <a:pt x="495" y="674"/>
                </a:cubicBezTo>
                <a:cubicBezTo>
                  <a:pt x="378" y="603"/>
                  <a:pt x="165" y="593"/>
                  <a:pt x="68" y="516"/>
                </a:cubicBezTo>
                <a:cubicBezTo>
                  <a:pt x="27" y="484"/>
                  <a:pt x="34" y="481"/>
                  <a:pt x="17" y="431"/>
                </a:cubicBezTo>
                <a:cubicBezTo>
                  <a:pt x="-5" y="367"/>
                  <a:pt x="14" y="291"/>
                  <a:pt x="12" y="226"/>
                </a:cubicBezTo>
                <a:cubicBezTo>
                  <a:pt x="10" y="145"/>
                  <a:pt x="16" y="81"/>
                  <a:pt x="25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Freeform 8"/>
          <p:cNvSpPr/>
          <p:nvPr/>
        </p:nvSpPr>
        <p:spPr>
          <a:xfrm>
            <a:off x="1452600" y="2717640"/>
            <a:ext cx="901800" cy="2543400"/>
          </a:xfrm>
          <a:custGeom>
            <a:avLst/>
            <a:gdLst/>
            <a:ahLst/>
            <a:rect l="l" t="t" r="r" b="b"/>
            <a:pathLst>
              <a:path w="2502" h="7063">
                <a:moveTo>
                  <a:pt x="2501" y="25"/>
                </a:moveTo>
                <a:cubicBezTo>
                  <a:pt x="2487" y="32"/>
                  <a:pt x="2481" y="-6"/>
                  <a:pt x="2467" y="0"/>
                </a:cubicBezTo>
                <a:cubicBezTo>
                  <a:pt x="2414" y="24"/>
                  <a:pt x="2379" y="36"/>
                  <a:pt x="2334" y="85"/>
                </a:cubicBezTo>
                <a:cubicBezTo>
                  <a:pt x="2237" y="190"/>
                  <a:pt x="2177" y="366"/>
                  <a:pt x="2125" y="495"/>
                </a:cubicBezTo>
                <a:cubicBezTo>
                  <a:pt x="1972" y="874"/>
                  <a:pt x="1860" y="1270"/>
                  <a:pt x="1741" y="1660"/>
                </a:cubicBezTo>
                <a:cubicBezTo>
                  <a:pt x="1392" y="2800"/>
                  <a:pt x="1079" y="3950"/>
                  <a:pt x="734" y="5091"/>
                </a:cubicBezTo>
                <a:cubicBezTo>
                  <a:pt x="596" y="5548"/>
                  <a:pt x="453" y="6005"/>
                  <a:pt x="295" y="6456"/>
                </a:cubicBezTo>
                <a:cubicBezTo>
                  <a:pt x="288" y="6477"/>
                  <a:pt x="91" y="7081"/>
                  <a:pt x="43" y="7062"/>
                </a:cubicBezTo>
                <a:cubicBezTo>
                  <a:pt x="-9" y="7041"/>
                  <a:pt x="19" y="6917"/>
                  <a:pt x="0" y="687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1" name="Freeform 9"/>
          <p:cNvSpPr/>
          <p:nvPr/>
        </p:nvSpPr>
        <p:spPr>
          <a:xfrm>
            <a:off x="1563840" y="2828880"/>
            <a:ext cx="477720" cy="2162160"/>
          </a:xfrm>
          <a:custGeom>
            <a:avLst/>
            <a:gdLst/>
            <a:ahLst/>
            <a:rect l="l" t="t" r="r" b="b"/>
            <a:pathLst>
              <a:path w="1329" h="6009">
                <a:moveTo>
                  <a:pt x="1328" y="94"/>
                </a:moveTo>
                <a:cubicBezTo>
                  <a:pt x="1308" y="63"/>
                  <a:pt x="1288" y="31"/>
                  <a:pt x="1268" y="0"/>
                </a:cubicBezTo>
                <a:cubicBezTo>
                  <a:pt x="1252" y="44"/>
                  <a:pt x="1233" y="91"/>
                  <a:pt x="1217" y="136"/>
                </a:cubicBezTo>
                <a:cubicBezTo>
                  <a:pt x="987" y="789"/>
                  <a:pt x="803" y="1468"/>
                  <a:pt x="628" y="2138"/>
                </a:cubicBezTo>
                <a:cubicBezTo>
                  <a:pt x="343" y="3228"/>
                  <a:pt x="24" y="4384"/>
                  <a:pt x="0" y="5518"/>
                </a:cubicBezTo>
                <a:cubicBezTo>
                  <a:pt x="-4" y="5684"/>
                  <a:pt x="17" y="5845"/>
                  <a:pt x="39" y="6008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2" name="Freeform 10"/>
          <p:cNvSpPr/>
          <p:nvPr/>
        </p:nvSpPr>
        <p:spPr>
          <a:xfrm>
            <a:off x="2330280" y="4900680"/>
            <a:ext cx="2583000" cy="617400"/>
          </a:xfrm>
          <a:custGeom>
            <a:avLst/>
            <a:gdLst/>
            <a:ahLst/>
            <a:rect l="l" t="t" r="r" b="b"/>
            <a:pathLst>
              <a:path w="7174" h="1716">
                <a:moveTo>
                  <a:pt x="47" y="1711"/>
                </a:moveTo>
                <a:cubicBezTo>
                  <a:pt x="23" y="1708"/>
                  <a:pt x="18" y="1702"/>
                  <a:pt x="8" y="1715"/>
                </a:cubicBezTo>
                <a:cubicBezTo>
                  <a:pt x="31" y="1702"/>
                  <a:pt x="27" y="1677"/>
                  <a:pt x="51" y="1668"/>
                </a:cubicBezTo>
                <a:cubicBezTo>
                  <a:pt x="575" y="1468"/>
                  <a:pt x="1159" y="1554"/>
                  <a:pt x="1707" y="1553"/>
                </a:cubicBezTo>
                <a:cubicBezTo>
                  <a:pt x="2042" y="1552"/>
                  <a:pt x="2372" y="1531"/>
                  <a:pt x="2705" y="1497"/>
                </a:cubicBezTo>
                <a:cubicBezTo>
                  <a:pt x="3904" y="1375"/>
                  <a:pt x="5053" y="982"/>
                  <a:pt x="6158" y="516"/>
                </a:cubicBezTo>
                <a:cubicBezTo>
                  <a:pt x="6488" y="377"/>
                  <a:pt x="6842" y="259"/>
                  <a:pt x="7152" y="85"/>
                </a:cubicBezTo>
                <a:cubicBezTo>
                  <a:pt x="7158" y="82"/>
                  <a:pt x="7170" y="66"/>
                  <a:pt x="7173" y="64"/>
                </a:cubicBezTo>
                <a:cubicBezTo>
                  <a:pt x="7161" y="61"/>
                  <a:pt x="7147" y="44"/>
                  <a:pt x="7131" y="42"/>
                </a:cubicBezTo>
                <a:cubicBezTo>
                  <a:pt x="7111" y="39"/>
                  <a:pt x="7061" y="40"/>
                  <a:pt x="7045" y="34"/>
                </a:cubicBezTo>
                <a:cubicBezTo>
                  <a:pt x="7020" y="25"/>
                  <a:pt x="6999" y="31"/>
                  <a:pt x="6973" y="21"/>
                </a:cubicBezTo>
                <a:cubicBezTo>
                  <a:pt x="6980" y="14"/>
                  <a:pt x="6980" y="9"/>
                  <a:pt x="6973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_wordpress_wp-content_images_skeletondrawing"/>
          <p:cNvPicPr/>
          <p:nvPr/>
        </p:nvPicPr>
        <p:blipFill>
          <a:blip r:embed="rId1"/>
          <a:stretch/>
        </p:blipFill>
        <p:spPr>
          <a:xfrm>
            <a:off x="609480" y="914400"/>
            <a:ext cx="7696440" cy="4664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244" name="Text Box 3"/>
          <p:cNvSpPr/>
          <p:nvPr/>
        </p:nvSpPr>
        <p:spPr>
          <a:xfrm>
            <a:off x="1523880" y="5715000"/>
            <a:ext cx="6248520" cy="459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ometric shapes…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5" name="Freeform 4"/>
          <p:cNvSpPr/>
          <p:nvPr/>
        </p:nvSpPr>
        <p:spPr>
          <a:xfrm>
            <a:off x="5500800" y="2390760"/>
            <a:ext cx="1531800" cy="2163600"/>
          </a:xfrm>
          <a:custGeom>
            <a:avLst/>
            <a:gdLst/>
            <a:ahLst/>
            <a:rect l="l" t="t" r="r" b="b"/>
            <a:pathLst>
              <a:path w="4255" h="6013">
                <a:moveTo>
                  <a:pt x="3593" y="341"/>
                </a:moveTo>
                <a:cubicBezTo>
                  <a:pt x="3586" y="318"/>
                  <a:pt x="3572" y="304"/>
                  <a:pt x="3567" y="277"/>
                </a:cubicBezTo>
                <a:cubicBezTo>
                  <a:pt x="3557" y="228"/>
                  <a:pt x="3557" y="188"/>
                  <a:pt x="3537" y="140"/>
                </a:cubicBezTo>
                <a:cubicBezTo>
                  <a:pt x="3504" y="63"/>
                  <a:pt x="3452" y="29"/>
                  <a:pt x="3371" y="8"/>
                </a:cubicBezTo>
                <a:cubicBezTo>
                  <a:pt x="3318" y="-6"/>
                  <a:pt x="3262" y="0"/>
                  <a:pt x="3209" y="4"/>
                </a:cubicBezTo>
                <a:cubicBezTo>
                  <a:pt x="3202" y="7"/>
                  <a:pt x="3201" y="9"/>
                  <a:pt x="3196" y="8"/>
                </a:cubicBezTo>
                <a:cubicBezTo>
                  <a:pt x="3198" y="16"/>
                  <a:pt x="3208" y="17"/>
                  <a:pt x="3209" y="25"/>
                </a:cubicBezTo>
                <a:cubicBezTo>
                  <a:pt x="3219" y="79"/>
                  <a:pt x="3227" y="128"/>
                  <a:pt x="3243" y="183"/>
                </a:cubicBezTo>
                <a:cubicBezTo>
                  <a:pt x="3279" y="303"/>
                  <a:pt x="3317" y="422"/>
                  <a:pt x="3354" y="542"/>
                </a:cubicBezTo>
                <a:cubicBezTo>
                  <a:pt x="3455" y="865"/>
                  <a:pt x="3570" y="1185"/>
                  <a:pt x="3678" y="1506"/>
                </a:cubicBezTo>
                <a:cubicBezTo>
                  <a:pt x="3753" y="1729"/>
                  <a:pt x="3819" y="1955"/>
                  <a:pt x="3900" y="2176"/>
                </a:cubicBezTo>
                <a:cubicBezTo>
                  <a:pt x="3995" y="2435"/>
                  <a:pt x="4096" y="2690"/>
                  <a:pt x="4211" y="2940"/>
                </a:cubicBezTo>
                <a:cubicBezTo>
                  <a:pt x="4226" y="2973"/>
                  <a:pt x="4240" y="3005"/>
                  <a:pt x="4254" y="3038"/>
                </a:cubicBezTo>
                <a:cubicBezTo>
                  <a:pt x="4244" y="3029"/>
                  <a:pt x="4243" y="3022"/>
                  <a:pt x="4233" y="3012"/>
                </a:cubicBezTo>
                <a:cubicBezTo>
                  <a:pt x="4206" y="2985"/>
                  <a:pt x="4178" y="2965"/>
                  <a:pt x="4147" y="2944"/>
                </a:cubicBezTo>
                <a:cubicBezTo>
                  <a:pt x="4118" y="2924"/>
                  <a:pt x="4089" y="2907"/>
                  <a:pt x="4058" y="2889"/>
                </a:cubicBezTo>
              </a:path>
              <a:path w="4255" h="6013">
                <a:moveTo>
                  <a:pt x="4199" y="4523"/>
                </a:moveTo>
                <a:cubicBezTo>
                  <a:pt x="4206" y="4518"/>
                  <a:pt x="4216" y="4511"/>
                  <a:pt x="4224" y="4506"/>
                </a:cubicBezTo>
                <a:cubicBezTo>
                  <a:pt x="4208" y="4511"/>
                  <a:pt x="4202" y="4510"/>
                  <a:pt x="4186" y="4515"/>
                </a:cubicBezTo>
                <a:cubicBezTo>
                  <a:pt x="4137" y="4530"/>
                  <a:pt x="4092" y="4548"/>
                  <a:pt x="4045" y="4566"/>
                </a:cubicBezTo>
                <a:cubicBezTo>
                  <a:pt x="3932" y="4610"/>
                  <a:pt x="3819" y="4657"/>
                  <a:pt x="3708" y="4707"/>
                </a:cubicBezTo>
                <a:cubicBezTo>
                  <a:pt x="3551" y="4777"/>
                  <a:pt x="3395" y="4849"/>
                  <a:pt x="3238" y="4920"/>
                </a:cubicBezTo>
                <a:cubicBezTo>
                  <a:pt x="2314" y="5339"/>
                  <a:pt x="1363" y="5769"/>
                  <a:pt x="362" y="5965"/>
                </a:cubicBezTo>
                <a:cubicBezTo>
                  <a:pt x="242" y="5989"/>
                  <a:pt x="118" y="6000"/>
                  <a:pt x="0" y="6008"/>
                </a:cubicBezTo>
                <a:cubicBezTo>
                  <a:pt x="29" y="6001"/>
                  <a:pt x="59" y="5993"/>
                  <a:pt x="89" y="5987"/>
                </a:cubicBezTo>
                <a:cubicBezTo>
                  <a:pt x="170" y="5970"/>
                  <a:pt x="251" y="5959"/>
                  <a:pt x="332" y="5944"/>
                </a:cubicBezTo>
                <a:cubicBezTo>
                  <a:pt x="412" y="5929"/>
                  <a:pt x="479" y="5902"/>
                  <a:pt x="554" y="588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6" name="Freeform 5"/>
          <p:cNvSpPr/>
          <p:nvPr/>
        </p:nvSpPr>
        <p:spPr>
          <a:xfrm>
            <a:off x="4361040" y="1743120"/>
            <a:ext cx="1717560" cy="2268360"/>
          </a:xfrm>
          <a:custGeom>
            <a:avLst/>
            <a:gdLst/>
            <a:ahLst/>
            <a:rect l="l" t="t" r="r" b="b"/>
            <a:pathLst>
              <a:path w="4772" h="6300">
                <a:moveTo>
                  <a:pt x="4473" y="94"/>
                </a:moveTo>
                <a:cubicBezTo>
                  <a:pt x="4428" y="62"/>
                  <a:pt x="4384" y="31"/>
                  <a:pt x="4340" y="0"/>
                </a:cubicBezTo>
                <a:cubicBezTo>
                  <a:pt x="4379" y="169"/>
                  <a:pt x="4420" y="337"/>
                  <a:pt x="4477" y="504"/>
                </a:cubicBezTo>
                <a:cubicBezTo>
                  <a:pt x="4754" y="1313"/>
                  <a:pt x="4891" y="2130"/>
                  <a:pt x="4613" y="2966"/>
                </a:cubicBezTo>
                <a:cubicBezTo>
                  <a:pt x="4507" y="3286"/>
                  <a:pt x="4350" y="3589"/>
                  <a:pt x="4174" y="3875"/>
                </a:cubicBezTo>
                <a:cubicBezTo>
                  <a:pt x="3743" y="4575"/>
                  <a:pt x="3137" y="5195"/>
                  <a:pt x="2386" y="5543"/>
                </a:cubicBezTo>
                <a:cubicBezTo>
                  <a:pt x="1827" y="5802"/>
                  <a:pt x="1208" y="5911"/>
                  <a:pt x="611" y="6047"/>
                </a:cubicBezTo>
                <a:cubicBezTo>
                  <a:pt x="545" y="6062"/>
                  <a:pt x="466" y="6084"/>
                  <a:pt x="406" y="6098"/>
                </a:cubicBezTo>
                <a:cubicBezTo>
                  <a:pt x="405" y="6100"/>
                  <a:pt x="524" y="6125"/>
                  <a:pt x="491" y="6141"/>
                </a:cubicBezTo>
                <a:cubicBezTo>
                  <a:pt x="408" y="6180"/>
                  <a:pt x="313" y="6191"/>
                  <a:pt x="227" y="6222"/>
                </a:cubicBezTo>
                <a:cubicBezTo>
                  <a:pt x="150" y="6250"/>
                  <a:pt x="77" y="6274"/>
                  <a:pt x="0" y="629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7" name="Freeform 6"/>
          <p:cNvSpPr/>
          <p:nvPr/>
        </p:nvSpPr>
        <p:spPr>
          <a:xfrm>
            <a:off x="2824200" y="2476440"/>
            <a:ext cx="826920" cy="1190520"/>
          </a:xfrm>
          <a:custGeom>
            <a:avLst/>
            <a:gdLst/>
            <a:ahLst/>
            <a:rect l="l" t="t" r="r" b="b"/>
            <a:pathLst>
              <a:path w="2297" h="3308">
                <a:moveTo>
                  <a:pt x="2296" y="3303"/>
                </a:moveTo>
                <a:cubicBezTo>
                  <a:pt x="2261" y="3286"/>
                  <a:pt x="2230" y="3306"/>
                  <a:pt x="2193" y="3273"/>
                </a:cubicBezTo>
                <a:cubicBezTo>
                  <a:pt x="2149" y="3233"/>
                  <a:pt x="2120" y="3179"/>
                  <a:pt x="2091" y="3128"/>
                </a:cubicBezTo>
                <a:cubicBezTo>
                  <a:pt x="1940" y="2857"/>
                  <a:pt x="1819" y="2569"/>
                  <a:pt x="1681" y="2291"/>
                </a:cubicBezTo>
                <a:cubicBezTo>
                  <a:pt x="1394" y="1714"/>
                  <a:pt x="1067" y="1023"/>
                  <a:pt x="495" y="674"/>
                </a:cubicBezTo>
                <a:cubicBezTo>
                  <a:pt x="378" y="603"/>
                  <a:pt x="165" y="593"/>
                  <a:pt x="68" y="516"/>
                </a:cubicBezTo>
                <a:cubicBezTo>
                  <a:pt x="27" y="484"/>
                  <a:pt x="34" y="481"/>
                  <a:pt x="17" y="431"/>
                </a:cubicBezTo>
                <a:cubicBezTo>
                  <a:pt x="-5" y="367"/>
                  <a:pt x="14" y="291"/>
                  <a:pt x="12" y="226"/>
                </a:cubicBezTo>
                <a:cubicBezTo>
                  <a:pt x="10" y="145"/>
                  <a:pt x="16" y="81"/>
                  <a:pt x="25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8" name="Freeform 7"/>
          <p:cNvSpPr/>
          <p:nvPr/>
        </p:nvSpPr>
        <p:spPr>
          <a:xfrm>
            <a:off x="1452600" y="2717640"/>
            <a:ext cx="901800" cy="2543400"/>
          </a:xfrm>
          <a:custGeom>
            <a:avLst/>
            <a:gdLst/>
            <a:ahLst/>
            <a:rect l="l" t="t" r="r" b="b"/>
            <a:pathLst>
              <a:path w="2502" h="7063">
                <a:moveTo>
                  <a:pt x="2501" y="25"/>
                </a:moveTo>
                <a:cubicBezTo>
                  <a:pt x="2487" y="32"/>
                  <a:pt x="2481" y="-6"/>
                  <a:pt x="2467" y="0"/>
                </a:cubicBezTo>
                <a:cubicBezTo>
                  <a:pt x="2414" y="24"/>
                  <a:pt x="2379" y="36"/>
                  <a:pt x="2334" y="85"/>
                </a:cubicBezTo>
                <a:cubicBezTo>
                  <a:pt x="2237" y="190"/>
                  <a:pt x="2177" y="366"/>
                  <a:pt x="2125" y="495"/>
                </a:cubicBezTo>
                <a:cubicBezTo>
                  <a:pt x="1972" y="874"/>
                  <a:pt x="1860" y="1270"/>
                  <a:pt x="1741" y="1660"/>
                </a:cubicBezTo>
                <a:cubicBezTo>
                  <a:pt x="1392" y="2800"/>
                  <a:pt x="1079" y="3950"/>
                  <a:pt x="734" y="5091"/>
                </a:cubicBezTo>
                <a:cubicBezTo>
                  <a:pt x="596" y="5548"/>
                  <a:pt x="453" y="6005"/>
                  <a:pt x="295" y="6456"/>
                </a:cubicBezTo>
                <a:cubicBezTo>
                  <a:pt x="288" y="6477"/>
                  <a:pt x="91" y="7081"/>
                  <a:pt x="43" y="7062"/>
                </a:cubicBezTo>
                <a:cubicBezTo>
                  <a:pt x="-9" y="7041"/>
                  <a:pt x="19" y="6917"/>
                  <a:pt x="0" y="687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9" name="Freeform 8"/>
          <p:cNvSpPr/>
          <p:nvPr/>
        </p:nvSpPr>
        <p:spPr>
          <a:xfrm>
            <a:off x="1563840" y="2828880"/>
            <a:ext cx="477720" cy="2162160"/>
          </a:xfrm>
          <a:custGeom>
            <a:avLst/>
            <a:gdLst/>
            <a:ahLst/>
            <a:rect l="l" t="t" r="r" b="b"/>
            <a:pathLst>
              <a:path w="1329" h="6009">
                <a:moveTo>
                  <a:pt x="1328" y="94"/>
                </a:moveTo>
                <a:cubicBezTo>
                  <a:pt x="1308" y="63"/>
                  <a:pt x="1288" y="31"/>
                  <a:pt x="1268" y="0"/>
                </a:cubicBezTo>
                <a:cubicBezTo>
                  <a:pt x="1252" y="44"/>
                  <a:pt x="1233" y="91"/>
                  <a:pt x="1217" y="136"/>
                </a:cubicBezTo>
                <a:cubicBezTo>
                  <a:pt x="987" y="789"/>
                  <a:pt x="803" y="1468"/>
                  <a:pt x="628" y="2138"/>
                </a:cubicBezTo>
                <a:cubicBezTo>
                  <a:pt x="343" y="3228"/>
                  <a:pt x="24" y="4384"/>
                  <a:pt x="0" y="5518"/>
                </a:cubicBezTo>
                <a:cubicBezTo>
                  <a:pt x="-4" y="5684"/>
                  <a:pt x="17" y="5845"/>
                  <a:pt x="39" y="6008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0" name="Freeform 9"/>
          <p:cNvSpPr/>
          <p:nvPr/>
        </p:nvSpPr>
        <p:spPr>
          <a:xfrm>
            <a:off x="2330280" y="4900680"/>
            <a:ext cx="2583000" cy="617400"/>
          </a:xfrm>
          <a:custGeom>
            <a:avLst/>
            <a:gdLst/>
            <a:ahLst/>
            <a:rect l="l" t="t" r="r" b="b"/>
            <a:pathLst>
              <a:path w="7174" h="1716">
                <a:moveTo>
                  <a:pt x="47" y="1711"/>
                </a:moveTo>
                <a:cubicBezTo>
                  <a:pt x="23" y="1708"/>
                  <a:pt x="18" y="1702"/>
                  <a:pt x="8" y="1715"/>
                </a:cubicBezTo>
                <a:cubicBezTo>
                  <a:pt x="31" y="1702"/>
                  <a:pt x="27" y="1677"/>
                  <a:pt x="51" y="1668"/>
                </a:cubicBezTo>
                <a:cubicBezTo>
                  <a:pt x="575" y="1468"/>
                  <a:pt x="1159" y="1554"/>
                  <a:pt x="1707" y="1553"/>
                </a:cubicBezTo>
                <a:cubicBezTo>
                  <a:pt x="2042" y="1552"/>
                  <a:pt x="2372" y="1531"/>
                  <a:pt x="2705" y="1497"/>
                </a:cubicBezTo>
                <a:cubicBezTo>
                  <a:pt x="3904" y="1375"/>
                  <a:pt x="5053" y="982"/>
                  <a:pt x="6158" y="516"/>
                </a:cubicBezTo>
                <a:cubicBezTo>
                  <a:pt x="6488" y="377"/>
                  <a:pt x="6842" y="259"/>
                  <a:pt x="7152" y="85"/>
                </a:cubicBezTo>
                <a:cubicBezTo>
                  <a:pt x="7158" y="82"/>
                  <a:pt x="7170" y="66"/>
                  <a:pt x="7173" y="64"/>
                </a:cubicBezTo>
                <a:cubicBezTo>
                  <a:pt x="7161" y="61"/>
                  <a:pt x="7147" y="44"/>
                  <a:pt x="7131" y="42"/>
                </a:cubicBezTo>
                <a:cubicBezTo>
                  <a:pt x="7111" y="39"/>
                  <a:pt x="7061" y="40"/>
                  <a:pt x="7045" y="34"/>
                </a:cubicBezTo>
                <a:cubicBezTo>
                  <a:pt x="7020" y="25"/>
                  <a:pt x="6999" y="31"/>
                  <a:pt x="6973" y="21"/>
                </a:cubicBezTo>
                <a:cubicBezTo>
                  <a:pt x="6980" y="14"/>
                  <a:pt x="6980" y="9"/>
                  <a:pt x="6973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1" name="Freeform 11"/>
          <p:cNvSpPr/>
          <p:nvPr/>
        </p:nvSpPr>
        <p:spPr>
          <a:xfrm>
            <a:off x="3247920" y="2330280"/>
            <a:ext cx="3162240" cy="2286000"/>
          </a:xfrm>
          <a:custGeom>
            <a:avLst/>
            <a:gdLst/>
            <a:ahLst/>
            <a:rect l="l" t="t" r="r" b="b"/>
            <a:pathLst>
              <a:path w="8784" h="6351">
                <a:moveTo>
                  <a:pt x="2010" y="3047"/>
                </a:moveTo>
                <a:cubicBezTo>
                  <a:pt x="2018" y="3050"/>
                  <a:pt x="2006" y="3042"/>
                  <a:pt x="2019" y="3047"/>
                </a:cubicBezTo>
                <a:cubicBezTo>
                  <a:pt x="2053" y="3061"/>
                  <a:pt x="2090" y="3080"/>
                  <a:pt x="2126" y="3094"/>
                </a:cubicBezTo>
                <a:cubicBezTo>
                  <a:pt x="2363" y="3189"/>
                  <a:pt x="2576" y="3336"/>
                  <a:pt x="2796" y="3465"/>
                </a:cubicBezTo>
                <a:cubicBezTo>
                  <a:pt x="2991" y="3580"/>
                  <a:pt x="3189" y="3685"/>
                  <a:pt x="3389" y="3790"/>
                </a:cubicBezTo>
                <a:cubicBezTo>
                  <a:pt x="3561" y="3880"/>
                  <a:pt x="3734" y="3970"/>
                  <a:pt x="3909" y="4054"/>
                </a:cubicBezTo>
                <a:cubicBezTo>
                  <a:pt x="4084" y="4138"/>
                  <a:pt x="4254" y="4228"/>
                  <a:pt x="4426" y="4319"/>
                </a:cubicBezTo>
                <a:cubicBezTo>
                  <a:pt x="4569" y="4395"/>
                  <a:pt x="4709" y="4476"/>
                  <a:pt x="4848" y="4558"/>
                </a:cubicBezTo>
                <a:cubicBezTo>
                  <a:pt x="4945" y="4615"/>
                  <a:pt x="5042" y="4674"/>
                  <a:pt x="5138" y="4733"/>
                </a:cubicBezTo>
                <a:cubicBezTo>
                  <a:pt x="5195" y="4768"/>
                  <a:pt x="5253" y="4800"/>
                  <a:pt x="5309" y="4835"/>
                </a:cubicBezTo>
                <a:cubicBezTo>
                  <a:pt x="5337" y="4852"/>
                  <a:pt x="5375" y="4871"/>
                  <a:pt x="5399" y="4891"/>
                </a:cubicBezTo>
                <a:cubicBezTo>
                  <a:pt x="5403" y="4895"/>
                  <a:pt x="5385" y="4896"/>
                  <a:pt x="5390" y="4899"/>
                </a:cubicBezTo>
              </a:path>
              <a:path w="8784" h="6351">
                <a:moveTo>
                  <a:pt x="5369" y="4912"/>
                </a:moveTo>
                <a:cubicBezTo>
                  <a:pt x="5345" y="4923"/>
                  <a:pt x="5321" y="4936"/>
                  <a:pt x="5296" y="4946"/>
                </a:cubicBezTo>
                <a:cubicBezTo>
                  <a:pt x="5208" y="4983"/>
                  <a:pt x="5118" y="5019"/>
                  <a:pt x="5028" y="5053"/>
                </a:cubicBezTo>
                <a:cubicBezTo>
                  <a:pt x="4670" y="5189"/>
                  <a:pt x="4309" y="5319"/>
                  <a:pt x="3948" y="5445"/>
                </a:cubicBezTo>
                <a:cubicBezTo>
                  <a:pt x="3752" y="5513"/>
                  <a:pt x="3555" y="5580"/>
                  <a:pt x="3359" y="5650"/>
                </a:cubicBezTo>
                <a:cubicBezTo>
                  <a:pt x="3181" y="5713"/>
                  <a:pt x="3001" y="5775"/>
                  <a:pt x="2826" y="5847"/>
                </a:cubicBezTo>
                <a:cubicBezTo>
                  <a:pt x="2700" y="5899"/>
                  <a:pt x="2574" y="5949"/>
                  <a:pt x="2446" y="5996"/>
                </a:cubicBezTo>
                <a:cubicBezTo>
                  <a:pt x="2397" y="6014"/>
                  <a:pt x="2346" y="6030"/>
                  <a:pt x="2296" y="6047"/>
                </a:cubicBezTo>
                <a:cubicBezTo>
                  <a:pt x="2318" y="6035"/>
                  <a:pt x="2361" y="6005"/>
                  <a:pt x="2390" y="5992"/>
                </a:cubicBezTo>
                <a:cubicBezTo>
                  <a:pt x="2644" y="5875"/>
                  <a:pt x="2908" y="5778"/>
                  <a:pt x="3171" y="5684"/>
                </a:cubicBezTo>
                <a:cubicBezTo>
                  <a:pt x="3605" y="5530"/>
                  <a:pt x="4041" y="5380"/>
                  <a:pt x="4477" y="5232"/>
                </a:cubicBezTo>
                <a:cubicBezTo>
                  <a:pt x="4684" y="5161"/>
                  <a:pt x="4891" y="5096"/>
                  <a:pt x="5104" y="5049"/>
                </a:cubicBezTo>
                <a:cubicBezTo>
                  <a:pt x="5077" y="5069"/>
                  <a:pt x="5041" y="5093"/>
                  <a:pt x="5006" y="5113"/>
                </a:cubicBezTo>
                <a:cubicBezTo>
                  <a:pt x="4894" y="5176"/>
                  <a:pt x="4771" y="5223"/>
                  <a:pt x="4652" y="5270"/>
                </a:cubicBezTo>
                <a:cubicBezTo>
                  <a:pt x="4161" y="5464"/>
                  <a:pt x="3643" y="5568"/>
                  <a:pt x="3146" y="5736"/>
                </a:cubicBezTo>
              </a:path>
              <a:path w="8784" h="6351">
                <a:moveTo>
                  <a:pt x="2126" y="3265"/>
                </a:moveTo>
                <a:cubicBezTo>
                  <a:pt x="1832" y="3423"/>
                  <a:pt x="1516" y="3524"/>
                  <a:pt x="1204" y="3640"/>
                </a:cubicBezTo>
                <a:cubicBezTo>
                  <a:pt x="805" y="3788"/>
                  <a:pt x="393" y="3955"/>
                  <a:pt x="5" y="4110"/>
                </a:cubicBezTo>
                <a:cubicBezTo>
                  <a:pt x="-14" y="4118"/>
                  <a:pt x="19" y="4107"/>
                  <a:pt x="0" y="4114"/>
                </a:cubicBezTo>
                <a:cubicBezTo>
                  <a:pt x="5" y="4119"/>
                  <a:pt x="11" y="4133"/>
                  <a:pt x="18" y="4140"/>
                </a:cubicBezTo>
                <a:cubicBezTo>
                  <a:pt x="67" y="4188"/>
                  <a:pt x="116" y="4237"/>
                  <a:pt x="167" y="4285"/>
                </a:cubicBezTo>
                <a:cubicBezTo>
                  <a:pt x="234" y="4348"/>
                  <a:pt x="305" y="4411"/>
                  <a:pt x="380" y="4464"/>
                </a:cubicBezTo>
                <a:cubicBezTo>
                  <a:pt x="538" y="4575"/>
                  <a:pt x="704" y="4675"/>
                  <a:pt x="867" y="4780"/>
                </a:cubicBezTo>
                <a:cubicBezTo>
                  <a:pt x="1373" y="5105"/>
                  <a:pt x="1922" y="5382"/>
                  <a:pt x="2407" y="5736"/>
                </a:cubicBezTo>
                <a:cubicBezTo>
                  <a:pt x="2468" y="5780"/>
                  <a:pt x="2523" y="5832"/>
                  <a:pt x="2587" y="5872"/>
                </a:cubicBezTo>
                <a:cubicBezTo>
                  <a:pt x="2610" y="5886"/>
                  <a:pt x="2634" y="5893"/>
                  <a:pt x="2642" y="5898"/>
                </a:cubicBezTo>
              </a:path>
              <a:path w="8784" h="6351">
                <a:moveTo>
                  <a:pt x="163" y="4093"/>
                </a:moveTo>
                <a:cubicBezTo>
                  <a:pt x="163" y="4103"/>
                  <a:pt x="163" y="4095"/>
                  <a:pt x="163" y="4105"/>
                </a:cubicBezTo>
                <a:cubicBezTo>
                  <a:pt x="165" y="4168"/>
                  <a:pt x="170" y="4230"/>
                  <a:pt x="171" y="4293"/>
                </a:cubicBezTo>
                <a:cubicBezTo>
                  <a:pt x="175" y="4526"/>
                  <a:pt x="171" y="4760"/>
                  <a:pt x="171" y="4993"/>
                </a:cubicBezTo>
                <a:cubicBezTo>
                  <a:pt x="172" y="4982"/>
                  <a:pt x="170" y="5004"/>
                  <a:pt x="171" y="4993"/>
                </a:cubicBezTo>
                <a:cubicBezTo>
                  <a:pt x="177" y="4943"/>
                  <a:pt x="181" y="4894"/>
                  <a:pt x="184" y="4844"/>
                </a:cubicBezTo>
                <a:cubicBezTo>
                  <a:pt x="187" y="4794"/>
                  <a:pt x="190" y="4744"/>
                  <a:pt x="193" y="4694"/>
                </a:cubicBezTo>
                <a:cubicBezTo>
                  <a:pt x="252" y="4774"/>
                  <a:pt x="308" y="4842"/>
                  <a:pt x="389" y="4903"/>
                </a:cubicBezTo>
                <a:cubicBezTo>
                  <a:pt x="454" y="4952"/>
                  <a:pt x="523" y="4996"/>
                  <a:pt x="589" y="5044"/>
                </a:cubicBezTo>
                <a:cubicBezTo>
                  <a:pt x="717" y="5138"/>
                  <a:pt x="835" y="5249"/>
                  <a:pt x="956" y="5352"/>
                </a:cubicBezTo>
                <a:cubicBezTo>
                  <a:pt x="1119" y="5491"/>
                  <a:pt x="1286" y="5614"/>
                  <a:pt x="1473" y="5719"/>
                </a:cubicBezTo>
                <a:cubicBezTo>
                  <a:pt x="1832" y="5921"/>
                  <a:pt x="2213" y="6076"/>
                  <a:pt x="2569" y="6286"/>
                </a:cubicBezTo>
                <a:cubicBezTo>
                  <a:pt x="2591" y="6299"/>
                  <a:pt x="2638" y="6315"/>
                  <a:pt x="2655" y="6329"/>
                </a:cubicBezTo>
                <a:cubicBezTo>
                  <a:pt x="2668" y="6339"/>
                  <a:pt x="2668" y="6335"/>
                  <a:pt x="2676" y="6342"/>
                </a:cubicBezTo>
                <a:cubicBezTo>
                  <a:pt x="2682" y="6348"/>
                  <a:pt x="2652" y="6344"/>
                  <a:pt x="2659" y="6350"/>
                </a:cubicBezTo>
              </a:path>
              <a:path w="8784" h="6351">
                <a:moveTo>
                  <a:pt x="2591" y="6013"/>
                </a:moveTo>
                <a:cubicBezTo>
                  <a:pt x="2597" y="6077"/>
                  <a:pt x="2605" y="6141"/>
                  <a:pt x="2608" y="6205"/>
                </a:cubicBezTo>
                <a:cubicBezTo>
                  <a:pt x="2610" y="6253"/>
                  <a:pt x="2608" y="6302"/>
                  <a:pt x="2608" y="6350"/>
                </a:cubicBezTo>
                <a:cubicBezTo>
                  <a:pt x="2611" y="6349"/>
                  <a:pt x="2614" y="6338"/>
                  <a:pt x="2629" y="6333"/>
                </a:cubicBezTo>
                <a:cubicBezTo>
                  <a:pt x="2683" y="6314"/>
                  <a:pt x="2737" y="6297"/>
                  <a:pt x="2791" y="6278"/>
                </a:cubicBezTo>
                <a:cubicBezTo>
                  <a:pt x="2963" y="6216"/>
                  <a:pt x="3137" y="6162"/>
                  <a:pt x="3308" y="6098"/>
                </a:cubicBezTo>
                <a:cubicBezTo>
                  <a:pt x="3486" y="6032"/>
                  <a:pt x="3667" y="5972"/>
                  <a:pt x="3845" y="5906"/>
                </a:cubicBezTo>
                <a:cubicBezTo>
                  <a:pt x="4018" y="5842"/>
                  <a:pt x="4193" y="5782"/>
                  <a:pt x="4366" y="5719"/>
                </a:cubicBezTo>
                <a:cubicBezTo>
                  <a:pt x="4550" y="5652"/>
                  <a:pt x="4729" y="5582"/>
                  <a:pt x="4917" y="5526"/>
                </a:cubicBezTo>
                <a:cubicBezTo>
                  <a:pt x="4964" y="5512"/>
                  <a:pt x="5008" y="5500"/>
                  <a:pt x="5057" y="5492"/>
                </a:cubicBezTo>
                <a:cubicBezTo>
                  <a:pt x="5057" y="5494"/>
                  <a:pt x="5057" y="5495"/>
                  <a:pt x="5057" y="5497"/>
                </a:cubicBezTo>
                <a:cubicBezTo>
                  <a:pt x="5032" y="5506"/>
                  <a:pt x="5007" y="5517"/>
                  <a:pt x="4981" y="5526"/>
                </a:cubicBezTo>
                <a:cubicBezTo>
                  <a:pt x="4912" y="5548"/>
                  <a:pt x="4841" y="5561"/>
                  <a:pt x="4771" y="5582"/>
                </a:cubicBezTo>
                <a:cubicBezTo>
                  <a:pt x="4670" y="5612"/>
                  <a:pt x="4569" y="5637"/>
                  <a:pt x="4468" y="5667"/>
                </a:cubicBezTo>
                <a:cubicBezTo>
                  <a:pt x="4327" y="5709"/>
                  <a:pt x="4192" y="5759"/>
                  <a:pt x="4055" y="5812"/>
                </a:cubicBezTo>
                <a:cubicBezTo>
                  <a:pt x="4036" y="5820"/>
                  <a:pt x="4032" y="5822"/>
                  <a:pt x="4020" y="5825"/>
                </a:cubicBezTo>
                <a:cubicBezTo>
                  <a:pt x="4045" y="5818"/>
                  <a:pt x="4085" y="5810"/>
                  <a:pt x="4114" y="5800"/>
                </a:cubicBezTo>
                <a:cubicBezTo>
                  <a:pt x="4432" y="5694"/>
                  <a:pt x="4749" y="5606"/>
                  <a:pt x="5070" y="5514"/>
                </a:cubicBezTo>
                <a:cubicBezTo>
                  <a:pt x="5130" y="5497"/>
                  <a:pt x="5211" y="5480"/>
                  <a:pt x="5258" y="5437"/>
                </a:cubicBezTo>
                <a:cubicBezTo>
                  <a:pt x="5291" y="5406"/>
                  <a:pt x="5307" y="5369"/>
                  <a:pt x="5322" y="5326"/>
                </a:cubicBezTo>
                <a:cubicBezTo>
                  <a:pt x="5330" y="5279"/>
                  <a:pt x="5333" y="5263"/>
                  <a:pt x="5343" y="5232"/>
                </a:cubicBezTo>
              </a:path>
              <a:path w="8784" h="6351">
                <a:moveTo>
                  <a:pt x="5339" y="5010"/>
                </a:moveTo>
                <a:cubicBezTo>
                  <a:pt x="5317" y="5058"/>
                  <a:pt x="5314" y="5122"/>
                  <a:pt x="5309" y="5177"/>
                </a:cubicBezTo>
                <a:cubicBezTo>
                  <a:pt x="5302" y="5253"/>
                  <a:pt x="5296" y="5340"/>
                  <a:pt x="5309" y="5416"/>
                </a:cubicBezTo>
                <a:cubicBezTo>
                  <a:pt x="5313" y="5433"/>
                  <a:pt x="5318" y="5450"/>
                  <a:pt x="5322" y="5467"/>
                </a:cubicBezTo>
              </a:path>
              <a:path w="8784" h="6351">
                <a:moveTo>
                  <a:pt x="3803" y="2053"/>
                </a:moveTo>
                <a:cubicBezTo>
                  <a:pt x="3811" y="2018"/>
                  <a:pt x="3814" y="1985"/>
                  <a:pt x="3824" y="1950"/>
                </a:cubicBezTo>
              </a:path>
              <a:path w="8784" h="6351">
                <a:moveTo>
                  <a:pt x="3862" y="1882"/>
                </a:moveTo>
                <a:cubicBezTo>
                  <a:pt x="3865" y="1891"/>
                  <a:pt x="3864" y="1894"/>
                  <a:pt x="3867" y="1903"/>
                </a:cubicBezTo>
                <a:cubicBezTo>
                  <a:pt x="3882" y="1947"/>
                  <a:pt x="3903" y="1991"/>
                  <a:pt x="3918" y="2036"/>
                </a:cubicBezTo>
                <a:cubicBezTo>
                  <a:pt x="3959" y="2156"/>
                  <a:pt x="3993" y="2278"/>
                  <a:pt x="4029" y="2399"/>
                </a:cubicBezTo>
                <a:cubicBezTo>
                  <a:pt x="4090" y="2603"/>
                  <a:pt x="4134" y="2811"/>
                  <a:pt x="4187" y="3017"/>
                </a:cubicBezTo>
                <a:cubicBezTo>
                  <a:pt x="4237" y="3213"/>
                  <a:pt x="4278" y="3410"/>
                  <a:pt x="4328" y="3606"/>
                </a:cubicBezTo>
                <a:cubicBezTo>
                  <a:pt x="4350" y="3691"/>
                  <a:pt x="4374" y="3775"/>
                  <a:pt x="4400" y="3858"/>
                </a:cubicBezTo>
                <a:cubicBezTo>
                  <a:pt x="4401" y="3861"/>
                  <a:pt x="4403" y="3863"/>
                  <a:pt x="4404" y="3866"/>
                </a:cubicBezTo>
                <a:cubicBezTo>
                  <a:pt x="4409" y="3810"/>
                  <a:pt x="4417" y="3736"/>
                  <a:pt x="4413" y="3670"/>
                </a:cubicBezTo>
                <a:cubicBezTo>
                  <a:pt x="4386" y="3197"/>
                  <a:pt x="4321" y="2708"/>
                  <a:pt x="4187" y="2253"/>
                </a:cubicBezTo>
                <a:cubicBezTo>
                  <a:pt x="4159" y="2157"/>
                  <a:pt x="4125" y="2028"/>
                  <a:pt x="4063" y="1946"/>
                </a:cubicBezTo>
                <a:cubicBezTo>
                  <a:pt x="4032" y="1906"/>
                  <a:pt x="4005" y="1897"/>
                  <a:pt x="3969" y="1874"/>
                </a:cubicBezTo>
                <a:cubicBezTo>
                  <a:pt x="3947" y="1860"/>
                  <a:pt x="3912" y="1842"/>
                  <a:pt x="3892" y="1831"/>
                </a:cubicBezTo>
                <a:cubicBezTo>
                  <a:pt x="3900" y="1835"/>
                  <a:pt x="3924" y="1852"/>
                  <a:pt x="3935" y="1857"/>
                </a:cubicBezTo>
                <a:cubicBezTo>
                  <a:pt x="4067" y="1918"/>
                  <a:pt x="4223" y="1943"/>
                  <a:pt x="4366" y="1967"/>
                </a:cubicBezTo>
                <a:cubicBezTo>
                  <a:pt x="4549" y="1997"/>
                  <a:pt x="4733" y="2025"/>
                  <a:pt x="4917" y="2053"/>
                </a:cubicBezTo>
                <a:cubicBezTo>
                  <a:pt x="5115" y="2084"/>
                  <a:pt x="5312" y="2119"/>
                  <a:pt x="5510" y="2151"/>
                </a:cubicBezTo>
                <a:cubicBezTo>
                  <a:pt x="5670" y="2177"/>
                  <a:pt x="5829" y="2209"/>
                  <a:pt x="5988" y="2241"/>
                </a:cubicBezTo>
                <a:cubicBezTo>
                  <a:pt x="6165" y="2277"/>
                  <a:pt x="6342" y="2321"/>
                  <a:pt x="6521" y="2347"/>
                </a:cubicBezTo>
                <a:cubicBezTo>
                  <a:pt x="6547" y="2351"/>
                  <a:pt x="6573" y="2353"/>
                  <a:pt x="6598" y="2356"/>
                </a:cubicBezTo>
                <a:cubicBezTo>
                  <a:pt x="6604" y="2357"/>
                  <a:pt x="6609" y="2355"/>
                  <a:pt x="6615" y="2356"/>
                </a:cubicBezTo>
                <a:cubicBezTo>
                  <a:pt x="6589" y="2346"/>
                  <a:pt x="6561" y="2336"/>
                  <a:pt x="6534" y="2326"/>
                </a:cubicBezTo>
                <a:cubicBezTo>
                  <a:pt x="6460" y="2298"/>
                  <a:pt x="6384" y="2273"/>
                  <a:pt x="6308" y="2249"/>
                </a:cubicBezTo>
                <a:cubicBezTo>
                  <a:pt x="6024" y="2161"/>
                  <a:pt x="5751" y="2088"/>
                  <a:pt x="5454" y="2117"/>
                </a:cubicBezTo>
                <a:cubicBezTo>
                  <a:pt x="5447" y="2118"/>
                  <a:pt x="5440" y="2120"/>
                  <a:pt x="5433" y="2121"/>
                </a:cubicBezTo>
                <a:cubicBezTo>
                  <a:pt x="5441" y="2129"/>
                  <a:pt x="5442" y="2163"/>
                  <a:pt x="5480" y="2185"/>
                </a:cubicBezTo>
                <a:cubicBezTo>
                  <a:pt x="5541" y="2220"/>
                  <a:pt x="5617" y="2232"/>
                  <a:pt x="5685" y="2245"/>
                </a:cubicBezTo>
                <a:cubicBezTo>
                  <a:pt x="5781" y="2263"/>
                  <a:pt x="5878" y="2267"/>
                  <a:pt x="5975" y="2275"/>
                </a:cubicBezTo>
                <a:cubicBezTo>
                  <a:pt x="6088" y="2285"/>
                  <a:pt x="6379" y="2252"/>
                  <a:pt x="6474" y="2317"/>
                </a:cubicBezTo>
                <a:cubicBezTo>
                  <a:pt x="6484" y="2324"/>
                  <a:pt x="6497" y="2315"/>
                  <a:pt x="6504" y="2322"/>
                </a:cubicBezTo>
                <a:cubicBezTo>
                  <a:pt x="6527" y="2343"/>
                  <a:pt x="6514" y="2376"/>
                  <a:pt x="6525" y="2403"/>
                </a:cubicBezTo>
                <a:cubicBezTo>
                  <a:pt x="6561" y="2496"/>
                  <a:pt x="6580" y="2600"/>
                  <a:pt x="6602" y="2697"/>
                </a:cubicBezTo>
                <a:cubicBezTo>
                  <a:pt x="6705" y="3160"/>
                  <a:pt x="6723" y="3651"/>
                  <a:pt x="6858" y="4105"/>
                </a:cubicBezTo>
                <a:cubicBezTo>
                  <a:pt x="6858" y="4107"/>
                  <a:pt x="6902" y="4225"/>
                  <a:pt x="6901" y="4225"/>
                </a:cubicBezTo>
                <a:cubicBezTo>
                  <a:pt x="6889" y="4230"/>
                  <a:pt x="6903" y="4185"/>
                  <a:pt x="6892" y="4191"/>
                </a:cubicBezTo>
                <a:cubicBezTo>
                  <a:pt x="6882" y="4173"/>
                  <a:pt x="6881" y="4168"/>
                  <a:pt x="6871" y="4161"/>
                </a:cubicBezTo>
              </a:path>
              <a:path w="8784" h="6351">
                <a:moveTo>
                  <a:pt x="4460" y="3756"/>
                </a:moveTo>
                <a:cubicBezTo>
                  <a:pt x="4439" y="3760"/>
                  <a:pt x="4412" y="3768"/>
                  <a:pt x="4396" y="3773"/>
                </a:cubicBezTo>
                <a:cubicBezTo>
                  <a:pt x="4397" y="3774"/>
                  <a:pt x="4399" y="3776"/>
                  <a:pt x="4400" y="3777"/>
                </a:cubicBezTo>
                <a:cubicBezTo>
                  <a:pt x="4477" y="3813"/>
                  <a:pt x="4544" y="3840"/>
                  <a:pt x="4631" y="3854"/>
                </a:cubicBezTo>
                <a:cubicBezTo>
                  <a:pt x="4963" y="3908"/>
                  <a:pt x="5295" y="3957"/>
                  <a:pt x="5625" y="4020"/>
                </a:cubicBezTo>
                <a:cubicBezTo>
                  <a:pt x="5866" y="4066"/>
                  <a:pt x="6105" y="4118"/>
                  <a:pt x="6346" y="4161"/>
                </a:cubicBezTo>
                <a:cubicBezTo>
                  <a:pt x="6540" y="4195"/>
                  <a:pt x="6739" y="4227"/>
                  <a:pt x="6935" y="4242"/>
                </a:cubicBezTo>
                <a:cubicBezTo>
                  <a:pt x="7050" y="4251"/>
                  <a:pt x="7188" y="4268"/>
                  <a:pt x="7302" y="4242"/>
                </a:cubicBezTo>
                <a:cubicBezTo>
                  <a:pt x="7332" y="4235"/>
                  <a:pt x="7357" y="4222"/>
                  <a:pt x="7379" y="4204"/>
                </a:cubicBezTo>
                <a:cubicBezTo>
                  <a:pt x="7391" y="4194"/>
                  <a:pt x="7387" y="4183"/>
                  <a:pt x="7396" y="4174"/>
                </a:cubicBezTo>
              </a:path>
              <a:path w="8784" h="6351">
                <a:moveTo>
                  <a:pt x="8608" y="1101"/>
                </a:moveTo>
                <a:cubicBezTo>
                  <a:pt x="8605" y="1117"/>
                  <a:pt x="8600" y="1079"/>
                  <a:pt x="8599" y="1088"/>
                </a:cubicBezTo>
                <a:cubicBezTo>
                  <a:pt x="8591" y="1181"/>
                  <a:pt x="8583" y="1270"/>
                  <a:pt x="8557" y="1362"/>
                </a:cubicBezTo>
                <a:cubicBezTo>
                  <a:pt x="8493" y="1583"/>
                  <a:pt x="8412" y="1799"/>
                  <a:pt x="8330" y="2014"/>
                </a:cubicBezTo>
                <a:cubicBezTo>
                  <a:pt x="8100" y="2620"/>
                  <a:pt x="7836" y="3208"/>
                  <a:pt x="7541" y="3785"/>
                </a:cubicBezTo>
                <a:cubicBezTo>
                  <a:pt x="7474" y="3916"/>
                  <a:pt x="7404" y="4047"/>
                  <a:pt x="7319" y="4161"/>
                </a:cubicBezTo>
                <a:cubicBezTo>
                  <a:pt x="7326" y="4109"/>
                  <a:pt x="7334" y="4053"/>
                  <a:pt x="7340" y="3995"/>
                </a:cubicBezTo>
              </a:path>
              <a:path w="8784" h="6351">
                <a:moveTo>
                  <a:pt x="8049" y="585"/>
                </a:moveTo>
                <a:lnTo>
                  <a:pt x="8049" y="585"/>
                </a:lnTo>
              </a:path>
              <a:path w="8784" h="6351">
                <a:moveTo>
                  <a:pt x="8045" y="491"/>
                </a:moveTo>
                <a:cubicBezTo>
                  <a:pt x="8044" y="494"/>
                  <a:pt x="8039" y="512"/>
                  <a:pt x="8036" y="521"/>
                </a:cubicBezTo>
                <a:cubicBezTo>
                  <a:pt x="8024" y="561"/>
                  <a:pt x="8009" y="597"/>
                  <a:pt x="7993" y="636"/>
                </a:cubicBezTo>
                <a:cubicBezTo>
                  <a:pt x="7933" y="779"/>
                  <a:pt x="7837" y="905"/>
                  <a:pt x="7750" y="1033"/>
                </a:cubicBezTo>
                <a:cubicBezTo>
                  <a:pt x="7598" y="1256"/>
                  <a:pt x="7434" y="1470"/>
                  <a:pt x="7268" y="1682"/>
                </a:cubicBezTo>
                <a:cubicBezTo>
                  <a:pt x="7123" y="1867"/>
                  <a:pt x="6966" y="2043"/>
                  <a:pt x="6816" y="2224"/>
                </a:cubicBezTo>
                <a:cubicBezTo>
                  <a:pt x="6749" y="2304"/>
                  <a:pt x="6686" y="2398"/>
                  <a:pt x="6606" y="2467"/>
                </a:cubicBezTo>
                <a:cubicBezTo>
                  <a:pt x="6594" y="2477"/>
                  <a:pt x="6593" y="2465"/>
                  <a:pt x="6581" y="2475"/>
                </a:cubicBezTo>
                <a:cubicBezTo>
                  <a:pt x="6616" y="2426"/>
                  <a:pt x="6644" y="2383"/>
                  <a:pt x="6675" y="2330"/>
                </a:cubicBezTo>
              </a:path>
              <a:path w="8784" h="6351">
                <a:moveTo>
                  <a:pt x="8138" y="431"/>
                </a:moveTo>
                <a:cubicBezTo>
                  <a:pt x="8135" y="427"/>
                  <a:pt x="8133" y="422"/>
                  <a:pt x="8130" y="418"/>
                </a:cubicBezTo>
                <a:cubicBezTo>
                  <a:pt x="8130" y="420"/>
                  <a:pt x="8128" y="443"/>
                  <a:pt x="8130" y="453"/>
                </a:cubicBezTo>
                <a:cubicBezTo>
                  <a:pt x="8142" y="500"/>
                  <a:pt x="8180" y="547"/>
                  <a:pt x="8207" y="585"/>
                </a:cubicBezTo>
                <a:cubicBezTo>
                  <a:pt x="8267" y="668"/>
                  <a:pt x="8345" y="742"/>
                  <a:pt x="8420" y="811"/>
                </a:cubicBezTo>
                <a:cubicBezTo>
                  <a:pt x="8495" y="881"/>
                  <a:pt x="8574" y="952"/>
                  <a:pt x="8655" y="1016"/>
                </a:cubicBezTo>
                <a:cubicBezTo>
                  <a:pt x="8695" y="1047"/>
                  <a:pt x="8742" y="1076"/>
                  <a:pt x="8779" y="1110"/>
                </a:cubicBezTo>
                <a:cubicBezTo>
                  <a:pt x="8785" y="1115"/>
                  <a:pt x="8770" y="1103"/>
                  <a:pt x="8774" y="1110"/>
                </a:cubicBezTo>
              </a:path>
              <a:path w="8784" h="6351">
                <a:moveTo>
                  <a:pt x="3845" y="1596"/>
                </a:moveTo>
                <a:cubicBezTo>
                  <a:pt x="3856" y="1596"/>
                  <a:pt x="3837" y="1598"/>
                  <a:pt x="3858" y="1601"/>
                </a:cubicBezTo>
                <a:cubicBezTo>
                  <a:pt x="3952" y="1613"/>
                  <a:pt x="3937" y="1622"/>
                  <a:pt x="4029" y="1558"/>
                </a:cubicBezTo>
                <a:cubicBezTo>
                  <a:pt x="4188" y="1448"/>
                  <a:pt x="4330" y="1304"/>
                  <a:pt x="4477" y="1178"/>
                </a:cubicBezTo>
                <a:cubicBezTo>
                  <a:pt x="4688" y="997"/>
                  <a:pt x="4910" y="828"/>
                  <a:pt x="5134" y="662"/>
                </a:cubicBezTo>
                <a:cubicBezTo>
                  <a:pt x="5425" y="446"/>
                  <a:pt x="5725" y="212"/>
                  <a:pt x="6047" y="43"/>
                </a:cubicBezTo>
                <a:cubicBezTo>
                  <a:pt x="6082" y="25"/>
                  <a:pt x="6123" y="-2"/>
                  <a:pt x="6163" y="4"/>
                </a:cubicBezTo>
                <a:cubicBezTo>
                  <a:pt x="6191" y="8"/>
                  <a:pt x="6165" y="57"/>
                  <a:pt x="6188" y="73"/>
                </a:cubicBezTo>
                <a:cubicBezTo>
                  <a:pt x="6194" y="77"/>
                  <a:pt x="6170" y="55"/>
                  <a:pt x="6175" y="60"/>
                </a:cubicBezTo>
                <a:cubicBezTo>
                  <a:pt x="6181" y="66"/>
                  <a:pt x="6155" y="39"/>
                  <a:pt x="6158" y="47"/>
                </a:cubicBezTo>
                <a:cubicBezTo>
                  <a:pt x="6176" y="49"/>
                  <a:pt x="6195" y="54"/>
                  <a:pt x="6214" y="56"/>
                </a:cubicBezTo>
                <a:cubicBezTo>
                  <a:pt x="6682" y="101"/>
                  <a:pt x="7149" y="114"/>
                  <a:pt x="7614" y="197"/>
                </a:cubicBezTo>
                <a:cubicBezTo>
                  <a:pt x="7865" y="242"/>
                  <a:pt x="8154" y="276"/>
                  <a:pt x="8394" y="367"/>
                </a:cubicBezTo>
                <a:cubicBezTo>
                  <a:pt x="8409" y="373"/>
                  <a:pt x="8430" y="398"/>
                  <a:pt x="8446" y="401"/>
                </a:cubicBezTo>
                <a:cubicBezTo>
                  <a:pt x="8457" y="403"/>
                  <a:pt x="8435" y="399"/>
                  <a:pt x="8446" y="401"/>
                </a:cubicBezTo>
                <a:cubicBezTo>
                  <a:pt x="8437" y="389"/>
                  <a:pt x="8426" y="383"/>
                  <a:pt x="8437" y="384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2" name="Freeform 12"/>
          <p:cNvSpPr/>
          <p:nvPr/>
        </p:nvSpPr>
        <p:spPr>
          <a:xfrm>
            <a:off x="5140440" y="906480"/>
            <a:ext cx="1039680" cy="833400"/>
          </a:xfrm>
          <a:custGeom>
            <a:avLst/>
            <a:gdLst/>
            <a:ahLst/>
            <a:rect l="l" t="t" r="r" b="b"/>
            <a:pathLst>
              <a:path w="2886" h="2314">
                <a:moveTo>
                  <a:pt x="990" y="124"/>
                </a:moveTo>
                <a:cubicBezTo>
                  <a:pt x="1059" y="117"/>
                  <a:pt x="1126" y="106"/>
                  <a:pt x="1195" y="94"/>
                </a:cubicBezTo>
                <a:cubicBezTo>
                  <a:pt x="1297" y="76"/>
                  <a:pt x="1399" y="60"/>
                  <a:pt x="1502" y="47"/>
                </a:cubicBezTo>
                <a:cubicBezTo>
                  <a:pt x="1612" y="33"/>
                  <a:pt x="1721" y="26"/>
                  <a:pt x="1831" y="17"/>
                </a:cubicBezTo>
                <a:cubicBezTo>
                  <a:pt x="1927" y="9"/>
                  <a:pt x="2021" y="9"/>
                  <a:pt x="2117" y="9"/>
                </a:cubicBezTo>
                <a:cubicBezTo>
                  <a:pt x="2156" y="9"/>
                  <a:pt x="2292" y="29"/>
                  <a:pt x="2321" y="13"/>
                </a:cubicBezTo>
                <a:cubicBezTo>
                  <a:pt x="2321" y="7"/>
                  <a:pt x="2321" y="4"/>
                  <a:pt x="2321" y="0"/>
                </a:cubicBezTo>
              </a:path>
              <a:path w="2886" h="2314">
                <a:moveTo>
                  <a:pt x="1182" y="158"/>
                </a:moveTo>
                <a:cubicBezTo>
                  <a:pt x="1216" y="165"/>
                  <a:pt x="1249" y="175"/>
                  <a:pt x="1284" y="180"/>
                </a:cubicBezTo>
                <a:cubicBezTo>
                  <a:pt x="1320" y="185"/>
                  <a:pt x="1358" y="184"/>
                  <a:pt x="1395" y="184"/>
                </a:cubicBezTo>
                <a:cubicBezTo>
                  <a:pt x="1415" y="184"/>
                  <a:pt x="1436" y="181"/>
                  <a:pt x="1455" y="180"/>
                </a:cubicBezTo>
                <a:cubicBezTo>
                  <a:pt x="1445" y="174"/>
                  <a:pt x="1428" y="158"/>
                  <a:pt x="1412" y="150"/>
                </a:cubicBezTo>
                <a:cubicBezTo>
                  <a:pt x="1358" y="122"/>
                  <a:pt x="1299" y="97"/>
                  <a:pt x="1242" y="77"/>
                </a:cubicBezTo>
                <a:cubicBezTo>
                  <a:pt x="1177" y="54"/>
                  <a:pt x="1110" y="34"/>
                  <a:pt x="1041" y="26"/>
                </a:cubicBezTo>
                <a:cubicBezTo>
                  <a:pt x="987" y="20"/>
                  <a:pt x="938" y="35"/>
                  <a:pt x="888" y="52"/>
                </a:cubicBezTo>
                <a:cubicBezTo>
                  <a:pt x="855" y="63"/>
                  <a:pt x="825" y="86"/>
                  <a:pt x="794" y="103"/>
                </a:cubicBezTo>
                <a:cubicBezTo>
                  <a:pt x="783" y="109"/>
                  <a:pt x="770" y="115"/>
                  <a:pt x="760" y="120"/>
                </a:cubicBezTo>
                <a:cubicBezTo>
                  <a:pt x="778" y="121"/>
                  <a:pt x="800" y="123"/>
                  <a:pt x="819" y="124"/>
                </a:cubicBezTo>
                <a:cubicBezTo>
                  <a:pt x="873" y="127"/>
                  <a:pt x="927" y="133"/>
                  <a:pt x="981" y="137"/>
                </a:cubicBezTo>
                <a:cubicBezTo>
                  <a:pt x="1106" y="147"/>
                  <a:pt x="1232" y="158"/>
                  <a:pt x="1357" y="167"/>
                </a:cubicBezTo>
                <a:cubicBezTo>
                  <a:pt x="1417" y="171"/>
                  <a:pt x="1477" y="175"/>
                  <a:pt x="1536" y="184"/>
                </a:cubicBezTo>
                <a:cubicBezTo>
                  <a:pt x="1545" y="185"/>
                  <a:pt x="1574" y="188"/>
                  <a:pt x="1579" y="192"/>
                </a:cubicBezTo>
                <a:cubicBezTo>
                  <a:pt x="1583" y="196"/>
                  <a:pt x="1575" y="197"/>
                  <a:pt x="1579" y="201"/>
                </a:cubicBezTo>
                <a:cubicBezTo>
                  <a:pt x="1581" y="203"/>
                  <a:pt x="1586" y="225"/>
                  <a:pt x="1587" y="227"/>
                </a:cubicBezTo>
                <a:cubicBezTo>
                  <a:pt x="1589" y="232"/>
                  <a:pt x="1599" y="244"/>
                  <a:pt x="1600" y="248"/>
                </a:cubicBezTo>
                <a:cubicBezTo>
                  <a:pt x="1622" y="356"/>
                  <a:pt x="1595" y="505"/>
                  <a:pt x="1579" y="611"/>
                </a:cubicBezTo>
                <a:cubicBezTo>
                  <a:pt x="1540" y="880"/>
                  <a:pt x="1464" y="1144"/>
                  <a:pt x="1391" y="1404"/>
                </a:cubicBezTo>
                <a:cubicBezTo>
                  <a:pt x="1349" y="1555"/>
                  <a:pt x="1301" y="1705"/>
                  <a:pt x="1246" y="1852"/>
                </a:cubicBezTo>
                <a:cubicBezTo>
                  <a:pt x="1214" y="1938"/>
                  <a:pt x="1182" y="2025"/>
                  <a:pt x="1135" y="2104"/>
                </a:cubicBezTo>
                <a:cubicBezTo>
                  <a:pt x="1109" y="2148"/>
                  <a:pt x="1136" y="2123"/>
                  <a:pt x="1127" y="2113"/>
                </a:cubicBezTo>
                <a:cubicBezTo>
                  <a:pt x="1123" y="2099"/>
                  <a:pt x="1118" y="2084"/>
                  <a:pt x="1114" y="2070"/>
                </a:cubicBezTo>
              </a:path>
              <a:path w="2886" h="2314">
                <a:moveTo>
                  <a:pt x="738" y="436"/>
                </a:moveTo>
                <a:cubicBezTo>
                  <a:pt x="677" y="737"/>
                  <a:pt x="606" y="1034"/>
                  <a:pt x="499" y="1323"/>
                </a:cubicBezTo>
                <a:cubicBezTo>
                  <a:pt x="428" y="1514"/>
                  <a:pt x="341" y="1695"/>
                  <a:pt x="247" y="1874"/>
                </a:cubicBezTo>
                <a:cubicBezTo>
                  <a:pt x="187" y="1987"/>
                  <a:pt x="126" y="2098"/>
                  <a:pt x="60" y="2207"/>
                </a:cubicBezTo>
                <a:cubicBezTo>
                  <a:pt x="39" y="2242"/>
                  <a:pt x="18" y="2281"/>
                  <a:pt x="0" y="2313"/>
                </a:cubicBezTo>
                <a:cubicBezTo>
                  <a:pt x="27" y="2304"/>
                  <a:pt x="58" y="2298"/>
                  <a:pt x="85" y="2288"/>
                </a:cubicBezTo>
                <a:cubicBezTo>
                  <a:pt x="143" y="2267"/>
                  <a:pt x="200" y="2245"/>
                  <a:pt x="260" y="2228"/>
                </a:cubicBezTo>
                <a:cubicBezTo>
                  <a:pt x="345" y="2204"/>
                  <a:pt x="433" y="2188"/>
                  <a:pt x="521" y="2185"/>
                </a:cubicBezTo>
                <a:cubicBezTo>
                  <a:pt x="637" y="2180"/>
                  <a:pt x="754" y="2181"/>
                  <a:pt x="870" y="2181"/>
                </a:cubicBezTo>
                <a:cubicBezTo>
                  <a:pt x="977" y="2181"/>
                  <a:pt x="1084" y="2183"/>
                  <a:pt x="1191" y="2177"/>
                </a:cubicBezTo>
                <a:cubicBezTo>
                  <a:pt x="1207" y="2176"/>
                  <a:pt x="1352" y="2180"/>
                  <a:pt x="1361" y="2164"/>
                </a:cubicBezTo>
                <a:cubicBezTo>
                  <a:pt x="1363" y="2161"/>
                  <a:pt x="1324" y="2133"/>
                  <a:pt x="1323" y="2130"/>
                </a:cubicBezTo>
              </a:path>
              <a:path w="2886" h="2314">
                <a:moveTo>
                  <a:pt x="1161" y="2151"/>
                </a:moveTo>
                <a:cubicBezTo>
                  <a:pt x="1172" y="2141"/>
                  <a:pt x="1156" y="2141"/>
                  <a:pt x="1169" y="2134"/>
                </a:cubicBezTo>
                <a:cubicBezTo>
                  <a:pt x="1228" y="2101"/>
                  <a:pt x="1302" y="2075"/>
                  <a:pt x="1366" y="2049"/>
                </a:cubicBezTo>
                <a:cubicBezTo>
                  <a:pt x="1512" y="1989"/>
                  <a:pt x="1654" y="1919"/>
                  <a:pt x="1801" y="1861"/>
                </a:cubicBezTo>
                <a:cubicBezTo>
                  <a:pt x="1974" y="1793"/>
                  <a:pt x="2147" y="1722"/>
                  <a:pt x="2321" y="1656"/>
                </a:cubicBezTo>
                <a:cubicBezTo>
                  <a:pt x="2445" y="1609"/>
                  <a:pt x="2567" y="1561"/>
                  <a:pt x="2693" y="1520"/>
                </a:cubicBezTo>
                <a:cubicBezTo>
                  <a:pt x="2745" y="1503"/>
                  <a:pt x="2793" y="1486"/>
                  <a:pt x="2846" y="1473"/>
                </a:cubicBezTo>
                <a:cubicBezTo>
                  <a:pt x="2846" y="1473"/>
                  <a:pt x="2885" y="1465"/>
                  <a:pt x="2885" y="1464"/>
                </a:cubicBezTo>
                <a:cubicBezTo>
                  <a:pt x="2890" y="1455"/>
                  <a:pt x="2878" y="1429"/>
                  <a:pt x="2880" y="1417"/>
                </a:cubicBezTo>
              </a:path>
              <a:path w="2886" h="2314">
                <a:moveTo>
                  <a:pt x="1511" y="239"/>
                </a:moveTo>
                <a:cubicBezTo>
                  <a:pt x="1585" y="229"/>
                  <a:pt x="1659" y="223"/>
                  <a:pt x="1733" y="218"/>
                </a:cubicBezTo>
                <a:cubicBezTo>
                  <a:pt x="1831" y="212"/>
                  <a:pt x="1929" y="209"/>
                  <a:pt x="2027" y="201"/>
                </a:cubicBezTo>
                <a:cubicBezTo>
                  <a:pt x="2128" y="192"/>
                  <a:pt x="2229" y="185"/>
                  <a:pt x="2330" y="175"/>
                </a:cubicBezTo>
                <a:cubicBezTo>
                  <a:pt x="2411" y="167"/>
                  <a:pt x="2489" y="150"/>
                  <a:pt x="2569" y="137"/>
                </a:cubicBezTo>
                <a:cubicBezTo>
                  <a:pt x="2612" y="130"/>
                  <a:pt x="2657" y="119"/>
                  <a:pt x="2701" y="116"/>
                </a:cubicBezTo>
                <a:cubicBezTo>
                  <a:pt x="2714" y="115"/>
                  <a:pt x="2721" y="113"/>
                  <a:pt x="2731" y="111"/>
                </a:cubicBezTo>
                <a:cubicBezTo>
                  <a:pt x="2725" y="108"/>
                  <a:pt x="2718" y="105"/>
                  <a:pt x="2714" y="103"/>
                </a:cubicBezTo>
                <a:cubicBezTo>
                  <a:pt x="2700" y="97"/>
                  <a:pt x="2686" y="88"/>
                  <a:pt x="2671" y="81"/>
                </a:cubicBezTo>
                <a:cubicBezTo>
                  <a:pt x="2649" y="71"/>
                  <a:pt x="2629" y="61"/>
                  <a:pt x="2607" y="52"/>
                </a:cubicBezTo>
              </a:path>
              <a:path w="2886" h="2314">
                <a:moveTo>
                  <a:pt x="2134" y="17"/>
                </a:moveTo>
                <a:cubicBezTo>
                  <a:pt x="2201" y="50"/>
                  <a:pt x="2266" y="78"/>
                  <a:pt x="2338" y="99"/>
                </a:cubicBezTo>
                <a:cubicBezTo>
                  <a:pt x="2426" y="124"/>
                  <a:pt x="2516" y="147"/>
                  <a:pt x="2607" y="158"/>
                </a:cubicBezTo>
                <a:cubicBezTo>
                  <a:pt x="2668" y="165"/>
                  <a:pt x="2726" y="171"/>
                  <a:pt x="2787" y="171"/>
                </a:cubicBezTo>
                <a:cubicBezTo>
                  <a:pt x="2809" y="171"/>
                  <a:pt x="2830" y="173"/>
                  <a:pt x="2851" y="167"/>
                </a:cubicBezTo>
                <a:cubicBezTo>
                  <a:pt x="2863" y="164"/>
                  <a:pt x="2838" y="165"/>
                  <a:pt x="2842" y="163"/>
                </a:cubicBezTo>
                <a:cubicBezTo>
                  <a:pt x="2841" y="163"/>
                  <a:pt x="2839" y="163"/>
                  <a:pt x="2838" y="163"/>
                </a:cubicBezTo>
                <a:cubicBezTo>
                  <a:pt x="2838" y="377"/>
                  <a:pt x="2824" y="589"/>
                  <a:pt x="2821" y="803"/>
                </a:cubicBezTo>
                <a:cubicBezTo>
                  <a:pt x="2819" y="941"/>
                  <a:pt x="2820" y="1079"/>
                  <a:pt x="2816" y="1217"/>
                </a:cubicBezTo>
                <a:cubicBezTo>
                  <a:pt x="2814" y="1299"/>
                  <a:pt x="2832" y="1415"/>
                  <a:pt x="2816" y="1494"/>
                </a:cubicBezTo>
                <a:cubicBezTo>
                  <a:pt x="2813" y="1509"/>
                  <a:pt x="2817" y="1508"/>
                  <a:pt x="2812" y="1494"/>
                </a:cubicBezTo>
                <a:cubicBezTo>
                  <a:pt x="2807" y="1481"/>
                  <a:pt x="2806" y="1464"/>
                  <a:pt x="2804" y="1456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3" name="Freeform 13"/>
          <p:cNvSpPr/>
          <p:nvPr/>
        </p:nvSpPr>
        <p:spPr>
          <a:xfrm>
            <a:off x="1407960" y="144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4" name="Freeform 14"/>
          <p:cNvSpPr/>
          <p:nvPr/>
        </p:nvSpPr>
        <p:spPr>
          <a:xfrm>
            <a:off x="5316480" y="4525920"/>
            <a:ext cx="317520" cy="195480"/>
          </a:xfrm>
          <a:custGeom>
            <a:avLst/>
            <a:gdLst/>
            <a:ahLst/>
            <a:rect l="l" t="t" r="r" b="b"/>
            <a:pathLst>
              <a:path w="880" h="543">
                <a:moveTo>
                  <a:pt x="89" y="30"/>
                </a:moveTo>
                <a:cubicBezTo>
                  <a:pt x="70" y="22"/>
                  <a:pt x="49" y="11"/>
                  <a:pt x="30" y="5"/>
                </a:cubicBezTo>
                <a:cubicBezTo>
                  <a:pt x="22" y="2"/>
                  <a:pt x="10" y="2"/>
                  <a:pt x="0" y="0"/>
                </a:cubicBezTo>
                <a:cubicBezTo>
                  <a:pt x="16" y="14"/>
                  <a:pt x="31" y="28"/>
                  <a:pt x="51" y="39"/>
                </a:cubicBezTo>
                <a:cubicBezTo>
                  <a:pt x="155" y="95"/>
                  <a:pt x="253" y="160"/>
                  <a:pt x="354" y="222"/>
                </a:cubicBezTo>
                <a:cubicBezTo>
                  <a:pt x="442" y="276"/>
                  <a:pt x="526" y="335"/>
                  <a:pt x="614" y="389"/>
                </a:cubicBezTo>
                <a:cubicBezTo>
                  <a:pt x="677" y="427"/>
                  <a:pt x="738" y="468"/>
                  <a:pt x="802" y="504"/>
                </a:cubicBezTo>
                <a:cubicBezTo>
                  <a:pt x="819" y="514"/>
                  <a:pt x="854" y="537"/>
                  <a:pt x="870" y="542"/>
                </a:cubicBezTo>
                <a:cubicBezTo>
                  <a:pt x="878" y="542"/>
                  <a:pt x="882" y="543"/>
                  <a:pt x="875" y="538"/>
                </a:cubicBezTo>
                <a:cubicBezTo>
                  <a:pt x="857" y="517"/>
                  <a:pt x="853" y="513"/>
                  <a:pt x="828" y="487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4986360" y="4524480"/>
            <a:ext cx="474480" cy="528480"/>
          </a:xfrm>
          <a:custGeom>
            <a:avLst/>
            <a:gdLst/>
            <a:ahLst/>
            <a:rect l="l" t="t" r="r" b="b"/>
            <a:pathLst>
              <a:path w="1316" h="1469">
                <a:moveTo>
                  <a:pt x="866" y="128"/>
                </a:moveTo>
                <a:cubicBezTo>
                  <a:pt x="874" y="111"/>
                  <a:pt x="869" y="99"/>
                  <a:pt x="884" y="77"/>
                </a:cubicBezTo>
                <a:cubicBezTo>
                  <a:pt x="898" y="57"/>
                  <a:pt x="921" y="29"/>
                  <a:pt x="935" y="13"/>
                </a:cubicBezTo>
                <a:cubicBezTo>
                  <a:pt x="940" y="7"/>
                  <a:pt x="949" y="4"/>
                  <a:pt x="952" y="0"/>
                </a:cubicBezTo>
                <a:cubicBezTo>
                  <a:pt x="948" y="7"/>
                  <a:pt x="952" y="11"/>
                  <a:pt x="948" y="17"/>
                </a:cubicBezTo>
                <a:cubicBezTo>
                  <a:pt x="921" y="58"/>
                  <a:pt x="891" y="99"/>
                  <a:pt x="858" y="137"/>
                </a:cubicBezTo>
                <a:cubicBezTo>
                  <a:pt x="785" y="221"/>
                  <a:pt x="708" y="300"/>
                  <a:pt x="636" y="384"/>
                </a:cubicBezTo>
                <a:cubicBezTo>
                  <a:pt x="522" y="518"/>
                  <a:pt x="412" y="656"/>
                  <a:pt x="303" y="794"/>
                </a:cubicBezTo>
                <a:cubicBezTo>
                  <a:pt x="237" y="877"/>
                  <a:pt x="171" y="960"/>
                  <a:pt x="103" y="1041"/>
                </a:cubicBezTo>
                <a:cubicBezTo>
                  <a:pt x="78" y="1071"/>
                  <a:pt x="50" y="1095"/>
                  <a:pt x="22" y="1122"/>
                </a:cubicBezTo>
                <a:cubicBezTo>
                  <a:pt x="17" y="1127"/>
                  <a:pt x="22" y="1126"/>
                  <a:pt x="17" y="1131"/>
                </a:cubicBezTo>
                <a:cubicBezTo>
                  <a:pt x="13" y="1135"/>
                  <a:pt x="18" y="1129"/>
                  <a:pt x="17" y="1131"/>
                </a:cubicBezTo>
                <a:cubicBezTo>
                  <a:pt x="15" y="1137"/>
                  <a:pt x="3" y="1133"/>
                  <a:pt x="4" y="1139"/>
                </a:cubicBezTo>
                <a:cubicBezTo>
                  <a:pt x="6" y="1147"/>
                  <a:pt x="-1" y="1148"/>
                  <a:pt x="4" y="1157"/>
                </a:cubicBezTo>
                <a:cubicBezTo>
                  <a:pt x="15" y="1175"/>
                  <a:pt x="45" y="1191"/>
                  <a:pt x="64" y="1199"/>
                </a:cubicBezTo>
                <a:cubicBezTo>
                  <a:pt x="118" y="1222"/>
                  <a:pt x="177" y="1233"/>
                  <a:pt x="235" y="1242"/>
                </a:cubicBezTo>
                <a:cubicBezTo>
                  <a:pt x="327" y="1256"/>
                  <a:pt x="417" y="1269"/>
                  <a:pt x="508" y="1285"/>
                </a:cubicBezTo>
                <a:cubicBezTo>
                  <a:pt x="640" y="1309"/>
                  <a:pt x="768" y="1344"/>
                  <a:pt x="896" y="1383"/>
                </a:cubicBezTo>
                <a:cubicBezTo>
                  <a:pt x="978" y="1408"/>
                  <a:pt x="1060" y="1431"/>
                  <a:pt x="1144" y="1447"/>
                </a:cubicBezTo>
                <a:cubicBezTo>
                  <a:pt x="1187" y="1456"/>
                  <a:pt x="1236" y="1466"/>
                  <a:pt x="1280" y="1464"/>
                </a:cubicBezTo>
                <a:cubicBezTo>
                  <a:pt x="1292" y="1463"/>
                  <a:pt x="1302" y="1466"/>
                  <a:pt x="1306" y="1464"/>
                </a:cubicBezTo>
                <a:cubicBezTo>
                  <a:pt x="1316" y="1459"/>
                  <a:pt x="1306" y="1442"/>
                  <a:pt x="1310" y="1438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6" name="Freeform 16"/>
          <p:cNvSpPr/>
          <p:nvPr/>
        </p:nvSpPr>
        <p:spPr>
          <a:xfrm>
            <a:off x="5413320" y="4659480"/>
            <a:ext cx="208080" cy="380880"/>
          </a:xfrm>
          <a:custGeom>
            <a:avLst/>
            <a:gdLst/>
            <a:ahLst/>
            <a:rect l="l" t="t" r="r" b="b"/>
            <a:pathLst>
              <a:path w="577" h="1059">
                <a:moveTo>
                  <a:pt x="576" y="0"/>
                </a:moveTo>
                <a:cubicBezTo>
                  <a:pt x="569" y="10"/>
                  <a:pt x="565" y="5"/>
                  <a:pt x="559" y="25"/>
                </a:cubicBezTo>
                <a:cubicBezTo>
                  <a:pt x="552" y="47"/>
                  <a:pt x="544" y="69"/>
                  <a:pt x="533" y="89"/>
                </a:cubicBezTo>
                <a:cubicBezTo>
                  <a:pt x="513" y="125"/>
                  <a:pt x="489" y="160"/>
                  <a:pt x="469" y="196"/>
                </a:cubicBezTo>
                <a:cubicBezTo>
                  <a:pt x="410" y="302"/>
                  <a:pt x="355" y="411"/>
                  <a:pt x="303" y="520"/>
                </a:cubicBezTo>
                <a:cubicBezTo>
                  <a:pt x="252" y="628"/>
                  <a:pt x="197" y="732"/>
                  <a:pt x="140" y="836"/>
                </a:cubicBezTo>
                <a:cubicBezTo>
                  <a:pt x="124" y="864"/>
                  <a:pt x="55" y="1038"/>
                  <a:pt x="17" y="1045"/>
                </a:cubicBezTo>
                <a:cubicBezTo>
                  <a:pt x="-24" y="1052"/>
                  <a:pt x="45" y="1072"/>
                  <a:pt x="0" y="1032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7" name="Freeform 17"/>
          <p:cNvSpPr/>
          <p:nvPr/>
        </p:nvSpPr>
        <p:spPr>
          <a:xfrm>
            <a:off x="4965840" y="5057640"/>
            <a:ext cx="450720" cy="111240"/>
          </a:xfrm>
          <a:custGeom>
            <a:avLst/>
            <a:gdLst/>
            <a:ahLst/>
            <a:rect l="l" t="t" r="r" b="b"/>
            <a:pathLst>
              <a:path w="1256" h="312">
                <a:moveTo>
                  <a:pt x="5" y="0"/>
                </a:moveTo>
                <a:cubicBezTo>
                  <a:pt x="6" y="0"/>
                  <a:pt x="8" y="0"/>
                  <a:pt x="9" y="0"/>
                </a:cubicBezTo>
                <a:cubicBezTo>
                  <a:pt x="17" y="2"/>
                  <a:pt x="-3" y="-1"/>
                  <a:pt x="5" y="0"/>
                </a:cubicBezTo>
                <a:cubicBezTo>
                  <a:pt x="13" y="1"/>
                  <a:pt x="25" y="3"/>
                  <a:pt x="35" y="4"/>
                </a:cubicBezTo>
                <a:cubicBezTo>
                  <a:pt x="68" y="7"/>
                  <a:pt x="100" y="13"/>
                  <a:pt x="133" y="21"/>
                </a:cubicBezTo>
                <a:cubicBezTo>
                  <a:pt x="196" y="37"/>
                  <a:pt x="258" y="55"/>
                  <a:pt x="321" y="72"/>
                </a:cubicBezTo>
                <a:cubicBezTo>
                  <a:pt x="413" y="97"/>
                  <a:pt x="505" y="112"/>
                  <a:pt x="598" y="132"/>
                </a:cubicBezTo>
                <a:cubicBezTo>
                  <a:pt x="698" y="153"/>
                  <a:pt x="799" y="173"/>
                  <a:pt x="897" y="200"/>
                </a:cubicBezTo>
                <a:cubicBezTo>
                  <a:pt x="963" y="218"/>
                  <a:pt x="1034" y="231"/>
                  <a:pt x="1097" y="260"/>
                </a:cubicBezTo>
                <a:cubicBezTo>
                  <a:pt x="1131" y="275"/>
                  <a:pt x="1159" y="292"/>
                  <a:pt x="1195" y="303"/>
                </a:cubicBezTo>
                <a:cubicBezTo>
                  <a:pt x="1214" y="309"/>
                  <a:pt x="1231" y="317"/>
                  <a:pt x="1242" y="294"/>
                </a:cubicBezTo>
                <a:cubicBezTo>
                  <a:pt x="1260" y="294"/>
                  <a:pt x="1262" y="290"/>
                  <a:pt x="1242" y="269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8" name="Freeform 18"/>
          <p:cNvSpPr/>
          <p:nvPr/>
        </p:nvSpPr>
        <p:spPr>
          <a:xfrm>
            <a:off x="4971960" y="4967280"/>
            <a:ext cx="28800" cy="109440"/>
          </a:xfrm>
          <a:custGeom>
            <a:avLst/>
            <a:gdLst/>
            <a:ahLst/>
            <a:rect l="l" t="t" r="r" b="b"/>
            <a:pathLst>
              <a:path w="82" h="304">
                <a:moveTo>
                  <a:pt x="0" y="0"/>
                </a:moveTo>
                <a:cubicBezTo>
                  <a:pt x="11" y="34"/>
                  <a:pt x="19" y="71"/>
                  <a:pt x="25" y="107"/>
                </a:cubicBezTo>
                <a:cubicBezTo>
                  <a:pt x="32" y="153"/>
                  <a:pt x="36" y="195"/>
                  <a:pt x="51" y="239"/>
                </a:cubicBezTo>
                <a:cubicBezTo>
                  <a:pt x="57" y="256"/>
                  <a:pt x="63" y="289"/>
                  <a:pt x="76" y="303"/>
                </a:cubicBezTo>
                <a:cubicBezTo>
                  <a:pt x="78" y="303"/>
                  <a:pt x="79" y="303"/>
                  <a:pt x="81" y="303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9" name="Freeform 19"/>
          <p:cNvSpPr/>
          <p:nvPr/>
        </p:nvSpPr>
        <p:spPr>
          <a:xfrm>
            <a:off x="5289480" y="5127480"/>
            <a:ext cx="142920" cy="22320"/>
          </a:xfrm>
          <a:custGeom>
            <a:avLst/>
            <a:gdLst/>
            <a:ahLst/>
            <a:rect l="l" t="t" r="r" b="b"/>
            <a:pathLst>
              <a:path w="398" h="61">
                <a:moveTo>
                  <a:pt x="0" y="0"/>
                </a:moveTo>
                <a:cubicBezTo>
                  <a:pt x="60" y="10"/>
                  <a:pt x="120" y="14"/>
                  <a:pt x="179" y="26"/>
                </a:cubicBezTo>
                <a:cubicBezTo>
                  <a:pt x="217" y="34"/>
                  <a:pt x="256" y="41"/>
                  <a:pt x="294" y="43"/>
                </a:cubicBezTo>
                <a:cubicBezTo>
                  <a:pt x="308" y="44"/>
                  <a:pt x="341" y="45"/>
                  <a:pt x="354" y="51"/>
                </a:cubicBezTo>
                <a:cubicBezTo>
                  <a:pt x="369" y="58"/>
                  <a:pt x="367" y="60"/>
                  <a:pt x="384" y="60"/>
                </a:cubicBezTo>
                <a:cubicBezTo>
                  <a:pt x="405" y="60"/>
                  <a:pt x="397" y="50"/>
                  <a:pt x="392" y="34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0" name="Freeform 20"/>
          <p:cNvSpPr/>
          <p:nvPr/>
        </p:nvSpPr>
        <p:spPr>
          <a:xfrm>
            <a:off x="5411880" y="5057640"/>
            <a:ext cx="38160" cy="98640"/>
          </a:xfrm>
          <a:custGeom>
            <a:avLst/>
            <a:gdLst/>
            <a:ahLst/>
            <a:rect l="l" t="t" r="r" b="b"/>
            <a:pathLst>
              <a:path w="104" h="274">
                <a:moveTo>
                  <a:pt x="0" y="0"/>
                </a:moveTo>
                <a:cubicBezTo>
                  <a:pt x="8" y="32"/>
                  <a:pt x="17" y="68"/>
                  <a:pt x="30" y="98"/>
                </a:cubicBezTo>
                <a:cubicBezTo>
                  <a:pt x="46" y="133"/>
                  <a:pt x="61" y="169"/>
                  <a:pt x="77" y="205"/>
                </a:cubicBezTo>
                <a:cubicBezTo>
                  <a:pt x="86" y="224"/>
                  <a:pt x="88" y="251"/>
                  <a:pt x="98" y="269"/>
                </a:cubicBezTo>
                <a:cubicBezTo>
                  <a:pt x="103" y="279"/>
                  <a:pt x="98" y="272"/>
                  <a:pt x="103" y="269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1" name="Freeform 21"/>
          <p:cNvSpPr/>
          <p:nvPr/>
        </p:nvSpPr>
        <p:spPr>
          <a:xfrm>
            <a:off x="5452920" y="4732200"/>
            <a:ext cx="165240" cy="409680"/>
          </a:xfrm>
          <a:custGeom>
            <a:avLst/>
            <a:gdLst/>
            <a:ahLst/>
            <a:rect l="l" t="t" r="r" b="b"/>
            <a:pathLst>
              <a:path w="458" h="1137">
                <a:moveTo>
                  <a:pt x="0" y="1136"/>
                </a:moveTo>
                <a:cubicBezTo>
                  <a:pt x="8" y="1108"/>
                  <a:pt x="16" y="1075"/>
                  <a:pt x="26" y="1046"/>
                </a:cubicBezTo>
                <a:cubicBezTo>
                  <a:pt x="48" y="979"/>
                  <a:pt x="72" y="910"/>
                  <a:pt x="99" y="845"/>
                </a:cubicBezTo>
                <a:cubicBezTo>
                  <a:pt x="138" y="749"/>
                  <a:pt x="183" y="655"/>
                  <a:pt x="231" y="564"/>
                </a:cubicBezTo>
                <a:cubicBezTo>
                  <a:pt x="273" y="485"/>
                  <a:pt x="329" y="417"/>
                  <a:pt x="376" y="342"/>
                </a:cubicBezTo>
                <a:cubicBezTo>
                  <a:pt x="397" y="309"/>
                  <a:pt x="417" y="279"/>
                  <a:pt x="440" y="248"/>
                </a:cubicBezTo>
                <a:cubicBezTo>
                  <a:pt x="445" y="241"/>
                  <a:pt x="445" y="243"/>
                  <a:pt x="449" y="235"/>
                </a:cubicBezTo>
                <a:cubicBezTo>
                  <a:pt x="452" y="229"/>
                  <a:pt x="452" y="233"/>
                  <a:pt x="453" y="227"/>
                </a:cubicBezTo>
                <a:cubicBezTo>
                  <a:pt x="465" y="162"/>
                  <a:pt x="433" y="91"/>
                  <a:pt x="444" y="30"/>
                </a:cubicBezTo>
                <a:cubicBezTo>
                  <a:pt x="446" y="19"/>
                  <a:pt x="448" y="15"/>
                  <a:pt x="453" y="5"/>
                </a:cubicBezTo>
                <a:cubicBezTo>
                  <a:pt x="454" y="5"/>
                  <a:pt x="456" y="5"/>
                  <a:pt x="457" y="5"/>
                </a:cubicBezTo>
                <a:cubicBezTo>
                  <a:pt x="455" y="17"/>
                  <a:pt x="454" y="18"/>
                  <a:pt x="453" y="30"/>
                </a:cubicBezTo>
                <a:cubicBezTo>
                  <a:pt x="449" y="73"/>
                  <a:pt x="444" y="115"/>
                  <a:pt x="436" y="158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_wordpress_wp-content_images_skeletondrawing"/>
          <p:cNvPicPr/>
          <p:nvPr/>
        </p:nvPicPr>
        <p:blipFill>
          <a:blip r:embed="rId1"/>
          <a:stretch/>
        </p:blipFill>
        <p:spPr>
          <a:xfrm>
            <a:off x="609480" y="914400"/>
            <a:ext cx="7696440" cy="466416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263" name="Text Box 3"/>
          <p:cNvSpPr/>
          <p:nvPr/>
        </p:nvSpPr>
        <p:spPr>
          <a:xfrm>
            <a:off x="1523880" y="5715000"/>
            <a:ext cx="6248520" cy="4597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nd circles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4" name="Freeform 4"/>
          <p:cNvSpPr/>
          <p:nvPr/>
        </p:nvSpPr>
        <p:spPr>
          <a:xfrm>
            <a:off x="5500800" y="2390760"/>
            <a:ext cx="1531800" cy="2163600"/>
          </a:xfrm>
          <a:custGeom>
            <a:avLst/>
            <a:gdLst/>
            <a:ahLst/>
            <a:rect l="l" t="t" r="r" b="b"/>
            <a:pathLst>
              <a:path w="4255" h="6013">
                <a:moveTo>
                  <a:pt x="3593" y="341"/>
                </a:moveTo>
                <a:cubicBezTo>
                  <a:pt x="3586" y="318"/>
                  <a:pt x="3572" y="304"/>
                  <a:pt x="3567" y="277"/>
                </a:cubicBezTo>
                <a:cubicBezTo>
                  <a:pt x="3557" y="228"/>
                  <a:pt x="3557" y="188"/>
                  <a:pt x="3537" y="140"/>
                </a:cubicBezTo>
                <a:cubicBezTo>
                  <a:pt x="3504" y="63"/>
                  <a:pt x="3452" y="29"/>
                  <a:pt x="3371" y="8"/>
                </a:cubicBezTo>
                <a:cubicBezTo>
                  <a:pt x="3318" y="-6"/>
                  <a:pt x="3262" y="0"/>
                  <a:pt x="3209" y="4"/>
                </a:cubicBezTo>
                <a:cubicBezTo>
                  <a:pt x="3202" y="7"/>
                  <a:pt x="3201" y="9"/>
                  <a:pt x="3196" y="8"/>
                </a:cubicBezTo>
                <a:cubicBezTo>
                  <a:pt x="3198" y="16"/>
                  <a:pt x="3208" y="17"/>
                  <a:pt x="3209" y="25"/>
                </a:cubicBezTo>
                <a:cubicBezTo>
                  <a:pt x="3219" y="79"/>
                  <a:pt x="3227" y="128"/>
                  <a:pt x="3243" y="183"/>
                </a:cubicBezTo>
                <a:cubicBezTo>
                  <a:pt x="3279" y="303"/>
                  <a:pt x="3317" y="422"/>
                  <a:pt x="3354" y="542"/>
                </a:cubicBezTo>
                <a:cubicBezTo>
                  <a:pt x="3455" y="865"/>
                  <a:pt x="3570" y="1185"/>
                  <a:pt x="3678" y="1506"/>
                </a:cubicBezTo>
                <a:cubicBezTo>
                  <a:pt x="3753" y="1729"/>
                  <a:pt x="3819" y="1955"/>
                  <a:pt x="3900" y="2176"/>
                </a:cubicBezTo>
                <a:cubicBezTo>
                  <a:pt x="3995" y="2435"/>
                  <a:pt x="4096" y="2690"/>
                  <a:pt x="4211" y="2940"/>
                </a:cubicBezTo>
                <a:cubicBezTo>
                  <a:pt x="4226" y="2973"/>
                  <a:pt x="4240" y="3005"/>
                  <a:pt x="4254" y="3038"/>
                </a:cubicBezTo>
                <a:cubicBezTo>
                  <a:pt x="4244" y="3029"/>
                  <a:pt x="4243" y="3022"/>
                  <a:pt x="4233" y="3012"/>
                </a:cubicBezTo>
                <a:cubicBezTo>
                  <a:pt x="4206" y="2985"/>
                  <a:pt x="4178" y="2965"/>
                  <a:pt x="4147" y="2944"/>
                </a:cubicBezTo>
                <a:cubicBezTo>
                  <a:pt x="4118" y="2924"/>
                  <a:pt x="4089" y="2907"/>
                  <a:pt x="4058" y="2889"/>
                </a:cubicBezTo>
              </a:path>
              <a:path w="4255" h="6013">
                <a:moveTo>
                  <a:pt x="4199" y="4523"/>
                </a:moveTo>
                <a:cubicBezTo>
                  <a:pt x="4206" y="4518"/>
                  <a:pt x="4216" y="4511"/>
                  <a:pt x="4224" y="4506"/>
                </a:cubicBezTo>
                <a:cubicBezTo>
                  <a:pt x="4208" y="4511"/>
                  <a:pt x="4202" y="4510"/>
                  <a:pt x="4186" y="4515"/>
                </a:cubicBezTo>
                <a:cubicBezTo>
                  <a:pt x="4137" y="4530"/>
                  <a:pt x="4092" y="4548"/>
                  <a:pt x="4045" y="4566"/>
                </a:cubicBezTo>
                <a:cubicBezTo>
                  <a:pt x="3932" y="4610"/>
                  <a:pt x="3819" y="4657"/>
                  <a:pt x="3708" y="4707"/>
                </a:cubicBezTo>
                <a:cubicBezTo>
                  <a:pt x="3551" y="4777"/>
                  <a:pt x="3395" y="4849"/>
                  <a:pt x="3238" y="4920"/>
                </a:cubicBezTo>
                <a:cubicBezTo>
                  <a:pt x="2314" y="5339"/>
                  <a:pt x="1363" y="5769"/>
                  <a:pt x="362" y="5965"/>
                </a:cubicBezTo>
                <a:cubicBezTo>
                  <a:pt x="242" y="5989"/>
                  <a:pt x="118" y="6000"/>
                  <a:pt x="0" y="6008"/>
                </a:cubicBezTo>
                <a:cubicBezTo>
                  <a:pt x="29" y="6001"/>
                  <a:pt x="59" y="5993"/>
                  <a:pt x="89" y="5987"/>
                </a:cubicBezTo>
                <a:cubicBezTo>
                  <a:pt x="170" y="5970"/>
                  <a:pt x="251" y="5959"/>
                  <a:pt x="332" y="5944"/>
                </a:cubicBezTo>
                <a:cubicBezTo>
                  <a:pt x="412" y="5929"/>
                  <a:pt x="479" y="5902"/>
                  <a:pt x="554" y="588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5" name="Freeform 5"/>
          <p:cNvSpPr/>
          <p:nvPr/>
        </p:nvSpPr>
        <p:spPr>
          <a:xfrm>
            <a:off x="4361040" y="1743120"/>
            <a:ext cx="1717560" cy="2268360"/>
          </a:xfrm>
          <a:custGeom>
            <a:avLst/>
            <a:gdLst/>
            <a:ahLst/>
            <a:rect l="l" t="t" r="r" b="b"/>
            <a:pathLst>
              <a:path w="4772" h="6300">
                <a:moveTo>
                  <a:pt x="4473" y="94"/>
                </a:moveTo>
                <a:cubicBezTo>
                  <a:pt x="4428" y="62"/>
                  <a:pt x="4384" y="31"/>
                  <a:pt x="4340" y="0"/>
                </a:cubicBezTo>
                <a:cubicBezTo>
                  <a:pt x="4379" y="169"/>
                  <a:pt x="4420" y="337"/>
                  <a:pt x="4477" y="504"/>
                </a:cubicBezTo>
                <a:cubicBezTo>
                  <a:pt x="4754" y="1313"/>
                  <a:pt x="4891" y="2130"/>
                  <a:pt x="4613" y="2966"/>
                </a:cubicBezTo>
                <a:cubicBezTo>
                  <a:pt x="4507" y="3286"/>
                  <a:pt x="4350" y="3589"/>
                  <a:pt x="4174" y="3875"/>
                </a:cubicBezTo>
                <a:cubicBezTo>
                  <a:pt x="3743" y="4575"/>
                  <a:pt x="3137" y="5195"/>
                  <a:pt x="2386" y="5543"/>
                </a:cubicBezTo>
                <a:cubicBezTo>
                  <a:pt x="1827" y="5802"/>
                  <a:pt x="1208" y="5911"/>
                  <a:pt x="611" y="6047"/>
                </a:cubicBezTo>
                <a:cubicBezTo>
                  <a:pt x="545" y="6062"/>
                  <a:pt x="466" y="6084"/>
                  <a:pt x="406" y="6098"/>
                </a:cubicBezTo>
                <a:cubicBezTo>
                  <a:pt x="405" y="6100"/>
                  <a:pt x="524" y="6125"/>
                  <a:pt x="491" y="6141"/>
                </a:cubicBezTo>
                <a:cubicBezTo>
                  <a:pt x="408" y="6180"/>
                  <a:pt x="313" y="6191"/>
                  <a:pt x="227" y="6222"/>
                </a:cubicBezTo>
                <a:cubicBezTo>
                  <a:pt x="150" y="6250"/>
                  <a:pt x="77" y="6274"/>
                  <a:pt x="0" y="629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6" name="Freeform 6"/>
          <p:cNvSpPr/>
          <p:nvPr/>
        </p:nvSpPr>
        <p:spPr>
          <a:xfrm>
            <a:off x="2824200" y="2476440"/>
            <a:ext cx="826920" cy="1190520"/>
          </a:xfrm>
          <a:custGeom>
            <a:avLst/>
            <a:gdLst/>
            <a:ahLst/>
            <a:rect l="l" t="t" r="r" b="b"/>
            <a:pathLst>
              <a:path w="2297" h="3308">
                <a:moveTo>
                  <a:pt x="2296" y="3303"/>
                </a:moveTo>
                <a:cubicBezTo>
                  <a:pt x="2261" y="3286"/>
                  <a:pt x="2230" y="3306"/>
                  <a:pt x="2193" y="3273"/>
                </a:cubicBezTo>
                <a:cubicBezTo>
                  <a:pt x="2149" y="3233"/>
                  <a:pt x="2120" y="3179"/>
                  <a:pt x="2091" y="3128"/>
                </a:cubicBezTo>
                <a:cubicBezTo>
                  <a:pt x="1940" y="2857"/>
                  <a:pt x="1819" y="2569"/>
                  <a:pt x="1681" y="2291"/>
                </a:cubicBezTo>
                <a:cubicBezTo>
                  <a:pt x="1394" y="1714"/>
                  <a:pt x="1067" y="1023"/>
                  <a:pt x="495" y="674"/>
                </a:cubicBezTo>
                <a:cubicBezTo>
                  <a:pt x="378" y="603"/>
                  <a:pt x="165" y="593"/>
                  <a:pt x="68" y="516"/>
                </a:cubicBezTo>
                <a:cubicBezTo>
                  <a:pt x="27" y="484"/>
                  <a:pt x="34" y="481"/>
                  <a:pt x="17" y="431"/>
                </a:cubicBezTo>
                <a:cubicBezTo>
                  <a:pt x="-5" y="367"/>
                  <a:pt x="14" y="291"/>
                  <a:pt x="12" y="226"/>
                </a:cubicBezTo>
                <a:cubicBezTo>
                  <a:pt x="10" y="145"/>
                  <a:pt x="16" y="81"/>
                  <a:pt x="25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7" name="Freeform 7"/>
          <p:cNvSpPr/>
          <p:nvPr/>
        </p:nvSpPr>
        <p:spPr>
          <a:xfrm>
            <a:off x="1452600" y="2717640"/>
            <a:ext cx="901800" cy="2543400"/>
          </a:xfrm>
          <a:custGeom>
            <a:avLst/>
            <a:gdLst/>
            <a:ahLst/>
            <a:rect l="l" t="t" r="r" b="b"/>
            <a:pathLst>
              <a:path w="2502" h="7063">
                <a:moveTo>
                  <a:pt x="2501" y="25"/>
                </a:moveTo>
                <a:cubicBezTo>
                  <a:pt x="2487" y="32"/>
                  <a:pt x="2481" y="-6"/>
                  <a:pt x="2467" y="0"/>
                </a:cubicBezTo>
                <a:cubicBezTo>
                  <a:pt x="2414" y="24"/>
                  <a:pt x="2379" y="36"/>
                  <a:pt x="2334" y="85"/>
                </a:cubicBezTo>
                <a:cubicBezTo>
                  <a:pt x="2237" y="190"/>
                  <a:pt x="2177" y="366"/>
                  <a:pt x="2125" y="495"/>
                </a:cubicBezTo>
                <a:cubicBezTo>
                  <a:pt x="1972" y="874"/>
                  <a:pt x="1860" y="1270"/>
                  <a:pt x="1741" y="1660"/>
                </a:cubicBezTo>
                <a:cubicBezTo>
                  <a:pt x="1392" y="2800"/>
                  <a:pt x="1079" y="3950"/>
                  <a:pt x="734" y="5091"/>
                </a:cubicBezTo>
                <a:cubicBezTo>
                  <a:pt x="596" y="5548"/>
                  <a:pt x="453" y="6005"/>
                  <a:pt x="295" y="6456"/>
                </a:cubicBezTo>
                <a:cubicBezTo>
                  <a:pt x="288" y="6477"/>
                  <a:pt x="91" y="7081"/>
                  <a:pt x="43" y="7062"/>
                </a:cubicBezTo>
                <a:cubicBezTo>
                  <a:pt x="-9" y="7041"/>
                  <a:pt x="19" y="6917"/>
                  <a:pt x="0" y="6879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8" name="Freeform 8"/>
          <p:cNvSpPr/>
          <p:nvPr/>
        </p:nvSpPr>
        <p:spPr>
          <a:xfrm>
            <a:off x="1563840" y="2828880"/>
            <a:ext cx="477720" cy="2162160"/>
          </a:xfrm>
          <a:custGeom>
            <a:avLst/>
            <a:gdLst/>
            <a:ahLst/>
            <a:rect l="l" t="t" r="r" b="b"/>
            <a:pathLst>
              <a:path w="1329" h="6009">
                <a:moveTo>
                  <a:pt x="1328" y="94"/>
                </a:moveTo>
                <a:cubicBezTo>
                  <a:pt x="1308" y="63"/>
                  <a:pt x="1288" y="31"/>
                  <a:pt x="1268" y="0"/>
                </a:cubicBezTo>
                <a:cubicBezTo>
                  <a:pt x="1252" y="44"/>
                  <a:pt x="1233" y="91"/>
                  <a:pt x="1217" y="136"/>
                </a:cubicBezTo>
                <a:cubicBezTo>
                  <a:pt x="987" y="789"/>
                  <a:pt x="803" y="1468"/>
                  <a:pt x="628" y="2138"/>
                </a:cubicBezTo>
                <a:cubicBezTo>
                  <a:pt x="343" y="3228"/>
                  <a:pt x="24" y="4384"/>
                  <a:pt x="0" y="5518"/>
                </a:cubicBezTo>
                <a:cubicBezTo>
                  <a:pt x="-4" y="5684"/>
                  <a:pt x="17" y="5845"/>
                  <a:pt x="39" y="6008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9" name="Freeform 9"/>
          <p:cNvSpPr/>
          <p:nvPr/>
        </p:nvSpPr>
        <p:spPr>
          <a:xfrm>
            <a:off x="2330280" y="4900680"/>
            <a:ext cx="2583000" cy="617400"/>
          </a:xfrm>
          <a:custGeom>
            <a:avLst/>
            <a:gdLst/>
            <a:ahLst/>
            <a:rect l="l" t="t" r="r" b="b"/>
            <a:pathLst>
              <a:path w="7174" h="1716">
                <a:moveTo>
                  <a:pt x="47" y="1711"/>
                </a:moveTo>
                <a:cubicBezTo>
                  <a:pt x="23" y="1708"/>
                  <a:pt x="18" y="1702"/>
                  <a:pt x="8" y="1715"/>
                </a:cubicBezTo>
                <a:cubicBezTo>
                  <a:pt x="31" y="1702"/>
                  <a:pt x="27" y="1677"/>
                  <a:pt x="51" y="1668"/>
                </a:cubicBezTo>
                <a:cubicBezTo>
                  <a:pt x="575" y="1468"/>
                  <a:pt x="1159" y="1554"/>
                  <a:pt x="1707" y="1553"/>
                </a:cubicBezTo>
                <a:cubicBezTo>
                  <a:pt x="2042" y="1552"/>
                  <a:pt x="2372" y="1531"/>
                  <a:pt x="2705" y="1497"/>
                </a:cubicBezTo>
                <a:cubicBezTo>
                  <a:pt x="3904" y="1375"/>
                  <a:pt x="5053" y="982"/>
                  <a:pt x="6158" y="516"/>
                </a:cubicBezTo>
                <a:cubicBezTo>
                  <a:pt x="6488" y="377"/>
                  <a:pt x="6842" y="259"/>
                  <a:pt x="7152" y="85"/>
                </a:cubicBezTo>
                <a:cubicBezTo>
                  <a:pt x="7158" y="82"/>
                  <a:pt x="7170" y="66"/>
                  <a:pt x="7173" y="64"/>
                </a:cubicBezTo>
                <a:cubicBezTo>
                  <a:pt x="7161" y="61"/>
                  <a:pt x="7147" y="44"/>
                  <a:pt x="7131" y="42"/>
                </a:cubicBezTo>
                <a:cubicBezTo>
                  <a:pt x="7111" y="39"/>
                  <a:pt x="7061" y="40"/>
                  <a:pt x="7045" y="34"/>
                </a:cubicBezTo>
                <a:cubicBezTo>
                  <a:pt x="7020" y="25"/>
                  <a:pt x="6999" y="31"/>
                  <a:pt x="6973" y="21"/>
                </a:cubicBezTo>
                <a:cubicBezTo>
                  <a:pt x="6980" y="14"/>
                  <a:pt x="6980" y="9"/>
                  <a:pt x="6973" y="0"/>
                </a:cubicBezTo>
              </a:path>
            </a:pathLst>
          </a:custGeom>
          <a:noFill/>
          <a:ln cap="rnd"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0" name="Freeform 10"/>
          <p:cNvSpPr/>
          <p:nvPr/>
        </p:nvSpPr>
        <p:spPr>
          <a:xfrm>
            <a:off x="3247920" y="2330280"/>
            <a:ext cx="3162240" cy="2286000"/>
          </a:xfrm>
          <a:custGeom>
            <a:avLst/>
            <a:gdLst/>
            <a:ahLst/>
            <a:rect l="l" t="t" r="r" b="b"/>
            <a:pathLst>
              <a:path w="8784" h="6351">
                <a:moveTo>
                  <a:pt x="2010" y="3047"/>
                </a:moveTo>
                <a:cubicBezTo>
                  <a:pt x="2018" y="3050"/>
                  <a:pt x="2006" y="3042"/>
                  <a:pt x="2019" y="3047"/>
                </a:cubicBezTo>
                <a:cubicBezTo>
                  <a:pt x="2053" y="3061"/>
                  <a:pt x="2090" y="3080"/>
                  <a:pt x="2126" y="3094"/>
                </a:cubicBezTo>
                <a:cubicBezTo>
                  <a:pt x="2363" y="3189"/>
                  <a:pt x="2576" y="3336"/>
                  <a:pt x="2796" y="3465"/>
                </a:cubicBezTo>
                <a:cubicBezTo>
                  <a:pt x="2991" y="3580"/>
                  <a:pt x="3189" y="3685"/>
                  <a:pt x="3389" y="3790"/>
                </a:cubicBezTo>
                <a:cubicBezTo>
                  <a:pt x="3561" y="3880"/>
                  <a:pt x="3734" y="3970"/>
                  <a:pt x="3909" y="4054"/>
                </a:cubicBezTo>
                <a:cubicBezTo>
                  <a:pt x="4084" y="4138"/>
                  <a:pt x="4254" y="4228"/>
                  <a:pt x="4426" y="4319"/>
                </a:cubicBezTo>
                <a:cubicBezTo>
                  <a:pt x="4569" y="4395"/>
                  <a:pt x="4709" y="4476"/>
                  <a:pt x="4848" y="4558"/>
                </a:cubicBezTo>
                <a:cubicBezTo>
                  <a:pt x="4945" y="4615"/>
                  <a:pt x="5042" y="4674"/>
                  <a:pt x="5138" y="4733"/>
                </a:cubicBezTo>
                <a:cubicBezTo>
                  <a:pt x="5195" y="4768"/>
                  <a:pt x="5253" y="4800"/>
                  <a:pt x="5309" y="4835"/>
                </a:cubicBezTo>
                <a:cubicBezTo>
                  <a:pt x="5337" y="4852"/>
                  <a:pt x="5375" y="4871"/>
                  <a:pt x="5399" y="4891"/>
                </a:cubicBezTo>
                <a:cubicBezTo>
                  <a:pt x="5403" y="4895"/>
                  <a:pt x="5385" y="4896"/>
                  <a:pt x="5390" y="4899"/>
                </a:cubicBezTo>
              </a:path>
              <a:path w="8784" h="6351">
                <a:moveTo>
                  <a:pt x="5369" y="4912"/>
                </a:moveTo>
                <a:cubicBezTo>
                  <a:pt x="5345" y="4923"/>
                  <a:pt x="5321" y="4936"/>
                  <a:pt x="5296" y="4946"/>
                </a:cubicBezTo>
                <a:cubicBezTo>
                  <a:pt x="5208" y="4983"/>
                  <a:pt x="5118" y="5019"/>
                  <a:pt x="5028" y="5053"/>
                </a:cubicBezTo>
                <a:cubicBezTo>
                  <a:pt x="4670" y="5189"/>
                  <a:pt x="4309" y="5319"/>
                  <a:pt x="3948" y="5445"/>
                </a:cubicBezTo>
                <a:cubicBezTo>
                  <a:pt x="3752" y="5513"/>
                  <a:pt x="3555" y="5580"/>
                  <a:pt x="3359" y="5650"/>
                </a:cubicBezTo>
                <a:cubicBezTo>
                  <a:pt x="3181" y="5713"/>
                  <a:pt x="3001" y="5775"/>
                  <a:pt x="2826" y="5847"/>
                </a:cubicBezTo>
                <a:cubicBezTo>
                  <a:pt x="2700" y="5899"/>
                  <a:pt x="2574" y="5949"/>
                  <a:pt x="2446" y="5996"/>
                </a:cubicBezTo>
                <a:cubicBezTo>
                  <a:pt x="2397" y="6014"/>
                  <a:pt x="2346" y="6030"/>
                  <a:pt x="2296" y="6047"/>
                </a:cubicBezTo>
                <a:cubicBezTo>
                  <a:pt x="2318" y="6035"/>
                  <a:pt x="2361" y="6005"/>
                  <a:pt x="2390" y="5992"/>
                </a:cubicBezTo>
                <a:cubicBezTo>
                  <a:pt x="2644" y="5875"/>
                  <a:pt x="2908" y="5778"/>
                  <a:pt x="3171" y="5684"/>
                </a:cubicBezTo>
                <a:cubicBezTo>
                  <a:pt x="3605" y="5530"/>
                  <a:pt x="4041" y="5380"/>
                  <a:pt x="4477" y="5232"/>
                </a:cubicBezTo>
                <a:cubicBezTo>
                  <a:pt x="4684" y="5161"/>
                  <a:pt x="4891" y="5096"/>
                  <a:pt x="5104" y="5049"/>
                </a:cubicBezTo>
                <a:cubicBezTo>
                  <a:pt x="5077" y="5069"/>
                  <a:pt x="5041" y="5093"/>
                  <a:pt x="5006" y="5113"/>
                </a:cubicBezTo>
                <a:cubicBezTo>
                  <a:pt x="4894" y="5176"/>
                  <a:pt x="4771" y="5223"/>
                  <a:pt x="4652" y="5270"/>
                </a:cubicBezTo>
                <a:cubicBezTo>
                  <a:pt x="4161" y="5464"/>
                  <a:pt x="3643" y="5568"/>
                  <a:pt x="3146" y="5736"/>
                </a:cubicBezTo>
              </a:path>
              <a:path w="8784" h="6351">
                <a:moveTo>
                  <a:pt x="2126" y="3265"/>
                </a:moveTo>
                <a:cubicBezTo>
                  <a:pt x="1832" y="3423"/>
                  <a:pt x="1516" y="3524"/>
                  <a:pt x="1204" y="3640"/>
                </a:cubicBezTo>
                <a:cubicBezTo>
                  <a:pt x="805" y="3788"/>
                  <a:pt x="393" y="3955"/>
                  <a:pt x="5" y="4110"/>
                </a:cubicBezTo>
                <a:cubicBezTo>
                  <a:pt x="-14" y="4118"/>
                  <a:pt x="19" y="4107"/>
                  <a:pt x="0" y="4114"/>
                </a:cubicBezTo>
                <a:cubicBezTo>
                  <a:pt x="5" y="4119"/>
                  <a:pt x="11" y="4133"/>
                  <a:pt x="18" y="4140"/>
                </a:cubicBezTo>
                <a:cubicBezTo>
                  <a:pt x="67" y="4188"/>
                  <a:pt x="116" y="4237"/>
                  <a:pt x="167" y="4285"/>
                </a:cubicBezTo>
                <a:cubicBezTo>
                  <a:pt x="234" y="4348"/>
                  <a:pt x="305" y="4411"/>
                  <a:pt x="380" y="4464"/>
                </a:cubicBezTo>
                <a:cubicBezTo>
                  <a:pt x="538" y="4575"/>
                  <a:pt x="704" y="4675"/>
                  <a:pt x="867" y="4780"/>
                </a:cubicBezTo>
                <a:cubicBezTo>
                  <a:pt x="1373" y="5105"/>
                  <a:pt x="1922" y="5382"/>
                  <a:pt x="2407" y="5736"/>
                </a:cubicBezTo>
                <a:cubicBezTo>
                  <a:pt x="2468" y="5780"/>
                  <a:pt x="2523" y="5832"/>
                  <a:pt x="2587" y="5872"/>
                </a:cubicBezTo>
                <a:cubicBezTo>
                  <a:pt x="2610" y="5886"/>
                  <a:pt x="2634" y="5893"/>
                  <a:pt x="2642" y="5898"/>
                </a:cubicBezTo>
              </a:path>
              <a:path w="8784" h="6351">
                <a:moveTo>
                  <a:pt x="163" y="4093"/>
                </a:moveTo>
                <a:cubicBezTo>
                  <a:pt x="163" y="4103"/>
                  <a:pt x="163" y="4095"/>
                  <a:pt x="163" y="4105"/>
                </a:cubicBezTo>
                <a:cubicBezTo>
                  <a:pt x="165" y="4168"/>
                  <a:pt x="170" y="4230"/>
                  <a:pt x="171" y="4293"/>
                </a:cubicBezTo>
                <a:cubicBezTo>
                  <a:pt x="175" y="4526"/>
                  <a:pt x="171" y="4760"/>
                  <a:pt x="171" y="4993"/>
                </a:cubicBezTo>
                <a:cubicBezTo>
                  <a:pt x="172" y="4982"/>
                  <a:pt x="170" y="5004"/>
                  <a:pt x="171" y="4993"/>
                </a:cubicBezTo>
                <a:cubicBezTo>
                  <a:pt x="177" y="4943"/>
                  <a:pt x="181" y="4894"/>
                  <a:pt x="184" y="4844"/>
                </a:cubicBezTo>
                <a:cubicBezTo>
                  <a:pt x="187" y="4794"/>
                  <a:pt x="190" y="4744"/>
                  <a:pt x="193" y="4694"/>
                </a:cubicBezTo>
                <a:cubicBezTo>
                  <a:pt x="252" y="4774"/>
                  <a:pt x="308" y="4842"/>
                  <a:pt x="389" y="4903"/>
                </a:cubicBezTo>
                <a:cubicBezTo>
                  <a:pt x="454" y="4952"/>
                  <a:pt x="523" y="4996"/>
                  <a:pt x="589" y="5044"/>
                </a:cubicBezTo>
                <a:cubicBezTo>
                  <a:pt x="717" y="5138"/>
                  <a:pt x="835" y="5249"/>
                  <a:pt x="956" y="5352"/>
                </a:cubicBezTo>
                <a:cubicBezTo>
                  <a:pt x="1119" y="5491"/>
                  <a:pt x="1286" y="5614"/>
                  <a:pt x="1473" y="5719"/>
                </a:cubicBezTo>
                <a:cubicBezTo>
                  <a:pt x="1832" y="5921"/>
                  <a:pt x="2213" y="6076"/>
                  <a:pt x="2569" y="6286"/>
                </a:cubicBezTo>
                <a:cubicBezTo>
                  <a:pt x="2591" y="6299"/>
                  <a:pt x="2638" y="6315"/>
                  <a:pt x="2655" y="6329"/>
                </a:cubicBezTo>
                <a:cubicBezTo>
                  <a:pt x="2668" y="6339"/>
                  <a:pt x="2668" y="6335"/>
                  <a:pt x="2676" y="6342"/>
                </a:cubicBezTo>
                <a:cubicBezTo>
                  <a:pt x="2682" y="6348"/>
                  <a:pt x="2652" y="6344"/>
                  <a:pt x="2659" y="6350"/>
                </a:cubicBezTo>
              </a:path>
              <a:path w="8784" h="6351">
                <a:moveTo>
                  <a:pt x="2591" y="6013"/>
                </a:moveTo>
                <a:cubicBezTo>
                  <a:pt x="2597" y="6077"/>
                  <a:pt x="2605" y="6141"/>
                  <a:pt x="2608" y="6205"/>
                </a:cubicBezTo>
                <a:cubicBezTo>
                  <a:pt x="2610" y="6253"/>
                  <a:pt x="2608" y="6302"/>
                  <a:pt x="2608" y="6350"/>
                </a:cubicBezTo>
                <a:cubicBezTo>
                  <a:pt x="2611" y="6349"/>
                  <a:pt x="2614" y="6338"/>
                  <a:pt x="2629" y="6333"/>
                </a:cubicBezTo>
                <a:cubicBezTo>
                  <a:pt x="2683" y="6314"/>
                  <a:pt x="2737" y="6297"/>
                  <a:pt x="2791" y="6278"/>
                </a:cubicBezTo>
                <a:cubicBezTo>
                  <a:pt x="2963" y="6216"/>
                  <a:pt x="3137" y="6162"/>
                  <a:pt x="3308" y="6098"/>
                </a:cubicBezTo>
                <a:cubicBezTo>
                  <a:pt x="3486" y="6032"/>
                  <a:pt x="3667" y="5972"/>
                  <a:pt x="3845" y="5906"/>
                </a:cubicBezTo>
                <a:cubicBezTo>
                  <a:pt x="4018" y="5842"/>
                  <a:pt x="4193" y="5782"/>
                  <a:pt x="4366" y="5719"/>
                </a:cubicBezTo>
                <a:cubicBezTo>
                  <a:pt x="4550" y="5652"/>
                  <a:pt x="4729" y="5582"/>
                  <a:pt x="4917" y="5526"/>
                </a:cubicBezTo>
                <a:cubicBezTo>
                  <a:pt x="4964" y="5512"/>
                  <a:pt x="5008" y="5500"/>
                  <a:pt x="5057" y="5492"/>
                </a:cubicBezTo>
                <a:cubicBezTo>
                  <a:pt x="5057" y="5494"/>
                  <a:pt x="5057" y="5495"/>
                  <a:pt x="5057" y="5497"/>
                </a:cubicBezTo>
                <a:cubicBezTo>
                  <a:pt x="5032" y="5506"/>
                  <a:pt x="5007" y="5517"/>
                  <a:pt x="4981" y="5526"/>
                </a:cubicBezTo>
                <a:cubicBezTo>
                  <a:pt x="4912" y="5548"/>
                  <a:pt x="4841" y="5561"/>
                  <a:pt x="4771" y="5582"/>
                </a:cubicBezTo>
                <a:cubicBezTo>
                  <a:pt x="4670" y="5612"/>
                  <a:pt x="4569" y="5637"/>
                  <a:pt x="4468" y="5667"/>
                </a:cubicBezTo>
                <a:cubicBezTo>
                  <a:pt x="4327" y="5709"/>
                  <a:pt x="4192" y="5759"/>
                  <a:pt x="4055" y="5812"/>
                </a:cubicBezTo>
                <a:cubicBezTo>
                  <a:pt x="4036" y="5820"/>
                  <a:pt x="4032" y="5822"/>
                  <a:pt x="4020" y="5825"/>
                </a:cubicBezTo>
                <a:cubicBezTo>
                  <a:pt x="4045" y="5818"/>
                  <a:pt x="4085" y="5810"/>
                  <a:pt x="4114" y="5800"/>
                </a:cubicBezTo>
                <a:cubicBezTo>
                  <a:pt x="4432" y="5694"/>
                  <a:pt x="4749" y="5606"/>
                  <a:pt x="5070" y="5514"/>
                </a:cubicBezTo>
                <a:cubicBezTo>
                  <a:pt x="5130" y="5497"/>
                  <a:pt x="5211" y="5480"/>
                  <a:pt x="5258" y="5437"/>
                </a:cubicBezTo>
                <a:cubicBezTo>
                  <a:pt x="5291" y="5406"/>
                  <a:pt x="5307" y="5369"/>
                  <a:pt x="5322" y="5326"/>
                </a:cubicBezTo>
                <a:cubicBezTo>
                  <a:pt x="5330" y="5279"/>
                  <a:pt x="5333" y="5263"/>
                  <a:pt x="5343" y="5232"/>
                </a:cubicBezTo>
              </a:path>
              <a:path w="8784" h="6351">
                <a:moveTo>
                  <a:pt x="5339" y="5010"/>
                </a:moveTo>
                <a:cubicBezTo>
                  <a:pt x="5317" y="5058"/>
                  <a:pt x="5314" y="5122"/>
                  <a:pt x="5309" y="5177"/>
                </a:cubicBezTo>
                <a:cubicBezTo>
                  <a:pt x="5302" y="5253"/>
                  <a:pt x="5296" y="5340"/>
                  <a:pt x="5309" y="5416"/>
                </a:cubicBezTo>
                <a:cubicBezTo>
                  <a:pt x="5313" y="5433"/>
                  <a:pt x="5318" y="5450"/>
                  <a:pt x="5322" y="5467"/>
                </a:cubicBezTo>
              </a:path>
              <a:path w="8784" h="6351">
                <a:moveTo>
                  <a:pt x="3803" y="2053"/>
                </a:moveTo>
                <a:cubicBezTo>
                  <a:pt x="3811" y="2018"/>
                  <a:pt x="3814" y="1985"/>
                  <a:pt x="3824" y="1950"/>
                </a:cubicBezTo>
              </a:path>
              <a:path w="8784" h="6351">
                <a:moveTo>
                  <a:pt x="3862" y="1882"/>
                </a:moveTo>
                <a:cubicBezTo>
                  <a:pt x="3865" y="1891"/>
                  <a:pt x="3864" y="1894"/>
                  <a:pt x="3867" y="1903"/>
                </a:cubicBezTo>
                <a:cubicBezTo>
                  <a:pt x="3882" y="1947"/>
                  <a:pt x="3903" y="1991"/>
                  <a:pt x="3918" y="2036"/>
                </a:cubicBezTo>
                <a:cubicBezTo>
                  <a:pt x="3959" y="2156"/>
                  <a:pt x="3993" y="2278"/>
                  <a:pt x="4029" y="2399"/>
                </a:cubicBezTo>
                <a:cubicBezTo>
                  <a:pt x="4090" y="2603"/>
                  <a:pt x="4134" y="2811"/>
                  <a:pt x="4187" y="3017"/>
                </a:cubicBezTo>
                <a:cubicBezTo>
                  <a:pt x="4237" y="3213"/>
                  <a:pt x="4278" y="3410"/>
                  <a:pt x="4328" y="3606"/>
                </a:cubicBezTo>
                <a:cubicBezTo>
                  <a:pt x="4350" y="3691"/>
                  <a:pt x="4374" y="3775"/>
                  <a:pt x="4400" y="3858"/>
                </a:cubicBezTo>
                <a:cubicBezTo>
                  <a:pt x="4401" y="3861"/>
                  <a:pt x="4403" y="3863"/>
                  <a:pt x="4404" y="3866"/>
                </a:cubicBezTo>
                <a:cubicBezTo>
                  <a:pt x="4409" y="3810"/>
                  <a:pt x="4417" y="3736"/>
                  <a:pt x="4413" y="3670"/>
                </a:cubicBezTo>
                <a:cubicBezTo>
                  <a:pt x="4386" y="3197"/>
                  <a:pt x="4321" y="2708"/>
                  <a:pt x="4187" y="2253"/>
                </a:cubicBezTo>
                <a:cubicBezTo>
                  <a:pt x="4159" y="2157"/>
                  <a:pt x="4125" y="2028"/>
                  <a:pt x="4063" y="1946"/>
                </a:cubicBezTo>
                <a:cubicBezTo>
                  <a:pt x="4032" y="1906"/>
                  <a:pt x="4005" y="1897"/>
                  <a:pt x="3969" y="1874"/>
                </a:cubicBezTo>
                <a:cubicBezTo>
                  <a:pt x="3947" y="1860"/>
                  <a:pt x="3912" y="1842"/>
                  <a:pt x="3892" y="1831"/>
                </a:cubicBezTo>
                <a:cubicBezTo>
                  <a:pt x="3900" y="1835"/>
                  <a:pt x="3924" y="1852"/>
                  <a:pt x="3935" y="1857"/>
                </a:cubicBezTo>
                <a:cubicBezTo>
                  <a:pt x="4067" y="1918"/>
                  <a:pt x="4223" y="1943"/>
                  <a:pt x="4366" y="1967"/>
                </a:cubicBezTo>
                <a:cubicBezTo>
                  <a:pt x="4549" y="1997"/>
                  <a:pt x="4733" y="2025"/>
                  <a:pt x="4917" y="2053"/>
                </a:cubicBezTo>
                <a:cubicBezTo>
                  <a:pt x="5115" y="2084"/>
                  <a:pt x="5312" y="2119"/>
                  <a:pt x="5510" y="2151"/>
                </a:cubicBezTo>
                <a:cubicBezTo>
                  <a:pt x="5670" y="2177"/>
                  <a:pt x="5829" y="2209"/>
                  <a:pt x="5988" y="2241"/>
                </a:cubicBezTo>
                <a:cubicBezTo>
                  <a:pt x="6165" y="2277"/>
                  <a:pt x="6342" y="2321"/>
                  <a:pt x="6521" y="2347"/>
                </a:cubicBezTo>
                <a:cubicBezTo>
                  <a:pt x="6547" y="2351"/>
                  <a:pt x="6573" y="2353"/>
                  <a:pt x="6598" y="2356"/>
                </a:cubicBezTo>
                <a:cubicBezTo>
                  <a:pt x="6604" y="2357"/>
                  <a:pt x="6609" y="2355"/>
                  <a:pt x="6615" y="2356"/>
                </a:cubicBezTo>
                <a:cubicBezTo>
                  <a:pt x="6589" y="2346"/>
                  <a:pt x="6561" y="2336"/>
                  <a:pt x="6534" y="2326"/>
                </a:cubicBezTo>
                <a:cubicBezTo>
                  <a:pt x="6460" y="2298"/>
                  <a:pt x="6384" y="2273"/>
                  <a:pt x="6308" y="2249"/>
                </a:cubicBezTo>
                <a:cubicBezTo>
                  <a:pt x="6024" y="2161"/>
                  <a:pt x="5751" y="2088"/>
                  <a:pt x="5454" y="2117"/>
                </a:cubicBezTo>
                <a:cubicBezTo>
                  <a:pt x="5447" y="2118"/>
                  <a:pt x="5440" y="2120"/>
                  <a:pt x="5433" y="2121"/>
                </a:cubicBezTo>
                <a:cubicBezTo>
                  <a:pt x="5441" y="2129"/>
                  <a:pt x="5442" y="2163"/>
                  <a:pt x="5480" y="2185"/>
                </a:cubicBezTo>
                <a:cubicBezTo>
                  <a:pt x="5541" y="2220"/>
                  <a:pt x="5617" y="2232"/>
                  <a:pt x="5685" y="2245"/>
                </a:cubicBezTo>
                <a:cubicBezTo>
                  <a:pt x="5781" y="2263"/>
                  <a:pt x="5878" y="2267"/>
                  <a:pt x="5975" y="2275"/>
                </a:cubicBezTo>
                <a:cubicBezTo>
                  <a:pt x="6088" y="2285"/>
                  <a:pt x="6379" y="2252"/>
                  <a:pt x="6474" y="2317"/>
                </a:cubicBezTo>
                <a:cubicBezTo>
                  <a:pt x="6484" y="2324"/>
                  <a:pt x="6497" y="2315"/>
                  <a:pt x="6504" y="2322"/>
                </a:cubicBezTo>
                <a:cubicBezTo>
                  <a:pt x="6527" y="2343"/>
                  <a:pt x="6514" y="2376"/>
                  <a:pt x="6525" y="2403"/>
                </a:cubicBezTo>
                <a:cubicBezTo>
                  <a:pt x="6561" y="2496"/>
                  <a:pt x="6580" y="2600"/>
                  <a:pt x="6602" y="2697"/>
                </a:cubicBezTo>
                <a:cubicBezTo>
                  <a:pt x="6705" y="3160"/>
                  <a:pt x="6723" y="3651"/>
                  <a:pt x="6858" y="4105"/>
                </a:cubicBezTo>
                <a:cubicBezTo>
                  <a:pt x="6858" y="4107"/>
                  <a:pt x="6902" y="4225"/>
                  <a:pt x="6901" y="4225"/>
                </a:cubicBezTo>
                <a:cubicBezTo>
                  <a:pt x="6889" y="4230"/>
                  <a:pt x="6903" y="4185"/>
                  <a:pt x="6892" y="4191"/>
                </a:cubicBezTo>
                <a:cubicBezTo>
                  <a:pt x="6882" y="4173"/>
                  <a:pt x="6881" y="4168"/>
                  <a:pt x="6871" y="4161"/>
                </a:cubicBezTo>
              </a:path>
              <a:path w="8784" h="6351">
                <a:moveTo>
                  <a:pt x="4460" y="3756"/>
                </a:moveTo>
                <a:cubicBezTo>
                  <a:pt x="4439" y="3760"/>
                  <a:pt x="4412" y="3768"/>
                  <a:pt x="4396" y="3773"/>
                </a:cubicBezTo>
                <a:cubicBezTo>
                  <a:pt x="4397" y="3774"/>
                  <a:pt x="4399" y="3776"/>
                  <a:pt x="4400" y="3777"/>
                </a:cubicBezTo>
                <a:cubicBezTo>
                  <a:pt x="4477" y="3813"/>
                  <a:pt x="4544" y="3840"/>
                  <a:pt x="4631" y="3854"/>
                </a:cubicBezTo>
                <a:cubicBezTo>
                  <a:pt x="4963" y="3908"/>
                  <a:pt x="5295" y="3957"/>
                  <a:pt x="5625" y="4020"/>
                </a:cubicBezTo>
                <a:cubicBezTo>
                  <a:pt x="5866" y="4066"/>
                  <a:pt x="6105" y="4118"/>
                  <a:pt x="6346" y="4161"/>
                </a:cubicBezTo>
                <a:cubicBezTo>
                  <a:pt x="6540" y="4195"/>
                  <a:pt x="6739" y="4227"/>
                  <a:pt x="6935" y="4242"/>
                </a:cubicBezTo>
                <a:cubicBezTo>
                  <a:pt x="7050" y="4251"/>
                  <a:pt x="7188" y="4268"/>
                  <a:pt x="7302" y="4242"/>
                </a:cubicBezTo>
                <a:cubicBezTo>
                  <a:pt x="7332" y="4235"/>
                  <a:pt x="7357" y="4222"/>
                  <a:pt x="7379" y="4204"/>
                </a:cubicBezTo>
                <a:cubicBezTo>
                  <a:pt x="7391" y="4194"/>
                  <a:pt x="7387" y="4183"/>
                  <a:pt x="7396" y="4174"/>
                </a:cubicBezTo>
              </a:path>
              <a:path w="8784" h="6351">
                <a:moveTo>
                  <a:pt x="8608" y="1101"/>
                </a:moveTo>
                <a:cubicBezTo>
                  <a:pt x="8605" y="1117"/>
                  <a:pt x="8600" y="1079"/>
                  <a:pt x="8599" y="1088"/>
                </a:cubicBezTo>
                <a:cubicBezTo>
                  <a:pt x="8591" y="1181"/>
                  <a:pt x="8583" y="1270"/>
                  <a:pt x="8557" y="1362"/>
                </a:cubicBezTo>
                <a:cubicBezTo>
                  <a:pt x="8493" y="1583"/>
                  <a:pt x="8412" y="1799"/>
                  <a:pt x="8330" y="2014"/>
                </a:cubicBezTo>
                <a:cubicBezTo>
                  <a:pt x="8100" y="2620"/>
                  <a:pt x="7836" y="3208"/>
                  <a:pt x="7541" y="3785"/>
                </a:cubicBezTo>
                <a:cubicBezTo>
                  <a:pt x="7474" y="3916"/>
                  <a:pt x="7404" y="4047"/>
                  <a:pt x="7319" y="4161"/>
                </a:cubicBezTo>
                <a:cubicBezTo>
                  <a:pt x="7326" y="4109"/>
                  <a:pt x="7334" y="4053"/>
                  <a:pt x="7340" y="3995"/>
                </a:cubicBezTo>
              </a:path>
              <a:path w="8784" h="6351">
                <a:moveTo>
                  <a:pt x="8049" y="585"/>
                </a:moveTo>
                <a:lnTo>
                  <a:pt x="8049" y="585"/>
                </a:lnTo>
              </a:path>
              <a:path w="8784" h="6351">
                <a:moveTo>
                  <a:pt x="8045" y="491"/>
                </a:moveTo>
                <a:cubicBezTo>
                  <a:pt x="8044" y="494"/>
                  <a:pt x="8039" y="512"/>
                  <a:pt x="8036" y="521"/>
                </a:cubicBezTo>
                <a:cubicBezTo>
                  <a:pt x="8024" y="561"/>
                  <a:pt x="8009" y="597"/>
                  <a:pt x="7993" y="636"/>
                </a:cubicBezTo>
                <a:cubicBezTo>
                  <a:pt x="7933" y="779"/>
                  <a:pt x="7837" y="905"/>
                  <a:pt x="7750" y="1033"/>
                </a:cubicBezTo>
                <a:cubicBezTo>
                  <a:pt x="7598" y="1256"/>
                  <a:pt x="7434" y="1470"/>
                  <a:pt x="7268" y="1682"/>
                </a:cubicBezTo>
                <a:cubicBezTo>
                  <a:pt x="7123" y="1867"/>
                  <a:pt x="6966" y="2043"/>
                  <a:pt x="6816" y="2224"/>
                </a:cubicBezTo>
                <a:cubicBezTo>
                  <a:pt x="6749" y="2304"/>
                  <a:pt x="6686" y="2398"/>
                  <a:pt x="6606" y="2467"/>
                </a:cubicBezTo>
                <a:cubicBezTo>
                  <a:pt x="6594" y="2477"/>
                  <a:pt x="6593" y="2465"/>
                  <a:pt x="6581" y="2475"/>
                </a:cubicBezTo>
                <a:cubicBezTo>
                  <a:pt x="6616" y="2426"/>
                  <a:pt x="6644" y="2383"/>
                  <a:pt x="6675" y="2330"/>
                </a:cubicBezTo>
              </a:path>
              <a:path w="8784" h="6351">
                <a:moveTo>
                  <a:pt x="8138" y="431"/>
                </a:moveTo>
                <a:cubicBezTo>
                  <a:pt x="8135" y="427"/>
                  <a:pt x="8133" y="422"/>
                  <a:pt x="8130" y="418"/>
                </a:cubicBezTo>
                <a:cubicBezTo>
                  <a:pt x="8130" y="420"/>
                  <a:pt x="8128" y="443"/>
                  <a:pt x="8130" y="453"/>
                </a:cubicBezTo>
                <a:cubicBezTo>
                  <a:pt x="8142" y="500"/>
                  <a:pt x="8180" y="547"/>
                  <a:pt x="8207" y="585"/>
                </a:cubicBezTo>
                <a:cubicBezTo>
                  <a:pt x="8267" y="668"/>
                  <a:pt x="8345" y="742"/>
                  <a:pt x="8420" y="811"/>
                </a:cubicBezTo>
                <a:cubicBezTo>
                  <a:pt x="8495" y="881"/>
                  <a:pt x="8574" y="952"/>
                  <a:pt x="8655" y="1016"/>
                </a:cubicBezTo>
                <a:cubicBezTo>
                  <a:pt x="8695" y="1047"/>
                  <a:pt x="8742" y="1076"/>
                  <a:pt x="8779" y="1110"/>
                </a:cubicBezTo>
                <a:cubicBezTo>
                  <a:pt x="8785" y="1115"/>
                  <a:pt x="8770" y="1103"/>
                  <a:pt x="8774" y="1110"/>
                </a:cubicBezTo>
              </a:path>
              <a:path w="8784" h="6351">
                <a:moveTo>
                  <a:pt x="3845" y="1596"/>
                </a:moveTo>
                <a:cubicBezTo>
                  <a:pt x="3856" y="1596"/>
                  <a:pt x="3837" y="1598"/>
                  <a:pt x="3858" y="1601"/>
                </a:cubicBezTo>
                <a:cubicBezTo>
                  <a:pt x="3952" y="1613"/>
                  <a:pt x="3937" y="1622"/>
                  <a:pt x="4029" y="1558"/>
                </a:cubicBezTo>
                <a:cubicBezTo>
                  <a:pt x="4188" y="1448"/>
                  <a:pt x="4330" y="1304"/>
                  <a:pt x="4477" y="1178"/>
                </a:cubicBezTo>
                <a:cubicBezTo>
                  <a:pt x="4688" y="997"/>
                  <a:pt x="4910" y="828"/>
                  <a:pt x="5134" y="662"/>
                </a:cubicBezTo>
                <a:cubicBezTo>
                  <a:pt x="5425" y="446"/>
                  <a:pt x="5725" y="212"/>
                  <a:pt x="6047" y="43"/>
                </a:cubicBezTo>
                <a:cubicBezTo>
                  <a:pt x="6082" y="25"/>
                  <a:pt x="6123" y="-2"/>
                  <a:pt x="6163" y="4"/>
                </a:cubicBezTo>
                <a:cubicBezTo>
                  <a:pt x="6191" y="8"/>
                  <a:pt x="6165" y="57"/>
                  <a:pt x="6188" y="73"/>
                </a:cubicBezTo>
                <a:cubicBezTo>
                  <a:pt x="6194" y="77"/>
                  <a:pt x="6170" y="55"/>
                  <a:pt x="6175" y="60"/>
                </a:cubicBezTo>
                <a:cubicBezTo>
                  <a:pt x="6181" y="66"/>
                  <a:pt x="6155" y="39"/>
                  <a:pt x="6158" y="47"/>
                </a:cubicBezTo>
                <a:cubicBezTo>
                  <a:pt x="6176" y="49"/>
                  <a:pt x="6195" y="54"/>
                  <a:pt x="6214" y="56"/>
                </a:cubicBezTo>
                <a:cubicBezTo>
                  <a:pt x="6682" y="101"/>
                  <a:pt x="7149" y="114"/>
                  <a:pt x="7614" y="197"/>
                </a:cubicBezTo>
                <a:cubicBezTo>
                  <a:pt x="7865" y="242"/>
                  <a:pt x="8154" y="276"/>
                  <a:pt x="8394" y="367"/>
                </a:cubicBezTo>
                <a:cubicBezTo>
                  <a:pt x="8409" y="373"/>
                  <a:pt x="8430" y="398"/>
                  <a:pt x="8446" y="401"/>
                </a:cubicBezTo>
                <a:cubicBezTo>
                  <a:pt x="8457" y="403"/>
                  <a:pt x="8435" y="399"/>
                  <a:pt x="8446" y="401"/>
                </a:cubicBezTo>
                <a:cubicBezTo>
                  <a:pt x="8437" y="389"/>
                  <a:pt x="8426" y="383"/>
                  <a:pt x="8437" y="384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5140440" y="906480"/>
            <a:ext cx="1039680" cy="833400"/>
          </a:xfrm>
          <a:custGeom>
            <a:avLst/>
            <a:gdLst/>
            <a:ahLst/>
            <a:rect l="l" t="t" r="r" b="b"/>
            <a:pathLst>
              <a:path w="2886" h="2314">
                <a:moveTo>
                  <a:pt x="990" y="124"/>
                </a:moveTo>
                <a:cubicBezTo>
                  <a:pt x="1059" y="117"/>
                  <a:pt x="1126" y="106"/>
                  <a:pt x="1195" y="94"/>
                </a:cubicBezTo>
                <a:cubicBezTo>
                  <a:pt x="1297" y="76"/>
                  <a:pt x="1399" y="60"/>
                  <a:pt x="1502" y="47"/>
                </a:cubicBezTo>
                <a:cubicBezTo>
                  <a:pt x="1612" y="33"/>
                  <a:pt x="1721" y="26"/>
                  <a:pt x="1831" y="17"/>
                </a:cubicBezTo>
                <a:cubicBezTo>
                  <a:pt x="1927" y="9"/>
                  <a:pt x="2021" y="9"/>
                  <a:pt x="2117" y="9"/>
                </a:cubicBezTo>
                <a:cubicBezTo>
                  <a:pt x="2156" y="9"/>
                  <a:pt x="2292" y="29"/>
                  <a:pt x="2321" y="13"/>
                </a:cubicBezTo>
                <a:cubicBezTo>
                  <a:pt x="2321" y="7"/>
                  <a:pt x="2321" y="4"/>
                  <a:pt x="2321" y="0"/>
                </a:cubicBezTo>
              </a:path>
              <a:path w="2886" h="2314">
                <a:moveTo>
                  <a:pt x="1182" y="158"/>
                </a:moveTo>
                <a:cubicBezTo>
                  <a:pt x="1216" y="165"/>
                  <a:pt x="1249" y="175"/>
                  <a:pt x="1284" y="180"/>
                </a:cubicBezTo>
                <a:cubicBezTo>
                  <a:pt x="1320" y="185"/>
                  <a:pt x="1358" y="184"/>
                  <a:pt x="1395" y="184"/>
                </a:cubicBezTo>
                <a:cubicBezTo>
                  <a:pt x="1415" y="184"/>
                  <a:pt x="1436" y="181"/>
                  <a:pt x="1455" y="180"/>
                </a:cubicBezTo>
                <a:cubicBezTo>
                  <a:pt x="1445" y="174"/>
                  <a:pt x="1428" y="158"/>
                  <a:pt x="1412" y="150"/>
                </a:cubicBezTo>
                <a:cubicBezTo>
                  <a:pt x="1358" y="122"/>
                  <a:pt x="1299" y="97"/>
                  <a:pt x="1242" y="77"/>
                </a:cubicBezTo>
                <a:cubicBezTo>
                  <a:pt x="1177" y="54"/>
                  <a:pt x="1110" y="34"/>
                  <a:pt x="1041" y="26"/>
                </a:cubicBezTo>
                <a:cubicBezTo>
                  <a:pt x="987" y="20"/>
                  <a:pt x="938" y="35"/>
                  <a:pt x="888" y="52"/>
                </a:cubicBezTo>
                <a:cubicBezTo>
                  <a:pt x="855" y="63"/>
                  <a:pt x="825" y="86"/>
                  <a:pt x="794" y="103"/>
                </a:cubicBezTo>
                <a:cubicBezTo>
                  <a:pt x="783" y="109"/>
                  <a:pt x="770" y="115"/>
                  <a:pt x="760" y="120"/>
                </a:cubicBezTo>
                <a:cubicBezTo>
                  <a:pt x="778" y="121"/>
                  <a:pt x="800" y="123"/>
                  <a:pt x="819" y="124"/>
                </a:cubicBezTo>
                <a:cubicBezTo>
                  <a:pt x="873" y="127"/>
                  <a:pt x="927" y="133"/>
                  <a:pt x="981" y="137"/>
                </a:cubicBezTo>
                <a:cubicBezTo>
                  <a:pt x="1106" y="147"/>
                  <a:pt x="1232" y="158"/>
                  <a:pt x="1357" y="167"/>
                </a:cubicBezTo>
                <a:cubicBezTo>
                  <a:pt x="1417" y="171"/>
                  <a:pt x="1477" y="175"/>
                  <a:pt x="1536" y="184"/>
                </a:cubicBezTo>
                <a:cubicBezTo>
                  <a:pt x="1545" y="185"/>
                  <a:pt x="1574" y="188"/>
                  <a:pt x="1579" y="192"/>
                </a:cubicBezTo>
                <a:cubicBezTo>
                  <a:pt x="1583" y="196"/>
                  <a:pt x="1575" y="197"/>
                  <a:pt x="1579" y="201"/>
                </a:cubicBezTo>
                <a:cubicBezTo>
                  <a:pt x="1581" y="203"/>
                  <a:pt x="1586" y="225"/>
                  <a:pt x="1587" y="227"/>
                </a:cubicBezTo>
                <a:cubicBezTo>
                  <a:pt x="1589" y="232"/>
                  <a:pt x="1599" y="244"/>
                  <a:pt x="1600" y="248"/>
                </a:cubicBezTo>
                <a:cubicBezTo>
                  <a:pt x="1622" y="356"/>
                  <a:pt x="1595" y="505"/>
                  <a:pt x="1579" y="611"/>
                </a:cubicBezTo>
                <a:cubicBezTo>
                  <a:pt x="1540" y="880"/>
                  <a:pt x="1464" y="1144"/>
                  <a:pt x="1391" y="1404"/>
                </a:cubicBezTo>
                <a:cubicBezTo>
                  <a:pt x="1349" y="1555"/>
                  <a:pt x="1301" y="1705"/>
                  <a:pt x="1246" y="1852"/>
                </a:cubicBezTo>
                <a:cubicBezTo>
                  <a:pt x="1214" y="1938"/>
                  <a:pt x="1182" y="2025"/>
                  <a:pt x="1135" y="2104"/>
                </a:cubicBezTo>
                <a:cubicBezTo>
                  <a:pt x="1109" y="2148"/>
                  <a:pt x="1136" y="2123"/>
                  <a:pt x="1127" y="2113"/>
                </a:cubicBezTo>
                <a:cubicBezTo>
                  <a:pt x="1123" y="2099"/>
                  <a:pt x="1118" y="2084"/>
                  <a:pt x="1114" y="2070"/>
                </a:cubicBezTo>
              </a:path>
              <a:path w="2886" h="2314">
                <a:moveTo>
                  <a:pt x="738" y="436"/>
                </a:moveTo>
                <a:cubicBezTo>
                  <a:pt x="677" y="737"/>
                  <a:pt x="606" y="1034"/>
                  <a:pt x="499" y="1323"/>
                </a:cubicBezTo>
                <a:cubicBezTo>
                  <a:pt x="428" y="1514"/>
                  <a:pt x="341" y="1695"/>
                  <a:pt x="247" y="1874"/>
                </a:cubicBezTo>
                <a:cubicBezTo>
                  <a:pt x="187" y="1987"/>
                  <a:pt x="126" y="2098"/>
                  <a:pt x="60" y="2207"/>
                </a:cubicBezTo>
                <a:cubicBezTo>
                  <a:pt x="39" y="2242"/>
                  <a:pt x="18" y="2281"/>
                  <a:pt x="0" y="2313"/>
                </a:cubicBezTo>
                <a:cubicBezTo>
                  <a:pt x="27" y="2304"/>
                  <a:pt x="58" y="2298"/>
                  <a:pt x="85" y="2288"/>
                </a:cubicBezTo>
                <a:cubicBezTo>
                  <a:pt x="143" y="2267"/>
                  <a:pt x="200" y="2245"/>
                  <a:pt x="260" y="2228"/>
                </a:cubicBezTo>
                <a:cubicBezTo>
                  <a:pt x="345" y="2204"/>
                  <a:pt x="433" y="2188"/>
                  <a:pt x="521" y="2185"/>
                </a:cubicBezTo>
                <a:cubicBezTo>
                  <a:pt x="637" y="2180"/>
                  <a:pt x="754" y="2181"/>
                  <a:pt x="870" y="2181"/>
                </a:cubicBezTo>
                <a:cubicBezTo>
                  <a:pt x="977" y="2181"/>
                  <a:pt x="1084" y="2183"/>
                  <a:pt x="1191" y="2177"/>
                </a:cubicBezTo>
                <a:cubicBezTo>
                  <a:pt x="1207" y="2176"/>
                  <a:pt x="1352" y="2180"/>
                  <a:pt x="1361" y="2164"/>
                </a:cubicBezTo>
                <a:cubicBezTo>
                  <a:pt x="1363" y="2161"/>
                  <a:pt x="1324" y="2133"/>
                  <a:pt x="1323" y="2130"/>
                </a:cubicBezTo>
              </a:path>
              <a:path w="2886" h="2314">
                <a:moveTo>
                  <a:pt x="1161" y="2151"/>
                </a:moveTo>
                <a:cubicBezTo>
                  <a:pt x="1172" y="2141"/>
                  <a:pt x="1156" y="2141"/>
                  <a:pt x="1169" y="2134"/>
                </a:cubicBezTo>
                <a:cubicBezTo>
                  <a:pt x="1228" y="2101"/>
                  <a:pt x="1302" y="2075"/>
                  <a:pt x="1366" y="2049"/>
                </a:cubicBezTo>
                <a:cubicBezTo>
                  <a:pt x="1512" y="1989"/>
                  <a:pt x="1654" y="1919"/>
                  <a:pt x="1801" y="1861"/>
                </a:cubicBezTo>
                <a:cubicBezTo>
                  <a:pt x="1974" y="1793"/>
                  <a:pt x="2147" y="1722"/>
                  <a:pt x="2321" y="1656"/>
                </a:cubicBezTo>
                <a:cubicBezTo>
                  <a:pt x="2445" y="1609"/>
                  <a:pt x="2567" y="1561"/>
                  <a:pt x="2693" y="1520"/>
                </a:cubicBezTo>
                <a:cubicBezTo>
                  <a:pt x="2745" y="1503"/>
                  <a:pt x="2793" y="1486"/>
                  <a:pt x="2846" y="1473"/>
                </a:cubicBezTo>
                <a:cubicBezTo>
                  <a:pt x="2846" y="1473"/>
                  <a:pt x="2885" y="1465"/>
                  <a:pt x="2885" y="1464"/>
                </a:cubicBezTo>
                <a:cubicBezTo>
                  <a:pt x="2890" y="1455"/>
                  <a:pt x="2878" y="1429"/>
                  <a:pt x="2880" y="1417"/>
                </a:cubicBezTo>
              </a:path>
              <a:path w="2886" h="2314">
                <a:moveTo>
                  <a:pt x="1511" y="239"/>
                </a:moveTo>
                <a:cubicBezTo>
                  <a:pt x="1585" y="229"/>
                  <a:pt x="1659" y="223"/>
                  <a:pt x="1733" y="218"/>
                </a:cubicBezTo>
                <a:cubicBezTo>
                  <a:pt x="1831" y="212"/>
                  <a:pt x="1929" y="209"/>
                  <a:pt x="2027" y="201"/>
                </a:cubicBezTo>
                <a:cubicBezTo>
                  <a:pt x="2128" y="192"/>
                  <a:pt x="2229" y="185"/>
                  <a:pt x="2330" y="175"/>
                </a:cubicBezTo>
                <a:cubicBezTo>
                  <a:pt x="2411" y="167"/>
                  <a:pt x="2489" y="150"/>
                  <a:pt x="2569" y="137"/>
                </a:cubicBezTo>
                <a:cubicBezTo>
                  <a:pt x="2612" y="130"/>
                  <a:pt x="2657" y="119"/>
                  <a:pt x="2701" y="116"/>
                </a:cubicBezTo>
                <a:cubicBezTo>
                  <a:pt x="2714" y="115"/>
                  <a:pt x="2721" y="113"/>
                  <a:pt x="2731" y="111"/>
                </a:cubicBezTo>
                <a:cubicBezTo>
                  <a:pt x="2725" y="108"/>
                  <a:pt x="2718" y="105"/>
                  <a:pt x="2714" y="103"/>
                </a:cubicBezTo>
                <a:cubicBezTo>
                  <a:pt x="2700" y="97"/>
                  <a:pt x="2686" y="88"/>
                  <a:pt x="2671" y="81"/>
                </a:cubicBezTo>
                <a:cubicBezTo>
                  <a:pt x="2649" y="71"/>
                  <a:pt x="2629" y="61"/>
                  <a:pt x="2607" y="52"/>
                </a:cubicBezTo>
              </a:path>
              <a:path w="2886" h="2314">
                <a:moveTo>
                  <a:pt x="2134" y="17"/>
                </a:moveTo>
                <a:cubicBezTo>
                  <a:pt x="2201" y="50"/>
                  <a:pt x="2266" y="78"/>
                  <a:pt x="2338" y="99"/>
                </a:cubicBezTo>
                <a:cubicBezTo>
                  <a:pt x="2426" y="124"/>
                  <a:pt x="2516" y="147"/>
                  <a:pt x="2607" y="158"/>
                </a:cubicBezTo>
                <a:cubicBezTo>
                  <a:pt x="2668" y="165"/>
                  <a:pt x="2726" y="171"/>
                  <a:pt x="2787" y="171"/>
                </a:cubicBezTo>
                <a:cubicBezTo>
                  <a:pt x="2809" y="171"/>
                  <a:pt x="2830" y="173"/>
                  <a:pt x="2851" y="167"/>
                </a:cubicBezTo>
                <a:cubicBezTo>
                  <a:pt x="2863" y="164"/>
                  <a:pt x="2838" y="165"/>
                  <a:pt x="2842" y="163"/>
                </a:cubicBezTo>
                <a:cubicBezTo>
                  <a:pt x="2841" y="163"/>
                  <a:pt x="2839" y="163"/>
                  <a:pt x="2838" y="163"/>
                </a:cubicBezTo>
                <a:cubicBezTo>
                  <a:pt x="2838" y="377"/>
                  <a:pt x="2824" y="589"/>
                  <a:pt x="2821" y="803"/>
                </a:cubicBezTo>
                <a:cubicBezTo>
                  <a:pt x="2819" y="941"/>
                  <a:pt x="2820" y="1079"/>
                  <a:pt x="2816" y="1217"/>
                </a:cubicBezTo>
                <a:cubicBezTo>
                  <a:pt x="2814" y="1299"/>
                  <a:pt x="2832" y="1415"/>
                  <a:pt x="2816" y="1494"/>
                </a:cubicBezTo>
                <a:cubicBezTo>
                  <a:pt x="2813" y="1509"/>
                  <a:pt x="2817" y="1508"/>
                  <a:pt x="2812" y="1494"/>
                </a:cubicBezTo>
                <a:cubicBezTo>
                  <a:pt x="2807" y="1481"/>
                  <a:pt x="2806" y="1464"/>
                  <a:pt x="2804" y="1456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2" name="Freeform 12"/>
          <p:cNvSpPr/>
          <p:nvPr/>
        </p:nvSpPr>
        <p:spPr>
          <a:xfrm>
            <a:off x="1407960" y="144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3" name="Freeform 13"/>
          <p:cNvSpPr/>
          <p:nvPr/>
        </p:nvSpPr>
        <p:spPr>
          <a:xfrm>
            <a:off x="5316480" y="4525920"/>
            <a:ext cx="317520" cy="195480"/>
          </a:xfrm>
          <a:custGeom>
            <a:avLst/>
            <a:gdLst/>
            <a:ahLst/>
            <a:rect l="l" t="t" r="r" b="b"/>
            <a:pathLst>
              <a:path w="880" h="543">
                <a:moveTo>
                  <a:pt x="89" y="30"/>
                </a:moveTo>
                <a:cubicBezTo>
                  <a:pt x="70" y="22"/>
                  <a:pt x="49" y="11"/>
                  <a:pt x="30" y="5"/>
                </a:cubicBezTo>
                <a:cubicBezTo>
                  <a:pt x="22" y="2"/>
                  <a:pt x="10" y="2"/>
                  <a:pt x="0" y="0"/>
                </a:cubicBezTo>
                <a:cubicBezTo>
                  <a:pt x="16" y="14"/>
                  <a:pt x="31" y="28"/>
                  <a:pt x="51" y="39"/>
                </a:cubicBezTo>
                <a:cubicBezTo>
                  <a:pt x="155" y="95"/>
                  <a:pt x="253" y="160"/>
                  <a:pt x="354" y="222"/>
                </a:cubicBezTo>
                <a:cubicBezTo>
                  <a:pt x="442" y="276"/>
                  <a:pt x="526" y="335"/>
                  <a:pt x="614" y="389"/>
                </a:cubicBezTo>
                <a:cubicBezTo>
                  <a:pt x="677" y="427"/>
                  <a:pt x="738" y="468"/>
                  <a:pt x="802" y="504"/>
                </a:cubicBezTo>
                <a:cubicBezTo>
                  <a:pt x="819" y="514"/>
                  <a:pt x="854" y="537"/>
                  <a:pt x="870" y="542"/>
                </a:cubicBezTo>
                <a:cubicBezTo>
                  <a:pt x="878" y="542"/>
                  <a:pt x="882" y="543"/>
                  <a:pt x="875" y="538"/>
                </a:cubicBezTo>
                <a:cubicBezTo>
                  <a:pt x="857" y="517"/>
                  <a:pt x="853" y="513"/>
                  <a:pt x="828" y="487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4" name="Freeform 14"/>
          <p:cNvSpPr/>
          <p:nvPr/>
        </p:nvSpPr>
        <p:spPr>
          <a:xfrm>
            <a:off x="4986360" y="4524480"/>
            <a:ext cx="474480" cy="528480"/>
          </a:xfrm>
          <a:custGeom>
            <a:avLst/>
            <a:gdLst/>
            <a:ahLst/>
            <a:rect l="l" t="t" r="r" b="b"/>
            <a:pathLst>
              <a:path w="1316" h="1469">
                <a:moveTo>
                  <a:pt x="866" y="128"/>
                </a:moveTo>
                <a:cubicBezTo>
                  <a:pt x="874" y="111"/>
                  <a:pt x="869" y="99"/>
                  <a:pt x="884" y="77"/>
                </a:cubicBezTo>
                <a:cubicBezTo>
                  <a:pt x="898" y="57"/>
                  <a:pt x="921" y="29"/>
                  <a:pt x="935" y="13"/>
                </a:cubicBezTo>
                <a:cubicBezTo>
                  <a:pt x="940" y="7"/>
                  <a:pt x="949" y="4"/>
                  <a:pt x="952" y="0"/>
                </a:cubicBezTo>
                <a:cubicBezTo>
                  <a:pt x="948" y="7"/>
                  <a:pt x="952" y="11"/>
                  <a:pt x="948" y="17"/>
                </a:cubicBezTo>
                <a:cubicBezTo>
                  <a:pt x="921" y="58"/>
                  <a:pt x="891" y="99"/>
                  <a:pt x="858" y="137"/>
                </a:cubicBezTo>
                <a:cubicBezTo>
                  <a:pt x="785" y="221"/>
                  <a:pt x="708" y="300"/>
                  <a:pt x="636" y="384"/>
                </a:cubicBezTo>
                <a:cubicBezTo>
                  <a:pt x="522" y="518"/>
                  <a:pt x="412" y="656"/>
                  <a:pt x="303" y="794"/>
                </a:cubicBezTo>
                <a:cubicBezTo>
                  <a:pt x="237" y="877"/>
                  <a:pt x="171" y="960"/>
                  <a:pt x="103" y="1041"/>
                </a:cubicBezTo>
                <a:cubicBezTo>
                  <a:pt x="78" y="1071"/>
                  <a:pt x="50" y="1095"/>
                  <a:pt x="22" y="1122"/>
                </a:cubicBezTo>
                <a:cubicBezTo>
                  <a:pt x="17" y="1127"/>
                  <a:pt x="22" y="1126"/>
                  <a:pt x="17" y="1131"/>
                </a:cubicBezTo>
                <a:cubicBezTo>
                  <a:pt x="13" y="1135"/>
                  <a:pt x="18" y="1129"/>
                  <a:pt x="17" y="1131"/>
                </a:cubicBezTo>
                <a:cubicBezTo>
                  <a:pt x="15" y="1137"/>
                  <a:pt x="3" y="1133"/>
                  <a:pt x="4" y="1139"/>
                </a:cubicBezTo>
                <a:cubicBezTo>
                  <a:pt x="6" y="1147"/>
                  <a:pt x="-1" y="1148"/>
                  <a:pt x="4" y="1157"/>
                </a:cubicBezTo>
                <a:cubicBezTo>
                  <a:pt x="15" y="1175"/>
                  <a:pt x="45" y="1191"/>
                  <a:pt x="64" y="1199"/>
                </a:cubicBezTo>
                <a:cubicBezTo>
                  <a:pt x="118" y="1222"/>
                  <a:pt x="177" y="1233"/>
                  <a:pt x="235" y="1242"/>
                </a:cubicBezTo>
                <a:cubicBezTo>
                  <a:pt x="327" y="1256"/>
                  <a:pt x="417" y="1269"/>
                  <a:pt x="508" y="1285"/>
                </a:cubicBezTo>
                <a:cubicBezTo>
                  <a:pt x="640" y="1309"/>
                  <a:pt x="768" y="1344"/>
                  <a:pt x="896" y="1383"/>
                </a:cubicBezTo>
                <a:cubicBezTo>
                  <a:pt x="978" y="1408"/>
                  <a:pt x="1060" y="1431"/>
                  <a:pt x="1144" y="1447"/>
                </a:cubicBezTo>
                <a:cubicBezTo>
                  <a:pt x="1187" y="1456"/>
                  <a:pt x="1236" y="1466"/>
                  <a:pt x="1280" y="1464"/>
                </a:cubicBezTo>
                <a:cubicBezTo>
                  <a:pt x="1292" y="1463"/>
                  <a:pt x="1302" y="1466"/>
                  <a:pt x="1306" y="1464"/>
                </a:cubicBezTo>
                <a:cubicBezTo>
                  <a:pt x="1316" y="1459"/>
                  <a:pt x="1306" y="1442"/>
                  <a:pt x="1310" y="1438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5" name="Freeform 15"/>
          <p:cNvSpPr/>
          <p:nvPr/>
        </p:nvSpPr>
        <p:spPr>
          <a:xfrm>
            <a:off x="5413320" y="4659480"/>
            <a:ext cx="208080" cy="380880"/>
          </a:xfrm>
          <a:custGeom>
            <a:avLst/>
            <a:gdLst/>
            <a:ahLst/>
            <a:rect l="l" t="t" r="r" b="b"/>
            <a:pathLst>
              <a:path w="577" h="1059">
                <a:moveTo>
                  <a:pt x="576" y="0"/>
                </a:moveTo>
                <a:cubicBezTo>
                  <a:pt x="569" y="10"/>
                  <a:pt x="565" y="5"/>
                  <a:pt x="559" y="25"/>
                </a:cubicBezTo>
                <a:cubicBezTo>
                  <a:pt x="552" y="47"/>
                  <a:pt x="544" y="69"/>
                  <a:pt x="533" y="89"/>
                </a:cubicBezTo>
                <a:cubicBezTo>
                  <a:pt x="513" y="125"/>
                  <a:pt x="489" y="160"/>
                  <a:pt x="469" y="196"/>
                </a:cubicBezTo>
                <a:cubicBezTo>
                  <a:pt x="410" y="302"/>
                  <a:pt x="355" y="411"/>
                  <a:pt x="303" y="520"/>
                </a:cubicBezTo>
                <a:cubicBezTo>
                  <a:pt x="252" y="628"/>
                  <a:pt x="197" y="732"/>
                  <a:pt x="140" y="836"/>
                </a:cubicBezTo>
                <a:cubicBezTo>
                  <a:pt x="124" y="864"/>
                  <a:pt x="55" y="1038"/>
                  <a:pt x="17" y="1045"/>
                </a:cubicBezTo>
                <a:cubicBezTo>
                  <a:pt x="-24" y="1052"/>
                  <a:pt x="45" y="1072"/>
                  <a:pt x="0" y="1032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6" name="Freeform 16"/>
          <p:cNvSpPr/>
          <p:nvPr/>
        </p:nvSpPr>
        <p:spPr>
          <a:xfrm>
            <a:off x="4965840" y="5057640"/>
            <a:ext cx="450720" cy="111240"/>
          </a:xfrm>
          <a:custGeom>
            <a:avLst/>
            <a:gdLst/>
            <a:ahLst/>
            <a:rect l="l" t="t" r="r" b="b"/>
            <a:pathLst>
              <a:path w="1256" h="312">
                <a:moveTo>
                  <a:pt x="5" y="0"/>
                </a:moveTo>
                <a:cubicBezTo>
                  <a:pt x="6" y="0"/>
                  <a:pt x="8" y="0"/>
                  <a:pt x="9" y="0"/>
                </a:cubicBezTo>
                <a:cubicBezTo>
                  <a:pt x="17" y="2"/>
                  <a:pt x="-3" y="-1"/>
                  <a:pt x="5" y="0"/>
                </a:cubicBezTo>
                <a:cubicBezTo>
                  <a:pt x="13" y="1"/>
                  <a:pt x="25" y="3"/>
                  <a:pt x="35" y="4"/>
                </a:cubicBezTo>
                <a:cubicBezTo>
                  <a:pt x="68" y="7"/>
                  <a:pt x="100" y="13"/>
                  <a:pt x="133" y="21"/>
                </a:cubicBezTo>
                <a:cubicBezTo>
                  <a:pt x="196" y="37"/>
                  <a:pt x="258" y="55"/>
                  <a:pt x="321" y="72"/>
                </a:cubicBezTo>
                <a:cubicBezTo>
                  <a:pt x="413" y="97"/>
                  <a:pt x="505" y="112"/>
                  <a:pt x="598" y="132"/>
                </a:cubicBezTo>
                <a:cubicBezTo>
                  <a:pt x="698" y="153"/>
                  <a:pt x="799" y="173"/>
                  <a:pt x="897" y="200"/>
                </a:cubicBezTo>
                <a:cubicBezTo>
                  <a:pt x="963" y="218"/>
                  <a:pt x="1034" y="231"/>
                  <a:pt x="1097" y="260"/>
                </a:cubicBezTo>
                <a:cubicBezTo>
                  <a:pt x="1131" y="275"/>
                  <a:pt x="1159" y="292"/>
                  <a:pt x="1195" y="303"/>
                </a:cubicBezTo>
                <a:cubicBezTo>
                  <a:pt x="1214" y="309"/>
                  <a:pt x="1231" y="317"/>
                  <a:pt x="1242" y="294"/>
                </a:cubicBezTo>
                <a:cubicBezTo>
                  <a:pt x="1260" y="294"/>
                  <a:pt x="1262" y="290"/>
                  <a:pt x="1242" y="269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7" name="Freeform 17"/>
          <p:cNvSpPr/>
          <p:nvPr/>
        </p:nvSpPr>
        <p:spPr>
          <a:xfrm>
            <a:off x="4971960" y="4967280"/>
            <a:ext cx="28800" cy="109440"/>
          </a:xfrm>
          <a:custGeom>
            <a:avLst/>
            <a:gdLst/>
            <a:ahLst/>
            <a:rect l="l" t="t" r="r" b="b"/>
            <a:pathLst>
              <a:path w="82" h="304">
                <a:moveTo>
                  <a:pt x="0" y="0"/>
                </a:moveTo>
                <a:cubicBezTo>
                  <a:pt x="11" y="34"/>
                  <a:pt x="19" y="71"/>
                  <a:pt x="25" y="107"/>
                </a:cubicBezTo>
                <a:cubicBezTo>
                  <a:pt x="32" y="153"/>
                  <a:pt x="36" y="195"/>
                  <a:pt x="51" y="239"/>
                </a:cubicBezTo>
                <a:cubicBezTo>
                  <a:pt x="57" y="256"/>
                  <a:pt x="63" y="289"/>
                  <a:pt x="76" y="303"/>
                </a:cubicBezTo>
                <a:cubicBezTo>
                  <a:pt x="78" y="303"/>
                  <a:pt x="79" y="303"/>
                  <a:pt x="81" y="303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8" name="Freeform 18"/>
          <p:cNvSpPr/>
          <p:nvPr/>
        </p:nvSpPr>
        <p:spPr>
          <a:xfrm>
            <a:off x="5289480" y="5127480"/>
            <a:ext cx="142920" cy="22320"/>
          </a:xfrm>
          <a:custGeom>
            <a:avLst/>
            <a:gdLst/>
            <a:ahLst/>
            <a:rect l="l" t="t" r="r" b="b"/>
            <a:pathLst>
              <a:path w="398" h="61">
                <a:moveTo>
                  <a:pt x="0" y="0"/>
                </a:moveTo>
                <a:cubicBezTo>
                  <a:pt x="60" y="10"/>
                  <a:pt x="120" y="14"/>
                  <a:pt x="179" y="26"/>
                </a:cubicBezTo>
                <a:cubicBezTo>
                  <a:pt x="217" y="34"/>
                  <a:pt x="256" y="41"/>
                  <a:pt x="294" y="43"/>
                </a:cubicBezTo>
                <a:cubicBezTo>
                  <a:pt x="308" y="44"/>
                  <a:pt x="341" y="45"/>
                  <a:pt x="354" y="51"/>
                </a:cubicBezTo>
                <a:cubicBezTo>
                  <a:pt x="369" y="58"/>
                  <a:pt x="367" y="60"/>
                  <a:pt x="384" y="60"/>
                </a:cubicBezTo>
                <a:cubicBezTo>
                  <a:pt x="405" y="60"/>
                  <a:pt x="397" y="50"/>
                  <a:pt x="392" y="34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9" name="Freeform 19"/>
          <p:cNvSpPr/>
          <p:nvPr/>
        </p:nvSpPr>
        <p:spPr>
          <a:xfrm>
            <a:off x="5411880" y="5057640"/>
            <a:ext cx="38160" cy="98640"/>
          </a:xfrm>
          <a:custGeom>
            <a:avLst/>
            <a:gdLst/>
            <a:ahLst/>
            <a:rect l="l" t="t" r="r" b="b"/>
            <a:pathLst>
              <a:path w="104" h="274">
                <a:moveTo>
                  <a:pt x="0" y="0"/>
                </a:moveTo>
                <a:cubicBezTo>
                  <a:pt x="8" y="32"/>
                  <a:pt x="17" y="68"/>
                  <a:pt x="30" y="98"/>
                </a:cubicBezTo>
                <a:cubicBezTo>
                  <a:pt x="46" y="133"/>
                  <a:pt x="61" y="169"/>
                  <a:pt x="77" y="205"/>
                </a:cubicBezTo>
                <a:cubicBezTo>
                  <a:pt x="86" y="224"/>
                  <a:pt x="88" y="251"/>
                  <a:pt x="98" y="269"/>
                </a:cubicBezTo>
                <a:cubicBezTo>
                  <a:pt x="103" y="279"/>
                  <a:pt x="98" y="272"/>
                  <a:pt x="103" y="269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0" name="Freeform 20"/>
          <p:cNvSpPr/>
          <p:nvPr/>
        </p:nvSpPr>
        <p:spPr>
          <a:xfrm>
            <a:off x="5452920" y="4732200"/>
            <a:ext cx="165240" cy="409680"/>
          </a:xfrm>
          <a:custGeom>
            <a:avLst/>
            <a:gdLst/>
            <a:ahLst/>
            <a:rect l="l" t="t" r="r" b="b"/>
            <a:pathLst>
              <a:path w="458" h="1137">
                <a:moveTo>
                  <a:pt x="0" y="1136"/>
                </a:moveTo>
                <a:cubicBezTo>
                  <a:pt x="8" y="1108"/>
                  <a:pt x="16" y="1075"/>
                  <a:pt x="26" y="1046"/>
                </a:cubicBezTo>
                <a:cubicBezTo>
                  <a:pt x="48" y="979"/>
                  <a:pt x="72" y="910"/>
                  <a:pt x="99" y="845"/>
                </a:cubicBezTo>
                <a:cubicBezTo>
                  <a:pt x="138" y="749"/>
                  <a:pt x="183" y="655"/>
                  <a:pt x="231" y="564"/>
                </a:cubicBezTo>
                <a:cubicBezTo>
                  <a:pt x="273" y="485"/>
                  <a:pt x="329" y="417"/>
                  <a:pt x="376" y="342"/>
                </a:cubicBezTo>
                <a:cubicBezTo>
                  <a:pt x="397" y="309"/>
                  <a:pt x="417" y="279"/>
                  <a:pt x="440" y="248"/>
                </a:cubicBezTo>
                <a:cubicBezTo>
                  <a:pt x="445" y="241"/>
                  <a:pt x="445" y="243"/>
                  <a:pt x="449" y="235"/>
                </a:cubicBezTo>
                <a:cubicBezTo>
                  <a:pt x="452" y="229"/>
                  <a:pt x="452" y="233"/>
                  <a:pt x="453" y="227"/>
                </a:cubicBezTo>
                <a:cubicBezTo>
                  <a:pt x="465" y="162"/>
                  <a:pt x="433" y="91"/>
                  <a:pt x="444" y="30"/>
                </a:cubicBezTo>
                <a:cubicBezTo>
                  <a:pt x="446" y="19"/>
                  <a:pt x="448" y="15"/>
                  <a:pt x="453" y="5"/>
                </a:cubicBezTo>
                <a:cubicBezTo>
                  <a:pt x="454" y="5"/>
                  <a:pt x="456" y="5"/>
                  <a:pt x="457" y="5"/>
                </a:cubicBezTo>
                <a:cubicBezTo>
                  <a:pt x="455" y="17"/>
                  <a:pt x="454" y="18"/>
                  <a:pt x="453" y="30"/>
                </a:cubicBezTo>
                <a:cubicBezTo>
                  <a:pt x="449" y="73"/>
                  <a:pt x="444" y="115"/>
                  <a:pt x="436" y="158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1" name="Freeform 22"/>
          <p:cNvSpPr/>
          <p:nvPr/>
        </p:nvSpPr>
        <p:spPr>
          <a:xfrm>
            <a:off x="4498920" y="4154400"/>
            <a:ext cx="504720" cy="515880"/>
          </a:xfrm>
          <a:custGeom>
            <a:avLst/>
            <a:gdLst/>
            <a:ahLst/>
            <a:rect l="l" t="t" r="r" b="b"/>
            <a:pathLst>
              <a:path w="1401" h="1434">
                <a:moveTo>
                  <a:pt x="820" y="213"/>
                </a:moveTo>
                <a:cubicBezTo>
                  <a:pt x="772" y="216"/>
                  <a:pt x="723" y="213"/>
                  <a:pt x="675" y="222"/>
                </a:cubicBezTo>
                <a:cubicBezTo>
                  <a:pt x="616" y="233"/>
                  <a:pt x="564" y="254"/>
                  <a:pt x="513" y="286"/>
                </a:cubicBezTo>
                <a:cubicBezTo>
                  <a:pt x="441" y="331"/>
                  <a:pt x="385" y="398"/>
                  <a:pt x="346" y="473"/>
                </a:cubicBezTo>
                <a:cubicBezTo>
                  <a:pt x="292" y="577"/>
                  <a:pt x="262" y="681"/>
                  <a:pt x="261" y="798"/>
                </a:cubicBezTo>
                <a:cubicBezTo>
                  <a:pt x="260" y="908"/>
                  <a:pt x="291" y="1012"/>
                  <a:pt x="372" y="1088"/>
                </a:cubicBezTo>
                <a:cubicBezTo>
                  <a:pt x="451" y="1162"/>
                  <a:pt x="576" y="1184"/>
                  <a:pt x="679" y="1182"/>
                </a:cubicBezTo>
                <a:cubicBezTo>
                  <a:pt x="829" y="1179"/>
                  <a:pt x="1010" y="1118"/>
                  <a:pt x="1136" y="1037"/>
                </a:cubicBezTo>
                <a:cubicBezTo>
                  <a:pt x="1229" y="977"/>
                  <a:pt x="1318" y="897"/>
                  <a:pt x="1362" y="793"/>
                </a:cubicBezTo>
                <a:cubicBezTo>
                  <a:pt x="1404" y="693"/>
                  <a:pt x="1415" y="565"/>
                  <a:pt x="1392" y="460"/>
                </a:cubicBezTo>
                <a:cubicBezTo>
                  <a:pt x="1366" y="341"/>
                  <a:pt x="1303" y="219"/>
                  <a:pt x="1208" y="140"/>
                </a:cubicBezTo>
                <a:cubicBezTo>
                  <a:pt x="1095" y="46"/>
                  <a:pt x="950" y="19"/>
                  <a:pt x="807" y="29"/>
                </a:cubicBezTo>
                <a:cubicBezTo>
                  <a:pt x="637" y="41"/>
                  <a:pt x="477" y="118"/>
                  <a:pt x="350" y="230"/>
                </a:cubicBezTo>
                <a:cubicBezTo>
                  <a:pt x="207" y="357"/>
                  <a:pt x="106" y="532"/>
                  <a:pt x="47" y="712"/>
                </a:cubicBezTo>
                <a:cubicBezTo>
                  <a:pt x="-14" y="898"/>
                  <a:pt x="-34" y="1125"/>
                  <a:pt x="73" y="1297"/>
                </a:cubicBezTo>
                <a:cubicBezTo>
                  <a:pt x="143" y="1409"/>
                  <a:pt x="254" y="1442"/>
                  <a:pt x="380" y="1433"/>
                </a:cubicBezTo>
                <a:cubicBezTo>
                  <a:pt x="528" y="1422"/>
                  <a:pt x="672" y="1334"/>
                  <a:pt x="781" y="1237"/>
                </a:cubicBezTo>
                <a:cubicBezTo>
                  <a:pt x="921" y="1112"/>
                  <a:pt x="1021" y="959"/>
                  <a:pt x="1097" y="789"/>
                </a:cubicBezTo>
                <a:cubicBezTo>
                  <a:pt x="1166" y="635"/>
                  <a:pt x="1204" y="459"/>
                  <a:pt x="1191" y="290"/>
                </a:cubicBezTo>
                <a:cubicBezTo>
                  <a:pt x="1183" y="184"/>
                  <a:pt x="1135" y="48"/>
                  <a:pt x="1025" y="8"/>
                </a:cubicBezTo>
                <a:cubicBezTo>
                  <a:pt x="1001" y="5"/>
                  <a:pt x="976" y="3"/>
                  <a:pt x="952" y="0"/>
                </a:cubicBezTo>
                <a:cubicBezTo>
                  <a:pt x="796" y="42"/>
                  <a:pt x="680" y="111"/>
                  <a:pt x="564" y="230"/>
                </a:cubicBezTo>
                <a:cubicBezTo>
                  <a:pt x="375" y="424"/>
                  <a:pt x="169" y="720"/>
                  <a:pt x="141" y="998"/>
                </a:cubicBezTo>
                <a:cubicBezTo>
                  <a:pt x="130" y="1109"/>
                  <a:pt x="164" y="1173"/>
                  <a:pt x="214" y="1263"/>
                </a:cubicBezTo>
                <a:cubicBezTo>
                  <a:pt x="362" y="1319"/>
                  <a:pt x="465" y="1321"/>
                  <a:pt x="619" y="1263"/>
                </a:cubicBezTo>
                <a:cubicBezTo>
                  <a:pt x="846" y="1177"/>
                  <a:pt x="1053" y="987"/>
                  <a:pt x="1161" y="768"/>
                </a:cubicBezTo>
                <a:cubicBezTo>
                  <a:pt x="1236" y="616"/>
                  <a:pt x="1271" y="407"/>
                  <a:pt x="1217" y="243"/>
                </a:cubicBezTo>
                <a:cubicBezTo>
                  <a:pt x="1179" y="127"/>
                  <a:pt x="1108" y="84"/>
                  <a:pt x="1016" y="21"/>
                </a:cubicBezTo>
                <a:cubicBezTo>
                  <a:pt x="847" y="17"/>
                  <a:pt x="746" y="58"/>
                  <a:pt x="623" y="187"/>
                </a:cubicBezTo>
                <a:cubicBezTo>
                  <a:pt x="506" y="310"/>
                  <a:pt x="404" y="511"/>
                  <a:pt x="389" y="682"/>
                </a:cubicBezTo>
                <a:cubicBezTo>
                  <a:pt x="392" y="719"/>
                  <a:pt x="394" y="756"/>
                  <a:pt x="397" y="793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2" name="Freeform 23"/>
          <p:cNvSpPr/>
          <p:nvPr/>
        </p:nvSpPr>
        <p:spPr>
          <a:xfrm>
            <a:off x="6775560" y="3511440"/>
            <a:ext cx="528480" cy="478080"/>
          </a:xfrm>
          <a:custGeom>
            <a:avLst/>
            <a:gdLst/>
            <a:ahLst/>
            <a:rect l="l" t="t" r="r" b="b"/>
            <a:pathLst>
              <a:path w="1469" h="1328">
                <a:moveTo>
                  <a:pt x="854" y="94"/>
                </a:moveTo>
                <a:cubicBezTo>
                  <a:pt x="847" y="67"/>
                  <a:pt x="856" y="39"/>
                  <a:pt x="833" y="17"/>
                </a:cubicBezTo>
                <a:cubicBezTo>
                  <a:pt x="799" y="-17"/>
                  <a:pt x="754" y="10"/>
                  <a:pt x="717" y="25"/>
                </a:cubicBezTo>
                <a:cubicBezTo>
                  <a:pt x="619" y="65"/>
                  <a:pt x="527" y="139"/>
                  <a:pt x="457" y="217"/>
                </a:cubicBezTo>
                <a:cubicBezTo>
                  <a:pt x="354" y="331"/>
                  <a:pt x="251" y="467"/>
                  <a:pt x="192" y="610"/>
                </a:cubicBezTo>
                <a:cubicBezTo>
                  <a:pt x="141" y="735"/>
                  <a:pt x="123" y="885"/>
                  <a:pt x="180" y="1011"/>
                </a:cubicBezTo>
                <a:cubicBezTo>
                  <a:pt x="241" y="1145"/>
                  <a:pt x="374" y="1198"/>
                  <a:pt x="508" y="1225"/>
                </a:cubicBezTo>
                <a:cubicBezTo>
                  <a:pt x="676" y="1259"/>
                  <a:pt x="838" y="1226"/>
                  <a:pt x="995" y="1165"/>
                </a:cubicBezTo>
                <a:cubicBezTo>
                  <a:pt x="1152" y="1104"/>
                  <a:pt x="1270" y="1017"/>
                  <a:pt x="1366" y="879"/>
                </a:cubicBezTo>
                <a:cubicBezTo>
                  <a:pt x="1447" y="762"/>
                  <a:pt x="1483" y="610"/>
                  <a:pt x="1464" y="469"/>
                </a:cubicBezTo>
                <a:cubicBezTo>
                  <a:pt x="1447" y="341"/>
                  <a:pt x="1363" y="217"/>
                  <a:pt x="1247" y="158"/>
                </a:cubicBezTo>
                <a:cubicBezTo>
                  <a:pt x="1065" y="65"/>
                  <a:pt x="852" y="144"/>
                  <a:pt x="688" y="235"/>
                </a:cubicBezTo>
                <a:cubicBezTo>
                  <a:pt x="522" y="327"/>
                  <a:pt x="371" y="473"/>
                  <a:pt x="261" y="627"/>
                </a:cubicBezTo>
                <a:cubicBezTo>
                  <a:pt x="163" y="764"/>
                  <a:pt x="53" y="995"/>
                  <a:pt x="141" y="1165"/>
                </a:cubicBezTo>
                <a:cubicBezTo>
                  <a:pt x="230" y="1338"/>
                  <a:pt x="474" y="1344"/>
                  <a:pt x="636" y="1314"/>
                </a:cubicBezTo>
                <a:cubicBezTo>
                  <a:pt x="851" y="1275"/>
                  <a:pt x="1035" y="1148"/>
                  <a:pt x="1144" y="960"/>
                </a:cubicBezTo>
                <a:cubicBezTo>
                  <a:pt x="1226" y="819"/>
                  <a:pt x="1231" y="658"/>
                  <a:pt x="1187" y="503"/>
                </a:cubicBezTo>
                <a:cubicBezTo>
                  <a:pt x="1145" y="355"/>
                  <a:pt x="1052" y="205"/>
                  <a:pt x="909" y="136"/>
                </a:cubicBezTo>
                <a:cubicBezTo>
                  <a:pt x="750" y="59"/>
                  <a:pt x="591" y="99"/>
                  <a:pt x="444" y="179"/>
                </a:cubicBezTo>
                <a:cubicBezTo>
                  <a:pt x="278" y="269"/>
                  <a:pt x="130" y="424"/>
                  <a:pt x="52" y="597"/>
                </a:cubicBezTo>
                <a:cubicBezTo>
                  <a:pt x="-1" y="714"/>
                  <a:pt x="2" y="774"/>
                  <a:pt x="30" y="887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3" name="Freeform 24"/>
          <p:cNvSpPr/>
          <p:nvPr/>
        </p:nvSpPr>
        <p:spPr>
          <a:xfrm>
            <a:off x="6230880" y="1949400"/>
            <a:ext cx="611280" cy="490680"/>
          </a:xfrm>
          <a:custGeom>
            <a:avLst/>
            <a:gdLst/>
            <a:ahLst/>
            <a:rect l="l" t="t" r="r" b="b"/>
            <a:pathLst>
              <a:path w="1699" h="1362">
                <a:moveTo>
                  <a:pt x="973" y="47"/>
                </a:moveTo>
                <a:cubicBezTo>
                  <a:pt x="918" y="10"/>
                  <a:pt x="915" y="-9"/>
                  <a:pt x="832" y="17"/>
                </a:cubicBezTo>
                <a:cubicBezTo>
                  <a:pt x="757" y="40"/>
                  <a:pt x="685" y="91"/>
                  <a:pt x="623" y="136"/>
                </a:cubicBezTo>
                <a:cubicBezTo>
                  <a:pt x="526" y="206"/>
                  <a:pt x="454" y="296"/>
                  <a:pt x="380" y="388"/>
                </a:cubicBezTo>
                <a:cubicBezTo>
                  <a:pt x="287" y="504"/>
                  <a:pt x="207" y="644"/>
                  <a:pt x="188" y="794"/>
                </a:cubicBezTo>
                <a:cubicBezTo>
                  <a:pt x="171" y="922"/>
                  <a:pt x="213" y="1072"/>
                  <a:pt x="324" y="1148"/>
                </a:cubicBezTo>
                <a:cubicBezTo>
                  <a:pt x="496" y="1265"/>
                  <a:pt x="740" y="1223"/>
                  <a:pt x="922" y="1161"/>
                </a:cubicBezTo>
                <a:cubicBezTo>
                  <a:pt x="1105" y="1098"/>
                  <a:pt x="1283" y="988"/>
                  <a:pt x="1429" y="862"/>
                </a:cubicBezTo>
                <a:cubicBezTo>
                  <a:pt x="1558" y="750"/>
                  <a:pt x="1719" y="576"/>
                  <a:pt x="1698" y="388"/>
                </a:cubicBezTo>
                <a:cubicBezTo>
                  <a:pt x="1682" y="244"/>
                  <a:pt x="1543" y="188"/>
                  <a:pt x="1417" y="171"/>
                </a:cubicBezTo>
                <a:cubicBezTo>
                  <a:pt x="1150" y="136"/>
                  <a:pt x="877" y="257"/>
                  <a:pt x="657" y="397"/>
                </a:cubicBezTo>
                <a:cubicBezTo>
                  <a:pt x="460" y="523"/>
                  <a:pt x="283" y="679"/>
                  <a:pt x="141" y="866"/>
                </a:cubicBezTo>
                <a:cubicBezTo>
                  <a:pt x="63" y="969"/>
                  <a:pt x="-26" y="1117"/>
                  <a:pt x="17" y="1250"/>
                </a:cubicBezTo>
                <a:cubicBezTo>
                  <a:pt x="28" y="1269"/>
                  <a:pt x="40" y="1287"/>
                  <a:pt x="51" y="1306"/>
                </a:cubicBezTo>
                <a:cubicBezTo>
                  <a:pt x="181" y="1366"/>
                  <a:pt x="280" y="1374"/>
                  <a:pt x="422" y="1331"/>
                </a:cubicBezTo>
                <a:cubicBezTo>
                  <a:pt x="601" y="1277"/>
                  <a:pt x="766" y="1189"/>
                  <a:pt x="904" y="1062"/>
                </a:cubicBezTo>
                <a:cubicBezTo>
                  <a:pt x="1026" y="949"/>
                  <a:pt x="1115" y="803"/>
                  <a:pt x="1152" y="640"/>
                </a:cubicBezTo>
                <a:cubicBezTo>
                  <a:pt x="1179" y="521"/>
                  <a:pt x="1168" y="363"/>
                  <a:pt x="1097" y="260"/>
                </a:cubicBezTo>
                <a:cubicBezTo>
                  <a:pt x="1021" y="149"/>
                  <a:pt x="897" y="146"/>
                  <a:pt x="781" y="188"/>
                </a:cubicBezTo>
                <a:cubicBezTo>
                  <a:pt x="547" y="274"/>
                  <a:pt x="405" y="503"/>
                  <a:pt x="320" y="725"/>
                </a:cubicBezTo>
                <a:cubicBezTo>
                  <a:pt x="266" y="866"/>
                  <a:pt x="230" y="1101"/>
                  <a:pt x="358" y="1220"/>
                </a:cubicBezTo>
                <a:cubicBezTo>
                  <a:pt x="463" y="1279"/>
                  <a:pt x="496" y="1299"/>
                  <a:pt x="580" y="1284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4" name="Freeform 25"/>
          <p:cNvSpPr/>
          <p:nvPr/>
        </p:nvSpPr>
        <p:spPr>
          <a:xfrm>
            <a:off x="5159520" y="1947960"/>
            <a:ext cx="396720" cy="466560"/>
          </a:xfrm>
          <a:custGeom>
            <a:avLst/>
            <a:gdLst/>
            <a:ahLst/>
            <a:rect l="l" t="t" r="r" b="b"/>
            <a:pathLst>
              <a:path w="1106" h="1294">
                <a:moveTo>
                  <a:pt x="751" y="123"/>
                </a:moveTo>
                <a:cubicBezTo>
                  <a:pt x="763" y="90"/>
                  <a:pt x="774" y="60"/>
                  <a:pt x="785" y="25"/>
                </a:cubicBezTo>
                <a:cubicBezTo>
                  <a:pt x="789" y="15"/>
                  <a:pt x="790" y="14"/>
                  <a:pt x="790" y="8"/>
                </a:cubicBezTo>
                <a:cubicBezTo>
                  <a:pt x="764" y="16"/>
                  <a:pt x="730" y="21"/>
                  <a:pt x="696" y="42"/>
                </a:cubicBezTo>
                <a:cubicBezTo>
                  <a:pt x="612" y="95"/>
                  <a:pt x="526" y="177"/>
                  <a:pt x="457" y="247"/>
                </a:cubicBezTo>
                <a:cubicBezTo>
                  <a:pt x="345" y="360"/>
                  <a:pt x="250" y="489"/>
                  <a:pt x="171" y="627"/>
                </a:cubicBezTo>
                <a:cubicBezTo>
                  <a:pt x="101" y="748"/>
                  <a:pt x="37" y="898"/>
                  <a:pt x="43" y="1041"/>
                </a:cubicBezTo>
                <a:cubicBezTo>
                  <a:pt x="48" y="1150"/>
                  <a:pt x="114" y="1247"/>
                  <a:pt x="218" y="1280"/>
                </a:cubicBezTo>
                <a:cubicBezTo>
                  <a:pt x="418" y="1343"/>
                  <a:pt x="652" y="1223"/>
                  <a:pt x="807" y="1109"/>
                </a:cubicBezTo>
                <a:cubicBezTo>
                  <a:pt x="918" y="1027"/>
                  <a:pt x="1019" y="915"/>
                  <a:pt x="1071" y="785"/>
                </a:cubicBezTo>
                <a:cubicBezTo>
                  <a:pt x="1116" y="673"/>
                  <a:pt x="1116" y="552"/>
                  <a:pt x="1063" y="443"/>
                </a:cubicBezTo>
                <a:cubicBezTo>
                  <a:pt x="1016" y="346"/>
                  <a:pt x="912" y="280"/>
                  <a:pt x="807" y="264"/>
                </a:cubicBezTo>
                <a:cubicBezTo>
                  <a:pt x="673" y="244"/>
                  <a:pt x="531" y="325"/>
                  <a:pt x="431" y="405"/>
                </a:cubicBezTo>
                <a:cubicBezTo>
                  <a:pt x="300" y="510"/>
                  <a:pt x="181" y="656"/>
                  <a:pt x="98" y="802"/>
                </a:cubicBezTo>
                <a:cubicBezTo>
                  <a:pt x="49" y="888"/>
                  <a:pt x="-32" y="1043"/>
                  <a:pt x="4" y="1148"/>
                </a:cubicBezTo>
                <a:cubicBezTo>
                  <a:pt x="16" y="1164"/>
                  <a:pt x="27" y="1179"/>
                  <a:pt x="39" y="1195"/>
                </a:cubicBezTo>
                <a:cubicBezTo>
                  <a:pt x="151" y="1237"/>
                  <a:pt x="241" y="1236"/>
                  <a:pt x="359" y="1199"/>
                </a:cubicBezTo>
                <a:cubicBezTo>
                  <a:pt x="514" y="1150"/>
                  <a:pt x="661" y="1055"/>
                  <a:pt x="777" y="943"/>
                </a:cubicBezTo>
                <a:cubicBezTo>
                  <a:pt x="906" y="819"/>
                  <a:pt x="1009" y="664"/>
                  <a:pt x="1020" y="482"/>
                </a:cubicBezTo>
                <a:cubicBezTo>
                  <a:pt x="1026" y="379"/>
                  <a:pt x="995" y="288"/>
                  <a:pt x="901" y="239"/>
                </a:cubicBezTo>
                <a:cubicBezTo>
                  <a:pt x="794" y="183"/>
                  <a:pt x="676" y="241"/>
                  <a:pt x="589" y="311"/>
                </a:cubicBezTo>
                <a:cubicBezTo>
                  <a:pt x="417" y="449"/>
                  <a:pt x="323" y="644"/>
                  <a:pt x="290" y="857"/>
                </a:cubicBezTo>
                <a:cubicBezTo>
                  <a:pt x="282" y="958"/>
                  <a:pt x="279" y="991"/>
                  <a:pt x="312" y="1054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5" name="Freeform 26"/>
          <p:cNvSpPr/>
          <p:nvPr/>
        </p:nvSpPr>
        <p:spPr>
          <a:xfrm>
            <a:off x="2027160" y="2101680"/>
            <a:ext cx="513000" cy="597240"/>
          </a:xfrm>
          <a:custGeom>
            <a:avLst/>
            <a:gdLst/>
            <a:ahLst/>
            <a:rect l="l" t="t" r="r" b="b"/>
            <a:pathLst>
              <a:path w="1422" h="1661">
                <a:moveTo>
                  <a:pt x="760" y="0"/>
                </a:moveTo>
                <a:cubicBezTo>
                  <a:pt x="683" y="29"/>
                  <a:pt x="606" y="56"/>
                  <a:pt x="542" y="111"/>
                </a:cubicBezTo>
                <a:cubicBezTo>
                  <a:pt x="427" y="210"/>
                  <a:pt x="334" y="342"/>
                  <a:pt x="256" y="470"/>
                </a:cubicBezTo>
                <a:cubicBezTo>
                  <a:pt x="122" y="691"/>
                  <a:pt x="-35" y="982"/>
                  <a:pt x="4" y="1251"/>
                </a:cubicBezTo>
                <a:cubicBezTo>
                  <a:pt x="26" y="1402"/>
                  <a:pt x="139" y="1492"/>
                  <a:pt x="278" y="1532"/>
                </a:cubicBezTo>
                <a:cubicBezTo>
                  <a:pt x="540" y="1608"/>
                  <a:pt x="845" y="1512"/>
                  <a:pt x="1063" y="1362"/>
                </a:cubicBezTo>
                <a:cubicBezTo>
                  <a:pt x="1198" y="1269"/>
                  <a:pt x="1326" y="1150"/>
                  <a:pt x="1387" y="995"/>
                </a:cubicBezTo>
                <a:cubicBezTo>
                  <a:pt x="1440" y="862"/>
                  <a:pt x="1428" y="725"/>
                  <a:pt x="1357" y="602"/>
                </a:cubicBezTo>
                <a:cubicBezTo>
                  <a:pt x="1232" y="386"/>
                  <a:pt x="956" y="206"/>
                  <a:pt x="700" y="209"/>
                </a:cubicBezTo>
                <a:cubicBezTo>
                  <a:pt x="566" y="211"/>
                  <a:pt x="445" y="276"/>
                  <a:pt x="359" y="376"/>
                </a:cubicBezTo>
                <a:cubicBezTo>
                  <a:pt x="257" y="495"/>
                  <a:pt x="209" y="641"/>
                  <a:pt x="188" y="794"/>
                </a:cubicBezTo>
                <a:cubicBezTo>
                  <a:pt x="167" y="953"/>
                  <a:pt x="187" y="1095"/>
                  <a:pt x="256" y="1238"/>
                </a:cubicBezTo>
                <a:cubicBezTo>
                  <a:pt x="359" y="1450"/>
                  <a:pt x="584" y="1535"/>
                  <a:pt x="807" y="1464"/>
                </a:cubicBezTo>
                <a:cubicBezTo>
                  <a:pt x="937" y="1422"/>
                  <a:pt x="1055" y="1319"/>
                  <a:pt x="1122" y="1200"/>
                </a:cubicBezTo>
                <a:cubicBezTo>
                  <a:pt x="1205" y="1055"/>
                  <a:pt x="1237" y="878"/>
                  <a:pt x="1225" y="713"/>
                </a:cubicBezTo>
                <a:cubicBezTo>
                  <a:pt x="1210" y="512"/>
                  <a:pt x="1133" y="270"/>
                  <a:pt x="960" y="150"/>
                </a:cubicBezTo>
                <a:cubicBezTo>
                  <a:pt x="837" y="64"/>
                  <a:pt x="672" y="66"/>
                  <a:pt x="546" y="141"/>
                </a:cubicBezTo>
                <a:cubicBezTo>
                  <a:pt x="332" y="267"/>
                  <a:pt x="183" y="514"/>
                  <a:pt x="94" y="739"/>
                </a:cubicBezTo>
                <a:cubicBezTo>
                  <a:pt x="15" y="940"/>
                  <a:pt x="-42" y="1191"/>
                  <a:pt x="90" y="1379"/>
                </a:cubicBezTo>
                <a:cubicBezTo>
                  <a:pt x="111" y="1402"/>
                  <a:pt x="133" y="1424"/>
                  <a:pt x="154" y="1447"/>
                </a:cubicBezTo>
                <a:cubicBezTo>
                  <a:pt x="317" y="1500"/>
                  <a:pt x="434" y="1505"/>
                  <a:pt x="602" y="1447"/>
                </a:cubicBezTo>
                <a:cubicBezTo>
                  <a:pt x="911" y="1340"/>
                  <a:pt x="1176" y="1063"/>
                  <a:pt x="1272" y="751"/>
                </a:cubicBezTo>
                <a:cubicBezTo>
                  <a:pt x="1322" y="588"/>
                  <a:pt x="1304" y="416"/>
                  <a:pt x="1229" y="265"/>
                </a:cubicBezTo>
                <a:cubicBezTo>
                  <a:pt x="1172" y="150"/>
                  <a:pt x="1097" y="108"/>
                  <a:pt x="994" y="43"/>
                </a:cubicBezTo>
                <a:cubicBezTo>
                  <a:pt x="744" y="21"/>
                  <a:pt x="598" y="91"/>
                  <a:pt x="440" y="295"/>
                </a:cubicBezTo>
                <a:cubicBezTo>
                  <a:pt x="267" y="518"/>
                  <a:pt x="143" y="828"/>
                  <a:pt x="115" y="1110"/>
                </a:cubicBezTo>
                <a:cubicBezTo>
                  <a:pt x="96" y="1300"/>
                  <a:pt x="136" y="1433"/>
                  <a:pt x="235" y="1588"/>
                </a:cubicBezTo>
                <a:cubicBezTo>
                  <a:pt x="362" y="1660"/>
                  <a:pt x="462" y="1684"/>
                  <a:pt x="610" y="1635"/>
                </a:cubicBezTo>
                <a:cubicBezTo>
                  <a:pt x="767" y="1583"/>
                  <a:pt x="909" y="1478"/>
                  <a:pt x="1012" y="1349"/>
                </a:cubicBezTo>
                <a:cubicBezTo>
                  <a:pt x="1183" y="1135"/>
                  <a:pt x="1218" y="872"/>
                  <a:pt x="1152" y="611"/>
                </a:cubicBezTo>
                <a:cubicBezTo>
                  <a:pt x="1117" y="474"/>
                  <a:pt x="1041" y="301"/>
                  <a:pt x="905" y="235"/>
                </a:cubicBezTo>
                <a:cubicBezTo>
                  <a:pt x="769" y="170"/>
                  <a:pt x="638" y="289"/>
                  <a:pt x="568" y="393"/>
                </a:cubicBezTo>
                <a:cubicBezTo>
                  <a:pt x="445" y="575"/>
                  <a:pt x="411" y="806"/>
                  <a:pt x="376" y="1016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6" name="Freeform 27"/>
          <p:cNvSpPr/>
          <p:nvPr/>
        </p:nvSpPr>
        <p:spPr>
          <a:xfrm>
            <a:off x="3503520" y="3503520"/>
            <a:ext cx="414360" cy="420840"/>
          </a:xfrm>
          <a:custGeom>
            <a:avLst/>
            <a:gdLst/>
            <a:ahLst/>
            <a:rect l="l" t="t" r="r" b="b"/>
            <a:pathLst>
              <a:path w="1149" h="1166">
                <a:moveTo>
                  <a:pt x="913" y="55"/>
                </a:moveTo>
                <a:cubicBezTo>
                  <a:pt x="890" y="51"/>
                  <a:pt x="862" y="41"/>
                  <a:pt x="837" y="46"/>
                </a:cubicBezTo>
                <a:cubicBezTo>
                  <a:pt x="797" y="55"/>
                  <a:pt x="766" y="84"/>
                  <a:pt x="734" y="106"/>
                </a:cubicBezTo>
                <a:cubicBezTo>
                  <a:pt x="663" y="155"/>
                  <a:pt x="614" y="208"/>
                  <a:pt x="563" y="277"/>
                </a:cubicBezTo>
                <a:cubicBezTo>
                  <a:pt x="495" y="370"/>
                  <a:pt x="434" y="476"/>
                  <a:pt x="401" y="588"/>
                </a:cubicBezTo>
                <a:cubicBezTo>
                  <a:pt x="362" y="723"/>
                  <a:pt x="351" y="895"/>
                  <a:pt x="418" y="1024"/>
                </a:cubicBezTo>
                <a:cubicBezTo>
                  <a:pt x="473" y="1131"/>
                  <a:pt x="596" y="1183"/>
                  <a:pt x="713" y="1165"/>
                </a:cubicBezTo>
                <a:cubicBezTo>
                  <a:pt x="812" y="1149"/>
                  <a:pt x="916" y="1094"/>
                  <a:pt x="990" y="1028"/>
                </a:cubicBezTo>
                <a:cubicBezTo>
                  <a:pt x="1062" y="964"/>
                  <a:pt x="1128" y="865"/>
                  <a:pt x="1144" y="768"/>
                </a:cubicBezTo>
                <a:cubicBezTo>
                  <a:pt x="1161" y="660"/>
                  <a:pt x="1149" y="537"/>
                  <a:pt x="1114" y="435"/>
                </a:cubicBezTo>
                <a:cubicBezTo>
                  <a:pt x="1081" y="338"/>
                  <a:pt x="1019" y="234"/>
                  <a:pt x="952" y="157"/>
                </a:cubicBezTo>
                <a:cubicBezTo>
                  <a:pt x="895" y="92"/>
                  <a:pt x="817" y="38"/>
                  <a:pt x="734" y="12"/>
                </a:cubicBezTo>
                <a:cubicBezTo>
                  <a:pt x="657" y="-12"/>
                  <a:pt x="585" y="6"/>
                  <a:pt x="517" y="46"/>
                </a:cubicBezTo>
                <a:cubicBezTo>
                  <a:pt x="425" y="100"/>
                  <a:pt x="370" y="184"/>
                  <a:pt x="329" y="281"/>
                </a:cubicBezTo>
                <a:cubicBezTo>
                  <a:pt x="281" y="394"/>
                  <a:pt x="268" y="518"/>
                  <a:pt x="269" y="640"/>
                </a:cubicBezTo>
                <a:cubicBezTo>
                  <a:pt x="270" y="744"/>
                  <a:pt x="290" y="853"/>
                  <a:pt x="346" y="943"/>
                </a:cubicBezTo>
                <a:cubicBezTo>
                  <a:pt x="387" y="1010"/>
                  <a:pt x="450" y="1054"/>
                  <a:pt x="529" y="1058"/>
                </a:cubicBezTo>
                <a:cubicBezTo>
                  <a:pt x="639" y="1064"/>
                  <a:pt x="736" y="974"/>
                  <a:pt x="790" y="887"/>
                </a:cubicBezTo>
                <a:cubicBezTo>
                  <a:pt x="854" y="783"/>
                  <a:pt x="880" y="656"/>
                  <a:pt x="892" y="537"/>
                </a:cubicBezTo>
                <a:cubicBezTo>
                  <a:pt x="904" y="417"/>
                  <a:pt x="894" y="283"/>
                  <a:pt x="849" y="170"/>
                </a:cubicBezTo>
                <a:cubicBezTo>
                  <a:pt x="817" y="111"/>
                  <a:pt x="810" y="93"/>
                  <a:pt x="777" y="64"/>
                </a:cubicBezTo>
                <a:cubicBezTo>
                  <a:pt x="668" y="34"/>
                  <a:pt x="603" y="55"/>
                  <a:pt x="504" y="119"/>
                </a:cubicBezTo>
                <a:cubicBezTo>
                  <a:pt x="374" y="203"/>
                  <a:pt x="255" y="316"/>
                  <a:pt x="162" y="439"/>
                </a:cubicBezTo>
                <a:cubicBezTo>
                  <a:pt x="57" y="578"/>
                  <a:pt x="-58" y="793"/>
                  <a:pt x="26" y="968"/>
                </a:cubicBezTo>
                <a:cubicBezTo>
                  <a:pt x="86" y="1092"/>
                  <a:pt x="238" y="1127"/>
                  <a:pt x="363" y="1105"/>
                </a:cubicBezTo>
                <a:cubicBezTo>
                  <a:pt x="481" y="1084"/>
                  <a:pt x="591" y="1012"/>
                  <a:pt x="666" y="921"/>
                </a:cubicBezTo>
                <a:cubicBezTo>
                  <a:pt x="739" y="832"/>
                  <a:pt x="789" y="702"/>
                  <a:pt x="802" y="588"/>
                </a:cubicBezTo>
                <a:cubicBezTo>
                  <a:pt x="814" y="481"/>
                  <a:pt x="800" y="370"/>
                  <a:pt x="755" y="273"/>
                </a:cubicBezTo>
                <a:cubicBezTo>
                  <a:pt x="721" y="200"/>
                  <a:pt x="665" y="140"/>
                  <a:pt x="576" y="157"/>
                </a:cubicBezTo>
                <a:cubicBezTo>
                  <a:pt x="460" y="180"/>
                  <a:pt x="364" y="272"/>
                  <a:pt x="278" y="345"/>
                </a:cubicBezTo>
                <a:cubicBezTo>
                  <a:pt x="194" y="421"/>
                  <a:pt x="166" y="444"/>
                  <a:pt x="124" y="507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4819680" cy="61722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5943600" y="8380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mple stick figures can give you a workable frame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019920" y="31240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On top of the frame goes the muscles, which flesh out the figure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2286000" y="30132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aw </a:t>
            </a:r>
            <a:r>
              <a:rPr b="1" lang="en-US" sz="2400" spc="-1" strike="noStrike">
                <a:solidFill>
                  <a:srgbClr val="ff66ff"/>
                </a:solidFill>
                <a:latin typeface="Comic Sans MS"/>
              </a:rPr>
              <a:t>25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stick figures in different poses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0 minutes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205740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20061128-205934-1"/>
          <p:cNvPicPr/>
          <p:nvPr/>
        </p:nvPicPr>
        <p:blipFill>
          <a:blip r:embed="rId1"/>
          <a:stretch/>
        </p:blipFill>
        <p:spPr>
          <a:xfrm>
            <a:off x="638280" y="404640"/>
            <a:ext cx="7867440" cy="604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pogany03-big"/>
          <p:cNvPicPr/>
          <p:nvPr/>
        </p:nvPicPr>
        <p:blipFill>
          <a:blip r:embed="rId1"/>
          <a:stretch/>
        </p:blipFill>
        <p:spPr>
          <a:xfrm>
            <a:off x="2286000" y="380880"/>
            <a:ext cx="4878360" cy="61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4417920" cy="579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5334120" y="990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4120" y="914400"/>
            <a:ext cx="3504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bining these shapes with perspective and shading, we can create a realistic 2-D version of just about anything, including the human body.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post_photoshop-tutorial-wonder-woman-step-1-sketch"/>
          <p:cNvPicPr/>
          <p:nvPr/>
        </p:nvPicPr>
        <p:blipFill>
          <a:blip r:embed="rId1"/>
          <a:stretch/>
        </p:blipFill>
        <p:spPr>
          <a:xfrm>
            <a:off x="2666880" y="228600"/>
            <a:ext cx="4079880" cy="64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32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553080" cy="6091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225680" cy="5638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23864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001_muscles_lrg"/>
          <p:cNvPicPr/>
          <p:nvPr/>
        </p:nvPicPr>
        <p:blipFill>
          <a:blip r:embed="rId1"/>
          <a:stretch/>
        </p:blipFill>
        <p:spPr>
          <a:xfrm>
            <a:off x="2319480" y="571680"/>
            <a:ext cx="450504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001_muscles_lrg"/>
          <p:cNvPicPr/>
          <p:nvPr/>
        </p:nvPicPr>
        <p:blipFill>
          <a:blip r:embed="rId1"/>
          <a:stretch/>
        </p:blipFill>
        <p:spPr>
          <a:xfrm>
            <a:off x="2319480" y="571680"/>
            <a:ext cx="4505040" cy="57150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3"/>
          <p:cNvSpPr/>
          <p:nvPr/>
        </p:nvSpPr>
        <p:spPr>
          <a:xfrm>
            <a:off x="6705720" y="533520"/>
            <a:ext cx="2133360" cy="1295280"/>
          </a:xfrm>
          <a:prstGeom prst="wedgeEllipseCallout">
            <a:avLst>
              <a:gd name="adj1" fmla="val -66592"/>
              <a:gd name="adj2" fmla="val 25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Keep your hands to yourself fella.</a:t>
            </a:r>
            <a:endParaRPr b="1" lang="en-US" sz="16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68-Andrew_Dickman-Anatomy_in_Detail-2~1-446x662"/>
          <p:cNvPicPr/>
          <p:nvPr/>
        </p:nvPicPr>
        <p:blipFill>
          <a:blip r:embed="rId1"/>
          <a:stretch/>
        </p:blipFill>
        <p:spPr>
          <a:xfrm>
            <a:off x="228600" y="228600"/>
            <a:ext cx="4248000" cy="630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68-Andrew_Dickman-Anatomy_in_Detail-10~1-448x662"/>
          <p:cNvPicPr/>
          <p:nvPr/>
        </p:nvPicPr>
        <p:blipFill>
          <a:blip r:embed="rId2"/>
          <a:stretch/>
        </p:blipFill>
        <p:spPr>
          <a:xfrm>
            <a:off x="4724280" y="152280"/>
            <a:ext cx="4267440" cy="630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pencil_drawings_of_spiderman_1"/>
          <p:cNvPicPr/>
          <p:nvPr/>
        </p:nvPicPr>
        <p:blipFill>
          <a:blip r:embed="rId1"/>
          <a:stretch/>
        </p:blipFill>
        <p:spPr>
          <a:xfrm>
            <a:off x="533520" y="304920"/>
            <a:ext cx="4657680" cy="609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anatomy_question001"/>
          <p:cNvPicPr/>
          <p:nvPr/>
        </p:nvPicPr>
        <p:blipFill>
          <a:blip r:embed="rId1"/>
          <a:stretch/>
        </p:blipFill>
        <p:spPr>
          <a:xfrm>
            <a:off x="1995480" y="95400"/>
            <a:ext cx="5153040" cy="666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proportions"/>
          <p:cNvPicPr/>
          <p:nvPr/>
        </p:nvPicPr>
        <p:blipFill>
          <a:blip r:embed="rId1"/>
          <a:stretch/>
        </p:blipFill>
        <p:spPr>
          <a:xfrm>
            <a:off x="1600200" y="228600"/>
            <a:ext cx="6027840" cy="640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 quick perspectiv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4"/>
          <p:cNvSpPr/>
          <p:nvPr/>
        </p:nvSpPr>
        <p:spPr>
          <a:xfrm>
            <a:off x="6161040" y="1301760"/>
            <a:ext cx="468360" cy="301680"/>
          </a:xfrm>
          <a:custGeom>
            <a:avLst/>
            <a:gdLst/>
            <a:ahLst/>
            <a:rect l="l" t="t" r="r" b="b"/>
            <a:pathLst>
              <a:path w="1302" h="838">
                <a:moveTo>
                  <a:pt x="401" y="278"/>
                </a:moveTo>
                <a:cubicBezTo>
                  <a:pt x="397" y="348"/>
                  <a:pt x="386" y="417"/>
                  <a:pt x="375" y="487"/>
                </a:cubicBezTo>
                <a:cubicBezTo>
                  <a:pt x="365" y="550"/>
                  <a:pt x="350" y="613"/>
                  <a:pt x="337" y="675"/>
                </a:cubicBezTo>
                <a:cubicBezTo>
                  <a:pt x="328" y="717"/>
                  <a:pt x="318" y="758"/>
                  <a:pt x="302" y="798"/>
                </a:cubicBezTo>
                <a:cubicBezTo>
                  <a:pt x="293" y="821"/>
                  <a:pt x="295" y="828"/>
                  <a:pt x="277" y="837"/>
                </a:cubicBezTo>
              </a:path>
              <a:path w="1302" h="838">
                <a:moveTo>
                  <a:pt x="0" y="222"/>
                </a:moveTo>
                <a:cubicBezTo>
                  <a:pt x="78" y="197"/>
                  <a:pt x="156" y="171"/>
                  <a:pt x="234" y="145"/>
                </a:cubicBezTo>
                <a:cubicBezTo>
                  <a:pt x="313" y="119"/>
                  <a:pt x="391" y="92"/>
                  <a:pt x="469" y="64"/>
                </a:cubicBezTo>
                <a:cubicBezTo>
                  <a:pt x="513" y="48"/>
                  <a:pt x="559" y="24"/>
                  <a:pt x="605" y="13"/>
                </a:cubicBezTo>
                <a:cubicBezTo>
                  <a:pt x="623" y="9"/>
                  <a:pt x="631" y="5"/>
                  <a:pt x="644" y="0"/>
                </a:cubicBezTo>
                <a:cubicBezTo>
                  <a:pt x="643" y="41"/>
                  <a:pt x="637" y="79"/>
                  <a:pt x="631" y="120"/>
                </a:cubicBezTo>
                <a:cubicBezTo>
                  <a:pt x="623" y="177"/>
                  <a:pt x="609" y="230"/>
                  <a:pt x="597" y="286"/>
                </a:cubicBezTo>
                <a:cubicBezTo>
                  <a:pt x="583" y="353"/>
                  <a:pt x="574" y="421"/>
                  <a:pt x="559" y="487"/>
                </a:cubicBezTo>
                <a:cubicBezTo>
                  <a:pt x="548" y="534"/>
                  <a:pt x="538" y="581"/>
                  <a:pt x="529" y="628"/>
                </a:cubicBezTo>
                <a:cubicBezTo>
                  <a:pt x="529" y="641"/>
                  <a:pt x="529" y="645"/>
                  <a:pt x="524" y="653"/>
                </a:cubicBezTo>
                <a:cubicBezTo>
                  <a:pt x="538" y="630"/>
                  <a:pt x="552" y="606"/>
                  <a:pt x="563" y="581"/>
                </a:cubicBezTo>
                <a:cubicBezTo>
                  <a:pt x="601" y="496"/>
                  <a:pt x="639" y="413"/>
                  <a:pt x="687" y="333"/>
                </a:cubicBezTo>
                <a:cubicBezTo>
                  <a:pt x="700" y="312"/>
                  <a:pt x="714" y="296"/>
                  <a:pt x="729" y="278"/>
                </a:cubicBezTo>
                <a:cubicBezTo>
                  <a:pt x="749" y="304"/>
                  <a:pt x="754" y="315"/>
                  <a:pt x="759" y="355"/>
                </a:cubicBezTo>
                <a:cubicBezTo>
                  <a:pt x="766" y="417"/>
                  <a:pt x="761" y="476"/>
                  <a:pt x="759" y="538"/>
                </a:cubicBezTo>
                <a:cubicBezTo>
                  <a:pt x="758" y="587"/>
                  <a:pt x="751" y="638"/>
                  <a:pt x="755" y="687"/>
                </a:cubicBezTo>
                <a:cubicBezTo>
                  <a:pt x="755" y="700"/>
                  <a:pt x="753" y="703"/>
                  <a:pt x="759" y="709"/>
                </a:cubicBezTo>
                <a:cubicBezTo>
                  <a:pt x="769" y="690"/>
                  <a:pt x="786" y="664"/>
                  <a:pt x="802" y="640"/>
                </a:cubicBezTo>
              </a:path>
              <a:path w="1302" h="838">
                <a:moveTo>
                  <a:pt x="964" y="440"/>
                </a:moveTo>
                <a:cubicBezTo>
                  <a:pt x="954" y="489"/>
                  <a:pt x="952" y="536"/>
                  <a:pt x="947" y="585"/>
                </a:cubicBezTo>
                <a:cubicBezTo>
                  <a:pt x="945" y="609"/>
                  <a:pt x="945" y="626"/>
                  <a:pt x="947" y="649"/>
                </a:cubicBezTo>
                <a:cubicBezTo>
                  <a:pt x="964" y="619"/>
                  <a:pt x="960" y="625"/>
                  <a:pt x="964" y="585"/>
                </a:cubicBezTo>
              </a:path>
              <a:path w="1302" h="838">
                <a:moveTo>
                  <a:pt x="934" y="86"/>
                </a:moveTo>
                <a:cubicBezTo>
                  <a:pt x="931" y="95"/>
                  <a:pt x="924" y="102"/>
                  <a:pt x="934" y="99"/>
                </a:cubicBezTo>
              </a:path>
              <a:path w="1302" h="838">
                <a:moveTo>
                  <a:pt x="1203" y="316"/>
                </a:moveTo>
                <a:cubicBezTo>
                  <a:pt x="1175" y="346"/>
                  <a:pt x="1152" y="375"/>
                  <a:pt x="1135" y="414"/>
                </a:cubicBezTo>
                <a:cubicBezTo>
                  <a:pt x="1129" y="428"/>
                  <a:pt x="1120" y="453"/>
                  <a:pt x="1135" y="465"/>
                </a:cubicBezTo>
                <a:cubicBezTo>
                  <a:pt x="1155" y="480"/>
                  <a:pt x="1182" y="482"/>
                  <a:pt x="1203" y="495"/>
                </a:cubicBezTo>
                <a:cubicBezTo>
                  <a:pt x="1226" y="510"/>
                  <a:pt x="1266" y="530"/>
                  <a:pt x="1284" y="551"/>
                </a:cubicBezTo>
                <a:cubicBezTo>
                  <a:pt x="1297" y="567"/>
                  <a:pt x="1308" y="595"/>
                  <a:pt x="1297" y="615"/>
                </a:cubicBezTo>
                <a:cubicBezTo>
                  <a:pt x="1290" y="628"/>
                  <a:pt x="1256" y="650"/>
                  <a:pt x="1241" y="653"/>
                </a:cubicBezTo>
                <a:cubicBezTo>
                  <a:pt x="1224" y="656"/>
                  <a:pt x="1203" y="653"/>
                  <a:pt x="1186" y="653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Freeform 15"/>
          <p:cNvSpPr/>
          <p:nvPr/>
        </p:nvSpPr>
        <p:spPr>
          <a:xfrm>
            <a:off x="6821640" y="1287360"/>
            <a:ext cx="141120" cy="266760"/>
          </a:xfrm>
          <a:custGeom>
            <a:avLst/>
            <a:gdLst/>
            <a:ahLst/>
            <a:rect l="l" t="t" r="r" b="b"/>
            <a:pathLst>
              <a:path w="394" h="739">
                <a:moveTo>
                  <a:pt x="35" y="290"/>
                </a:moveTo>
                <a:cubicBezTo>
                  <a:pt x="24" y="374"/>
                  <a:pt x="12" y="457"/>
                  <a:pt x="5" y="542"/>
                </a:cubicBezTo>
                <a:cubicBezTo>
                  <a:pt x="1" y="596"/>
                  <a:pt x="-4" y="650"/>
                  <a:pt x="5" y="704"/>
                </a:cubicBezTo>
                <a:cubicBezTo>
                  <a:pt x="13" y="750"/>
                  <a:pt x="-1" y="730"/>
                  <a:pt x="9" y="712"/>
                </a:cubicBezTo>
                <a:cubicBezTo>
                  <a:pt x="15" y="706"/>
                  <a:pt x="20" y="701"/>
                  <a:pt x="26" y="695"/>
                </a:cubicBezTo>
              </a:path>
              <a:path w="394" h="739">
                <a:moveTo>
                  <a:pt x="9" y="0"/>
                </a:moveTo>
                <a:cubicBezTo>
                  <a:pt x="9" y="10"/>
                  <a:pt x="10" y="13"/>
                  <a:pt x="5" y="17"/>
                </a:cubicBezTo>
              </a:path>
              <a:path w="394" h="739">
                <a:moveTo>
                  <a:pt x="274" y="277"/>
                </a:moveTo>
                <a:cubicBezTo>
                  <a:pt x="244" y="299"/>
                  <a:pt x="220" y="324"/>
                  <a:pt x="193" y="350"/>
                </a:cubicBezTo>
                <a:cubicBezTo>
                  <a:pt x="180" y="362"/>
                  <a:pt x="168" y="374"/>
                  <a:pt x="158" y="388"/>
                </a:cubicBezTo>
                <a:cubicBezTo>
                  <a:pt x="174" y="401"/>
                  <a:pt x="182" y="401"/>
                  <a:pt x="201" y="409"/>
                </a:cubicBezTo>
                <a:cubicBezTo>
                  <a:pt x="232" y="421"/>
                  <a:pt x="266" y="432"/>
                  <a:pt x="295" y="448"/>
                </a:cubicBezTo>
                <a:cubicBezTo>
                  <a:pt x="332" y="468"/>
                  <a:pt x="362" y="500"/>
                  <a:pt x="380" y="537"/>
                </a:cubicBezTo>
                <a:cubicBezTo>
                  <a:pt x="397" y="572"/>
                  <a:pt x="398" y="617"/>
                  <a:pt x="385" y="653"/>
                </a:cubicBezTo>
                <a:cubicBezTo>
                  <a:pt x="372" y="689"/>
                  <a:pt x="351" y="713"/>
                  <a:pt x="316" y="725"/>
                </a:cubicBezTo>
                <a:cubicBezTo>
                  <a:pt x="282" y="736"/>
                  <a:pt x="261" y="705"/>
                  <a:pt x="257" y="674"/>
                </a:cubicBezTo>
                <a:cubicBezTo>
                  <a:pt x="258" y="668"/>
                  <a:pt x="260" y="663"/>
                  <a:pt x="261" y="657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0" name="Freeform 16"/>
          <p:cNvSpPr/>
          <p:nvPr/>
        </p:nvSpPr>
        <p:spPr>
          <a:xfrm>
            <a:off x="7139160" y="1258920"/>
            <a:ext cx="428400" cy="290520"/>
          </a:xfrm>
          <a:custGeom>
            <a:avLst/>
            <a:gdLst/>
            <a:ahLst/>
            <a:rect l="l" t="t" r="r" b="b"/>
            <a:pathLst>
              <a:path w="1191" h="803">
                <a:moveTo>
                  <a:pt x="341" y="115"/>
                </a:moveTo>
                <a:cubicBezTo>
                  <a:pt x="323" y="211"/>
                  <a:pt x="298" y="304"/>
                  <a:pt x="281" y="401"/>
                </a:cubicBezTo>
                <a:cubicBezTo>
                  <a:pt x="265" y="494"/>
                  <a:pt x="255" y="589"/>
                  <a:pt x="252" y="683"/>
                </a:cubicBezTo>
                <a:cubicBezTo>
                  <a:pt x="252" y="685"/>
                  <a:pt x="254" y="802"/>
                  <a:pt x="256" y="802"/>
                </a:cubicBezTo>
                <a:cubicBezTo>
                  <a:pt x="262" y="791"/>
                  <a:pt x="266" y="787"/>
                  <a:pt x="277" y="785"/>
                </a:cubicBezTo>
              </a:path>
              <a:path w="1191" h="803">
                <a:moveTo>
                  <a:pt x="0" y="303"/>
                </a:moveTo>
                <a:cubicBezTo>
                  <a:pt x="30" y="318"/>
                  <a:pt x="55" y="328"/>
                  <a:pt x="89" y="333"/>
                </a:cubicBezTo>
                <a:cubicBezTo>
                  <a:pt x="155" y="342"/>
                  <a:pt x="237" y="345"/>
                  <a:pt x="303" y="333"/>
                </a:cubicBezTo>
                <a:cubicBezTo>
                  <a:pt x="375" y="320"/>
                  <a:pt x="436" y="285"/>
                  <a:pt x="495" y="243"/>
                </a:cubicBezTo>
                <a:cubicBezTo>
                  <a:pt x="550" y="203"/>
                  <a:pt x="594" y="155"/>
                  <a:pt x="636" y="102"/>
                </a:cubicBezTo>
                <a:cubicBezTo>
                  <a:pt x="657" y="75"/>
                  <a:pt x="678" y="41"/>
                  <a:pt x="691" y="8"/>
                </a:cubicBezTo>
                <a:cubicBezTo>
                  <a:pt x="691" y="5"/>
                  <a:pt x="691" y="3"/>
                  <a:pt x="691" y="0"/>
                </a:cubicBezTo>
                <a:cubicBezTo>
                  <a:pt x="688" y="24"/>
                  <a:pt x="687" y="48"/>
                  <a:pt x="683" y="72"/>
                </a:cubicBezTo>
                <a:cubicBezTo>
                  <a:pt x="670" y="151"/>
                  <a:pt x="650" y="228"/>
                  <a:pt x="636" y="307"/>
                </a:cubicBezTo>
                <a:cubicBezTo>
                  <a:pt x="616" y="419"/>
                  <a:pt x="585" y="547"/>
                  <a:pt x="589" y="661"/>
                </a:cubicBezTo>
                <a:cubicBezTo>
                  <a:pt x="589" y="681"/>
                  <a:pt x="589" y="687"/>
                  <a:pt x="593" y="700"/>
                </a:cubicBezTo>
                <a:cubicBezTo>
                  <a:pt x="617" y="681"/>
                  <a:pt x="630" y="666"/>
                  <a:pt x="644" y="636"/>
                </a:cubicBezTo>
                <a:cubicBezTo>
                  <a:pt x="670" y="580"/>
                  <a:pt x="699" y="525"/>
                  <a:pt x="725" y="469"/>
                </a:cubicBezTo>
                <a:cubicBezTo>
                  <a:pt x="739" y="440"/>
                  <a:pt x="751" y="409"/>
                  <a:pt x="764" y="380"/>
                </a:cubicBezTo>
                <a:cubicBezTo>
                  <a:pt x="767" y="395"/>
                  <a:pt x="773" y="421"/>
                  <a:pt x="772" y="444"/>
                </a:cubicBezTo>
                <a:cubicBezTo>
                  <a:pt x="769" y="506"/>
                  <a:pt x="761" y="569"/>
                  <a:pt x="759" y="631"/>
                </a:cubicBezTo>
                <a:cubicBezTo>
                  <a:pt x="759" y="641"/>
                  <a:pt x="755" y="755"/>
                  <a:pt x="772" y="759"/>
                </a:cubicBezTo>
                <a:cubicBezTo>
                  <a:pt x="781" y="761"/>
                  <a:pt x="798" y="738"/>
                  <a:pt x="811" y="734"/>
                </a:cubicBezTo>
              </a:path>
              <a:path w="1191" h="803">
                <a:moveTo>
                  <a:pt x="926" y="486"/>
                </a:moveTo>
                <a:cubicBezTo>
                  <a:pt x="938" y="489"/>
                  <a:pt x="951" y="489"/>
                  <a:pt x="964" y="491"/>
                </a:cubicBezTo>
                <a:cubicBezTo>
                  <a:pt x="985" y="495"/>
                  <a:pt x="997" y="503"/>
                  <a:pt x="1020" y="503"/>
                </a:cubicBezTo>
                <a:cubicBezTo>
                  <a:pt x="1044" y="503"/>
                  <a:pt x="1067" y="486"/>
                  <a:pt x="1084" y="469"/>
                </a:cubicBezTo>
                <a:cubicBezTo>
                  <a:pt x="1105" y="448"/>
                  <a:pt x="1130" y="414"/>
                  <a:pt x="1135" y="384"/>
                </a:cubicBezTo>
                <a:cubicBezTo>
                  <a:pt x="1140" y="355"/>
                  <a:pt x="1140" y="329"/>
                  <a:pt x="1126" y="303"/>
                </a:cubicBezTo>
                <a:cubicBezTo>
                  <a:pt x="1119" y="292"/>
                  <a:pt x="1118" y="288"/>
                  <a:pt x="1109" y="286"/>
                </a:cubicBezTo>
                <a:cubicBezTo>
                  <a:pt x="1073" y="291"/>
                  <a:pt x="1063" y="309"/>
                  <a:pt x="1045" y="341"/>
                </a:cubicBezTo>
                <a:cubicBezTo>
                  <a:pt x="1009" y="404"/>
                  <a:pt x="991" y="469"/>
                  <a:pt x="969" y="538"/>
                </a:cubicBezTo>
                <a:cubicBezTo>
                  <a:pt x="948" y="605"/>
                  <a:pt x="927" y="681"/>
                  <a:pt x="951" y="751"/>
                </a:cubicBezTo>
                <a:cubicBezTo>
                  <a:pt x="970" y="808"/>
                  <a:pt x="1042" y="806"/>
                  <a:pt x="1088" y="785"/>
                </a:cubicBezTo>
                <a:cubicBezTo>
                  <a:pt x="1138" y="749"/>
                  <a:pt x="1157" y="735"/>
                  <a:pt x="1190" y="708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7770960" y="1254240"/>
            <a:ext cx="869760" cy="315720"/>
          </a:xfrm>
          <a:custGeom>
            <a:avLst/>
            <a:gdLst/>
            <a:ahLst/>
            <a:rect l="l" t="t" r="r" b="b"/>
            <a:pathLst>
              <a:path w="2416" h="880">
                <a:moveTo>
                  <a:pt x="0" y="0"/>
                </a:moveTo>
                <a:cubicBezTo>
                  <a:pt x="0" y="6"/>
                  <a:pt x="0" y="19"/>
                  <a:pt x="0" y="30"/>
                </a:cubicBezTo>
                <a:cubicBezTo>
                  <a:pt x="0" y="104"/>
                  <a:pt x="4" y="178"/>
                  <a:pt x="4" y="252"/>
                </a:cubicBezTo>
                <a:cubicBezTo>
                  <a:pt x="5" y="436"/>
                  <a:pt x="-11" y="628"/>
                  <a:pt x="8" y="811"/>
                </a:cubicBezTo>
                <a:cubicBezTo>
                  <a:pt x="19" y="786"/>
                  <a:pt x="28" y="757"/>
                  <a:pt x="38" y="730"/>
                </a:cubicBezTo>
                <a:cubicBezTo>
                  <a:pt x="73" y="636"/>
                  <a:pt x="100" y="539"/>
                  <a:pt x="132" y="444"/>
                </a:cubicBezTo>
                <a:cubicBezTo>
                  <a:pt x="144" y="409"/>
                  <a:pt x="159" y="323"/>
                  <a:pt x="192" y="299"/>
                </a:cubicBezTo>
                <a:cubicBezTo>
                  <a:pt x="196" y="299"/>
                  <a:pt x="201" y="299"/>
                  <a:pt x="205" y="299"/>
                </a:cubicBezTo>
                <a:cubicBezTo>
                  <a:pt x="222" y="346"/>
                  <a:pt x="230" y="398"/>
                  <a:pt x="230" y="448"/>
                </a:cubicBezTo>
                <a:cubicBezTo>
                  <a:pt x="231" y="533"/>
                  <a:pt x="225" y="618"/>
                  <a:pt x="222" y="704"/>
                </a:cubicBezTo>
                <a:cubicBezTo>
                  <a:pt x="222" y="714"/>
                  <a:pt x="206" y="846"/>
                  <a:pt x="217" y="853"/>
                </a:cubicBezTo>
                <a:cubicBezTo>
                  <a:pt x="232" y="862"/>
                  <a:pt x="256" y="795"/>
                  <a:pt x="264" y="781"/>
                </a:cubicBezTo>
              </a:path>
              <a:path w="2416" h="880">
                <a:moveTo>
                  <a:pt x="465" y="388"/>
                </a:moveTo>
                <a:cubicBezTo>
                  <a:pt x="459" y="397"/>
                  <a:pt x="453" y="412"/>
                  <a:pt x="448" y="427"/>
                </a:cubicBezTo>
                <a:cubicBezTo>
                  <a:pt x="432" y="476"/>
                  <a:pt x="421" y="525"/>
                  <a:pt x="414" y="576"/>
                </a:cubicBezTo>
                <a:cubicBezTo>
                  <a:pt x="407" y="621"/>
                  <a:pt x="396" y="679"/>
                  <a:pt x="405" y="725"/>
                </a:cubicBezTo>
                <a:cubicBezTo>
                  <a:pt x="413" y="744"/>
                  <a:pt x="414" y="749"/>
                  <a:pt x="422" y="759"/>
                </a:cubicBezTo>
                <a:cubicBezTo>
                  <a:pt x="457" y="751"/>
                  <a:pt x="472" y="728"/>
                  <a:pt x="490" y="695"/>
                </a:cubicBezTo>
                <a:cubicBezTo>
                  <a:pt x="523" y="634"/>
                  <a:pt x="538" y="567"/>
                  <a:pt x="546" y="499"/>
                </a:cubicBezTo>
                <a:cubicBezTo>
                  <a:pt x="553" y="441"/>
                  <a:pt x="557" y="381"/>
                  <a:pt x="529" y="328"/>
                </a:cubicBezTo>
                <a:cubicBezTo>
                  <a:pt x="517" y="312"/>
                  <a:pt x="514" y="306"/>
                  <a:pt x="499" y="311"/>
                </a:cubicBezTo>
                <a:cubicBezTo>
                  <a:pt x="470" y="338"/>
                  <a:pt x="463" y="365"/>
                  <a:pt x="461" y="405"/>
                </a:cubicBezTo>
                <a:cubicBezTo>
                  <a:pt x="461" y="439"/>
                  <a:pt x="460" y="448"/>
                  <a:pt x="465" y="469"/>
                </a:cubicBezTo>
              </a:path>
              <a:path w="2416" h="880">
                <a:moveTo>
                  <a:pt x="751" y="589"/>
                </a:moveTo>
                <a:cubicBezTo>
                  <a:pt x="757" y="613"/>
                  <a:pt x="766" y="635"/>
                  <a:pt x="776" y="657"/>
                </a:cubicBezTo>
                <a:cubicBezTo>
                  <a:pt x="780" y="665"/>
                  <a:pt x="785" y="682"/>
                  <a:pt x="785" y="691"/>
                </a:cubicBezTo>
                <a:cubicBezTo>
                  <a:pt x="784" y="691"/>
                  <a:pt x="782" y="691"/>
                  <a:pt x="781" y="691"/>
                </a:cubicBezTo>
                <a:cubicBezTo>
                  <a:pt x="777" y="676"/>
                  <a:pt x="773" y="660"/>
                  <a:pt x="772" y="644"/>
                </a:cubicBezTo>
                <a:cubicBezTo>
                  <a:pt x="769" y="590"/>
                  <a:pt x="774" y="535"/>
                  <a:pt x="781" y="482"/>
                </a:cubicBezTo>
                <a:cubicBezTo>
                  <a:pt x="789" y="417"/>
                  <a:pt x="807" y="354"/>
                  <a:pt x="832" y="294"/>
                </a:cubicBezTo>
                <a:cubicBezTo>
                  <a:pt x="845" y="263"/>
                  <a:pt x="855" y="225"/>
                  <a:pt x="883" y="205"/>
                </a:cubicBezTo>
                <a:cubicBezTo>
                  <a:pt x="900" y="192"/>
                  <a:pt x="914" y="212"/>
                  <a:pt x="926" y="222"/>
                </a:cubicBezTo>
              </a:path>
              <a:path w="2416" h="880">
                <a:moveTo>
                  <a:pt x="1105" y="444"/>
                </a:moveTo>
                <a:cubicBezTo>
                  <a:pt x="1087" y="519"/>
                  <a:pt x="1081" y="593"/>
                  <a:pt x="1071" y="670"/>
                </a:cubicBezTo>
                <a:cubicBezTo>
                  <a:pt x="1065" y="716"/>
                  <a:pt x="1050" y="781"/>
                  <a:pt x="1062" y="828"/>
                </a:cubicBezTo>
                <a:cubicBezTo>
                  <a:pt x="1065" y="832"/>
                  <a:pt x="1068" y="836"/>
                  <a:pt x="1071" y="840"/>
                </a:cubicBezTo>
                <a:cubicBezTo>
                  <a:pt x="1085" y="816"/>
                  <a:pt x="1109" y="773"/>
                  <a:pt x="1114" y="742"/>
                </a:cubicBezTo>
                <a:cubicBezTo>
                  <a:pt x="1115" y="719"/>
                  <a:pt x="1117" y="697"/>
                  <a:pt x="1118" y="674"/>
                </a:cubicBezTo>
              </a:path>
              <a:path w="2416" h="880">
                <a:moveTo>
                  <a:pt x="1118" y="51"/>
                </a:moveTo>
                <a:cubicBezTo>
                  <a:pt x="1109" y="78"/>
                  <a:pt x="1098" y="88"/>
                  <a:pt x="1088" y="115"/>
                </a:cubicBezTo>
                <a:cubicBezTo>
                  <a:pt x="1112" y="100"/>
                  <a:pt x="1101" y="90"/>
                  <a:pt x="1118" y="72"/>
                </a:cubicBezTo>
                <a:cubicBezTo>
                  <a:pt x="1125" y="68"/>
                  <a:pt x="1132" y="64"/>
                  <a:pt x="1139" y="60"/>
                </a:cubicBezTo>
              </a:path>
              <a:path w="2416" h="880">
                <a:moveTo>
                  <a:pt x="1289" y="375"/>
                </a:moveTo>
                <a:cubicBezTo>
                  <a:pt x="1317" y="367"/>
                  <a:pt x="1344" y="355"/>
                  <a:pt x="1370" y="341"/>
                </a:cubicBezTo>
                <a:cubicBezTo>
                  <a:pt x="1398" y="325"/>
                  <a:pt x="1428" y="304"/>
                  <a:pt x="1459" y="294"/>
                </a:cubicBezTo>
                <a:cubicBezTo>
                  <a:pt x="1471" y="290"/>
                  <a:pt x="1473" y="289"/>
                  <a:pt x="1481" y="290"/>
                </a:cubicBezTo>
                <a:cubicBezTo>
                  <a:pt x="1481" y="318"/>
                  <a:pt x="1480" y="340"/>
                  <a:pt x="1472" y="367"/>
                </a:cubicBezTo>
                <a:cubicBezTo>
                  <a:pt x="1452" y="437"/>
                  <a:pt x="1428" y="507"/>
                  <a:pt x="1404" y="576"/>
                </a:cubicBezTo>
                <a:cubicBezTo>
                  <a:pt x="1379" y="647"/>
                  <a:pt x="1356" y="717"/>
                  <a:pt x="1335" y="789"/>
                </a:cubicBezTo>
                <a:cubicBezTo>
                  <a:pt x="1324" y="829"/>
                  <a:pt x="1315" y="846"/>
                  <a:pt x="1340" y="879"/>
                </a:cubicBezTo>
                <a:cubicBezTo>
                  <a:pt x="1386" y="864"/>
                  <a:pt x="1410" y="838"/>
                  <a:pt x="1446" y="806"/>
                </a:cubicBezTo>
                <a:cubicBezTo>
                  <a:pt x="1509" y="749"/>
                  <a:pt x="1553" y="686"/>
                  <a:pt x="1609" y="623"/>
                </a:cubicBezTo>
              </a:path>
              <a:path w="2416" h="880">
                <a:moveTo>
                  <a:pt x="1314" y="572"/>
                </a:moveTo>
                <a:cubicBezTo>
                  <a:pt x="1325" y="573"/>
                  <a:pt x="1326" y="572"/>
                  <a:pt x="1340" y="563"/>
                </a:cubicBezTo>
                <a:cubicBezTo>
                  <a:pt x="1368" y="545"/>
                  <a:pt x="1397" y="527"/>
                  <a:pt x="1425" y="508"/>
                </a:cubicBezTo>
                <a:cubicBezTo>
                  <a:pt x="1463" y="483"/>
                  <a:pt x="1490" y="473"/>
                  <a:pt x="1523" y="444"/>
                </a:cubicBezTo>
              </a:path>
              <a:path w="2416" h="880">
                <a:moveTo>
                  <a:pt x="1843" y="367"/>
                </a:moveTo>
                <a:cubicBezTo>
                  <a:pt x="1819" y="395"/>
                  <a:pt x="1815" y="427"/>
                  <a:pt x="1805" y="465"/>
                </a:cubicBezTo>
                <a:cubicBezTo>
                  <a:pt x="1793" y="513"/>
                  <a:pt x="1792" y="557"/>
                  <a:pt x="1792" y="606"/>
                </a:cubicBezTo>
                <a:cubicBezTo>
                  <a:pt x="1792" y="634"/>
                  <a:pt x="1793" y="656"/>
                  <a:pt x="1809" y="678"/>
                </a:cubicBezTo>
                <a:cubicBezTo>
                  <a:pt x="1838" y="683"/>
                  <a:pt x="1844" y="648"/>
                  <a:pt x="1856" y="623"/>
                </a:cubicBezTo>
                <a:cubicBezTo>
                  <a:pt x="1884" y="566"/>
                  <a:pt x="1906" y="505"/>
                  <a:pt x="1920" y="444"/>
                </a:cubicBezTo>
                <a:cubicBezTo>
                  <a:pt x="1932" y="392"/>
                  <a:pt x="1942" y="326"/>
                  <a:pt x="1929" y="273"/>
                </a:cubicBezTo>
                <a:cubicBezTo>
                  <a:pt x="1921" y="241"/>
                  <a:pt x="1902" y="237"/>
                  <a:pt x="1877" y="252"/>
                </a:cubicBezTo>
                <a:cubicBezTo>
                  <a:pt x="1853" y="267"/>
                  <a:pt x="1835" y="299"/>
                  <a:pt x="1835" y="328"/>
                </a:cubicBezTo>
                <a:cubicBezTo>
                  <a:pt x="1836" y="335"/>
                  <a:pt x="1838" y="343"/>
                  <a:pt x="1839" y="350"/>
                </a:cubicBezTo>
              </a:path>
              <a:path w="2416" h="880">
                <a:moveTo>
                  <a:pt x="2087" y="414"/>
                </a:moveTo>
                <a:cubicBezTo>
                  <a:pt x="2070" y="473"/>
                  <a:pt x="2064" y="528"/>
                  <a:pt x="2074" y="589"/>
                </a:cubicBezTo>
                <a:cubicBezTo>
                  <a:pt x="2077" y="607"/>
                  <a:pt x="2086" y="616"/>
                  <a:pt x="2095" y="631"/>
                </a:cubicBezTo>
                <a:cubicBezTo>
                  <a:pt x="2123" y="627"/>
                  <a:pt x="2142" y="603"/>
                  <a:pt x="2155" y="576"/>
                </a:cubicBezTo>
                <a:cubicBezTo>
                  <a:pt x="2183" y="517"/>
                  <a:pt x="2208" y="453"/>
                  <a:pt x="2232" y="392"/>
                </a:cubicBezTo>
                <a:cubicBezTo>
                  <a:pt x="2253" y="338"/>
                  <a:pt x="2270" y="282"/>
                  <a:pt x="2296" y="230"/>
                </a:cubicBezTo>
                <a:cubicBezTo>
                  <a:pt x="2306" y="212"/>
                  <a:pt x="2307" y="208"/>
                  <a:pt x="2317" y="200"/>
                </a:cubicBezTo>
                <a:cubicBezTo>
                  <a:pt x="2320" y="229"/>
                  <a:pt x="2321" y="263"/>
                  <a:pt x="2321" y="294"/>
                </a:cubicBezTo>
                <a:cubicBezTo>
                  <a:pt x="2321" y="403"/>
                  <a:pt x="2309" y="519"/>
                  <a:pt x="2325" y="627"/>
                </a:cubicBezTo>
                <a:cubicBezTo>
                  <a:pt x="2333" y="664"/>
                  <a:pt x="2335" y="675"/>
                  <a:pt x="2355" y="691"/>
                </a:cubicBezTo>
                <a:cubicBezTo>
                  <a:pt x="2391" y="691"/>
                  <a:pt x="2399" y="655"/>
                  <a:pt x="2415" y="623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Freeform 18"/>
          <p:cNvSpPr/>
          <p:nvPr/>
        </p:nvSpPr>
        <p:spPr>
          <a:xfrm>
            <a:off x="7201080" y="1711440"/>
            <a:ext cx="666720" cy="744480"/>
          </a:xfrm>
          <a:custGeom>
            <a:avLst/>
            <a:gdLst/>
            <a:ahLst/>
            <a:rect l="l" t="t" r="r" b="b"/>
            <a:pathLst>
              <a:path w="1853" h="2067">
                <a:moveTo>
                  <a:pt x="106" y="9"/>
                </a:moveTo>
                <a:cubicBezTo>
                  <a:pt x="93" y="-21"/>
                  <a:pt x="115" y="30"/>
                  <a:pt x="102" y="0"/>
                </a:cubicBezTo>
                <a:cubicBezTo>
                  <a:pt x="97" y="15"/>
                  <a:pt x="91" y="31"/>
                  <a:pt x="89" y="47"/>
                </a:cubicBezTo>
                <a:cubicBezTo>
                  <a:pt x="79" y="114"/>
                  <a:pt x="65" y="181"/>
                  <a:pt x="55" y="248"/>
                </a:cubicBezTo>
                <a:cubicBezTo>
                  <a:pt x="40" y="353"/>
                  <a:pt x="21" y="458"/>
                  <a:pt x="12" y="564"/>
                </a:cubicBezTo>
                <a:cubicBezTo>
                  <a:pt x="6" y="635"/>
                  <a:pt x="0" y="705"/>
                  <a:pt x="0" y="777"/>
                </a:cubicBezTo>
                <a:cubicBezTo>
                  <a:pt x="0" y="796"/>
                  <a:pt x="-1" y="800"/>
                  <a:pt x="4" y="811"/>
                </a:cubicBezTo>
                <a:cubicBezTo>
                  <a:pt x="25" y="765"/>
                  <a:pt x="35" y="739"/>
                  <a:pt x="46" y="688"/>
                </a:cubicBezTo>
              </a:path>
              <a:path w="1853" h="2067">
                <a:moveTo>
                  <a:pt x="285" y="355"/>
                </a:moveTo>
                <a:cubicBezTo>
                  <a:pt x="276" y="435"/>
                  <a:pt x="262" y="516"/>
                  <a:pt x="243" y="594"/>
                </a:cubicBezTo>
                <a:cubicBezTo>
                  <a:pt x="233" y="633"/>
                  <a:pt x="228" y="676"/>
                  <a:pt x="217" y="713"/>
                </a:cubicBezTo>
                <a:cubicBezTo>
                  <a:pt x="216" y="714"/>
                  <a:pt x="214" y="716"/>
                  <a:pt x="213" y="717"/>
                </a:cubicBezTo>
                <a:cubicBezTo>
                  <a:pt x="222" y="682"/>
                  <a:pt x="214" y="647"/>
                  <a:pt x="221" y="611"/>
                </a:cubicBezTo>
                <a:cubicBezTo>
                  <a:pt x="241" y="545"/>
                  <a:pt x="247" y="519"/>
                  <a:pt x="243" y="470"/>
                </a:cubicBezTo>
              </a:path>
              <a:path w="1853" h="2067">
                <a:moveTo>
                  <a:pt x="324" y="146"/>
                </a:moveTo>
                <a:cubicBezTo>
                  <a:pt x="303" y="159"/>
                  <a:pt x="302" y="166"/>
                  <a:pt x="290" y="184"/>
                </a:cubicBezTo>
                <a:cubicBezTo>
                  <a:pt x="290" y="193"/>
                  <a:pt x="305" y="163"/>
                  <a:pt x="307" y="158"/>
                </a:cubicBezTo>
                <a:cubicBezTo>
                  <a:pt x="320" y="121"/>
                  <a:pt x="333" y="106"/>
                  <a:pt x="349" y="69"/>
                </a:cubicBezTo>
              </a:path>
              <a:path w="1853" h="2067">
                <a:moveTo>
                  <a:pt x="503" y="269"/>
                </a:moveTo>
                <a:cubicBezTo>
                  <a:pt x="480" y="341"/>
                  <a:pt x="459" y="416"/>
                  <a:pt x="443" y="491"/>
                </a:cubicBezTo>
                <a:cubicBezTo>
                  <a:pt x="435" y="531"/>
                  <a:pt x="412" y="584"/>
                  <a:pt x="409" y="624"/>
                </a:cubicBezTo>
                <a:cubicBezTo>
                  <a:pt x="407" y="658"/>
                  <a:pt x="412" y="635"/>
                  <a:pt x="418" y="641"/>
                </a:cubicBezTo>
                <a:cubicBezTo>
                  <a:pt x="441" y="599"/>
                  <a:pt x="462" y="557"/>
                  <a:pt x="482" y="513"/>
                </a:cubicBezTo>
                <a:cubicBezTo>
                  <a:pt x="518" y="433"/>
                  <a:pt x="555" y="353"/>
                  <a:pt x="593" y="274"/>
                </a:cubicBezTo>
                <a:cubicBezTo>
                  <a:pt x="614" y="229"/>
                  <a:pt x="631" y="182"/>
                  <a:pt x="670" y="150"/>
                </a:cubicBezTo>
                <a:cubicBezTo>
                  <a:pt x="685" y="195"/>
                  <a:pt x="688" y="231"/>
                  <a:pt x="691" y="282"/>
                </a:cubicBezTo>
                <a:cubicBezTo>
                  <a:pt x="697" y="373"/>
                  <a:pt x="695" y="464"/>
                  <a:pt x="691" y="555"/>
                </a:cubicBezTo>
                <a:cubicBezTo>
                  <a:pt x="689" y="602"/>
                  <a:pt x="670" y="679"/>
                  <a:pt x="682" y="726"/>
                </a:cubicBezTo>
                <a:cubicBezTo>
                  <a:pt x="685" y="729"/>
                  <a:pt x="688" y="731"/>
                  <a:pt x="691" y="734"/>
                </a:cubicBezTo>
                <a:cubicBezTo>
                  <a:pt x="716" y="692"/>
                  <a:pt x="723" y="660"/>
                  <a:pt x="738" y="611"/>
                </a:cubicBezTo>
                <a:cubicBezTo>
                  <a:pt x="745" y="592"/>
                  <a:pt x="752" y="574"/>
                  <a:pt x="759" y="555"/>
                </a:cubicBezTo>
              </a:path>
              <a:path w="1853" h="2067">
                <a:moveTo>
                  <a:pt x="934" y="389"/>
                </a:moveTo>
                <a:cubicBezTo>
                  <a:pt x="957" y="396"/>
                  <a:pt x="973" y="399"/>
                  <a:pt x="998" y="397"/>
                </a:cubicBezTo>
                <a:cubicBezTo>
                  <a:pt x="1039" y="393"/>
                  <a:pt x="1079" y="383"/>
                  <a:pt x="1118" y="372"/>
                </a:cubicBezTo>
                <a:cubicBezTo>
                  <a:pt x="1155" y="361"/>
                  <a:pt x="1193" y="353"/>
                  <a:pt x="1224" y="329"/>
                </a:cubicBezTo>
                <a:cubicBezTo>
                  <a:pt x="1246" y="312"/>
                  <a:pt x="1260" y="285"/>
                  <a:pt x="1258" y="257"/>
                </a:cubicBezTo>
                <a:cubicBezTo>
                  <a:pt x="1255" y="213"/>
                  <a:pt x="1222" y="168"/>
                  <a:pt x="1182" y="150"/>
                </a:cubicBezTo>
                <a:cubicBezTo>
                  <a:pt x="1153" y="137"/>
                  <a:pt x="1126" y="150"/>
                  <a:pt x="1105" y="171"/>
                </a:cubicBezTo>
                <a:cubicBezTo>
                  <a:pt x="1062" y="214"/>
                  <a:pt x="1049" y="265"/>
                  <a:pt x="1024" y="316"/>
                </a:cubicBezTo>
                <a:cubicBezTo>
                  <a:pt x="995" y="375"/>
                  <a:pt x="977" y="436"/>
                  <a:pt x="973" y="504"/>
                </a:cubicBezTo>
                <a:cubicBezTo>
                  <a:pt x="970" y="549"/>
                  <a:pt x="981" y="600"/>
                  <a:pt x="1028" y="619"/>
                </a:cubicBezTo>
                <a:cubicBezTo>
                  <a:pt x="1061" y="632"/>
                  <a:pt x="1143" y="614"/>
                  <a:pt x="1169" y="594"/>
                </a:cubicBezTo>
                <a:cubicBezTo>
                  <a:pt x="1194" y="560"/>
                  <a:pt x="1203" y="548"/>
                  <a:pt x="1229" y="534"/>
                </a:cubicBezTo>
              </a:path>
              <a:path w="1853" h="2067">
                <a:moveTo>
                  <a:pt x="1638" y="346"/>
                </a:moveTo>
                <a:cubicBezTo>
                  <a:pt x="1653" y="366"/>
                  <a:pt x="1666" y="386"/>
                  <a:pt x="1681" y="406"/>
                </a:cubicBezTo>
                <a:cubicBezTo>
                  <a:pt x="1719" y="456"/>
                  <a:pt x="1748" y="511"/>
                  <a:pt x="1775" y="568"/>
                </a:cubicBezTo>
                <a:cubicBezTo>
                  <a:pt x="1819" y="663"/>
                  <a:pt x="1842" y="752"/>
                  <a:pt x="1847" y="858"/>
                </a:cubicBezTo>
                <a:cubicBezTo>
                  <a:pt x="1853" y="985"/>
                  <a:pt x="1837" y="1119"/>
                  <a:pt x="1805" y="1242"/>
                </a:cubicBezTo>
                <a:cubicBezTo>
                  <a:pt x="1774" y="1359"/>
                  <a:pt x="1723" y="1471"/>
                  <a:pt x="1681" y="1584"/>
                </a:cubicBezTo>
                <a:cubicBezTo>
                  <a:pt x="1656" y="1652"/>
                  <a:pt x="1623" y="1717"/>
                  <a:pt x="1596" y="1784"/>
                </a:cubicBezTo>
                <a:cubicBezTo>
                  <a:pt x="1586" y="1809"/>
                  <a:pt x="1579" y="1833"/>
                  <a:pt x="1566" y="1857"/>
                </a:cubicBezTo>
                <a:cubicBezTo>
                  <a:pt x="1562" y="1865"/>
                  <a:pt x="1553" y="1871"/>
                  <a:pt x="1549" y="1878"/>
                </a:cubicBezTo>
                <a:cubicBezTo>
                  <a:pt x="1545" y="1885"/>
                  <a:pt x="1536" y="1892"/>
                  <a:pt x="1532" y="1899"/>
                </a:cubicBezTo>
                <a:cubicBezTo>
                  <a:pt x="1528" y="1906"/>
                  <a:pt x="1522" y="1918"/>
                  <a:pt x="1519" y="1925"/>
                </a:cubicBezTo>
                <a:cubicBezTo>
                  <a:pt x="1516" y="1931"/>
                  <a:pt x="1515" y="1939"/>
                  <a:pt x="1514" y="1942"/>
                </a:cubicBezTo>
                <a:cubicBezTo>
                  <a:pt x="1503" y="1914"/>
                  <a:pt x="1493" y="1888"/>
                  <a:pt x="1485" y="1857"/>
                </a:cubicBezTo>
                <a:cubicBezTo>
                  <a:pt x="1471" y="1804"/>
                  <a:pt x="1459" y="1751"/>
                  <a:pt x="1442" y="1699"/>
                </a:cubicBezTo>
                <a:cubicBezTo>
                  <a:pt x="1431" y="1665"/>
                  <a:pt x="1428" y="1634"/>
                  <a:pt x="1421" y="1601"/>
                </a:cubicBezTo>
                <a:cubicBezTo>
                  <a:pt x="1421" y="1605"/>
                  <a:pt x="1421" y="1641"/>
                  <a:pt x="1421" y="1652"/>
                </a:cubicBezTo>
                <a:cubicBezTo>
                  <a:pt x="1423" y="1715"/>
                  <a:pt x="1431" y="1772"/>
                  <a:pt x="1438" y="1835"/>
                </a:cubicBezTo>
                <a:cubicBezTo>
                  <a:pt x="1445" y="1896"/>
                  <a:pt x="1453" y="1957"/>
                  <a:pt x="1476" y="2015"/>
                </a:cubicBezTo>
                <a:cubicBezTo>
                  <a:pt x="1488" y="2044"/>
                  <a:pt x="1497" y="2081"/>
                  <a:pt x="1540" y="2066"/>
                </a:cubicBezTo>
                <a:cubicBezTo>
                  <a:pt x="1583" y="2051"/>
                  <a:pt x="1630" y="1989"/>
                  <a:pt x="1655" y="1955"/>
                </a:cubicBezTo>
                <a:cubicBezTo>
                  <a:pt x="1707" y="1883"/>
                  <a:pt x="1744" y="1806"/>
                  <a:pt x="1792" y="1733"/>
                </a:cubicBezTo>
                <a:cubicBezTo>
                  <a:pt x="1827" y="1689"/>
                  <a:pt x="1838" y="1677"/>
                  <a:pt x="1852" y="1643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3" name="Freeform 19"/>
          <p:cNvSpPr/>
          <p:nvPr/>
        </p:nvSpPr>
        <p:spPr>
          <a:xfrm>
            <a:off x="831960" y="2611440"/>
            <a:ext cx="7370640" cy="203040"/>
          </a:xfrm>
          <a:custGeom>
            <a:avLst/>
            <a:gdLst/>
            <a:ahLst/>
            <a:rect l="l" t="t" r="r" b="b"/>
            <a:pathLst>
              <a:path w="20476" h="564">
                <a:moveTo>
                  <a:pt x="0" y="508"/>
                </a:moveTo>
                <a:cubicBezTo>
                  <a:pt x="15" y="508"/>
                  <a:pt x="23" y="508"/>
                  <a:pt x="38" y="508"/>
                </a:cubicBezTo>
                <a:cubicBezTo>
                  <a:pt x="994" y="518"/>
                  <a:pt x="1944" y="554"/>
                  <a:pt x="2902" y="538"/>
                </a:cubicBezTo>
                <a:cubicBezTo>
                  <a:pt x="6273" y="483"/>
                  <a:pt x="9630" y="330"/>
                  <a:pt x="12998" y="188"/>
                </a:cubicBezTo>
                <a:cubicBezTo>
                  <a:pt x="14575" y="121"/>
                  <a:pt x="16161" y="74"/>
                  <a:pt x="17739" y="64"/>
                </a:cubicBezTo>
                <a:cubicBezTo>
                  <a:pt x="18552" y="59"/>
                  <a:pt x="19395" y="118"/>
                  <a:pt x="20206" y="43"/>
                </a:cubicBezTo>
                <a:cubicBezTo>
                  <a:pt x="20289" y="35"/>
                  <a:pt x="20405" y="18"/>
                  <a:pt x="20471" y="9"/>
                </a:cubicBezTo>
                <a:cubicBezTo>
                  <a:pt x="20488" y="7"/>
                  <a:pt x="20419" y="2"/>
                  <a:pt x="20436" y="0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gesture_girl"/>
          <p:cNvPicPr/>
          <p:nvPr/>
        </p:nvPicPr>
        <p:blipFill>
          <a:blip r:embed="rId1"/>
          <a:stretch/>
        </p:blipFill>
        <p:spPr>
          <a:xfrm>
            <a:off x="990720" y="533520"/>
            <a:ext cx="2895480" cy="57150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4572000" y="68580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In order for figures to seem life-like they need to have 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sture.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figuresketch"/>
          <p:cNvPicPr/>
          <p:nvPr/>
        </p:nvPicPr>
        <p:blipFill>
          <a:blip r:embed="rId1"/>
          <a:stretch/>
        </p:blipFill>
        <p:spPr>
          <a:xfrm>
            <a:off x="2514600" y="457200"/>
            <a:ext cx="4216320" cy="57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javelin"/>
          <p:cNvPicPr/>
          <p:nvPr/>
        </p:nvPicPr>
        <p:blipFill>
          <a:blip r:embed="rId1"/>
          <a:stretch/>
        </p:blipFill>
        <p:spPr>
          <a:xfrm>
            <a:off x="1219320" y="30492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javelin"/>
          <p:cNvPicPr/>
          <p:nvPr/>
        </p:nvPicPr>
        <p:blipFill>
          <a:blip r:embed="rId1"/>
          <a:stretch/>
        </p:blipFill>
        <p:spPr>
          <a:xfrm>
            <a:off x="1219320" y="304920"/>
            <a:ext cx="6553080" cy="6553080"/>
          </a:xfrm>
          <a:prstGeom prst="rect">
            <a:avLst/>
          </a:prstGeom>
          <a:ln w="0">
            <a:noFill/>
          </a:ln>
        </p:spPr>
      </p:pic>
      <p:sp>
        <p:nvSpPr>
          <p:cNvPr id="312" name="Freeform 4"/>
          <p:cNvSpPr/>
          <p:nvPr/>
        </p:nvSpPr>
        <p:spPr>
          <a:xfrm>
            <a:off x="2495520" y="1031760"/>
            <a:ext cx="3305160" cy="2571840"/>
          </a:xfrm>
          <a:custGeom>
            <a:avLst/>
            <a:gdLst/>
            <a:ahLst/>
            <a:rect l="l" t="t" r="r" b="b"/>
            <a:pathLst>
              <a:path w="9181" h="7145">
                <a:moveTo>
                  <a:pt x="6043" y="2437"/>
                </a:moveTo>
                <a:cubicBezTo>
                  <a:pt x="5891" y="2368"/>
                  <a:pt x="5756" y="2270"/>
                  <a:pt x="5587" y="2330"/>
                </a:cubicBezTo>
                <a:cubicBezTo>
                  <a:pt x="5570" y="2350"/>
                  <a:pt x="5565" y="2355"/>
                  <a:pt x="5565" y="2373"/>
                </a:cubicBezTo>
                <a:cubicBezTo>
                  <a:pt x="5622" y="2455"/>
                  <a:pt x="5632" y="2505"/>
                  <a:pt x="5736" y="2565"/>
                </a:cubicBezTo>
                <a:cubicBezTo>
                  <a:pt x="6040" y="2740"/>
                  <a:pt x="6431" y="2813"/>
                  <a:pt x="6764" y="2915"/>
                </a:cubicBezTo>
                <a:cubicBezTo>
                  <a:pt x="6956" y="2974"/>
                  <a:pt x="7129" y="3006"/>
                  <a:pt x="7328" y="3017"/>
                </a:cubicBezTo>
                <a:cubicBezTo>
                  <a:pt x="7305" y="3004"/>
                  <a:pt x="7305" y="2994"/>
                  <a:pt x="7281" y="2983"/>
                </a:cubicBezTo>
                <a:cubicBezTo>
                  <a:pt x="7007" y="2856"/>
                  <a:pt x="6429" y="2507"/>
                  <a:pt x="6124" y="2676"/>
                </a:cubicBezTo>
                <a:cubicBezTo>
                  <a:pt x="6029" y="2729"/>
                  <a:pt x="6036" y="2804"/>
                  <a:pt x="6073" y="2894"/>
                </a:cubicBezTo>
                <a:cubicBezTo>
                  <a:pt x="6113" y="2991"/>
                  <a:pt x="6247" y="3058"/>
                  <a:pt x="6333" y="3103"/>
                </a:cubicBezTo>
                <a:cubicBezTo>
                  <a:pt x="6630" y="3257"/>
                  <a:pt x="6995" y="3324"/>
                  <a:pt x="7328" y="3320"/>
                </a:cubicBezTo>
                <a:cubicBezTo>
                  <a:pt x="7379" y="3319"/>
                  <a:pt x="7609" y="3247"/>
                  <a:pt x="7648" y="3273"/>
                </a:cubicBezTo>
                <a:cubicBezTo>
                  <a:pt x="7730" y="3328"/>
                  <a:pt x="7740" y="3446"/>
                  <a:pt x="7767" y="3534"/>
                </a:cubicBezTo>
                <a:cubicBezTo>
                  <a:pt x="8033" y="4388"/>
                  <a:pt x="8127" y="5297"/>
                  <a:pt x="8382" y="6158"/>
                </a:cubicBezTo>
                <a:cubicBezTo>
                  <a:pt x="8388" y="6174"/>
                  <a:pt x="8393" y="6189"/>
                  <a:pt x="8399" y="6205"/>
                </a:cubicBezTo>
                <a:cubicBezTo>
                  <a:pt x="8392" y="6172"/>
                  <a:pt x="8396" y="6200"/>
                  <a:pt x="8390" y="6167"/>
                </a:cubicBezTo>
                <a:cubicBezTo>
                  <a:pt x="8267" y="5524"/>
                  <a:pt x="8148" y="4880"/>
                  <a:pt x="8023" y="4238"/>
                </a:cubicBezTo>
                <a:cubicBezTo>
                  <a:pt x="7993" y="4086"/>
                  <a:pt x="7964" y="3932"/>
                  <a:pt x="7934" y="3781"/>
                </a:cubicBezTo>
                <a:cubicBezTo>
                  <a:pt x="8070" y="4127"/>
                  <a:pt x="8185" y="4482"/>
                  <a:pt x="8288" y="4840"/>
                </a:cubicBezTo>
                <a:cubicBezTo>
                  <a:pt x="8401" y="5231"/>
                  <a:pt x="8496" y="5628"/>
                  <a:pt x="8578" y="6026"/>
                </a:cubicBezTo>
                <a:cubicBezTo>
                  <a:pt x="8611" y="6186"/>
                  <a:pt x="8666" y="6364"/>
                  <a:pt x="8651" y="6529"/>
                </a:cubicBezTo>
                <a:cubicBezTo>
                  <a:pt x="8650" y="6543"/>
                  <a:pt x="8648" y="6535"/>
                  <a:pt x="8646" y="6546"/>
                </a:cubicBezTo>
                <a:cubicBezTo>
                  <a:pt x="8636" y="6589"/>
                  <a:pt x="8657" y="6595"/>
                  <a:pt x="8633" y="6623"/>
                </a:cubicBezTo>
                <a:cubicBezTo>
                  <a:pt x="8619" y="6640"/>
                  <a:pt x="8557" y="6641"/>
                  <a:pt x="8535" y="6662"/>
                </a:cubicBezTo>
                <a:cubicBezTo>
                  <a:pt x="8450" y="6744"/>
                  <a:pt x="8239" y="7080"/>
                  <a:pt x="8463" y="7144"/>
                </a:cubicBezTo>
                <a:cubicBezTo>
                  <a:pt x="8717" y="7216"/>
                  <a:pt x="8932" y="6807"/>
                  <a:pt x="8996" y="6632"/>
                </a:cubicBezTo>
                <a:cubicBezTo>
                  <a:pt x="9069" y="6432"/>
                  <a:pt x="9080" y="6175"/>
                  <a:pt x="8966" y="5987"/>
                </a:cubicBezTo>
                <a:cubicBezTo>
                  <a:pt x="8893" y="5866"/>
                  <a:pt x="8775" y="5786"/>
                  <a:pt x="8629" y="5812"/>
                </a:cubicBezTo>
                <a:cubicBezTo>
                  <a:pt x="8470" y="5840"/>
                  <a:pt x="8376" y="5984"/>
                  <a:pt x="8301" y="6111"/>
                </a:cubicBezTo>
                <a:cubicBezTo>
                  <a:pt x="8137" y="6390"/>
                  <a:pt x="8123" y="6875"/>
                  <a:pt x="8437" y="7059"/>
                </a:cubicBezTo>
                <a:cubicBezTo>
                  <a:pt x="8558" y="7130"/>
                  <a:pt x="8706" y="7128"/>
                  <a:pt x="8838" y="7097"/>
                </a:cubicBezTo>
                <a:cubicBezTo>
                  <a:pt x="9024" y="7053"/>
                  <a:pt x="9075" y="6937"/>
                  <a:pt x="9180" y="6803"/>
                </a:cubicBezTo>
              </a:path>
              <a:path w="9181" h="7145">
                <a:moveTo>
                  <a:pt x="2096" y="1319"/>
                </a:moveTo>
                <a:cubicBezTo>
                  <a:pt x="2226" y="1301"/>
                  <a:pt x="2356" y="1280"/>
                  <a:pt x="2488" y="1276"/>
                </a:cubicBezTo>
                <a:cubicBezTo>
                  <a:pt x="2674" y="1270"/>
                  <a:pt x="2860" y="1256"/>
                  <a:pt x="3047" y="1263"/>
                </a:cubicBezTo>
                <a:cubicBezTo>
                  <a:pt x="3299" y="1272"/>
                  <a:pt x="3512" y="1286"/>
                  <a:pt x="3683" y="1485"/>
                </a:cubicBezTo>
                <a:cubicBezTo>
                  <a:pt x="3790" y="1610"/>
                  <a:pt x="3859" y="1773"/>
                  <a:pt x="3939" y="1916"/>
                </a:cubicBezTo>
                <a:cubicBezTo>
                  <a:pt x="3982" y="1994"/>
                  <a:pt x="4024" y="2075"/>
                  <a:pt x="4076" y="2147"/>
                </a:cubicBezTo>
                <a:cubicBezTo>
                  <a:pt x="4091" y="2168"/>
                  <a:pt x="4112" y="2186"/>
                  <a:pt x="4127" y="2207"/>
                </a:cubicBezTo>
                <a:cubicBezTo>
                  <a:pt x="4111" y="2179"/>
                  <a:pt x="4098" y="2142"/>
                  <a:pt x="4080" y="2113"/>
                </a:cubicBezTo>
                <a:cubicBezTo>
                  <a:pt x="3797" y="1663"/>
                  <a:pt x="3211" y="1171"/>
                  <a:pt x="2646" y="1204"/>
                </a:cubicBezTo>
                <a:cubicBezTo>
                  <a:pt x="2610" y="1207"/>
                  <a:pt x="2600" y="1204"/>
                  <a:pt x="2587" y="1225"/>
                </a:cubicBezTo>
                <a:cubicBezTo>
                  <a:pt x="2613" y="1250"/>
                  <a:pt x="2621" y="1299"/>
                  <a:pt x="2676" y="1332"/>
                </a:cubicBezTo>
                <a:cubicBezTo>
                  <a:pt x="2981" y="1517"/>
                  <a:pt x="3362" y="1551"/>
                  <a:pt x="3679" y="1720"/>
                </a:cubicBezTo>
                <a:cubicBezTo>
                  <a:pt x="3851" y="1812"/>
                  <a:pt x="4016" y="1934"/>
                  <a:pt x="4148" y="2079"/>
                </a:cubicBezTo>
                <a:cubicBezTo>
                  <a:pt x="4287" y="2231"/>
                  <a:pt x="4417" y="2417"/>
                  <a:pt x="4507" y="2603"/>
                </a:cubicBezTo>
                <a:cubicBezTo>
                  <a:pt x="4775" y="3157"/>
                  <a:pt x="4747" y="3795"/>
                  <a:pt x="4648" y="4387"/>
                </a:cubicBezTo>
                <a:cubicBezTo>
                  <a:pt x="4618" y="4567"/>
                  <a:pt x="4585" y="4765"/>
                  <a:pt x="4503" y="4929"/>
                </a:cubicBezTo>
                <a:cubicBezTo>
                  <a:pt x="4455" y="5016"/>
                  <a:pt x="4438" y="5046"/>
                  <a:pt x="4404" y="5104"/>
                </a:cubicBezTo>
              </a:path>
              <a:path w="9181" h="7145">
                <a:moveTo>
                  <a:pt x="4989" y="1788"/>
                </a:moveTo>
                <a:cubicBezTo>
                  <a:pt x="4883" y="1788"/>
                  <a:pt x="4797" y="1797"/>
                  <a:pt x="4703" y="1852"/>
                </a:cubicBezTo>
                <a:cubicBezTo>
                  <a:pt x="4580" y="1923"/>
                  <a:pt x="4480" y="2044"/>
                  <a:pt x="4413" y="2168"/>
                </a:cubicBezTo>
                <a:cubicBezTo>
                  <a:pt x="4323" y="2334"/>
                  <a:pt x="4261" y="2521"/>
                  <a:pt x="4247" y="2710"/>
                </a:cubicBezTo>
                <a:cubicBezTo>
                  <a:pt x="4231" y="2920"/>
                  <a:pt x="4263" y="3137"/>
                  <a:pt x="4434" y="3278"/>
                </a:cubicBezTo>
                <a:cubicBezTo>
                  <a:pt x="4593" y="3409"/>
                  <a:pt x="4815" y="3400"/>
                  <a:pt x="5002" y="3350"/>
                </a:cubicBezTo>
                <a:cubicBezTo>
                  <a:pt x="5266" y="3279"/>
                  <a:pt x="5493" y="3107"/>
                  <a:pt x="5629" y="2872"/>
                </a:cubicBezTo>
                <a:cubicBezTo>
                  <a:pt x="5720" y="2714"/>
                  <a:pt x="5738" y="2562"/>
                  <a:pt x="5697" y="2386"/>
                </a:cubicBezTo>
                <a:cubicBezTo>
                  <a:pt x="5637" y="2128"/>
                  <a:pt x="5465" y="1904"/>
                  <a:pt x="5215" y="1810"/>
                </a:cubicBezTo>
                <a:cubicBezTo>
                  <a:pt x="5038" y="1743"/>
                  <a:pt x="4852" y="1761"/>
                  <a:pt x="4673" y="1810"/>
                </a:cubicBezTo>
                <a:cubicBezTo>
                  <a:pt x="4367" y="1895"/>
                  <a:pt x="4091" y="2169"/>
                  <a:pt x="4046" y="2492"/>
                </a:cubicBezTo>
                <a:cubicBezTo>
                  <a:pt x="4046" y="2676"/>
                  <a:pt x="4046" y="2734"/>
                  <a:pt x="4059" y="2855"/>
                </a:cubicBezTo>
              </a:path>
              <a:path w="9181" h="7145">
                <a:moveTo>
                  <a:pt x="146" y="675"/>
                </a:moveTo>
                <a:cubicBezTo>
                  <a:pt x="127" y="785"/>
                  <a:pt x="107" y="897"/>
                  <a:pt x="107" y="1012"/>
                </a:cubicBezTo>
                <a:cubicBezTo>
                  <a:pt x="106" y="1244"/>
                  <a:pt x="131" y="1470"/>
                  <a:pt x="163" y="1699"/>
                </a:cubicBezTo>
                <a:cubicBezTo>
                  <a:pt x="208" y="2020"/>
                  <a:pt x="290" y="2372"/>
                  <a:pt x="508" y="2625"/>
                </a:cubicBezTo>
                <a:cubicBezTo>
                  <a:pt x="601" y="2733"/>
                  <a:pt x="727" y="2809"/>
                  <a:pt x="871" y="2821"/>
                </a:cubicBezTo>
                <a:cubicBezTo>
                  <a:pt x="1023" y="2834"/>
                  <a:pt x="1149" y="2781"/>
                  <a:pt x="1276" y="2706"/>
                </a:cubicBezTo>
                <a:cubicBezTo>
                  <a:pt x="1526" y="2557"/>
                  <a:pt x="1634" y="2294"/>
                  <a:pt x="1673" y="2014"/>
                </a:cubicBezTo>
                <a:cubicBezTo>
                  <a:pt x="1709" y="1760"/>
                  <a:pt x="1681" y="1494"/>
                  <a:pt x="1643" y="1242"/>
                </a:cubicBezTo>
                <a:cubicBezTo>
                  <a:pt x="1597" y="938"/>
                  <a:pt x="1524" y="631"/>
                  <a:pt x="1400" y="350"/>
                </a:cubicBezTo>
                <a:cubicBezTo>
                  <a:pt x="1311" y="149"/>
                  <a:pt x="1161" y="12"/>
                  <a:pt x="931" y="47"/>
                </a:cubicBezTo>
                <a:cubicBezTo>
                  <a:pt x="672" y="86"/>
                  <a:pt x="461" y="263"/>
                  <a:pt x="321" y="474"/>
                </a:cubicBezTo>
                <a:cubicBezTo>
                  <a:pt x="175" y="694"/>
                  <a:pt x="105" y="964"/>
                  <a:pt x="56" y="1221"/>
                </a:cubicBezTo>
                <a:cubicBezTo>
                  <a:pt x="-3" y="1531"/>
                  <a:pt x="-15" y="1849"/>
                  <a:pt x="5" y="2164"/>
                </a:cubicBezTo>
                <a:cubicBezTo>
                  <a:pt x="23" y="2447"/>
                  <a:pt x="79" y="2748"/>
                  <a:pt x="205" y="3005"/>
                </a:cubicBezTo>
                <a:cubicBezTo>
                  <a:pt x="330" y="3260"/>
                  <a:pt x="574" y="3429"/>
                  <a:pt x="862" y="3389"/>
                </a:cubicBezTo>
                <a:cubicBezTo>
                  <a:pt x="1033" y="3365"/>
                  <a:pt x="1197" y="3264"/>
                  <a:pt x="1311" y="3137"/>
                </a:cubicBezTo>
                <a:cubicBezTo>
                  <a:pt x="1455" y="2976"/>
                  <a:pt x="1504" y="2743"/>
                  <a:pt x="1528" y="2535"/>
                </a:cubicBezTo>
                <a:cubicBezTo>
                  <a:pt x="1564" y="2225"/>
                  <a:pt x="1523" y="1895"/>
                  <a:pt x="1477" y="1588"/>
                </a:cubicBezTo>
                <a:cubicBezTo>
                  <a:pt x="1426" y="1247"/>
                  <a:pt x="1341" y="903"/>
                  <a:pt x="1217" y="581"/>
                </a:cubicBezTo>
                <a:cubicBezTo>
                  <a:pt x="1143" y="388"/>
                  <a:pt x="1043" y="132"/>
                  <a:pt x="850" y="26"/>
                </a:cubicBezTo>
                <a:cubicBezTo>
                  <a:pt x="819" y="17"/>
                  <a:pt x="787" y="9"/>
                  <a:pt x="756" y="0"/>
                </a:cubicBezTo>
                <a:cubicBezTo>
                  <a:pt x="572" y="68"/>
                  <a:pt x="498" y="164"/>
                  <a:pt x="423" y="354"/>
                </a:cubicBezTo>
                <a:cubicBezTo>
                  <a:pt x="331" y="588"/>
                  <a:pt x="327" y="803"/>
                  <a:pt x="312" y="1050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3" name="Freeform 5"/>
          <p:cNvSpPr/>
          <p:nvPr/>
        </p:nvSpPr>
        <p:spPr>
          <a:xfrm>
            <a:off x="1800360" y="1577880"/>
            <a:ext cx="2862000" cy="4918320"/>
          </a:xfrm>
          <a:custGeom>
            <a:avLst/>
            <a:gdLst/>
            <a:ahLst/>
            <a:rect l="l" t="t" r="r" b="b"/>
            <a:pathLst>
              <a:path w="7951" h="13661">
                <a:moveTo>
                  <a:pt x="5462" y="704"/>
                </a:moveTo>
                <a:cubicBezTo>
                  <a:pt x="5501" y="948"/>
                  <a:pt x="5551" y="1164"/>
                  <a:pt x="5692" y="1374"/>
                </a:cubicBezTo>
                <a:cubicBezTo>
                  <a:pt x="5886" y="1664"/>
                  <a:pt x="6238" y="1914"/>
                  <a:pt x="6597" y="1929"/>
                </a:cubicBezTo>
                <a:cubicBezTo>
                  <a:pt x="6813" y="1938"/>
                  <a:pt x="7042" y="1862"/>
                  <a:pt x="7224" y="1750"/>
                </a:cubicBezTo>
                <a:cubicBezTo>
                  <a:pt x="7513" y="1571"/>
                  <a:pt x="7700" y="1287"/>
                  <a:pt x="7707" y="943"/>
                </a:cubicBezTo>
                <a:cubicBezTo>
                  <a:pt x="7713" y="657"/>
                  <a:pt x="7565" y="360"/>
                  <a:pt x="7348" y="179"/>
                </a:cubicBezTo>
                <a:cubicBezTo>
                  <a:pt x="7184" y="42"/>
                  <a:pt x="6954" y="-29"/>
                  <a:pt x="6742" y="4"/>
                </a:cubicBezTo>
                <a:cubicBezTo>
                  <a:pt x="6430" y="52"/>
                  <a:pt x="6221" y="292"/>
                  <a:pt x="6085" y="559"/>
                </a:cubicBezTo>
                <a:cubicBezTo>
                  <a:pt x="5962" y="800"/>
                  <a:pt x="5913" y="1075"/>
                  <a:pt x="5940" y="1344"/>
                </a:cubicBezTo>
                <a:cubicBezTo>
                  <a:pt x="5974" y="1691"/>
                  <a:pt x="6190" y="1979"/>
                  <a:pt x="6533" y="2070"/>
                </a:cubicBezTo>
                <a:cubicBezTo>
                  <a:pt x="6873" y="2160"/>
                  <a:pt x="7241" y="2043"/>
                  <a:pt x="7527" y="1857"/>
                </a:cubicBezTo>
                <a:cubicBezTo>
                  <a:pt x="7698" y="1746"/>
                  <a:pt x="7857" y="1598"/>
                  <a:pt x="7924" y="1400"/>
                </a:cubicBezTo>
                <a:cubicBezTo>
                  <a:pt x="8009" y="1150"/>
                  <a:pt x="7895" y="890"/>
                  <a:pt x="7728" y="704"/>
                </a:cubicBezTo>
                <a:cubicBezTo>
                  <a:pt x="7499" y="448"/>
                  <a:pt x="7137" y="241"/>
                  <a:pt x="6785" y="295"/>
                </a:cubicBezTo>
                <a:cubicBezTo>
                  <a:pt x="6515" y="337"/>
                  <a:pt x="6335" y="560"/>
                  <a:pt x="6273" y="815"/>
                </a:cubicBezTo>
                <a:cubicBezTo>
                  <a:pt x="6222" y="1027"/>
                  <a:pt x="6236" y="1263"/>
                  <a:pt x="6345" y="1455"/>
                </a:cubicBezTo>
                <a:cubicBezTo>
                  <a:pt x="6425" y="1556"/>
                  <a:pt x="6450" y="1589"/>
                  <a:pt x="6524" y="1635"/>
                </a:cubicBezTo>
              </a:path>
              <a:path w="7951" h="13661">
                <a:moveTo>
                  <a:pt x="4702" y="4985"/>
                </a:moveTo>
                <a:cubicBezTo>
                  <a:pt x="4685" y="4993"/>
                  <a:pt x="4724" y="4929"/>
                  <a:pt x="4707" y="4938"/>
                </a:cubicBezTo>
                <a:cubicBezTo>
                  <a:pt x="4651" y="4967"/>
                  <a:pt x="4603" y="5024"/>
                  <a:pt x="4557" y="5066"/>
                </a:cubicBezTo>
                <a:cubicBezTo>
                  <a:pt x="4444" y="5167"/>
                  <a:pt x="4341" y="5279"/>
                  <a:pt x="4229" y="5381"/>
                </a:cubicBezTo>
                <a:cubicBezTo>
                  <a:pt x="4031" y="5561"/>
                  <a:pt x="3843" y="5749"/>
                  <a:pt x="3648" y="5932"/>
                </a:cubicBezTo>
                <a:cubicBezTo>
                  <a:pt x="2865" y="6667"/>
                  <a:pt x="2085" y="7396"/>
                  <a:pt x="1186" y="7989"/>
                </a:cubicBezTo>
                <a:cubicBezTo>
                  <a:pt x="1018" y="8100"/>
                  <a:pt x="835" y="8209"/>
                  <a:pt x="687" y="8347"/>
                </a:cubicBezTo>
                <a:cubicBezTo>
                  <a:pt x="587" y="8440"/>
                  <a:pt x="584" y="8494"/>
                  <a:pt x="550" y="8586"/>
                </a:cubicBezTo>
                <a:cubicBezTo>
                  <a:pt x="628" y="8555"/>
                  <a:pt x="698" y="8559"/>
                  <a:pt x="785" y="8497"/>
                </a:cubicBezTo>
                <a:cubicBezTo>
                  <a:pt x="971" y="8365"/>
                  <a:pt x="1127" y="8169"/>
                  <a:pt x="1271" y="7997"/>
                </a:cubicBezTo>
              </a:path>
              <a:path w="7951" h="13661">
                <a:moveTo>
                  <a:pt x="4199" y="5142"/>
                </a:moveTo>
                <a:cubicBezTo>
                  <a:pt x="4134" y="5219"/>
                  <a:pt x="4079" y="5300"/>
                  <a:pt x="4002" y="5373"/>
                </a:cubicBezTo>
                <a:cubicBezTo>
                  <a:pt x="3456" y="5888"/>
                  <a:pt x="2872" y="6352"/>
                  <a:pt x="2342" y="6888"/>
                </a:cubicBezTo>
                <a:cubicBezTo>
                  <a:pt x="2033" y="7201"/>
                  <a:pt x="1735" y="7523"/>
                  <a:pt x="1438" y="7848"/>
                </a:cubicBezTo>
                <a:cubicBezTo>
                  <a:pt x="1155" y="8158"/>
                  <a:pt x="486" y="8715"/>
                  <a:pt x="418" y="9167"/>
                </a:cubicBezTo>
                <a:cubicBezTo>
                  <a:pt x="404" y="9261"/>
                  <a:pt x="418" y="9267"/>
                  <a:pt x="478" y="9333"/>
                </a:cubicBezTo>
                <a:cubicBezTo>
                  <a:pt x="691" y="9564"/>
                  <a:pt x="1171" y="9649"/>
                  <a:pt x="1429" y="9862"/>
                </a:cubicBezTo>
                <a:cubicBezTo>
                  <a:pt x="1692" y="10079"/>
                  <a:pt x="2175" y="10582"/>
                  <a:pt x="2031" y="10980"/>
                </a:cubicBezTo>
                <a:cubicBezTo>
                  <a:pt x="1998" y="11071"/>
                  <a:pt x="1981" y="11029"/>
                  <a:pt x="1933" y="11057"/>
                </a:cubicBezTo>
                <a:cubicBezTo>
                  <a:pt x="1923" y="11044"/>
                  <a:pt x="1913" y="11032"/>
                  <a:pt x="1903" y="11019"/>
                </a:cubicBezTo>
              </a:path>
              <a:path w="7951" h="13661">
                <a:moveTo>
                  <a:pt x="1549" y="10186"/>
                </a:moveTo>
                <a:cubicBezTo>
                  <a:pt x="1647" y="10453"/>
                  <a:pt x="1752" y="10716"/>
                  <a:pt x="1856" y="10980"/>
                </a:cubicBezTo>
                <a:cubicBezTo>
                  <a:pt x="1950" y="11218"/>
                  <a:pt x="2040" y="11457"/>
                  <a:pt x="2138" y="11693"/>
                </a:cubicBezTo>
                <a:cubicBezTo>
                  <a:pt x="2164" y="11755"/>
                  <a:pt x="2198" y="11832"/>
                  <a:pt x="2223" y="11893"/>
                </a:cubicBezTo>
              </a:path>
              <a:path w="7951" h="13661">
                <a:moveTo>
                  <a:pt x="132" y="8488"/>
                </a:moveTo>
                <a:cubicBezTo>
                  <a:pt x="94" y="8533"/>
                  <a:pt x="15" y="8604"/>
                  <a:pt x="0" y="8663"/>
                </a:cubicBezTo>
                <a:cubicBezTo>
                  <a:pt x="-23" y="8755"/>
                  <a:pt x="49" y="8890"/>
                  <a:pt x="89" y="8966"/>
                </a:cubicBezTo>
                <a:cubicBezTo>
                  <a:pt x="172" y="9125"/>
                  <a:pt x="285" y="9273"/>
                  <a:pt x="414" y="9397"/>
                </a:cubicBezTo>
                <a:cubicBezTo>
                  <a:pt x="553" y="9531"/>
                  <a:pt x="795" y="9704"/>
                  <a:pt x="1002" y="9623"/>
                </a:cubicBezTo>
                <a:cubicBezTo>
                  <a:pt x="1136" y="9570"/>
                  <a:pt x="1210" y="9439"/>
                  <a:pt x="1241" y="9307"/>
                </a:cubicBezTo>
                <a:cubicBezTo>
                  <a:pt x="1294" y="9085"/>
                  <a:pt x="1233" y="8841"/>
                  <a:pt x="1118" y="8650"/>
                </a:cubicBezTo>
                <a:cubicBezTo>
                  <a:pt x="1026" y="8497"/>
                  <a:pt x="849" y="8333"/>
                  <a:pt x="653" y="8369"/>
                </a:cubicBezTo>
                <a:cubicBezTo>
                  <a:pt x="441" y="8407"/>
                  <a:pt x="350" y="8637"/>
                  <a:pt x="311" y="8821"/>
                </a:cubicBezTo>
                <a:cubicBezTo>
                  <a:pt x="270" y="9017"/>
                  <a:pt x="294" y="9229"/>
                  <a:pt x="371" y="9414"/>
                </a:cubicBezTo>
                <a:cubicBezTo>
                  <a:pt x="442" y="9585"/>
                  <a:pt x="566" y="9716"/>
                  <a:pt x="738" y="9785"/>
                </a:cubicBezTo>
                <a:cubicBezTo>
                  <a:pt x="1013" y="9895"/>
                  <a:pt x="1294" y="9715"/>
                  <a:pt x="1382" y="9448"/>
                </a:cubicBezTo>
                <a:cubicBezTo>
                  <a:pt x="1441" y="9269"/>
                  <a:pt x="1396" y="9054"/>
                  <a:pt x="1318" y="8889"/>
                </a:cubicBezTo>
                <a:cubicBezTo>
                  <a:pt x="1226" y="8694"/>
                  <a:pt x="1084" y="8534"/>
                  <a:pt x="896" y="8428"/>
                </a:cubicBezTo>
                <a:cubicBezTo>
                  <a:pt x="708" y="8322"/>
                  <a:pt x="498" y="8321"/>
                  <a:pt x="337" y="8471"/>
                </a:cubicBezTo>
                <a:cubicBezTo>
                  <a:pt x="218" y="8582"/>
                  <a:pt x="155" y="8744"/>
                  <a:pt x="136" y="8902"/>
                </a:cubicBezTo>
                <a:cubicBezTo>
                  <a:pt x="117" y="9060"/>
                  <a:pt x="149" y="9206"/>
                  <a:pt x="247" y="9333"/>
                </a:cubicBezTo>
                <a:cubicBezTo>
                  <a:pt x="343" y="9458"/>
                  <a:pt x="500" y="9531"/>
                  <a:pt x="653" y="9555"/>
                </a:cubicBezTo>
                <a:cubicBezTo>
                  <a:pt x="791" y="9563"/>
                  <a:pt x="841" y="9567"/>
                  <a:pt x="934" y="9576"/>
                </a:cubicBezTo>
              </a:path>
              <a:path w="7951" h="13661">
                <a:moveTo>
                  <a:pt x="1130" y="9282"/>
                </a:moveTo>
                <a:cubicBezTo>
                  <a:pt x="1147" y="9391"/>
                  <a:pt x="1152" y="9484"/>
                  <a:pt x="1199" y="9589"/>
                </a:cubicBezTo>
                <a:cubicBezTo>
                  <a:pt x="1288" y="9785"/>
                  <a:pt x="1403" y="9974"/>
                  <a:pt x="1502" y="10165"/>
                </a:cubicBezTo>
                <a:cubicBezTo>
                  <a:pt x="1734" y="10614"/>
                  <a:pt x="2118" y="11165"/>
                  <a:pt x="2206" y="11672"/>
                </a:cubicBezTo>
                <a:cubicBezTo>
                  <a:pt x="2208" y="11686"/>
                  <a:pt x="2230" y="11714"/>
                  <a:pt x="2227" y="11731"/>
                </a:cubicBezTo>
                <a:cubicBezTo>
                  <a:pt x="2226" y="11737"/>
                  <a:pt x="2200" y="11751"/>
                  <a:pt x="2197" y="11757"/>
                </a:cubicBezTo>
                <a:cubicBezTo>
                  <a:pt x="2038" y="12075"/>
                  <a:pt x="1679" y="12405"/>
                  <a:pt x="1455" y="12679"/>
                </a:cubicBezTo>
                <a:cubicBezTo>
                  <a:pt x="1182" y="13011"/>
                  <a:pt x="916" y="13351"/>
                  <a:pt x="618" y="13660"/>
                </a:cubicBezTo>
                <a:cubicBezTo>
                  <a:pt x="648" y="13614"/>
                  <a:pt x="675" y="13565"/>
                  <a:pt x="708" y="13519"/>
                </a:cubicBezTo>
                <a:cubicBezTo>
                  <a:pt x="1021" y="13076"/>
                  <a:pt x="1320" y="12571"/>
                  <a:pt x="1677" y="12175"/>
                </a:cubicBezTo>
                <a:cubicBezTo>
                  <a:pt x="1650" y="12250"/>
                  <a:pt x="1626" y="12325"/>
                  <a:pt x="1591" y="12401"/>
                </a:cubicBezTo>
                <a:cubicBezTo>
                  <a:pt x="1442" y="12727"/>
                  <a:pt x="1201" y="13030"/>
                  <a:pt x="909" y="13238"/>
                </a:cubicBezTo>
                <a:cubicBezTo>
                  <a:pt x="720" y="13372"/>
                  <a:pt x="509" y="13453"/>
                  <a:pt x="281" y="13485"/>
                </a:cubicBezTo>
                <a:cubicBezTo>
                  <a:pt x="257" y="13485"/>
                  <a:pt x="252" y="13487"/>
                  <a:pt x="239" y="13481"/>
                </a:cubicBezTo>
                <a:cubicBezTo>
                  <a:pt x="277" y="13463"/>
                  <a:pt x="316" y="13444"/>
                  <a:pt x="354" y="13425"/>
                </a:cubicBezTo>
                <a:cubicBezTo>
                  <a:pt x="732" y="13240"/>
                  <a:pt x="1073" y="13012"/>
                  <a:pt x="1391" y="12734"/>
                </a:cubicBezTo>
                <a:cubicBezTo>
                  <a:pt x="1717" y="12448"/>
                  <a:pt x="2171" y="12055"/>
                  <a:pt x="2308" y="11625"/>
                </a:cubicBezTo>
                <a:cubicBezTo>
                  <a:pt x="2329" y="11560"/>
                  <a:pt x="2326" y="11518"/>
                  <a:pt x="2295" y="11462"/>
                </a:cubicBezTo>
                <a:cubicBezTo>
                  <a:pt x="2270" y="11416"/>
                  <a:pt x="2205" y="11392"/>
                  <a:pt x="2167" y="11360"/>
                </a:cubicBezTo>
                <a:cubicBezTo>
                  <a:pt x="1757" y="11020"/>
                  <a:pt x="1375" y="10699"/>
                  <a:pt x="1101" y="10233"/>
                </a:cubicBezTo>
              </a:path>
              <a:path w="7951" h="13661">
                <a:moveTo>
                  <a:pt x="938" y="8027"/>
                </a:moveTo>
                <a:cubicBezTo>
                  <a:pt x="1013" y="7963"/>
                  <a:pt x="1089" y="7897"/>
                  <a:pt x="1165" y="7831"/>
                </a:cubicBezTo>
                <a:cubicBezTo>
                  <a:pt x="1335" y="7683"/>
                  <a:pt x="1500" y="7529"/>
                  <a:pt x="1668" y="7379"/>
                </a:cubicBezTo>
                <a:cubicBezTo>
                  <a:pt x="2272" y="6840"/>
                  <a:pt x="2861" y="6282"/>
                  <a:pt x="3550" y="5851"/>
                </a:cubicBezTo>
                <a:cubicBezTo>
                  <a:pt x="3876" y="5647"/>
                  <a:pt x="4224" y="5496"/>
                  <a:pt x="4583" y="5364"/>
                </a:cubicBezTo>
                <a:cubicBezTo>
                  <a:pt x="4614" y="5350"/>
                  <a:pt x="4618" y="5346"/>
                  <a:pt x="4638" y="5343"/>
                </a:cubicBezTo>
                <a:cubicBezTo>
                  <a:pt x="4598" y="5368"/>
                  <a:pt x="4549" y="5402"/>
                  <a:pt x="4506" y="5428"/>
                </a:cubicBezTo>
                <a:cubicBezTo>
                  <a:pt x="3966" y="5760"/>
                  <a:pt x="3442" y="6134"/>
                  <a:pt x="2944" y="6525"/>
                </a:cubicBezTo>
                <a:cubicBezTo>
                  <a:pt x="2370" y="6975"/>
                  <a:pt x="1819" y="7446"/>
                  <a:pt x="1305" y="7963"/>
                </a:cubicBezTo>
                <a:cubicBezTo>
                  <a:pt x="1256" y="8012"/>
                  <a:pt x="1205" y="8060"/>
                  <a:pt x="1156" y="8108"/>
                </a:cubicBezTo>
                <a:cubicBezTo>
                  <a:pt x="1194" y="8048"/>
                  <a:pt x="1228" y="7979"/>
                  <a:pt x="1271" y="7920"/>
                </a:cubicBezTo>
                <a:cubicBezTo>
                  <a:pt x="1404" y="7738"/>
                  <a:pt x="1554" y="7565"/>
                  <a:pt x="1707" y="7400"/>
                </a:cubicBezTo>
                <a:cubicBezTo>
                  <a:pt x="1960" y="7129"/>
                  <a:pt x="2240" y="6876"/>
                  <a:pt x="2526" y="6640"/>
                </a:cubicBezTo>
                <a:cubicBezTo>
                  <a:pt x="3210" y="6075"/>
                  <a:pt x="3968" y="5543"/>
                  <a:pt x="4788" y="5202"/>
                </a:cubicBezTo>
                <a:cubicBezTo>
                  <a:pt x="4811" y="5191"/>
                  <a:pt x="4833" y="5179"/>
                  <a:pt x="4856" y="5168"/>
                </a:cubicBezTo>
              </a:path>
              <a:path w="7951" h="13661">
                <a:moveTo>
                  <a:pt x="3755" y="4899"/>
                </a:moveTo>
                <a:cubicBezTo>
                  <a:pt x="3768" y="4952"/>
                  <a:pt x="3777" y="5008"/>
                  <a:pt x="3793" y="5061"/>
                </a:cubicBezTo>
                <a:cubicBezTo>
                  <a:pt x="3820" y="5151"/>
                  <a:pt x="3858" y="5240"/>
                  <a:pt x="3896" y="5326"/>
                </a:cubicBezTo>
                <a:cubicBezTo>
                  <a:pt x="4058" y="5692"/>
                  <a:pt x="4327" y="6070"/>
                  <a:pt x="4745" y="6145"/>
                </a:cubicBezTo>
                <a:cubicBezTo>
                  <a:pt x="4932" y="6178"/>
                  <a:pt x="5127" y="6136"/>
                  <a:pt x="5304" y="6077"/>
                </a:cubicBezTo>
                <a:cubicBezTo>
                  <a:pt x="5514" y="6007"/>
                  <a:pt x="5703" y="5895"/>
                  <a:pt x="5889" y="5778"/>
                </a:cubicBezTo>
                <a:cubicBezTo>
                  <a:pt x="6082" y="5657"/>
                  <a:pt x="6250" y="5515"/>
                  <a:pt x="6409" y="5352"/>
                </a:cubicBezTo>
                <a:cubicBezTo>
                  <a:pt x="6638" y="5117"/>
                  <a:pt x="6875" y="4793"/>
                  <a:pt x="6891" y="4451"/>
                </a:cubicBezTo>
                <a:cubicBezTo>
                  <a:pt x="6899" y="4275"/>
                  <a:pt x="6827" y="4087"/>
                  <a:pt x="6661" y="4007"/>
                </a:cubicBezTo>
                <a:cubicBezTo>
                  <a:pt x="6447" y="3904"/>
                  <a:pt x="6199" y="3978"/>
                  <a:pt x="5987" y="4041"/>
                </a:cubicBezTo>
                <a:cubicBezTo>
                  <a:pt x="5517" y="4181"/>
                  <a:pt x="5061" y="4387"/>
                  <a:pt x="4600" y="4554"/>
                </a:cubicBezTo>
                <a:cubicBezTo>
                  <a:pt x="4443" y="4611"/>
                  <a:pt x="4281" y="4652"/>
                  <a:pt x="4126" y="4711"/>
                </a:cubicBezTo>
                <a:cubicBezTo>
                  <a:pt x="4095" y="4723"/>
                  <a:pt x="3883" y="4778"/>
                  <a:pt x="3870" y="4814"/>
                </a:cubicBezTo>
                <a:cubicBezTo>
                  <a:pt x="3856" y="4852"/>
                  <a:pt x="3905" y="4836"/>
                  <a:pt x="3938" y="4848"/>
                </a:cubicBezTo>
                <a:cubicBezTo>
                  <a:pt x="3959" y="4851"/>
                  <a:pt x="3981" y="4853"/>
                  <a:pt x="4002" y="4856"/>
                </a:cubicBezTo>
              </a:path>
              <a:path w="7951" h="13661">
                <a:moveTo>
                  <a:pt x="4310" y="4041"/>
                </a:moveTo>
                <a:cubicBezTo>
                  <a:pt x="4506" y="4106"/>
                  <a:pt x="4662" y="4143"/>
                  <a:pt x="4873" y="4118"/>
                </a:cubicBezTo>
                <a:cubicBezTo>
                  <a:pt x="5304" y="4067"/>
                  <a:pt x="5737" y="3849"/>
                  <a:pt x="6076" y="3585"/>
                </a:cubicBezTo>
                <a:cubicBezTo>
                  <a:pt x="6396" y="3336"/>
                  <a:pt x="6705" y="2966"/>
                  <a:pt x="6670" y="2535"/>
                </a:cubicBezTo>
                <a:cubicBezTo>
                  <a:pt x="6662" y="2436"/>
                  <a:pt x="6618" y="2402"/>
                  <a:pt x="6576" y="2334"/>
                </a:cubicBezTo>
                <a:cubicBezTo>
                  <a:pt x="6563" y="2359"/>
                  <a:pt x="6530" y="2349"/>
                  <a:pt x="6520" y="2394"/>
                </a:cubicBezTo>
                <a:cubicBezTo>
                  <a:pt x="6475" y="2602"/>
                  <a:pt x="6491" y="2808"/>
                  <a:pt x="6414" y="3013"/>
                </a:cubicBezTo>
                <a:cubicBezTo>
                  <a:pt x="6248" y="3455"/>
                  <a:pt x="5881" y="3792"/>
                  <a:pt x="5411" y="3875"/>
                </a:cubicBezTo>
                <a:cubicBezTo>
                  <a:pt x="4904" y="3965"/>
                  <a:pt x="4337" y="3853"/>
                  <a:pt x="3849" y="3713"/>
                </a:cubicBezTo>
                <a:cubicBezTo>
                  <a:pt x="3424" y="3591"/>
                  <a:pt x="2952" y="3435"/>
                  <a:pt x="2688" y="3056"/>
                </a:cubicBezTo>
                <a:cubicBezTo>
                  <a:pt x="2600" y="2929"/>
                  <a:pt x="2539" y="2785"/>
                  <a:pt x="2509" y="2633"/>
                </a:cubicBezTo>
                <a:cubicBezTo>
                  <a:pt x="2445" y="2302"/>
                  <a:pt x="2541" y="1969"/>
                  <a:pt x="2744" y="1703"/>
                </a:cubicBezTo>
                <a:cubicBezTo>
                  <a:pt x="2815" y="1623"/>
                  <a:pt x="2838" y="1598"/>
                  <a:pt x="2880" y="1541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4" name="Freeform 6"/>
          <p:cNvSpPr/>
          <p:nvPr/>
        </p:nvSpPr>
        <p:spPr>
          <a:xfrm>
            <a:off x="1963800" y="976320"/>
            <a:ext cx="3211560" cy="4330800"/>
          </a:xfrm>
          <a:custGeom>
            <a:avLst/>
            <a:gdLst/>
            <a:ahLst/>
            <a:rect l="l" t="t" r="r" b="b"/>
            <a:pathLst>
              <a:path w="8920" h="12026">
                <a:moveTo>
                  <a:pt x="1895" y="290"/>
                </a:moveTo>
                <a:cubicBezTo>
                  <a:pt x="1887" y="281"/>
                  <a:pt x="1846" y="195"/>
                  <a:pt x="1835" y="196"/>
                </a:cubicBezTo>
                <a:cubicBezTo>
                  <a:pt x="1802" y="198"/>
                  <a:pt x="1819" y="188"/>
                  <a:pt x="1788" y="213"/>
                </a:cubicBezTo>
                <a:cubicBezTo>
                  <a:pt x="1732" y="257"/>
                  <a:pt x="1698" y="414"/>
                  <a:pt x="1677" y="473"/>
                </a:cubicBezTo>
                <a:cubicBezTo>
                  <a:pt x="1574" y="765"/>
                  <a:pt x="1521" y="1070"/>
                  <a:pt x="1498" y="1378"/>
                </a:cubicBezTo>
                <a:cubicBezTo>
                  <a:pt x="1474" y="1693"/>
                  <a:pt x="1493" y="2010"/>
                  <a:pt x="1575" y="2317"/>
                </a:cubicBezTo>
                <a:cubicBezTo>
                  <a:pt x="1642" y="2567"/>
                  <a:pt x="1767" y="2813"/>
                  <a:pt x="1954" y="2995"/>
                </a:cubicBezTo>
                <a:cubicBezTo>
                  <a:pt x="2139" y="3175"/>
                  <a:pt x="2382" y="3227"/>
                  <a:pt x="2629" y="3162"/>
                </a:cubicBezTo>
                <a:cubicBezTo>
                  <a:pt x="2830" y="3109"/>
                  <a:pt x="2996" y="2962"/>
                  <a:pt x="3107" y="2791"/>
                </a:cubicBezTo>
                <a:cubicBezTo>
                  <a:pt x="3395" y="2347"/>
                  <a:pt x="3393" y="1718"/>
                  <a:pt x="3316" y="1216"/>
                </a:cubicBezTo>
                <a:cubicBezTo>
                  <a:pt x="3271" y="918"/>
                  <a:pt x="3187" y="590"/>
                  <a:pt x="3017" y="337"/>
                </a:cubicBezTo>
                <a:cubicBezTo>
                  <a:pt x="2898" y="160"/>
                  <a:pt x="2712" y="25"/>
                  <a:pt x="2496" y="0"/>
                </a:cubicBezTo>
                <a:cubicBezTo>
                  <a:pt x="2150" y="-40"/>
                  <a:pt x="1893" y="257"/>
                  <a:pt x="1792" y="554"/>
                </a:cubicBezTo>
                <a:cubicBezTo>
                  <a:pt x="1654" y="957"/>
                  <a:pt x="1688" y="1441"/>
                  <a:pt x="1792" y="1847"/>
                </a:cubicBezTo>
                <a:cubicBezTo>
                  <a:pt x="1874" y="2168"/>
                  <a:pt x="2025" y="2480"/>
                  <a:pt x="2253" y="2722"/>
                </a:cubicBezTo>
                <a:cubicBezTo>
                  <a:pt x="2407" y="2885"/>
                  <a:pt x="2614" y="3017"/>
                  <a:pt x="2842" y="3034"/>
                </a:cubicBezTo>
                <a:cubicBezTo>
                  <a:pt x="3088" y="3053"/>
                  <a:pt x="3239" y="2861"/>
                  <a:pt x="3290" y="2641"/>
                </a:cubicBezTo>
                <a:cubicBezTo>
                  <a:pt x="3407" y="2141"/>
                  <a:pt x="3225" y="1570"/>
                  <a:pt x="2996" y="1131"/>
                </a:cubicBezTo>
                <a:cubicBezTo>
                  <a:pt x="2840" y="833"/>
                  <a:pt x="2614" y="528"/>
                  <a:pt x="2326" y="345"/>
                </a:cubicBezTo>
                <a:cubicBezTo>
                  <a:pt x="2134" y="223"/>
                  <a:pt x="1918" y="217"/>
                  <a:pt x="1767" y="401"/>
                </a:cubicBezTo>
                <a:cubicBezTo>
                  <a:pt x="1580" y="629"/>
                  <a:pt x="1570" y="1010"/>
                  <a:pt x="1583" y="1288"/>
                </a:cubicBezTo>
                <a:cubicBezTo>
                  <a:pt x="1597" y="1587"/>
                  <a:pt x="1694" y="1839"/>
                  <a:pt x="1792" y="2116"/>
                </a:cubicBezTo>
              </a:path>
              <a:path w="8920" h="12026">
                <a:moveTo>
                  <a:pt x="2953" y="2910"/>
                </a:moveTo>
                <a:cubicBezTo>
                  <a:pt x="2965" y="2923"/>
                  <a:pt x="2893" y="2894"/>
                  <a:pt x="2906" y="2906"/>
                </a:cubicBezTo>
                <a:cubicBezTo>
                  <a:pt x="3045" y="3032"/>
                  <a:pt x="3211" y="3139"/>
                  <a:pt x="3354" y="3264"/>
                </a:cubicBezTo>
                <a:cubicBezTo>
                  <a:pt x="4343" y="4127"/>
                  <a:pt x="4977" y="5560"/>
                  <a:pt x="4758" y="6879"/>
                </a:cubicBezTo>
                <a:cubicBezTo>
                  <a:pt x="4728" y="7057"/>
                  <a:pt x="4662" y="7221"/>
                  <a:pt x="4622" y="7395"/>
                </a:cubicBezTo>
                <a:cubicBezTo>
                  <a:pt x="4617" y="7416"/>
                  <a:pt x="4621" y="7445"/>
                  <a:pt x="4617" y="7463"/>
                </a:cubicBezTo>
                <a:cubicBezTo>
                  <a:pt x="4642" y="7448"/>
                  <a:pt x="4674" y="7464"/>
                  <a:pt x="4715" y="7425"/>
                </a:cubicBezTo>
                <a:cubicBezTo>
                  <a:pt x="4928" y="7223"/>
                  <a:pt x="4936" y="6812"/>
                  <a:pt x="4933" y="6546"/>
                </a:cubicBezTo>
                <a:cubicBezTo>
                  <a:pt x="4922" y="5572"/>
                  <a:pt x="4630" y="4504"/>
                  <a:pt x="4139" y="3665"/>
                </a:cubicBezTo>
                <a:cubicBezTo>
                  <a:pt x="4022" y="3465"/>
                  <a:pt x="3883" y="3248"/>
                  <a:pt x="3661" y="3162"/>
                </a:cubicBezTo>
                <a:cubicBezTo>
                  <a:pt x="3643" y="3163"/>
                  <a:pt x="3624" y="3165"/>
                  <a:pt x="3606" y="3166"/>
                </a:cubicBezTo>
                <a:cubicBezTo>
                  <a:pt x="3576" y="3298"/>
                  <a:pt x="3542" y="3327"/>
                  <a:pt x="3589" y="3490"/>
                </a:cubicBezTo>
                <a:cubicBezTo>
                  <a:pt x="3715" y="3933"/>
                  <a:pt x="4098" y="4322"/>
                  <a:pt x="4323" y="4715"/>
                </a:cubicBezTo>
                <a:cubicBezTo>
                  <a:pt x="4511" y="5043"/>
                  <a:pt x="4664" y="5392"/>
                  <a:pt x="4775" y="5752"/>
                </a:cubicBezTo>
                <a:cubicBezTo>
                  <a:pt x="4972" y="6391"/>
                  <a:pt x="5109" y="7279"/>
                  <a:pt x="4882" y="7933"/>
                </a:cubicBezTo>
                <a:cubicBezTo>
                  <a:pt x="4839" y="8056"/>
                  <a:pt x="4853" y="8053"/>
                  <a:pt x="4762" y="8039"/>
                </a:cubicBezTo>
                <a:cubicBezTo>
                  <a:pt x="4749" y="8015"/>
                  <a:pt x="4737" y="7991"/>
                  <a:pt x="4724" y="7967"/>
                </a:cubicBezTo>
              </a:path>
              <a:path w="8920" h="12026">
                <a:moveTo>
                  <a:pt x="2159" y="3170"/>
                </a:moveTo>
                <a:cubicBezTo>
                  <a:pt x="2104" y="3167"/>
                  <a:pt x="2066" y="3166"/>
                  <a:pt x="2014" y="3179"/>
                </a:cubicBezTo>
              </a:path>
              <a:path w="8920" h="12026">
                <a:moveTo>
                  <a:pt x="1912" y="3405"/>
                </a:moveTo>
                <a:cubicBezTo>
                  <a:pt x="1932" y="3569"/>
                  <a:pt x="1948" y="3730"/>
                  <a:pt x="1993" y="3892"/>
                </a:cubicBezTo>
                <a:cubicBezTo>
                  <a:pt x="2151" y="4465"/>
                  <a:pt x="2497" y="4936"/>
                  <a:pt x="3008" y="5244"/>
                </a:cubicBezTo>
                <a:cubicBezTo>
                  <a:pt x="3749" y="5691"/>
                  <a:pt x="4764" y="5902"/>
                  <a:pt x="5560" y="5470"/>
                </a:cubicBezTo>
                <a:cubicBezTo>
                  <a:pt x="5925" y="5272"/>
                  <a:pt x="6185" y="4961"/>
                  <a:pt x="6205" y="4536"/>
                </a:cubicBezTo>
                <a:cubicBezTo>
                  <a:pt x="6222" y="4183"/>
                  <a:pt x="6090" y="3905"/>
                  <a:pt x="5872" y="3648"/>
                </a:cubicBezTo>
                <a:cubicBezTo>
                  <a:pt x="5854" y="3684"/>
                  <a:pt x="5790" y="3652"/>
                  <a:pt x="5778" y="3768"/>
                </a:cubicBezTo>
                <a:cubicBezTo>
                  <a:pt x="5762" y="3920"/>
                  <a:pt x="5802" y="4089"/>
                  <a:pt x="5829" y="4237"/>
                </a:cubicBezTo>
                <a:cubicBezTo>
                  <a:pt x="5893" y="4583"/>
                  <a:pt x="6051" y="4997"/>
                  <a:pt x="5974" y="5351"/>
                </a:cubicBezTo>
                <a:cubicBezTo>
                  <a:pt x="5917" y="5612"/>
                  <a:pt x="5721" y="5758"/>
                  <a:pt x="5466" y="5808"/>
                </a:cubicBezTo>
                <a:cubicBezTo>
                  <a:pt x="4957" y="5909"/>
                  <a:pt x="4396" y="5650"/>
                  <a:pt x="3943" y="5453"/>
                </a:cubicBezTo>
                <a:cubicBezTo>
                  <a:pt x="3337" y="5190"/>
                  <a:pt x="2757" y="4879"/>
                  <a:pt x="2232" y="4476"/>
                </a:cubicBezTo>
                <a:cubicBezTo>
                  <a:pt x="2112" y="4384"/>
                  <a:pt x="1996" y="4290"/>
                  <a:pt x="1899" y="4173"/>
                </a:cubicBezTo>
                <a:cubicBezTo>
                  <a:pt x="1799" y="4053"/>
                  <a:pt x="1790" y="3934"/>
                  <a:pt x="1767" y="3789"/>
                </a:cubicBezTo>
                <a:cubicBezTo>
                  <a:pt x="1751" y="3684"/>
                  <a:pt x="1774" y="3607"/>
                  <a:pt x="1775" y="3507"/>
                </a:cubicBezTo>
                <a:cubicBezTo>
                  <a:pt x="1777" y="3399"/>
                  <a:pt x="1745" y="3327"/>
                  <a:pt x="1715" y="3226"/>
                </a:cubicBezTo>
                <a:cubicBezTo>
                  <a:pt x="1715" y="3253"/>
                  <a:pt x="1693" y="3229"/>
                  <a:pt x="1694" y="3256"/>
                </a:cubicBezTo>
                <a:cubicBezTo>
                  <a:pt x="1701" y="3410"/>
                  <a:pt x="1736" y="3563"/>
                  <a:pt x="1775" y="3712"/>
                </a:cubicBezTo>
                <a:cubicBezTo>
                  <a:pt x="1962" y="4424"/>
                  <a:pt x="2389" y="5001"/>
                  <a:pt x="3107" y="5231"/>
                </a:cubicBezTo>
                <a:cubicBezTo>
                  <a:pt x="3817" y="5458"/>
                  <a:pt x="4724" y="5381"/>
                  <a:pt x="5313" y="4894"/>
                </a:cubicBezTo>
                <a:cubicBezTo>
                  <a:pt x="5756" y="4528"/>
                  <a:pt x="5877" y="3968"/>
                  <a:pt x="5821" y="3418"/>
                </a:cubicBezTo>
                <a:cubicBezTo>
                  <a:pt x="5776" y="2975"/>
                  <a:pt x="5639" y="2346"/>
                  <a:pt x="5202" y="2116"/>
                </a:cubicBezTo>
                <a:cubicBezTo>
                  <a:pt x="4774" y="1891"/>
                  <a:pt x="4210" y="2144"/>
                  <a:pt x="3798" y="1924"/>
                </a:cubicBezTo>
                <a:cubicBezTo>
                  <a:pt x="3783" y="1916"/>
                  <a:pt x="3774" y="1921"/>
                  <a:pt x="3760" y="1911"/>
                </a:cubicBezTo>
                <a:cubicBezTo>
                  <a:pt x="3739" y="1896"/>
                  <a:pt x="3846" y="1927"/>
                  <a:pt x="3836" y="1903"/>
                </a:cubicBezTo>
              </a:path>
              <a:path w="8920" h="12026">
                <a:moveTo>
                  <a:pt x="3452" y="5842"/>
                </a:moveTo>
                <a:cubicBezTo>
                  <a:pt x="3464" y="5851"/>
                  <a:pt x="3452" y="5867"/>
                  <a:pt x="3465" y="5876"/>
                </a:cubicBezTo>
                <a:cubicBezTo>
                  <a:pt x="3529" y="5919"/>
                  <a:pt x="3595" y="5946"/>
                  <a:pt x="3666" y="5978"/>
                </a:cubicBezTo>
                <a:cubicBezTo>
                  <a:pt x="3816" y="6045"/>
                  <a:pt x="3985" y="6071"/>
                  <a:pt x="4148" y="6085"/>
                </a:cubicBezTo>
                <a:cubicBezTo>
                  <a:pt x="4705" y="6132"/>
                  <a:pt x="5247" y="6012"/>
                  <a:pt x="5782" y="5872"/>
                </a:cubicBezTo>
                <a:cubicBezTo>
                  <a:pt x="5953" y="5827"/>
                  <a:pt x="6121" y="5783"/>
                  <a:pt x="6294" y="5748"/>
                </a:cubicBezTo>
                <a:cubicBezTo>
                  <a:pt x="6407" y="5725"/>
                  <a:pt x="6483" y="5725"/>
                  <a:pt x="6593" y="5739"/>
                </a:cubicBezTo>
                <a:cubicBezTo>
                  <a:pt x="6604" y="5743"/>
                  <a:pt x="6616" y="5748"/>
                  <a:pt x="6627" y="5752"/>
                </a:cubicBezTo>
                <a:cubicBezTo>
                  <a:pt x="6631" y="5861"/>
                  <a:pt x="6643" y="5924"/>
                  <a:pt x="6606" y="6047"/>
                </a:cubicBezTo>
                <a:cubicBezTo>
                  <a:pt x="6505" y="6383"/>
                  <a:pt x="6339" y="6721"/>
                  <a:pt x="6107" y="6985"/>
                </a:cubicBezTo>
                <a:cubicBezTo>
                  <a:pt x="5886" y="7236"/>
                  <a:pt x="5593" y="7427"/>
                  <a:pt x="5309" y="7600"/>
                </a:cubicBezTo>
                <a:cubicBezTo>
                  <a:pt x="5022" y="7775"/>
                  <a:pt x="4700" y="8016"/>
                  <a:pt x="4374" y="8112"/>
                </a:cubicBezTo>
                <a:cubicBezTo>
                  <a:pt x="4246" y="8150"/>
                  <a:pt x="4177" y="8104"/>
                  <a:pt x="4105" y="7997"/>
                </a:cubicBezTo>
                <a:cubicBezTo>
                  <a:pt x="4033" y="7890"/>
                  <a:pt x="3983" y="7766"/>
                  <a:pt x="3926" y="7651"/>
                </a:cubicBezTo>
                <a:cubicBezTo>
                  <a:pt x="3829" y="7455"/>
                  <a:pt x="3735" y="7258"/>
                  <a:pt x="3640" y="7062"/>
                </a:cubicBezTo>
                <a:cubicBezTo>
                  <a:pt x="3578" y="6935"/>
                  <a:pt x="3511" y="6810"/>
                  <a:pt x="3461" y="6678"/>
                </a:cubicBezTo>
                <a:cubicBezTo>
                  <a:pt x="3435" y="6611"/>
                  <a:pt x="3403" y="6538"/>
                  <a:pt x="3397" y="6465"/>
                </a:cubicBezTo>
                <a:cubicBezTo>
                  <a:pt x="3395" y="6445"/>
                  <a:pt x="3406" y="6403"/>
                  <a:pt x="3405" y="6392"/>
                </a:cubicBezTo>
                <a:cubicBezTo>
                  <a:pt x="3494" y="6716"/>
                  <a:pt x="3609" y="7030"/>
                  <a:pt x="3760" y="7331"/>
                </a:cubicBezTo>
                <a:cubicBezTo>
                  <a:pt x="3887" y="7584"/>
                  <a:pt x="4055" y="7930"/>
                  <a:pt x="4361" y="8001"/>
                </a:cubicBezTo>
                <a:cubicBezTo>
                  <a:pt x="4518" y="8038"/>
                  <a:pt x="4683" y="7980"/>
                  <a:pt x="4822" y="7911"/>
                </a:cubicBezTo>
                <a:cubicBezTo>
                  <a:pt x="5247" y="7699"/>
                  <a:pt x="5599" y="7329"/>
                  <a:pt x="5953" y="7020"/>
                </a:cubicBezTo>
                <a:cubicBezTo>
                  <a:pt x="6104" y="6888"/>
                  <a:pt x="6261" y="6761"/>
                  <a:pt x="6410" y="6627"/>
                </a:cubicBezTo>
                <a:cubicBezTo>
                  <a:pt x="6498" y="6548"/>
                  <a:pt x="6619" y="6448"/>
                  <a:pt x="6627" y="6320"/>
                </a:cubicBezTo>
                <a:cubicBezTo>
                  <a:pt x="6638" y="6145"/>
                  <a:pt x="6403" y="6034"/>
                  <a:pt x="6273" y="5991"/>
                </a:cubicBezTo>
                <a:cubicBezTo>
                  <a:pt x="5695" y="5799"/>
                  <a:pt x="5044" y="5974"/>
                  <a:pt x="4468" y="6085"/>
                </a:cubicBezTo>
                <a:cubicBezTo>
                  <a:pt x="4198" y="6137"/>
                  <a:pt x="3919" y="6188"/>
                  <a:pt x="3666" y="6298"/>
                </a:cubicBezTo>
                <a:cubicBezTo>
                  <a:pt x="3589" y="6332"/>
                  <a:pt x="3547" y="6380"/>
                  <a:pt x="3486" y="6422"/>
                </a:cubicBezTo>
                <a:cubicBezTo>
                  <a:pt x="3531" y="6462"/>
                  <a:pt x="3539" y="6506"/>
                  <a:pt x="3627" y="6546"/>
                </a:cubicBezTo>
                <a:cubicBezTo>
                  <a:pt x="3730" y="6592"/>
                  <a:pt x="3864" y="6603"/>
                  <a:pt x="3973" y="6627"/>
                </a:cubicBezTo>
              </a:path>
              <a:path w="8920" h="12026">
                <a:moveTo>
                  <a:pt x="6264" y="6977"/>
                </a:moveTo>
                <a:cubicBezTo>
                  <a:pt x="6294" y="7078"/>
                  <a:pt x="6325" y="7178"/>
                  <a:pt x="6354" y="7280"/>
                </a:cubicBezTo>
                <a:cubicBezTo>
                  <a:pt x="6675" y="8403"/>
                  <a:pt x="6938" y="9548"/>
                  <a:pt x="7374" y="10634"/>
                </a:cubicBezTo>
                <a:cubicBezTo>
                  <a:pt x="7482" y="10902"/>
                  <a:pt x="7689" y="11527"/>
                  <a:pt x="8006" y="11650"/>
                </a:cubicBezTo>
                <a:cubicBezTo>
                  <a:pt x="8048" y="11666"/>
                  <a:pt x="8084" y="11658"/>
                  <a:pt x="8117" y="11667"/>
                </a:cubicBezTo>
                <a:cubicBezTo>
                  <a:pt x="8124" y="11660"/>
                  <a:pt x="8131" y="11652"/>
                  <a:pt x="8138" y="11645"/>
                </a:cubicBezTo>
                <a:cubicBezTo>
                  <a:pt x="8128" y="11555"/>
                  <a:pt x="8148" y="11518"/>
                  <a:pt x="8108" y="11423"/>
                </a:cubicBezTo>
                <a:cubicBezTo>
                  <a:pt x="8013" y="11197"/>
                  <a:pt x="7879" y="10983"/>
                  <a:pt x="7767" y="10766"/>
                </a:cubicBezTo>
                <a:cubicBezTo>
                  <a:pt x="7338" y="9936"/>
                  <a:pt x="6938" y="9092"/>
                  <a:pt x="6555" y="8240"/>
                </a:cubicBezTo>
                <a:cubicBezTo>
                  <a:pt x="6374" y="7837"/>
                  <a:pt x="6196" y="7430"/>
                  <a:pt x="6068" y="7007"/>
                </a:cubicBezTo>
                <a:cubicBezTo>
                  <a:pt x="6059" y="6979"/>
                  <a:pt x="6041" y="6880"/>
                  <a:pt x="6038" y="6866"/>
                </a:cubicBezTo>
                <a:cubicBezTo>
                  <a:pt x="6045" y="6901"/>
                  <a:pt x="6050" y="6918"/>
                  <a:pt x="6060" y="6943"/>
                </a:cubicBezTo>
                <a:cubicBezTo>
                  <a:pt x="6147" y="7368"/>
                  <a:pt x="6241" y="7791"/>
                  <a:pt x="6341" y="8214"/>
                </a:cubicBezTo>
                <a:cubicBezTo>
                  <a:pt x="6616" y="9384"/>
                  <a:pt x="6945" y="10734"/>
                  <a:pt x="7741" y="11675"/>
                </a:cubicBezTo>
                <a:cubicBezTo>
                  <a:pt x="7865" y="11821"/>
                  <a:pt x="8018" y="11959"/>
                  <a:pt x="8202" y="12017"/>
                </a:cubicBezTo>
                <a:cubicBezTo>
                  <a:pt x="8216" y="12013"/>
                  <a:pt x="8231" y="12008"/>
                  <a:pt x="8245" y="12004"/>
                </a:cubicBezTo>
                <a:cubicBezTo>
                  <a:pt x="8258" y="11924"/>
                  <a:pt x="8296" y="11877"/>
                  <a:pt x="8279" y="11778"/>
                </a:cubicBezTo>
                <a:cubicBezTo>
                  <a:pt x="8223" y="11445"/>
                  <a:pt x="7928" y="11180"/>
                  <a:pt x="7728" y="10928"/>
                </a:cubicBezTo>
                <a:cubicBezTo>
                  <a:pt x="7156" y="10207"/>
                  <a:pt x="6701" y="9396"/>
                  <a:pt x="6346" y="8547"/>
                </a:cubicBezTo>
                <a:cubicBezTo>
                  <a:pt x="6312" y="8465"/>
                  <a:pt x="6307" y="8458"/>
                  <a:pt x="6264" y="8381"/>
                </a:cubicBezTo>
                <a:cubicBezTo>
                  <a:pt x="6335" y="8600"/>
                  <a:pt x="6401" y="8822"/>
                  <a:pt x="6482" y="9038"/>
                </a:cubicBezTo>
                <a:cubicBezTo>
                  <a:pt x="6636" y="9446"/>
                  <a:pt x="6796" y="9850"/>
                  <a:pt x="6977" y="10246"/>
                </a:cubicBezTo>
                <a:cubicBezTo>
                  <a:pt x="7216" y="10768"/>
                  <a:pt x="7547" y="11651"/>
                  <a:pt x="8074" y="11970"/>
                </a:cubicBezTo>
                <a:cubicBezTo>
                  <a:pt x="8123" y="12000"/>
                  <a:pt x="8173" y="12000"/>
                  <a:pt x="8215" y="12021"/>
                </a:cubicBezTo>
                <a:cubicBezTo>
                  <a:pt x="8239" y="11944"/>
                  <a:pt x="8278" y="11898"/>
                  <a:pt x="8283" y="11795"/>
                </a:cubicBezTo>
                <a:cubicBezTo>
                  <a:pt x="8313" y="11132"/>
                  <a:pt x="8166" y="10467"/>
                  <a:pt x="8338" y="9815"/>
                </a:cubicBezTo>
                <a:cubicBezTo>
                  <a:pt x="8342" y="9806"/>
                  <a:pt x="8347" y="9798"/>
                  <a:pt x="8351" y="9789"/>
                </a:cubicBezTo>
                <a:cubicBezTo>
                  <a:pt x="8374" y="9820"/>
                  <a:pt x="8410" y="9811"/>
                  <a:pt x="8428" y="9845"/>
                </a:cubicBezTo>
                <a:cubicBezTo>
                  <a:pt x="8627" y="10211"/>
                  <a:pt x="8950" y="10873"/>
                  <a:pt x="8919" y="11300"/>
                </a:cubicBezTo>
                <a:cubicBezTo>
                  <a:pt x="8916" y="11341"/>
                  <a:pt x="8896" y="11269"/>
                  <a:pt x="8880" y="11231"/>
                </a:cubicBezTo>
                <a:cubicBezTo>
                  <a:pt x="8823" y="11094"/>
                  <a:pt x="8785" y="10939"/>
                  <a:pt x="8744" y="10796"/>
                </a:cubicBezTo>
                <a:cubicBezTo>
                  <a:pt x="8707" y="10670"/>
                  <a:pt x="8678" y="10543"/>
                  <a:pt x="8646" y="10416"/>
                </a:cubicBezTo>
                <a:cubicBezTo>
                  <a:pt x="8642" y="10392"/>
                  <a:pt x="8610" y="10221"/>
                  <a:pt x="8612" y="10229"/>
                </a:cubicBezTo>
                <a:cubicBezTo>
                  <a:pt x="8658" y="10381"/>
                  <a:pt x="8678" y="10537"/>
                  <a:pt x="8705" y="10694"/>
                </a:cubicBezTo>
              </a:path>
              <a:path w="8920" h="12026">
                <a:moveTo>
                  <a:pt x="725" y="1873"/>
                </a:moveTo>
                <a:cubicBezTo>
                  <a:pt x="696" y="1926"/>
                  <a:pt x="668" y="1978"/>
                  <a:pt x="640" y="2031"/>
                </a:cubicBezTo>
                <a:cubicBezTo>
                  <a:pt x="500" y="2303"/>
                  <a:pt x="426" y="2616"/>
                  <a:pt x="346" y="2910"/>
                </a:cubicBezTo>
                <a:cubicBezTo>
                  <a:pt x="289" y="3122"/>
                  <a:pt x="231" y="3333"/>
                  <a:pt x="179" y="3546"/>
                </a:cubicBezTo>
                <a:cubicBezTo>
                  <a:pt x="119" y="3793"/>
                  <a:pt x="70" y="4041"/>
                  <a:pt x="38" y="4293"/>
                </a:cubicBezTo>
                <a:cubicBezTo>
                  <a:pt x="4" y="4556"/>
                  <a:pt x="-8" y="4821"/>
                  <a:pt x="8" y="5086"/>
                </a:cubicBezTo>
                <a:cubicBezTo>
                  <a:pt x="10" y="5111"/>
                  <a:pt x="5" y="5117"/>
                  <a:pt x="4" y="5142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5" name="Freeform 7"/>
          <p:cNvSpPr/>
          <p:nvPr/>
        </p:nvSpPr>
        <p:spPr>
          <a:xfrm>
            <a:off x="1808280" y="1501920"/>
            <a:ext cx="714240" cy="1392120"/>
          </a:xfrm>
          <a:custGeom>
            <a:avLst/>
            <a:gdLst/>
            <a:ahLst/>
            <a:rect l="l" t="t" r="r" b="b"/>
            <a:pathLst>
              <a:path w="1985" h="3867">
                <a:moveTo>
                  <a:pt x="1156" y="529"/>
                </a:moveTo>
                <a:cubicBezTo>
                  <a:pt x="1184" y="447"/>
                  <a:pt x="1221" y="365"/>
                  <a:pt x="1276" y="295"/>
                </a:cubicBezTo>
                <a:cubicBezTo>
                  <a:pt x="1306" y="257"/>
                  <a:pt x="1347" y="226"/>
                  <a:pt x="1387" y="201"/>
                </a:cubicBezTo>
                <a:cubicBezTo>
                  <a:pt x="1391" y="199"/>
                  <a:pt x="1396" y="198"/>
                  <a:pt x="1400" y="196"/>
                </a:cubicBezTo>
                <a:cubicBezTo>
                  <a:pt x="1395" y="202"/>
                  <a:pt x="1400" y="190"/>
                  <a:pt x="1395" y="196"/>
                </a:cubicBezTo>
                <a:cubicBezTo>
                  <a:pt x="1390" y="203"/>
                  <a:pt x="1387" y="210"/>
                  <a:pt x="1383" y="218"/>
                </a:cubicBezTo>
                <a:cubicBezTo>
                  <a:pt x="1365" y="254"/>
                  <a:pt x="1356" y="293"/>
                  <a:pt x="1348" y="333"/>
                </a:cubicBezTo>
                <a:cubicBezTo>
                  <a:pt x="1337" y="389"/>
                  <a:pt x="1335" y="448"/>
                  <a:pt x="1327" y="504"/>
                </a:cubicBezTo>
                <a:cubicBezTo>
                  <a:pt x="1320" y="552"/>
                  <a:pt x="1312" y="608"/>
                  <a:pt x="1314" y="657"/>
                </a:cubicBezTo>
                <a:cubicBezTo>
                  <a:pt x="1315" y="687"/>
                  <a:pt x="1316" y="714"/>
                  <a:pt x="1323" y="738"/>
                </a:cubicBezTo>
                <a:cubicBezTo>
                  <a:pt x="1324" y="740"/>
                  <a:pt x="1326" y="741"/>
                  <a:pt x="1327" y="743"/>
                </a:cubicBezTo>
                <a:cubicBezTo>
                  <a:pt x="1348" y="711"/>
                  <a:pt x="1359" y="685"/>
                  <a:pt x="1370" y="644"/>
                </a:cubicBezTo>
                <a:cubicBezTo>
                  <a:pt x="1399" y="537"/>
                  <a:pt x="1412" y="427"/>
                  <a:pt x="1404" y="316"/>
                </a:cubicBezTo>
                <a:cubicBezTo>
                  <a:pt x="1398" y="228"/>
                  <a:pt x="1389" y="86"/>
                  <a:pt x="1323" y="17"/>
                </a:cubicBezTo>
                <a:cubicBezTo>
                  <a:pt x="1314" y="4"/>
                  <a:pt x="1310" y="-1"/>
                  <a:pt x="1297" y="0"/>
                </a:cubicBezTo>
                <a:cubicBezTo>
                  <a:pt x="1276" y="10"/>
                  <a:pt x="1264" y="10"/>
                  <a:pt x="1246" y="26"/>
                </a:cubicBezTo>
                <a:cubicBezTo>
                  <a:pt x="1227" y="43"/>
                  <a:pt x="1222" y="59"/>
                  <a:pt x="1212" y="81"/>
                </a:cubicBezTo>
                <a:cubicBezTo>
                  <a:pt x="1198" y="114"/>
                  <a:pt x="1195" y="142"/>
                  <a:pt x="1195" y="179"/>
                </a:cubicBezTo>
                <a:cubicBezTo>
                  <a:pt x="1194" y="287"/>
                  <a:pt x="1201" y="389"/>
                  <a:pt x="1225" y="495"/>
                </a:cubicBezTo>
                <a:cubicBezTo>
                  <a:pt x="1247" y="592"/>
                  <a:pt x="1287" y="682"/>
                  <a:pt x="1336" y="768"/>
                </a:cubicBezTo>
                <a:cubicBezTo>
                  <a:pt x="1410" y="898"/>
                  <a:pt x="1502" y="1004"/>
                  <a:pt x="1596" y="1118"/>
                </a:cubicBezTo>
                <a:cubicBezTo>
                  <a:pt x="1651" y="1185"/>
                  <a:pt x="1706" y="1249"/>
                  <a:pt x="1771" y="1306"/>
                </a:cubicBezTo>
                <a:cubicBezTo>
                  <a:pt x="1781" y="1316"/>
                  <a:pt x="1780" y="1320"/>
                  <a:pt x="1788" y="1319"/>
                </a:cubicBezTo>
                <a:cubicBezTo>
                  <a:pt x="1758" y="1275"/>
                  <a:pt x="1728" y="1230"/>
                  <a:pt x="1703" y="1182"/>
                </a:cubicBezTo>
                <a:cubicBezTo>
                  <a:pt x="1650" y="1082"/>
                  <a:pt x="1603" y="972"/>
                  <a:pt x="1566" y="866"/>
                </a:cubicBezTo>
                <a:cubicBezTo>
                  <a:pt x="1515" y="720"/>
                  <a:pt x="1489" y="569"/>
                  <a:pt x="1459" y="418"/>
                </a:cubicBezTo>
              </a:path>
              <a:path w="1985" h="3867">
                <a:moveTo>
                  <a:pt x="1447" y="64"/>
                </a:moveTo>
                <a:cubicBezTo>
                  <a:pt x="1401" y="227"/>
                  <a:pt x="1373" y="393"/>
                  <a:pt x="1361" y="563"/>
                </a:cubicBezTo>
                <a:cubicBezTo>
                  <a:pt x="1334" y="945"/>
                  <a:pt x="1339" y="1489"/>
                  <a:pt x="1617" y="1792"/>
                </a:cubicBezTo>
                <a:cubicBezTo>
                  <a:pt x="1724" y="1908"/>
                  <a:pt x="1843" y="1899"/>
                  <a:pt x="1984" y="1886"/>
                </a:cubicBezTo>
              </a:path>
              <a:path w="1985" h="3867">
                <a:moveTo>
                  <a:pt x="1276" y="316"/>
                </a:moveTo>
                <a:cubicBezTo>
                  <a:pt x="1242" y="398"/>
                  <a:pt x="1202" y="480"/>
                  <a:pt x="1169" y="563"/>
                </a:cubicBezTo>
                <a:cubicBezTo>
                  <a:pt x="1049" y="865"/>
                  <a:pt x="924" y="1168"/>
                  <a:pt x="824" y="1477"/>
                </a:cubicBezTo>
                <a:cubicBezTo>
                  <a:pt x="733" y="1758"/>
                  <a:pt x="649" y="2045"/>
                  <a:pt x="589" y="2334"/>
                </a:cubicBezTo>
                <a:cubicBezTo>
                  <a:pt x="534" y="2596"/>
                  <a:pt x="503" y="2865"/>
                  <a:pt x="499" y="3132"/>
                </a:cubicBezTo>
                <a:cubicBezTo>
                  <a:pt x="497" y="3304"/>
                  <a:pt x="519" y="3478"/>
                  <a:pt x="563" y="3644"/>
                </a:cubicBezTo>
                <a:cubicBezTo>
                  <a:pt x="571" y="3675"/>
                  <a:pt x="587" y="3701"/>
                  <a:pt x="597" y="3730"/>
                </a:cubicBezTo>
                <a:cubicBezTo>
                  <a:pt x="595" y="3721"/>
                  <a:pt x="580" y="3660"/>
                  <a:pt x="576" y="3644"/>
                </a:cubicBezTo>
                <a:cubicBezTo>
                  <a:pt x="489" y="3316"/>
                  <a:pt x="415" y="2989"/>
                  <a:pt x="384" y="2650"/>
                </a:cubicBezTo>
                <a:cubicBezTo>
                  <a:pt x="333" y="2090"/>
                  <a:pt x="468" y="1628"/>
                  <a:pt x="777" y="1165"/>
                </a:cubicBezTo>
                <a:cubicBezTo>
                  <a:pt x="847" y="1060"/>
                  <a:pt x="920" y="960"/>
                  <a:pt x="999" y="862"/>
                </a:cubicBezTo>
                <a:cubicBezTo>
                  <a:pt x="995" y="877"/>
                  <a:pt x="975" y="955"/>
                  <a:pt x="964" y="986"/>
                </a:cubicBezTo>
                <a:cubicBezTo>
                  <a:pt x="913" y="1128"/>
                  <a:pt x="866" y="1272"/>
                  <a:pt x="824" y="1417"/>
                </a:cubicBezTo>
                <a:cubicBezTo>
                  <a:pt x="644" y="2044"/>
                  <a:pt x="529" y="2715"/>
                  <a:pt x="499" y="3367"/>
                </a:cubicBezTo>
                <a:cubicBezTo>
                  <a:pt x="494" y="3473"/>
                  <a:pt x="497" y="3578"/>
                  <a:pt x="499" y="3683"/>
                </a:cubicBezTo>
                <a:cubicBezTo>
                  <a:pt x="499" y="3693"/>
                  <a:pt x="499" y="3703"/>
                  <a:pt x="499" y="3713"/>
                </a:cubicBezTo>
                <a:cubicBezTo>
                  <a:pt x="492" y="3708"/>
                  <a:pt x="482" y="3710"/>
                  <a:pt x="474" y="3704"/>
                </a:cubicBezTo>
                <a:cubicBezTo>
                  <a:pt x="400" y="3647"/>
                  <a:pt x="338" y="3574"/>
                  <a:pt x="265" y="3516"/>
                </a:cubicBezTo>
                <a:cubicBezTo>
                  <a:pt x="184" y="3452"/>
                  <a:pt x="139" y="3445"/>
                  <a:pt x="47" y="3431"/>
                </a:cubicBezTo>
                <a:cubicBezTo>
                  <a:pt x="4" y="3550"/>
                  <a:pt x="-30" y="3661"/>
                  <a:pt x="85" y="3772"/>
                </a:cubicBezTo>
                <a:cubicBezTo>
                  <a:pt x="176" y="3860"/>
                  <a:pt x="266" y="3854"/>
                  <a:pt x="380" y="3862"/>
                </a:cubicBezTo>
              </a:path>
            </a:pathLst>
          </a:custGeom>
          <a:noFill/>
          <a:ln cap="rnd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green-lantern-182-blackest"/>
          <p:cNvPicPr/>
          <p:nvPr/>
        </p:nvPicPr>
        <p:blipFill>
          <a:blip r:embed="rId1"/>
          <a:stretch/>
        </p:blipFill>
        <p:spPr>
          <a:xfrm>
            <a:off x="2438280" y="228600"/>
            <a:ext cx="4062600" cy="61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green-lantern-182-blackest"/>
          <p:cNvPicPr/>
          <p:nvPr/>
        </p:nvPicPr>
        <p:blipFill>
          <a:blip r:embed="rId1"/>
          <a:stretch/>
        </p:blipFill>
        <p:spPr>
          <a:xfrm>
            <a:off x="2514600" y="380880"/>
            <a:ext cx="3911760" cy="5943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18" name="Freeform 4"/>
          <p:cNvSpPr/>
          <p:nvPr/>
        </p:nvSpPr>
        <p:spPr>
          <a:xfrm>
            <a:off x="4006800" y="2516040"/>
            <a:ext cx="704880" cy="3427560"/>
          </a:xfrm>
          <a:custGeom>
            <a:avLst/>
            <a:gdLst/>
            <a:ahLst/>
            <a:rect l="l" t="t" r="r" b="b"/>
            <a:pathLst>
              <a:path w="1959" h="9521">
                <a:moveTo>
                  <a:pt x="0" y="3823"/>
                </a:moveTo>
                <a:cubicBezTo>
                  <a:pt x="67" y="3895"/>
                  <a:pt x="128" y="3963"/>
                  <a:pt x="187" y="4045"/>
                </a:cubicBezTo>
                <a:cubicBezTo>
                  <a:pt x="316" y="4225"/>
                  <a:pt x="426" y="4431"/>
                  <a:pt x="533" y="4625"/>
                </a:cubicBezTo>
                <a:cubicBezTo>
                  <a:pt x="673" y="4878"/>
                  <a:pt x="804" y="5137"/>
                  <a:pt x="947" y="5389"/>
                </a:cubicBezTo>
                <a:cubicBezTo>
                  <a:pt x="1093" y="5645"/>
                  <a:pt x="1248" y="5899"/>
                  <a:pt x="1438" y="6123"/>
                </a:cubicBezTo>
                <a:cubicBezTo>
                  <a:pt x="1442" y="6126"/>
                  <a:pt x="1447" y="6129"/>
                  <a:pt x="1451" y="6132"/>
                </a:cubicBezTo>
                <a:cubicBezTo>
                  <a:pt x="1426" y="6073"/>
                  <a:pt x="1398" y="6013"/>
                  <a:pt x="1369" y="5953"/>
                </a:cubicBezTo>
                <a:cubicBezTo>
                  <a:pt x="1214" y="5632"/>
                  <a:pt x="1071" y="5257"/>
                  <a:pt x="857" y="4971"/>
                </a:cubicBezTo>
                <a:cubicBezTo>
                  <a:pt x="840" y="4950"/>
                  <a:pt x="839" y="4939"/>
                  <a:pt x="823" y="4950"/>
                </a:cubicBezTo>
                <a:cubicBezTo>
                  <a:pt x="844" y="5041"/>
                  <a:pt x="860" y="5132"/>
                  <a:pt x="887" y="5223"/>
                </a:cubicBezTo>
                <a:cubicBezTo>
                  <a:pt x="1007" y="5627"/>
                  <a:pt x="1204" y="6007"/>
                  <a:pt x="1297" y="6418"/>
                </a:cubicBezTo>
                <a:cubicBezTo>
                  <a:pt x="1327" y="6552"/>
                  <a:pt x="1324" y="6692"/>
                  <a:pt x="1288" y="6823"/>
                </a:cubicBezTo>
                <a:cubicBezTo>
                  <a:pt x="1209" y="7113"/>
                  <a:pt x="953" y="7314"/>
                  <a:pt x="759" y="7527"/>
                </a:cubicBezTo>
                <a:cubicBezTo>
                  <a:pt x="524" y="7786"/>
                  <a:pt x="324" y="8070"/>
                  <a:pt x="157" y="8376"/>
                </a:cubicBezTo>
                <a:cubicBezTo>
                  <a:pt x="112" y="8458"/>
                  <a:pt x="-9" y="8616"/>
                  <a:pt x="51" y="8718"/>
                </a:cubicBezTo>
                <a:cubicBezTo>
                  <a:pt x="117" y="8830"/>
                  <a:pt x="403" y="8868"/>
                  <a:pt x="512" y="8918"/>
                </a:cubicBezTo>
                <a:cubicBezTo>
                  <a:pt x="614" y="8965"/>
                  <a:pt x="708" y="9021"/>
                  <a:pt x="802" y="9081"/>
                </a:cubicBezTo>
                <a:cubicBezTo>
                  <a:pt x="884" y="9133"/>
                  <a:pt x="965" y="9192"/>
                  <a:pt x="1041" y="9251"/>
                </a:cubicBezTo>
                <a:cubicBezTo>
                  <a:pt x="1089" y="9288"/>
                  <a:pt x="1134" y="9325"/>
                  <a:pt x="1182" y="9362"/>
                </a:cubicBezTo>
                <a:cubicBezTo>
                  <a:pt x="1197" y="9373"/>
                  <a:pt x="1200" y="9375"/>
                  <a:pt x="1207" y="9384"/>
                </a:cubicBezTo>
                <a:cubicBezTo>
                  <a:pt x="1087" y="9299"/>
                  <a:pt x="966" y="9214"/>
                  <a:pt x="857" y="9115"/>
                </a:cubicBezTo>
                <a:cubicBezTo>
                  <a:pt x="734" y="9003"/>
                  <a:pt x="614" y="8884"/>
                  <a:pt x="499" y="8765"/>
                </a:cubicBezTo>
                <a:cubicBezTo>
                  <a:pt x="496" y="8761"/>
                  <a:pt x="493" y="8756"/>
                  <a:pt x="490" y="8752"/>
                </a:cubicBezTo>
                <a:cubicBezTo>
                  <a:pt x="526" y="8782"/>
                  <a:pt x="565" y="8810"/>
                  <a:pt x="601" y="8842"/>
                </a:cubicBezTo>
                <a:cubicBezTo>
                  <a:pt x="849" y="9061"/>
                  <a:pt x="1072" y="9306"/>
                  <a:pt x="1331" y="9512"/>
                </a:cubicBezTo>
                <a:cubicBezTo>
                  <a:pt x="1337" y="9515"/>
                  <a:pt x="1342" y="9517"/>
                  <a:pt x="1348" y="9520"/>
                </a:cubicBezTo>
                <a:cubicBezTo>
                  <a:pt x="1316" y="9487"/>
                  <a:pt x="1280" y="9446"/>
                  <a:pt x="1246" y="9413"/>
                </a:cubicBezTo>
                <a:cubicBezTo>
                  <a:pt x="1058" y="9233"/>
                  <a:pt x="877" y="9046"/>
                  <a:pt x="691" y="8863"/>
                </a:cubicBezTo>
                <a:cubicBezTo>
                  <a:pt x="597" y="8770"/>
                  <a:pt x="573" y="8745"/>
                  <a:pt x="512" y="8688"/>
                </a:cubicBezTo>
              </a:path>
              <a:path w="1959" h="9521">
                <a:moveTo>
                  <a:pt x="990" y="635"/>
                </a:moveTo>
                <a:cubicBezTo>
                  <a:pt x="993" y="754"/>
                  <a:pt x="997" y="874"/>
                  <a:pt x="994" y="994"/>
                </a:cubicBezTo>
                <a:cubicBezTo>
                  <a:pt x="985" y="1321"/>
                  <a:pt x="993" y="1648"/>
                  <a:pt x="973" y="1975"/>
                </a:cubicBezTo>
                <a:cubicBezTo>
                  <a:pt x="967" y="2082"/>
                  <a:pt x="955" y="2188"/>
                  <a:pt x="943" y="2295"/>
                </a:cubicBezTo>
                <a:cubicBezTo>
                  <a:pt x="934" y="2377"/>
                  <a:pt x="924" y="2457"/>
                  <a:pt x="921" y="2539"/>
                </a:cubicBezTo>
                <a:cubicBezTo>
                  <a:pt x="918" y="2629"/>
                  <a:pt x="924" y="2707"/>
                  <a:pt x="943" y="2795"/>
                </a:cubicBezTo>
                <a:cubicBezTo>
                  <a:pt x="969" y="2918"/>
                  <a:pt x="1020" y="3009"/>
                  <a:pt x="1118" y="3089"/>
                </a:cubicBezTo>
                <a:cubicBezTo>
                  <a:pt x="1187" y="3145"/>
                  <a:pt x="1276" y="3173"/>
                  <a:pt x="1361" y="3192"/>
                </a:cubicBezTo>
                <a:cubicBezTo>
                  <a:pt x="1431" y="3208"/>
                  <a:pt x="1503" y="3209"/>
                  <a:pt x="1574" y="3221"/>
                </a:cubicBezTo>
                <a:cubicBezTo>
                  <a:pt x="1643" y="3233"/>
                  <a:pt x="1719" y="3252"/>
                  <a:pt x="1783" y="3281"/>
                </a:cubicBezTo>
                <a:cubicBezTo>
                  <a:pt x="1796" y="3287"/>
                  <a:pt x="1809" y="3301"/>
                  <a:pt x="1822" y="3307"/>
                </a:cubicBezTo>
                <a:cubicBezTo>
                  <a:pt x="1789" y="3299"/>
                  <a:pt x="1757" y="3296"/>
                  <a:pt x="1724" y="3285"/>
                </a:cubicBezTo>
                <a:cubicBezTo>
                  <a:pt x="1560" y="3230"/>
                  <a:pt x="1427" y="3119"/>
                  <a:pt x="1293" y="3012"/>
                </a:cubicBezTo>
                <a:cubicBezTo>
                  <a:pt x="1239" y="2969"/>
                  <a:pt x="1187" y="2936"/>
                  <a:pt x="1130" y="2901"/>
                </a:cubicBezTo>
                <a:cubicBezTo>
                  <a:pt x="1143" y="2941"/>
                  <a:pt x="1142" y="2980"/>
                  <a:pt x="1165" y="3021"/>
                </a:cubicBezTo>
                <a:cubicBezTo>
                  <a:pt x="1235" y="3146"/>
                  <a:pt x="1339" y="3266"/>
                  <a:pt x="1459" y="3345"/>
                </a:cubicBezTo>
                <a:cubicBezTo>
                  <a:pt x="1485" y="3362"/>
                  <a:pt x="1528" y="3369"/>
                  <a:pt x="1549" y="3379"/>
                </a:cubicBezTo>
                <a:cubicBezTo>
                  <a:pt x="1531" y="3342"/>
                  <a:pt x="1512" y="3292"/>
                  <a:pt x="1485" y="3251"/>
                </a:cubicBezTo>
                <a:cubicBezTo>
                  <a:pt x="1412" y="3138"/>
                  <a:pt x="1336" y="3029"/>
                  <a:pt x="1267" y="2914"/>
                </a:cubicBezTo>
                <a:cubicBezTo>
                  <a:pt x="1087" y="2614"/>
                  <a:pt x="928" y="2277"/>
                  <a:pt x="874" y="1928"/>
                </a:cubicBezTo>
                <a:cubicBezTo>
                  <a:pt x="833" y="1666"/>
                  <a:pt x="850" y="1395"/>
                  <a:pt x="934" y="1143"/>
                </a:cubicBezTo>
                <a:cubicBezTo>
                  <a:pt x="971" y="1033"/>
                  <a:pt x="1015" y="925"/>
                  <a:pt x="1054" y="815"/>
                </a:cubicBezTo>
                <a:cubicBezTo>
                  <a:pt x="1079" y="744"/>
                  <a:pt x="1094" y="673"/>
                  <a:pt x="1088" y="597"/>
                </a:cubicBezTo>
                <a:cubicBezTo>
                  <a:pt x="1082" y="524"/>
                  <a:pt x="1052" y="440"/>
                  <a:pt x="1020" y="375"/>
                </a:cubicBezTo>
                <a:cubicBezTo>
                  <a:pt x="996" y="327"/>
                  <a:pt x="960" y="276"/>
                  <a:pt x="917" y="243"/>
                </a:cubicBezTo>
                <a:cubicBezTo>
                  <a:pt x="837" y="182"/>
                  <a:pt x="731" y="176"/>
                  <a:pt x="635" y="166"/>
                </a:cubicBezTo>
                <a:cubicBezTo>
                  <a:pt x="617" y="164"/>
                  <a:pt x="606" y="166"/>
                  <a:pt x="588" y="162"/>
                </a:cubicBezTo>
                <a:cubicBezTo>
                  <a:pt x="563" y="157"/>
                  <a:pt x="601" y="157"/>
                  <a:pt x="580" y="153"/>
                </a:cubicBezTo>
              </a:path>
              <a:path w="1959" h="9521">
                <a:moveTo>
                  <a:pt x="34" y="3938"/>
                </a:moveTo>
                <a:cubicBezTo>
                  <a:pt x="27" y="3916"/>
                  <a:pt x="26" y="3896"/>
                  <a:pt x="21" y="3870"/>
                </a:cubicBezTo>
                <a:cubicBezTo>
                  <a:pt x="29" y="3887"/>
                  <a:pt x="40" y="3886"/>
                  <a:pt x="47" y="3904"/>
                </a:cubicBezTo>
                <a:cubicBezTo>
                  <a:pt x="322" y="4617"/>
                  <a:pt x="700" y="5332"/>
                  <a:pt x="1156" y="5948"/>
                </a:cubicBezTo>
                <a:cubicBezTo>
                  <a:pt x="1189" y="5992"/>
                  <a:pt x="1229" y="6030"/>
                  <a:pt x="1263" y="6072"/>
                </a:cubicBezTo>
                <a:cubicBezTo>
                  <a:pt x="1244" y="6033"/>
                  <a:pt x="1221" y="5992"/>
                  <a:pt x="1203" y="5953"/>
                </a:cubicBezTo>
                <a:cubicBezTo>
                  <a:pt x="1143" y="5824"/>
                  <a:pt x="1083" y="5695"/>
                  <a:pt x="1028" y="5564"/>
                </a:cubicBezTo>
                <a:cubicBezTo>
                  <a:pt x="915" y="5295"/>
                  <a:pt x="834" y="4985"/>
                  <a:pt x="665" y="4745"/>
                </a:cubicBezTo>
                <a:cubicBezTo>
                  <a:pt x="649" y="4723"/>
                  <a:pt x="615" y="4700"/>
                  <a:pt x="601" y="4681"/>
                </a:cubicBezTo>
                <a:cubicBezTo>
                  <a:pt x="607" y="4719"/>
                  <a:pt x="603" y="4765"/>
                  <a:pt x="614" y="4809"/>
                </a:cubicBezTo>
                <a:cubicBezTo>
                  <a:pt x="648" y="4940"/>
                  <a:pt x="705" y="5065"/>
                  <a:pt x="759" y="5189"/>
                </a:cubicBezTo>
                <a:cubicBezTo>
                  <a:pt x="865" y="5433"/>
                  <a:pt x="1007" y="5663"/>
                  <a:pt x="1156" y="5884"/>
                </a:cubicBezTo>
                <a:cubicBezTo>
                  <a:pt x="1361" y="6189"/>
                  <a:pt x="1568" y="6501"/>
                  <a:pt x="1493" y="6883"/>
                </a:cubicBezTo>
                <a:cubicBezTo>
                  <a:pt x="1385" y="7431"/>
                  <a:pt x="912" y="7925"/>
                  <a:pt x="576" y="8347"/>
                </a:cubicBezTo>
                <a:cubicBezTo>
                  <a:pt x="427" y="8534"/>
                  <a:pt x="153" y="8763"/>
                  <a:pt x="68" y="8991"/>
                </a:cubicBezTo>
                <a:cubicBezTo>
                  <a:pt x="61" y="9011"/>
                  <a:pt x="27" y="9034"/>
                  <a:pt x="47" y="9055"/>
                </a:cubicBezTo>
                <a:cubicBezTo>
                  <a:pt x="68" y="9076"/>
                  <a:pt x="98" y="9019"/>
                  <a:pt x="128" y="9021"/>
                </a:cubicBezTo>
              </a:path>
              <a:path w="1959" h="9521">
                <a:moveTo>
                  <a:pt x="435" y="8709"/>
                </a:moveTo>
                <a:cubicBezTo>
                  <a:pt x="487" y="8818"/>
                  <a:pt x="570" y="8892"/>
                  <a:pt x="665" y="8965"/>
                </a:cubicBezTo>
                <a:cubicBezTo>
                  <a:pt x="751" y="9031"/>
                  <a:pt x="838" y="9089"/>
                  <a:pt x="934" y="9140"/>
                </a:cubicBezTo>
                <a:cubicBezTo>
                  <a:pt x="1002" y="9176"/>
                  <a:pt x="1067" y="9215"/>
                  <a:pt x="1135" y="9251"/>
                </a:cubicBezTo>
                <a:cubicBezTo>
                  <a:pt x="1171" y="9270"/>
                  <a:pt x="1185" y="9294"/>
                  <a:pt x="1177" y="9264"/>
                </a:cubicBezTo>
              </a:path>
              <a:path w="1959" h="9521">
                <a:moveTo>
                  <a:pt x="1515" y="6332"/>
                </a:moveTo>
                <a:cubicBezTo>
                  <a:pt x="1483" y="6316"/>
                  <a:pt x="1459" y="6303"/>
                  <a:pt x="1421" y="6307"/>
                </a:cubicBezTo>
                <a:cubicBezTo>
                  <a:pt x="1336" y="6316"/>
                  <a:pt x="1267" y="6407"/>
                  <a:pt x="1233" y="6477"/>
                </a:cubicBezTo>
                <a:cubicBezTo>
                  <a:pt x="1171" y="6603"/>
                  <a:pt x="1138" y="6757"/>
                  <a:pt x="1169" y="6896"/>
                </a:cubicBezTo>
                <a:cubicBezTo>
                  <a:pt x="1190" y="6989"/>
                  <a:pt x="1249" y="7064"/>
                  <a:pt x="1348" y="7075"/>
                </a:cubicBezTo>
                <a:cubicBezTo>
                  <a:pt x="1452" y="7086"/>
                  <a:pt x="1567" y="7032"/>
                  <a:pt x="1643" y="6964"/>
                </a:cubicBezTo>
                <a:cubicBezTo>
                  <a:pt x="1734" y="6882"/>
                  <a:pt x="1806" y="6751"/>
                  <a:pt x="1830" y="6631"/>
                </a:cubicBezTo>
                <a:cubicBezTo>
                  <a:pt x="1855" y="6504"/>
                  <a:pt x="1835" y="6374"/>
                  <a:pt x="1775" y="6260"/>
                </a:cubicBezTo>
                <a:cubicBezTo>
                  <a:pt x="1717" y="6151"/>
                  <a:pt x="1605" y="6073"/>
                  <a:pt x="1480" y="6123"/>
                </a:cubicBezTo>
                <a:cubicBezTo>
                  <a:pt x="1379" y="6163"/>
                  <a:pt x="1307" y="6280"/>
                  <a:pt x="1267" y="6375"/>
                </a:cubicBezTo>
                <a:cubicBezTo>
                  <a:pt x="1217" y="6493"/>
                  <a:pt x="1200" y="6624"/>
                  <a:pt x="1220" y="6751"/>
                </a:cubicBezTo>
                <a:cubicBezTo>
                  <a:pt x="1236" y="6853"/>
                  <a:pt x="1291" y="6958"/>
                  <a:pt x="1387" y="7007"/>
                </a:cubicBezTo>
                <a:cubicBezTo>
                  <a:pt x="1472" y="7050"/>
                  <a:pt x="1577" y="7032"/>
                  <a:pt x="1655" y="6985"/>
                </a:cubicBezTo>
                <a:cubicBezTo>
                  <a:pt x="1751" y="6927"/>
                  <a:pt x="1796" y="6825"/>
                  <a:pt x="1822" y="6721"/>
                </a:cubicBezTo>
                <a:cubicBezTo>
                  <a:pt x="1851" y="6607"/>
                  <a:pt x="1830" y="6497"/>
                  <a:pt x="1779" y="6392"/>
                </a:cubicBezTo>
                <a:cubicBezTo>
                  <a:pt x="1742" y="6316"/>
                  <a:pt x="1674" y="6244"/>
                  <a:pt x="1583" y="6264"/>
                </a:cubicBezTo>
                <a:cubicBezTo>
                  <a:pt x="1489" y="6285"/>
                  <a:pt x="1462" y="6359"/>
                  <a:pt x="1416" y="6431"/>
                </a:cubicBezTo>
              </a:path>
              <a:path w="1959" h="9521">
                <a:moveTo>
                  <a:pt x="900" y="0"/>
                </a:moveTo>
                <a:cubicBezTo>
                  <a:pt x="945" y="20"/>
                  <a:pt x="988" y="44"/>
                  <a:pt x="1032" y="68"/>
                </a:cubicBezTo>
                <a:cubicBezTo>
                  <a:pt x="1104" y="106"/>
                  <a:pt x="1152" y="157"/>
                  <a:pt x="1207" y="217"/>
                </a:cubicBezTo>
                <a:cubicBezTo>
                  <a:pt x="1263" y="278"/>
                  <a:pt x="1310" y="359"/>
                  <a:pt x="1322" y="443"/>
                </a:cubicBezTo>
                <a:cubicBezTo>
                  <a:pt x="1336" y="542"/>
                  <a:pt x="1305" y="637"/>
                  <a:pt x="1250" y="717"/>
                </a:cubicBezTo>
                <a:cubicBezTo>
                  <a:pt x="1213" y="771"/>
                  <a:pt x="1169" y="815"/>
                  <a:pt x="1105" y="836"/>
                </a:cubicBezTo>
                <a:cubicBezTo>
                  <a:pt x="1048" y="855"/>
                  <a:pt x="989" y="845"/>
                  <a:pt x="938" y="815"/>
                </a:cubicBezTo>
                <a:cubicBezTo>
                  <a:pt x="838" y="757"/>
                  <a:pt x="777" y="651"/>
                  <a:pt x="721" y="554"/>
                </a:cubicBezTo>
                <a:cubicBezTo>
                  <a:pt x="696" y="510"/>
                  <a:pt x="672" y="459"/>
                  <a:pt x="665" y="409"/>
                </a:cubicBezTo>
                <a:cubicBezTo>
                  <a:pt x="665" y="403"/>
                  <a:pt x="665" y="398"/>
                  <a:pt x="665" y="392"/>
                </a:cubicBezTo>
                <a:cubicBezTo>
                  <a:pt x="691" y="388"/>
                  <a:pt x="711" y="385"/>
                  <a:pt x="742" y="388"/>
                </a:cubicBezTo>
                <a:cubicBezTo>
                  <a:pt x="805" y="394"/>
                  <a:pt x="867" y="394"/>
                  <a:pt x="930" y="401"/>
                </a:cubicBezTo>
                <a:cubicBezTo>
                  <a:pt x="948" y="404"/>
                  <a:pt x="967" y="406"/>
                  <a:pt x="985" y="409"/>
                </a:cubicBezTo>
              </a:path>
              <a:path w="1959" h="9521">
                <a:moveTo>
                  <a:pt x="1591" y="3213"/>
                </a:moveTo>
                <a:cubicBezTo>
                  <a:pt x="1558" y="3209"/>
                  <a:pt x="1537" y="3211"/>
                  <a:pt x="1502" y="3226"/>
                </a:cubicBezTo>
                <a:cubicBezTo>
                  <a:pt x="1457" y="3245"/>
                  <a:pt x="1421" y="3298"/>
                  <a:pt x="1395" y="3337"/>
                </a:cubicBezTo>
                <a:cubicBezTo>
                  <a:pt x="1351" y="3404"/>
                  <a:pt x="1315" y="3483"/>
                  <a:pt x="1305" y="3563"/>
                </a:cubicBezTo>
                <a:cubicBezTo>
                  <a:pt x="1296" y="3633"/>
                  <a:pt x="1312" y="3728"/>
                  <a:pt x="1374" y="3772"/>
                </a:cubicBezTo>
                <a:cubicBezTo>
                  <a:pt x="1445" y="3822"/>
                  <a:pt x="1536" y="3815"/>
                  <a:pt x="1613" y="3793"/>
                </a:cubicBezTo>
                <a:cubicBezTo>
                  <a:pt x="1706" y="3766"/>
                  <a:pt x="1798" y="3710"/>
                  <a:pt x="1860" y="3635"/>
                </a:cubicBezTo>
                <a:cubicBezTo>
                  <a:pt x="1915" y="3568"/>
                  <a:pt x="1964" y="3464"/>
                  <a:pt x="1958" y="3375"/>
                </a:cubicBezTo>
                <a:cubicBezTo>
                  <a:pt x="1953" y="3299"/>
                  <a:pt x="1902" y="3199"/>
                  <a:pt x="1830" y="3166"/>
                </a:cubicBezTo>
                <a:cubicBezTo>
                  <a:pt x="1763" y="3135"/>
                  <a:pt x="1709" y="3145"/>
                  <a:pt x="1643" y="3157"/>
                </a:cubicBezTo>
              </a:path>
              <a:path w="1959" h="9521">
                <a:moveTo>
                  <a:pt x="653" y="2001"/>
                </a:moveTo>
                <a:cubicBezTo>
                  <a:pt x="671" y="1998"/>
                  <a:pt x="664" y="1985"/>
                  <a:pt x="687" y="1997"/>
                </a:cubicBezTo>
                <a:cubicBezTo>
                  <a:pt x="719" y="2014"/>
                  <a:pt x="736" y="2044"/>
                  <a:pt x="755" y="2074"/>
                </a:cubicBezTo>
                <a:cubicBezTo>
                  <a:pt x="787" y="2123"/>
                  <a:pt x="805" y="2185"/>
                  <a:pt x="810" y="2244"/>
                </a:cubicBezTo>
                <a:cubicBezTo>
                  <a:pt x="816" y="2316"/>
                  <a:pt x="808" y="2397"/>
                  <a:pt x="776" y="2462"/>
                </a:cubicBezTo>
                <a:cubicBezTo>
                  <a:pt x="740" y="2535"/>
                  <a:pt x="686" y="2600"/>
                  <a:pt x="631" y="2658"/>
                </a:cubicBezTo>
                <a:cubicBezTo>
                  <a:pt x="583" y="2709"/>
                  <a:pt x="531" y="2743"/>
                  <a:pt x="469" y="2773"/>
                </a:cubicBezTo>
                <a:cubicBezTo>
                  <a:pt x="451" y="2782"/>
                  <a:pt x="439" y="2785"/>
                  <a:pt x="422" y="2790"/>
                </a:cubicBezTo>
                <a:cubicBezTo>
                  <a:pt x="444" y="2759"/>
                  <a:pt x="470" y="2733"/>
                  <a:pt x="495" y="2705"/>
                </a:cubicBezTo>
                <a:cubicBezTo>
                  <a:pt x="545" y="2649"/>
                  <a:pt x="595" y="2596"/>
                  <a:pt x="631" y="2530"/>
                </a:cubicBezTo>
                <a:cubicBezTo>
                  <a:pt x="668" y="2463"/>
                  <a:pt x="712" y="2390"/>
                  <a:pt x="721" y="2313"/>
                </a:cubicBezTo>
                <a:cubicBezTo>
                  <a:pt x="729" y="2250"/>
                  <a:pt x="722" y="2189"/>
                  <a:pt x="691" y="2133"/>
                </a:cubicBezTo>
                <a:cubicBezTo>
                  <a:pt x="668" y="2092"/>
                  <a:pt x="622" y="2072"/>
                  <a:pt x="580" y="2099"/>
                </a:cubicBezTo>
                <a:cubicBezTo>
                  <a:pt x="507" y="2145"/>
                  <a:pt x="461" y="2238"/>
                  <a:pt x="426" y="2313"/>
                </a:cubicBezTo>
                <a:cubicBezTo>
                  <a:pt x="381" y="2408"/>
                  <a:pt x="337" y="2517"/>
                  <a:pt x="337" y="2624"/>
                </a:cubicBezTo>
                <a:cubicBezTo>
                  <a:pt x="345" y="2673"/>
                  <a:pt x="349" y="2690"/>
                  <a:pt x="375" y="2714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9" name="Freeform 5"/>
          <p:cNvSpPr/>
          <p:nvPr/>
        </p:nvSpPr>
        <p:spPr>
          <a:xfrm>
            <a:off x="2716200" y="1928880"/>
            <a:ext cx="1590840" cy="4233960"/>
          </a:xfrm>
          <a:custGeom>
            <a:avLst/>
            <a:gdLst/>
            <a:ahLst/>
            <a:rect l="l" t="t" r="r" b="b"/>
            <a:pathLst>
              <a:path w="4418" h="11758">
                <a:moveTo>
                  <a:pt x="3836" y="82"/>
                </a:moveTo>
                <a:cubicBezTo>
                  <a:pt x="3791" y="47"/>
                  <a:pt x="3760" y="19"/>
                  <a:pt x="3696" y="26"/>
                </a:cubicBezTo>
                <a:cubicBezTo>
                  <a:pt x="3638" y="33"/>
                  <a:pt x="3592" y="64"/>
                  <a:pt x="3550" y="103"/>
                </a:cubicBezTo>
                <a:cubicBezTo>
                  <a:pt x="3350" y="284"/>
                  <a:pt x="3305" y="599"/>
                  <a:pt x="3316" y="854"/>
                </a:cubicBezTo>
                <a:cubicBezTo>
                  <a:pt x="3323" y="1019"/>
                  <a:pt x="3358" y="1212"/>
                  <a:pt x="3444" y="1357"/>
                </a:cubicBezTo>
                <a:cubicBezTo>
                  <a:pt x="3512" y="1472"/>
                  <a:pt x="3627" y="1569"/>
                  <a:pt x="3760" y="1596"/>
                </a:cubicBezTo>
                <a:cubicBezTo>
                  <a:pt x="3882" y="1620"/>
                  <a:pt x="4011" y="1576"/>
                  <a:pt x="4105" y="1498"/>
                </a:cubicBezTo>
                <a:cubicBezTo>
                  <a:pt x="4226" y="1398"/>
                  <a:pt x="4286" y="1246"/>
                  <a:pt x="4319" y="1097"/>
                </a:cubicBezTo>
                <a:cubicBezTo>
                  <a:pt x="4388" y="782"/>
                  <a:pt x="4358" y="272"/>
                  <a:pt x="4071" y="60"/>
                </a:cubicBezTo>
                <a:cubicBezTo>
                  <a:pt x="3885" y="-78"/>
                  <a:pt x="3639" y="44"/>
                  <a:pt x="3486" y="171"/>
                </a:cubicBezTo>
                <a:cubicBezTo>
                  <a:pt x="3228" y="385"/>
                  <a:pt x="2948" y="808"/>
                  <a:pt x="2979" y="1161"/>
                </a:cubicBezTo>
                <a:cubicBezTo>
                  <a:pt x="2993" y="1315"/>
                  <a:pt x="3068" y="1355"/>
                  <a:pt x="3196" y="1400"/>
                </a:cubicBezTo>
              </a:path>
              <a:path w="4418" h="11758">
                <a:moveTo>
                  <a:pt x="3533" y="1485"/>
                </a:moveTo>
                <a:cubicBezTo>
                  <a:pt x="3534" y="1496"/>
                  <a:pt x="3540" y="1506"/>
                  <a:pt x="3542" y="1520"/>
                </a:cubicBezTo>
                <a:cubicBezTo>
                  <a:pt x="3546" y="1552"/>
                  <a:pt x="3565" y="1583"/>
                  <a:pt x="3550" y="1618"/>
                </a:cubicBezTo>
                <a:cubicBezTo>
                  <a:pt x="3545" y="1630"/>
                  <a:pt x="3537" y="1637"/>
                  <a:pt x="3529" y="1648"/>
                </a:cubicBezTo>
                <a:cubicBezTo>
                  <a:pt x="3522" y="1658"/>
                  <a:pt x="3514" y="1658"/>
                  <a:pt x="3508" y="1665"/>
                </a:cubicBezTo>
                <a:cubicBezTo>
                  <a:pt x="3502" y="1672"/>
                  <a:pt x="3485" y="1673"/>
                  <a:pt x="3478" y="1682"/>
                </a:cubicBezTo>
                <a:cubicBezTo>
                  <a:pt x="3469" y="1694"/>
                  <a:pt x="3451" y="1705"/>
                  <a:pt x="3444" y="1720"/>
                </a:cubicBezTo>
                <a:cubicBezTo>
                  <a:pt x="3431" y="1747"/>
                  <a:pt x="3433" y="1776"/>
                  <a:pt x="3427" y="1806"/>
                </a:cubicBezTo>
                <a:cubicBezTo>
                  <a:pt x="3421" y="1839"/>
                  <a:pt x="3421" y="1875"/>
                  <a:pt x="3418" y="1908"/>
                </a:cubicBezTo>
                <a:cubicBezTo>
                  <a:pt x="3413" y="1962"/>
                  <a:pt x="3408" y="2016"/>
                  <a:pt x="3405" y="2070"/>
                </a:cubicBezTo>
                <a:cubicBezTo>
                  <a:pt x="3401" y="2138"/>
                  <a:pt x="3402" y="2207"/>
                  <a:pt x="3397" y="2275"/>
                </a:cubicBezTo>
                <a:cubicBezTo>
                  <a:pt x="3392" y="2354"/>
                  <a:pt x="3390" y="2434"/>
                  <a:pt x="3384" y="2514"/>
                </a:cubicBezTo>
                <a:cubicBezTo>
                  <a:pt x="3382" y="2542"/>
                  <a:pt x="3377" y="2563"/>
                  <a:pt x="3375" y="2591"/>
                </a:cubicBezTo>
                <a:cubicBezTo>
                  <a:pt x="3375" y="2594"/>
                  <a:pt x="3375" y="2596"/>
                  <a:pt x="3375" y="2599"/>
                </a:cubicBezTo>
                <a:cubicBezTo>
                  <a:pt x="3378" y="2584"/>
                  <a:pt x="3381" y="2589"/>
                  <a:pt x="3384" y="2574"/>
                </a:cubicBezTo>
                <a:cubicBezTo>
                  <a:pt x="3400" y="2495"/>
                  <a:pt x="3412" y="2415"/>
                  <a:pt x="3422" y="2335"/>
                </a:cubicBezTo>
                <a:cubicBezTo>
                  <a:pt x="3452" y="2101"/>
                  <a:pt x="3459" y="1851"/>
                  <a:pt x="3533" y="1626"/>
                </a:cubicBezTo>
                <a:cubicBezTo>
                  <a:pt x="3539" y="1609"/>
                  <a:pt x="3549" y="1592"/>
                  <a:pt x="3555" y="1575"/>
                </a:cubicBezTo>
                <a:cubicBezTo>
                  <a:pt x="3557" y="1670"/>
                  <a:pt x="3562" y="1762"/>
                  <a:pt x="3563" y="1857"/>
                </a:cubicBezTo>
                <a:cubicBezTo>
                  <a:pt x="3566" y="2233"/>
                  <a:pt x="3509" y="2619"/>
                  <a:pt x="3405" y="2979"/>
                </a:cubicBezTo>
                <a:cubicBezTo>
                  <a:pt x="3311" y="3302"/>
                  <a:pt x="3179" y="3613"/>
                  <a:pt x="3030" y="3914"/>
                </a:cubicBezTo>
                <a:cubicBezTo>
                  <a:pt x="2905" y="4166"/>
                  <a:pt x="2774" y="4417"/>
                  <a:pt x="2667" y="4677"/>
                </a:cubicBezTo>
                <a:cubicBezTo>
                  <a:pt x="2557" y="4944"/>
                  <a:pt x="2460" y="5221"/>
                  <a:pt x="2432" y="5510"/>
                </a:cubicBezTo>
                <a:cubicBezTo>
                  <a:pt x="2420" y="5632"/>
                  <a:pt x="2434" y="5744"/>
                  <a:pt x="2449" y="5864"/>
                </a:cubicBezTo>
              </a:path>
              <a:path w="4418" h="11758">
                <a:moveTo>
                  <a:pt x="2266" y="3717"/>
                </a:moveTo>
                <a:cubicBezTo>
                  <a:pt x="2383" y="3837"/>
                  <a:pt x="2495" y="3939"/>
                  <a:pt x="2654" y="4003"/>
                </a:cubicBezTo>
                <a:cubicBezTo>
                  <a:pt x="3040" y="4159"/>
                  <a:pt x="3455" y="4054"/>
                  <a:pt x="3806" y="3862"/>
                </a:cubicBezTo>
                <a:cubicBezTo>
                  <a:pt x="3982" y="3766"/>
                  <a:pt x="4158" y="3634"/>
                  <a:pt x="4272" y="3466"/>
                </a:cubicBezTo>
                <a:cubicBezTo>
                  <a:pt x="4446" y="3207"/>
                  <a:pt x="4452" y="2887"/>
                  <a:pt x="4340" y="2604"/>
                </a:cubicBezTo>
                <a:cubicBezTo>
                  <a:pt x="4256" y="2393"/>
                  <a:pt x="4110" y="2215"/>
                  <a:pt x="3930" y="2079"/>
                </a:cubicBezTo>
                <a:cubicBezTo>
                  <a:pt x="3632" y="1855"/>
                  <a:pt x="3265" y="1799"/>
                  <a:pt x="2936" y="1985"/>
                </a:cubicBezTo>
                <a:cubicBezTo>
                  <a:pt x="2751" y="2090"/>
                  <a:pt x="2612" y="2263"/>
                  <a:pt x="2501" y="2441"/>
                </a:cubicBezTo>
                <a:cubicBezTo>
                  <a:pt x="2378" y="2638"/>
                  <a:pt x="2291" y="2865"/>
                  <a:pt x="2249" y="3094"/>
                </a:cubicBezTo>
                <a:cubicBezTo>
                  <a:pt x="2183" y="3453"/>
                  <a:pt x="2252" y="3837"/>
                  <a:pt x="2582" y="4042"/>
                </a:cubicBezTo>
                <a:cubicBezTo>
                  <a:pt x="2764" y="4156"/>
                  <a:pt x="2980" y="4176"/>
                  <a:pt x="3188" y="4148"/>
                </a:cubicBezTo>
                <a:cubicBezTo>
                  <a:pt x="3473" y="4110"/>
                  <a:pt x="3751" y="3953"/>
                  <a:pt x="3952" y="3751"/>
                </a:cubicBezTo>
                <a:cubicBezTo>
                  <a:pt x="4275" y="3426"/>
                  <a:pt x="4377" y="2960"/>
                  <a:pt x="4314" y="2518"/>
                </a:cubicBezTo>
                <a:cubicBezTo>
                  <a:pt x="4266" y="2179"/>
                  <a:pt x="4116" y="1776"/>
                  <a:pt x="3785" y="1618"/>
                </a:cubicBezTo>
                <a:cubicBezTo>
                  <a:pt x="3469" y="1467"/>
                  <a:pt x="3121" y="1659"/>
                  <a:pt x="2902" y="1887"/>
                </a:cubicBezTo>
                <a:cubicBezTo>
                  <a:pt x="2701" y="2097"/>
                  <a:pt x="2570" y="2387"/>
                  <a:pt x="2488" y="2663"/>
                </a:cubicBezTo>
                <a:cubicBezTo>
                  <a:pt x="2375" y="3043"/>
                  <a:pt x="2326" y="3502"/>
                  <a:pt x="2548" y="3854"/>
                </a:cubicBezTo>
                <a:cubicBezTo>
                  <a:pt x="2683" y="4069"/>
                  <a:pt x="2896" y="4126"/>
                  <a:pt x="3124" y="4182"/>
                </a:cubicBezTo>
              </a:path>
              <a:path w="4418" h="11758">
                <a:moveTo>
                  <a:pt x="2253" y="5151"/>
                </a:moveTo>
                <a:cubicBezTo>
                  <a:pt x="2295" y="5261"/>
                  <a:pt x="2311" y="5303"/>
                  <a:pt x="2343" y="5377"/>
                </a:cubicBezTo>
              </a:path>
              <a:path w="4418" h="11758">
                <a:moveTo>
                  <a:pt x="2898" y="6017"/>
                </a:moveTo>
                <a:cubicBezTo>
                  <a:pt x="3243" y="6144"/>
                  <a:pt x="3526" y="6070"/>
                  <a:pt x="3764" y="5778"/>
                </a:cubicBezTo>
                <a:cubicBezTo>
                  <a:pt x="3930" y="5574"/>
                  <a:pt x="4016" y="5306"/>
                  <a:pt x="4011" y="5044"/>
                </a:cubicBezTo>
                <a:cubicBezTo>
                  <a:pt x="4005" y="4735"/>
                  <a:pt x="3848" y="4448"/>
                  <a:pt x="3542" y="4357"/>
                </a:cubicBezTo>
                <a:cubicBezTo>
                  <a:pt x="3334" y="4295"/>
                  <a:pt x="3101" y="4336"/>
                  <a:pt x="2902" y="4413"/>
                </a:cubicBezTo>
                <a:cubicBezTo>
                  <a:pt x="2688" y="4496"/>
                  <a:pt x="2494" y="4629"/>
                  <a:pt x="2330" y="4788"/>
                </a:cubicBezTo>
                <a:cubicBezTo>
                  <a:pt x="2190" y="4924"/>
                  <a:pt x="2088" y="5074"/>
                  <a:pt x="2014" y="5254"/>
                </a:cubicBezTo>
                <a:cubicBezTo>
                  <a:pt x="1961" y="5382"/>
                  <a:pt x="1945" y="5506"/>
                  <a:pt x="2031" y="5625"/>
                </a:cubicBezTo>
                <a:cubicBezTo>
                  <a:pt x="2122" y="5750"/>
                  <a:pt x="2292" y="5798"/>
                  <a:pt x="2437" y="5817"/>
                </a:cubicBezTo>
                <a:cubicBezTo>
                  <a:pt x="2631" y="5843"/>
                  <a:pt x="2826" y="5811"/>
                  <a:pt x="3013" y="5761"/>
                </a:cubicBezTo>
                <a:cubicBezTo>
                  <a:pt x="3193" y="5713"/>
                  <a:pt x="3348" y="5632"/>
                  <a:pt x="3491" y="5514"/>
                </a:cubicBezTo>
                <a:cubicBezTo>
                  <a:pt x="3657" y="5377"/>
                  <a:pt x="3782" y="5175"/>
                  <a:pt x="3700" y="4955"/>
                </a:cubicBezTo>
                <a:cubicBezTo>
                  <a:pt x="3619" y="4740"/>
                  <a:pt x="3388" y="4597"/>
                  <a:pt x="3179" y="4532"/>
                </a:cubicBezTo>
                <a:cubicBezTo>
                  <a:pt x="2932" y="4455"/>
                  <a:pt x="2636" y="4475"/>
                  <a:pt x="2407" y="4592"/>
                </a:cubicBezTo>
                <a:cubicBezTo>
                  <a:pt x="1996" y="4801"/>
                  <a:pt x="1922" y="5192"/>
                  <a:pt x="1967" y="5608"/>
                </a:cubicBezTo>
              </a:path>
              <a:path w="4418" h="11758">
                <a:moveTo>
                  <a:pt x="2146" y="5164"/>
                </a:moveTo>
                <a:cubicBezTo>
                  <a:pt x="1903" y="5939"/>
                  <a:pt x="2049" y="6687"/>
                  <a:pt x="2134" y="7477"/>
                </a:cubicBezTo>
                <a:cubicBezTo>
                  <a:pt x="2142" y="7556"/>
                  <a:pt x="2170" y="7668"/>
                  <a:pt x="2142" y="7746"/>
                </a:cubicBezTo>
                <a:cubicBezTo>
                  <a:pt x="2106" y="7847"/>
                  <a:pt x="1995" y="7899"/>
                  <a:pt x="1916" y="7968"/>
                </a:cubicBezTo>
                <a:cubicBezTo>
                  <a:pt x="1674" y="8179"/>
                  <a:pt x="1535" y="8464"/>
                  <a:pt x="1400" y="8753"/>
                </a:cubicBezTo>
                <a:cubicBezTo>
                  <a:pt x="1152" y="9283"/>
                  <a:pt x="912" y="9768"/>
                  <a:pt x="550" y="10229"/>
                </a:cubicBezTo>
                <a:cubicBezTo>
                  <a:pt x="451" y="10355"/>
                  <a:pt x="348" y="10479"/>
                  <a:pt x="260" y="10613"/>
                </a:cubicBezTo>
                <a:cubicBezTo>
                  <a:pt x="253" y="10624"/>
                  <a:pt x="250" y="10626"/>
                  <a:pt x="252" y="10635"/>
                </a:cubicBezTo>
                <a:cubicBezTo>
                  <a:pt x="273" y="10613"/>
                  <a:pt x="306" y="10592"/>
                  <a:pt x="329" y="10566"/>
                </a:cubicBezTo>
                <a:cubicBezTo>
                  <a:pt x="645" y="10211"/>
                  <a:pt x="857" y="9778"/>
                  <a:pt x="1097" y="9372"/>
                </a:cubicBezTo>
                <a:cubicBezTo>
                  <a:pt x="1143" y="9294"/>
                  <a:pt x="1195" y="9227"/>
                  <a:pt x="1246" y="9154"/>
                </a:cubicBezTo>
                <a:cubicBezTo>
                  <a:pt x="1237" y="9177"/>
                  <a:pt x="1222" y="9258"/>
                  <a:pt x="1203" y="9295"/>
                </a:cubicBezTo>
                <a:cubicBezTo>
                  <a:pt x="863" y="9973"/>
                  <a:pt x="422" y="10598"/>
                  <a:pt x="77" y="11275"/>
                </a:cubicBezTo>
                <a:cubicBezTo>
                  <a:pt x="65" y="11299"/>
                  <a:pt x="55" y="11323"/>
                  <a:pt x="43" y="11347"/>
                </a:cubicBezTo>
                <a:cubicBezTo>
                  <a:pt x="133" y="11268"/>
                  <a:pt x="217" y="11190"/>
                  <a:pt x="324" y="11130"/>
                </a:cubicBezTo>
                <a:cubicBezTo>
                  <a:pt x="525" y="11017"/>
                  <a:pt x="702" y="10999"/>
                  <a:pt x="926" y="11015"/>
                </a:cubicBezTo>
              </a:path>
              <a:path w="4418" h="11758">
                <a:moveTo>
                  <a:pt x="3678" y="2309"/>
                </a:moveTo>
                <a:cubicBezTo>
                  <a:pt x="3678" y="2454"/>
                  <a:pt x="3671" y="2592"/>
                  <a:pt x="3653" y="2736"/>
                </a:cubicBezTo>
                <a:cubicBezTo>
                  <a:pt x="3628" y="2936"/>
                  <a:pt x="3593" y="3141"/>
                  <a:pt x="3533" y="3333"/>
                </a:cubicBezTo>
                <a:cubicBezTo>
                  <a:pt x="3489" y="3476"/>
                  <a:pt x="3432" y="3609"/>
                  <a:pt x="3367" y="3743"/>
                </a:cubicBezTo>
                <a:cubicBezTo>
                  <a:pt x="3252" y="3981"/>
                  <a:pt x="3099" y="4198"/>
                  <a:pt x="2974" y="4430"/>
                </a:cubicBezTo>
                <a:cubicBezTo>
                  <a:pt x="2827" y="4703"/>
                  <a:pt x="2726" y="4992"/>
                  <a:pt x="2667" y="5296"/>
                </a:cubicBezTo>
                <a:cubicBezTo>
                  <a:pt x="2650" y="5384"/>
                  <a:pt x="2626" y="5484"/>
                  <a:pt x="2641" y="5574"/>
                </a:cubicBezTo>
                <a:cubicBezTo>
                  <a:pt x="2649" y="5585"/>
                  <a:pt x="2651" y="5587"/>
                  <a:pt x="2654" y="5595"/>
                </a:cubicBezTo>
                <a:cubicBezTo>
                  <a:pt x="2673" y="5581"/>
                  <a:pt x="2689" y="5598"/>
                  <a:pt x="2710" y="5569"/>
                </a:cubicBezTo>
                <a:cubicBezTo>
                  <a:pt x="2753" y="5511"/>
                  <a:pt x="2767" y="5407"/>
                  <a:pt x="2778" y="5339"/>
                </a:cubicBezTo>
                <a:cubicBezTo>
                  <a:pt x="2807" y="5158"/>
                  <a:pt x="2826" y="4975"/>
                  <a:pt x="2851" y="4793"/>
                </a:cubicBezTo>
                <a:cubicBezTo>
                  <a:pt x="2859" y="4736"/>
                  <a:pt x="2868" y="4679"/>
                  <a:pt x="2876" y="4622"/>
                </a:cubicBezTo>
              </a:path>
              <a:path w="4418" h="11758">
                <a:moveTo>
                  <a:pt x="3674" y="1831"/>
                </a:moveTo>
                <a:cubicBezTo>
                  <a:pt x="3674" y="1851"/>
                  <a:pt x="3670" y="1836"/>
                  <a:pt x="3670" y="1865"/>
                </a:cubicBezTo>
                <a:cubicBezTo>
                  <a:pt x="3664" y="2230"/>
                  <a:pt x="3723" y="2594"/>
                  <a:pt x="3661" y="2958"/>
                </a:cubicBezTo>
                <a:cubicBezTo>
                  <a:pt x="3568" y="3505"/>
                  <a:pt x="3283" y="4006"/>
                  <a:pt x="2919" y="4417"/>
                </a:cubicBezTo>
                <a:cubicBezTo>
                  <a:pt x="2661" y="4708"/>
                  <a:pt x="2432" y="5008"/>
                  <a:pt x="2321" y="5386"/>
                </a:cubicBezTo>
                <a:cubicBezTo>
                  <a:pt x="2250" y="5626"/>
                  <a:pt x="2200" y="5890"/>
                  <a:pt x="2219" y="6141"/>
                </a:cubicBezTo>
                <a:cubicBezTo>
                  <a:pt x="2224" y="6202"/>
                  <a:pt x="2246" y="6259"/>
                  <a:pt x="2257" y="6312"/>
                </a:cubicBezTo>
              </a:path>
              <a:path w="4418" h="11758">
                <a:moveTo>
                  <a:pt x="2240" y="5015"/>
                </a:moveTo>
                <a:cubicBezTo>
                  <a:pt x="2196" y="5131"/>
                  <a:pt x="2153" y="5238"/>
                  <a:pt x="2125" y="5360"/>
                </a:cubicBezTo>
                <a:cubicBezTo>
                  <a:pt x="1950" y="6116"/>
                  <a:pt x="2120" y="6893"/>
                  <a:pt x="2142" y="7656"/>
                </a:cubicBezTo>
                <a:cubicBezTo>
                  <a:pt x="2143" y="7689"/>
                  <a:pt x="2141" y="7721"/>
                  <a:pt x="2142" y="7754"/>
                </a:cubicBezTo>
                <a:cubicBezTo>
                  <a:pt x="2140" y="7721"/>
                  <a:pt x="2135" y="7679"/>
                  <a:pt x="2134" y="7643"/>
                </a:cubicBezTo>
                <a:cubicBezTo>
                  <a:pt x="2132" y="7511"/>
                  <a:pt x="2127" y="7379"/>
                  <a:pt x="2125" y="7246"/>
                </a:cubicBezTo>
                <a:cubicBezTo>
                  <a:pt x="2122" y="7024"/>
                  <a:pt x="2129" y="6803"/>
                  <a:pt x="2134" y="6581"/>
                </a:cubicBezTo>
                <a:cubicBezTo>
                  <a:pt x="2133" y="6685"/>
                  <a:pt x="2131" y="6788"/>
                  <a:pt x="2129" y="6892"/>
                </a:cubicBezTo>
                <a:cubicBezTo>
                  <a:pt x="2124" y="7125"/>
                  <a:pt x="2121" y="7357"/>
                  <a:pt x="2095" y="7588"/>
                </a:cubicBezTo>
                <a:cubicBezTo>
                  <a:pt x="2058" y="7916"/>
                  <a:pt x="1963" y="8167"/>
                  <a:pt x="1745" y="8411"/>
                </a:cubicBezTo>
                <a:cubicBezTo>
                  <a:pt x="1449" y="8744"/>
                  <a:pt x="1181" y="9050"/>
                  <a:pt x="943" y="9431"/>
                </a:cubicBezTo>
                <a:cubicBezTo>
                  <a:pt x="716" y="9794"/>
                  <a:pt x="479" y="10147"/>
                  <a:pt x="290" y="10532"/>
                </a:cubicBezTo>
                <a:cubicBezTo>
                  <a:pt x="181" y="10755"/>
                  <a:pt x="81" y="10987"/>
                  <a:pt x="0" y="11219"/>
                </a:cubicBezTo>
                <a:cubicBezTo>
                  <a:pt x="0" y="11222"/>
                  <a:pt x="0" y="11225"/>
                  <a:pt x="0" y="11228"/>
                </a:cubicBezTo>
                <a:cubicBezTo>
                  <a:pt x="9" y="11214"/>
                  <a:pt x="29" y="11197"/>
                  <a:pt x="43" y="11172"/>
                </a:cubicBezTo>
                <a:cubicBezTo>
                  <a:pt x="79" y="11107"/>
                  <a:pt x="113" y="11041"/>
                  <a:pt x="149" y="10976"/>
                </a:cubicBezTo>
                <a:cubicBezTo>
                  <a:pt x="225" y="10840"/>
                  <a:pt x="299" y="10701"/>
                  <a:pt x="376" y="10566"/>
                </a:cubicBezTo>
                <a:cubicBezTo>
                  <a:pt x="248" y="10831"/>
                  <a:pt x="7" y="11216"/>
                  <a:pt x="124" y="11518"/>
                </a:cubicBezTo>
                <a:cubicBezTo>
                  <a:pt x="154" y="11595"/>
                  <a:pt x="343" y="11841"/>
                  <a:pt x="448" y="11740"/>
                </a:cubicBezTo>
                <a:cubicBezTo>
                  <a:pt x="532" y="11659"/>
                  <a:pt x="483" y="11526"/>
                  <a:pt x="491" y="11433"/>
                </a:cubicBezTo>
              </a:path>
              <a:path w="4418" h="11758">
                <a:moveTo>
                  <a:pt x="1558" y="7840"/>
                </a:moveTo>
                <a:cubicBezTo>
                  <a:pt x="1534" y="7870"/>
                  <a:pt x="1519" y="7889"/>
                  <a:pt x="1511" y="7929"/>
                </a:cubicBezTo>
                <a:cubicBezTo>
                  <a:pt x="1483" y="8068"/>
                  <a:pt x="1475" y="8218"/>
                  <a:pt x="1489" y="8360"/>
                </a:cubicBezTo>
                <a:cubicBezTo>
                  <a:pt x="1501" y="8484"/>
                  <a:pt x="1531" y="8631"/>
                  <a:pt x="1634" y="8710"/>
                </a:cubicBezTo>
                <a:cubicBezTo>
                  <a:pt x="1710" y="8768"/>
                  <a:pt x="1802" y="8765"/>
                  <a:pt x="1886" y="8727"/>
                </a:cubicBezTo>
                <a:cubicBezTo>
                  <a:pt x="1991" y="8680"/>
                  <a:pt x="2065" y="8581"/>
                  <a:pt x="2112" y="8480"/>
                </a:cubicBezTo>
                <a:cubicBezTo>
                  <a:pt x="2168" y="8359"/>
                  <a:pt x="2190" y="8236"/>
                  <a:pt x="2164" y="8104"/>
                </a:cubicBezTo>
                <a:cubicBezTo>
                  <a:pt x="2139" y="7977"/>
                  <a:pt x="2057" y="7840"/>
                  <a:pt x="1920" y="7814"/>
                </a:cubicBezTo>
                <a:cubicBezTo>
                  <a:pt x="1811" y="7793"/>
                  <a:pt x="1716" y="7863"/>
                  <a:pt x="1647" y="7938"/>
                </a:cubicBezTo>
                <a:cubicBezTo>
                  <a:pt x="1558" y="8035"/>
                  <a:pt x="1501" y="8165"/>
                  <a:pt x="1468" y="8292"/>
                </a:cubicBezTo>
                <a:cubicBezTo>
                  <a:pt x="1442" y="8393"/>
                  <a:pt x="1431" y="8514"/>
                  <a:pt x="1472" y="8612"/>
                </a:cubicBezTo>
                <a:cubicBezTo>
                  <a:pt x="1504" y="8689"/>
                  <a:pt x="1580" y="8725"/>
                  <a:pt x="1660" y="8723"/>
                </a:cubicBezTo>
                <a:cubicBezTo>
                  <a:pt x="1752" y="8721"/>
                  <a:pt x="1844" y="8667"/>
                  <a:pt x="1903" y="8599"/>
                </a:cubicBezTo>
                <a:cubicBezTo>
                  <a:pt x="1973" y="8518"/>
                  <a:pt x="2006" y="8406"/>
                  <a:pt x="2010" y="8301"/>
                </a:cubicBezTo>
                <a:cubicBezTo>
                  <a:pt x="2015" y="8178"/>
                  <a:pt x="1974" y="8036"/>
                  <a:pt x="1865" y="7968"/>
                </a:cubicBezTo>
                <a:cubicBezTo>
                  <a:pt x="1773" y="7910"/>
                  <a:pt x="1678" y="7942"/>
                  <a:pt x="1596" y="7998"/>
                </a:cubicBezTo>
                <a:cubicBezTo>
                  <a:pt x="1492" y="8069"/>
                  <a:pt x="1391" y="8203"/>
                  <a:pt x="1348" y="8322"/>
                </a:cubicBezTo>
                <a:cubicBezTo>
                  <a:pt x="1340" y="8359"/>
                  <a:pt x="1331" y="8396"/>
                  <a:pt x="1323" y="843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0" name="Freeform 6"/>
          <p:cNvSpPr/>
          <p:nvPr/>
        </p:nvSpPr>
        <p:spPr>
          <a:xfrm>
            <a:off x="2706840" y="1905120"/>
            <a:ext cx="1512720" cy="1904760"/>
          </a:xfrm>
          <a:custGeom>
            <a:avLst/>
            <a:gdLst/>
            <a:ahLst/>
            <a:rect l="l" t="t" r="r" b="b"/>
            <a:pathLst>
              <a:path w="4200" h="5293">
                <a:moveTo>
                  <a:pt x="2710" y="1946"/>
                </a:moveTo>
                <a:cubicBezTo>
                  <a:pt x="2637" y="1943"/>
                  <a:pt x="2571" y="1940"/>
                  <a:pt x="2497" y="1946"/>
                </a:cubicBezTo>
                <a:cubicBezTo>
                  <a:pt x="2378" y="1956"/>
                  <a:pt x="2275" y="1981"/>
                  <a:pt x="2164" y="2027"/>
                </a:cubicBezTo>
                <a:cubicBezTo>
                  <a:pt x="1729" y="2205"/>
                  <a:pt x="1325" y="2502"/>
                  <a:pt x="995" y="2834"/>
                </a:cubicBezTo>
                <a:cubicBezTo>
                  <a:pt x="827" y="3003"/>
                  <a:pt x="669" y="3187"/>
                  <a:pt x="530" y="3380"/>
                </a:cubicBezTo>
                <a:cubicBezTo>
                  <a:pt x="412" y="3545"/>
                  <a:pt x="284" y="3729"/>
                  <a:pt x="227" y="3926"/>
                </a:cubicBezTo>
                <a:cubicBezTo>
                  <a:pt x="213" y="3976"/>
                  <a:pt x="212" y="4008"/>
                  <a:pt x="214" y="4058"/>
                </a:cubicBezTo>
                <a:cubicBezTo>
                  <a:pt x="220" y="4199"/>
                  <a:pt x="219" y="4320"/>
                  <a:pt x="197" y="4464"/>
                </a:cubicBezTo>
                <a:cubicBezTo>
                  <a:pt x="168" y="4651"/>
                  <a:pt x="131" y="4841"/>
                  <a:pt x="86" y="5023"/>
                </a:cubicBezTo>
                <a:cubicBezTo>
                  <a:pt x="86" y="5020"/>
                  <a:pt x="86" y="5017"/>
                  <a:pt x="86" y="5014"/>
                </a:cubicBezTo>
                <a:cubicBezTo>
                  <a:pt x="99" y="4818"/>
                  <a:pt x="119" y="4621"/>
                  <a:pt x="133" y="4425"/>
                </a:cubicBezTo>
                <a:cubicBezTo>
                  <a:pt x="145" y="4260"/>
                  <a:pt x="161" y="4095"/>
                  <a:pt x="180" y="3930"/>
                </a:cubicBezTo>
                <a:cubicBezTo>
                  <a:pt x="194" y="3812"/>
                  <a:pt x="202" y="3694"/>
                  <a:pt x="286" y="3606"/>
                </a:cubicBezTo>
                <a:cubicBezTo>
                  <a:pt x="330" y="3560"/>
                  <a:pt x="403" y="3536"/>
                  <a:pt x="453" y="3495"/>
                </a:cubicBezTo>
                <a:cubicBezTo>
                  <a:pt x="616" y="3363"/>
                  <a:pt x="758" y="3184"/>
                  <a:pt x="905" y="3034"/>
                </a:cubicBezTo>
                <a:cubicBezTo>
                  <a:pt x="1060" y="2875"/>
                  <a:pt x="1227" y="2747"/>
                  <a:pt x="1409" y="2620"/>
                </a:cubicBezTo>
                <a:cubicBezTo>
                  <a:pt x="1561" y="2514"/>
                  <a:pt x="1717" y="2419"/>
                  <a:pt x="1882" y="2334"/>
                </a:cubicBezTo>
                <a:cubicBezTo>
                  <a:pt x="2112" y="2216"/>
                  <a:pt x="2356" y="2104"/>
                  <a:pt x="2608" y="2053"/>
                </a:cubicBezTo>
                <a:cubicBezTo>
                  <a:pt x="2628" y="2049"/>
                  <a:pt x="2630" y="2051"/>
                  <a:pt x="2650" y="2049"/>
                </a:cubicBezTo>
                <a:cubicBezTo>
                  <a:pt x="2619" y="2044"/>
                  <a:pt x="2584" y="2030"/>
                  <a:pt x="2552" y="2027"/>
                </a:cubicBezTo>
                <a:cubicBezTo>
                  <a:pt x="2318" y="2004"/>
                  <a:pt x="2081" y="2051"/>
                  <a:pt x="1865" y="2142"/>
                </a:cubicBezTo>
                <a:cubicBezTo>
                  <a:pt x="1728" y="2199"/>
                  <a:pt x="1500" y="2330"/>
                  <a:pt x="1413" y="2377"/>
                </a:cubicBezTo>
                <a:cubicBezTo>
                  <a:pt x="1438" y="2361"/>
                  <a:pt x="1450" y="2354"/>
                  <a:pt x="1468" y="2343"/>
                </a:cubicBezTo>
                <a:cubicBezTo>
                  <a:pt x="1540" y="2296"/>
                  <a:pt x="1612" y="2248"/>
                  <a:pt x="1682" y="2198"/>
                </a:cubicBezTo>
                <a:cubicBezTo>
                  <a:pt x="1760" y="2142"/>
                  <a:pt x="1835" y="2083"/>
                  <a:pt x="1912" y="2027"/>
                </a:cubicBezTo>
                <a:cubicBezTo>
                  <a:pt x="1952" y="1998"/>
                  <a:pt x="1989" y="1969"/>
                  <a:pt x="2027" y="1938"/>
                </a:cubicBezTo>
                <a:cubicBezTo>
                  <a:pt x="2009" y="1956"/>
                  <a:pt x="2012" y="1963"/>
                  <a:pt x="1993" y="1980"/>
                </a:cubicBezTo>
                <a:cubicBezTo>
                  <a:pt x="1865" y="2096"/>
                  <a:pt x="1718" y="2195"/>
                  <a:pt x="1575" y="2292"/>
                </a:cubicBezTo>
                <a:cubicBezTo>
                  <a:pt x="1372" y="2430"/>
                  <a:pt x="1160" y="2557"/>
                  <a:pt x="961" y="2701"/>
                </a:cubicBezTo>
                <a:cubicBezTo>
                  <a:pt x="772" y="2837"/>
                  <a:pt x="602" y="2989"/>
                  <a:pt x="500" y="3201"/>
                </a:cubicBezTo>
                <a:cubicBezTo>
                  <a:pt x="439" y="3328"/>
                  <a:pt x="409" y="3455"/>
                  <a:pt x="384" y="3593"/>
                </a:cubicBezTo>
                <a:cubicBezTo>
                  <a:pt x="346" y="3800"/>
                  <a:pt x="322" y="4009"/>
                  <a:pt x="282" y="4216"/>
                </a:cubicBezTo>
                <a:cubicBezTo>
                  <a:pt x="249" y="4385"/>
                  <a:pt x="215" y="4545"/>
                  <a:pt x="192" y="4716"/>
                </a:cubicBezTo>
              </a:path>
              <a:path w="4200" h="5293">
                <a:moveTo>
                  <a:pt x="2433" y="1571"/>
                </a:moveTo>
                <a:cubicBezTo>
                  <a:pt x="2378" y="1565"/>
                  <a:pt x="2350" y="1558"/>
                  <a:pt x="2292" y="1592"/>
                </a:cubicBezTo>
                <a:cubicBezTo>
                  <a:pt x="2219" y="1635"/>
                  <a:pt x="2143" y="1681"/>
                  <a:pt x="2083" y="1741"/>
                </a:cubicBezTo>
                <a:cubicBezTo>
                  <a:pt x="2005" y="1819"/>
                  <a:pt x="1924" y="1915"/>
                  <a:pt x="1869" y="2010"/>
                </a:cubicBezTo>
                <a:cubicBezTo>
                  <a:pt x="1814" y="2105"/>
                  <a:pt x="1774" y="2211"/>
                  <a:pt x="1776" y="2322"/>
                </a:cubicBezTo>
                <a:cubicBezTo>
                  <a:pt x="1778" y="2415"/>
                  <a:pt x="1817" y="2499"/>
                  <a:pt x="1895" y="2552"/>
                </a:cubicBezTo>
                <a:cubicBezTo>
                  <a:pt x="1985" y="2613"/>
                  <a:pt x="2095" y="2615"/>
                  <a:pt x="2198" y="2595"/>
                </a:cubicBezTo>
                <a:cubicBezTo>
                  <a:pt x="2313" y="2572"/>
                  <a:pt x="2420" y="2513"/>
                  <a:pt x="2497" y="2424"/>
                </a:cubicBezTo>
                <a:cubicBezTo>
                  <a:pt x="2576" y="2333"/>
                  <a:pt x="2612" y="2223"/>
                  <a:pt x="2616" y="2104"/>
                </a:cubicBezTo>
                <a:cubicBezTo>
                  <a:pt x="2621" y="1952"/>
                  <a:pt x="2547" y="1813"/>
                  <a:pt x="2429" y="1720"/>
                </a:cubicBezTo>
                <a:cubicBezTo>
                  <a:pt x="2335" y="1646"/>
                  <a:pt x="2207" y="1629"/>
                  <a:pt x="2091" y="1652"/>
                </a:cubicBezTo>
                <a:cubicBezTo>
                  <a:pt x="1949" y="1681"/>
                  <a:pt x="1820" y="1787"/>
                  <a:pt x="1720" y="1886"/>
                </a:cubicBezTo>
                <a:cubicBezTo>
                  <a:pt x="1617" y="1988"/>
                  <a:pt x="1520" y="2124"/>
                  <a:pt x="1464" y="2258"/>
                </a:cubicBezTo>
                <a:cubicBezTo>
                  <a:pt x="1422" y="2357"/>
                  <a:pt x="1414" y="2466"/>
                  <a:pt x="1498" y="2544"/>
                </a:cubicBezTo>
                <a:cubicBezTo>
                  <a:pt x="1572" y="2613"/>
                  <a:pt x="1667" y="2628"/>
                  <a:pt x="1759" y="2654"/>
                </a:cubicBezTo>
              </a:path>
              <a:path w="4200" h="5293">
                <a:moveTo>
                  <a:pt x="495" y="3034"/>
                </a:moveTo>
                <a:cubicBezTo>
                  <a:pt x="486" y="3038"/>
                  <a:pt x="482" y="3038"/>
                  <a:pt x="474" y="3043"/>
                </a:cubicBezTo>
                <a:cubicBezTo>
                  <a:pt x="446" y="3061"/>
                  <a:pt x="413" y="3084"/>
                  <a:pt x="389" y="3107"/>
                </a:cubicBezTo>
                <a:cubicBezTo>
                  <a:pt x="348" y="3147"/>
                  <a:pt x="303" y="3200"/>
                  <a:pt x="278" y="3252"/>
                </a:cubicBezTo>
                <a:cubicBezTo>
                  <a:pt x="253" y="3304"/>
                  <a:pt x="233" y="3377"/>
                  <a:pt x="248" y="3435"/>
                </a:cubicBezTo>
                <a:cubicBezTo>
                  <a:pt x="264" y="3497"/>
                  <a:pt x="305" y="3531"/>
                  <a:pt x="363" y="3551"/>
                </a:cubicBezTo>
                <a:cubicBezTo>
                  <a:pt x="428" y="3573"/>
                  <a:pt x="505" y="3574"/>
                  <a:pt x="572" y="3563"/>
                </a:cubicBezTo>
                <a:cubicBezTo>
                  <a:pt x="643" y="3552"/>
                  <a:pt x="706" y="3518"/>
                  <a:pt x="751" y="3461"/>
                </a:cubicBezTo>
                <a:cubicBezTo>
                  <a:pt x="802" y="3395"/>
                  <a:pt x="796" y="3275"/>
                  <a:pt x="764" y="3201"/>
                </a:cubicBezTo>
                <a:cubicBezTo>
                  <a:pt x="729" y="3119"/>
                  <a:pt x="674" y="3060"/>
                  <a:pt x="598" y="3017"/>
                </a:cubicBezTo>
                <a:cubicBezTo>
                  <a:pt x="519" y="2972"/>
                  <a:pt x="447" y="2981"/>
                  <a:pt x="363" y="3009"/>
                </a:cubicBezTo>
                <a:cubicBezTo>
                  <a:pt x="267" y="3041"/>
                  <a:pt x="205" y="3119"/>
                  <a:pt x="154" y="3205"/>
                </a:cubicBezTo>
                <a:cubicBezTo>
                  <a:pt x="101" y="3295"/>
                  <a:pt x="54" y="3417"/>
                  <a:pt x="94" y="3521"/>
                </a:cubicBezTo>
                <a:cubicBezTo>
                  <a:pt x="122" y="3594"/>
                  <a:pt x="201" y="3617"/>
                  <a:pt x="273" y="3615"/>
                </a:cubicBezTo>
                <a:cubicBezTo>
                  <a:pt x="364" y="3613"/>
                  <a:pt x="468" y="3572"/>
                  <a:pt x="542" y="3521"/>
                </a:cubicBezTo>
                <a:cubicBezTo>
                  <a:pt x="625" y="3464"/>
                  <a:pt x="667" y="3407"/>
                  <a:pt x="696" y="3316"/>
                </a:cubicBezTo>
              </a:path>
              <a:path w="4200" h="5293">
                <a:moveTo>
                  <a:pt x="163" y="4788"/>
                </a:moveTo>
                <a:cubicBezTo>
                  <a:pt x="140" y="4871"/>
                  <a:pt x="110" y="4961"/>
                  <a:pt x="107" y="5048"/>
                </a:cubicBezTo>
                <a:cubicBezTo>
                  <a:pt x="105" y="5114"/>
                  <a:pt x="118" y="5183"/>
                  <a:pt x="163" y="5232"/>
                </a:cubicBezTo>
                <a:cubicBezTo>
                  <a:pt x="217" y="5291"/>
                  <a:pt x="296" y="5283"/>
                  <a:pt x="367" y="5270"/>
                </a:cubicBezTo>
                <a:cubicBezTo>
                  <a:pt x="475" y="5250"/>
                  <a:pt x="571" y="5194"/>
                  <a:pt x="658" y="5130"/>
                </a:cubicBezTo>
                <a:cubicBezTo>
                  <a:pt x="756" y="5057"/>
                  <a:pt x="846" y="4965"/>
                  <a:pt x="862" y="4839"/>
                </a:cubicBezTo>
                <a:cubicBezTo>
                  <a:pt x="873" y="4754"/>
                  <a:pt x="832" y="4677"/>
                  <a:pt x="764" y="4626"/>
                </a:cubicBezTo>
                <a:cubicBezTo>
                  <a:pt x="679" y="4563"/>
                  <a:pt x="550" y="4545"/>
                  <a:pt x="448" y="4562"/>
                </a:cubicBezTo>
                <a:cubicBezTo>
                  <a:pt x="287" y="4589"/>
                  <a:pt x="165" y="4696"/>
                  <a:pt x="81" y="4831"/>
                </a:cubicBezTo>
                <a:cubicBezTo>
                  <a:pt x="26" y="4920"/>
                  <a:pt x="-10" y="5037"/>
                  <a:pt x="5" y="5142"/>
                </a:cubicBezTo>
                <a:cubicBezTo>
                  <a:pt x="19" y="5242"/>
                  <a:pt x="92" y="5266"/>
                  <a:pt x="175" y="5292"/>
                </a:cubicBezTo>
              </a:path>
              <a:path w="4200" h="5293">
                <a:moveTo>
                  <a:pt x="4178" y="1370"/>
                </a:moveTo>
                <a:cubicBezTo>
                  <a:pt x="4195" y="1316"/>
                  <a:pt x="4199" y="1269"/>
                  <a:pt x="4199" y="1212"/>
                </a:cubicBezTo>
                <a:cubicBezTo>
                  <a:pt x="4200" y="1093"/>
                  <a:pt x="4181" y="979"/>
                  <a:pt x="4161" y="862"/>
                </a:cubicBezTo>
                <a:cubicBezTo>
                  <a:pt x="4141" y="743"/>
                  <a:pt x="4121" y="625"/>
                  <a:pt x="4093" y="508"/>
                </a:cubicBezTo>
                <a:cubicBezTo>
                  <a:pt x="4059" y="369"/>
                  <a:pt x="4023" y="222"/>
                  <a:pt x="3939" y="103"/>
                </a:cubicBezTo>
                <a:cubicBezTo>
                  <a:pt x="3890" y="45"/>
                  <a:pt x="3875" y="27"/>
                  <a:pt x="3832" y="0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thor2"/>
          <p:cNvPicPr/>
          <p:nvPr/>
        </p:nvPicPr>
        <p:blipFill>
          <a:blip r:embed="rId1"/>
          <a:stretch/>
        </p:blipFill>
        <p:spPr>
          <a:xfrm>
            <a:off x="2666880" y="787320"/>
            <a:ext cx="3810240" cy="528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thor2"/>
          <p:cNvPicPr/>
          <p:nvPr/>
        </p:nvPicPr>
        <p:blipFill>
          <a:blip r:embed="rId1"/>
          <a:stretch/>
        </p:blipFill>
        <p:spPr>
          <a:xfrm>
            <a:off x="2666880" y="787320"/>
            <a:ext cx="3810240" cy="5283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323" name="Freeform 4"/>
          <p:cNvSpPr/>
          <p:nvPr/>
        </p:nvSpPr>
        <p:spPr>
          <a:xfrm>
            <a:off x="3200400" y="1295280"/>
            <a:ext cx="3716280" cy="4586400"/>
          </a:xfrm>
          <a:custGeom>
            <a:avLst/>
            <a:gdLst/>
            <a:ahLst/>
            <a:rect l="l" t="t" r="r" b="b"/>
            <a:pathLst>
              <a:path w="10324" h="12739">
                <a:moveTo>
                  <a:pt x="10323" y="794"/>
                </a:moveTo>
                <a:lnTo>
                  <a:pt x="10323" y="794"/>
                </a:lnTo>
              </a:path>
              <a:path w="10324" h="12739">
                <a:moveTo>
                  <a:pt x="2599" y="171"/>
                </a:moveTo>
                <a:cubicBezTo>
                  <a:pt x="2555" y="185"/>
                  <a:pt x="2557" y="162"/>
                  <a:pt x="2522" y="205"/>
                </a:cubicBezTo>
                <a:cubicBezTo>
                  <a:pt x="2476" y="261"/>
                  <a:pt x="2450" y="332"/>
                  <a:pt x="2428" y="401"/>
                </a:cubicBezTo>
                <a:cubicBezTo>
                  <a:pt x="2379" y="554"/>
                  <a:pt x="2346" y="719"/>
                  <a:pt x="2334" y="879"/>
                </a:cubicBezTo>
                <a:cubicBezTo>
                  <a:pt x="2319" y="1089"/>
                  <a:pt x="2350" y="1295"/>
                  <a:pt x="2419" y="1494"/>
                </a:cubicBezTo>
                <a:cubicBezTo>
                  <a:pt x="2471" y="1645"/>
                  <a:pt x="2549" y="1810"/>
                  <a:pt x="2688" y="1899"/>
                </a:cubicBezTo>
                <a:cubicBezTo>
                  <a:pt x="2798" y="1970"/>
                  <a:pt x="2925" y="1959"/>
                  <a:pt x="3034" y="1895"/>
                </a:cubicBezTo>
                <a:cubicBezTo>
                  <a:pt x="3253" y="1766"/>
                  <a:pt x="3401" y="1486"/>
                  <a:pt x="3469" y="1250"/>
                </a:cubicBezTo>
                <a:cubicBezTo>
                  <a:pt x="3527" y="1048"/>
                  <a:pt x="3554" y="832"/>
                  <a:pt x="3533" y="623"/>
                </a:cubicBezTo>
                <a:cubicBezTo>
                  <a:pt x="3516" y="452"/>
                  <a:pt x="3463" y="262"/>
                  <a:pt x="3337" y="137"/>
                </a:cubicBezTo>
                <a:cubicBezTo>
                  <a:pt x="3224" y="25"/>
                  <a:pt x="3060" y="-15"/>
                  <a:pt x="2906" y="4"/>
                </a:cubicBezTo>
                <a:cubicBezTo>
                  <a:pt x="2641" y="37"/>
                  <a:pt x="2447" y="213"/>
                  <a:pt x="2313" y="431"/>
                </a:cubicBezTo>
                <a:cubicBezTo>
                  <a:pt x="2198" y="618"/>
                  <a:pt x="2135" y="834"/>
                  <a:pt x="2176" y="1054"/>
                </a:cubicBezTo>
                <a:cubicBezTo>
                  <a:pt x="2213" y="1253"/>
                  <a:pt x="2365" y="1419"/>
                  <a:pt x="2543" y="1507"/>
                </a:cubicBezTo>
                <a:cubicBezTo>
                  <a:pt x="2816" y="1642"/>
                  <a:pt x="3252" y="1651"/>
                  <a:pt x="3508" y="1468"/>
                </a:cubicBezTo>
                <a:cubicBezTo>
                  <a:pt x="3636" y="1376"/>
                  <a:pt x="3685" y="1247"/>
                  <a:pt x="3683" y="1093"/>
                </a:cubicBezTo>
                <a:cubicBezTo>
                  <a:pt x="3680" y="858"/>
                  <a:pt x="3550" y="603"/>
                  <a:pt x="3397" y="431"/>
                </a:cubicBezTo>
                <a:cubicBezTo>
                  <a:pt x="3224" y="237"/>
                  <a:pt x="3045" y="183"/>
                  <a:pt x="2803" y="243"/>
                </a:cubicBezTo>
              </a:path>
              <a:path w="10324" h="12739">
                <a:moveTo>
                  <a:pt x="3525" y="1242"/>
                </a:moveTo>
                <a:cubicBezTo>
                  <a:pt x="3652" y="1273"/>
                  <a:pt x="3780" y="1299"/>
                  <a:pt x="3909" y="1327"/>
                </a:cubicBezTo>
                <a:cubicBezTo>
                  <a:pt x="4115" y="1372"/>
                  <a:pt x="4349" y="1418"/>
                  <a:pt x="4510" y="1562"/>
                </a:cubicBezTo>
                <a:cubicBezTo>
                  <a:pt x="4657" y="1694"/>
                  <a:pt x="4669" y="1875"/>
                  <a:pt x="4638" y="2061"/>
                </a:cubicBezTo>
                <a:cubicBezTo>
                  <a:pt x="4557" y="2549"/>
                  <a:pt x="4227" y="3006"/>
                  <a:pt x="3870" y="3333"/>
                </a:cubicBezTo>
                <a:cubicBezTo>
                  <a:pt x="3677" y="3510"/>
                  <a:pt x="3447" y="3651"/>
                  <a:pt x="3200" y="3738"/>
                </a:cubicBezTo>
                <a:cubicBezTo>
                  <a:pt x="2399" y="4020"/>
                  <a:pt x="1375" y="3438"/>
                  <a:pt x="636" y="3858"/>
                </a:cubicBezTo>
                <a:cubicBezTo>
                  <a:pt x="491" y="3940"/>
                  <a:pt x="512" y="3983"/>
                  <a:pt x="452" y="4101"/>
                </a:cubicBezTo>
                <a:cubicBezTo>
                  <a:pt x="582" y="4163"/>
                  <a:pt x="636" y="4207"/>
                  <a:pt x="802" y="4216"/>
                </a:cubicBezTo>
                <a:cubicBezTo>
                  <a:pt x="1549" y="4255"/>
                  <a:pt x="2470" y="3905"/>
                  <a:pt x="3115" y="3563"/>
                </a:cubicBezTo>
                <a:cubicBezTo>
                  <a:pt x="3545" y="3335"/>
                  <a:pt x="4007" y="3013"/>
                  <a:pt x="4169" y="2531"/>
                </a:cubicBezTo>
                <a:cubicBezTo>
                  <a:pt x="4253" y="2280"/>
                  <a:pt x="4258" y="1999"/>
                  <a:pt x="4105" y="1780"/>
                </a:cubicBezTo>
                <a:cubicBezTo>
                  <a:pt x="4088" y="1770"/>
                  <a:pt x="4086" y="1767"/>
                  <a:pt x="4075" y="1763"/>
                </a:cubicBezTo>
                <a:cubicBezTo>
                  <a:pt x="4074" y="1797"/>
                  <a:pt x="4066" y="1842"/>
                  <a:pt x="4067" y="1882"/>
                </a:cubicBezTo>
                <a:cubicBezTo>
                  <a:pt x="4081" y="2318"/>
                  <a:pt x="3983" y="2664"/>
                  <a:pt x="3691" y="3004"/>
                </a:cubicBezTo>
                <a:cubicBezTo>
                  <a:pt x="3290" y="3472"/>
                  <a:pt x="2690" y="3779"/>
                  <a:pt x="2125" y="3999"/>
                </a:cubicBezTo>
                <a:cubicBezTo>
                  <a:pt x="1594" y="4206"/>
                  <a:pt x="1056" y="4298"/>
                  <a:pt x="499" y="4391"/>
                </a:cubicBezTo>
                <a:cubicBezTo>
                  <a:pt x="436" y="4398"/>
                  <a:pt x="424" y="4398"/>
                  <a:pt x="388" y="4408"/>
                </a:cubicBezTo>
              </a:path>
              <a:path w="10324" h="12739">
                <a:moveTo>
                  <a:pt x="3785" y="1741"/>
                </a:moveTo>
                <a:cubicBezTo>
                  <a:pt x="3770" y="1729"/>
                  <a:pt x="3765" y="1727"/>
                  <a:pt x="3759" y="1716"/>
                </a:cubicBezTo>
              </a:path>
              <a:path w="10324" h="12739">
                <a:moveTo>
                  <a:pt x="3738" y="1711"/>
                </a:moveTo>
                <a:cubicBezTo>
                  <a:pt x="3790" y="1750"/>
                  <a:pt x="3848" y="1785"/>
                  <a:pt x="3900" y="1827"/>
                </a:cubicBezTo>
                <a:cubicBezTo>
                  <a:pt x="4263" y="2118"/>
                  <a:pt x="4573" y="2429"/>
                  <a:pt x="4818" y="2829"/>
                </a:cubicBezTo>
                <a:cubicBezTo>
                  <a:pt x="4996" y="3120"/>
                  <a:pt x="5003" y="3340"/>
                  <a:pt x="4946" y="3670"/>
                </a:cubicBezTo>
                <a:cubicBezTo>
                  <a:pt x="4888" y="4004"/>
                  <a:pt x="4806" y="4335"/>
                  <a:pt x="4775" y="4673"/>
                </a:cubicBezTo>
                <a:cubicBezTo>
                  <a:pt x="4774" y="4686"/>
                  <a:pt x="4780" y="4705"/>
                  <a:pt x="4779" y="4716"/>
                </a:cubicBezTo>
                <a:cubicBezTo>
                  <a:pt x="4781" y="4713"/>
                  <a:pt x="4825" y="4702"/>
                  <a:pt x="4835" y="4686"/>
                </a:cubicBezTo>
                <a:cubicBezTo>
                  <a:pt x="4944" y="4507"/>
                  <a:pt x="5004" y="4334"/>
                  <a:pt x="5027" y="4122"/>
                </a:cubicBezTo>
                <a:cubicBezTo>
                  <a:pt x="5093" y="3504"/>
                  <a:pt x="4965" y="2685"/>
                  <a:pt x="4583" y="2176"/>
                </a:cubicBezTo>
                <a:cubicBezTo>
                  <a:pt x="4531" y="2107"/>
                  <a:pt x="4453" y="2072"/>
                  <a:pt x="4399" y="2019"/>
                </a:cubicBezTo>
                <a:cubicBezTo>
                  <a:pt x="4433" y="2065"/>
                  <a:pt x="4467" y="2113"/>
                  <a:pt x="4502" y="2159"/>
                </a:cubicBezTo>
                <a:cubicBezTo>
                  <a:pt x="4871" y="2650"/>
                  <a:pt x="5105" y="3124"/>
                  <a:pt x="5112" y="3751"/>
                </a:cubicBezTo>
                <a:cubicBezTo>
                  <a:pt x="5122" y="4589"/>
                  <a:pt x="4812" y="5473"/>
                  <a:pt x="4250" y="6098"/>
                </a:cubicBezTo>
                <a:cubicBezTo>
                  <a:pt x="3775" y="6626"/>
                  <a:pt x="3194" y="7048"/>
                  <a:pt x="2710" y="7570"/>
                </a:cubicBezTo>
                <a:cubicBezTo>
                  <a:pt x="2277" y="8037"/>
                  <a:pt x="1884" y="8471"/>
                  <a:pt x="1378" y="8855"/>
                </a:cubicBezTo>
                <a:cubicBezTo>
                  <a:pt x="1293" y="8919"/>
                  <a:pt x="1222" y="8991"/>
                  <a:pt x="1148" y="9060"/>
                </a:cubicBezTo>
                <a:cubicBezTo>
                  <a:pt x="1146" y="9061"/>
                  <a:pt x="1145" y="9063"/>
                  <a:pt x="1143" y="9064"/>
                </a:cubicBezTo>
                <a:cubicBezTo>
                  <a:pt x="1144" y="9063"/>
                  <a:pt x="1192" y="9033"/>
                  <a:pt x="1207" y="9013"/>
                </a:cubicBezTo>
                <a:cubicBezTo>
                  <a:pt x="1256" y="8950"/>
                  <a:pt x="1300" y="8885"/>
                  <a:pt x="1348" y="8821"/>
                </a:cubicBezTo>
              </a:path>
              <a:path w="10324" h="12739">
                <a:moveTo>
                  <a:pt x="2287" y="7831"/>
                </a:moveTo>
                <a:cubicBezTo>
                  <a:pt x="2118" y="8090"/>
                  <a:pt x="1943" y="8345"/>
                  <a:pt x="1792" y="8616"/>
                </a:cubicBezTo>
                <a:cubicBezTo>
                  <a:pt x="1253" y="9584"/>
                  <a:pt x="903" y="10598"/>
                  <a:pt x="734" y="11693"/>
                </a:cubicBezTo>
                <a:cubicBezTo>
                  <a:pt x="683" y="12023"/>
                  <a:pt x="659" y="12372"/>
                  <a:pt x="653" y="12696"/>
                </a:cubicBezTo>
                <a:cubicBezTo>
                  <a:pt x="653" y="12609"/>
                  <a:pt x="652" y="12519"/>
                  <a:pt x="653" y="12431"/>
                </a:cubicBezTo>
                <a:cubicBezTo>
                  <a:pt x="667" y="11434"/>
                  <a:pt x="721" y="10439"/>
                  <a:pt x="1186" y="9542"/>
                </a:cubicBezTo>
                <a:cubicBezTo>
                  <a:pt x="1183" y="9625"/>
                  <a:pt x="1188" y="9755"/>
                  <a:pt x="1182" y="9849"/>
                </a:cubicBezTo>
                <a:cubicBezTo>
                  <a:pt x="1119" y="10811"/>
                  <a:pt x="1041" y="11776"/>
                  <a:pt x="1058" y="12738"/>
                </a:cubicBezTo>
                <a:cubicBezTo>
                  <a:pt x="1047" y="12684"/>
                  <a:pt x="1031" y="12630"/>
                  <a:pt x="1020" y="12576"/>
                </a:cubicBezTo>
                <a:cubicBezTo>
                  <a:pt x="822" y="11600"/>
                  <a:pt x="1056" y="10576"/>
                  <a:pt x="1314" y="9632"/>
                </a:cubicBezTo>
                <a:cubicBezTo>
                  <a:pt x="1515" y="8897"/>
                  <a:pt x="1742" y="8067"/>
                  <a:pt x="2296" y="7511"/>
                </a:cubicBezTo>
                <a:cubicBezTo>
                  <a:pt x="2759" y="7047"/>
                  <a:pt x="3442" y="6992"/>
                  <a:pt x="3870" y="6452"/>
                </a:cubicBezTo>
                <a:cubicBezTo>
                  <a:pt x="4231" y="5997"/>
                  <a:pt x="4425" y="5447"/>
                  <a:pt x="4592" y="4899"/>
                </a:cubicBezTo>
                <a:cubicBezTo>
                  <a:pt x="4702" y="4537"/>
                  <a:pt x="4879" y="4113"/>
                  <a:pt x="4826" y="3730"/>
                </a:cubicBezTo>
                <a:cubicBezTo>
                  <a:pt x="4813" y="3634"/>
                  <a:pt x="4808" y="3601"/>
                  <a:pt x="4775" y="3542"/>
                </a:cubicBezTo>
              </a:path>
              <a:path w="10324" h="12739">
                <a:moveTo>
                  <a:pt x="5023" y="4075"/>
                </a:moveTo>
                <a:cubicBezTo>
                  <a:pt x="5029" y="4090"/>
                  <a:pt x="5008" y="4035"/>
                  <a:pt x="5014" y="4050"/>
                </a:cubicBezTo>
                <a:cubicBezTo>
                  <a:pt x="5051" y="4151"/>
                  <a:pt x="5087" y="4253"/>
                  <a:pt x="5129" y="4353"/>
                </a:cubicBezTo>
                <a:cubicBezTo>
                  <a:pt x="5390" y="4976"/>
                  <a:pt x="5732" y="5585"/>
                  <a:pt x="5838" y="6260"/>
                </a:cubicBezTo>
                <a:cubicBezTo>
                  <a:pt x="5935" y="6878"/>
                  <a:pt x="5866" y="7506"/>
                  <a:pt x="5778" y="8121"/>
                </a:cubicBezTo>
                <a:cubicBezTo>
                  <a:pt x="5738" y="8402"/>
                  <a:pt x="5688" y="8702"/>
                  <a:pt x="5616" y="8966"/>
                </a:cubicBezTo>
                <a:cubicBezTo>
                  <a:pt x="5619" y="8893"/>
                  <a:pt x="5617" y="8822"/>
                  <a:pt x="5624" y="8748"/>
                </a:cubicBezTo>
                <a:cubicBezTo>
                  <a:pt x="5691" y="8060"/>
                  <a:pt x="5769" y="7274"/>
                  <a:pt x="6008" y="6623"/>
                </a:cubicBezTo>
                <a:cubicBezTo>
                  <a:pt x="6012" y="6620"/>
                  <a:pt x="6017" y="6618"/>
                  <a:pt x="6021" y="6615"/>
                </a:cubicBezTo>
                <a:cubicBezTo>
                  <a:pt x="6029" y="6780"/>
                  <a:pt x="6027" y="6939"/>
                  <a:pt x="6021" y="7105"/>
                </a:cubicBezTo>
                <a:cubicBezTo>
                  <a:pt x="6012" y="7355"/>
                  <a:pt x="5999" y="7606"/>
                  <a:pt x="5991" y="7856"/>
                </a:cubicBezTo>
                <a:cubicBezTo>
                  <a:pt x="5985" y="8049"/>
                  <a:pt x="5980" y="8245"/>
                  <a:pt x="5961" y="8437"/>
                </a:cubicBezTo>
                <a:cubicBezTo>
                  <a:pt x="5940" y="8646"/>
                  <a:pt x="5895" y="8776"/>
                  <a:pt x="5714" y="8885"/>
                </a:cubicBezTo>
                <a:cubicBezTo>
                  <a:pt x="5475" y="9029"/>
                  <a:pt x="5259" y="9140"/>
                  <a:pt x="5048" y="9333"/>
                </a:cubicBezTo>
                <a:cubicBezTo>
                  <a:pt x="4735" y="9619"/>
                  <a:pt x="4470" y="10013"/>
                  <a:pt x="4237" y="10340"/>
                </a:cubicBezTo>
                <a:cubicBezTo>
                  <a:pt x="4248" y="10319"/>
                  <a:pt x="4254" y="10309"/>
                  <a:pt x="4267" y="10297"/>
                </a:cubicBezTo>
                <a:cubicBezTo>
                  <a:pt x="4653" y="9808"/>
                  <a:pt x="4945" y="9266"/>
                  <a:pt x="5300" y="8757"/>
                </a:cubicBezTo>
                <a:cubicBezTo>
                  <a:pt x="5334" y="8708"/>
                  <a:pt x="5382" y="8655"/>
                  <a:pt x="5415" y="8612"/>
                </a:cubicBezTo>
                <a:cubicBezTo>
                  <a:pt x="5383" y="8661"/>
                  <a:pt x="5346" y="8715"/>
                  <a:pt x="5313" y="8765"/>
                </a:cubicBezTo>
                <a:cubicBezTo>
                  <a:pt x="5110" y="9070"/>
                  <a:pt x="4942" y="9395"/>
                  <a:pt x="4784" y="9725"/>
                </a:cubicBezTo>
                <a:cubicBezTo>
                  <a:pt x="4660" y="9984"/>
                  <a:pt x="4536" y="10262"/>
                  <a:pt x="4365" y="10494"/>
                </a:cubicBezTo>
                <a:cubicBezTo>
                  <a:pt x="4341" y="10527"/>
                  <a:pt x="4313" y="10552"/>
                  <a:pt x="4289" y="10583"/>
                </a:cubicBezTo>
                <a:cubicBezTo>
                  <a:pt x="4295" y="10560"/>
                  <a:pt x="4282" y="10546"/>
                  <a:pt x="4289" y="10523"/>
                </a:cubicBezTo>
                <a:cubicBezTo>
                  <a:pt x="4415" y="10124"/>
                  <a:pt x="4610" y="9725"/>
                  <a:pt x="4830" y="9371"/>
                </a:cubicBezTo>
                <a:cubicBezTo>
                  <a:pt x="4975" y="9138"/>
                  <a:pt x="5148" y="8913"/>
                  <a:pt x="5351" y="8727"/>
                </a:cubicBezTo>
                <a:cubicBezTo>
                  <a:pt x="5532" y="8561"/>
                  <a:pt x="5753" y="8419"/>
                  <a:pt x="6004" y="8424"/>
                </a:cubicBezTo>
                <a:cubicBezTo>
                  <a:pt x="6038" y="8425"/>
                  <a:pt x="6069" y="8443"/>
                  <a:pt x="6102" y="8445"/>
                </a:cubicBezTo>
                <a:cubicBezTo>
                  <a:pt x="6105" y="8385"/>
                  <a:pt x="6115" y="8314"/>
                  <a:pt x="6115" y="8249"/>
                </a:cubicBezTo>
                <a:cubicBezTo>
                  <a:pt x="6114" y="8023"/>
                  <a:pt x="6095" y="7796"/>
                  <a:pt x="6081" y="7570"/>
                </a:cubicBezTo>
                <a:cubicBezTo>
                  <a:pt x="6044" y="6975"/>
                  <a:pt x="6059" y="6359"/>
                  <a:pt x="5961" y="5770"/>
                </a:cubicBezTo>
                <a:cubicBezTo>
                  <a:pt x="5919" y="5518"/>
                  <a:pt x="5831" y="5290"/>
                  <a:pt x="5722" y="5061"/>
                </a:cubicBezTo>
                <a:cubicBezTo>
                  <a:pt x="5677" y="4967"/>
                  <a:pt x="5626" y="4878"/>
                  <a:pt x="5582" y="4784"/>
                </a:cubicBezTo>
                <a:cubicBezTo>
                  <a:pt x="5526" y="4665"/>
                  <a:pt x="5484" y="4545"/>
                  <a:pt x="5441" y="4421"/>
                </a:cubicBezTo>
              </a:path>
              <a:path w="10324" h="12739">
                <a:moveTo>
                  <a:pt x="3495" y="1498"/>
                </a:moveTo>
                <a:cubicBezTo>
                  <a:pt x="3511" y="1496"/>
                  <a:pt x="3500" y="1491"/>
                  <a:pt x="3516" y="1489"/>
                </a:cubicBezTo>
                <a:cubicBezTo>
                  <a:pt x="3672" y="1469"/>
                  <a:pt x="3830" y="1474"/>
                  <a:pt x="3986" y="1498"/>
                </a:cubicBezTo>
                <a:cubicBezTo>
                  <a:pt x="4576" y="1590"/>
                  <a:pt x="5229" y="1828"/>
                  <a:pt x="5710" y="2185"/>
                </a:cubicBezTo>
                <a:cubicBezTo>
                  <a:pt x="6014" y="2411"/>
                  <a:pt x="6221" y="2695"/>
                  <a:pt x="6345" y="3051"/>
                </a:cubicBezTo>
                <a:cubicBezTo>
                  <a:pt x="6438" y="3319"/>
                  <a:pt x="6442" y="3624"/>
                  <a:pt x="6427" y="3905"/>
                </a:cubicBezTo>
                <a:cubicBezTo>
                  <a:pt x="6414" y="4132"/>
                  <a:pt x="6390" y="4423"/>
                  <a:pt x="6200" y="4579"/>
                </a:cubicBezTo>
                <a:cubicBezTo>
                  <a:pt x="6010" y="4735"/>
                  <a:pt x="5677" y="4715"/>
                  <a:pt x="5449" y="4699"/>
                </a:cubicBezTo>
                <a:cubicBezTo>
                  <a:pt x="5140" y="4678"/>
                  <a:pt x="4831" y="4649"/>
                  <a:pt x="4523" y="4622"/>
                </a:cubicBezTo>
                <a:cubicBezTo>
                  <a:pt x="4271" y="4600"/>
                  <a:pt x="3982" y="4564"/>
                  <a:pt x="3742" y="4575"/>
                </a:cubicBezTo>
                <a:cubicBezTo>
                  <a:pt x="3749" y="4576"/>
                  <a:pt x="3757" y="4578"/>
                  <a:pt x="3764" y="4579"/>
                </a:cubicBezTo>
                <a:cubicBezTo>
                  <a:pt x="4066" y="4606"/>
                  <a:pt x="4368" y="4638"/>
                  <a:pt x="4673" y="4617"/>
                </a:cubicBezTo>
                <a:cubicBezTo>
                  <a:pt x="5181" y="4582"/>
                  <a:pt x="5741" y="4442"/>
                  <a:pt x="6175" y="4169"/>
                </a:cubicBezTo>
                <a:cubicBezTo>
                  <a:pt x="6409" y="4022"/>
                  <a:pt x="6502" y="3807"/>
                  <a:pt x="6465" y="3534"/>
                </a:cubicBezTo>
                <a:cubicBezTo>
                  <a:pt x="6372" y="2854"/>
                  <a:pt x="5785" y="2204"/>
                  <a:pt x="5257" y="1809"/>
                </a:cubicBezTo>
                <a:cubicBezTo>
                  <a:pt x="4862" y="1514"/>
                  <a:pt x="4232" y="1213"/>
                  <a:pt x="3725" y="1357"/>
                </a:cubicBezTo>
                <a:cubicBezTo>
                  <a:pt x="3506" y="1419"/>
                  <a:pt x="3451" y="1541"/>
                  <a:pt x="3380" y="1728"/>
                </a:cubicBezTo>
                <a:cubicBezTo>
                  <a:pt x="3439" y="1832"/>
                  <a:pt x="3456" y="1901"/>
                  <a:pt x="3580" y="1963"/>
                </a:cubicBezTo>
                <a:cubicBezTo>
                  <a:pt x="3688" y="2017"/>
                  <a:pt x="3822" y="2023"/>
                  <a:pt x="3934" y="1980"/>
                </a:cubicBezTo>
                <a:cubicBezTo>
                  <a:pt x="4172" y="1888"/>
                  <a:pt x="4290" y="1720"/>
                  <a:pt x="4574" y="1758"/>
                </a:cubicBezTo>
                <a:cubicBezTo>
                  <a:pt x="5100" y="1828"/>
                  <a:pt x="5669" y="2157"/>
                  <a:pt x="5855" y="2672"/>
                </a:cubicBezTo>
                <a:cubicBezTo>
                  <a:pt x="5962" y="2969"/>
                  <a:pt x="5975" y="3282"/>
                  <a:pt x="5931" y="3593"/>
                </a:cubicBezTo>
                <a:cubicBezTo>
                  <a:pt x="5894" y="3860"/>
                  <a:pt x="5813" y="4152"/>
                  <a:pt x="5641" y="4366"/>
                </a:cubicBezTo>
                <a:cubicBezTo>
                  <a:pt x="5431" y="4628"/>
                  <a:pt x="5088" y="4637"/>
                  <a:pt x="4788" y="4575"/>
                </a:cubicBezTo>
                <a:cubicBezTo>
                  <a:pt x="4575" y="4531"/>
                  <a:pt x="4373" y="4452"/>
                  <a:pt x="4169" y="4378"/>
                </a:cubicBezTo>
                <a:cubicBezTo>
                  <a:pt x="3933" y="4293"/>
                  <a:pt x="3696" y="4204"/>
                  <a:pt x="3465" y="4105"/>
                </a:cubicBezTo>
                <a:cubicBezTo>
                  <a:pt x="3401" y="4078"/>
                  <a:pt x="3231" y="3973"/>
                  <a:pt x="3298" y="3990"/>
                </a:cubicBezTo>
                <a:cubicBezTo>
                  <a:pt x="3320" y="3996"/>
                  <a:pt x="3341" y="4009"/>
                  <a:pt x="3371" y="4024"/>
                </a:cubicBezTo>
                <a:cubicBezTo>
                  <a:pt x="3387" y="4037"/>
                  <a:pt x="3402" y="4050"/>
                  <a:pt x="3418" y="4063"/>
                </a:cubicBezTo>
                <a:cubicBezTo>
                  <a:pt x="3784" y="4347"/>
                  <a:pt x="4143" y="4496"/>
                  <a:pt x="4617" y="4481"/>
                </a:cubicBezTo>
                <a:cubicBezTo>
                  <a:pt x="4852" y="4474"/>
                  <a:pt x="5097" y="4433"/>
                  <a:pt x="5321" y="4361"/>
                </a:cubicBezTo>
                <a:cubicBezTo>
                  <a:pt x="5673" y="4247"/>
                  <a:pt x="6026" y="4041"/>
                  <a:pt x="6132" y="3666"/>
                </a:cubicBezTo>
                <a:cubicBezTo>
                  <a:pt x="6224" y="3344"/>
                  <a:pt x="6128" y="2979"/>
                  <a:pt x="5970" y="2693"/>
                </a:cubicBezTo>
                <a:cubicBezTo>
                  <a:pt x="5837" y="2452"/>
                  <a:pt x="5655" y="2242"/>
                  <a:pt x="5449" y="2061"/>
                </a:cubicBezTo>
                <a:cubicBezTo>
                  <a:pt x="5233" y="1871"/>
                  <a:pt x="4989" y="1720"/>
                  <a:pt x="4737" y="1583"/>
                </a:cubicBezTo>
                <a:cubicBezTo>
                  <a:pt x="4532" y="1471"/>
                  <a:pt x="4308" y="1373"/>
                  <a:pt x="4071" y="1361"/>
                </a:cubicBezTo>
                <a:cubicBezTo>
                  <a:pt x="4055" y="1360"/>
                  <a:pt x="4044" y="1378"/>
                  <a:pt x="4028" y="1378"/>
                </a:cubicBezTo>
                <a:cubicBezTo>
                  <a:pt x="4105" y="1386"/>
                  <a:pt x="4185" y="1391"/>
                  <a:pt x="4263" y="1404"/>
                </a:cubicBezTo>
                <a:cubicBezTo>
                  <a:pt x="4430" y="1433"/>
                  <a:pt x="4593" y="1474"/>
                  <a:pt x="4745" y="1553"/>
                </a:cubicBezTo>
                <a:cubicBezTo>
                  <a:pt x="5412" y="1898"/>
                  <a:pt x="5837" y="2680"/>
                  <a:pt x="6025" y="3380"/>
                </a:cubicBezTo>
                <a:cubicBezTo>
                  <a:pt x="6088" y="3614"/>
                  <a:pt x="6122" y="3882"/>
                  <a:pt x="5910" y="4050"/>
                </a:cubicBezTo>
                <a:cubicBezTo>
                  <a:pt x="5725" y="4197"/>
                  <a:pt x="5436" y="4185"/>
                  <a:pt x="5215" y="4174"/>
                </a:cubicBezTo>
                <a:cubicBezTo>
                  <a:pt x="4846" y="4155"/>
                  <a:pt x="4489" y="4062"/>
                  <a:pt x="4139" y="3952"/>
                </a:cubicBezTo>
                <a:cubicBezTo>
                  <a:pt x="3734" y="3825"/>
                  <a:pt x="3087" y="3665"/>
                  <a:pt x="2799" y="3320"/>
                </a:cubicBezTo>
                <a:cubicBezTo>
                  <a:pt x="2650" y="3142"/>
                  <a:pt x="2701" y="2894"/>
                  <a:pt x="2778" y="2693"/>
                </a:cubicBezTo>
                <a:cubicBezTo>
                  <a:pt x="2857" y="2488"/>
                  <a:pt x="2977" y="2305"/>
                  <a:pt x="3124" y="2142"/>
                </a:cubicBezTo>
                <a:cubicBezTo>
                  <a:pt x="3336" y="1909"/>
                  <a:pt x="3599" y="1757"/>
                  <a:pt x="3887" y="1643"/>
                </a:cubicBezTo>
                <a:cubicBezTo>
                  <a:pt x="3926" y="1627"/>
                  <a:pt x="3964" y="1612"/>
                  <a:pt x="4003" y="1596"/>
                </a:cubicBezTo>
              </a:path>
              <a:path w="10324" h="12739">
                <a:moveTo>
                  <a:pt x="4596" y="1477"/>
                </a:moveTo>
                <a:cubicBezTo>
                  <a:pt x="4364" y="2015"/>
                  <a:pt x="4239" y="2704"/>
                  <a:pt x="3870" y="3167"/>
                </a:cubicBezTo>
                <a:cubicBezTo>
                  <a:pt x="3755" y="3312"/>
                  <a:pt x="3579" y="3394"/>
                  <a:pt x="3405" y="3444"/>
                </a:cubicBezTo>
                <a:cubicBezTo>
                  <a:pt x="2932" y="3580"/>
                  <a:pt x="2455" y="3670"/>
                  <a:pt x="1984" y="3824"/>
                </a:cubicBezTo>
                <a:cubicBezTo>
                  <a:pt x="1403" y="4014"/>
                  <a:pt x="538" y="3955"/>
                  <a:pt x="47" y="4340"/>
                </a:cubicBezTo>
                <a:cubicBezTo>
                  <a:pt x="14" y="4366"/>
                  <a:pt x="24" y="4389"/>
                  <a:pt x="0" y="4413"/>
                </a:cubicBezTo>
                <a:cubicBezTo>
                  <a:pt x="80" y="4439"/>
                  <a:pt x="89" y="4474"/>
                  <a:pt x="213" y="4438"/>
                </a:cubicBezTo>
                <a:cubicBezTo>
                  <a:pt x="237" y="4424"/>
                  <a:pt x="262" y="4410"/>
                  <a:pt x="286" y="4396"/>
                </a:cubicBezTo>
              </a:path>
              <a:path w="10324" h="12739">
                <a:moveTo>
                  <a:pt x="2633" y="1865"/>
                </a:moveTo>
                <a:cubicBezTo>
                  <a:pt x="2774" y="1884"/>
                  <a:pt x="2901" y="1875"/>
                  <a:pt x="3034" y="1818"/>
                </a:cubicBezTo>
                <a:cubicBezTo>
                  <a:pt x="3151" y="1768"/>
                  <a:pt x="3271" y="1696"/>
                  <a:pt x="3367" y="1613"/>
                </a:cubicBezTo>
                <a:cubicBezTo>
                  <a:pt x="3460" y="1533"/>
                  <a:pt x="3548" y="1417"/>
                  <a:pt x="3593" y="1302"/>
                </a:cubicBezTo>
                <a:cubicBezTo>
                  <a:pt x="3645" y="1170"/>
                  <a:pt x="3644" y="1033"/>
                  <a:pt x="3619" y="896"/>
                </a:cubicBezTo>
                <a:cubicBezTo>
                  <a:pt x="3590" y="740"/>
                  <a:pt x="3515" y="605"/>
                  <a:pt x="3422" y="478"/>
                </a:cubicBezTo>
                <a:cubicBezTo>
                  <a:pt x="3312" y="329"/>
                  <a:pt x="3162" y="216"/>
                  <a:pt x="2978" y="184"/>
                </a:cubicBezTo>
                <a:cubicBezTo>
                  <a:pt x="2795" y="152"/>
                  <a:pt x="2645" y="227"/>
                  <a:pt x="2543" y="380"/>
                </a:cubicBezTo>
                <a:cubicBezTo>
                  <a:pt x="2434" y="544"/>
                  <a:pt x="2377" y="759"/>
                  <a:pt x="2351" y="952"/>
                </a:cubicBezTo>
                <a:cubicBezTo>
                  <a:pt x="2314" y="1220"/>
                  <a:pt x="2347" y="1523"/>
                  <a:pt x="2466" y="1767"/>
                </a:cubicBezTo>
                <a:cubicBezTo>
                  <a:pt x="2564" y="1970"/>
                  <a:pt x="2760" y="2169"/>
                  <a:pt x="3000" y="2164"/>
                </a:cubicBezTo>
                <a:cubicBezTo>
                  <a:pt x="3174" y="2161"/>
                  <a:pt x="3323" y="2016"/>
                  <a:pt x="3401" y="1869"/>
                </a:cubicBezTo>
                <a:cubicBezTo>
                  <a:pt x="3418" y="1825"/>
                  <a:pt x="3435" y="1781"/>
                  <a:pt x="3452" y="1737"/>
                </a:cubicBezTo>
              </a:path>
              <a:path w="10324" h="12739">
                <a:moveTo>
                  <a:pt x="4408" y="1643"/>
                </a:moveTo>
                <a:cubicBezTo>
                  <a:pt x="4565" y="1723"/>
                  <a:pt x="4722" y="1804"/>
                  <a:pt x="4873" y="1895"/>
                </a:cubicBezTo>
                <a:cubicBezTo>
                  <a:pt x="5048" y="2000"/>
                  <a:pt x="5211" y="2111"/>
                  <a:pt x="5372" y="2236"/>
                </a:cubicBezTo>
                <a:cubicBezTo>
                  <a:pt x="5535" y="2363"/>
                  <a:pt x="5672" y="2501"/>
                  <a:pt x="5799" y="2663"/>
                </a:cubicBezTo>
                <a:cubicBezTo>
                  <a:pt x="5924" y="2822"/>
                  <a:pt x="6031" y="2993"/>
                  <a:pt x="6111" y="3179"/>
                </a:cubicBezTo>
                <a:cubicBezTo>
                  <a:pt x="6264" y="3534"/>
                  <a:pt x="6317" y="3912"/>
                  <a:pt x="6132" y="4263"/>
                </a:cubicBezTo>
                <a:cubicBezTo>
                  <a:pt x="6054" y="4411"/>
                  <a:pt x="5932" y="4529"/>
                  <a:pt x="5778" y="4596"/>
                </a:cubicBezTo>
                <a:cubicBezTo>
                  <a:pt x="5445" y="4740"/>
                  <a:pt x="5063" y="4621"/>
                  <a:pt x="4741" y="4506"/>
                </a:cubicBezTo>
                <a:cubicBezTo>
                  <a:pt x="4495" y="4419"/>
                  <a:pt x="4257" y="4315"/>
                  <a:pt x="4011" y="4229"/>
                </a:cubicBez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4" name="Freeform 5"/>
          <p:cNvSpPr/>
          <p:nvPr/>
        </p:nvSpPr>
        <p:spPr>
          <a:xfrm>
            <a:off x="3565440" y="2971800"/>
            <a:ext cx="1785960" cy="2868480"/>
          </a:xfrm>
          <a:custGeom>
            <a:avLst/>
            <a:gdLst/>
            <a:ahLst/>
            <a:rect l="l" t="t" r="r" b="b"/>
            <a:pathLst>
              <a:path w="4960" h="7968">
                <a:moveTo>
                  <a:pt x="4323" y="312"/>
                </a:moveTo>
                <a:cubicBezTo>
                  <a:pt x="4478" y="737"/>
                  <a:pt x="4616" y="1153"/>
                  <a:pt x="4668" y="1605"/>
                </a:cubicBezTo>
                <a:cubicBezTo>
                  <a:pt x="4735" y="2194"/>
                  <a:pt x="4661" y="2772"/>
                  <a:pt x="4579" y="3354"/>
                </a:cubicBezTo>
                <a:cubicBezTo>
                  <a:pt x="4545" y="3595"/>
                  <a:pt x="4493" y="3796"/>
                  <a:pt x="4357" y="3999"/>
                </a:cubicBezTo>
                <a:cubicBezTo>
                  <a:pt x="4285" y="4106"/>
                  <a:pt x="4198" y="4168"/>
                  <a:pt x="4097" y="4246"/>
                </a:cubicBezTo>
                <a:cubicBezTo>
                  <a:pt x="3938" y="4369"/>
                  <a:pt x="3781" y="4491"/>
                  <a:pt x="3631" y="4622"/>
                </a:cubicBezTo>
                <a:cubicBezTo>
                  <a:pt x="3328" y="4886"/>
                  <a:pt x="3048" y="5165"/>
                  <a:pt x="2872" y="5531"/>
                </a:cubicBezTo>
                <a:cubicBezTo>
                  <a:pt x="2837" y="5603"/>
                  <a:pt x="2804" y="5685"/>
                  <a:pt x="2791" y="5765"/>
                </a:cubicBezTo>
                <a:cubicBezTo>
                  <a:pt x="2786" y="5795"/>
                  <a:pt x="2802" y="5829"/>
                  <a:pt x="2799" y="5855"/>
                </a:cubicBezTo>
                <a:cubicBezTo>
                  <a:pt x="2824" y="5800"/>
                  <a:pt x="2852" y="5745"/>
                  <a:pt x="2876" y="5688"/>
                </a:cubicBezTo>
                <a:cubicBezTo>
                  <a:pt x="3129" y="5084"/>
                  <a:pt x="3399" y="4429"/>
                  <a:pt x="3943" y="4028"/>
                </a:cubicBezTo>
                <a:cubicBezTo>
                  <a:pt x="4209" y="3832"/>
                  <a:pt x="4449" y="3812"/>
                  <a:pt x="4749" y="3734"/>
                </a:cubicBezTo>
                <a:cubicBezTo>
                  <a:pt x="4813" y="3717"/>
                  <a:pt x="4860" y="3716"/>
                  <a:pt x="4903" y="3657"/>
                </a:cubicBezTo>
                <a:cubicBezTo>
                  <a:pt x="4962" y="3575"/>
                  <a:pt x="4947" y="3408"/>
                  <a:pt x="4959" y="3316"/>
                </a:cubicBezTo>
              </a:path>
              <a:path w="4960" h="7968">
                <a:moveTo>
                  <a:pt x="3277" y="568"/>
                </a:moveTo>
                <a:cubicBezTo>
                  <a:pt x="3298" y="545"/>
                  <a:pt x="3326" y="519"/>
                  <a:pt x="3345" y="499"/>
                </a:cubicBezTo>
                <a:cubicBezTo>
                  <a:pt x="3331" y="534"/>
                  <a:pt x="3320" y="574"/>
                  <a:pt x="3303" y="610"/>
                </a:cubicBezTo>
                <a:cubicBezTo>
                  <a:pt x="3219" y="794"/>
                  <a:pt x="3142" y="984"/>
                  <a:pt x="3051" y="1165"/>
                </a:cubicBezTo>
                <a:cubicBezTo>
                  <a:pt x="2891" y="1483"/>
                  <a:pt x="2696" y="1766"/>
                  <a:pt x="2411" y="1984"/>
                </a:cubicBezTo>
                <a:cubicBezTo>
                  <a:pt x="2264" y="2096"/>
                  <a:pt x="2108" y="2196"/>
                  <a:pt x="1959" y="2304"/>
                </a:cubicBezTo>
                <a:cubicBezTo>
                  <a:pt x="1806" y="2415"/>
                  <a:pt x="1656" y="2533"/>
                  <a:pt x="1511" y="2654"/>
                </a:cubicBezTo>
                <a:cubicBezTo>
                  <a:pt x="1315" y="2818"/>
                  <a:pt x="1120" y="2997"/>
                  <a:pt x="969" y="3205"/>
                </a:cubicBezTo>
                <a:cubicBezTo>
                  <a:pt x="966" y="3211"/>
                  <a:pt x="963" y="3216"/>
                  <a:pt x="960" y="3222"/>
                </a:cubicBezTo>
                <a:cubicBezTo>
                  <a:pt x="990" y="3177"/>
                  <a:pt x="1025" y="3130"/>
                  <a:pt x="1058" y="3085"/>
                </a:cubicBezTo>
                <a:cubicBezTo>
                  <a:pt x="1163" y="2940"/>
                  <a:pt x="1269" y="2794"/>
                  <a:pt x="1370" y="2646"/>
                </a:cubicBezTo>
                <a:cubicBezTo>
                  <a:pt x="1557" y="2372"/>
                  <a:pt x="1752" y="2106"/>
                  <a:pt x="1954" y="1844"/>
                </a:cubicBezTo>
                <a:cubicBezTo>
                  <a:pt x="2076" y="1684"/>
                  <a:pt x="2115" y="1633"/>
                  <a:pt x="2206" y="1536"/>
                </a:cubicBezTo>
              </a:path>
              <a:path w="4960" h="7968">
                <a:moveTo>
                  <a:pt x="2786" y="1080"/>
                </a:moveTo>
                <a:cubicBezTo>
                  <a:pt x="2784" y="1096"/>
                  <a:pt x="2830" y="1146"/>
                  <a:pt x="2799" y="1229"/>
                </a:cubicBezTo>
                <a:cubicBezTo>
                  <a:pt x="2616" y="1718"/>
                  <a:pt x="2004" y="2144"/>
                  <a:pt x="1673" y="2531"/>
                </a:cubicBezTo>
                <a:cubicBezTo>
                  <a:pt x="1478" y="2759"/>
                  <a:pt x="1281" y="2989"/>
                  <a:pt x="1109" y="3235"/>
                </a:cubicBezTo>
                <a:cubicBezTo>
                  <a:pt x="882" y="3559"/>
                  <a:pt x="689" y="3902"/>
                  <a:pt x="529" y="4263"/>
                </a:cubicBezTo>
                <a:cubicBezTo>
                  <a:pt x="119" y="5189"/>
                  <a:pt x="-17" y="6093"/>
                  <a:pt x="60" y="7092"/>
                </a:cubicBezTo>
                <a:cubicBezTo>
                  <a:pt x="74" y="7273"/>
                  <a:pt x="70" y="7440"/>
                  <a:pt x="55" y="7617"/>
                </a:cubicBezTo>
                <a:cubicBezTo>
                  <a:pt x="51" y="7586"/>
                  <a:pt x="40" y="7567"/>
                  <a:pt x="38" y="7536"/>
                </a:cubicBezTo>
                <a:cubicBezTo>
                  <a:pt x="30" y="7418"/>
                  <a:pt x="19" y="7300"/>
                  <a:pt x="13" y="7182"/>
                </a:cubicBezTo>
                <a:cubicBezTo>
                  <a:pt x="4" y="7015"/>
                  <a:pt x="5" y="6849"/>
                  <a:pt x="4" y="6683"/>
                </a:cubicBezTo>
                <a:cubicBezTo>
                  <a:pt x="6" y="6774"/>
                  <a:pt x="11" y="6868"/>
                  <a:pt x="13" y="6960"/>
                </a:cubicBezTo>
                <a:cubicBezTo>
                  <a:pt x="20" y="7278"/>
                  <a:pt x="18" y="7595"/>
                  <a:pt x="81" y="7907"/>
                </a:cubicBezTo>
                <a:cubicBezTo>
                  <a:pt x="84" y="7922"/>
                  <a:pt x="95" y="7937"/>
                  <a:pt x="98" y="7950"/>
                </a:cubicBezTo>
                <a:cubicBezTo>
                  <a:pt x="97" y="7930"/>
                  <a:pt x="99" y="7945"/>
                  <a:pt x="98" y="7925"/>
                </a:cubicBezTo>
                <a:cubicBezTo>
                  <a:pt x="36" y="6599"/>
                  <a:pt x="68" y="5246"/>
                  <a:pt x="687" y="4037"/>
                </a:cubicBezTo>
                <a:cubicBezTo>
                  <a:pt x="1029" y="3368"/>
                  <a:pt x="1543" y="2795"/>
                  <a:pt x="2138" y="2343"/>
                </a:cubicBezTo>
                <a:cubicBezTo>
                  <a:pt x="2611" y="1984"/>
                  <a:pt x="3063" y="1671"/>
                  <a:pt x="3380" y="1156"/>
                </a:cubicBezTo>
                <a:cubicBezTo>
                  <a:pt x="3602" y="795"/>
                  <a:pt x="3745" y="389"/>
                  <a:pt x="3905" y="0"/>
                </a:cubicBez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4394160" y="3022560"/>
            <a:ext cx="1141560" cy="674640"/>
          </a:xfrm>
          <a:custGeom>
            <a:avLst/>
            <a:gdLst/>
            <a:ahLst/>
            <a:rect l="l" t="t" r="r" b="b"/>
            <a:pathLst>
              <a:path w="3172" h="1878">
                <a:moveTo>
                  <a:pt x="47" y="853"/>
                </a:moveTo>
                <a:cubicBezTo>
                  <a:pt x="66" y="862"/>
                  <a:pt x="96" y="877"/>
                  <a:pt x="119" y="887"/>
                </a:cubicBezTo>
                <a:cubicBezTo>
                  <a:pt x="174" y="912"/>
                  <a:pt x="230" y="932"/>
                  <a:pt x="286" y="955"/>
                </a:cubicBezTo>
                <a:cubicBezTo>
                  <a:pt x="441" y="1018"/>
                  <a:pt x="576" y="1102"/>
                  <a:pt x="713" y="1199"/>
                </a:cubicBezTo>
                <a:cubicBezTo>
                  <a:pt x="1115" y="1483"/>
                  <a:pt x="1567" y="1906"/>
                  <a:pt x="2095" y="1877"/>
                </a:cubicBezTo>
                <a:cubicBezTo>
                  <a:pt x="2290" y="1866"/>
                  <a:pt x="2484" y="1766"/>
                  <a:pt x="2624" y="1634"/>
                </a:cubicBezTo>
                <a:cubicBezTo>
                  <a:pt x="2843" y="1428"/>
                  <a:pt x="2978" y="1094"/>
                  <a:pt x="2996" y="798"/>
                </a:cubicBezTo>
                <a:cubicBezTo>
                  <a:pt x="3005" y="645"/>
                  <a:pt x="2985" y="477"/>
                  <a:pt x="2910" y="341"/>
                </a:cubicBezTo>
                <a:cubicBezTo>
                  <a:pt x="2796" y="133"/>
                  <a:pt x="2544" y="87"/>
                  <a:pt x="2326" y="81"/>
                </a:cubicBezTo>
                <a:cubicBezTo>
                  <a:pt x="1870" y="68"/>
                  <a:pt x="1364" y="132"/>
                  <a:pt x="917" y="221"/>
                </a:cubicBezTo>
                <a:cubicBezTo>
                  <a:pt x="751" y="254"/>
                  <a:pt x="575" y="318"/>
                  <a:pt x="521" y="495"/>
                </a:cubicBezTo>
                <a:cubicBezTo>
                  <a:pt x="460" y="693"/>
                  <a:pt x="616" y="900"/>
                  <a:pt x="751" y="1028"/>
                </a:cubicBezTo>
                <a:cubicBezTo>
                  <a:pt x="924" y="1193"/>
                  <a:pt x="1156" y="1311"/>
                  <a:pt x="1383" y="1382"/>
                </a:cubicBezTo>
                <a:cubicBezTo>
                  <a:pt x="1604" y="1451"/>
                  <a:pt x="1843" y="1483"/>
                  <a:pt x="2074" y="1493"/>
                </a:cubicBezTo>
                <a:cubicBezTo>
                  <a:pt x="2399" y="1507"/>
                  <a:pt x="2806" y="1484"/>
                  <a:pt x="3051" y="1241"/>
                </a:cubicBezTo>
                <a:cubicBezTo>
                  <a:pt x="3141" y="1152"/>
                  <a:pt x="3178" y="1030"/>
                  <a:pt x="3171" y="904"/>
                </a:cubicBezTo>
                <a:cubicBezTo>
                  <a:pt x="3162" y="744"/>
                  <a:pt x="3078" y="587"/>
                  <a:pt x="2979" y="465"/>
                </a:cubicBezTo>
                <a:cubicBezTo>
                  <a:pt x="2640" y="46"/>
                  <a:pt x="2052" y="-64"/>
                  <a:pt x="1549" y="51"/>
                </a:cubicBezTo>
                <a:cubicBezTo>
                  <a:pt x="1162" y="140"/>
                  <a:pt x="712" y="373"/>
                  <a:pt x="482" y="708"/>
                </a:cubicBezTo>
                <a:cubicBezTo>
                  <a:pt x="392" y="839"/>
                  <a:pt x="381" y="983"/>
                  <a:pt x="486" y="1109"/>
                </a:cubicBezTo>
                <a:cubicBezTo>
                  <a:pt x="594" y="1239"/>
                  <a:pt x="770" y="1322"/>
                  <a:pt x="926" y="1374"/>
                </a:cubicBezTo>
                <a:cubicBezTo>
                  <a:pt x="1511" y="1571"/>
                  <a:pt x="2224" y="1581"/>
                  <a:pt x="2829" y="1480"/>
                </a:cubicBezTo>
                <a:cubicBezTo>
                  <a:pt x="2958" y="1459"/>
                  <a:pt x="3005" y="1419"/>
                  <a:pt x="3102" y="1344"/>
                </a:cubicBezTo>
                <a:cubicBezTo>
                  <a:pt x="3089" y="1120"/>
                  <a:pt x="3009" y="986"/>
                  <a:pt x="2842" y="823"/>
                </a:cubicBezTo>
                <a:cubicBezTo>
                  <a:pt x="2669" y="655"/>
                  <a:pt x="2452" y="529"/>
                  <a:pt x="2228" y="443"/>
                </a:cubicBezTo>
                <a:cubicBezTo>
                  <a:pt x="1971" y="344"/>
                  <a:pt x="1709" y="295"/>
                  <a:pt x="1434" y="290"/>
                </a:cubicBezTo>
                <a:cubicBezTo>
                  <a:pt x="1024" y="282"/>
                  <a:pt x="464" y="352"/>
                  <a:pt x="128" y="618"/>
                </a:cubicBezTo>
                <a:cubicBezTo>
                  <a:pt x="31" y="695"/>
                  <a:pt x="-16" y="797"/>
                  <a:pt x="0" y="921"/>
                </a:cubicBezTo>
                <a:cubicBezTo>
                  <a:pt x="29" y="1143"/>
                  <a:pt x="213" y="1332"/>
                  <a:pt x="380" y="1463"/>
                </a:cubicBezTo>
                <a:cubicBezTo>
                  <a:pt x="721" y="1730"/>
                  <a:pt x="1185" y="1827"/>
                  <a:pt x="1609" y="1843"/>
                </a:cubicBezTo>
                <a:cubicBezTo>
                  <a:pt x="1827" y="1851"/>
                  <a:pt x="2074" y="1847"/>
                  <a:pt x="2283" y="1775"/>
                </a:cubicBezTo>
                <a:cubicBezTo>
                  <a:pt x="2428" y="1725"/>
                  <a:pt x="2526" y="1654"/>
                  <a:pt x="2642" y="1561"/>
                </a:cubicBezTo>
              </a:path>
              <a:path w="3172" h="1878">
                <a:moveTo>
                  <a:pt x="1906" y="1645"/>
                </a:moveTo>
                <a:lnTo>
                  <a:pt x="1906" y="1645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Pam_Bam_Duo"/>
          <p:cNvPicPr/>
          <p:nvPr/>
        </p:nvPicPr>
        <p:blipFill>
          <a:blip r:embed="rId1"/>
          <a:stretch/>
        </p:blipFill>
        <p:spPr>
          <a:xfrm>
            <a:off x="2286000" y="304920"/>
            <a:ext cx="4251240" cy="59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Pam_Bam_Duo"/>
          <p:cNvPicPr/>
          <p:nvPr/>
        </p:nvPicPr>
        <p:blipFill>
          <a:blip r:embed="rId1"/>
          <a:stretch/>
        </p:blipFill>
        <p:spPr>
          <a:xfrm>
            <a:off x="2286000" y="304920"/>
            <a:ext cx="4251240" cy="5943600"/>
          </a:xfrm>
          <a:prstGeom prst="rect">
            <a:avLst/>
          </a:prstGeom>
          <a:ln w="9360">
            <a:solidFill>
              <a:srgbClr val="ff66ff"/>
            </a:solidFill>
            <a:miter/>
          </a:ln>
        </p:spPr>
      </p:pic>
      <p:sp>
        <p:nvSpPr>
          <p:cNvPr id="328" name="Freeform 4"/>
          <p:cNvSpPr/>
          <p:nvPr/>
        </p:nvSpPr>
        <p:spPr>
          <a:xfrm>
            <a:off x="2630520" y="604800"/>
            <a:ext cx="1089000" cy="5008680"/>
          </a:xfrm>
          <a:custGeom>
            <a:avLst/>
            <a:gdLst/>
            <a:ahLst/>
            <a:rect l="l" t="t" r="r" b="b"/>
            <a:pathLst>
              <a:path w="3027" h="13913">
                <a:moveTo>
                  <a:pt x="1528" y="824"/>
                </a:moveTo>
                <a:cubicBezTo>
                  <a:pt x="1465" y="964"/>
                  <a:pt x="1431" y="1096"/>
                  <a:pt x="1413" y="1250"/>
                </a:cubicBezTo>
                <a:cubicBezTo>
                  <a:pt x="1388" y="1467"/>
                  <a:pt x="1408" y="1684"/>
                  <a:pt x="1464" y="1895"/>
                </a:cubicBezTo>
                <a:cubicBezTo>
                  <a:pt x="1513" y="2081"/>
                  <a:pt x="1597" y="2277"/>
                  <a:pt x="1728" y="2420"/>
                </a:cubicBezTo>
                <a:cubicBezTo>
                  <a:pt x="1811" y="2511"/>
                  <a:pt x="1923" y="2595"/>
                  <a:pt x="2053" y="2569"/>
                </a:cubicBezTo>
                <a:cubicBezTo>
                  <a:pt x="2186" y="2543"/>
                  <a:pt x="2289" y="2426"/>
                  <a:pt x="2368" y="2326"/>
                </a:cubicBezTo>
                <a:cubicBezTo>
                  <a:pt x="2549" y="2096"/>
                  <a:pt x="2666" y="1825"/>
                  <a:pt x="2757" y="1549"/>
                </a:cubicBezTo>
                <a:cubicBezTo>
                  <a:pt x="2883" y="1170"/>
                  <a:pt x="2970" y="745"/>
                  <a:pt x="2885" y="346"/>
                </a:cubicBezTo>
                <a:cubicBezTo>
                  <a:pt x="2856" y="209"/>
                  <a:pt x="2781" y="28"/>
                  <a:pt x="2624" y="0"/>
                </a:cubicBezTo>
                <a:cubicBezTo>
                  <a:pt x="2466" y="-28"/>
                  <a:pt x="2320" y="119"/>
                  <a:pt x="2228" y="226"/>
                </a:cubicBezTo>
                <a:cubicBezTo>
                  <a:pt x="1912" y="596"/>
                  <a:pt x="1764" y="1164"/>
                  <a:pt x="1758" y="1643"/>
                </a:cubicBezTo>
                <a:cubicBezTo>
                  <a:pt x="1755" y="1886"/>
                  <a:pt x="1789" y="2229"/>
                  <a:pt x="2006" y="2385"/>
                </a:cubicBezTo>
                <a:cubicBezTo>
                  <a:pt x="2103" y="2454"/>
                  <a:pt x="2243" y="2478"/>
                  <a:pt x="2356" y="2437"/>
                </a:cubicBezTo>
                <a:cubicBezTo>
                  <a:pt x="2666" y="2323"/>
                  <a:pt x="2738" y="1941"/>
                  <a:pt x="2744" y="1656"/>
                </a:cubicBezTo>
                <a:cubicBezTo>
                  <a:pt x="2750" y="1408"/>
                  <a:pt x="2697" y="1171"/>
                  <a:pt x="2603" y="943"/>
                </a:cubicBezTo>
                <a:cubicBezTo>
                  <a:pt x="2538" y="786"/>
                  <a:pt x="2440" y="588"/>
                  <a:pt x="2279" y="508"/>
                </a:cubicBezTo>
                <a:cubicBezTo>
                  <a:pt x="2100" y="419"/>
                  <a:pt x="1911" y="548"/>
                  <a:pt x="1801" y="683"/>
                </a:cubicBezTo>
                <a:cubicBezTo>
                  <a:pt x="1545" y="997"/>
                  <a:pt x="1517" y="1421"/>
                  <a:pt x="1558" y="1805"/>
                </a:cubicBezTo>
                <a:cubicBezTo>
                  <a:pt x="1568" y="1875"/>
                  <a:pt x="1577" y="1944"/>
                  <a:pt x="1587" y="2014"/>
                </a:cubicBezTo>
              </a:path>
              <a:path w="3027" h="13913">
                <a:moveTo>
                  <a:pt x="2257" y="2693"/>
                </a:moveTo>
                <a:cubicBezTo>
                  <a:pt x="2253" y="2676"/>
                  <a:pt x="2252" y="2671"/>
                  <a:pt x="2253" y="2659"/>
                </a:cubicBezTo>
              </a:path>
              <a:path w="3027" h="13913">
                <a:moveTo>
                  <a:pt x="2304" y="2577"/>
                </a:moveTo>
                <a:cubicBezTo>
                  <a:pt x="2314" y="2612"/>
                  <a:pt x="2329" y="2649"/>
                  <a:pt x="2339" y="2688"/>
                </a:cubicBezTo>
                <a:cubicBezTo>
                  <a:pt x="2357" y="2757"/>
                  <a:pt x="2367" y="2821"/>
                  <a:pt x="2373" y="2893"/>
                </a:cubicBezTo>
                <a:cubicBezTo>
                  <a:pt x="2383" y="3018"/>
                  <a:pt x="2378" y="3135"/>
                  <a:pt x="2368" y="3260"/>
                </a:cubicBezTo>
                <a:cubicBezTo>
                  <a:pt x="2332" y="3703"/>
                  <a:pt x="2234" y="4151"/>
                  <a:pt x="2117" y="4579"/>
                </a:cubicBezTo>
                <a:cubicBezTo>
                  <a:pt x="2018" y="4941"/>
                  <a:pt x="1921" y="5304"/>
                  <a:pt x="1809" y="5663"/>
                </a:cubicBezTo>
                <a:cubicBezTo>
                  <a:pt x="1673" y="6098"/>
                  <a:pt x="1509" y="6521"/>
                  <a:pt x="1348" y="6947"/>
                </a:cubicBezTo>
                <a:cubicBezTo>
                  <a:pt x="1262" y="7175"/>
                  <a:pt x="1176" y="7402"/>
                  <a:pt x="1118" y="7639"/>
                </a:cubicBezTo>
                <a:cubicBezTo>
                  <a:pt x="1114" y="7654"/>
                  <a:pt x="1113" y="7667"/>
                  <a:pt x="1110" y="7681"/>
                </a:cubicBezTo>
                <a:cubicBezTo>
                  <a:pt x="1121" y="7600"/>
                  <a:pt x="1136" y="7522"/>
                  <a:pt x="1152" y="7442"/>
                </a:cubicBezTo>
                <a:cubicBezTo>
                  <a:pt x="1172" y="7341"/>
                  <a:pt x="1192" y="7247"/>
                  <a:pt x="1220" y="7148"/>
                </a:cubicBezTo>
              </a:path>
              <a:path w="3027" h="13913">
                <a:moveTo>
                  <a:pt x="1506" y="5731"/>
                </a:moveTo>
                <a:cubicBezTo>
                  <a:pt x="1453" y="5920"/>
                  <a:pt x="1412" y="6111"/>
                  <a:pt x="1370" y="6303"/>
                </a:cubicBezTo>
                <a:cubicBezTo>
                  <a:pt x="1308" y="6588"/>
                  <a:pt x="1247" y="6873"/>
                  <a:pt x="1178" y="7156"/>
                </a:cubicBezTo>
                <a:cubicBezTo>
                  <a:pt x="1146" y="7287"/>
                  <a:pt x="1136" y="7326"/>
                  <a:pt x="1118" y="7412"/>
                </a:cubicBezTo>
              </a:path>
              <a:path w="3027" h="13913">
                <a:moveTo>
                  <a:pt x="401" y="6725"/>
                </a:moveTo>
                <a:cubicBezTo>
                  <a:pt x="486" y="6696"/>
                  <a:pt x="574" y="6670"/>
                  <a:pt x="657" y="6636"/>
                </a:cubicBezTo>
                <a:cubicBezTo>
                  <a:pt x="791" y="6581"/>
                  <a:pt x="924" y="6528"/>
                  <a:pt x="1063" y="6486"/>
                </a:cubicBezTo>
                <a:cubicBezTo>
                  <a:pt x="1270" y="6424"/>
                  <a:pt x="1510" y="6400"/>
                  <a:pt x="1703" y="6516"/>
                </a:cubicBezTo>
                <a:cubicBezTo>
                  <a:pt x="1800" y="6574"/>
                  <a:pt x="1873" y="6667"/>
                  <a:pt x="1886" y="6781"/>
                </a:cubicBezTo>
                <a:cubicBezTo>
                  <a:pt x="1897" y="6872"/>
                  <a:pt x="1859" y="6964"/>
                  <a:pt x="1801" y="7033"/>
                </a:cubicBezTo>
                <a:cubicBezTo>
                  <a:pt x="1707" y="7144"/>
                  <a:pt x="1577" y="7202"/>
                  <a:pt x="1442" y="7246"/>
                </a:cubicBezTo>
                <a:cubicBezTo>
                  <a:pt x="1324" y="7284"/>
                  <a:pt x="1198" y="7304"/>
                  <a:pt x="1075" y="7314"/>
                </a:cubicBezTo>
                <a:cubicBezTo>
                  <a:pt x="963" y="7323"/>
                  <a:pt x="853" y="7315"/>
                  <a:pt x="743" y="7297"/>
                </a:cubicBezTo>
                <a:cubicBezTo>
                  <a:pt x="667" y="7285"/>
                  <a:pt x="581" y="7274"/>
                  <a:pt x="512" y="7237"/>
                </a:cubicBezTo>
                <a:cubicBezTo>
                  <a:pt x="463" y="7211"/>
                  <a:pt x="443" y="7195"/>
                  <a:pt x="435" y="7139"/>
                </a:cubicBezTo>
                <a:cubicBezTo>
                  <a:pt x="425" y="7064"/>
                  <a:pt x="500" y="6969"/>
                  <a:pt x="538" y="6913"/>
                </a:cubicBezTo>
                <a:cubicBezTo>
                  <a:pt x="626" y="6786"/>
                  <a:pt x="733" y="6676"/>
                  <a:pt x="858" y="6585"/>
                </a:cubicBezTo>
                <a:cubicBezTo>
                  <a:pt x="986" y="6492"/>
                  <a:pt x="1135" y="6412"/>
                  <a:pt x="1293" y="6388"/>
                </a:cubicBezTo>
                <a:cubicBezTo>
                  <a:pt x="1421" y="6369"/>
                  <a:pt x="1558" y="6402"/>
                  <a:pt x="1660" y="6482"/>
                </a:cubicBezTo>
                <a:cubicBezTo>
                  <a:pt x="1739" y="6544"/>
                  <a:pt x="1793" y="6630"/>
                  <a:pt x="1822" y="6725"/>
                </a:cubicBezTo>
                <a:cubicBezTo>
                  <a:pt x="1835" y="6767"/>
                  <a:pt x="1814" y="6778"/>
                  <a:pt x="1814" y="6785"/>
                </a:cubicBezTo>
              </a:path>
              <a:path w="3027" h="13913">
                <a:moveTo>
                  <a:pt x="1101" y="5159"/>
                </a:moveTo>
                <a:cubicBezTo>
                  <a:pt x="1208" y="5319"/>
                  <a:pt x="1313" y="5480"/>
                  <a:pt x="1481" y="5582"/>
                </a:cubicBezTo>
                <a:cubicBezTo>
                  <a:pt x="1612" y="5661"/>
                  <a:pt x="1782" y="5632"/>
                  <a:pt x="1916" y="5582"/>
                </a:cubicBezTo>
                <a:cubicBezTo>
                  <a:pt x="2080" y="5521"/>
                  <a:pt x="2229" y="5430"/>
                  <a:pt x="2368" y="5326"/>
                </a:cubicBezTo>
                <a:cubicBezTo>
                  <a:pt x="2469" y="5251"/>
                  <a:pt x="2554" y="5159"/>
                  <a:pt x="2642" y="5070"/>
                </a:cubicBezTo>
                <a:cubicBezTo>
                  <a:pt x="2619" y="5124"/>
                  <a:pt x="2603" y="5183"/>
                  <a:pt x="2573" y="5236"/>
                </a:cubicBezTo>
                <a:cubicBezTo>
                  <a:pt x="2515" y="5339"/>
                  <a:pt x="2442" y="5441"/>
                  <a:pt x="2364" y="5530"/>
                </a:cubicBezTo>
                <a:cubicBezTo>
                  <a:pt x="2206" y="5709"/>
                  <a:pt x="2000" y="5854"/>
                  <a:pt x="1758" y="5885"/>
                </a:cubicBezTo>
                <a:cubicBezTo>
                  <a:pt x="1529" y="5914"/>
                  <a:pt x="1334" y="5816"/>
                  <a:pt x="1165" y="5671"/>
                </a:cubicBezTo>
                <a:cubicBezTo>
                  <a:pt x="1041" y="5565"/>
                  <a:pt x="937" y="5433"/>
                  <a:pt x="849" y="5296"/>
                </a:cubicBezTo>
                <a:cubicBezTo>
                  <a:pt x="729" y="5109"/>
                  <a:pt x="659" y="4914"/>
                  <a:pt x="679" y="4690"/>
                </a:cubicBezTo>
                <a:cubicBezTo>
                  <a:pt x="696" y="4504"/>
                  <a:pt x="757" y="4326"/>
                  <a:pt x="832" y="4156"/>
                </a:cubicBezTo>
                <a:cubicBezTo>
                  <a:pt x="921" y="3953"/>
                  <a:pt x="1024" y="3766"/>
                  <a:pt x="1144" y="3580"/>
                </a:cubicBezTo>
                <a:cubicBezTo>
                  <a:pt x="1248" y="3419"/>
                  <a:pt x="1356" y="3266"/>
                  <a:pt x="1498" y="3136"/>
                </a:cubicBezTo>
                <a:cubicBezTo>
                  <a:pt x="1773" y="2884"/>
                  <a:pt x="2308" y="2660"/>
                  <a:pt x="2671" y="2872"/>
                </a:cubicBezTo>
                <a:cubicBezTo>
                  <a:pt x="2733" y="2908"/>
                  <a:pt x="2772" y="2966"/>
                  <a:pt x="2808" y="3026"/>
                </a:cubicBezTo>
                <a:cubicBezTo>
                  <a:pt x="2842" y="3082"/>
                  <a:pt x="2867" y="3150"/>
                  <a:pt x="2885" y="3213"/>
                </a:cubicBezTo>
                <a:cubicBezTo>
                  <a:pt x="2900" y="3266"/>
                  <a:pt x="2899" y="3329"/>
                  <a:pt x="2919" y="3380"/>
                </a:cubicBezTo>
                <a:cubicBezTo>
                  <a:pt x="2932" y="3414"/>
                  <a:pt x="2939" y="3435"/>
                  <a:pt x="2966" y="3461"/>
                </a:cubicBezTo>
                <a:cubicBezTo>
                  <a:pt x="2984" y="3479"/>
                  <a:pt x="3018" y="3462"/>
                  <a:pt x="3026" y="3486"/>
                </a:cubicBezTo>
                <a:cubicBezTo>
                  <a:pt x="3030" y="3497"/>
                  <a:pt x="3002" y="3449"/>
                  <a:pt x="3004" y="3461"/>
                </a:cubicBezTo>
                <a:cubicBezTo>
                  <a:pt x="3006" y="3471"/>
                  <a:pt x="2997" y="3550"/>
                  <a:pt x="2996" y="3563"/>
                </a:cubicBezTo>
                <a:cubicBezTo>
                  <a:pt x="2971" y="4029"/>
                  <a:pt x="2884" y="4542"/>
                  <a:pt x="2607" y="4929"/>
                </a:cubicBezTo>
                <a:cubicBezTo>
                  <a:pt x="2539" y="5024"/>
                  <a:pt x="2455" y="5116"/>
                  <a:pt x="2360" y="5185"/>
                </a:cubicBezTo>
                <a:cubicBezTo>
                  <a:pt x="2299" y="5230"/>
                  <a:pt x="2214" y="5250"/>
                  <a:pt x="2185" y="5326"/>
                </a:cubicBezTo>
                <a:cubicBezTo>
                  <a:pt x="2185" y="5352"/>
                  <a:pt x="2185" y="5361"/>
                  <a:pt x="2193" y="5377"/>
                </a:cubicBezTo>
                <a:cubicBezTo>
                  <a:pt x="2234" y="5399"/>
                  <a:pt x="2233" y="5441"/>
                  <a:pt x="2296" y="5432"/>
                </a:cubicBezTo>
                <a:cubicBezTo>
                  <a:pt x="2471" y="5407"/>
                  <a:pt x="2574" y="5166"/>
                  <a:pt x="2637" y="5031"/>
                </a:cubicBezTo>
                <a:cubicBezTo>
                  <a:pt x="2713" y="4868"/>
                  <a:pt x="2745" y="4714"/>
                  <a:pt x="2782" y="4540"/>
                </a:cubicBezTo>
              </a:path>
              <a:path w="3027" h="13913">
                <a:moveTo>
                  <a:pt x="1276" y="3930"/>
                </a:moveTo>
                <a:cubicBezTo>
                  <a:pt x="1146" y="4194"/>
                  <a:pt x="993" y="4445"/>
                  <a:pt x="836" y="4694"/>
                </a:cubicBezTo>
                <a:cubicBezTo>
                  <a:pt x="774" y="4792"/>
                  <a:pt x="710" y="4910"/>
                  <a:pt x="623" y="4989"/>
                </a:cubicBezTo>
                <a:cubicBezTo>
                  <a:pt x="587" y="5022"/>
                  <a:pt x="559" y="5032"/>
                  <a:pt x="521" y="5057"/>
                </a:cubicBezTo>
                <a:cubicBezTo>
                  <a:pt x="483" y="4999"/>
                  <a:pt x="457" y="4966"/>
                  <a:pt x="435" y="4886"/>
                </a:cubicBezTo>
                <a:cubicBezTo>
                  <a:pt x="346" y="4562"/>
                  <a:pt x="235" y="4239"/>
                  <a:pt x="154" y="3913"/>
                </a:cubicBezTo>
                <a:cubicBezTo>
                  <a:pt x="122" y="3783"/>
                  <a:pt x="96" y="3655"/>
                  <a:pt x="102" y="3521"/>
                </a:cubicBezTo>
                <a:cubicBezTo>
                  <a:pt x="108" y="3383"/>
                  <a:pt x="145" y="3253"/>
                  <a:pt x="192" y="3124"/>
                </a:cubicBezTo>
                <a:cubicBezTo>
                  <a:pt x="239" y="2992"/>
                  <a:pt x="293" y="2861"/>
                  <a:pt x="354" y="2735"/>
                </a:cubicBezTo>
                <a:cubicBezTo>
                  <a:pt x="404" y="2632"/>
                  <a:pt x="455" y="2524"/>
                  <a:pt x="512" y="2424"/>
                </a:cubicBezTo>
                <a:cubicBezTo>
                  <a:pt x="549" y="2359"/>
                  <a:pt x="596" y="2298"/>
                  <a:pt x="644" y="2240"/>
                </a:cubicBezTo>
                <a:cubicBezTo>
                  <a:pt x="662" y="2218"/>
                  <a:pt x="690" y="2199"/>
                  <a:pt x="708" y="2181"/>
                </a:cubicBezTo>
                <a:cubicBezTo>
                  <a:pt x="713" y="2176"/>
                  <a:pt x="714" y="2175"/>
                  <a:pt x="717" y="2172"/>
                </a:cubicBezTo>
                <a:cubicBezTo>
                  <a:pt x="713" y="2179"/>
                  <a:pt x="709" y="2185"/>
                  <a:pt x="704" y="2193"/>
                </a:cubicBezTo>
                <a:cubicBezTo>
                  <a:pt x="680" y="2233"/>
                  <a:pt x="654" y="2272"/>
                  <a:pt x="632" y="2313"/>
                </a:cubicBezTo>
                <a:cubicBezTo>
                  <a:pt x="478" y="2590"/>
                  <a:pt x="403" y="2905"/>
                  <a:pt x="341" y="3213"/>
                </a:cubicBezTo>
                <a:cubicBezTo>
                  <a:pt x="260" y="3617"/>
                  <a:pt x="203" y="4031"/>
                  <a:pt x="175" y="4442"/>
                </a:cubicBezTo>
                <a:cubicBezTo>
                  <a:pt x="171" y="4505"/>
                  <a:pt x="169" y="4568"/>
                  <a:pt x="166" y="4630"/>
                </a:cubicBezTo>
                <a:cubicBezTo>
                  <a:pt x="166" y="4633"/>
                  <a:pt x="166" y="4636"/>
                  <a:pt x="166" y="4639"/>
                </a:cubicBezTo>
                <a:cubicBezTo>
                  <a:pt x="141" y="4517"/>
                  <a:pt x="115" y="4396"/>
                  <a:pt x="102" y="4272"/>
                </a:cubicBezTo>
                <a:cubicBezTo>
                  <a:pt x="73" y="4000"/>
                  <a:pt x="42" y="3722"/>
                  <a:pt x="60" y="3448"/>
                </a:cubicBezTo>
                <a:cubicBezTo>
                  <a:pt x="76" y="3205"/>
                  <a:pt x="115" y="2962"/>
                  <a:pt x="179" y="2727"/>
                </a:cubicBezTo>
                <a:cubicBezTo>
                  <a:pt x="241" y="2497"/>
                  <a:pt x="339" y="2235"/>
                  <a:pt x="504" y="2057"/>
                </a:cubicBezTo>
                <a:cubicBezTo>
                  <a:pt x="544" y="2014"/>
                  <a:pt x="580" y="2010"/>
                  <a:pt x="615" y="1989"/>
                </a:cubicBezTo>
                <a:cubicBezTo>
                  <a:pt x="614" y="2031"/>
                  <a:pt x="617" y="2075"/>
                  <a:pt x="610" y="2121"/>
                </a:cubicBezTo>
                <a:cubicBezTo>
                  <a:pt x="602" y="2177"/>
                  <a:pt x="594" y="2228"/>
                  <a:pt x="589" y="2283"/>
                </a:cubicBezTo>
              </a:path>
              <a:path w="3027" h="13913">
                <a:moveTo>
                  <a:pt x="1063" y="6094"/>
                </a:moveTo>
                <a:cubicBezTo>
                  <a:pt x="1061" y="6098"/>
                  <a:pt x="1053" y="6112"/>
                  <a:pt x="1046" y="6124"/>
                </a:cubicBezTo>
                <a:cubicBezTo>
                  <a:pt x="1021" y="6169"/>
                  <a:pt x="994" y="6218"/>
                  <a:pt x="969" y="6264"/>
                </a:cubicBezTo>
                <a:cubicBezTo>
                  <a:pt x="801" y="6582"/>
                  <a:pt x="703" y="6932"/>
                  <a:pt x="670" y="7289"/>
                </a:cubicBezTo>
                <a:cubicBezTo>
                  <a:pt x="589" y="8172"/>
                  <a:pt x="778" y="9036"/>
                  <a:pt x="1020" y="9879"/>
                </a:cubicBezTo>
                <a:cubicBezTo>
                  <a:pt x="1086" y="10108"/>
                  <a:pt x="1157" y="10335"/>
                  <a:pt x="1225" y="10562"/>
                </a:cubicBezTo>
                <a:cubicBezTo>
                  <a:pt x="1254" y="10658"/>
                  <a:pt x="1290" y="10756"/>
                  <a:pt x="1302" y="10856"/>
                </a:cubicBezTo>
                <a:cubicBezTo>
                  <a:pt x="1317" y="10977"/>
                  <a:pt x="1296" y="11095"/>
                  <a:pt x="1310" y="11219"/>
                </a:cubicBezTo>
                <a:cubicBezTo>
                  <a:pt x="1314" y="11244"/>
                  <a:pt x="1315" y="11251"/>
                  <a:pt x="1323" y="11266"/>
                </a:cubicBezTo>
                <a:cubicBezTo>
                  <a:pt x="1323" y="11252"/>
                  <a:pt x="1340" y="11288"/>
                  <a:pt x="1340" y="11274"/>
                </a:cubicBezTo>
                <a:cubicBezTo>
                  <a:pt x="1334" y="11046"/>
                  <a:pt x="1278" y="10813"/>
                  <a:pt x="1225" y="10592"/>
                </a:cubicBezTo>
                <a:cubicBezTo>
                  <a:pt x="1182" y="10413"/>
                  <a:pt x="1122" y="10240"/>
                  <a:pt x="1063" y="10067"/>
                </a:cubicBezTo>
                <a:cubicBezTo>
                  <a:pt x="1068" y="10116"/>
                  <a:pt x="1067" y="10187"/>
                  <a:pt x="1075" y="10242"/>
                </a:cubicBezTo>
                <a:cubicBezTo>
                  <a:pt x="1099" y="10403"/>
                  <a:pt x="1121" y="10563"/>
                  <a:pt x="1144" y="10724"/>
                </a:cubicBezTo>
                <a:cubicBezTo>
                  <a:pt x="1201" y="11134"/>
                  <a:pt x="1202" y="11562"/>
                  <a:pt x="1169" y="11974"/>
                </a:cubicBezTo>
                <a:cubicBezTo>
                  <a:pt x="1152" y="12190"/>
                  <a:pt x="1116" y="12408"/>
                  <a:pt x="1067" y="12619"/>
                </a:cubicBezTo>
                <a:cubicBezTo>
                  <a:pt x="986" y="12968"/>
                  <a:pt x="884" y="13288"/>
                  <a:pt x="679" y="13583"/>
                </a:cubicBezTo>
                <a:cubicBezTo>
                  <a:pt x="670" y="13596"/>
                  <a:pt x="647" y="13606"/>
                  <a:pt x="640" y="13617"/>
                </a:cubicBezTo>
                <a:cubicBezTo>
                  <a:pt x="636" y="13624"/>
                  <a:pt x="649" y="13610"/>
                  <a:pt x="644" y="13617"/>
                </a:cubicBezTo>
                <a:cubicBezTo>
                  <a:pt x="647" y="13616"/>
                  <a:pt x="650" y="13614"/>
                  <a:pt x="653" y="13613"/>
                </a:cubicBezTo>
                <a:cubicBezTo>
                  <a:pt x="686" y="13575"/>
                  <a:pt x="728" y="13544"/>
                  <a:pt x="760" y="13502"/>
                </a:cubicBezTo>
                <a:cubicBezTo>
                  <a:pt x="861" y="13372"/>
                  <a:pt x="926" y="13223"/>
                  <a:pt x="999" y="13079"/>
                </a:cubicBezTo>
                <a:cubicBezTo>
                  <a:pt x="977" y="13103"/>
                  <a:pt x="969" y="13115"/>
                  <a:pt x="947" y="13139"/>
                </a:cubicBezTo>
                <a:cubicBezTo>
                  <a:pt x="674" y="13438"/>
                  <a:pt x="323" y="13674"/>
                  <a:pt x="0" y="13912"/>
                </a:cubicBezTo>
                <a:cubicBezTo>
                  <a:pt x="7" y="13903"/>
                  <a:pt x="12" y="13899"/>
                  <a:pt x="21" y="13895"/>
                </a:cubicBezTo>
                <a:cubicBezTo>
                  <a:pt x="403" y="13566"/>
                  <a:pt x="839" y="13241"/>
                  <a:pt x="1127" y="12823"/>
                </a:cubicBezTo>
                <a:cubicBezTo>
                  <a:pt x="1464" y="12333"/>
                  <a:pt x="1480" y="11778"/>
                  <a:pt x="1413" y="11206"/>
                </a:cubicBezTo>
                <a:cubicBezTo>
                  <a:pt x="1350" y="10665"/>
                  <a:pt x="1248" y="10107"/>
                  <a:pt x="1054" y="9597"/>
                </a:cubicBezTo>
                <a:cubicBezTo>
                  <a:pt x="878" y="9134"/>
                  <a:pt x="616" y="8745"/>
                  <a:pt x="610" y="8232"/>
                </a:cubicBezTo>
                <a:cubicBezTo>
                  <a:pt x="604" y="7762"/>
                  <a:pt x="739" y="7268"/>
                  <a:pt x="900" y="6828"/>
                </a:cubicBezTo>
                <a:cubicBezTo>
                  <a:pt x="917" y="6782"/>
                  <a:pt x="941" y="6732"/>
                  <a:pt x="956" y="6687"/>
                </a:cubicBezTo>
                <a:cubicBezTo>
                  <a:pt x="956" y="6698"/>
                  <a:pt x="954" y="6704"/>
                  <a:pt x="943" y="6708"/>
                </a:cubicBezTo>
                <a:cubicBezTo>
                  <a:pt x="910" y="6774"/>
                  <a:pt x="883" y="6844"/>
                  <a:pt x="849" y="6909"/>
                </a:cubicBezTo>
                <a:cubicBezTo>
                  <a:pt x="835" y="6933"/>
                  <a:pt x="821" y="6957"/>
                  <a:pt x="807" y="6981"/>
                </a:cubicBezTo>
              </a:path>
              <a:path w="3027" h="13913">
                <a:moveTo>
                  <a:pt x="2044" y="6307"/>
                </a:moveTo>
                <a:cubicBezTo>
                  <a:pt x="2043" y="6311"/>
                  <a:pt x="2041" y="6316"/>
                  <a:pt x="2040" y="6320"/>
                </a:cubicBezTo>
                <a:cubicBezTo>
                  <a:pt x="2031" y="6318"/>
                  <a:pt x="2009" y="6308"/>
                  <a:pt x="2001" y="6316"/>
                </a:cubicBezTo>
                <a:cubicBezTo>
                  <a:pt x="2001" y="6321"/>
                  <a:pt x="2001" y="6322"/>
                  <a:pt x="1997" y="6324"/>
                </a:cubicBezTo>
              </a:path>
              <a:path w="3027" h="13913">
                <a:moveTo>
                  <a:pt x="2147" y="2940"/>
                </a:moveTo>
                <a:cubicBezTo>
                  <a:pt x="2144" y="2965"/>
                  <a:pt x="2140" y="2997"/>
                  <a:pt x="2138" y="3026"/>
                </a:cubicBezTo>
                <a:cubicBezTo>
                  <a:pt x="2135" y="3072"/>
                  <a:pt x="2131" y="3117"/>
                  <a:pt x="2129" y="3162"/>
                </a:cubicBezTo>
                <a:cubicBezTo>
                  <a:pt x="2119" y="3449"/>
                  <a:pt x="2102" y="3720"/>
                  <a:pt x="2006" y="3994"/>
                </a:cubicBezTo>
                <a:cubicBezTo>
                  <a:pt x="1962" y="4119"/>
                  <a:pt x="1902" y="4240"/>
                  <a:pt x="1839" y="4357"/>
                </a:cubicBezTo>
                <a:cubicBezTo>
                  <a:pt x="1766" y="4493"/>
                  <a:pt x="1688" y="4625"/>
                  <a:pt x="1617" y="4762"/>
                </a:cubicBezTo>
                <a:cubicBezTo>
                  <a:pt x="1414" y="5155"/>
                  <a:pt x="1254" y="5573"/>
                  <a:pt x="1152" y="6004"/>
                </a:cubicBezTo>
                <a:cubicBezTo>
                  <a:pt x="1125" y="6118"/>
                  <a:pt x="1089" y="6231"/>
                  <a:pt x="1067" y="6346"/>
                </a:cubicBezTo>
                <a:cubicBezTo>
                  <a:pt x="1053" y="6423"/>
                  <a:pt x="1038" y="6499"/>
                  <a:pt x="1024" y="6576"/>
                </a:cubicBezTo>
                <a:cubicBezTo>
                  <a:pt x="1018" y="6609"/>
                  <a:pt x="1015" y="6643"/>
                  <a:pt x="1011" y="6674"/>
                </a:cubicBezTo>
                <a:cubicBezTo>
                  <a:pt x="1011" y="6681"/>
                  <a:pt x="1011" y="6683"/>
                  <a:pt x="1011" y="6687"/>
                </a:cubicBezTo>
                <a:cubicBezTo>
                  <a:pt x="1011" y="6442"/>
                  <a:pt x="993" y="6198"/>
                  <a:pt x="1003" y="5953"/>
                </a:cubicBezTo>
                <a:cubicBezTo>
                  <a:pt x="1024" y="5432"/>
                  <a:pt x="1131" y="4899"/>
                  <a:pt x="1319" y="4412"/>
                </a:cubicBezTo>
                <a:cubicBezTo>
                  <a:pt x="1400" y="4201"/>
                  <a:pt x="1503" y="3989"/>
                  <a:pt x="1609" y="3789"/>
                </a:cubicBezTo>
                <a:cubicBezTo>
                  <a:pt x="1686" y="3643"/>
                  <a:pt x="1780" y="3510"/>
                  <a:pt x="1869" y="3371"/>
                </a:cubicBezTo>
                <a:cubicBezTo>
                  <a:pt x="1883" y="3349"/>
                  <a:pt x="1910" y="3316"/>
                  <a:pt x="1916" y="3290"/>
                </a:cubicBezTo>
                <a:cubicBezTo>
                  <a:pt x="1923" y="3260"/>
                  <a:pt x="1902" y="3233"/>
                  <a:pt x="1903" y="3209"/>
                </a:cubicBezTo>
                <a:cubicBezTo>
                  <a:pt x="1909" y="3221"/>
                  <a:pt x="1922" y="3234"/>
                  <a:pt x="1929" y="3247"/>
                </a:cubicBezTo>
                <a:cubicBezTo>
                  <a:pt x="1960" y="3304"/>
                  <a:pt x="1983" y="3365"/>
                  <a:pt x="2001" y="3427"/>
                </a:cubicBezTo>
                <a:cubicBezTo>
                  <a:pt x="2034" y="3537"/>
                  <a:pt x="2048" y="3654"/>
                  <a:pt x="2048" y="3768"/>
                </a:cubicBezTo>
                <a:cubicBezTo>
                  <a:pt x="2048" y="4093"/>
                  <a:pt x="1930" y="4413"/>
                  <a:pt x="1822" y="4715"/>
                </a:cubicBezTo>
                <a:cubicBezTo>
                  <a:pt x="1692" y="5078"/>
                  <a:pt x="1516" y="5423"/>
                  <a:pt x="1391" y="5787"/>
                </a:cubicBezTo>
                <a:cubicBezTo>
                  <a:pt x="1329" y="5968"/>
                  <a:pt x="1278" y="6147"/>
                  <a:pt x="1289" y="6341"/>
                </a:cubicBezTo>
                <a:cubicBezTo>
                  <a:pt x="1294" y="6428"/>
                  <a:pt x="1315" y="6510"/>
                  <a:pt x="1336" y="6593"/>
                </a:cubicBezTo>
                <a:cubicBezTo>
                  <a:pt x="1336" y="6583"/>
                  <a:pt x="1335" y="6579"/>
                  <a:pt x="1331" y="6572"/>
                </a:cubicBezTo>
                <a:cubicBezTo>
                  <a:pt x="1328" y="6543"/>
                  <a:pt x="1326" y="6515"/>
                  <a:pt x="1323" y="6486"/>
                </a:cubicBezTo>
                <a:cubicBezTo>
                  <a:pt x="1316" y="6418"/>
                  <a:pt x="1322" y="6358"/>
                  <a:pt x="1327" y="6290"/>
                </a:cubicBezTo>
              </a:path>
              <a:path w="3027" h="13913">
                <a:moveTo>
                  <a:pt x="2219" y="3171"/>
                </a:moveTo>
                <a:cubicBezTo>
                  <a:pt x="2224" y="3169"/>
                  <a:pt x="2225" y="3157"/>
                  <a:pt x="2228" y="3149"/>
                </a:cubicBezTo>
                <a:cubicBezTo>
                  <a:pt x="2229" y="3145"/>
                  <a:pt x="2231" y="3140"/>
                  <a:pt x="2232" y="3136"/>
                </a:cubicBezTo>
              </a:path>
              <a:path w="3027" h="13913">
                <a:moveTo>
                  <a:pt x="2142" y="2791"/>
                </a:moveTo>
                <a:cubicBezTo>
                  <a:pt x="2015" y="2867"/>
                  <a:pt x="1899" y="2960"/>
                  <a:pt x="1797" y="3072"/>
                </a:cubicBezTo>
                <a:cubicBezTo>
                  <a:pt x="1687" y="3193"/>
                  <a:pt x="1590" y="3325"/>
                  <a:pt x="1506" y="3465"/>
                </a:cubicBezTo>
                <a:cubicBezTo>
                  <a:pt x="1408" y="3629"/>
                  <a:pt x="1316" y="3803"/>
                  <a:pt x="1246" y="3981"/>
                </a:cubicBezTo>
                <a:cubicBezTo>
                  <a:pt x="1181" y="4146"/>
                  <a:pt x="1120" y="4321"/>
                  <a:pt x="1097" y="4498"/>
                </a:cubicBezTo>
                <a:cubicBezTo>
                  <a:pt x="1075" y="4663"/>
                  <a:pt x="1073" y="4830"/>
                  <a:pt x="1110" y="4993"/>
                </a:cubicBezTo>
                <a:cubicBezTo>
                  <a:pt x="1158" y="5206"/>
                  <a:pt x="1267" y="5429"/>
                  <a:pt x="1464" y="5539"/>
                </a:cubicBezTo>
                <a:cubicBezTo>
                  <a:pt x="1587" y="5608"/>
                  <a:pt x="1738" y="5635"/>
                  <a:pt x="1878" y="5629"/>
                </a:cubicBezTo>
                <a:cubicBezTo>
                  <a:pt x="2012" y="5624"/>
                  <a:pt x="2177" y="5573"/>
                  <a:pt x="2287" y="5496"/>
                </a:cubicBezTo>
                <a:cubicBezTo>
                  <a:pt x="2424" y="5400"/>
                  <a:pt x="2502" y="5271"/>
                  <a:pt x="2573" y="5125"/>
                </a:cubicBezTo>
                <a:cubicBezTo>
                  <a:pt x="2666" y="4935"/>
                  <a:pt x="2694" y="4738"/>
                  <a:pt x="2706" y="4528"/>
                </a:cubicBezTo>
                <a:cubicBezTo>
                  <a:pt x="2722" y="4239"/>
                  <a:pt x="2678" y="3944"/>
                  <a:pt x="2599" y="3666"/>
                </a:cubicBezTo>
                <a:cubicBezTo>
                  <a:pt x="2550" y="3496"/>
                  <a:pt x="2482" y="3329"/>
                  <a:pt x="2364" y="3196"/>
                </a:cubicBezTo>
                <a:cubicBezTo>
                  <a:pt x="2232" y="3047"/>
                  <a:pt x="2038" y="3038"/>
                  <a:pt x="1865" y="3119"/>
                </a:cubicBezTo>
                <a:cubicBezTo>
                  <a:pt x="1408" y="3333"/>
                  <a:pt x="1242" y="3863"/>
                  <a:pt x="1178" y="4323"/>
                </a:cubicBezTo>
                <a:cubicBezTo>
                  <a:pt x="1133" y="4645"/>
                  <a:pt x="1160" y="4971"/>
                  <a:pt x="1233" y="5287"/>
                </a:cubicBezTo>
                <a:cubicBezTo>
                  <a:pt x="1286" y="5516"/>
                  <a:pt x="1365" y="5678"/>
                  <a:pt x="1541" y="5825"/>
                </a:cubicBezTo>
              </a:path>
              <a:path w="3027" h="13913">
                <a:moveTo>
                  <a:pt x="2257" y="3282"/>
                </a:moveTo>
                <a:cubicBezTo>
                  <a:pt x="2236" y="3268"/>
                  <a:pt x="2214" y="3253"/>
                  <a:pt x="2193" y="3239"/>
                </a:cubicBezTo>
                <a:cubicBezTo>
                  <a:pt x="2189" y="3254"/>
                  <a:pt x="2180" y="3269"/>
                  <a:pt x="2176" y="3286"/>
                </a:cubicBezTo>
                <a:cubicBezTo>
                  <a:pt x="2162" y="3343"/>
                  <a:pt x="2152" y="3398"/>
                  <a:pt x="2142" y="3457"/>
                </a:cubicBezTo>
                <a:cubicBezTo>
                  <a:pt x="2093" y="3747"/>
                  <a:pt x="2079" y="4042"/>
                  <a:pt x="2018" y="4331"/>
                </a:cubicBezTo>
                <a:cubicBezTo>
                  <a:pt x="1975" y="4536"/>
                  <a:pt x="1912" y="4734"/>
                  <a:pt x="1839" y="4929"/>
                </a:cubicBezTo>
                <a:cubicBezTo>
                  <a:pt x="1763" y="5133"/>
                  <a:pt x="1664" y="5324"/>
                  <a:pt x="1575" y="5522"/>
                </a:cubicBezTo>
                <a:cubicBezTo>
                  <a:pt x="1491" y="5710"/>
                  <a:pt x="1409" y="5900"/>
                  <a:pt x="1340" y="6094"/>
                </a:cubicBezTo>
                <a:cubicBezTo>
                  <a:pt x="1279" y="6266"/>
                  <a:pt x="1226" y="6440"/>
                  <a:pt x="1191" y="6619"/>
                </a:cubicBezTo>
                <a:cubicBezTo>
                  <a:pt x="1171" y="6723"/>
                  <a:pt x="1142" y="6836"/>
                  <a:pt x="1152" y="6943"/>
                </a:cubicBezTo>
                <a:cubicBezTo>
                  <a:pt x="1157" y="6993"/>
                  <a:pt x="1181" y="7006"/>
                  <a:pt x="1199" y="7041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9" name="Freeform 5"/>
          <p:cNvSpPr/>
          <p:nvPr/>
        </p:nvSpPr>
        <p:spPr>
          <a:xfrm>
            <a:off x="3598920" y="1787400"/>
            <a:ext cx="546120" cy="858960"/>
          </a:xfrm>
          <a:custGeom>
            <a:avLst/>
            <a:gdLst/>
            <a:ahLst/>
            <a:rect l="l" t="t" r="r" b="b"/>
            <a:pathLst>
              <a:path w="1516" h="2382">
                <a:moveTo>
                  <a:pt x="883" y="247"/>
                </a:moveTo>
                <a:cubicBezTo>
                  <a:pt x="952" y="427"/>
                  <a:pt x="1015" y="608"/>
                  <a:pt x="1079" y="789"/>
                </a:cubicBezTo>
                <a:cubicBezTo>
                  <a:pt x="1161" y="1021"/>
                  <a:pt x="1234" y="1255"/>
                  <a:pt x="1310" y="1489"/>
                </a:cubicBezTo>
                <a:cubicBezTo>
                  <a:pt x="1367" y="1663"/>
                  <a:pt x="1421" y="1839"/>
                  <a:pt x="1459" y="2018"/>
                </a:cubicBezTo>
                <a:cubicBezTo>
                  <a:pt x="1466" y="2051"/>
                  <a:pt x="1468" y="2087"/>
                  <a:pt x="1472" y="2116"/>
                </a:cubicBezTo>
                <a:cubicBezTo>
                  <a:pt x="1442" y="2076"/>
                  <a:pt x="1411" y="2035"/>
                  <a:pt x="1382" y="1993"/>
                </a:cubicBezTo>
                <a:cubicBezTo>
                  <a:pt x="1298" y="1871"/>
                  <a:pt x="1204" y="1760"/>
                  <a:pt x="1109" y="1647"/>
                </a:cubicBezTo>
                <a:cubicBezTo>
                  <a:pt x="997" y="1514"/>
                  <a:pt x="873" y="1391"/>
                  <a:pt x="729" y="1293"/>
                </a:cubicBezTo>
                <a:cubicBezTo>
                  <a:pt x="624" y="1222"/>
                  <a:pt x="501" y="1172"/>
                  <a:pt x="375" y="1156"/>
                </a:cubicBezTo>
                <a:cubicBezTo>
                  <a:pt x="256" y="1141"/>
                  <a:pt x="141" y="1167"/>
                  <a:pt x="25" y="1190"/>
                </a:cubicBezTo>
                <a:cubicBezTo>
                  <a:pt x="17" y="1192"/>
                  <a:pt x="8" y="1193"/>
                  <a:pt x="0" y="1195"/>
                </a:cubicBezTo>
                <a:cubicBezTo>
                  <a:pt x="29" y="1203"/>
                  <a:pt x="51" y="1200"/>
                  <a:pt x="81" y="1212"/>
                </a:cubicBezTo>
                <a:cubicBezTo>
                  <a:pt x="354" y="1320"/>
                  <a:pt x="603" y="1500"/>
                  <a:pt x="845" y="1664"/>
                </a:cubicBezTo>
                <a:cubicBezTo>
                  <a:pt x="951" y="1735"/>
                  <a:pt x="1055" y="1805"/>
                  <a:pt x="1165" y="1869"/>
                </a:cubicBezTo>
                <a:cubicBezTo>
                  <a:pt x="1276" y="1933"/>
                  <a:pt x="1369" y="1970"/>
                  <a:pt x="1489" y="1993"/>
                </a:cubicBezTo>
                <a:cubicBezTo>
                  <a:pt x="1500" y="1934"/>
                  <a:pt x="1516" y="1894"/>
                  <a:pt x="1506" y="1822"/>
                </a:cubicBezTo>
                <a:cubicBezTo>
                  <a:pt x="1467" y="1536"/>
                  <a:pt x="1346" y="1255"/>
                  <a:pt x="1220" y="998"/>
                </a:cubicBezTo>
                <a:cubicBezTo>
                  <a:pt x="1083" y="717"/>
                  <a:pt x="925" y="449"/>
                  <a:pt x="729" y="205"/>
                </a:cubicBezTo>
                <a:cubicBezTo>
                  <a:pt x="674" y="136"/>
                  <a:pt x="597" y="78"/>
                  <a:pt x="546" y="8"/>
                </a:cubicBezTo>
                <a:cubicBezTo>
                  <a:pt x="542" y="2"/>
                  <a:pt x="558" y="5"/>
                  <a:pt x="554" y="0"/>
                </a:cubicBezTo>
                <a:cubicBezTo>
                  <a:pt x="597" y="36"/>
                  <a:pt x="633" y="59"/>
                  <a:pt x="670" y="111"/>
                </a:cubicBezTo>
                <a:cubicBezTo>
                  <a:pt x="878" y="403"/>
                  <a:pt x="1011" y="763"/>
                  <a:pt x="1131" y="1097"/>
                </a:cubicBezTo>
                <a:cubicBezTo>
                  <a:pt x="1233" y="1382"/>
                  <a:pt x="1313" y="1672"/>
                  <a:pt x="1361" y="1971"/>
                </a:cubicBezTo>
                <a:cubicBezTo>
                  <a:pt x="1385" y="2124"/>
                  <a:pt x="1392" y="2238"/>
                  <a:pt x="1340" y="2381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0" name="Freeform 6"/>
          <p:cNvSpPr/>
          <p:nvPr/>
        </p:nvSpPr>
        <p:spPr>
          <a:xfrm>
            <a:off x="5130720" y="744480"/>
            <a:ext cx="757440" cy="873360"/>
          </a:xfrm>
          <a:custGeom>
            <a:avLst/>
            <a:gdLst/>
            <a:ahLst/>
            <a:rect l="l" t="t" r="r" b="b"/>
            <a:pathLst>
              <a:path w="2101" h="2425">
                <a:moveTo>
                  <a:pt x="372" y="1016"/>
                </a:moveTo>
                <a:cubicBezTo>
                  <a:pt x="320" y="1296"/>
                  <a:pt x="280" y="1565"/>
                  <a:pt x="346" y="1848"/>
                </a:cubicBezTo>
                <a:cubicBezTo>
                  <a:pt x="386" y="2018"/>
                  <a:pt x="474" y="2188"/>
                  <a:pt x="619" y="2292"/>
                </a:cubicBezTo>
                <a:cubicBezTo>
                  <a:pt x="743" y="2382"/>
                  <a:pt x="915" y="2405"/>
                  <a:pt x="1063" y="2386"/>
                </a:cubicBezTo>
                <a:cubicBezTo>
                  <a:pt x="1263" y="2361"/>
                  <a:pt x="1452" y="2249"/>
                  <a:pt x="1571" y="2087"/>
                </a:cubicBezTo>
                <a:cubicBezTo>
                  <a:pt x="1688" y="1928"/>
                  <a:pt x="1725" y="1728"/>
                  <a:pt x="1746" y="1537"/>
                </a:cubicBezTo>
                <a:cubicBezTo>
                  <a:pt x="1773" y="1287"/>
                  <a:pt x="1757" y="1022"/>
                  <a:pt x="1724" y="773"/>
                </a:cubicBezTo>
                <a:cubicBezTo>
                  <a:pt x="1693" y="535"/>
                  <a:pt x="1632" y="254"/>
                  <a:pt x="1451" y="81"/>
                </a:cubicBezTo>
                <a:cubicBezTo>
                  <a:pt x="1350" y="-16"/>
                  <a:pt x="1203" y="-22"/>
                  <a:pt x="1076" y="26"/>
                </a:cubicBezTo>
                <a:cubicBezTo>
                  <a:pt x="800" y="130"/>
                  <a:pt x="600" y="426"/>
                  <a:pt x="478" y="679"/>
                </a:cubicBezTo>
                <a:cubicBezTo>
                  <a:pt x="316" y="1014"/>
                  <a:pt x="240" y="1374"/>
                  <a:pt x="325" y="1741"/>
                </a:cubicBezTo>
                <a:cubicBezTo>
                  <a:pt x="385" y="1998"/>
                  <a:pt x="546" y="2224"/>
                  <a:pt x="781" y="2347"/>
                </a:cubicBezTo>
                <a:cubicBezTo>
                  <a:pt x="1063" y="2495"/>
                  <a:pt x="1367" y="2412"/>
                  <a:pt x="1618" y="2245"/>
                </a:cubicBezTo>
                <a:cubicBezTo>
                  <a:pt x="1796" y="2127"/>
                  <a:pt x="1935" y="1956"/>
                  <a:pt x="2015" y="1758"/>
                </a:cubicBezTo>
                <a:cubicBezTo>
                  <a:pt x="2107" y="1530"/>
                  <a:pt x="2115" y="1269"/>
                  <a:pt x="2079" y="1029"/>
                </a:cubicBezTo>
                <a:cubicBezTo>
                  <a:pt x="2022" y="649"/>
                  <a:pt x="1858" y="271"/>
                  <a:pt x="1502" y="86"/>
                </a:cubicBezTo>
                <a:cubicBezTo>
                  <a:pt x="1242" y="-48"/>
                  <a:pt x="944" y="11"/>
                  <a:pt x="709" y="167"/>
                </a:cubicBezTo>
                <a:cubicBezTo>
                  <a:pt x="482" y="317"/>
                  <a:pt x="317" y="574"/>
                  <a:pt x="201" y="815"/>
                </a:cubicBezTo>
                <a:cubicBezTo>
                  <a:pt x="77" y="1074"/>
                  <a:pt x="-5" y="1366"/>
                  <a:pt x="0" y="1656"/>
                </a:cubicBezTo>
                <a:cubicBezTo>
                  <a:pt x="4" y="1920"/>
                  <a:pt x="96" y="2110"/>
                  <a:pt x="227" y="2330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1" name="Freeform 7"/>
          <p:cNvSpPr/>
          <p:nvPr/>
        </p:nvSpPr>
        <p:spPr>
          <a:xfrm>
            <a:off x="4424400" y="1530360"/>
            <a:ext cx="1587600" cy="1719360"/>
          </a:xfrm>
          <a:custGeom>
            <a:avLst/>
            <a:gdLst/>
            <a:ahLst/>
            <a:rect l="l" t="t" r="r" b="b"/>
            <a:pathLst>
              <a:path w="4410" h="4776">
                <a:moveTo>
                  <a:pt x="1724" y="580"/>
                </a:moveTo>
                <a:cubicBezTo>
                  <a:pt x="1712" y="569"/>
                  <a:pt x="1669" y="498"/>
                  <a:pt x="1652" y="499"/>
                </a:cubicBezTo>
                <a:cubicBezTo>
                  <a:pt x="1616" y="501"/>
                  <a:pt x="1617" y="506"/>
                  <a:pt x="1596" y="546"/>
                </a:cubicBezTo>
                <a:cubicBezTo>
                  <a:pt x="1476" y="774"/>
                  <a:pt x="1534" y="1143"/>
                  <a:pt x="1575" y="1378"/>
                </a:cubicBezTo>
                <a:cubicBezTo>
                  <a:pt x="1619" y="1632"/>
                  <a:pt x="1691" y="1881"/>
                  <a:pt x="1823" y="2104"/>
                </a:cubicBezTo>
                <a:cubicBezTo>
                  <a:pt x="1933" y="2290"/>
                  <a:pt x="2077" y="2451"/>
                  <a:pt x="2271" y="2548"/>
                </a:cubicBezTo>
                <a:cubicBezTo>
                  <a:pt x="2426" y="2625"/>
                  <a:pt x="2612" y="2641"/>
                  <a:pt x="2783" y="2624"/>
                </a:cubicBezTo>
                <a:cubicBezTo>
                  <a:pt x="3055" y="2596"/>
                  <a:pt x="3330" y="2461"/>
                  <a:pt x="3457" y="2210"/>
                </a:cubicBezTo>
                <a:cubicBezTo>
                  <a:pt x="3525" y="2076"/>
                  <a:pt x="3552" y="1938"/>
                  <a:pt x="3555" y="1788"/>
                </a:cubicBezTo>
                <a:cubicBezTo>
                  <a:pt x="3561" y="1487"/>
                  <a:pt x="3465" y="1154"/>
                  <a:pt x="3320" y="892"/>
                </a:cubicBezTo>
                <a:cubicBezTo>
                  <a:pt x="3233" y="734"/>
                  <a:pt x="3127" y="580"/>
                  <a:pt x="2983" y="469"/>
                </a:cubicBezTo>
                <a:cubicBezTo>
                  <a:pt x="2903" y="407"/>
                  <a:pt x="2772" y="346"/>
                  <a:pt x="2667" y="367"/>
                </a:cubicBezTo>
                <a:cubicBezTo>
                  <a:pt x="2576" y="385"/>
                  <a:pt x="2488" y="426"/>
                  <a:pt x="2420" y="491"/>
                </a:cubicBezTo>
                <a:cubicBezTo>
                  <a:pt x="2245" y="659"/>
                  <a:pt x="2141" y="929"/>
                  <a:pt x="2108" y="1165"/>
                </a:cubicBezTo>
                <a:cubicBezTo>
                  <a:pt x="2073" y="1415"/>
                  <a:pt x="2120" y="1662"/>
                  <a:pt x="2232" y="1886"/>
                </a:cubicBezTo>
                <a:cubicBezTo>
                  <a:pt x="2417" y="2257"/>
                  <a:pt x="2879" y="2593"/>
                  <a:pt x="3312" y="2505"/>
                </a:cubicBezTo>
                <a:cubicBezTo>
                  <a:pt x="3540" y="2459"/>
                  <a:pt x="3592" y="2218"/>
                  <a:pt x="3568" y="2018"/>
                </a:cubicBezTo>
                <a:cubicBezTo>
                  <a:pt x="3502" y="1473"/>
                  <a:pt x="3139" y="907"/>
                  <a:pt x="2753" y="533"/>
                </a:cubicBezTo>
                <a:cubicBezTo>
                  <a:pt x="2553" y="339"/>
                  <a:pt x="2303" y="223"/>
                  <a:pt x="2036" y="354"/>
                </a:cubicBezTo>
                <a:cubicBezTo>
                  <a:pt x="1870" y="436"/>
                  <a:pt x="1754" y="589"/>
                  <a:pt x="1690" y="760"/>
                </a:cubicBezTo>
                <a:cubicBezTo>
                  <a:pt x="1526" y="1195"/>
                  <a:pt x="1652" y="1734"/>
                  <a:pt x="1878" y="2121"/>
                </a:cubicBezTo>
                <a:cubicBezTo>
                  <a:pt x="2097" y="2496"/>
                  <a:pt x="2385" y="2688"/>
                  <a:pt x="2791" y="2804"/>
                </a:cubicBezTo>
              </a:path>
              <a:path w="4410" h="4776">
                <a:moveTo>
                  <a:pt x="2992" y="2705"/>
                </a:moveTo>
                <a:cubicBezTo>
                  <a:pt x="3003" y="2766"/>
                  <a:pt x="3014" y="2816"/>
                  <a:pt x="3034" y="2876"/>
                </a:cubicBezTo>
                <a:cubicBezTo>
                  <a:pt x="3074" y="2992"/>
                  <a:pt x="3127" y="3104"/>
                  <a:pt x="3171" y="3218"/>
                </a:cubicBezTo>
                <a:cubicBezTo>
                  <a:pt x="3231" y="3374"/>
                  <a:pt x="3294" y="3548"/>
                  <a:pt x="3248" y="3713"/>
                </a:cubicBezTo>
                <a:cubicBezTo>
                  <a:pt x="3241" y="3721"/>
                  <a:pt x="3233" y="3730"/>
                  <a:pt x="3226" y="3738"/>
                </a:cubicBezTo>
                <a:cubicBezTo>
                  <a:pt x="3173" y="3726"/>
                  <a:pt x="3143" y="3741"/>
                  <a:pt x="3086" y="3704"/>
                </a:cubicBezTo>
                <a:cubicBezTo>
                  <a:pt x="2834" y="3540"/>
                  <a:pt x="2687" y="3341"/>
                  <a:pt x="2364" y="3307"/>
                </a:cubicBezTo>
                <a:cubicBezTo>
                  <a:pt x="2267" y="3297"/>
                  <a:pt x="2156" y="3305"/>
                  <a:pt x="2070" y="3358"/>
                </a:cubicBezTo>
                <a:cubicBezTo>
                  <a:pt x="2012" y="3393"/>
                  <a:pt x="2019" y="3429"/>
                  <a:pt x="1985" y="3474"/>
                </a:cubicBezTo>
                <a:cubicBezTo>
                  <a:pt x="2052" y="3577"/>
                  <a:pt x="2072" y="3633"/>
                  <a:pt x="2219" y="3653"/>
                </a:cubicBezTo>
                <a:cubicBezTo>
                  <a:pt x="2389" y="3676"/>
                  <a:pt x="2573" y="3648"/>
                  <a:pt x="2740" y="3614"/>
                </a:cubicBezTo>
                <a:cubicBezTo>
                  <a:pt x="3037" y="3554"/>
                  <a:pt x="3323" y="3448"/>
                  <a:pt x="3623" y="3401"/>
                </a:cubicBezTo>
                <a:cubicBezTo>
                  <a:pt x="3752" y="3381"/>
                  <a:pt x="3900" y="3365"/>
                  <a:pt x="4029" y="3392"/>
                </a:cubicBezTo>
                <a:cubicBezTo>
                  <a:pt x="4150" y="3417"/>
                  <a:pt x="4276" y="3485"/>
                  <a:pt x="4374" y="3559"/>
                </a:cubicBezTo>
                <a:cubicBezTo>
                  <a:pt x="4381" y="3568"/>
                  <a:pt x="4389" y="3576"/>
                  <a:pt x="4396" y="3585"/>
                </a:cubicBezTo>
                <a:cubicBezTo>
                  <a:pt x="4395" y="3586"/>
                  <a:pt x="4432" y="3637"/>
                  <a:pt x="4383" y="3627"/>
                </a:cubicBezTo>
                <a:cubicBezTo>
                  <a:pt x="4266" y="3602"/>
                  <a:pt x="4155" y="3534"/>
                  <a:pt x="4046" y="3486"/>
                </a:cubicBezTo>
                <a:cubicBezTo>
                  <a:pt x="3892" y="3418"/>
                  <a:pt x="3748" y="3357"/>
                  <a:pt x="3581" y="3328"/>
                </a:cubicBezTo>
                <a:cubicBezTo>
                  <a:pt x="3229" y="3266"/>
                  <a:pt x="2887" y="3339"/>
                  <a:pt x="2629" y="3593"/>
                </a:cubicBezTo>
                <a:cubicBezTo>
                  <a:pt x="2525" y="3695"/>
                  <a:pt x="2445" y="3831"/>
                  <a:pt x="2411" y="3973"/>
                </a:cubicBezTo>
                <a:cubicBezTo>
                  <a:pt x="2361" y="4181"/>
                  <a:pt x="2414" y="4384"/>
                  <a:pt x="2565" y="4536"/>
                </a:cubicBezTo>
                <a:cubicBezTo>
                  <a:pt x="2670" y="4641"/>
                  <a:pt x="2817" y="4700"/>
                  <a:pt x="2958" y="4737"/>
                </a:cubicBezTo>
                <a:cubicBezTo>
                  <a:pt x="3330" y="4835"/>
                  <a:pt x="3757" y="4750"/>
                  <a:pt x="4020" y="4459"/>
                </a:cubicBezTo>
                <a:cubicBezTo>
                  <a:pt x="4226" y="4231"/>
                  <a:pt x="4241" y="3902"/>
                  <a:pt x="4101" y="3636"/>
                </a:cubicBezTo>
                <a:cubicBezTo>
                  <a:pt x="4044" y="3527"/>
                  <a:pt x="3958" y="3411"/>
                  <a:pt x="3837" y="3371"/>
                </a:cubicBezTo>
                <a:cubicBezTo>
                  <a:pt x="3731" y="3336"/>
                  <a:pt x="3628" y="3377"/>
                  <a:pt x="3538" y="3431"/>
                </a:cubicBezTo>
                <a:cubicBezTo>
                  <a:pt x="3392" y="3519"/>
                  <a:pt x="3251" y="3670"/>
                  <a:pt x="3158" y="3811"/>
                </a:cubicBezTo>
                <a:cubicBezTo>
                  <a:pt x="3039" y="3989"/>
                  <a:pt x="3016" y="4192"/>
                  <a:pt x="3133" y="4378"/>
                </a:cubicBezTo>
                <a:cubicBezTo>
                  <a:pt x="3204" y="4490"/>
                  <a:pt x="3310" y="4582"/>
                  <a:pt x="3431" y="4634"/>
                </a:cubicBezTo>
                <a:cubicBezTo>
                  <a:pt x="3528" y="4675"/>
                  <a:pt x="3639" y="4687"/>
                  <a:pt x="3739" y="4647"/>
                </a:cubicBezTo>
                <a:cubicBezTo>
                  <a:pt x="3838" y="4608"/>
                  <a:pt x="3886" y="4520"/>
                  <a:pt x="3909" y="4421"/>
                </a:cubicBezTo>
                <a:cubicBezTo>
                  <a:pt x="3963" y="4189"/>
                  <a:pt x="3849" y="3918"/>
                  <a:pt x="3730" y="3725"/>
                </a:cubicBezTo>
                <a:cubicBezTo>
                  <a:pt x="3598" y="3511"/>
                  <a:pt x="3358" y="3244"/>
                  <a:pt x="3086" y="3230"/>
                </a:cubicBezTo>
                <a:cubicBezTo>
                  <a:pt x="2837" y="3217"/>
                  <a:pt x="2660" y="3457"/>
                  <a:pt x="2586" y="3666"/>
                </a:cubicBezTo>
                <a:cubicBezTo>
                  <a:pt x="2499" y="3909"/>
                  <a:pt x="2498" y="4222"/>
                  <a:pt x="2633" y="4447"/>
                </a:cubicBezTo>
                <a:cubicBezTo>
                  <a:pt x="2703" y="4564"/>
                  <a:pt x="2776" y="4606"/>
                  <a:pt x="2889" y="4668"/>
                </a:cubicBezTo>
              </a:path>
              <a:path w="4410" h="4776">
                <a:moveTo>
                  <a:pt x="3167" y="2987"/>
                </a:moveTo>
                <a:cubicBezTo>
                  <a:pt x="3209" y="3141"/>
                  <a:pt x="3243" y="3296"/>
                  <a:pt x="3278" y="3452"/>
                </a:cubicBezTo>
              </a:path>
              <a:path w="4410" h="4776">
                <a:moveTo>
                  <a:pt x="1404" y="299"/>
                </a:moveTo>
                <a:cubicBezTo>
                  <a:pt x="1396" y="307"/>
                  <a:pt x="1400" y="291"/>
                  <a:pt x="1392" y="299"/>
                </a:cubicBezTo>
                <a:cubicBezTo>
                  <a:pt x="1363" y="328"/>
                  <a:pt x="1330" y="366"/>
                  <a:pt x="1302" y="397"/>
                </a:cubicBezTo>
                <a:cubicBezTo>
                  <a:pt x="1158" y="559"/>
                  <a:pt x="1020" y="728"/>
                  <a:pt x="888" y="900"/>
                </a:cubicBezTo>
                <a:cubicBezTo>
                  <a:pt x="758" y="1070"/>
                  <a:pt x="640" y="1249"/>
                  <a:pt x="525" y="1429"/>
                </a:cubicBezTo>
                <a:cubicBezTo>
                  <a:pt x="388" y="1643"/>
                  <a:pt x="254" y="1861"/>
                  <a:pt x="116" y="2074"/>
                </a:cubicBezTo>
                <a:cubicBezTo>
                  <a:pt x="104" y="2093"/>
                  <a:pt x="89" y="2111"/>
                  <a:pt x="77" y="2129"/>
                </a:cubicBezTo>
                <a:cubicBezTo>
                  <a:pt x="89" y="2127"/>
                  <a:pt x="115" y="2133"/>
                  <a:pt x="133" y="2129"/>
                </a:cubicBezTo>
                <a:cubicBezTo>
                  <a:pt x="199" y="2114"/>
                  <a:pt x="266" y="2094"/>
                  <a:pt x="329" y="2070"/>
                </a:cubicBezTo>
                <a:cubicBezTo>
                  <a:pt x="465" y="2019"/>
                  <a:pt x="598" y="1947"/>
                  <a:pt x="726" y="1878"/>
                </a:cubicBezTo>
                <a:cubicBezTo>
                  <a:pt x="898" y="1786"/>
                  <a:pt x="1062" y="1682"/>
                  <a:pt x="1229" y="1583"/>
                </a:cubicBezTo>
                <a:cubicBezTo>
                  <a:pt x="1397" y="1484"/>
                  <a:pt x="1571" y="1398"/>
                  <a:pt x="1746" y="1314"/>
                </a:cubicBezTo>
                <a:cubicBezTo>
                  <a:pt x="1795" y="1291"/>
                  <a:pt x="1857" y="1254"/>
                  <a:pt x="1912" y="1246"/>
                </a:cubicBezTo>
                <a:cubicBezTo>
                  <a:pt x="1921" y="1245"/>
                  <a:pt x="1912" y="1265"/>
                  <a:pt x="1921" y="1263"/>
                </a:cubicBezTo>
                <a:cubicBezTo>
                  <a:pt x="1858" y="1342"/>
                  <a:pt x="1811" y="1374"/>
                  <a:pt x="1716" y="1417"/>
                </a:cubicBezTo>
                <a:cubicBezTo>
                  <a:pt x="1633" y="1454"/>
                  <a:pt x="1550" y="1492"/>
                  <a:pt x="1468" y="1532"/>
                </a:cubicBezTo>
                <a:cubicBezTo>
                  <a:pt x="1269" y="1629"/>
                  <a:pt x="1076" y="1736"/>
                  <a:pt x="879" y="1835"/>
                </a:cubicBezTo>
                <a:cubicBezTo>
                  <a:pt x="715" y="1918"/>
                  <a:pt x="539" y="2010"/>
                  <a:pt x="359" y="2053"/>
                </a:cubicBezTo>
                <a:cubicBezTo>
                  <a:pt x="287" y="2070"/>
                  <a:pt x="208" y="2088"/>
                  <a:pt x="133" y="2074"/>
                </a:cubicBezTo>
                <a:cubicBezTo>
                  <a:pt x="71" y="2062"/>
                  <a:pt x="31" y="2024"/>
                  <a:pt x="13" y="1963"/>
                </a:cubicBezTo>
                <a:cubicBezTo>
                  <a:pt x="-14" y="1873"/>
                  <a:pt x="-9" y="1751"/>
                  <a:pt x="13" y="1660"/>
                </a:cubicBezTo>
                <a:cubicBezTo>
                  <a:pt x="51" y="1503"/>
                  <a:pt x="117" y="1353"/>
                  <a:pt x="201" y="1216"/>
                </a:cubicBezTo>
                <a:cubicBezTo>
                  <a:pt x="302" y="1052"/>
                  <a:pt x="440" y="911"/>
                  <a:pt x="581" y="781"/>
                </a:cubicBezTo>
                <a:cubicBezTo>
                  <a:pt x="716" y="656"/>
                  <a:pt x="865" y="549"/>
                  <a:pt x="1020" y="452"/>
                </a:cubicBezTo>
                <a:cubicBezTo>
                  <a:pt x="1107" y="398"/>
                  <a:pt x="1196" y="339"/>
                  <a:pt x="1298" y="316"/>
                </a:cubicBezTo>
                <a:cubicBezTo>
                  <a:pt x="1338" y="307"/>
                  <a:pt x="1350" y="320"/>
                  <a:pt x="1383" y="324"/>
                </a:cubicBezTo>
                <a:cubicBezTo>
                  <a:pt x="1390" y="325"/>
                  <a:pt x="1394" y="353"/>
                  <a:pt x="1400" y="354"/>
                </a:cubicBezTo>
                <a:cubicBezTo>
                  <a:pt x="1408" y="356"/>
                  <a:pt x="1380" y="334"/>
                  <a:pt x="1387" y="337"/>
                </a:cubicBezTo>
                <a:cubicBezTo>
                  <a:pt x="1373" y="317"/>
                  <a:pt x="1361" y="294"/>
                  <a:pt x="1345" y="273"/>
                </a:cubicBezTo>
                <a:cubicBezTo>
                  <a:pt x="1336" y="260"/>
                  <a:pt x="1296" y="222"/>
                  <a:pt x="1298" y="205"/>
                </a:cubicBezTo>
                <a:cubicBezTo>
                  <a:pt x="1301" y="176"/>
                  <a:pt x="1288" y="184"/>
                  <a:pt x="1332" y="183"/>
                </a:cubicBezTo>
                <a:cubicBezTo>
                  <a:pt x="1384" y="182"/>
                  <a:pt x="1467" y="225"/>
                  <a:pt x="1511" y="247"/>
                </a:cubicBezTo>
                <a:cubicBezTo>
                  <a:pt x="1613" y="298"/>
                  <a:pt x="1725" y="372"/>
                  <a:pt x="1793" y="465"/>
                </a:cubicBezTo>
                <a:cubicBezTo>
                  <a:pt x="1813" y="493"/>
                  <a:pt x="1817" y="517"/>
                  <a:pt x="1831" y="546"/>
                </a:cubicBezTo>
                <a:cubicBezTo>
                  <a:pt x="1835" y="554"/>
                  <a:pt x="1820" y="534"/>
                  <a:pt x="1823" y="542"/>
                </a:cubicBezTo>
                <a:cubicBezTo>
                  <a:pt x="1799" y="456"/>
                  <a:pt x="1779" y="369"/>
                  <a:pt x="1746" y="286"/>
                </a:cubicBezTo>
                <a:cubicBezTo>
                  <a:pt x="1719" y="218"/>
                  <a:pt x="1672" y="111"/>
                  <a:pt x="1605" y="72"/>
                </a:cubicBezTo>
                <a:cubicBezTo>
                  <a:pt x="1562" y="47"/>
                  <a:pt x="1530" y="74"/>
                  <a:pt x="1494" y="94"/>
                </a:cubicBezTo>
                <a:cubicBezTo>
                  <a:pt x="1448" y="119"/>
                  <a:pt x="1429" y="182"/>
                  <a:pt x="1392" y="213"/>
                </a:cubicBezTo>
                <a:cubicBezTo>
                  <a:pt x="1361" y="239"/>
                  <a:pt x="1324" y="243"/>
                  <a:pt x="1289" y="265"/>
                </a:cubicBezTo>
                <a:cubicBezTo>
                  <a:pt x="1235" y="298"/>
                  <a:pt x="1195" y="333"/>
                  <a:pt x="1157" y="384"/>
                </a:cubicBezTo>
                <a:cubicBezTo>
                  <a:pt x="1095" y="469"/>
                  <a:pt x="1031" y="600"/>
                  <a:pt x="1084" y="704"/>
                </a:cubicBezTo>
                <a:cubicBezTo>
                  <a:pt x="1139" y="811"/>
                  <a:pt x="1278" y="776"/>
                  <a:pt x="1362" y="734"/>
                </a:cubicBezTo>
                <a:cubicBezTo>
                  <a:pt x="1440" y="695"/>
                  <a:pt x="1489" y="611"/>
                  <a:pt x="1511" y="529"/>
                </a:cubicBezTo>
                <a:cubicBezTo>
                  <a:pt x="1560" y="351"/>
                  <a:pt x="1487" y="92"/>
                  <a:pt x="1306" y="17"/>
                </a:cubicBezTo>
                <a:cubicBezTo>
                  <a:pt x="1199" y="-27"/>
                  <a:pt x="1103" y="41"/>
                  <a:pt x="1067" y="145"/>
                </a:cubicBezTo>
                <a:cubicBezTo>
                  <a:pt x="1037" y="232"/>
                  <a:pt x="1040" y="349"/>
                  <a:pt x="1101" y="422"/>
                </a:cubicBezTo>
                <a:cubicBezTo>
                  <a:pt x="1192" y="531"/>
                  <a:pt x="1319" y="529"/>
                  <a:pt x="1447" y="538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2" name="Freeform 8"/>
          <p:cNvSpPr/>
          <p:nvPr/>
        </p:nvSpPr>
        <p:spPr>
          <a:xfrm>
            <a:off x="3263760" y="2862360"/>
            <a:ext cx="576360" cy="2992320"/>
          </a:xfrm>
          <a:custGeom>
            <a:avLst/>
            <a:gdLst/>
            <a:ahLst/>
            <a:rect l="l" t="t" r="r" b="b"/>
            <a:pathLst>
              <a:path w="1597" h="8314">
                <a:moveTo>
                  <a:pt x="214" y="102"/>
                </a:moveTo>
                <a:cubicBezTo>
                  <a:pt x="39" y="446"/>
                  <a:pt x="-4" y="788"/>
                  <a:pt x="0" y="1178"/>
                </a:cubicBezTo>
                <a:cubicBezTo>
                  <a:pt x="10" y="2213"/>
                  <a:pt x="368" y="3135"/>
                  <a:pt x="816" y="4049"/>
                </a:cubicBezTo>
                <a:cubicBezTo>
                  <a:pt x="897" y="4213"/>
                  <a:pt x="989" y="4377"/>
                  <a:pt x="1050" y="4549"/>
                </a:cubicBezTo>
                <a:cubicBezTo>
                  <a:pt x="1056" y="4567"/>
                  <a:pt x="1054" y="4600"/>
                  <a:pt x="1059" y="4613"/>
                </a:cubicBezTo>
                <a:cubicBezTo>
                  <a:pt x="1025" y="4558"/>
                  <a:pt x="971" y="4509"/>
                  <a:pt x="939" y="4446"/>
                </a:cubicBezTo>
                <a:cubicBezTo>
                  <a:pt x="555" y="3677"/>
                  <a:pt x="393" y="2775"/>
                  <a:pt x="265" y="1933"/>
                </a:cubicBezTo>
                <a:cubicBezTo>
                  <a:pt x="251" y="1840"/>
                  <a:pt x="242" y="1739"/>
                  <a:pt x="222" y="1647"/>
                </a:cubicBezTo>
                <a:cubicBezTo>
                  <a:pt x="218" y="1646"/>
                  <a:pt x="214" y="1644"/>
                  <a:pt x="210" y="1643"/>
                </a:cubicBezTo>
                <a:cubicBezTo>
                  <a:pt x="215" y="1778"/>
                  <a:pt x="220" y="1912"/>
                  <a:pt x="235" y="2048"/>
                </a:cubicBezTo>
                <a:cubicBezTo>
                  <a:pt x="360" y="3147"/>
                  <a:pt x="634" y="4234"/>
                  <a:pt x="1054" y="5257"/>
                </a:cubicBezTo>
                <a:cubicBezTo>
                  <a:pt x="1268" y="5779"/>
                  <a:pt x="1494" y="6237"/>
                  <a:pt x="1545" y="6806"/>
                </a:cubicBezTo>
                <a:cubicBezTo>
                  <a:pt x="1576" y="7156"/>
                  <a:pt x="1635" y="7532"/>
                  <a:pt x="1558" y="7877"/>
                </a:cubicBezTo>
                <a:cubicBezTo>
                  <a:pt x="1535" y="7979"/>
                  <a:pt x="1492" y="8082"/>
                  <a:pt x="1456" y="8180"/>
                </a:cubicBezTo>
                <a:cubicBezTo>
                  <a:pt x="1449" y="8198"/>
                  <a:pt x="1441" y="8214"/>
                  <a:pt x="1434" y="8232"/>
                </a:cubicBezTo>
                <a:cubicBezTo>
                  <a:pt x="1436" y="8217"/>
                  <a:pt x="1427" y="8221"/>
                  <a:pt x="1430" y="8206"/>
                </a:cubicBezTo>
                <a:cubicBezTo>
                  <a:pt x="1464" y="8003"/>
                  <a:pt x="1510" y="7763"/>
                  <a:pt x="1554" y="7587"/>
                </a:cubicBezTo>
                <a:cubicBezTo>
                  <a:pt x="1562" y="7654"/>
                  <a:pt x="1579" y="7722"/>
                  <a:pt x="1584" y="7792"/>
                </a:cubicBezTo>
                <a:cubicBezTo>
                  <a:pt x="1598" y="7967"/>
                  <a:pt x="1576" y="8133"/>
                  <a:pt x="1554" y="8304"/>
                </a:cubicBezTo>
                <a:cubicBezTo>
                  <a:pt x="1553" y="8286"/>
                  <a:pt x="1545" y="8288"/>
                  <a:pt x="1545" y="8270"/>
                </a:cubicBezTo>
                <a:cubicBezTo>
                  <a:pt x="1547" y="7897"/>
                  <a:pt x="1563" y="7525"/>
                  <a:pt x="1571" y="7152"/>
                </a:cubicBezTo>
                <a:cubicBezTo>
                  <a:pt x="1581" y="6665"/>
                  <a:pt x="1573" y="6183"/>
                  <a:pt x="1468" y="5705"/>
                </a:cubicBezTo>
                <a:cubicBezTo>
                  <a:pt x="1437" y="5564"/>
                  <a:pt x="1396" y="5421"/>
                  <a:pt x="1353" y="5283"/>
                </a:cubicBezTo>
                <a:cubicBezTo>
                  <a:pt x="1311" y="5148"/>
                  <a:pt x="1261" y="5016"/>
                  <a:pt x="1217" y="4882"/>
                </a:cubicBezTo>
                <a:cubicBezTo>
                  <a:pt x="1084" y="4477"/>
                  <a:pt x="906" y="4116"/>
                  <a:pt x="722" y="3734"/>
                </a:cubicBezTo>
                <a:cubicBezTo>
                  <a:pt x="511" y="3296"/>
                  <a:pt x="439" y="2813"/>
                  <a:pt x="299" y="2351"/>
                </a:cubicBezTo>
                <a:cubicBezTo>
                  <a:pt x="167" y="1916"/>
                  <a:pt x="6" y="1471"/>
                  <a:pt x="9" y="1011"/>
                </a:cubicBezTo>
                <a:cubicBezTo>
                  <a:pt x="11" y="661"/>
                  <a:pt x="117" y="327"/>
                  <a:pt x="205" y="0"/>
                </a:cubicBezTo>
                <a:cubicBezTo>
                  <a:pt x="200" y="14"/>
                  <a:pt x="173" y="35"/>
                  <a:pt x="167" y="55"/>
                </a:cubicBezTo>
                <a:cubicBezTo>
                  <a:pt x="100" y="278"/>
                  <a:pt x="97" y="496"/>
                  <a:pt x="107" y="729"/>
                </a:cubicBezTo>
                <a:cubicBezTo>
                  <a:pt x="123" y="1103"/>
                  <a:pt x="176" y="1471"/>
                  <a:pt x="244" y="1839"/>
                </a:cubicBezTo>
                <a:cubicBezTo>
                  <a:pt x="307" y="2164"/>
                  <a:pt x="328" y="2269"/>
                  <a:pt x="376" y="2483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3" name="Freeform 9"/>
          <p:cNvSpPr/>
          <p:nvPr/>
        </p:nvSpPr>
        <p:spPr>
          <a:xfrm>
            <a:off x="5541840" y="3197160"/>
            <a:ext cx="408240" cy="2738520"/>
          </a:xfrm>
          <a:custGeom>
            <a:avLst/>
            <a:gdLst/>
            <a:ahLst/>
            <a:rect l="l" t="t" r="r" b="b"/>
            <a:pathLst>
              <a:path w="1136" h="7610">
                <a:moveTo>
                  <a:pt x="704" y="290"/>
                </a:moveTo>
                <a:cubicBezTo>
                  <a:pt x="694" y="237"/>
                  <a:pt x="669" y="158"/>
                  <a:pt x="661" y="128"/>
                </a:cubicBezTo>
                <a:cubicBezTo>
                  <a:pt x="664" y="137"/>
                  <a:pt x="667" y="145"/>
                  <a:pt x="670" y="154"/>
                </a:cubicBezTo>
                <a:cubicBezTo>
                  <a:pt x="758" y="346"/>
                  <a:pt x="845" y="537"/>
                  <a:pt x="913" y="738"/>
                </a:cubicBezTo>
                <a:cubicBezTo>
                  <a:pt x="1051" y="1146"/>
                  <a:pt x="1094" y="1564"/>
                  <a:pt x="1079" y="1993"/>
                </a:cubicBezTo>
                <a:cubicBezTo>
                  <a:pt x="1059" y="2575"/>
                  <a:pt x="970" y="3143"/>
                  <a:pt x="836" y="3708"/>
                </a:cubicBezTo>
                <a:cubicBezTo>
                  <a:pt x="799" y="3864"/>
                  <a:pt x="769" y="4021"/>
                  <a:pt x="742" y="4178"/>
                </a:cubicBezTo>
                <a:cubicBezTo>
                  <a:pt x="743" y="4176"/>
                  <a:pt x="769" y="4112"/>
                  <a:pt x="772" y="4097"/>
                </a:cubicBezTo>
                <a:cubicBezTo>
                  <a:pt x="963" y="3219"/>
                  <a:pt x="876" y="2305"/>
                  <a:pt x="1032" y="1421"/>
                </a:cubicBezTo>
                <a:cubicBezTo>
                  <a:pt x="1017" y="1470"/>
                  <a:pt x="994" y="1521"/>
                  <a:pt x="981" y="1570"/>
                </a:cubicBezTo>
                <a:cubicBezTo>
                  <a:pt x="886" y="1935"/>
                  <a:pt x="839" y="2311"/>
                  <a:pt x="785" y="2684"/>
                </a:cubicBezTo>
                <a:cubicBezTo>
                  <a:pt x="703" y="3249"/>
                  <a:pt x="641" y="3813"/>
                  <a:pt x="627" y="4383"/>
                </a:cubicBezTo>
                <a:cubicBezTo>
                  <a:pt x="611" y="5050"/>
                  <a:pt x="652" y="5658"/>
                  <a:pt x="328" y="6260"/>
                </a:cubicBezTo>
                <a:cubicBezTo>
                  <a:pt x="256" y="6395"/>
                  <a:pt x="187" y="6531"/>
                  <a:pt x="123" y="6670"/>
                </a:cubicBezTo>
                <a:cubicBezTo>
                  <a:pt x="62" y="6804"/>
                  <a:pt x="33" y="6932"/>
                  <a:pt x="0" y="7071"/>
                </a:cubicBezTo>
                <a:cubicBezTo>
                  <a:pt x="12" y="7051"/>
                  <a:pt x="23" y="7057"/>
                  <a:pt x="34" y="7037"/>
                </a:cubicBezTo>
                <a:cubicBezTo>
                  <a:pt x="173" y="6788"/>
                  <a:pt x="246" y="6497"/>
                  <a:pt x="316" y="6222"/>
                </a:cubicBezTo>
                <a:cubicBezTo>
                  <a:pt x="320" y="6187"/>
                  <a:pt x="320" y="6178"/>
                  <a:pt x="328" y="6158"/>
                </a:cubicBezTo>
                <a:cubicBezTo>
                  <a:pt x="323" y="6183"/>
                  <a:pt x="326" y="6180"/>
                  <a:pt x="320" y="6205"/>
                </a:cubicBezTo>
                <a:cubicBezTo>
                  <a:pt x="301" y="6291"/>
                  <a:pt x="282" y="6373"/>
                  <a:pt x="273" y="6461"/>
                </a:cubicBezTo>
                <a:cubicBezTo>
                  <a:pt x="230" y="6870"/>
                  <a:pt x="308" y="7265"/>
                  <a:pt x="554" y="7596"/>
                </a:cubicBezTo>
                <a:cubicBezTo>
                  <a:pt x="561" y="7600"/>
                  <a:pt x="569" y="7605"/>
                  <a:pt x="576" y="7609"/>
                </a:cubicBezTo>
                <a:cubicBezTo>
                  <a:pt x="571" y="7576"/>
                  <a:pt x="575" y="7541"/>
                  <a:pt x="567" y="7502"/>
                </a:cubicBezTo>
                <a:cubicBezTo>
                  <a:pt x="512" y="7248"/>
                  <a:pt x="407" y="6981"/>
                  <a:pt x="311" y="6760"/>
                </a:cubicBezTo>
                <a:cubicBezTo>
                  <a:pt x="343" y="6847"/>
                  <a:pt x="372" y="6934"/>
                  <a:pt x="409" y="7020"/>
                </a:cubicBezTo>
                <a:cubicBezTo>
                  <a:pt x="478" y="7180"/>
                  <a:pt x="562" y="7325"/>
                  <a:pt x="653" y="7472"/>
                </a:cubicBezTo>
                <a:cubicBezTo>
                  <a:pt x="656" y="7476"/>
                  <a:pt x="658" y="7481"/>
                  <a:pt x="661" y="7485"/>
                </a:cubicBezTo>
                <a:cubicBezTo>
                  <a:pt x="617" y="7392"/>
                  <a:pt x="573" y="7293"/>
                  <a:pt x="520" y="7199"/>
                </a:cubicBezTo>
                <a:cubicBezTo>
                  <a:pt x="455" y="7084"/>
                  <a:pt x="389" y="6965"/>
                  <a:pt x="307" y="6862"/>
                </a:cubicBezTo>
                <a:cubicBezTo>
                  <a:pt x="304" y="6863"/>
                  <a:pt x="301" y="6865"/>
                  <a:pt x="298" y="6866"/>
                </a:cubicBezTo>
                <a:cubicBezTo>
                  <a:pt x="320" y="6955"/>
                  <a:pt x="342" y="7046"/>
                  <a:pt x="371" y="7135"/>
                </a:cubicBezTo>
                <a:cubicBezTo>
                  <a:pt x="405" y="7239"/>
                  <a:pt x="447" y="7340"/>
                  <a:pt x="486" y="7442"/>
                </a:cubicBezTo>
                <a:cubicBezTo>
                  <a:pt x="478" y="7390"/>
                  <a:pt x="476" y="7330"/>
                  <a:pt x="465" y="7276"/>
                </a:cubicBezTo>
                <a:cubicBezTo>
                  <a:pt x="394" y="6932"/>
                  <a:pt x="305" y="6585"/>
                  <a:pt x="273" y="6235"/>
                </a:cubicBezTo>
                <a:cubicBezTo>
                  <a:pt x="260" y="6088"/>
                  <a:pt x="246" y="5940"/>
                  <a:pt x="316" y="5808"/>
                </a:cubicBezTo>
                <a:cubicBezTo>
                  <a:pt x="394" y="5661"/>
                  <a:pt x="493" y="5569"/>
                  <a:pt x="542" y="5398"/>
                </a:cubicBezTo>
                <a:cubicBezTo>
                  <a:pt x="694" y="4864"/>
                  <a:pt x="710" y="4297"/>
                  <a:pt x="725" y="3747"/>
                </a:cubicBezTo>
                <a:cubicBezTo>
                  <a:pt x="728" y="3631"/>
                  <a:pt x="741" y="3520"/>
                  <a:pt x="751" y="3405"/>
                </a:cubicBezTo>
                <a:cubicBezTo>
                  <a:pt x="761" y="3285"/>
                  <a:pt x="765" y="3164"/>
                  <a:pt x="772" y="3043"/>
                </a:cubicBezTo>
                <a:cubicBezTo>
                  <a:pt x="797" y="2605"/>
                  <a:pt x="824" y="2206"/>
                  <a:pt x="951" y="1784"/>
                </a:cubicBezTo>
                <a:cubicBezTo>
                  <a:pt x="1046" y="1470"/>
                  <a:pt x="1135" y="1145"/>
                  <a:pt x="1135" y="815"/>
                </a:cubicBezTo>
                <a:cubicBezTo>
                  <a:pt x="1135" y="716"/>
                  <a:pt x="1125" y="606"/>
                  <a:pt x="1105" y="508"/>
                </a:cubicBezTo>
                <a:cubicBezTo>
                  <a:pt x="1071" y="341"/>
                  <a:pt x="1010" y="183"/>
                  <a:pt x="870" y="81"/>
                </a:cubicBezTo>
                <a:cubicBezTo>
                  <a:pt x="828" y="51"/>
                  <a:pt x="776" y="37"/>
                  <a:pt x="734" y="13"/>
                </a:cubicBezTo>
                <a:cubicBezTo>
                  <a:pt x="720" y="9"/>
                  <a:pt x="715" y="7"/>
                  <a:pt x="708" y="0"/>
                </a:cubicBezTo>
                <a:cubicBezTo>
                  <a:pt x="715" y="28"/>
                  <a:pt x="709" y="66"/>
                  <a:pt x="721" y="102"/>
                </a:cubicBezTo>
                <a:cubicBezTo>
                  <a:pt x="786" y="301"/>
                  <a:pt x="860" y="497"/>
                  <a:pt x="921" y="696"/>
                </a:cubicBezTo>
                <a:cubicBezTo>
                  <a:pt x="875" y="617"/>
                  <a:pt x="829" y="539"/>
                  <a:pt x="781" y="461"/>
                </a:cubicBezTo>
                <a:cubicBezTo>
                  <a:pt x="774" y="449"/>
                  <a:pt x="664" y="256"/>
                  <a:pt x="644" y="269"/>
                </a:cubicBezTo>
                <a:cubicBezTo>
                  <a:pt x="613" y="290"/>
                  <a:pt x="658" y="465"/>
                  <a:pt x="657" y="499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4" name="Freeform 10"/>
          <p:cNvSpPr/>
          <p:nvPr/>
        </p:nvSpPr>
        <p:spPr>
          <a:xfrm>
            <a:off x="4940280" y="3079800"/>
            <a:ext cx="620640" cy="2868480"/>
          </a:xfrm>
          <a:custGeom>
            <a:avLst/>
            <a:gdLst/>
            <a:ahLst/>
            <a:rect l="l" t="t" r="r" b="b"/>
            <a:pathLst>
              <a:path w="1725" h="7968">
                <a:moveTo>
                  <a:pt x="1315" y="0"/>
                </a:moveTo>
                <a:cubicBezTo>
                  <a:pt x="1262" y="227"/>
                  <a:pt x="1194" y="451"/>
                  <a:pt x="1161" y="682"/>
                </a:cubicBezTo>
                <a:cubicBezTo>
                  <a:pt x="1019" y="1668"/>
                  <a:pt x="1370" y="2587"/>
                  <a:pt x="1660" y="3503"/>
                </a:cubicBezTo>
                <a:cubicBezTo>
                  <a:pt x="1709" y="3657"/>
                  <a:pt x="1717" y="3795"/>
                  <a:pt x="1720" y="3951"/>
                </a:cubicBezTo>
                <a:cubicBezTo>
                  <a:pt x="1715" y="3928"/>
                  <a:pt x="1712" y="3906"/>
                  <a:pt x="1707" y="3883"/>
                </a:cubicBezTo>
                <a:cubicBezTo>
                  <a:pt x="1584" y="3301"/>
                  <a:pt x="1536" y="2690"/>
                  <a:pt x="1374" y="2125"/>
                </a:cubicBezTo>
                <a:cubicBezTo>
                  <a:pt x="1370" y="2175"/>
                  <a:pt x="1353" y="2241"/>
                  <a:pt x="1353" y="2300"/>
                </a:cubicBezTo>
                <a:cubicBezTo>
                  <a:pt x="1352" y="2463"/>
                  <a:pt x="1373" y="2621"/>
                  <a:pt x="1387" y="2782"/>
                </a:cubicBezTo>
                <a:cubicBezTo>
                  <a:pt x="1419" y="3153"/>
                  <a:pt x="1570" y="3589"/>
                  <a:pt x="1464" y="3960"/>
                </a:cubicBezTo>
                <a:cubicBezTo>
                  <a:pt x="1361" y="4323"/>
                  <a:pt x="1075" y="4677"/>
                  <a:pt x="871" y="4988"/>
                </a:cubicBezTo>
                <a:cubicBezTo>
                  <a:pt x="509" y="5539"/>
                  <a:pt x="159" y="6066"/>
                  <a:pt x="0" y="6712"/>
                </a:cubicBezTo>
                <a:cubicBezTo>
                  <a:pt x="4" y="6696"/>
                  <a:pt x="17" y="6660"/>
                  <a:pt x="22" y="6640"/>
                </a:cubicBezTo>
                <a:cubicBezTo>
                  <a:pt x="43" y="6551"/>
                  <a:pt x="58" y="6461"/>
                  <a:pt x="77" y="6371"/>
                </a:cubicBezTo>
                <a:cubicBezTo>
                  <a:pt x="104" y="6242"/>
                  <a:pt x="130" y="6109"/>
                  <a:pt x="167" y="5983"/>
                </a:cubicBezTo>
                <a:cubicBezTo>
                  <a:pt x="201" y="5868"/>
                  <a:pt x="250" y="5778"/>
                  <a:pt x="312" y="5688"/>
                </a:cubicBezTo>
                <a:cubicBezTo>
                  <a:pt x="316" y="5688"/>
                  <a:pt x="321" y="5688"/>
                  <a:pt x="325" y="5688"/>
                </a:cubicBezTo>
                <a:cubicBezTo>
                  <a:pt x="317" y="5736"/>
                  <a:pt x="319" y="5805"/>
                  <a:pt x="303" y="5863"/>
                </a:cubicBezTo>
                <a:cubicBezTo>
                  <a:pt x="278" y="5957"/>
                  <a:pt x="240" y="6046"/>
                  <a:pt x="214" y="6140"/>
                </a:cubicBezTo>
                <a:cubicBezTo>
                  <a:pt x="118" y="6483"/>
                  <a:pt x="-15" y="6937"/>
                  <a:pt x="171" y="7271"/>
                </a:cubicBezTo>
                <a:cubicBezTo>
                  <a:pt x="259" y="7430"/>
                  <a:pt x="399" y="7512"/>
                  <a:pt x="555" y="7591"/>
                </a:cubicBezTo>
                <a:cubicBezTo>
                  <a:pt x="685" y="7657"/>
                  <a:pt x="818" y="7693"/>
                  <a:pt x="956" y="7728"/>
                </a:cubicBezTo>
                <a:cubicBezTo>
                  <a:pt x="957" y="7728"/>
                  <a:pt x="959" y="7728"/>
                  <a:pt x="960" y="7728"/>
                </a:cubicBezTo>
                <a:cubicBezTo>
                  <a:pt x="943" y="7714"/>
                  <a:pt x="919" y="7701"/>
                  <a:pt x="901" y="7685"/>
                </a:cubicBezTo>
                <a:cubicBezTo>
                  <a:pt x="751" y="7552"/>
                  <a:pt x="607" y="7412"/>
                  <a:pt x="457" y="7280"/>
                </a:cubicBezTo>
                <a:cubicBezTo>
                  <a:pt x="488" y="7321"/>
                  <a:pt x="519" y="7379"/>
                  <a:pt x="555" y="7421"/>
                </a:cubicBezTo>
                <a:cubicBezTo>
                  <a:pt x="727" y="7622"/>
                  <a:pt x="929" y="7793"/>
                  <a:pt x="1127" y="7967"/>
                </a:cubicBezTo>
                <a:cubicBezTo>
                  <a:pt x="1042" y="7922"/>
                  <a:pt x="952" y="7877"/>
                  <a:pt x="866" y="7830"/>
                </a:cubicBezTo>
                <a:cubicBezTo>
                  <a:pt x="523" y="7644"/>
                  <a:pt x="174" y="7382"/>
                  <a:pt x="60" y="6990"/>
                </a:cubicBezTo>
                <a:cubicBezTo>
                  <a:pt x="-51" y="6608"/>
                  <a:pt x="185" y="6285"/>
                  <a:pt x="393" y="5991"/>
                </a:cubicBezTo>
                <a:cubicBezTo>
                  <a:pt x="812" y="5398"/>
                  <a:pt x="1253" y="4743"/>
                  <a:pt x="1536" y="4071"/>
                </a:cubicBezTo>
                <a:cubicBezTo>
                  <a:pt x="1668" y="3758"/>
                  <a:pt x="1675" y="3444"/>
                  <a:pt x="1647" y="3111"/>
                </a:cubicBezTo>
                <a:cubicBezTo>
                  <a:pt x="1611" y="2676"/>
                  <a:pt x="1548" y="2249"/>
                  <a:pt x="1353" y="1856"/>
                </a:cubicBezTo>
                <a:cubicBezTo>
                  <a:pt x="1313" y="1775"/>
                  <a:pt x="1266" y="1697"/>
                  <a:pt x="1233" y="1613"/>
                </a:cubicBezTo>
                <a:cubicBezTo>
                  <a:pt x="1102" y="1278"/>
                  <a:pt x="1237" y="928"/>
                  <a:pt x="1361" y="610"/>
                </a:cubicBezTo>
                <a:cubicBezTo>
                  <a:pt x="1385" y="547"/>
                  <a:pt x="1413" y="485"/>
                  <a:pt x="1438" y="422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 quick perspectiv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831960" y="2611440"/>
            <a:ext cx="7370640" cy="203040"/>
          </a:xfrm>
          <a:custGeom>
            <a:avLst/>
            <a:gdLst/>
            <a:ahLst/>
            <a:rect l="l" t="t" r="r" b="b"/>
            <a:pathLst>
              <a:path w="20476" h="564">
                <a:moveTo>
                  <a:pt x="0" y="508"/>
                </a:moveTo>
                <a:cubicBezTo>
                  <a:pt x="15" y="508"/>
                  <a:pt x="23" y="508"/>
                  <a:pt x="38" y="508"/>
                </a:cubicBezTo>
                <a:cubicBezTo>
                  <a:pt x="994" y="518"/>
                  <a:pt x="1944" y="554"/>
                  <a:pt x="2902" y="538"/>
                </a:cubicBezTo>
                <a:cubicBezTo>
                  <a:pt x="6273" y="483"/>
                  <a:pt x="9630" y="330"/>
                  <a:pt x="12998" y="188"/>
                </a:cubicBezTo>
                <a:cubicBezTo>
                  <a:pt x="14575" y="121"/>
                  <a:pt x="16161" y="74"/>
                  <a:pt x="17739" y="64"/>
                </a:cubicBezTo>
                <a:cubicBezTo>
                  <a:pt x="18552" y="59"/>
                  <a:pt x="19395" y="118"/>
                  <a:pt x="20206" y="43"/>
                </a:cubicBezTo>
                <a:cubicBezTo>
                  <a:pt x="20289" y="35"/>
                  <a:pt x="20405" y="18"/>
                  <a:pt x="20471" y="9"/>
                </a:cubicBezTo>
                <a:cubicBezTo>
                  <a:pt x="20488" y="7"/>
                  <a:pt x="20419" y="2"/>
                  <a:pt x="20436" y="0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1893960" y="1222200"/>
            <a:ext cx="541440" cy="419400"/>
          </a:xfrm>
          <a:custGeom>
            <a:avLst/>
            <a:gdLst/>
            <a:ahLst/>
            <a:rect l="l" t="t" r="r" b="b"/>
            <a:pathLst>
              <a:path w="1503" h="1162">
                <a:moveTo>
                  <a:pt x="597" y="43"/>
                </a:moveTo>
                <a:cubicBezTo>
                  <a:pt x="592" y="58"/>
                  <a:pt x="583" y="78"/>
                  <a:pt x="580" y="94"/>
                </a:cubicBezTo>
                <a:cubicBezTo>
                  <a:pt x="565" y="166"/>
                  <a:pt x="554" y="240"/>
                  <a:pt x="542" y="312"/>
                </a:cubicBezTo>
                <a:cubicBezTo>
                  <a:pt x="521" y="444"/>
                  <a:pt x="509" y="577"/>
                  <a:pt x="491" y="709"/>
                </a:cubicBezTo>
                <a:cubicBezTo>
                  <a:pt x="475" y="825"/>
                  <a:pt x="460" y="942"/>
                  <a:pt x="461" y="1059"/>
                </a:cubicBezTo>
                <a:cubicBezTo>
                  <a:pt x="461" y="1073"/>
                  <a:pt x="454" y="1161"/>
                  <a:pt x="482" y="1161"/>
                </a:cubicBezTo>
                <a:cubicBezTo>
                  <a:pt x="501" y="1136"/>
                  <a:pt x="507" y="1120"/>
                  <a:pt x="503" y="1093"/>
                </a:cubicBezTo>
              </a:path>
              <a:path w="1503" h="1162">
                <a:moveTo>
                  <a:pt x="8" y="210"/>
                </a:moveTo>
                <a:cubicBezTo>
                  <a:pt x="8" y="210"/>
                  <a:pt x="7" y="198"/>
                  <a:pt x="30" y="192"/>
                </a:cubicBezTo>
                <a:cubicBezTo>
                  <a:pt x="71" y="181"/>
                  <a:pt x="107" y="167"/>
                  <a:pt x="149" y="158"/>
                </a:cubicBezTo>
                <a:cubicBezTo>
                  <a:pt x="221" y="142"/>
                  <a:pt x="293" y="115"/>
                  <a:pt x="363" y="90"/>
                </a:cubicBezTo>
                <a:cubicBezTo>
                  <a:pt x="450" y="59"/>
                  <a:pt x="538" y="31"/>
                  <a:pt x="627" y="9"/>
                </a:cubicBezTo>
                <a:cubicBezTo>
                  <a:pt x="658" y="1"/>
                  <a:pt x="699" y="-12"/>
                  <a:pt x="721" y="22"/>
                </a:cubicBezTo>
                <a:cubicBezTo>
                  <a:pt x="746" y="59"/>
                  <a:pt x="728" y="126"/>
                  <a:pt x="725" y="167"/>
                </a:cubicBezTo>
                <a:cubicBezTo>
                  <a:pt x="719" y="254"/>
                  <a:pt x="701" y="341"/>
                  <a:pt x="687" y="427"/>
                </a:cubicBezTo>
                <a:cubicBezTo>
                  <a:pt x="675" y="500"/>
                  <a:pt x="659" y="575"/>
                  <a:pt x="653" y="649"/>
                </a:cubicBezTo>
                <a:cubicBezTo>
                  <a:pt x="651" y="675"/>
                  <a:pt x="648" y="717"/>
                  <a:pt x="657" y="743"/>
                </a:cubicBezTo>
                <a:cubicBezTo>
                  <a:pt x="660" y="744"/>
                  <a:pt x="663" y="746"/>
                  <a:pt x="666" y="747"/>
                </a:cubicBezTo>
                <a:cubicBezTo>
                  <a:pt x="687" y="724"/>
                  <a:pt x="703" y="704"/>
                  <a:pt x="721" y="675"/>
                </a:cubicBezTo>
                <a:cubicBezTo>
                  <a:pt x="747" y="633"/>
                  <a:pt x="772" y="589"/>
                  <a:pt x="798" y="547"/>
                </a:cubicBezTo>
                <a:cubicBezTo>
                  <a:pt x="818" y="515"/>
                  <a:pt x="834" y="512"/>
                  <a:pt x="858" y="495"/>
                </a:cubicBezTo>
                <a:cubicBezTo>
                  <a:pt x="880" y="533"/>
                  <a:pt x="899" y="566"/>
                  <a:pt x="909" y="611"/>
                </a:cubicBezTo>
                <a:cubicBezTo>
                  <a:pt x="930" y="703"/>
                  <a:pt x="939" y="799"/>
                  <a:pt x="952" y="892"/>
                </a:cubicBezTo>
                <a:cubicBezTo>
                  <a:pt x="952" y="914"/>
                  <a:pt x="951" y="919"/>
                  <a:pt x="956" y="931"/>
                </a:cubicBezTo>
                <a:cubicBezTo>
                  <a:pt x="976" y="916"/>
                  <a:pt x="1006" y="889"/>
                  <a:pt x="1020" y="854"/>
                </a:cubicBezTo>
                <a:cubicBezTo>
                  <a:pt x="1041" y="789"/>
                  <a:pt x="1048" y="768"/>
                  <a:pt x="1075" y="730"/>
                </a:cubicBezTo>
              </a:path>
              <a:path w="1503" h="1162">
                <a:moveTo>
                  <a:pt x="1212" y="487"/>
                </a:moveTo>
                <a:cubicBezTo>
                  <a:pt x="1218" y="591"/>
                  <a:pt x="1218" y="694"/>
                  <a:pt x="1220" y="798"/>
                </a:cubicBezTo>
                <a:cubicBezTo>
                  <a:pt x="1221" y="861"/>
                  <a:pt x="1221" y="924"/>
                  <a:pt x="1233" y="986"/>
                </a:cubicBezTo>
                <a:cubicBezTo>
                  <a:pt x="1234" y="990"/>
                  <a:pt x="1236" y="995"/>
                  <a:pt x="1237" y="999"/>
                </a:cubicBezTo>
                <a:cubicBezTo>
                  <a:pt x="1248" y="966"/>
                  <a:pt x="1248" y="926"/>
                  <a:pt x="1250" y="884"/>
                </a:cubicBezTo>
                <a:cubicBezTo>
                  <a:pt x="1252" y="861"/>
                  <a:pt x="1253" y="839"/>
                  <a:pt x="1255" y="816"/>
                </a:cubicBezTo>
              </a:path>
              <a:path w="1503" h="1162">
                <a:moveTo>
                  <a:pt x="1118" y="214"/>
                </a:moveTo>
                <a:cubicBezTo>
                  <a:pt x="1114" y="255"/>
                  <a:pt x="1116" y="286"/>
                  <a:pt x="1114" y="325"/>
                </a:cubicBezTo>
                <a:cubicBezTo>
                  <a:pt x="1114" y="341"/>
                  <a:pt x="1113" y="346"/>
                  <a:pt x="1127" y="342"/>
                </a:cubicBezTo>
                <a:cubicBezTo>
                  <a:pt x="1138" y="312"/>
                  <a:pt x="1142" y="300"/>
                  <a:pt x="1161" y="274"/>
                </a:cubicBezTo>
              </a:path>
              <a:path w="1503" h="1162">
                <a:moveTo>
                  <a:pt x="1502" y="350"/>
                </a:moveTo>
                <a:cubicBezTo>
                  <a:pt x="1475" y="355"/>
                  <a:pt x="1465" y="375"/>
                  <a:pt x="1447" y="397"/>
                </a:cubicBezTo>
                <a:cubicBezTo>
                  <a:pt x="1412" y="439"/>
                  <a:pt x="1395" y="487"/>
                  <a:pt x="1378" y="538"/>
                </a:cubicBezTo>
                <a:cubicBezTo>
                  <a:pt x="1364" y="581"/>
                  <a:pt x="1352" y="620"/>
                  <a:pt x="1357" y="666"/>
                </a:cubicBezTo>
                <a:cubicBezTo>
                  <a:pt x="1359" y="689"/>
                  <a:pt x="1378" y="706"/>
                  <a:pt x="1400" y="709"/>
                </a:cubicBezTo>
                <a:cubicBezTo>
                  <a:pt x="1424" y="713"/>
                  <a:pt x="1451" y="701"/>
                  <a:pt x="1472" y="717"/>
                </a:cubicBezTo>
                <a:cubicBezTo>
                  <a:pt x="1498" y="737"/>
                  <a:pt x="1501" y="768"/>
                  <a:pt x="1502" y="798"/>
                </a:cubicBezTo>
                <a:cubicBezTo>
                  <a:pt x="1503" y="834"/>
                  <a:pt x="1505" y="873"/>
                  <a:pt x="1498" y="909"/>
                </a:cubicBezTo>
                <a:cubicBezTo>
                  <a:pt x="1495" y="925"/>
                  <a:pt x="1492" y="929"/>
                  <a:pt x="1485" y="944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2643120" y="1279440"/>
            <a:ext cx="139680" cy="279360"/>
          </a:xfrm>
          <a:custGeom>
            <a:avLst/>
            <a:gdLst/>
            <a:ahLst/>
            <a:rect l="l" t="t" r="r" b="b"/>
            <a:pathLst>
              <a:path w="385" h="778">
                <a:moveTo>
                  <a:pt x="9" y="329"/>
                </a:moveTo>
                <a:cubicBezTo>
                  <a:pt x="3" y="406"/>
                  <a:pt x="0" y="482"/>
                  <a:pt x="0" y="559"/>
                </a:cubicBezTo>
                <a:cubicBezTo>
                  <a:pt x="0" y="620"/>
                  <a:pt x="-3" y="682"/>
                  <a:pt x="5" y="743"/>
                </a:cubicBezTo>
                <a:cubicBezTo>
                  <a:pt x="8" y="763"/>
                  <a:pt x="7" y="767"/>
                  <a:pt x="13" y="777"/>
                </a:cubicBezTo>
                <a:cubicBezTo>
                  <a:pt x="28" y="722"/>
                  <a:pt x="32" y="681"/>
                  <a:pt x="35" y="623"/>
                </a:cubicBezTo>
              </a:path>
              <a:path w="385" h="778">
                <a:moveTo>
                  <a:pt x="5" y="0"/>
                </a:moveTo>
                <a:cubicBezTo>
                  <a:pt x="8" y="21"/>
                  <a:pt x="12" y="50"/>
                  <a:pt x="35" y="60"/>
                </a:cubicBezTo>
                <a:cubicBezTo>
                  <a:pt x="61" y="71"/>
                  <a:pt x="70" y="27"/>
                  <a:pt x="73" y="17"/>
                </a:cubicBezTo>
              </a:path>
              <a:path w="385" h="778">
                <a:moveTo>
                  <a:pt x="350" y="227"/>
                </a:moveTo>
                <a:cubicBezTo>
                  <a:pt x="317" y="264"/>
                  <a:pt x="286" y="303"/>
                  <a:pt x="256" y="342"/>
                </a:cubicBezTo>
                <a:cubicBezTo>
                  <a:pt x="224" y="384"/>
                  <a:pt x="195" y="429"/>
                  <a:pt x="167" y="474"/>
                </a:cubicBezTo>
                <a:cubicBezTo>
                  <a:pt x="158" y="490"/>
                  <a:pt x="149" y="505"/>
                  <a:pt x="141" y="521"/>
                </a:cubicBezTo>
                <a:cubicBezTo>
                  <a:pt x="163" y="518"/>
                  <a:pt x="179" y="512"/>
                  <a:pt x="201" y="504"/>
                </a:cubicBezTo>
                <a:cubicBezTo>
                  <a:pt x="235" y="492"/>
                  <a:pt x="279" y="482"/>
                  <a:pt x="316" y="483"/>
                </a:cubicBezTo>
                <a:cubicBezTo>
                  <a:pt x="352" y="484"/>
                  <a:pt x="371" y="488"/>
                  <a:pt x="380" y="521"/>
                </a:cubicBezTo>
                <a:cubicBezTo>
                  <a:pt x="389" y="553"/>
                  <a:pt x="373" y="583"/>
                  <a:pt x="359" y="611"/>
                </a:cubicBezTo>
                <a:cubicBezTo>
                  <a:pt x="349" y="632"/>
                  <a:pt x="330" y="690"/>
                  <a:pt x="316" y="704"/>
                </a:cubicBezTo>
                <a:cubicBezTo>
                  <a:pt x="312" y="704"/>
                  <a:pt x="307" y="704"/>
                  <a:pt x="303" y="704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Freeform 12"/>
          <p:cNvSpPr/>
          <p:nvPr/>
        </p:nvSpPr>
        <p:spPr>
          <a:xfrm>
            <a:off x="2941560" y="1225440"/>
            <a:ext cx="581040" cy="330480"/>
          </a:xfrm>
          <a:custGeom>
            <a:avLst/>
            <a:gdLst/>
            <a:ahLst/>
            <a:rect l="l" t="t" r="r" b="b"/>
            <a:pathLst>
              <a:path w="1614" h="918">
                <a:moveTo>
                  <a:pt x="201" y="546"/>
                </a:moveTo>
                <a:cubicBezTo>
                  <a:pt x="196" y="537"/>
                  <a:pt x="190" y="536"/>
                  <a:pt x="188" y="525"/>
                </a:cubicBezTo>
                <a:cubicBezTo>
                  <a:pt x="181" y="490"/>
                  <a:pt x="187" y="448"/>
                  <a:pt x="175" y="414"/>
                </a:cubicBezTo>
                <a:cubicBezTo>
                  <a:pt x="167" y="391"/>
                  <a:pt x="151" y="328"/>
                  <a:pt x="133" y="312"/>
                </a:cubicBezTo>
                <a:cubicBezTo>
                  <a:pt x="105" y="287"/>
                  <a:pt x="77" y="308"/>
                  <a:pt x="64" y="337"/>
                </a:cubicBezTo>
                <a:cubicBezTo>
                  <a:pt x="32" y="410"/>
                  <a:pt x="10" y="509"/>
                  <a:pt x="5" y="589"/>
                </a:cubicBezTo>
                <a:cubicBezTo>
                  <a:pt x="0" y="655"/>
                  <a:pt x="-4" y="728"/>
                  <a:pt x="5" y="794"/>
                </a:cubicBezTo>
                <a:cubicBezTo>
                  <a:pt x="10" y="834"/>
                  <a:pt x="21" y="856"/>
                  <a:pt x="60" y="841"/>
                </a:cubicBezTo>
                <a:cubicBezTo>
                  <a:pt x="99" y="826"/>
                  <a:pt x="118" y="780"/>
                  <a:pt x="145" y="747"/>
                </a:cubicBezTo>
              </a:path>
              <a:path w="1614" h="918">
                <a:moveTo>
                  <a:pt x="465" y="597"/>
                </a:moveTo>
                <a:cubicBezTo>
                  <a:pt x="464" y="593"/>
                  <a:pt x="458" y="577"/>
                  <a:pt x="457" y="568"/>
                </a:cubicBezTo>
                <a:cubicBezTo>
                  <a:pt x="455" y="530"/>
                  <a:pt x="454" y="495"/>
                  <a:pt x="448" y="457"/>
                </a:cubicBezTo>
                <a:cubicBezTo>
                  <a:pt x="443" y="424"/>
                  <a:pt x="446" y="376"/>
                  <a:pt x="418" y="354"/>
                </a:cubicBezTo>
                <a:cubicBezTo>
                  <a:pt x="415" y="353"/>
                  <a:pt x="413" y="351"/>
                  <a:pt x="410" y="350"/>
                </a:cubicBezTo>
                <a:cubicBezTo>
                  <a:pt x="398" y="370"/>
                  <a:pt x="391" y="391"/>
                  <a:pt x="384" y="418"/>
                </a:cubicBezTo>
                <a:cubicBezTo>
                  <a:pt x="370" y="473"/>
                  <a:pt x="343" y="532"/>
                  <a:pt x="333" y="585"/>
                </a:cubicBezTo>
                <a:cubicBezTo>
                  <a:pt x="324" y="633"/>
                  <a:pt x="308" y="679"/>
                  <a:pt x="299" y="725"/>
                </a:cubicBezTo>
                <a:cubicBezTo>
                  <a:pt x="297" y="735"/>
                  <a:pt x="299" y="749"/>
                  <a:pt x="299" y="760"/>
                </a:cubicBezTo>
                <a:cubicBezTo>
                  <a:pt x="328" y="740"/>
                  <a:pt x="327" y="714"/>
                  <a:pt x="342" y="683"/>
                </a:cubicBezTo>
                <a:cubicBezTo>
                  <a:pt x="367" y="632"/>
                  <a:pt x="394" y="582"/>
                  <a:pt x="414" y="529"/>
                </a:cubicBezTo>
                <a:cubicBezTo>
                  <a:pt x="422" y="507"/>
                  <a:pt x="428" y="483"/>
                  <a:pt x="436" y="461"/>
                </a:cubicBezTo>
                <a:cubicBezTo>
                  <a:pt x="440" y="468"/>
                  <a:pt x="444" y="498"/>
                  <a:pt x="444" y="525"/>
                </a:cubicBezTo>
                <a:cubicBezTo>
                  <a:pt x="444" y="588"/>
                  <a:pt x="444" y="651"/>
                  <a:pt x="448" y="713"/>
                </a:cubicBezTo>
                <a:cubicBezTo>
                  <a:pt x="451" y="766"/>
                  <a:pt x="457" y="815"/>
                  <a:pt x="465" y="866"/>
                </a:cubicBezTo>
                <a:cubicBezTo>
                  <a:pt x="465" y="879"/>
                  <a:pt x="465" y="883"/>
                  <a:pt x="474" y="888"/>
                </a:cubicBezTo>
                <a:cubicBezTo>
                  <a:pt x="513" y="849"/>
                  <a:pt x="517" y="824"/>
                  <a:pt x="529" y="768"/>
                </a:cubicBezTo>
              </a:path>
              <a:path w="1614" h="918">
                <a:moveTo>
                  <a:pt x="696" y="124"/>
                </a:moveTo>
                <a:cubicBezTo>
                  <a:pt x="717" y="193"/>
                  <a:pt x="694" y="116"/>
                  <a:pt x="700" y="149"/>
                </a:cubicBezTo>
                <a:cubicBezTo>
                  <a:pt x="702" y="161"/>
                  <a:pt x="699" y="182"/>
                  <a:pt x="696" y="201"/>
                </a:cubicBezTo>
                <a:cubicBezTo>
                  <a:pt x="687" y="266"/>
                  <a:pt x="681" y="332"/>
                  <a:pt x="670" y="397"/>
                </a:cubicBezTo>
                <a:cubicBezTo>
                  <a:pt x="654" y="489"/>
                  <a:pt x="643" y="581"/>
                  <a:pt x="636" y="674"/>
                </a:cubicBezTo>
                <a:cubicBezTo>
                  <a:pt x="632" y="728"/>
                  <a:pt x="624" y="787"/>
                  <a:pt x="628" y="841"/>
                </a:cubicBezTo>
                <a:cubicBezTo>
                  <a:pt x="629" y="847"/>
                  <a:pt x="631" y="852"/>
                  <a:pt x="632" y="858"/>
                </a:cubicBezTo>
                <a:cubicBezTo>
                  <a:pt x="669" y="825"/>
                  <a:pt x="665" y="818"/>
                  <a:pt x="679" y="764"/>
                </a:cubicBezTo>
              </a:path>
              <a:path w="1614" h="918">
                <a:moveTo>
                  <a:pt x="909" y="68"/>
                </a:moveTo>
                <a:cubicBezTo>
                  <a:pt x="911" y="146"/>
                  <a:pt x="902" y="222"/>
                  <a:pt x="896" y="299"/>
                </a:cubicBezTo>
                <a:cubicBezTo>
                  <a:pt x="890" y="371"/>
                  <a:pt x="892" y="443"/>
                  <a:pt x="888" y="516"/>
                </a:cubicBezTo>
                <a:cubicBezTo>
                  <a:pt x="885" y="573"/>
                  <a:pt x="880" y="630"/>
                  <a:pt x="875" y="687"/>
                </a:cubicBezTo>
                <a:cubicBezTo>
                  <a:pt x="875" y="688"/>
                  <a:pt x="871" y="760"/>
                  <a:pt x="875" y="755"/>
                </a:cubicBezTo>
                <a:cubicBezTo>
                  <a:pt x="886" y="741"/>
                  <a:pt x="893" y="716"/>
                  <a:pt x="901" y="696"/>
                </a:cubicBezTo>
              </a:path>
              <a:path w="1614" h="918">
                <a:moveTo>
                  <a:pt x="999" y="504"/>
                </a:moveTo>
                <a:cubicBezTo>
                  <a:pt x="999" y="551"/>
                  <a:pt x="997" y="553"/>
                  <a:pt x="999" y="597"/>
                </a:cubicBezTo>
                <a:cubicBezTo>
                  <a:pt x="999" y="612"/>
                  <a:pt x="998" y="617"/>
                  <a:pt x="1007" y="623"/>
                </a:cubicBezTo>
                <a:cubicBezTo>
                  <a:pt x="1027" y="621"/>
                  <a:pt x="1042" y="620"/>
                  <a:pt x="1059" y="606"/>
                </a:cubicBezTo>
                <a:cubicBezTo>
                  <a:pt x="1092" y="580"/>
                  <a:pt x="1120" y="550"/>
                  <a:pt x="1144" y="516"/>
                </a:cubicBezTo>
                <a:cubicBezTo>
                  <a:pt x="1165" y="486"/>
                  <a:pt x="1184" y="457"/>
                  <a:pt x="1195" y="422"/>
                </a:cubicBezTo>
                <a:cubicBezTo>
                  <a:pt x="1201" y="402"/>
                  <a:pt x="1199" y="397"/>
                  <a:pt x="1191" y="384"/>
                </a:cubicBezTo>
                <a:cubicBezTo>
                  <a:pt x="1166" y="398"/>
                  <a:pt x="1146" y="422"/>
                  <a:pt x="1131" y="448"/>
                </a:cubicBezTo>
                <a:cubicBezTo>
                  <a:pt x="1100" y="501"/>
                  <a:pt x="1081" y="556"/>
                  <a:pt x="1063" y="614"/>
                </a:cubicBezTo>
                <a:cubicBezTo>
                  <a:pt x="1049" y="658"/>
                  <a:pt x="1030" y="708"/>
                  <a:pt x="1042" y="755"/>
                </a:cubicBezTo>
                <a:cubicBezTo>
                  <a:pt x="1050" y="771"/>
                  <a:pt x="1052" y="776"/>
                  <a:pt x="1059" y="785"/>
                </a:cubicBezTo>
                <a:cubicBezTo>
                  <a:pt x="1096" y="781"/>
                  <a:pt x="1147" y="738"/>
                  <a:pt x="1170" y="704"/>
                </a:cubicBezTo>
                <a:cubicBezTo>
                  <a:pt x="1178" y="686"/>
                  <a:pt x="1187" y="667"/>
                  <a:pt x="1195" y="649"/>
                </a:cubicBezTo>
              </a:path>
              <a:path w="1614" h="918">
                <a:moveTo>
                  <a:pt x="1541" y="329"/>
                </a:moveTo>
                <a:cubicBezTo>
                  <a:pt x="1519" y="323"/>
                  <a:pt x="1516" y="308"/>
                  <a:pt x="1490" y="329"/>
                </a:cubicBezTo>
                <a:cubicBezTo>
                  <a:pt x="1451" y="360"/>
                  <a:pt x="1427" y="439"/>
                  <a:pt x="1409" y="482"/>
                </a:cubicBezTo>
                <a:cubicBezTo>
                  <a:pt x="1374" y="566"/>
                  <a:pt x="1363" y="650"/>
                  <a:pt x="1345" y="738"/>
                </a:cubicBezTo>
                <a:cubicBezTo>
                  <a:pt x="1334" y="794"/>
                  <a:pt x="1322" y="850"/>
                  <a:pt x="1336" y="905"/>
                </a:cubicBezTo>
                <a:cubicBezTo>
                  <a:pt x="1337" y="909"/>
                  <a:pt x="1339" y="913"/>
                  <a:pt x="1340" y="917"/>
                </a:cubicBezTo>
                <a:cubicBezTo>
                  <a:pt x="1371" y="890"/>
                  <a:pt x="1396" y="860"/>
                  <a:pt x="1417" y="815"/>
                </a:cubicBezTo>
                <a:cubicBezTo>
                  <a:pt x="1466" y="708"/>
                  <a:pt x="1496" y="596"/>
                  <a:pt x="1524" y="482"/>
                </a:cubicBezTo>
                <a:cubicBezTo>
                  <a:pt x="1555" y="359"/>
                  <a:pt x="1578" y="237"/>
                  <a:pt x="1592" y="111"/>
                </a:cubicBezTo>
                <a:cubicBezTo>
                  <a:pt x="1596" y="73"/>
                  <a:pt x="1600" y="37"/>
                  <a:pt x="1605" y="0"/>
                </a:cubicBezTo>
                <a:cubicBezTo>
                  <a:pt x="1604" y="59"/>
                  <a:pt x="1599" y="116"/>
                  <a:pt x="1596" y="175"/>
                </a:cubicBezTo>
                <a:cubicBezTo>
                  <a:pt x="1589" y="294"/>
                  <a:pt x="1599" y="414"/>
                  <a:pt x="1592" y="533"/>
                </a:cubicBezTo>
                <a:cubicBezTo>
                  <a:pt x="1587" y="617"/>
                  <a:pt x="1592" y="697"/>
                  <a:pt x="1592" y="781"/>
                </a:cubicBezTo>
                <a:cubicBezTo>
                  <a:pt x="1592" y="840"/>
                  <a:pt x="1596" y="805"/>
                  <a:pt x="1613" y="772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Freeform 13"/>
          <p:cNvSpPr/>
          <p:nvPr/>
        </p:nvSpPr>
        <p:spPr>
          <a:xfrm>
            <a:off x="3654360" y="1201680"/>
            <a:ext cx="389160" cy="324000"/>
          </a:xfrm>
          <a:custGeom>
            <a:avLst/>
            <a:gdLst/>
            <a:ahLst/>
            <a:rect l="l" t="t" r="r" b="b"/>
            <a:pathLst>
              <a:path w="1081" h="901">
                <a:moveTo>
                  <a:pt x="282" y="375"/>
                </a:moveTo>
                <a:cubicBezTo>
                  <a:pt x="264" y="460"/>
                  <a:pt x="241" y="556"/>
                  <a:pt x="239" y="644"/>
                </a:cubicBezTo>
                <a:cubicBezTo>
                  <a:pt x="237" y="707"/>
                  <a:pt x="240" y="773"/>
                  <a:pt x="248" y="836"/>
                </a:cubicBezTo>
                <a:cubicBezTo>
                  <a:pt x="251" y="855"/>
                  <a:pt x="262" y="881"/>
                  <a:pt x="261" y="900"/>
                </a:cubicBezTo>
                <a:cubicBezTo>
                  <a:pt x="259" y="929"/>
                  <a:pt x="244" y="851"/>
                  <a:pt x="235" y="823"/>
                </a:cubicBezTo>
              </a:path>
              <a:path w="1081" h="901">
                <a:moveTo>
                  <a:pt x="0" y="367"/>
                </a:moveTo>
                <a:cubicBezTo>
                  <a:pt x="5" y="397"/>
                  <a:pt x="4" y="479"/>
                  <a:pt x="26" y="503"/>
                </a:cubicBezTo>
                <a:cubicBezTo>
                  <a:pt x="53" y="534"/>
                  <a:pt x="86" y="542"/>
                  <a:pt x="124" y="529"/>
                </a:cubicBezTo>
                <a:cubicBezTo>
                  <a:pt x="191" y="506"/>
                  <a:pt x="251" y="436"/>
                  <a:pt x="295" y="384"/>
                </a:cubicBezTo>
                <a:cubicBezTo>
                  <a:pt x="356" y="312"/>
                  <a:pt x="405" y="228"/>
                  <a:pt x="457" y="149"/>
                </a:cubicBezTo>
                <a:cubicBezTo>
                  <a:pt x="488" y="102"/>
                  <a:pt x="515" y="54"/>
                  <a:pt x="547" y="8"/>
                </a:cubicBezTo>
                <a:cubicBezTo>
                  <a:pt x="547" y="9"/>
                  <a:pt x="564" y="57"/>
                  <a:pt x="559" y="98"/>
                </a:cubicBezTo>
                <a:cubicBezTo>
                  <a:pt x="547" y="203"/>
                  <a:pt x="532" y="308"/>
                  <a:pt x="521" y="414"/>
                </a:cubicBezTo>
                <a:cubicBezTo>
                  <a:pt x="510" y="521"/>
                  <a:pt x="500" y="630"/>
                  <a:pt x="495" y="738"/>
                </a:cubicBezTo>
                <a:cubicBezTo>
                  <a:pt x="493" y="787"/>
                  <a:pt x="500" y="835"/>
                  <a:pt x="504" y="883"/>
                </a:cubicBezTo>
                <a:cubicBezTo>
                  <a:pt x="515" y="862"/>
                  <a:pt x="532" y="827"/>
                  <a:pt x="542" y="802"/>
                </a:cubicBezTo>
                <a:cubicBezTo>
                  <a:pt x="571" y="729"/>
                  <a:pt x="591" y="654"/>
                  <a:pt x="615" y="580"/>
                </a:cubicBezTo>
                <a:cubicBezTo>
                  <a:pt x="630" y="533"/>
                  <a:pt x="649" y="485"/>
                  <a:pt x="666" y="439"/>
                </a:cubicBezTo>
                <a:cubicBezTo>
                  <a:pt x="667" y="436"/>
                  <a:pt x="669" y="434"/>
                  <a:pt x="670" y="431"/>
                </a:cubicBezTo>
                <a:cubicBezTo>
                  <a:pt x="674" y="463"/>
                  <a:pt x="677" y="495"/>
                  <a:pt x="679" y="529"/>
                </a:cubicBezTo>
                <a:cubicBezTo>
                  <a:pt x="682" y="591"/>
                  <a:pt x="689" y="651"/>
                  <a:pt x="696" y="712"/>
                </a:cubicBezTo>
                <a:cubicBezTo>
                  <a:pt x="704" y="775"/>
                  <a:pt x="712" y="786"/>
                  <a:pt x="751" y="823"/>
                </a:cubicBezTo>
                <a:cubicBezTo>
                  <a:pt x="786" y="801"/>
                  <a:pt x="816" y="780"/>
                  <a:pt x="845" y="746"/>
                </a:cubicBezTo>
                <a:cubicBezTo>
                  <a:pt x="903" y="679"/>
                  <a:pt x="956" y="611"/>
                  <a:pt x="999" y="533"/>
                </a:cubicBezTo>
                <a:cubicBezTo>
                  <a:pt x="1017" y="500"/>
                  <a:pt x="1043" y="454"/>
                  <a:pt x="1042" y="414"/>
                </a:cubicBezTo>
                <a:cubicBezTo>
                  <a:pt x="1038" y="404"/>
                  <a:pt x="1038" y="401"/>
                  <a:pt x="1033" y="397"/>
                </a:cubicBezTo>
                <a:cubicBezTo>
                  <a:pt x="1007" y="417"/>
                  <a:pt x="991" y="428"/>
                  <a:pt x="969" y="456"/>
                </a:cubicBezTo>
                <a:cubicBezTo>
                  <a:pt x="931" y="505"/>
                  <a:pt x="893" y="557"/>
                  <a:pt x="875" y="618"/>
                </a:cubicBezTo>
                <a:cubicBezTo>
                  <a:pt x="863" y="658"/>
                  <a:pt x="841" y="742"/>
                  <a:pt x="867" y="781"/>
                </a:cubicBezTo>
                <a:cubicBezTo>
                  <a:pt x="904" y="836"/>
                  <a:pt x="919" y="820"/>
                  <a:pt x="978" y="802"/>
                </a:cubicBezTo>
                <a:cubicBezTo>
                  <a:pt x="1035" y="780"/>
                  <a:pt x="1054" y="772"/>
                  <a:pt x="1080" y="738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0" name="Freeform 14"/>
          <p:cNvSpPr/>
          <p:nvPr/>
        </p:nvSpPr>
        <p:spPr>
          <a:xfrm>
            <a:off x="4227480" y="1255680"/>
            <a:ext cx="1182600" cy="484200"/>
          </a:xfrm>
          <a:custGeom>
            <a:avLst/>
            <a:gdLst/>
            <a:ahLst/>
            <a:rect l="l" t="t" r="r" b="b"/>
            <a:pathLst>
              <a:path w="3283" h="1341">
                <a:moveTo>
                  <a:pt x="39" y="291"/>
                </a:moveTo>
                <a:cubicBezTo>
                  <a:pt x="30" y="330"/>
                  <a:pt x="20" y="375"/>
                  <a:pt x="17" y="414"/>
                </a:cubicBezTo>
                <a:cubicBezTo>
                  <a:pt x="12" y="491"/>
                  <a:pt x="1" y="572"/>
                  <a:pt x="0" y="649"/>
                </a:cubicBezTo>
                <a:cubicBezTo>
                  <a:pt x="-1" y="712"/>
                  <a:pt x="7" y="775"/>
                  <a:pt x="17" y="837"/>
                </a:cubicBezTo>
                <a:cubicBezTo>
                  <a:pt x="20" y="855"/>
                  <a:pt x="20" y="860"/>
                  <a:pt x="30" y="867"/>
                </a:cubicBezTo>
                <a:cubicBezTo>
                  <a:pt x="70" y="846"/>
                  <a:pt x="91" y="802"/>
                  <a:pt x="111" y="760"/>
                </a:cubicBezTo>
                <a:cubicBezTo>
                  <a:pt x="154" y="670"/>
                  <a:pt x="190" y="576"/>
                  <a:pt x="226" y="483"/>
                </a:cubicBezTo>
                <a:cubicBezTo>
                  <a:pt x="253" y="413"/>
                  <a:pt x="272" y="340"/>
                  <a:pt x="303" y="273"/>
                </a:cubicBezTo>
                <a:cubicBezTo>
                  <a:pt x="320" y="235"/>
                  <a:pt x="318" y="261"/>
                  <a:pt x="324" y="278"/>
                </a:cubicBezTo>
                <a:cubicBezTo>
                  <a:pt x="332" y="297"/>
                  <a:pt x="335" y="302"/>
                  <a:pt x="333" y="316"/>
                </a:cubicBezTo>
              </a:path>
              <a:path w="3283" h="1341">
                <a:moveTo>
                  <a:pt x="606" y="273"/>
                </a:moveTo>
                <a:cubicBezTo>
                  <a:pt x="597" y="285"/>
                  <a:pt x="595" y="298"/>
                  <a:pt x="585" y="308"/>
                </a:cubicBezTo>
                <a:cubicBezTo>
                  <a:pt x="572" y="321"/>
                  <a:pt x="558" y="336"/>
                  <a:pt x="546" y="350"/>
                </a:cubicBezTo>
                <a:cubicBezTo>
                  <a:pt x="503" y="398"/>
                  <a:pt x="472" y="465"/>
                  <a:pt x="448" y="525"/>
                </a:cubicBezTo>
                <a:cubicBezTo>
                  <a:pt x="425" y="581"/>
                  <a:pt x="404" y="644"/>
                  <a:pt x="397" y="704"/>
                </a:cubicBezTo>
                <a:cubicBezTo>
                  <a:pt x="394" y="731"/>
                  <a:pt x="393" y="760"/>
                  <a:pt x="410" y="781"/>
                </a:cubicBezTo>
                <a:cubicBezTo>
                  <a:pt x="413" y="781"/>
                  <a:pt x="415" y="781"/>
                  <a:pt x="418" y="781"/>
                </a:cubicBezTo>
                <a:cubicBezTo>
                  <a:pt x="447" y="756"/>
                  <a:pt x="467" y="726"/>
                  <a:pt x="487" y="692"/>
                </a:cubicBezTo>
                <a:cubicBezTo>
                  <a:pt x="524" y="628"/>
                  <a:pt x="557" y="550"/>
                  <a:pt x="576" y="478"/>
                </a:cubicBezTo>
                <a:cubicBezTo>
                  <a:pt x="583" y="454"/>
                  <a:pt x="587" y="429"/>
                  <a:pt x="593" y="406"/>
                </a:cubicBezTo>
                <a:cubicBezTo>
                  <a:pt x="594" y="407"/>
                  <a:pt x="612" y="439"/>
                  <a:pt x="615" y="461"/>
                </a:cubicBezTo>
                <a:cubicBezTo>
                  <a:pt x="620" y="501"/>
                  <a:pt x="624" y="548"/>
                  <a:pt x="640" y="585"/>
                </a:cubicBezTo>
                <a:cubicBezTo>
                  <a:pt x="655" y="618"/>
                  <a:pt x="667" y="624"/>
                  <a:pt x="691" y="645"/>
                </a:cubicBezTo>
                <a:cubicBezTo>
                  <a:pt x="725" y="617"/>
                  <a:pt x="743" y="587"/>
                  <a:pt x="768" y="551"/>
                </a:cubicBezTo>
                <a:cubicBezTo>
                  <a:pt x="800" y="506"/>
                  <a:pt x="835" y="456"/>
                  <a:pt x="858" y="406"/>
                </a:cubicBezTo>
                <a:cubicBezTo>
                  <a:pt x="867" y="387"/>
                  <a:pt x="872" y="373"/>
                  <a:pt x="883" y="355"/>
                </a:cubicBezTo>
                <a:cubicBezTo>
                  <a:pt x="885" y="377"/>
                  <a:pt x="890" y="399"/>
                  <a:pt x="888" y="423"/>
                </a:cubicBezTo>
                <a:cubicBezTo>
                  <a:pt x="883" y="480"/>
                  <a:pt x="880" y="536"/>
                  <a:pt x="879" y="593"/>
                </a:cubicBezTo>
                <a:cubicBezTo>
                  <a:pt x="879" y="637"/>
                  <a:pt x="879" y="685"/>
                  <a:pt x="883" y="726"/>
                </a:cubicBezTo>
                <a:cubicBezTo>
                  <a:pt x="904" y="697"/>
                  <a:pt x="923" y="666"/>
                  <a:pt x="943" y="636"/>
                </a:cubicBezTo>
                <a:cubicBezTo>
                  <a:pt x="982" y="578"/>
                  <a:pt x="1012" y="514"/>
                  <a:pt x="1046" y="453"/>
                </a:cubicBezTo>
                <a:cubicBezTo>
                  <a:pt x="1069" y="412"/>
                  <a:pt x="1083" y="370"/>
                  <a:pt x="1114" y="337"/>
                </a:cubicBezTo>
                <a:cubicBezTo>
                  <a:pt x="1118" y="334"/>
                  <a:pt x="1123" y="332"/>
                  <a:pt x="1127" y="329"/>
                </a:cubicBezTo>
                <a:cubicBezTo>
                  <a:pt x="1133" y="353"/>
                  <a:pt x="1138" y="382"/>
                  <a:pt x="1139" y="410"/>
                </a:cubicBezTo>
                <a:cubicBezTo>
                  <a:pt x="1142" y="483"/>
                  <a:pt x="1141" y="555"/>
                  <a:pt x="1144" y="628"/>
                </a:cubicBezTo>
                <a:cubicBezTo>
                  <a:pt x="1146" y="664"/>
                  <a:pt x="1143" y="688"/>
                  <a:pt x="1165" y="717"/>
                </a:cubicBezTo>
                <a:cubicBezTo>
                  <a:pt x="1168" y="719"/>
                  <a:pt x="1171" y="720"/>
                  <a:pt x="1174" y="722"/>
                </a:cubicBezTo>
                <a:cubicBezTo>
                  <a:pt x="1202" y="695"/>
                  <a:pt x="1218" y="668"/>
                  <a:pt x="1242" y="636"/>
                </a:cubicBezTo>
                <a:cubicBezTo>
                  <a:pt x="1275" y="599"/>
                  <a:pt x="1286" y="584"/>
                  <a:pt x="1289" y="547"/>
                </a:cubicBezTo>
              </a:path>
              <a:path w="3283" h="1341">
                <a:moveTo>
                  <a:pt x="1349" y="397"/>
                </a:moveTo>
                <a:cubicBezTo>
                  <a:pt x="1347" y="456"/>
                  <a:pt x="1341" y="513"/>
                  <a:pt x="1340" y="572"/>
                </a:cubicBezTo>
                <a:cubicBezTo>
                  <a:pt x="1340" y="616"/>
                  <a:pt x="1346" y="661"/>
                  <a:pt x="1353" y="704"/>
                </a:cubicBezTo>
                <a:cubicBezTo>
                  <a:pt x="1357" y="720"/>
                  <a:pt x="1357" y="724"/>
                  <a:pt x="1361" y="734"/>
                </a:cubicBezTo>
                <a:cubicBezTo>
                  <a:pt x="1379" y="703"/>
                  <a:pt x="1381" y="685"/>
                  <a:pt x="1387" y="645"/>
                </a:cubicBezTo>
                <a:cubicBezTo>
                  <a:pt x="1390" y="631"/>
                  <a:pt x="1393" y="616"/>
                  <a:pt x="1396" y="602"/>
                </a:cubicBezTo>
              </a:path>
              <a:path w="3283" h="1341">
                <a:moveTo>
                  <a:pt x="1310" y="34"/>
                </a:moveTo>
                <a:cubicBezTo>
                  <a:pt x="1306" y="72"/>
                  <a:pt x="1299" y="98"/>
                  <a:pt x="1293" y="133"/>
                </a:cubicBezTo>
                <a:cubicBezTo>
                  <a:pt x="1291" y="143"/>
                  <a:pt x="1293" y="150"/>
                  <a:pt x="1297" y="158"/>
                </a:cubicBezTo>
                <a:cubicBezTo>
                  <a:pt x="1307" y="150"/>
                  <a:pt x="1308" y="142"/>
                  <a:pt x="1323" y="128"/>
                </a:cubicBezTo>
              </a:path>
              <a:path w="3283" h="1341">
                <a:moveTo>
                  <a:pt x="1677" y="244"/>
                </a:moveTo>
                <a:cubicBezTo>
                  <a:pt x="1676" y="247"/>
                  <a:pt x="1690" y="246"/>
                  <a:pt x="1673" y="252"/>
                </a:cubicBezTo>
                <a:cubicBezTo>
                  <a:pt x="1648" y="261"/>
                  <a:pt x="1629" y="282"/>
                  <a:pt x="1609" y="299"/>
                </a:cubicBezTo>
                <a:cubicBezTo>
                  <a:pt x="1580" y="323"/>
                  <a:pt x="1546" y="346"/>
                  <a:pt x="1528" y="380"/>
                </a:cubicBezTo>
                <a:cubicBezTo>
                  <a:pt x="1512" y="411"/>
                  <a:pt x="1513" y="440"/>
                  <a:pt x="1528" y="470"/>
                </a:cubicBezTo>
                <a:cubicBezTo>
                  <a:pt x="1546" y="505"/>
                  <a:pt x="1581" y="534"/>
                  <a:pt x="1613" y="555"/>
                </a:cubicBezTo>
                <a:cubicBezTo>
                  <a:pt x="1656" y="584"/>
                  <a:pt x="1696" y="613"/>
                  <a:pt x="1733" y="649"/>
                </a:cubicBezTo>
                <a:cubicBezTo>
                  <a:pt x="1764" y="679"/>
                  <a:pt x="1800" y="719"/>
                  <a:pt x="1780" y="764"/>
                </a:cubicBezTo>
                <a:cubicBezTo>
                  <a:pt x="1767" y="793"/>
                  <a:pt x="1734" y="805"/>
                  <a:pt x="1703" y="794"/>
                </a:cubicBezTo>
                <a:cubicBezTo>
                  <a:pt x="1671" y="783"/>
                  <a:pt x="1646" y="756"/>
                  <a:pt x="1622" y="734"/>
                </a:cubicBezTo>
              </a:path>
              <a:path w="3283" h="1341">
                <a:moveTo>
                  <a:pt x="1903" y="0"/>
                </a:moveTo>
                <a:cubicBezTo>
                  <a:pt x="1896" y="75"/>
                  <a:pt x="1894" y="156"/>
                  <a:pt x="1899" y="231"/>
                </a:cubicBezTo>
                <a:cubicBezTo>
                  <a:pt x="1904" y="318"/>
                  <a:pt x="1912" y="409"/>
                  <a:pt x="1929" y="495"/>
                </a:cubicBezTo>
                <a:cubicBezTo>
                  <a:pt x="1939" y="547"/>
                  <a:pt x="1952" y="599"/>
                  <a:pt x="1972" y="649"/>
                </a:cubicBezTo>
                <a:cubicBezTo>
                  <a:pt x="1979" y="663"/>
                  <a:pt x="1980" y="666"/>
                  <a:pt x="1984" y="675"/>
                </a:cubicBezTo>
                <a:cubicBezTo>
                  <a:pt x="1993" y="658"/>
                  <a:pt x="2007" y="625"/>
                  <a:pt x="2014" y="602"/>
                </a:cubicBezTo>
                <a:cubicBezTo>
                  <a:pt x="2041" y="518"/>
                  <a:pt x="2063" y="435"/>
                  <a:pt x="2100" y="355"/>
                </a:cubicBezTo>
                <a:cubicBezTo>
                  <a:pt x="2116" y="320"/>
                  <a:pt x="2127" y="296"/>
                  <a:pt x="2151" y="269"/>
                </a:cubicBezTo>
                <a:cubicBezTo>
                  <a:pt x="2169" y="305"/>
                  <a:pt x="2167" y="350"/>
                  <a:pt x="2168" y="393"/>
                </a:cubicBezTo>
                <a:cubicBezTo>
                  <a:pt x="2170" y="459"/>
                  <a:pt x="2169" y="523"/>
                  <a:pt x="2176" y="589"/>
                </a:cubicBezTo>
                <a:cubicBezTo>
                  <a:pt x="2181" y="633"/>
                  <a:pt x="2189" y="651"/>
                  <a:pt x="2211" y="683"/>
                </a:cubicBezTo>
                <a:cubicBezTo>
                  <a:pt x="2235" y="661"/>
                  <a:pt x="2280" y="621"/>
                  <a:pt x="2296" y="585"/>
                </a:cubicBezTo>
                <a:cubicBezTo>
                  <a:pt x="2302" y="565"/>
                  <a:pt x="2307" y="545"/>
                  <a:pt x="2313" y="525"/>
                </a:cubicBezTo>
              </a:path>
              <a:path w="3283" h="1341">
                <a:moveTo>
                  <a:pt x="2462" y="303"/>
                </a:moveTo>
                <a:cubicBezTo>
                  <a:pt x="2444" y="366"/>
                  <a:pt x="2435" y="425"/>
                  <a:pt x="2433" y="491"/>
                </a:cubicBezTo>
                <a:cubicBezTo>
                  <a:pt x="2432" y="522"/>
                  <a:pt x="2431" y="556"/>
                  <a:pt x="2441" y="585"/>
                </a:cubicBezTo>
                <a:cubicBezTo>
                  <a:pt x="2442" y="586"/>
                  <a:pt x="2444" y="588"/>
                  <a:pt x="2445" y="589"/>
                </a:cubicBezTo>
                <a:cubicBezTo>
                  <a:pt x="2459" y="580"/>
                  <a:pt x="2466" y="536"/>
                  <a:pt x="2467" y="512"/>
                </a:cubicBezTo>
                <a:cubicBezTo>
                  <a:pt x="2467" y="495"/>
                  <a:pt x="2467" y="478"/>
                  <a:pt x="2467" y="461"/>
                </a:cubicBezTo>
              </a:path>
              <a:path w="3283" h="1341">
                <a:moveTo>
                  <a:pt x="2360" y="64"/>
                </a:moveTo>
                <a:cubicBezTo>
                  <a:pt x="2368" y="90"/>
                  <a:pt x="2378" y="86"/>
                  <a:pt x="2403" y="90"/>
                </a:cubicBezTo>
                <a:cubicBezTo>
                  <a:pt x="2423" y="95"/>
                  <a:pt x="2431" y="94"/>
                  <a:pt x="2437" y="73"/>
                </a:cubicBezTo>
              </a:path>
              <a:path w="3283" h="1341">
                <a:moveTo>
                  <a:pt x="2654" y="278"/>
                </a:moveTo>
                <a:cubicBezTo>
                  <a:pt x="2648" y="363"/>
                  <a:pt x="2645" y="452"/>
                  <a:pt x="2654" y="538"/>
                </a:cubicBezTo>
                <a:cubicBezTo>
                  <a:pt x="2658" y="574"/>
                  <a:pt x="2660" y="617"/>
                  <a:pt x="2667" y="653"/>
                </a:cubicBezTo>
                <a:cubicBezTo>
                  <a:pt x="2668" y="655"/>
                  <a:pt x="2670" y="656"/>
                  <a:pt x="2671" y="658"/>
                </a:cubicBezTo>
                <a:cubicBezTo>
                  <a:pt x="2691" y="601"/>
                  <a:pt x="2704" y="542"/>
                  <a:pt x="2718" y="483"/>
                </a:cubicBezTo>
                <a:cubicBezTo>
                  <a:pt x="2738" y="401"/>
                  <a:pt x="2761" y="316"/>
                  <a:pt x="2787" y="235"/>
                </a:cubicBezTo>
                <a:cubicBezTo>
                  <a:pt x="2797" y="205"/>
                  <a:pt x="2808" y="174"/>
                  <a:pt x="2821" y="145"/>
                </a:cubicBezTo>
                <a:cubicBezTo>
                  <a:pt x="2826" y="184"/>
                  <a:pt x="2830" y="224"/>
                  <a:pt x="2829" y="265"/>
                </a:cubicBezTo>
                <a:cubicBezTo>
                  <a:pt x="2827" y="346"/>
                  <a:pt x="2823" y="427"/>
                  <a:pt x="2829" y="508"/>
                </a:cubicBezTo>
                <a:cubicBezTo>
                  <a:pt x="2831" y="539"/>
                  <a:pt x="2824" y="622"/>
                  <a:pt x="2851" y="645"/>
                </a:cubicBezTo>
                <a:cubicBezTo>
                  <a:pt x="2888" y="676"/>
                  <a:pt x="2921" y="586"/>
                  <a:pt x="2932" y="568"/>
                </a:cubicBezTo>
              </a:path>
              <a:path w="3283" h="1341">
                <a:moveTo>
                  <a:pt x="3213" y="333"/>
                </a:moveTo>
                <a:cubicBezTo>
                  <a:pt x="3243" y="291"/>
                  <a:pt x="3258" y="255"/>
                  <a:pt x="3269" y="205"/>
                </a:cubicBezTo>
                <a:cubicBezTo>
                  <a:pt x="3278" y="167"/>
                  <a:pt x="3291" y="129"/>
                  <a:pt x="3265" y="94"/>
                </a:cubicBezTo>
                <a:cubicBezTo>
                  <a:pt x="3258" y="91"/>
                  <a:pt x="3250" y="89"/>
                  <a:pt x="3243" y="86"/>
                </a:cubicBezTo>
                <a:cubicBezTo>
                  <a:pt x="3201" y="99"/>
                  <a:pt x="3180" y="106"/>
                  <a:pt x="3149" y="145"/>
                </a:cubicBezTo>
                <a:cubicBezTo>
                  <a:pt x="3109" y="196"/>
                  <a:pt x="3073" y="259"/>
                  <a:pt x="3051" y="320"/>
                </a:cubicBezTo>
                <a:cubicBezTo>
                  <a:pt x="3035" y="363"/>
                  <a:pt x="3016" y="419"/>
                  <a:pt x="3017" y="465"/>
                </a:cubicBezTo>
                <a:cubicBezTo>
                  <a:pt x="3020" y="486"/>
                  <a:pt x="3019" y="490"/>
                  <a:pt x="3026" y="500"/>
                </a:cubicBezTo>
                <a:cubicBezTo>
                  <a:pt x="3044" y="492"/>
                  <a:pt x="3067" y="493"/>
                  <a:pt x="3094" y="470"/>
                </a:cubicBezTo>
                <a:cubicBezTo>
                  <a:pt x="3131" y="438"/>
                  <a:pt x="3161" y="397"/>
                  <a:pt x="3196" y="363"/>
                </a:cubicBezTo>
                <a:cubicBezTo>
                  <a:pt x="3214" y="345"/>
                  <a:pt x="3232" y="334"/>
                  <a:pt x="3252" y="320"/>
                </a:cubicBezTo>
                <a:cubicBezTo>
                  <a:pt x="3262" y="363"/>
                  <a:pt x="3261" y="395"/>
                  <a:pt x="3256" y="444"/>
                </a:cubicBezTo>
                <a:cubicBezTo>
                  <a:pt x="3244" y="560"/>
                  <a:pt x="3229" y="674"/>
                  <a:pt x="3218" y="790"/>
                </a:cubicBezTo>
                <a:cubicBezTo>
                  <a:pt x="3207" y="913"/>
                  <a:pt x="3201" y="1039"/>
                  <a:pt x="3184" y="1161"/>
                </a:cubicBezTo>
                <a:cubicBezTo>
                  <a:pt x="3181" y="1180"/>
                  <a:pt x="3170" y="1330"/>
                  <a:pt x="3141" y="1336"/>
                </a:cubicBezTo>
                <a:cubicBezTo>
                  <a:pt x="3084" y="1348"/>
                  <a:pt x="3036" y="1292"/>
                  <a:pt x="2996" y="1259"/>
                </a:cubicBezTo>
                <a:cubicBezTo>
                  <a:pt x="2888" y="1170"/>
                  <a:pt x="2791" y="1072"/>
                  <a:pt x="2693" y="973"/>
                </a:cubicBezTo>
                <a:cubicBezTo>
                  <a:pt x="2655" y="936"/>
                  <a:pt x="2642" y="924"/>
                  <a:pt x="2625" y="892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1" name="Freeform 15"/>
          <p:cNvSpPr/>
          <p:nvPr/>
        </p:nvSpPr>
        <p:spPr>
          <a:xfrm>
            <a:off x="5573880" y="1219320"/>
            <a:ext cx="617400" cy="398520"/>
          </a:xfrm>
          <a:custGeom>
            <a:avLst/>
            <a:gdLst/>
            <a:ahLst/>
            <a:rect l="l" t="t" r="r" b="b"/>
            <a:pathLst>
              <a:path w="1717" h="1106">
                <a:moveTo>
                  <a:pt x="175" y="452"/>
                </a:moveTo>
                <a:cubicBezTo>
                  <a:pt x="175" y="545"/>
                  <a:pt x="172" y="637"/>
                  <a:pt x="167" y="730"/>
                </a:cubicBezTo>
                <a:cubicBezTo>
                  <a:pt x="161" y="859"/>
                  <a:pt x="167" y="1221"/>
                  <a:pt x="167" y="1092"/>
                </a:cubicBezTo>
                <a:cubicBezTo>
                  <a:pt x="172" y="1061"/>
                  <a:pt x="171" y="1031"/>
                  <a:pt x="175" y="998"/>
                </a:cubicBezTo>
              </a:path>
              <a:path w="1717" h="1106">
                <a:moveTo>
                  <a:pt x="9" y="307"/>
                </a:moveTo>
                <a:cubicBezTo>
                  <a:pt x="5" y="324"/>
                  <a:pt x="2" y="333"/>
                  <a:pt x="0" y="350"/>
                </a:cubicBezTo>
                <a:cubicBezTo>
                  <a:pt x="0" y="351"/>
                  <a:pt x="0" y="353"/>
                  <a:pt x="0" y="354"/>
                </a:cubicBezTo>
                <a:cubicBezTo>
                  <a:pt x="15" y="343"/>
                  <a:pt x="28" y="332"/>
                  <a:pt x="43" y="320"/>
                </a:cubicBezTo>
                <a:cubicBezTo>
                  <a:pt x="93" y="279"/>
                  <a:pt x="143" y="247"/>
                  <a:pt x="201" y="218"/>
                </a:cubicBezTo>
                <a:cubicBezTo>
                  <a:pt x="246" y="195"/>
                  <a:pt x="304" y="183"/>
                  <a:pt x="350" y="213"/>
                </a:cubicBezTo>
                <a:cubicBezTo>
                  <a:pt x="391" y="240"/>
                  <a:pt x="398" y="309"/>
                  <a:pt x="397" y="354"/>
                </a:cubicBezTo>
                <a:cubicBezTo>
                  <a:pt x="396" y="424"/>
                  <a:pt x="365" y="478"/>
                  <a:pt x="325" y="533"/>
                </a:cubicBezTo>
                <a:cubicBezTo>
                  <a:pt x="290" y="580"/>
                  <a:pt x="248" y="614"/>
                  <a:pt x="201" y="649"/>
                </a:cubicBezTo>
                <a:cubicBezTo>
                  <a:pt x="185" y="661"/>
                  <a:pt x="170" y="666"/>
                  <a:pt x="154" y="674"/>
                </a:cubicBezTo>
                <a:cubicBezTo>
                  <a:pt x="166" y="637"/>
                  <a:pt x="172" y="623"/>
                  <a:pt x="197" y="589"/>
                </a:cubicBezTo>
              </a:path>
              <a:path w="1717" h="1106">
                <a:moveTo>
                  <a:pt x="508" y="414"/>
                </a:moveTo>
                <a:cubicBezTo>
                  <a:pt x="506" y="454"/>
                  <a:pt x="496" y="490"/>
                  <a:pt x="491" y="529"/>
                </a:cubicBezTo>
                <a:cubicBezTo>
                  <a:pt x="488" y="551"/>
                  <a:pt x="480" y="585"/>
                  <a:pt x="491" y="606"/>
                </a:cubicBezTo>
                <a:cubicBezTo>
                  <a:pt x="502" y="627"/>
                  <a:pt x="525" y="631"/>
                  <a:pt x="547" y="627"/>
                </a:cubicBezTo>
                <a:cubicBezTo>
                  <a:pt x="586" y="619"/>
                  <a:pt x="617" y="591"/>
                  <a:pt x="640" y="559"/>
                </a:cubicBezTo>
                <a:cubicBezTo>
                  <a:pt x="666" y="522"/>
                  <a:pt x="681" y="476"/>
                  <a:pt x="679" y="431"/>
                </a:cubicBezTo>
                <a:cubicBezTo>
                  <a:pt x="677" y="390"/>
                  <a:pt x="663" y="358"/>
                  <a:pt x="628" y="337"/>
                </a:cubicBezTo>
                <a:cubicBezTo>
                  <a:pt x="604" y="323"/>
                  <a:pt x="585" y="316"/>
                  <a:pt x="559" y="329"/>
                </a:cubicBezTo>
                <a:cubicBezTo>
                  <a:pt x="548" y="335"/>
                  <a:pt x="522" y="351"/>
                  <a:pt x="538" y="367"/>
                </a:cubicBezTo>
                <a:cubicBezTo>
                  <a:pt x="539" y="364"/>
                  <a:pt x="541" y="361"/>
                  <a:pt x="542" y="358"/>
                </a:cubicBezTo>
              </a:path>
              <a:path w="1717" h="1106">
                <a:moveTo>
                  <a:pt x="850" y="431"/>
                </a:moveTo>
                <a:cubicBezTo>
                  <a:pt x="854" y="485"/>
                  <a:pt x="851" y="535"/>
                  <a:pt x="850" y="589"/>
                </a:cubicBezTo>
                <a:cubicBezTo>
                  <a:pt x="850" y="610"/>
                  <a:pt x="850" y="632"/>
                  <a:pt x="850" y="653"/>
                </a:cubicBezTo>
                <a:cubicBezTo>
                  <a:pt x="850" y="647"/>
                  <a:pt x="860" y="598"/>
                  <a:pt x="862" y="580"/>
                </a:cubicBezTo>
                <a:cubicBezTo>
                  <a:pt x="862" y="563"/>
                  <a:pt x="862" y="546"/>
                  <a:pt x="862" y="529"/>
                </a:cubicBezTo>
              </a:path>
              <a:path w="1717" h="1106">
                <a:moveTo>
                  <a:pt x="803" y="175"/>
                </a:moveTo>
                <a:cubicBezTo>
                  <a:pt x="798" y="197"/>
                  <a:pt x="792" y="210"/>
                  <a:pt x="803" y="226"/>
                </a:cubicBezTo>
                <a:cubicBezTo>
                  <a:pt x="815" y="202"/>
                  <a:pt x="813" y="205"/>
                  <a:pt x="837" y="192"/>
                </a:cubicBezTo>
              </a:path>
              <a:path w="1717" h="1106">
                <a:moveTo>
                  <a:pt x="990" y="307"/>
                </a:moveTo>
                <a:cubicBezTo>
                  <a:pt x="982" y="360"/>
                  <a:pt x="971" y="420"/>
                  <a:pt x="973" y="474"/>
                </a:cubicBezTo>
                <a:cubicBezTo>
                  <a:pt x="974" y="486"/>
                  <a:pt x="980" y="500"/>
                  <a:pt x="982" y="512"/>
                </a:cubicBezTo>
                <a:cubicBezTo>
                  <a:pt x="996" y="502"/>
                  <a:pt x="1016" y="479"/>
                  <a:pt x="1033" y="457"/>
                </a:cubicBezTo>
                <a:cubicBezTo>
                  <a:pt x="1068" y="411"/>
                  <a:pt x="1093" y="360"/>
                  <a:pt x="1123" y="311"/>
                </a:cubicBezTo>
                <a:cubicBezTo>
                  <a:pt x="1141" y="281"/>
                  <a:pt x="1159" y="221"/>
                  <a:pt x="1182" y="196"/>
                </a:cubicBezTo>
                <a:cubicBezTo>
                  <a:pt x="1186" y="195"/>
                  <a:pt x="1191" y="193"/>
                  <a:pt x="1195" y="192"/>
                </a:cubicBezTo>
                <a:cubicBezTo>
                  <a:pt x="1195" y="223"/>
                  <a:pt x="1189" y="251"/>
                  <a:pt x="1187" y="282"/>
                </a:cubicBezTo>
                <a:cubicBezTo>
                  <a:pt x="1183" y="346"/>
                  <a:pt x="1178" y="410"/>
                  <a:pt x="1174" y="474"/>
                </a:cubicBezTo>
                <a:cubicBezTo>
                  <a:pt x="1172" y="515"/>
                  <a:pt x="1169" y="557"/>
                  <a:pt x="1165" y="597"/>
                </a:cubicBezTo>
                <a:cubicBezTo>
                  <a:pt x="1165" y="603"/>
                  <a:pt x="1165" y="608"/>
                  <a:pt x="1165" y="614"/>
                </a:cubicBezTo>
                <a:cubicBezTo>
                  <a:pt x="1178" y="598"/>
                  <a:pt x="1187" y="583"/>
                  <a:pt x="1195" y="555"/>
                </a:cubicBezTo>
                <a:cubicBezTo>
                  <a:pt x="1208" y="503"/>
                  <a:pt x="1213" y="485"/>
                  <a:pt x="1238" y="457"/>
                </a:cubicBezTo>
              </a:path>
              <a:path w="1717" h="1106">
                <a:moveTo>
                  <a:pt x="1438" y="0"/>
                </a:moveTo>
                <a:cubicBezTo>
                  <a:pt x="1424" y="80"/>
                  <a:pt x="1406" y="156"/>
                  <a:pt x="1392" y="235"/>
                </a:cubicBezTo>
                <a:cubicBezTo>
                  <a:pt x="1382" y="293"/>
                  <a:pt x="1379" y="345"/>
                  <a:pt x="1379" y="405"/>
                </a:cubicBezTo>
                <a:cubicBezTo>
                  <a:pt x="1379" y="431"/>
                  <a:pt x="1388" y="476"/>
                  <a:pt x="1409" y="495"/>
                </a:cubicBezTo>
                <a:cubicBezTo>
                  <a:pt x="1430" y="514"/>
                  <a:pt x="1462" y="510"/>
                  <a:pt x="1485" y="499"/>
                </a:cubicBezTo>
                <a:cubicBezTo>
                  <a:pt x="1532" y="476"/>
                  <a:pt x="1556" y="444"/>
                  <a:pt x="1588" y="405"/>
                </a:cubicBezTo>
              </a:path>
              <a:path w="1717" h="1106">
                <a:moveTo>
                  <a:pt x="1204" y="68"/>
                </a:moveTo>
                <a:cubicBezTo>
                  <a:pt x="1197" y="97"/>
                  <a:pt x="1179" y="129"/>
                  <a:pt x="1195" y="158"/>
                </a:cubicBezTo>
                <a:cubicBezTo>
                  <a:pt x="1210" y="187"/>
                  <a:pt x="1254" y="176"/>
                  <a:pt x="1276" y="171"/>
                </a:cubicBezTo>
                <a:cubicBezTo>
                  <a:pt x="1341" y="157"/>
                  <a:pt x="1388" y="124"/>
                  <a:pt x="1447" y="94"/>
                </a:cubicBezTo>
              </a:path>
              <a:path w="1717" h="1106">
                <a:moveTo>
                  <a:pt x="1712" y="580"/>
                </a:moveTo>
                <a:cubicBezTo>
                  <a:pt x="1712" y="620"/>
                  <a:pt x="1705" y="641"/>
                  <a:pt x="1699" y="678"/>
                </a:cubicBezTo>
                <a:cubicBezTo>
                  <a:pt x="1694" y="708"/>
                  <a:pt x="1690" y="695"/>
                  <a:pt x="1707" y="674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Freeform 16"/>
          <p:cNvSpPr/>
          <p:nvPr/>
        </p:nvSpPr>
        <p:spPr>
          <a:xfrm>
            <a:off x="4037040" y="1695600"/>
            <a:ext cx="216000" cy="903240"/>
          </a:xfrm>
          <a:custGeom>
            <a:avLst/>
            <a:gdLst/>
            <a:ahLst/>
            <a:rect l="l" t="t" r="r" b="b"/>
            <a:pathLst>
              <a:path w="598" h="2506">
                <a:moveTo>
                  <a:pt x="597" y="8"/>
                </a:moveTo>
                <a:cubicBezTo>
                  <a:pt x="593" y="14"/>
                  <a:pt x="588" y="-2"/>
                  <a:pt x="585" y="4"/>
                </a:cubicBezTo>
                <a:cubicBezTo>
                  <a:pt x="569" y="42"/>
                  <a:pt x="550" y="90"/>
                  <a:pt x="538" y="132"/>
                </a:cubicBezTo>
                <a:cubicBezTo>
                  <a:pt x="497" y="278"/>
                  <a:pt x="463" y="428"/>
                  <a:pt x="431" y="576"/>
                </a:cubicBezTo>
                <a:cubicBezTo>
                  <a:pt x="382" y="803"/>
                  <a:pt x="347" y="1033"/>
                  <a:pt x="311" y="1263"/>
                </a:cubicBezTo>
                <a:cubicBezTo>
                  <a:pt x="280" y="1459"/>
                  <a:pt x="257" y="1654"/>
                  <a:pt x="243" y="1852"/>
                </a:cubicBezTo>
                <a:cubicBezTo>
                  <a:pt x="234" y="1975"/>
                  <a:pt x="225" y="2099"/>
                  <a:pt x="230" y="2223"/>
                </a:cubicBezTo>
                <a:cubicBezTo>
                  <a:pt x="234" y="2317"/>
                  <a:pt x="235" y="2411"/>
                  <a:pt x="235" y="2505"/>
                </a:cubicBezTo>
                <a:cubicBezTo>
                  <a:pt x="230" y="2499"/>
                  <a:pt x="226" y="2494"/>
                  <a:pt x="218" y="2483"/>
                </a:cubicBezTo>
                <a:cubicBezTo>
                  <a:pt x="157" y="2400"/>
                  <a:pt x="103" y="2312"/>
                  <a:pt x="47" y="2227"/>
                </a:cubicBezTo>
                <a:cubicBezTo>
                  <a:pt x="32" y="2205"/>
                  <a:pt x="15" y="2184"/>
                  <a:pt x="0" y="2163"/>
                </a:cubicBezTo>
                <a:cubicBezTo>
                  <a:pt x="4" y="2204"/>
                  <a:pt x="3" y="2248"/>
                  <a:pt x="17" y="2287"/>
                </a:cubicBezTo>
                <a:cubicBezTo>
                  <a:pt x="32" y="2328"/>
                  <a:pt x="59" y="2379"/>
                  <a:pt x="85" y="2415"/>
                </a:cubicBezTo>
                <a:cubicBezTo>
                  <a:pt x="104" y="2441"/>
                  <a:pt x="139" y="2478"/>
                  <a:pt x="171" y="2488"/>
                </a:cubicBezTo>
                <a:cubicBezTo>
                  <a:pt x="246" y="2511"/>
                  <a:pt x="291" y="2456"/>
                  <a:pt x="337" y="2402"/>
                </a:cubicBezTo>
                <a:cubicBezTo>
                  <a:pt x="409" y="2317"/>
                  <a:pt x="455" y="2230"/>
                  <a:pt x="508" y="2133"/>
                </a:cubicBezTo>
                <a:cubicBezTo>
                  <a:pt x="556" y="2046"/>
                  <a:pt x="573" y="2015"/>
                  <a:pt x="593" y="1950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3" name="Freeform 17"/>
          <p:cNvSpPr/>
          <p:nvPr/>
        </p:nvSpPr>
        <p:spPr>
          <a:xfrm>
            <a:off x="2197080" y="2746440"/>
            <a:ext cx="1873440" cy="3575160"/>
          </a:xfrm>
          <a:custGeom>
            <a:avLst/>
            <a:gdLst/>
            <a:ahLst/>
            <a:rect l="l" t="t" r="r" b="b"/>
            <a:pathLst>
              <a:path w="5203" h="9931">
                <a:moveTo>
                  <a:pt x="5202" y="0"/>
                </a:moveTo>
                <a:cubicBezTo>
                  <a:pt x="5186" y="21"/>
                  <a:pt x="5157" y="51"/>
                  <a:pt x="5138" y="77"/>
                </a:cubicBezTo>
                <a:cubicBezTo>
                  <a:pt x="4960" y="318"/>
                  <a:pt x="4824" y="581"/>
                  <a:pt x="4681" y="845"/>
                </a:cubicBezTo>
                <a:cubicBezTo>
                  <a:pt x="4310" y="1531"/>
                  <a:pt x="3909" y="2194"/>
                  <a:pt x="3524" y="2872"/>
                </a:cubicBezTo>
                <a:cubicBezTo>
                  <a:pt x="3342" y="3192"/>
                  <a:pt x="3172" y="3516"/>
                  <a:pt x="2991" y="3836"/>
                </a:cubicBezTo>
                <a:cubicBezTo>
                  <a:pt x="2771" y="4224"/>
                  <a:pt x="2578" y="4629"/>
                  <a:pt x="2394" y="5035"/>
                </a:cubicBezTo>
                <a:cubicBezTo>
                  <a:pt x="2047" y="5799"/>
                  <a:pt x="1614" y="6513"/>
                  <a:pt x="1241" y="7263"/>
                </a:cubicBezTo>
                <a:cubicBezTo>
                  <a:pt x="937" y="7875"/>
                  <a:pt x="668" y="8506"/>
                  <a:pt x="358" y="9115"/>
                </a:cubicBezTo>
                <a:cubicBezTo>
                  <a:pt x="222" y="9382"/>
                  <a:pt x="109" y="9662"/>
                  <a:pt x="4" y="9930"/>
                </a:cubicBezTo>
                <a:cubicBezTo>
                  <a:pt x="3" y="9927"/>
                  <a:pt x="1" y="9924"/>
                  <a:pt x="0" y="9921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4122720" y="2743200"/>
            <a:ext cx="1446120" cy="3591000"/>
          </a:xfrm>
          <a:custGeom>
            <a:avLst/>
            <a:gdLst/>
            <a:ahLst/>
            <a:rect l="l" t="t" r="r" b="b"/>
            <a:pathLst>
              <a:path w="4021" h="9974">
                <a:moveTo>
                  <a:pt x="17" y="0"/>
                </a:moveTo>
                <a:cubicBezTo>
                  <a:pt x="20" y="23"/>
                  <a:pt x="-4" y="24"/>
                  <a:pt x="0" y="47"/>
                </a:cubicBezTo>
                <a:cubicBezTo>
                  <a:pt x="25" y="203"/>
                  <a:pt x="78" y="348"/>
                  <a:pt x="128" y="499"/>
                </a:cubicBezTo>
                <a:cubicBezTo>
                  <a:pt x="258" y="891"/>
                  <a:pt x="418" y="1267"/>
                  <a:pt x="563" y="1652"/>
                </a:cubicBezTo>
                <a:cubicBezTo>
                  <a:pt x="905" y="2558"/>
                  <a:pt x="1341" y="3427"/>
                  <a:pt x="1745" y="4306"/>
                </a:cubicBezTo>
                <a:cubicBezTo>
                  <a:pt x="2168" y="5226"/>
                  <a:pt x="2542" y="6141"/>
                  <a:pt x="2884" y="7093"/>
                </a:cubicBezTo>
                <a:cubicBezTo>
                  <a:pt x="3069" y="7609"/>
                  <a:pt x="3289" y="8102"/>
                  <a:pt x="3452" y="8625"/>
                </a:cubicBezTo>
                <a:cubicBezTo>
                  <a:pt x="3527" y="8866"/>
                  <a:pt x="3632" y="9072"/>
                  <a:pt x="3734" y="9299"/>
                </a:cubicBezTo>
                <a:cubicBezTo>
                  <a:pt x="3828" y="9509"/>
                  <a:pt x="3892" y="9737"/>
                  <a:pt x="3994" y="9939"/>
                </a:cubicBezTo>
                <a:cubicBezTo>
                  <a:pt x="4001" y="9953"/>
                  <a:pt x="4013" y="9955"/>
                  <a:pt x="4020" y="9969"/>
                </a:cubicBezTo>
                <a:cubicBezTo>
                  <a:pt x="4001" y="9934"/>
                  <a:pt x="3984" y="9898"/>
                  <a:pt x="3964" y="9862"/>
                </a:cubicBezTo>
                <a:cubicBezTo>
                  <a:pt x="3958" y="9853"/>
                  <a:pt x="3953" y="9845"/>
                  <a:pt x="3947" y="9836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5192640" y="3898800"/>
            <a:ext cx="1130400" cy="357120"/>
          </a:xfrm>
          <a:custGeom>
            <a:avLst/>
            <a:gdLst/>
            <a:ahLst/>
            <a:rect l="l" t="t" r="r" b="b"/>
            <a:pathLst>
              <a:path w="3142" h="991">
                <a:moveTo>
                  <a:pt x="256" y="628"/>
                </a:moveTo>
                <a:cubicBezTo>
                  <a:pt x="264" y="629"/>
                  <a:pt x="252" y="631"/>
                  <a:pt x="260" y="632"/>
                </a:cubicBezTo>
                <a:cubicBezTo>
                  <a:pt x="308" y="639"/>
                  <a:pt x="356" y="631"/>
                  <a:pt x="405" y="628"/>
                </a:cubicBezTo>
                <a:cubicBezTo>
                  <a:pt x="543" y="618"/>
                  <a:pt x="681" y="602"/>
                  <a:pt x="819" y="589"/>
                </a:cubicBezTo>
                <a:cubicBezTo>
                  <a:pt x="1014" y="571"/>
                  <a:pt x="1209" y="557"/>
                  <a:pt x="1404" y="542"/>
                </a:cubicBezTo>
                <a:cubicBezTo>
                  <a:pt x="1716" y="518"/>
                  <a:pt x="2013" y="484"/>
                  <a:pt x="2317" y="414"/>
                </a:cubicBezTo>
                <a:cubicBezTo>
                  <a:pt x="2348" y="408"/>
                  <a:pt x="2380" y="403"/>
                  <a:pt x="2411" y="397"/>
                </a:cubicBezTo>
              </a:path>
              <a:path w="3142" h="991">
                <a:moveTo>
                  <a:pt x="397" y="269"/>
                </a:moveTo>
                <a:cubicBezTo>
                  <a:pt x="364" y="327"/>
                  <a:pt x="334" y="376"/>
                  <a:pt x="294" y="431"/>
                </a:cubicBezTo>
                <a:cubicBezTo>
                  <a:pt x="245" y="497"/>
                  <a:pt x="187" y="552"/>
                  <a:pt x="128" y="610"/>
                </a:cubicBezTo>
                <a:cubicBezTo>
                  <a:pt x="91" y="647"/>
                  <a:pt x="-10" y="693"/>
                  <a:pt x="4" y="756"/>
                </a:cubicBezTo>
                <a:cubicBezTo>
                  <a:pt x="13" y="796"/>
                  <a:pt x="94" y="839"/>
                  <a:pt x="124" y="858"/>
                </a:cubicBezTo>
                <a:cubicBezTo>
                  <a:pt x="199" y="906"/>
                  <a:pt x="290" y="951"/>
                  <a:pt x="376" y="973"/>
                </a:cubicBezTo>
                <a:cubicBezTo>
                  <a:pt x="450" y="992"/>
                  <a:pt x="530" y="987"/>
                  <a:pt x="606" y="990"/>
                </a:cubicBezTo>
              </a:path>
              <a:path w="3142" h="991">
                <a:moveTo>
                  <a:pt x="2868" y="145"/>
                </a:moveTo>
                <a:cubicBezTo>
                  <a:pt x="2860" y="108"/>
                  <a:pt x="2860" y="60"/>
                  <a:pt x="2846" y="26"/>
                </a:cubicBezTo>
                <a:cubicBezTo>
                  <a:pt x="2836" y="11"/>
                  <a:pt x="2833" y="7"/>
                  <a:pt x="2825" y="0"/>
                </a:cubicBezTo>
                <a:cubicBezTo>
                  <a:pt x="2803" y="22"/>
                  <a:pt x="2784" y="43"/>
                  <a:pt x="2770" y="77"/>
                </a:cubicBezTo>
                <a:cubicBezTo>
                  <a:pt x="2739" y="155"/>
                  <a:pt x="2723" y="236"/>
                  <a:pt x="2701" y="316"/>
                </a:cubicBezTo>
                <a:cubicBezTo>
                  <a:pt x="2680" y="394"/>
                  <a:pt x="2663" y="470"/>
                  <a:pt x="2659" y="551"/>
                </a:cubicBezTo>
                <a:cubicBezTo>
                  <a:pt x="2657" y="597"/>
                  <a:pt x="2664" y="585"/>
                  <a:pt x="2680" y="615"/>
                </a:cubicBezTo>
                <a:cubicBezTo>
                  <a:pt x="2730" y="579"/>
                  <a:pt x="2750" y="535"/>
                  <a:pt x="2782" y="482"/>
                </a:cubicBezTo>
                <a:cubicBezTo>
                  <a:pt x="2831" y="399"/>
                  <a:pt x="2872" y="309"/>
                  <a:pt x="2915" y="222"/>
                </a:cubicBezTo>
                <a:cubicBezTo>
                  <a:pt x="2935" y="181"/>
                  <a:pt x="2946" y="138"/>
                  <a:pt x="2966" y="98"/>
                </a:cubicBezTo>
                <a:cubicBezTo>
                  <a:pt x="2977" y="150"/>
                  <a:pt x="2978" y="198"/>
                  <a:pt x="2983" y="252"/>
                </a:cubicBezTo>
                <a:cubicBezTo>
                  <a:pt x="2992" y="355"/>
                  <a:pt x="3008" y="458"/>
                  <a:pt x="3030" y="559"/>
                </a:cubicBezTo>
                <a:cubicBezTo>
                  <a:pt x="3037" y="589"/>
                  <a:pt x="3056" y="737"/>
                  <a:pt x="3124" y="713"/>
                </a:cubicBezTo>
                <a:cubicBezTo>
                  <a:pt x="3130" y="704"/>
                  <a:pt x="3135" y="696"/>
                  <a:pt x="3141" y="68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6634080" y="3765600"/>
            <a:ext cx="812880" cy="422280"/>
          </a:xfrm>
          <a:custGeom>
            <a:avLst/>
            <a:gdLst/>
            <a:ahLst/>
            <a:rect l="l" t="t" r="r" b="b"/>
            <a:pathLst>
              <a:path w="2258" h="1174">
                <a:moveTo>
                  <a:pt x="4" y="836"/>
                </a:moveTo>
                <a:cubicBezTo>
                  <a:pt x="1" y="924"/>
                  <a:pt x="1" y="1010"/>
                  <a:pt x="4" y="1097"/>
                </a:cubicBezTo>
                <a:cubicBezTo>
                  <a:pt x="5" y="1130"/>
                  <a:pt x="2" y="1144"/>
                  <a:pt x="13" y="1173"/>
                </a:cubicBezTo>
                <a:cubicBezTo>
                  <a:pt x="13" y="1149"/>
                  <a:pt x="19" y="1116"/>
                  <a:pt x="21" y="1088"/>
                </a:cubicBezTo>
                <a:cubicBezTo>
                  <a:pt x="26" y="1003"/>
                  <a:pt x="39" y="921"/>
                  <a:pt x="51" y="836"/>
                </a:cubicBezTo>
                <a:cubicBezTo>
                  <a:pt x="62" y="756"/>
                  <a:pt x="73" y="663"/>
                  <a:pt x="111" y="589"/>
                </a:cubicBezTo>
                <a:cubicBezTo>
                  <a:pt x="130" y="553"/>
                  <a:pt x="168" y="510"/>
                  <a:pt x="213" y="512"/>
                </a:cubicBezTo>
                <a:cubicBezTo>
                  <a:pt x="256" y="514"/>
                  <a:pt x="303" y="539"/>
                  <a:pt x="341" y="555"/>
                </a:cubicBezTo>
                <a:cubicBezTo>
                  <a:pt x="382" y="572"/>
                  <a:pt x="425" y="588"/>
                  <a:pt x="469" y="572"/>
                </a:cubicBezTo>
                <a:cubicBezTo>
                  <a:pt x="522" y="553"/>
                  <a:pt x="539" y="535"/>
                  <a:pt x="576" y="495"/>
                </a:cubicBezTo>
              </a:path>
              <a:path w="2258" h="1174">
                <a:moveTo>
                  <a:pt x="755" y="512"/>
                </a:moveTo>
                <a:cubicBezTo>
                  <a:pt x="737" y="595"/>
                  <a:pt x="718" y="676"/>
                  <a:pt x="704" y="760"/>
                </a:cubicBezTo>
                <a:cubicBezTo>
                  <a:pt x="695" y="816"/>
                  <a:pt x="684" y="870"/>
                  <a:pt x="683" y="926"/>
                </a:cubicBezTo>
                <a:cubicBezTo>
                  <a:pt x="683" y="945"/>
                  <a:pt x="685" y="954"/>
                  <a:pt x="695" y="969"/>
                </a:cubicBezTo>
                <a:cubicBezTo>
                  <a:pt x="727" y="974"/>
                  <a:pt x="752" y="957"/>
                  <a:pt x="777" y="935"/>
                </a:cubicBezTo>
                <a:cubicBezTo>
                  <a:pt x="824" y="894"/>
                  <a:pt x="863" y="827"/>
                  <a:pt x="879" y="768"/>
                </a:cubicBezTo>
                <a:cubicBezTo>
                  <a:pt x="900" y="691"/>
                  <a:pt x="906" y="608"/>
                  <a:pt x="892" y="529"/>
                </a:cubicBezTo>
                <a:cubicBezTo>
                  <a:pt x="885" y="490"/>
                  <a:pt x="870" y="409"/>
                  <a:pt x="828" y="388"/>
                </a:cubicBezTo>
                <a:cubicBezTo>
                  <a:pt x="822" y="388"/>
                  <a:pt x="817" y="388"/>
                  <a:pt x="811" y="388"/>
                </a:cubicBezTo>
                <a:cubicBezTo>
                  <a:pt x="778" y="411"/>
                  <a:pt x="773" y="428"/>
                  <a:pt x="772" y="469"/>
                </a:cubicBezTo>
                <a:cubicBezTo>
                  <a:pt x="772" y="500"/>
                  <a:pt x="773" y="512"/>
                  <a:pt x="789" y="529"/>
                </a:cubicBezTo>
              </a:path>
              <a:path w="2258" h="1174">
                <a:moveTo>
                  <a:pt x="1293" y="371"/>
                </a:moveTo>
                <a:cubicBezTo>
                  <a:pt x="1265" y="370"/>
                  <a:pt x="1244" y="365"/>
                  <a:pt x="1216" y="388"/>
                </a:cubicBezTo>
                <a:cubicBezTo>
                  <a:pt x="1177" y="420"/>
                  <a:pt x="1146" y="476"/>
                  <a:pt x="1126" y="521"/>
                </a:cubicBezTo>
                <a:cubicBezTo>
                  <a:pt x="1096" y="590"/>
                  <a:pt x="1085" y="656"/>
                  <a:pt x="1084" y="730"/>
                </a:cubicBezTo>
                <a:cubicBezTo>
                  <a:pt x="1083" y="772"/>
                  <a:pt x="1085" y="837"/>
                  <a:pt x="1131" y="853"/>
                </a:cubicBezTo>
                <a:cubicBezTo>
                  <a:pt x="1179" y="870"/>
                  <a:pt x="1213" y="810"/>
                  <a:pt x="1237" y="781"/>
                </a:cubicBezTo>
                <a:cubicBezTo>
                  <a:pt x="1284" y="724"/>
                  <a:pt x="1312" y="655"/>
                  <a:pt x="1336" y="585"/>
                </a:cubicBezTo>
                <a:cubicBezTo>
                  <a:pt x="1349" y="546"/>
                  <a:pt x="1351" y="506"/>
                  <a:pt x="1361" y="469"/>
                </a:cubicBezTo>
                <a:cubicBezTo>
                  <a:pt x="1362" y="469"/>
                  <a:pt x="1364" y="469"/>
                  <a:pt x="1365" y="469"/>
                </a:cubicBezTo>
                <a:cubicBezTo>
                  <a:pt x="1368" y="522"/>
                  <a:pt x="1376" y="574"/>
                  <a:pt x="1383" y="627"/>
                </a:cubicBezTo>
                <a:cubicBezTo>
                  <a:pt x="1394" y="707"/>
                  <a:pt x="1412" y="791"/>
                  <a:pt x="1442" y="866"/>
                </a:cubicBezTo>
                <a:cubicBezTo>
                  <a:pt x="1461" y="912"/>
                  <a:pt x="1504" y="977"/>
                  <a:pt x="1566" y="943"/>
                </a:cubicBezTo>
                <a:cubicBezTo>
                  <a:pt x="1576" y="932"/>
                  <a:pt x="1586" y="920"/>
                  <a:pt x="1596" y="909"/>
                </a:cubicBezTo>
              </a:path>
              <a:path w="2258" h="1174">
                <a:moveTo>
                  <a:pt x="2040" y="256"/>
                </a:moveTo>
                <a:cubicBezTo>
                  <a:pt x="2000" y="245"/>
                  <a:pt x="2000" y="227"/>
                  <a:pt x="1959" y="252"/>
                </a:cubicBezTo>
                <a:cubicBezTo>
                  <a:pt x="1900" y="288"/>
                  <a:pt x="1878" y="369"/>
                  <a:pt x="1852" y="427"/>
                </a:cubicBezTo>
                <a:cubicBezTo>
                  <a:pt x="1807" y="528"/>
                  <a:pt x="1789" y="626"/>
                  <a:pt x="1771" y="734"/>
                </a:cubicBezTo>
                <a:cubicBezTo>
                  <a:pt x="1761" y="791"/>
                  <a:pt x="1737" y="887"/>
                  <a:pt x="1767" y="943"/>
                </a:cubicBezTo>
                <a:cubicBezTo>
                  <a:pt x="1775" y="960"/>
                  <a:pt x="1778" y="966"/>
                  <a:pt x="1792" y="969"/>
                </a:cubicBezTo>
                <a:cubicBezTo>
                  <a:pt x="1835" y="926"/>
                  <a:pt x="1856" y="891"/>
                  <a:pt x="1886" y="836"/>
                </a:cubicBezTo>
                <a:cubicBezTo>
                  <a:pt x="1942" y="733"/>
                  <a:pt x="1965" y="623"/>
                  <a:pt x="2001" y="512"/>
                </a:cubicBezTo>
                <a:cubicBezTo>
                  <a:pt x="2039" y="396"/>
                  <a:pt x="2056" y="280"/>
                  <a:pt x="2074" y="158"/>
                </a:cubicBezTo>
                <a:cubicBezTo>
                  <a:pt x="2082" y="105"/>
                  <a:pt x="2087" y="52"/>
                  <a:pt x="2095" y="0"/>
                </a:cubicBezTo>
                <a:cubicBezTo>
                  <a:pt x="2104" y="63"/>
                  <a:pt x="2112" y="128"/>
                  <a:pt x="2116" y="192"/>
                </a:cubicBezTo>
                <a:cubicBezTo>
                  <a:pt x="2126" y="336"/>
                  <a:pt x="2142" y="479"/>
                  <a:pt x="2159" y="623"/>
                </a:cubicBezTo>
                <a:cubicBezTo>
                  <a:pt x="2173" y="739"/>
                  <a:pt x="2190" y="855"/>
                  <a:pt x="2215" y="969"/>
                </a:cubicBezTo>
                <a:cubicBezTo>
                  <a:pt x="2223" y="1004"/>
                  <a:pt x="2245" y="1088"/>
                  <a:pt x="2257" y="1054"/>
                </a:cubicBezTo>
                <a:cubicBezTo>
                  <a:pt x="2248" y="1017"/>
                  <a:pt x="2245" y="1003"/>
                  <a:pt x="2245" y="977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205740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86000" y="30132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aw </a:t>
            </a: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5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leshed-out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figures (starting with stick figures)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15 minutes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o to http://www.posemaniacs.com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2286000" y="30132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aw </a:t>
            </a:r>
            <a:r>
              <a:rPr b="1" lang="en-US" sz="2400" spc="-1" strike="noStrike">
                <a:solidFill>
                  <a:srgbClr val="ff66ff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finished drawings of a figure in motion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30 minutes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o to http://www.posemaniacs.com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205740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ractice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 quick perspectiv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831960" y="2611440"/>
            <a:ext cx="7370640" cy="203040"/>
          </a:xfrm>
          <a:custGeom>
            <a:avLst/>
            <a:gdLst/>
            <a:ahLst/>
            <a:rect l="l" t="t" r="r" b="b"/>
            <a:pathLst>
              <a:path w="20476" h="564">
                <a:moveTo>
                  <a:pt x="0" y="508"/>
                </a:moveTo>
                <a:cubicBezTo>
                  <a:pt x="15" y="508"/>
                  <a:pt x="23" y="508"/>
                  <a:pt x="38" y="508"/>
                </a:cubicBezTo>
                <a:cubicBezTo>
                  <a:pt x="994" y="518"/>
                  <a:pt x="1944" y="554"/>
                  <a:pt x="2902" y="538"/>
                </a:cubicBezTo>
                <a:cubicBezTo>
                  <a:pt x="6273" y="483"/>
                  <a:pt x="9630" y="330"/>
                  <a:pt x="12998" y="188"/>
                </a:cubicBezTo>
                <a:cubicBezTo>
                  <a:pt x="14575" y="121"/>
                  <a:pt x="16161" y="74"/>
                  <a:pt x="17739" y="64"/>
                </a:cubicBezTo>
                <a:cubicBezTo>
                  <a:pt x="18552" y="59"/>
                  <a:pt x="19395" y="118"/>
                  <a:pt x="20206" y="43"/>
                </a:cubicBezTo>
                <a:cubicBezTo>
                  <a:pt x="20289" y="35"/>
                  <a:pt x="20405" y="18"/>
                  <a:pt x="20471" y="9"/>
                </a:cubicBezTo>
                <a:cubicBezTo>
                  <a:pt x="20488" y="7"/>
                  <a:pt x="20419" y="2"/>
                  <a:pt x="20436" y="0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9" name="Freeform 11"/>
          <p:cNvSpPr/>
          <p:nvPr/>
        </p:nvSpPr>
        <p:spPr>
          <a:xfrm>
            <a:off x="2197080" y="2746440"/>
            <a:ext cx="1873440" cy="3575160"/>
          </a:xfrm>
          <a:custGeom>
            <a:avLst/>
            <a:gdLst/>
            <a:ahLst/>
            <a:rect l="l" t="t" r="r" b="b"/>
            <a:pathLst>
              <a:path w="5203" h="9931">
                <a:moveTo>
                  <a:pt x="5202" y="0"/>
                </a:moveTo>
                <a:cubicBezTo>
                  <a:pt x="5186" y="21"/>
                  <a:pt x="5157" y="51"/>
                  <a:pt x="5138" y="77"/>
                </a:cubicBezTo>
                <a:cubicBezTo>
                  <a:pt x="4960" y="318"/>
                  <a:pt x="4824" y="581"/>
                  <a:pt x="4681" y="845"/>
                </a:cubicBezTo>
                <a:cubicBezTo>
                  <a:pt x="4310" y="1531"/>
                  <a:pt x="3909" y="2194"/>
                  <a:pt x="3524" y="2872"/>
                </a:cubicBezTo>
                <a:cubicBezTo>
                  <a:pt x="3342" y="3192"/>
                  <a:pt x="3172" y="3516"/>
                  <a:pt x="2991" y="3836"/>
                </a:cubicBezTo>
                <a:cubicBezTo>
                  <a:pt x="2771" y="4224"/>
                  <a:pt x="2578" y="4629"/>
                  <a:pt x="2394" y="5035"/>
                </a:cubicBezTo>
                <a:cubicBezTo>
                  <a:pt x="2047" y="5799"/>
                  <a:pt x="1614" y="6513"/>
                  <a:pt x="1241" y="7263"/>
                </a:cubicBezTo>
                <a:cubicBezTo>
                  <a:pt x="937" y="7875"/>
                  <a:pt x="668" y="8506"/>
                  <a:pt x="358" y="9115"/>
                </a:cubicBezTo>
                <a:cubicBezTo>
                  <a:pt x="222" y="9382"/>
                  <a:pt x="109" y="9662"/>
                  <a:pt x="4" y="9930"/>
                </a:cubicBezTo>
                <a:cubicBezTo>
                  <a:pt x="3" y="9927"/>
                  <a:pt x="1" y="9924"/>
                  <a:pt x="0" y="9921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Freeform 12"/>
          <p:cNvSpPr/>
          <p:nvPr/>
        </p:nvSpPr>
        <p:spPr>
          <a:xfrm>
            <a:off x="4122720" y="2743200"/>
            <a:ext cx="1446120" cy="3591000"/>
          </a:xfrm>
          <a:custGeom>
            <a:avLst/>
            <a:gdLst/>
            <a:ahLst/>
            <a:rect l="l" t="t" r="r" b="b"/>
            <a:pathLst>
              <a:path w="4021" h="9974">
                <a:moveTo>
                  <a:pt x="17" y="0"/>
                </a:moveTo>
                <a:cubicBezTo>
                  <a:pt x="20" y="23"/>
                  <a:pt x="-4" y="24"/>
                  <a:pt x="0" y="47"/>
                </a:cubicBezTo>
                <a:cubicBezTo>
                  <a:pt x="25" y="203"/>
                  <a:pt x="78" y="348"/>
                  <a:pt x="128" y="499"/>
                </a:cubicBezTo>
                <a:cubicBezTo>
                  <a:pt x="258" y="891"/>
                  <a:pt x="418" y="1267"/>
                  <a:pt x="563" y="1652"/>
                </a:cubicBezTo>
                <a:cubicBezTo>
                  <a:pt x="905" y="2558"/>
                  <a:pt x="1341" y="3427"/>
                  <a:pt x="1745" y="4306"/>
                </a:cubicBezTo>
                <a:cubicBezTo>
                  <a:pt x="2168" y="5226"/>
                  <a:pt x="2542" y="6141"/>
                  <a:pt x="2884" y="7093"/>
                </a:cubicBezTo>
                <a:cubicBezTo>
                  <a:pt x="3069" y="7609"/>
                  <a:pt x="3289" y="8102"/>
                  <a:pt x="3452" y="8625"/>
                </a:cubicBezTo>
                <a:cubicBezTo>
                  <a:pt x="3527" y="8866"/>
                  <a:pt x="3632" y="9072"/>
                  <a:pt x="3734" y="9299"/>
                </a:cubicBezTo>
                <a:cubicBezTo>
                  <a:pt x="3828" y="9509"/>
                  <a:pt x="3892" y="9737"/>
                  <a:pt x="3994" y="9939"/>
                </a:cubicBezTo>
                <a:cubicBezTo>
                  <a:pt x="4001" y="9953"/>
                  <a:pt x="4013" y="9955"/>
                  <a:pt x="4020" y="9969"/>
                </a:cubicBezTo>
                <a:cubicBezTo>
                  <a:pt x="4001" y="9934"/>
                  <a:pt x="3984" y="9898"/>
                  <a:pt x="3964" y="9862"/>
                </a:cubicBezTo>
                <a:cubicBezTo>
                  <a:pt x="3958" y="9853"/>
                  <a:pt x="3953" y="9845"/>
                  <a:pt x="3947" y="9836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1523880" y="1447920"/>
            <a:ext cx="5073840" cy="2482560"/>
          </a:xfrm>
          <a:custGeom>
            <a:avLst/>
            <a:gdLst/>
            <a:ahLst/>
            <a:rect l="l" t="t" r="r" b="b"/>
            <a:pathLst>
              <a:path w="14092" h="6897">
                <a:moveTo>
                  <a:pt x="1959" y="943"/>
                </a:moveTo>
                <a:cubicBezTo>
                  <a:pt x="2008" y="957"/>
                  <a:pt x="2055" y="974"/>
                  <a:pt x="2100" y="999"/>
                </a:cubicBezTo>
                <a:cubicBezTo>
                  <a:pt x="2147" y="1025"/>
                  <a:pt x="2196" y="1053"/>
                  <a:pt x="2245" y="1076"/>
                </a:cubicBezTo>
                <a:cubicBezTo>
                  <a:pt x="2311" y="1106"/>
                  <a:pt x="2379" y="1132"/>
                  <a:pt x="2446" y="1161"/>
                </a:cubicBezTo>
                <a:cubicBezTo>
                  <a:pt x="2510" y="1189"/>
                  <a:pt x="2571" y="1220"/>
                  <a:pt x="2633" y="1251"/>
                </a:cubicBezTo>
                <a:cubicBezTo>
                  <a:pt x="2693" y="1281"/>
                  <a:pt x="2755" y="1306"/>
                  <a:pt x="2817" y="1332"/>
                </a:cubicBezTo>
              </a:path>
              <a:path w="14092" h="6897">
                <a:moveTo>
                  <a:pt x="1264" y="576"/>
                </a:moveTo>
                <a:cubicBezTo>
                  <a:pt x="1323" y="604"/>
                  <a:pt x="1380" y="635"/>
                  <a:pt x="1439" y="662"/>
                </a:cubicBezTo>
                <a:cubicBezTo>
                  <a:pt x="1563" y="718"/>
                  <a:pt x="1689" y="775"/>
                  <a:pt x="1814" y="828"/>
                </a:cubicBezTo>
                <a:cubicBezTo>
                  <a:pt x="1882" y="857"/>
                  <a:pt x="1952" y="883"/>
                  <a:pt x="2019" y="918"/>
                </a:cubicBezTo>
                <a:cubicBezTo>
                  <a:pt x="2170" y="997"/>
                  <a:pt x="2313" y="1090"/>
                  <a:pt x="2467" y="1165"/>
                </a:cubicBezTo>
                <a:cubicBezTo>
                  <a:pt x="2851" y="1354"/>
                  <a:pt x="3241" y="1447"/>
                  <a:pt x="3649" y="1566"/>
                </a:cubicBezTo>
                <a:cubicBezTo>
                  <a:pt x="3919" y="1645"/>
                  <a:pt x="4188" y="1754"/>
                  <a:pt x="4443" y="1869"/>
                </a:cubicBezTo>
                <a:cubicBezTo>
                  <a:pt x="4570" y="1927"/>
                  <a:pt x="4690" y="1995"/>
                  <a:pt x="4814" y="2057"/>
                </a:cubicBezTo>
                <a:cubicBezTo>
                  <a:pt x="4871" y="2085"/>
                  <a:pt x="4927" y="2115"/>
                  <a:pt x="4985" y="2143"/>
                </a:cubicBezTo>
                <a:cubicBezTo>
                  <a:pt x="5101" y="2199"/>
                  <a:pt x="5210" y="2258"/>
                  <a:pt x="5322" y="2322"/>
                </a:cubicBezTo>
                <a:cubicBezTo>
                  <a:pt x="5605" y="2485"/>
                  <a:pt x="5902" y="2624"/>
                  <a:pt x="6192" y="2774"/>
                </a:cubicBezTo>
                <a:cubicBezTo>
                  <a:pt x="6339" y="2850"/>
                  <a:pt x="6465" y="2936"/>
                  <a:pt x="6598" y="3034"/>
                </a:cubicBezTo>
                <a:cubicBezTo>
                  <a:pt x="6744" y="3142"/>
                  <a:pt x="6887" y="3200"/>
                  <a:pt x="7054" y="3265"/>
                </a:cubicBezTo>
                <a:cubicBezTo>
                  <a:pt x="7162" y="3307"/>
                  <a:pt x="7274" y="3353"/>
                  <a:pt x="7370" y="3418"/>
                </a:cubicBezTo>
                <a:cubicBezTo>
                  <a:pt x="7404" y="3441"/>
                  <a:pt x="7341" y="3414"/>
                  <a:pt x="7375" y="3436"/>
                </a:cubicBezTo>
              </a:path>
              <a:path w="14092" h="6897">
                <a:moveTo>
                  <a:pt x="7537" y="3423"/>
                </a:moveTo>
                <a:cubicBezTo>
                  <a:pt x="7558" y="3411"/>
                  <a:pt x="7587" y="3406"/>
                  <a:pt x="7609" y="3393"/>
                </a:cubicBezTo>
                <a:cubicBezTo>
                  <a:pt x="7949" y="3191"/>
                  <a:pt x="8257" y="2946"/>
                  <a:pt x="8608" y="2761"/>
                </a:cubicBezTo>
                <a:cubicBezTo>
                  <a:pt x="8777" y="2672"/>
                  <a:pt x="8954" y="2597"/>
                  <a:pt x="9124" y="2510"/>
                </a:cubicBezTo>
                <a:cubicBezTo>
                  <a:pt x="9492" y="2322"/>
                  <a:pt x="9848" y="2115"/>
                  <a:pt x="10208" y="1912"/>
                </a:cubicBezTo>
                <a:cubicBezTo>
                  <a:pt x="10656" y="1659"/>
                  <a:pt x="11128" y="1464"/>
                  <a:pt x="11582" y="1225"/>
                </a:cubicBezTo>
                <a:cubicBezTo>
                  <a:pt x="11995" y="1008"/>
                  <a:pt x="12417" y="820"/>
                  <a:pt x="12837" y="619"/>
                </a:cubicBezTo>
                <a:cubicBezTo>
                  <a:pt x="13166" y="462"/>
                  <a:pt x="13500" y="299"/>
                  <a:pt x="13840" y="167"/>
                </a:cubicBezTo>
                <a:cubicBezTo>
                  <a:pt x="13910" y="140"/>
                  <a:pt x="13988" y="116"/>
                  <a:pt x="14049" y="86"/>
                </a:cubicBezTo>
                <a:cubicBezTo>
                  <a:pt x="14062" y="79"/>
                  <a:pt x="14066" y="70"/>
                  <a:pt x="14079" y="64"/>
                </a:cubicBezTo>
                <a:cubicBezTo>
                  <a:pt x="14092" y="73"/>
                  <a:pt x="14096" y="76"/>
                  <a:pt x="14091" y="56"/>
                </a:cubicBezTo>
              </a:path>
              <a:path w="14092" h="6897">
                <a:moveTo>
                  <a:pt x="1340" y="585"/>
                </a:moveTo>
                <a:cubicBezTo>
                  <a:pt x="1325" y="575"/>
                  <a:pt x="1303" y="566"/>
                  <a:pt x="1289" y="555"/>
                </a:cubicBezTo>
                <a:cubicBezTo>
                  <a:pt x="1259" y="532"/>
                  <a:pt x="1230" y="511"/>
                  <a:pt x="1195" y="491"/>
                </a:cubicBezTo>
                <a:cubicBezTo>
                  <a:pt x="1149" y="465"/>
                  <a:pt x="1099" y="445"/>
                  <a:pt x="1050" y="423"/>
                </a:cubicBezTo>
                <a:cubicBezTo>
                  <a:pt x="1016" y="408"/>
                  <a:pt x="982" y="395"/>
                  <a:pt x="948" y="380"/>
                </a:cubicBezTo>
                <a:cubicBezTo>
                  <a:pt x="912" y="364"/>
                  <a:pt x="877" y="349"/>
                  <a:pt x="841" y="333"/>
                </a:cubicBezTo>
                <a:cubicBezTo>
                  <a:pt x="804" y="317"/>
                  <a:pt x="766" y="303"/>
                  <a:pt x="730" y="286"/>
                </a:cubicBezTo>
                <a:cubicBezTo>
                  <a:pt x="676" y="261"/>
                  <a:pt x="621" y="237"/>
                  <a:pt x="568" y="209"/>
                </a:cubicBezTo>
                <a:cubicBezTo>
                  <a:pt x="544" y="196"/>
                  <a:pt x="519" y="183"/>
                  <a:pt x="495" y="171"/>
                </a:cubicBezTo>
                <a:cubicBezTo>
                  <a:pt x="464" y="156"/>
                  <a:pt x="430" y="139"/>
                  <a:pt x="402" y="120"/>
                </a:cubicBezTo>
                <a:cubicBezTo>
                  <a:pt x="383" y="107"/>
                  <a:pt x="366" y="93"/>
                  <a:pt x="346" y="81"/>
                </a:cubicBezTo>
                <a:cubicBezTo>
                  <a:pt x="324" y="68"/>
                  <a:pt x="304" y="65"/>
                  <a:pt x="282" y="56"/>
                </a:cubicBezTo>
                <a:cubicBezTo>
                  <a:pt x="263" y="48"/>
                  <a:pt x="247" y="45"/>
                  <a:pt x="227" y="39"/>
                </a:cubicBezTo>
                <a:cubicBezTo>
                  <a:pt x="200" y="31"/>
                  <a:pt x="173" y="23"/>
                  <a:pt x="146" y="17"/>
                </a:cubicBezTo>
                <a:cubicBezTo>
                  <a:pt x="124" y="12"/>
                  <a:pt x="104" y="13"/>
                  <a:pt x="82" y="9"/>
                </a:cubicBezTo>
                <a:cubicBezTo>
                  <a:pt x="65" y="6"/>
                  <a:pt x="48" y="0"/>
                  <a:pt x="30" y="0"/>
                </a:cubicBezTo>
                <a:cubicBezTo>
                  <a:pt x="17" y="0"/>
                  <a:pt x="17" y="4"/>
                  <a:pt x="0" y="5"/>
                </a:cubicBezTo>
              </a:path>
              <a:path w="14092" h="6897">
                <a:moveTo>
                  <a:pt x="7746" y="3389"/>
                </a:moveTo>
                <a:cubicBezTo>
                  <a:pt x="7746" y="3517"/>
                  <a:pt x="7749" y="3645"/>
                  <a:pt x="7750" y="3773"/>
                </a:cubicBezTo>
                <a:cubicBezTo>
                  <a:pt x="7751" y="3887"/>
                  <a:pt x="7751" y="4001"/>
                  <a:pt x="7759" y="4114"/>
                </a:cubicBezTo>
                <a:cubicBezTo>
                  <a:pt x="7764" y="4185"/>
                  <a:pt x="7768" y="4262"/>
                  <a:pt x="7780" y="4332"/>
                </a:cubicBezTo>
                <a:cubicBezTo>
                  <a:pt x="7786" y="4352"/>
                  <a:pt x="7789" y="4354"/>
                  <a:pt x="7788" y="4366"/>
                </a:cubicBezTo>
                <a:cubicBezTo>
                  <a:pt x="7799" y="4329"/>
                  <a:pt x="7808" y="4287"/>
                  <a:pt x="7810" y="4246"/>
                </a:cubicBezTo>
                <a:cubicBezTo>
                  <a:pt x="7816" y="4132"/>
                  <a:pt x="7813" y="4015"/>
                  <a:pt x="7814" y="3901"/>
                </a:cubicBezTo>
                <a:cubicBezTo>
                  <a:pt x="7814" y="3791"/>
                  <a:pt x="7815" y="3681"/>
                  <a:pt x="7810" y="3572"/>
                </a:cubicBezTo>
                <a:cubicBezTo>
                  <a:pt x="7809" y="3554"/>
                  <a:pt x="7807" y="3535"/>
                  <a:pt x="7806" y="3517"/>
                </a:cubicBezTo>
                <a:cubicBezTo>
                  <a:pt x="7807" y="3493"/>
                  <a:pt x="7803" y="3437"/>
                  <a:pt x="7801" y="3495"/>
                </a:cubicBezTo>
                <a:cubicBezTo>
                  <a:pt x="7798" y="3568"/>
                  <a:pt x="7810" y="3643"/>
                  <a:pt x="7810" y="3717"/>
                </a:cubicBezTo>
                <a:cubicBezTo>
                  <a:pt x="7810" y="3926"/>
                  <a:pt x="7810" y="4536"/>
                  <a:pt x="7810" y="4327"/>
                </a:cubicBezTo>
                <a:cubicBezTo>
                  <a:pt x="7810" y="4316"/>
                  <a:pt x="7810" y="4304"/>
                  <a:pt x="7810" y="4293"/>
                </a:cubicBezTo>
                <a:cubicBezTo>
                  <a:pt x="7810" y="4071"/>
                  <a:pt x="7813" y="3849"/>
                  <a:pt x="7801" y="3628"/>
                </a:cubicBezTo>
                <a:cubicBezTo>
                  <a:pt x="7797" y="3557"/>
                  <a:pt x="7793" y="3485"/>
                  <a:pt x="7788" y="3414"/>
                </a:cubicBezTo>
                <a:cubicBezTo>
                  <a:pt x="7769" y="3495"/>
                  <a:pt x="7786" y="3582"/>
                  <a:pt x="7788" y="3666"/>
                </a:cubicBezTo>
                <a:cubicBezTo>
                  <a:pt x="7792" y="3837"/>
                  <a:pt x="7789" y="4007"/>
                  <a:pt x="7801" y="4178"/>
                </a:cubicBezTo>
                <a:cubicBezTo>
                  <a:pt x="7806" y="4252"/>
                  <a:pt x="7816" y="4316"/>
                  <a:pt x="7835" y="4387"/>
                </a:cubicBezTo>
              </a:path>
              <a:path w="14092" h="6897">
                <a:moveTo>
                  <a:pt x="8796" y="2817"/>
                </a:moveTo>
                <a:cubicBezTo>
                  <a:pt x="8793" y="2823"/>
                  <a:pt x="8793" y="2802"/>
                  <a:pt x="8791" y="2808"/>
                </a:cubicBezTo>
                <a:cubicBezTo>
                  <a:pt x="8788" y="2820"/>
                  <a:pt x="8780" y="2795"/>
                  <a:pt x="8778" y="2808"/>
                </a:cubicBezTo>
                <a:cubicBezTo>
                  <a:pt x="8752" y="3011"/>
                  <a:pt x="8757" y="3227"/>
                  <a:pt x="8744" y="3431"/>
                </a:cubicBezTo>
                <a:cubicBezTo>
                  <a:pt x="8724" y="3736"/>
                  <a:pt x="8700" y="4040"/>
                  <a:pt x="8676" y="4345"/>
                </a:cubicBezTo>
                <a:cubicBezTo>
                  <a:pt x="8629" y="4936"/>
                  <a:pt x="8586" y="5531"/>
                  <a:pt x="8578" y="6124"/>
                </a:cubicBezTo>
                <a:cubicBezTo>
                  <a:pt x="8576" y="6263"/>
                  <a:pt x="8577" y="6412"/>
                  <a:pt x="8599" y="6546"/>
                </a:cubicBezTo>
                <a:cubicBezTo>
                  <a:pt x="8601" y="6545"/>
                  <a:pt x="8602" y="6543"/>
                  <a:pt x="8604" y="6542"/>
                </a:cubicBezTo>
                <a:cubicBezTo>
                  <a:pt x="8615" y="6440"/>
                  <a:pt x="8622" y="6339"/>
                  <a:pt x="8625" y="6235"/>
                </a:cubicBezTo>
                <a:cubicBezTo>
                  <a:pt x="8633" y="5979"/>
                  <a:pt x="8638" y="5724"/>
                  <a:pt x="8638" y="5467"/>
                </a:cubicBezTo>
                <a:cubicBezTo>
                  <a:pt x="8638" y="4844"/>
                  <a:pt x="8588" y="4189"/>
                  <a:pt x="8697" y="3572"/>
                </a:cubicBezTo>
                <a:cubicBezTo>
                  <a:pt x="8706" y="3519"/>
                  <a:pt x="8721" y="3466"/>
                  <a:pt x="8732" y="3414"/>
                </a:cubicBezTo>
                <a:cubicBezTo>
                  <a:pt x="8732" y="3405"/>
                  <a:pt x="8732" y="3402"/>
                  <a:pt x="8736" y="3397"/>
                </a:cubicBezTo>
                <a:cubicBezTo>
                  <a:pt x="8730" y="3495"/>
                  <a:pt x="8723" y="3593"/>
                  <a:pt x="8719" y="3692"/>
                </a:cubicBezTo>
                <a:cubicBezTo>
                  <a:pt x="8708" y="3981"/>
                  <a:pt x="8706" y="4269"/>
                  <a:pt x="8702" y="4558"/>
                </a:cubicBezTo>
                <a:cubicBezTo>
                  <a:pt x="8693" y="5211"/>
                  <a:pt x="8707" y="5864"/>
                  <a:pt x="8710" y="6517"/>
                </a:cubicBezTo>
                <a:cubicBezTo>
                  <a:pt x="8710" y="6582"/>
                  <a:pt x="8716" y="6624"/>
                  <a:pt x="8723" y="6683"/>
                </a:cubicBezTo>
                <a:cubicBezTo>
                  <a:pt x="8707" y="6373"/>
                  <a:pt x="8710" y="6063"/>
                  <a:pt x="8702" y="5753"/>
                </a:cubicBezTo>
                <a:cubicBezTo>
                  <a:pt x="8688" y="5240"/>
                  <a:pt x="8679" y="4725"/>
                  <a:pt x="8685" y="4212"/>
                </a:cubicBezTo>
                <a:cubicBezTo>
                  <a:pt x="8688" y="3949"/>
                  <a:pt x="8700" y="3686"/>
                  <a:pt x="8719" y="3423"/>
                </a:cubicBezTo>
                <a:cubicBezTo>
                  <a:pt x="8725" y="3344"/>
                  <a:pt x="8738" y="3266"/>
                  <a:pt x="8744" y="3188"/>
                </a:cubicBezTo>
                <a:cubicBezTo>
                  <a:pt x="8744" y="3174"/>
                  <a:pt x="8744" y="3171"/>
                  <a:pt x="8744" y="3162"/>
                </a:cubicBezTo>
                <a:cubicBezTo>
                  <a:pt x="8743" y="3191"/>
                  <a:pt x="8742" y="3219"/>
                  <a:pt x="8740" y="3248"/>
                </a:cubicBezTo>
                <a:cubicBezTo>
                  <a:pt x="8732" y="3383"/>
                  <a:pt x="8721" y="3518"/>
                  <a:pt x="8719" y="3653"/>
                </a:cubicBezTo>
                <a:cubicBezTo>
                  <a:pt x="8714" y="4027"/>
                  <a:pt x="8721" y="4402"/>
                  <a:pt x="8732" y="4776"/>
                </a:cubicBezTo>
                <a:cubicBezTo>
                  <a:pt x="8746" y="5240"/>
                  <a:pt x="8754" y="5704"/>
                  <a:pt x="8774" y="6167"/>
                </a:cubicBezTo>
                <a:cubicBezTo>
                  <a:pt x="8784" y="6402"/>
                  <a:pt x="8812" y="6645"/>
                  <a:pt x="8813" y="6879"/>
                </a:cubicBezTo>
                <a:cubicBezTo>
                  <a:pt x="8810" y="6885"/>
                  <a:pt x="8807" y="6890"/>
                  <a:pt x="8804" y="689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2" name="Freeform 16"/>
          <p:cNvSpPr/>
          <p:nvPr/>
        </p:nvSpPr>
        <p:spPr>
          <a:xfrm>
            <a:off x="3448080" y="1692360"/>
            <a:ext cx="2646360" cy="4329000"/>
          </a:xfrm>
          <a:custGeom>
            <a:avLst/>
            <a:gdLst/>
            <a:ahLst/>
            <a:rect l="l" t="t" r="r" b="b"/>
            <a:pathLst>
              <a:path w="7354" h="12022">
                <a:moveTo>
                  <a:pt x="5189" y="1357"/>
                </a:moveTo>
                <a:cubicBezTo>
                  <a:pt x="5188" y="1367"/>
                  <a:pt x="5182" y="1373"/>
                  <a:pt x="5181" y="1383"/>
                </a:cubicBezTo>
                <a:cubicBezTo>
                  <a:pt x="5161" y="1583"/>
                  <a:pt x="5158" y="1785"/>
                  <a:pt x="5142" y="1985"/>
                </a:cubicBezTo>
                <a:cubicBezTo>
                  <a:pt x="5073" y="2826"/>
                  <a:pt x="5006" y="3667"/>
                  <a:pt x="4933" y="4507"/>
                </a:cubicBezTo>
                <a:cubicBezTo>
                  <a:pt x="4829" y="5707"/>
                  <a:pt x="4663" y="6927"/>
                  <a:pt x="4720" y="8134"/>
                </a:cubicBezTo>
                <a:cubicBezTo>
                  <a:pt x="4723" y="8167"/>
                  <a:pt x="4721" y="8172"/>
                  <a:pt x="4729" y="8189"/>
                </a:cubicBezTo>
                <a:cubicBezTo>
                  <a:pt x="4743" y="8106"/>
                  <a:pt x="4761" y="8006"/>
                  <a:pt x="4771" y="7916"/>
                </a:cubicBezTo>
                <a:cubicBezTo>
                  <a:pt x="4812" y="7549"/>
                  <a:pt x="4831" y="7179"/>
                  <a:pt x="4852" y="6811"/>
                </a:cubicBezTo>
                <a:cubicBezTo>
                  <a:pt x="4909" y="5825"/>
                  <a:pt x="5013" y="4844"/>
                  <a:pt x="5113" y="3862"/>
                </a:cubicBezTo>
                <a:cubicBezTo>
                  <a:pt x="5168" y="3316"/>
                  <a:pt x="5209" y="2752"/>
                  <a:pt x="5185" y="2202"/>
                </a:cubicBezTo>
                <a:cubicBezTo>
                  <a:pt x="5179" y="2073"/>
                  <a:pt x="5176" y="1943"/>
                  <a:pt x="5168" y="1814"/>
                </a:cubicBezTo>
                <a:cubicBezTo>
                  <a:pt x="5165" y="1769"/>
                  <a:pt x="5158" y="1726"/>
                  <a:pt x="5155" y="1682"/>
                </a:cubicBezTo>
                <a:cubicBezTo>
                  <a:pt x="5155" y="1679"/>
                  <a:pt x="5155" y="1676"/>
                  <a:pt x="5155" y="1673"/>
                </a:cubicBezTo>
                <a:cubicBezTo>
                  <a:pt x="5141" y="1849"/>
                  <a:pt x="5130" y="2026"/>
                  <a:pt x="5113" y="2202"/>
                </a:cubicBezTo>
                <a:cubicBezTo>
                  <a:pt x="5074" y="2613"/>
                  <a:pt x="5030" y="3024"/>
                  <a:pt x="5002" y="3436"/>
                </a:cubicBezTo>
                <a:cubicBezTo>
                  <a:pt x="4962" y="4019"/>
                  <a:pt x="4930" y="4602"/>
                  <a:pt x="4904" y="5185"/>
                </a:cubicBezTo>
                <a:cubicBezTo>
                  <a:pt x="4857" y="6242"/>
                  <a:pt x="4875" y="7305"/>
                  <a:pt x="4788" y="8360"/>
                </a:cubicBezTo>
                <a:cubicBezTo>
                  <a:pt x="4783" y="8423"/>
                  <a:pt x="4779" y="8485"/>
                  <a:pt x="4775" y="8548"/>
                </a:cubicBezTo>
                <a:cubicBezTo>
                  <a:pt x="4784" y="8437"/>
                  <a:pt x="4793" y="8327"/>
                  <a:pt x="4797" y="8215"/>
                </a:cubicBezTo>
                <a:cubicBezTo>
                  <a:pt x="4823" y="7386"/>
                  <a:pt x="4781" y="6556"/>
                  <a:pt x="4775" y="5727"/>
                </a:cubicBezTo>
                <a:cubicBezTo>
                  <a:pt x="4767" y="4595"/>
                  <a:pt x="4812" y="3469"/>
                  <a:pt x="4861" y="2339"/>
                </a:cubicBezTo>
                <a:cubicBezTo>
                  <a:pt x="4866" y="2233"/>
                  <a:pt x="4913" y="2003"/>
                  <a:pt x="4861" y="1899"/>
                </a:cubicBezTo>
                <a:cubicBezTo>
                  <a:pt x="4855" y="1886"/>
                  <a:pt x="4865" y="1997"/>
                  <a:pt x="4865" y="2006"/>
                </a:cubicBezTo>
                <a:cubicBezTo>
                  <a:pt x="4868" y="2232"/>
                  <a:pt x="4877" y="2458"/>
                  <a:pt x="4878" y="2684"/>
                </a:cubicBezTo>
                <a:cubicBezTo>
                  <a:pt x="4881" y="3607"/>
                  <a:pt x="4895" y="4531"/>
                  <a:pt x="4912" y="5454"/>
                </a:cubicBezTo>
                <a:cubicBezTo>
                  <a:pt x="4926" y="6219"/>
                  <a:pt x="4960" y="6984"/>
                  <a:pt x="4938" y="7750"/>
                </a:cubicBezTo>
                <a:cubicBezTo>
                  <a:pt x="4933" y="7922"/>
                  <a:pt x="4912" y="8090"/>
                  <a:pt x="4882" y="8258"/>
                </a:cubicBezTo>
                <a:cubicBezTo>
                  <a:pt x="4873" y="8307"/>
                  <a:pt x="4849" y="8370"/>
                  <a:pt x="4839" y="8411"/>
                </a:cubicBezTo>
                <a:cubicBezTo>
                  <a:pt x="4831" y="8267"/>
                  <a:pt x="4823" y="8121"/>
                  <a:pt x="4818" y="7976"/>
                </a:cubicBezTo>
                <a:cubicBezTo>
                  <a:pt x="4806" y="7645"/>
                  <a:pt x="4805" y="7313"/>
                  <a:pt x="4797" y="6982"/>
                </a:cubicBezTo>
              </a:path>
              <a:path w="7354" h="12022">
                <a:moveTo>
                  <a:pt x="7344" y="457"/>
                </a:moveTo>
                <a:cubicBezTo>
                  <a:pt x="7344" y="497"/>
                  <a:pt x="7353" y="540"/>
                  <a:pt x="7353" y="581"/>
                </a:cubicBezTo>
                <a:cubicBezTo>
                  <a:pt x="7354" y="920"/>
                  <a:pt x="7340" y="1262"/>
                  <a:pt x="7327" y="1601"/>
                </a:cubicBezTo>
                <a:cubicBezTo>
                  <a:pt x="7246" y="3682"/>
                  <a:pt x="7147" y="5761"/>
                  <a:pt x="7007" y="7839"/>
                </a:cubicBezTo>
                <a:cubicBezTo>
                  <a:pt x="6954" y="8621"/>
                  <a:pt x="6910" y="9403"/>
                  <a:pt x="6935" y="10187"/>
                </a:cubicBezTo>
                <a:cubicBezTo>
                  <a:pt x="6954" y="10799"/>
                  <a:pt x="7022" y="11411"/>
                  <a:pt x="7012" y="12021"/>
                </a:cubicBezTo>
                <a:cubicBezTo>
                  <a:pt x="6996" y="11962"/>
                  <a:pt x="6954" y="11891"/>
                  <a:pt x="6943" y="11821"/>
                </a:cubicBezTo>
                <a:cubicBezTo>
                  <a:pt x="6847" y="11233"/>
                  <a:pt x="6879" y="10625"/>
                  <a:pt x="6901" y="10033"/>
                </a:cubicBezTo>
                <a:cubicBezTo>
                  <a:pt x="6919" y="9548"/>
                  <a:pt x="6942" y="9063"/>
                  <a:pt x="6965" y="8578"/>
                </a:cubicBezTo>
                <a:cubicBezTo>
                  <a:pt x="7042" y="6979"/>
                  <a:pt x="7077" y="5387"/>
                  <a:pt x="6943" y="3790"/>
                </a:cubicBezTo>
                <a:cubicBezTo>
                  <a:pt x="6871" y="2932"/>
                  <a:pt x="6808" y="1987"/>
                  <a:pt x="6858" y="1174"/>
                </a:cubicBezTo>
                <a:cubicBezTo>
                  <a:pt x="6857" y="1191"/>
                  <a:pt x="6855" y="1208"/>
                  <a:pt x="6854" y="1225"/>
                </a:cubicBezTo>
                <a:cubicBezTo>
                  <a:pt x="6839" y="1868"/>
                  <a:pt x="6812" y="2511"/>
                  <a:pt x="6798" y="3154"/>
                </a:cubicBezTo>
                <a:cubicBezTo>
                  <a:pt x="6742" y="5699"/>
                  <a:pt x="6835" y="8249"/>
                  <a:pt x="6931" y="10792"/>
                </a:cubicBezTo>
                <a:cubicBezTo>
                  <a:pt x="6940" y="11019"/>
                  <a:pt x="6956" y="11245"/>
                  <a:pt x="6973" y="11471"/>
                </a:cubicBezTo>
                <a:cubicBezTo>
                  <a:pt x="6982" y="11464"/>
                  <a:pt x="6995" y="11714"/>
                  <a:pt x="6995" y="11548"/>
                </a:cubicBezTo>
                <a:cubicBezTo>
                  <a:pt x="6996" y="9986"/>
                  <a:pt x="6835" y="8433"/>
                  <a:pt x="6884" y="6866"/>
                </a:cubicBezTo>
                <a:cubicBezTo>
                  <a:pt x="6908" y="6097"/>
                  <a:pt x="6960" y="5330"/>
                  <a:pt x="7012" y="4562"/>
                </a:cubicBezTo>
                <a:cubicBezTo>
                  <a:pt x="7070" y="3698"/>
                  <a:pt x="7184" y="2808"/>
                  <a:pt x="7097" y="1942"/>
                </a:cubicBezTo>
                <a:cubicBezTo>
                  <a:pt x="7080" y="1778"/>
                  <a:pt x="7038" y="1621"/>
                  <a:pt x="7003" y="1464"/>
                </a:cubicBezTo>
                <a:cubicBezTo>
                  <a:pt x="6981" y="1745"/>
                  <a:pt x="6962" y="2027"/>
                  <a:pt x="6948" y="2309"/>
                </a:cubicBezTo>
                <a:cubicBezTo>
                  <a:pt x="6817" y="4966"/>
                  <a:pt x="6901" y="7626"/>
                  <a:pt x="6901" y="10285"/>
                </a:cubicBezTo>
                <a:cubicBezTo>
                  <a:pt x="6901" y="10686"/>
                  <a:pt x="6921" y="11121"/>
                  <a:pt x="6858" y="11518"/>
                </a:cubicBezTo>
                <a:cubicBezTo>
                  <a:pt x="6847" y="11546"/>
                  <a:pt x="6847" y="11553"/>
                  <a:pt x="6832" y="11565"/>
                </a:cubicBezTo>
              </a:path>
              <a:path w="7354" h="12022">
                <a:moveTo>
                  <a:pt x="1259" y="2650"/>
                </a:moveTo>
                <a:cubicBezTo>
                  <a:pt x="1259" y="2819"/>
                  <a:pt x="1262" y="2989"/>
                  <a:pt x="1263" y="3158"/>
                </a:cubicBezTo>
                <a:cubicBezTo>
                  <a:pt x="1263" y="3213"/>
                  <a:pt x="1263" y="3466"/>
                  <a:pt x="1259" y="3461"/>
                </a:cubicBezTo>
                <a:cubicBezTo>
                  <a:pt x="1259" y="3250"/>
                  <a:pt x="1252" y="3040"/>
                  <a:pt x="1246" y="2830"/>
                </a:cubicBezTo>
                <a:cubicBezTo>
                  <a:pt x="1242" y="2696"/>
                  <a:pt x="1234" y="2557"/>
                  <a:pt x="1216" y="2424"/>
                </a:cubicBezTo>
                <a:cubicBezTo>
                  <a:pt x="1213" y="2414"/>
                  <a:pt x="1211" y="2404"/>
                  <a:pt x="1208" y="2394"/>
                </a:cubicBezTo>
                <a:cubicBezTo>
                  <a:pt x="1208" y="2397"/>
                  <a:pt x="1215" y="2469"/>
                  <a:pt x="1216" y="2484"/>
                </a:cubicBezTo>
                <a:cubicBezTo>
                  <a:pt x="1224" y="2594"/>
                  <a:pt x="1239" y="2701"/>
                  <a:pt x="1242" y="2812"/>
                </a:cubicBezTo>
                <a:cubicBezTo>
                  <a:pt x="1245" y="2944"/>
                  <a:pt x="1239" y="3077"/>
                  <a:pt x="1238" y="3209"/>
                </a:cubicBezTo>
                <a:cubicBezTo>
                  <a:pt x="1237" y="3272"/>
                  <a:pt x="1234" y="3334"/>
                  <a:pt x="1234" y="3397"/>
                </a:cubicBezTo>
                <a:cubicBezTo>
                  <a:pt x="1231" y="3346"/>
                  <a:pt x="1226" y="3299"/>
                  <a:pt x="1225" y="3248"/>
                </a:cubicBezTo>
                <a:cubicBezTo>
                  <a:pt x="1223" y="3137"/>
                  <a:pt x="1221" y="3021"/>
                  <a:pt x="1208" y="2911"/>
                </a:cubicBezTo>
                <a:cubicBezTo>
                  <a:pt x="1198" y="2826"/>
                  <a:pt x="1195" y="2734"/>
                  <a:pt x="1178" y="2650"/>
                </a:cubicBezTo>
                <a:cubicBezTo>
                  <a:pt x="1175" y="2643"/>
                  <a:pt x="1173" y="2636"/>
                  <a:pt x="1170" y="2629"/>
                </a:cubicBezTo>
                <a:cubicBezTo>
                  <a:pt x="1165" y="2685"/>
                  <a:pt x="1165" y="2753"/>
                  <a:pt x="1165" y="2812"/>
                </a:cubicBezTo>
                <a:cubicBezTo>
                  <a:pt x="1165" y="2989"/>
                  <a:pt x="1161" y="3165"/>
                  <a:pt x="1161" y="3342"/>
                </a:cubicBezTo>
                <a:cubicBezTo>
                  <a:pt x="1161" y="3451"/>
                  <a:pt x="1167" y="3558"/>
                  <a:pt x="1170" y="3666"/>
                </a:cubicBezTo>
              </a:path>
              <a:path w="7354" h="12022">
                <a:moveTo>
                  <a:pt x="34" y="1916"/>
                </a:moveTo>
                <a:cubicBezTo>
                  <a:pt x="43" y="2092"/>
                  <a:pt x="48" y="2270"/>
                  <a:pt x="64" y="2445"/>
                </a:cubicBezTo>
                <a:cubicBezTo>
                  <a:pt x="95" y="2776"/>
                  <a:pt x="127" y="3108"/>
                  <a:pt x="150" y="3440"/>
                </a:cubicBezTo>
                <a:cubicBezTo>
                  <a:pt x="174" y="3785"/>
                  <a:pt x="201" y="4131"/>
                  <a:pt x="214" y="4477"/>
                </a:cubicBezTo>
                <a:cubicBezTo>
                  <a:pt x="221" y="4675"/>
                  <a:pt x="231" y="4875"/>
                  <a:pt x="226" y="5074"/>
                </a:cubicBezTo>
                <a:cubicBezTo>
                  <a:pt x="223" y="5128"/>
                  <a:pt x="222" y="5139"/>
                  <a:pt x="218" y="5172"/>
                </a:cubicBezTo>
                <a:cubicBezTo>
                  <a:pt x="202" y="5087"/>
                  <a:pt x="193" y="4986"/>
                  <a:pt x="188" y="4895"/>
                </a:cubicBezTo>
                <a:cubicBezTo>
                  <a:pt x="170" y="4578"/>
                  <a:pt x="160" y="4260"/>
                  <a:pt x="150" y="3943"/>
                </a:cubicBezTo>
                <a:cubicBezTo>
                  <a:pt x="134" y="3448"/>
                  <a:pt x="110" y="2953"/>
                  <a:pt x="94" y="2458"/>
                </a:cubicBezTo>
                <a:cubicBezTo>
                  <a:pt x="88" y="2262"/>
                  <a:pt x="85" y="2065"/>
                  <a:pt x="77" y="1869"/>
                </a:cubicBezTo>
                <a:cubicBezTo>
                  <a:pt x="75" y="2127"/>
                  <a:pt x="83" y="2384"/>
                  <a:pt x="86" y="2642"/>
                </a:cubicBezTo>
                <a:cubicBezTo>
                  <a:pt x="91" y="2993"/>
                  <a:pt x="84" y="3345"/>
                  <a:pt x="86" y="3696"/>
                </a:cubicBezTo>
                <a:cubicBezTo>
                  <a:pt x="88" y="4105"/>
                  <a:pt x="79" y="4513"/>
                  <a:pt x="77" y="4921"/>
                </a:cubicBezTo>
                <a:cubicBezTo>
                  <a:pt x="76" y="5019"/>
                  <a:pt x="71" y="5003"/>
                  <a:pt x="73" y="4912"/>
                </a:cubicBezTo>
                <a:cubicBezTo>
                  <a:pt x="74" y="4875"/>
                  <a:pt x="76" y="4838"/>
                  <a:pt x="77" y="4801"/>
                </a:cubicBezTo>
                <a:cubicBezTo>
                  <a:pt x="82" y="4519"/>
                  <a:pt x="82" y="4238"/>
                  <a:pt x="81" y="3956"/>
                </a:cubicBezTo>
                <a:cubicBezTo>
                  <a:pt x="79" y="3518"/>
                  <a:pt x="69" y="3075"/>
                  <a:pt x="34" y="2638"/>
                </a:cubicBezTo>
                <a:cubicBezTo>
                  <a:pt x="28" y="2584"/>
                  <a:pt x="23" y="2529"/>
                  <a:pt x="17" y="2475"/>
                </a:cubicBezTo>
                <a:cubicBezTo>
                  <a:pt x="9" y="2388"/>
                  <a:pt x="-4" y="2282"/>
                  <a:pt x="0" y="2369"/>
                </a:cubicBezTo>
                <a:cubicBezTo>
                  <a:pt x="13" y="2628"/>
                  <a:pt x="48" y="2886"/>
                  <a:pt x="64" y="3145"/>
                </a:cubicBezTo>
                <a:cubicBezTo>
                  <a:pt x="90" y="3564"/>
                  <a:pt x="123" y="3981"/>
                  <a:pt x="133" y="4400"/>
                </a:cubicBezTo>
                <a:cubicBezTo>
                  <a:pt x="140" y="4685"/>
                  <a:pt x="139" y="4969"/>
                  <a:pt x="120" y="5253"/>
                </a:cubicBezTo>
                <a:cubicBezTo>
                  <a:pt x="108" y="5427"/>
                  <a:pt x="117" y="5304"/>
                  <a:pt x="81" y="5309"/>
                </a:cubicBezTo>
              </a:path>
              <a:path w="7354" h="12022">
                <a:moveTo>
                  <a:pt x="7059" y="239"/>
                </a:moveTo>
                <a:cubicBezTo>
                  <a:pt x="7055" y="270"/>
                  <a:pt x="7050" y="314"/>
                  <a:pt x="7046" y="346"/>
                </a:cubicBezTo>
                <a:cubicBezTo>
                  <a:pt x="7027" y="509"/>
                  <a:pt x="7027" y="673"/>
                  <a:pt x="7020" y="837"/>
                </a:cubicBezTo>
                <a:cubicBezTo>
                  <a:pt x="7010" y="1072"/>
                  <a:pt x="7002" y="1302"/>
                  <a:pt x="7012" y="1537"/>
                </a:cubicBezTo>
                <a:cubicBezTo>
                  <a:pt x="7018" y="1676"/>
                  <a:pt x="7026" y="1817"/>
                  <a:pt x="7046" y="1955"/>
                </a:cubicBezTo>
                <a:cubicBezTo>
                  <a:pt x="7052" y="1991"/>
                  <a:pt x="7050" y="1996"/>
                  <a:pt x="7059" y="2014"/>
                </a:cubicBezTo>
                <a:cubicBezTo>
                  <a:pt x="7060" y="1940"/>
                  <a:pt x="7060" y="1867"/>
                  <a:pt x="7059" y="1793"/>
                </a:cubicBezTo>
                <a:cubicBezTo>
                  <a:pt x="7057" y="1578"/>
                  <a:pt x="7051" y="1363"/>
                  <a:pt x="7046" y="1148"/>
                </a:cubicBezTo>
                <a:cubicBezTo>
                  <a:pt x="7040" y="890"/>
                  <a:pt x="7029" y="633"/>
                  <a:pt x="7003" y="376"/>
                </a:cubicBezTo>
                <a:cubicBezTo>
                  <a:pt x="6996" y="307"/>
                  <a:pt x="6997" y="292"/>
                  <a:pt x="6982" y="252"/>
                </a:cubicBezTo>
                <a:cubicBezTo>
                  <a:pt x="6962" y="283"/>
                  <a:pt x="6943" y="361"/>
                  <a:pt x="6939" y="431"/>
                </a:cubicBezTo>
                <a:cubicBezTo>
                  <a:pt x="6928" y="616"/>
                  <a:pt x="6939" y="801"/>
                  <a:pt x="6952" y="986"/>
                </a:cubicBezTo>
                <a:cubicBezTo>
                  <a:pt x="6965" y="1164"/>
                  <a:pt x="6984" y="1344"/>
                  <a:pt x="7020" y="1519"/>
                </a:cubicBezTo>
                <a:cubicBezTo>
                  <a:pt x="7035" y="1593"/>
                  <a:pt x="7057" y="1645"/>
                  <a:pt x="7093" y="1690"/>
                </a:cubicBezTo>
                <a:cubicBezTo>
                  <a:pt x="7126" y="1606"/>
                  <a:pt x="7153" y="1516"/>
                  <a:pt x="7170" y="1421"/>
                </a:cubicBezTo>
                <a:cubicBezTo>
                  <a:pt x="7204" y="1224"/>
                  <a:pt x="7228" y="1026"/>
                  <a:pt x="7255" y="828"/>
                </a:cubicBezTo>
                <a:cubicBezTo>
                  <a:pt x="7276" y="674"/>
                  <a:pt x="7296" y="521"/>
                  <a:pt x="7315" y="367"/>
                </a:cubicBezTo>
                <a:cubicBezTo>
                  <a:pt x="7322" y="310"/>
                  <a:pt x="7308" y="396"/>
                  <a:pt x="7302" y="453"/>
                </a:cubicBezTo>
                <a:cubicBezTo>
                  <a:pt x="7274" y="693"/>
                  <a:pt x="7248" y="933"/>
                  <a:pt x="7225" y="1174"/>
                </a:cubicBezTo>
                <a:cubicBezTo>
                  <a:pt x="7211" y="1319"/>
                  <a:pt x="7202" y="1464"/>
                  <a:pt x="7191" y="1609"/>
                </a:cubicBezTo>
                <a:cubicBezTo>
                  <a:pt x="7188" y="1646"/>
                  <a:pt x="7187" y="1649"/>
                  <a:pt x="7187" y="1669"/>
                </a:cubicBezTo>
                <a:cubicBezTo>
                  <a:pt x="7202" y="1577"/>
                  <a:pt x="7218" y="1484"/>
                  <a:pt x="7229" y="1391"/>
                </a:cubicBezTo>
                <a:cubicBezTo>
                  <a:pt x="7271" y="1042"/>
                  <a:pt x="7314" y="685"/>
                  <a:pt x="7315" y="333"/>
                </a:cubicBezTo>
                <a:cubicBezTo>
                  <a:pt x="7315" y="216"/>
                  <a:pt x="7302" y="100"/>
                  <a:pt x="7276" y="0"/>
                </a:cubicBezTo>
                <a:cubicBezTo>
                  <a:pt x="7212" y="134"/>
                  <a:pt x="7191" y="276"/>
                  <a:pt x="7170" y="423"/>
                </a:cubicBezTo>
                <a:cubicBezTo>
                  <a:pt x="7128" y="716"/>
                  <a:pt x="7111" y="1014"/>
                  <a:pt x="7110" y="1310"/>
                </a:cubicBezTo>
                <a:cubicBezTo>
                  <a:pt x="7109" y="1544"/>
                  <a:pt x="7119" y="1782"/>
                  <a:pt x="7157" y="2014"/>
                </a:cubicBezTo>
                <a:cubicBezTo>
                  <a:pt x="7171" y="2101"/>
                  <a:pt x="7197" y="2186"/>
                  <a:pt x="7229" y="2266"/>
                </a:cubicBezTo>
              </a:path>
              <a:path w="7354" h="12022">
                <a:moveTo>
                  <a:pt x="6888" y="7285"/>
                </a:moveTo>
                <a:cubicBezTo>
                  <a:pt x="6897" y="7662"/>
                  <a:pt x="6896" y="8039"/>
                  <a:pt x="6901" y="8416"/>
                </a:cubicBezTo>
                <a:cubicBezTo>
                  <a:pt x="6904" y="8670"/>
                  <a:pt x="6913" y="8922"/>
                  <a:pt x="6931" y="9175"/>
                </a:cubicBezTo>
                <a:cubicBezTo>
                  <a:pt x="6967" y="9671"/>
                  <a:pt x="7019" y="10165"/>
                  <a:pt x="7054" y="10660"/>
                </a:cubicBezTo>
                <a:cubicBezTo>
                  <a:pt x="7057" y="10702"/>
                  <a:pt x="7062" y="10743"/>
                  <a:pt x="7067" y="10784"/>
                </a:cubicBezTo>
                <a:cubicBezTo>
                  <a:pt x="7063" y="10684"/>
                  <a:pt x="7060" y="10585"/>
                  <a:pt x="7059" y="10485"/>
                </a:cubicBezTo>
              </a:path>
              <a:path w="7354" h="12022">
                <a:moveTo>
                  <a:pt x="7101" y="7750"/>
                </a:moveTo>
                <a:cubicBezTo>
                  <a:pt x="7096" y="7976"/>
                  <a:pt x="7100" y="8202"/>
                  <a:pt x="7101" y="8428"/>
                </a:cubicBezTo>
                <a:cubicBezTo>
                  <a:pt x="7103" y="8737"/>
                  <a:pt x="7130" y="9045"/>
                  <a:pt x="7144" y="9354"/>
                </a:cubicBezTo>
                <a:cubicBezTo>
                  <a:pt x="7155" y="9606"/>
                  <a:pt x="7165" y="9858"/>
                  <a:pt x="7161" y="10110"/>
                </a:cubicBezTo>
                <a:cubicBezTo>
                  <a:pt x="7158" y="10335"/>
                  <a:pt x="7132" y="10561"/>
                  <a:pt x="7105" y="10784"/>
                </a:cubicBezTo>
                <a:cubicBezTo>
                  <a:pt x="7089" y="10917"/>
                  <a:pt x="7069" y="11049"/>
                  <a:pt x="7046" y="11181"/>
                </a:cubicBezTo>
                <a:cubicBezTo>
                  <a:pt x="7039" y="11206"/>
                  <a:pt x="7036" y="11209"/>
                  <a:pt x="7037" y="11223"/>
                </a:cubicBezTo>
                <a:cubicBezTo>
                  <a:pt x="7048" y="11099"/>
                  <a:pt x="7068" y="10976"/>
                  <a:pt x="7080" y="10852"/>
                </a:cubicBezTo>
                <a:cubicBezTo>
                  <a:pt x="7131" y="10305"/>
                  <a:pt x="7131" y="9753"/>
                  <a:pt x="7144" y="9205"/>
                </a:cubicBezTo>
                <a:cubicBezTo>
                  <a:pt x="7151" y="8915"/>
                  <a:pt x="7172" y="8616"/>
                  <a:pt x="7157" y="8326"/>
                </a:cubicBezTo>
                <a:cubicBezTo>
                  <a:pt x="7157" y="8291"/>
                  <a:pt x="7157" y="8281"/>
                  <a:pt x="7152" y="8330"/>
                </a:cubicBezTo>
                <a:cubicBezTo>
                  <a:pt x="7148" y="8568"/>
                  <a:pt x="7148" y="8805"/>
                  <a:pt x="7144" y="9043"/>
                </a:cubicBezTo>
                <a:cubicBezTo>
                  <a:pt x="7138" y="9346"/>
                  <a:pt x="7126" y="9649"/>
                  <a:pt x="7123" y="9952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Freeform 17"/>
          <p:cNvSpPr/>
          <p:nvPr/>
        </p:nvSpPr>
        <p:spPr>
          <a:xfrm>
            <a:off x="2116080" y="1706400"/>
            <a:ext cx="112680" cy="846360"/>
          </a:xfrm>
          <a:custGeom>
            <a:avLst/>
            <a:gdLst/>
            <a:ahLst/>
            <a:rect l="l" t="t" r="r" b="b"/>
            <a:pathLst>
              <a:path w="317" h="2348">
                <a:moveTo>
                  <a:pt x="69" y="456"/>
                </a:moveTo>
                <a:cubicBezTo>
                  <a:pt x="64" y="444"/>
                  <a:pt x="57" y="434"/>
                  <a:pt x="52" y="422"/>
                </a:cubicBezTo>
                <a:cubicBezTo>
                  <a:pt x="48" y="411"/>
                  <a:pt x="43" y="400"/>
                  <a:pt x="39" y="388"/>
                </a:cubicBezTo>
                <a:cubicBezTo>
                  <a:pt x="35" y="376"/>
                  <a:pt x="28" y="355"/>
                  <a:pt x="26" y="345"/>
                </a:cubicBezTo>
                <a:cubicBezTo>
                  <a:pt x="23" y="330"/>
                  <a:pt x="22" y="286"/>
                  <a:pt x="22" y="290"/>
                </a:cubicBezTo>
                <a:cubicBezTo>
                  <a:pt x="16" y="367"/>
                  <a:pt x="16" y="450"/>
                  <a:pt x="13" y="529"/>
                </a:cubicBezTo>
                <a:cubicBezTo>
                  <a:pt x="-2" y="942"/>
                  <a:pt x="-8" y="1354"/>
                  <a:pt x="22" y="1766"/>
                </a:cubicBezTo>
                <a:cubicBezTo>
                  <a:pt x="30" y="1878"/>
                  <a:pt x="42" y="1985"/>
                  <a:pt x="60" y="2095"/>
                </a:cubicBezTo>
                <a:cubicBezTo>
                  <a:pt x="77" y="2031"/>
                  <a:pt x="81" y="1960"/>
                  <a:pt x="81" y="1886"/>
                </a:cubicBezTo>
                <a:cubicBezTo>
                  <a:pt x="82" y="1626"/>
                  <a:pt x="83" y="1365"/>
                  <a:pt x="81" y="1105"/>
                </a:cubicBezTo>
                <a:cubicBezTo>
                  <a:pt x="80" y="881"/>
                  <a:pt x="82" y="658"/>
                  <a:pt x="73" y="435"/>
                </a:cubicBezTo>
                <a:cubicBezTo>
                  <a:pt x="69" y="344"/>
                  <a:pt x="68" y="253"/>
                  <a:pt x="64" y="162"/>
                </a:cubicBezTo>
                <a:cubicBezTo>
                  <a:pt x="77" y="267"/>
                  <a:pt x="93" y="372"/>
                  <a:pt x="107" y="478"/>
                </a:cubicBezTo>
                <a:cubicBezTo>
                  <a:pt x="167" y="922"/>
                  <a:pt x="128" y="1393"/>
                  <a:pt x="227" y="1830"/>
                </a:cubicBezTo>
                <a:cubicBezTo>
                  <a:pt x="230" y="1839"/>
                  <a:pt x="232" y="1847"/>
                  <a:pt x="235" y="1856"/>
                </a:cubicBezTo>
                <a:cubicBezTo>
                  <a:pt x="267" y="1781"/>
                  <a:pt x="279" y="1718"/>
                  <a:pt x="286" y="1630"/>
                </a:cubicBezTo>
                <a:cubicBezTo>
                  <a:pt x="304" y="1416"/>
                  <a:pt x="313" y="1200"/>
                  <a:pt x="316" y="985"/>
                </a:cubicBezTo>
                <a:cubicBezTo>
                  <a:pt x="320" y="677"/>
                  <a:pt x="316" y="361"/>
                  <a:pt x="274" y="55"/>
                </a:cubicBezTo>
                <a:cubicBezTo>
                  <a:pt x="271" y="38"/>
                  <a:pt x="268" y="21"/>
                  <a:pt x="265" y="4"/>
                </a:cubicBezTo>
                <a:cubicBezTo>
                  <a:pt x="245" y="63"/>
                  <a:pt x="237" y="178"/>
                  <a:pt x="235" y="260"/>
                </a:cubicBezTo>
                <a:cubicBezTo>
                  <a:pt x="220" y="824"/>
                  <a:pt x="237" y="1391"/>
                  <a:pt x="201" y="1954"/>
                </a:cubicBezTo>
                <a:cubicBezTo>
                  <a:pt x="193" y="2086"/>
                  <a:pt x="176" y="2216"/>
                  <a:pt x="158" y="234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4" name="Freeform 18"/>
          <p:cNvSpPr/>
          <p:nvPr/>
        </p:nvSpPr>
        <p:spPr>
          <a:xfrm>
            <a:off x="3444840" y="2290680"/>
            <a:ext cx="957240" cy="1285920"/>
          </a:xfrm>
          <a:custGeom>
            <a:avLst/>
            <a:gdLst/>
            <a:ahLst/>
            <a:rect l="l" t="t" r="r" b="b"/>
            <a:pathLst>
              <a:path w="2659" h="3573">
                <a:moveTo>
                  <a:pt x="2556" y="879"/>
                </a:moveTo>
                <a:cubicBezTo>
                  <a:pt x="2551" y="1032"/>
                  <a:pt x="2552" y="1183"/>
                  <a:pt x="2556" y="1336"/>
                </a:cubicBezTo>
                <a:cubicBezTo>
                  <a:pt x="2561" y="1510"/>
                  <a:pt x="2571" y="1684"/>
                  <a:pt x="2586" y="1857"/>
                </a:cubicBezTo>
                <a:cubicBezTo>
                  <a:pt x="2594" y="1952"/>
                  <a:pt x="2606" y="2047"/>
                  <a:pt x="2611" y="2143"/>
                </a:cubicBezTo>
                <a:cubicBezTo>
                  <a:pt x="2611" y="2158"/>
                  <a:pt x="2611" y="2160"/>
                  <a:pt x="2611" y="2168"/>
                </a:cubicBezTo>
                <a:cubicBezTo>
                  <a:pt x="2608" y="2088"/>
                  <a:pt x="2610" y="2009"/>
                  <a:pt x="2607" y="1929"/>
                </a:cubicBezTo>
                <a:cubicBezTo>
                  <a:pt x="2599" y="1743"/>
                  <a:pt x="2584" y="1556"/>
                  <a:pt x="2569" y="1370"/>
                </a:cubicBezTo>
                <a:cubicBezTo>
                  <a:pt x="2556" y="1215"/>
                  <a:pt x="2543" y="1062"/>
                  <a:pt x="2513" y="909"/>
                </a:cubicBezTo>
                <a:cubicBezTo>
                  <a:pt x="2509" y="891"/>
                  <a:pt x="2504" y="872"/>
                  <a:pt x="2500" y="854"/>
                </a:cubicBezTo>
                <a:cubicBezTo>
                  <a:pt x="2495" y="860"/>
                  <a:pt x="2464" y="952"/>
                  <a:pt x="2458" y="1016"/>
                </a:cubicBezTo>
                <a:cubicBezTo>
                  <a:pt x="2438" y="1213"/>
                  <a:pt x="2438" y="1412"/>
                  <a:pt x="2424" y="1609"/>
                </a:cubicBezTo>
                <a:cubicBezTo>
                  <a:pt x="2410" y="1801"/>
                  <a:pt x="2391" y="1993"/>
                  <a:pt x="2381" y="2185"/>
                </a:cubicBezTo>
                <a:cubicBezTo>
                  <a:pt x="2378" y="2243"/>
                  <a:pt x="2376" y="2299"/>
                  <a:pt x="2372" y="2356"/>
                </a:cubicBezTo>
                <a:cubicBezTo>
                  <a:pt x="2388" y="2278"/>
                  <a:pt x="2406" y="2188"/>
                  <a:pt x="2415" y="2104"/>
                </a:cubicBezTo>
                <a:cubicBezTo>
                  <a:pt x="2441" y="1863"/>
                  <a:pt x="2468" y="1624"/>
                  <a:pt x="2492" y="1383"/>
                </a:cubicBezTo>
                <a:cubicBezTo>
                  <a:pt x="2513" y="1178"/>
                  <a:pt x="2528" y="974"/>
                  <a:pt x="2535" y="768"/>
                </a:cubicBezTo>
                <a:cubicBezTo>
                  <a:pt x="2537" y="717"/>
                  <a:pt x="2537" y="655"/>
                  <a:pt x="2526" y="743"/>
                </a:cubicBezTo>
                <a:cubicBezTo>
                  <a:pt x="2509" y="922"/>
                  <a:pt x="2506" y="1100"/>
                  <a:pt x="2500" y="1280"/>
                </a:cubicBezTo>
                <a:cubicBezTo>
                  <a:pt x="2493" y="1494"/>
                  <a:pt x="2493" y="1707"/>
                  <a:pt x="2500" y="1921"/>
                </a:cubicBezTo>
                <a:cubicBezTo>
                  <a:pt x="2503" y="2010"/>
                  <a:pt x="2513" y="2091"/>
                  <a:pt x="2530" y="2177"/>
                </a:cubicBezTo>
                <a:cubicBezTo>
                  <a:pt x="2561" y="2102"/>
                  <a:pt x="2577" y="2030"/>
                  <a:pt x="2590" y="1946"/>
                </a:cubicBezTo>
                <a:cubicBezTo>
                  <a:pt x="2625" y="1720"/>
                  <a:pt x="2642" y="1492"/>
                  <a:pt x="2654" y="1263"/>
                </a:cubicBezTo>
                <a:cubicBezTo>
                  <a:pt x="2658" y="1191"/>
                  <a:pt x="2659" y="1122"/>
                  <a:pt x="2654" y="1050"/>
                </a:cubicBezTo>
                <a:cubicBezTo>
                  <a:pt x="2644" y="1156"/>
                  <a:pt x="2633" y="1263"/>
                  <a:pt x="2628" y="1370"/>
                </a:cubicBezTo>
                <a:cubicBezTo>
                  <a:pt x="2616" y="1633"/>
                  <a:pt x="2623" y="1897"/>
                  <a:pt x="2628" y="2160"/>
                </a:cubicBezTo>
                <a:cubicBezTo>
                  <a:pt x="2629" y="2210"/>
                  <a:pt x="2648" y="2282"/>
                  <a:pt x="2646" y="2189"/>
                </a:cubicBezTo>
                <a:cubicBezTo>
                  <a:pt x="2643" y="2161"/>
                  <a:pt x="2640" y="2132"/>
                  <a:pt x="2637" y="2104"/>
                </a:cubicBezTo>
              </a:path>
              <a:path w="2659" h="3573">
                <a:moveTo>
                  <a:pt x="1242" y="918"/>
                </a:moveTo>
                <a:cubicBezTo>
                  <a:pt x="1224" y="1060"/>
                  <a:pt x="1198" y="1202"/>
                  <a:pt x="1186" y="1345"/>
                </a:cubicBezTo>
                <a:cubicBezTo>
                  <a:pt x="1178" y="1445"/>
                  <a:pt x="1172" y="1556"/>
                  <a:pt x="1186" y="1656"/>
                </a:cubicBezTo>
                <a:cubicBezTo>
                  <a:pt x="1190" y="1688"/>
                  <a:pt x="1202" y="1706"/>
                  <a:pt x="1212" y="1729"/>
                </a:cubicBezTo>
                <a:cubicBezTo>
                  <a:pt x="1234" y="1665"/>
                  <a:pt x="1247" y="1609"/>
                  <a:pt x="1254" y="1541"/>
                </a:cubicBezTo>
                <a:cubicBezTo>
                  <a:pt x="1270" y="1396"/>
                  <a:pt x="1270" y="1247"/>
                  <a:pt x="1271" y="1101"/>
                </a:cubicBezTo>
                <a:cubicBezTo>
                  <a:pt x="1272" y="991"/>
                  <a:pt x="1271" y="876"/>
                  <a:pt x="1254" y="768"/>
                </a:cubicBezTo>
                <a:cubicBezTo>
                  <a:pt x="1251" y="757"/>
                  <a:pt x="1249" y="745"/>
                  <a:pt x="1246" y="734"/>
                </a:cubicBezTo>
                <a:cubicBezTo>
                  <a:pt x="1238" y="793"/>
                  <a:pt x="1238" y="872"/>
                  <a:pt x="1242" y="939"/>
                </a:cubicBezTo>
                <a:cubicBezTo>
                  <a:pt x="1253" y="1108"/>
                  <a:pt x="1262" y="1278"/>
                  <a:pt x="1276" y="1447"/>
                </a:cubicBezTo>
                <a:cubicBezTo>
                  <a:pt x="1287" y="1580"/>
                  <a:pt x="1312" y="1711"/>
                  <a:pt x="1327" y="1844"/>
                </a:cubicBezTo>
                <a:cubicBezTo>
                  <a:pt x="1330" y="1888"/>
                  <a:pt x="1328" y="1898"/>
                  <a:pt x="1344" y="1921"/>
                </a:cubicBezTo>
                <a:cubicBezTo>
                  <a:pt x="1352" y="1868"/>
                  <a:pt x="1359" y="1812"/>
                  <a:pt x="1361" y="1758"/>
                </a:cubicBezTo>
                <a:cubicBezTo>
                  <a:pt x="1369" y="1542"/>
                  <a:pt x="1372" y="1317"/>
                  <a:pt x="1352" y="1101"/>
                </a:cubicBezTo>
                <a:cubicBezTo>
                  <a:pt x="1347" y="1047"/>
                  <a:pt x="1333" y="947"/>
                  <a:pt x="1318" y="1067"/>
                </a:cubicBezTo>
                <a:cubicBezTo>
                  <a:pt x="1310" y="1173"/>
                  <a:pt x="1307" y="1210"/>
                  <a:pt x="1288" y="1280"/>
                </a:cubicBezTo>
              </a:path>
              <a:path w="2659" h="3573">
                <a:moveTo>
                  <a:pt x="136" y="0"/>
                </a:moveTo>
                <a:cubicBezTo>
                  <a:pt x="138" y="44"/>
                  <a:pt x="137" y="84"/>
                  <a:pt x="136" y="128"/>
                </a:cubicBezTo>
                <a:cubicBezTo>
                  <a:pt x="130" y="509"/>
                  <a:pt x="156" y="888"/>
                  <a:pt x="183" y="1268"/>
                </a:cubicBezTo>
                <a:cubicBezTo>
                  <a:pt x="215" y="1720"/>
                  <a:pt x="269" y="2170"/>
                  <a:pt x="316" y="2620"/>
                </a:cubicBezTo>
                <a:cubicBezTo>
                  <a:pt x="330" y="2753"/>
                  <a:pt x="340" y="2890"/>
                  <a:pt x="362" y="3022"/>
                </a:cubicBezTo>
                <a:cubicBezTo>
                  <a:pt x="371" y="3063"/>
                  <a:pt x="374" y="3076"/>
                  <a:pt x="380" y="3103"/>
                </a:cubicBezTo>
                <a:cubicBezTo>
                  <a:pt x="372" y="3058"/>
                  <a:pt x="369" y="3028"/>
                  <a:pt x="362" y="2983"/>
                </a:cubicBezTo>
                <a:cubicBezTo>
                  <a:pt x="314" y="2678"/>
                  <a:pt x="290" y="2368"/>
                  <a:pt x="260" y="2061"/>
                </a:cubicBezTo>
                <a:cubicBezTo>
                  <a:pt x="224" y="1685"/>
                  <a:pt x="197" y="1308"/>
                  <a:pt x="162" y="931"/>
                </a:cubicBezTo>
                <a:cubicBezTo>
                  <a:pt x="140" y="688"/>
                  <a:pt x="120" y="444"/>
                  <a:pt x="98" y="201"/>
                </a:cubicBezTo>
                <a:cubicBezTo>
                  <a:pt x="96" y="264"/>
                  <a:pt x="94" y="309"/>
                  <a:pt x="94" y="372"/>
                </a:cubicBezTo>
                <a:cubicBezTo>
                  <a:pt x="94" y="613"/>
                  <a:pt x="108" y="852"/>
                  <a:pt x="115" y="1093"/>
                </a:cubicBezTo>
                <a:cubicBezTo>
                  <a:pt x="126" y="1456"/>
                  <a:pt x="133" y="1818"/>
                  <a:pt x="149" y="2181"/>
                </a:cubicBezTo>
                <a:cubicBezTo>
                  <a:pt x="163" y="2501"/>
                  <a:pt x="185" y="2821"/>
                  <a:pt x="205" y="3141"/>
                </a:cubicBezTo>
                <a:cubicBezTo>
                  <a:pt x="209" y="3198"/>
                  <a:pt x="244" y="3596"/>
                  <a:pt x="239" y="3538"/>
                </a:cubicBezTo>
                <a:cubicBezTo>
                  <a:pt x="236" y="3510"/>
                  <a:pt x="233" y="3481"/>
                  <a:pt x="230" y="3453"/>
                </a:cubicBezTo>
                <a:cubicBezTo>
                  <a:pt x="214" y="3090"/>
                  <a:pt x="179" y="2727"/>
                  <a:pt x="158" y="2364"/>
                </a:cubicBezTo>
                <a:cubicBezTo>
                  <a:pt x="119" y="1690"/>
                  <a:pt x="73" y="1016"/>
                  <a:pt x="25" y="342"/>
                </a:cubicBezTo>
                <a:cubicBezTo>
                  <a:pt x="19" y="256"/>
                  <a:pt x="10" y="175"/>
                  <a:pt x="0" y="90"/>
                </a:cubicBezTo>
                <a:cubicBezTo>
                  <a:pt x="8" y="209"/>
                  <a:pt x="12" y="328"/>
                  <a:pt x="17" y="448"/>
                </a:cubicBezTo>
                <a:cubicBezTo>
                  <a:pt x="32" y="805"/>
                  <a:pt x="45" y="1162"/>
                  <a:pt x="64" y="1519"/>
                </a:cubicBezTo>
                <a:cubicBezTo>
                  <a:pt x="83" y="1890"/>
                  <a:pt x="104" y="2262"/>
                  <a:pt x="128" y="2633"/>
                </a:cubicBezTo>
                <a:cubicBezTo>
                  <a:pt x="137" y="2772"/>
                  <a:pt x="169" y="2926"/>
                  <a:pt x="170" y="3064"/>
                </a:cubicBezTo>
                <a:cubicBezTo>
                  <a:pt x="166" y="3058"/>
                  <a:pt x="162" y="3053"/>
                  <a:pt x="158" y="304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5" name="Freeform 21"/>
          <p:cNvSpPr/>
          <p:nvPr/>
        </p:nvSpPr>
        <p:spPr>
          <a:xfrm>
            <a:off x="2062080" y="1754280"/>
            <a:ext cx="960480" cy="4073400"/>
          </a:xfrm>
          <a:custGeom>
            <a:avLst/>
            <a:gdLst/>
            <a:ahLst/>
            <a:rect l="l" t="t" r="r" b="b"/>
            <a:pathLst>
              <a:path w="2668" h="11314">
                <a:moveTo>
                  <a:pt x="2471" y="1067"/>
                </a:moveTo>
                <a:cubicBezTo>
                  <a:pt x="2461" y="1282"/>
                  <a:pt x="2458" y="1496"/>
                  <a:pt x="2458" y="1711"/>
                </a:cubicBezTo>
                <a:cubicBezTo>
                  <a:pt x="2458" y="2555"/>
                  <a:pt x="2507" y="3400"/>
                  <a:pt x="2548" y="4242"/>
                </a:cubicBezTo>
                <a:cubicBezTo>
                  <a:pt x="2580" y="4902"/>
                  <a:pt x="2605" y="5562"/>
                  <a:pt x="2633" y="6222"/>
                </a:cubicBezTo>
                <a:cubicBezTo>
                  <a:pt x="2647" y="6548"/>
                  <a:pt x="2664" y="6873"/>
                  <a:pt x="2667" y="7199"/>
                </a:cubicBezTo>
                <a:cubicBezTo>
                  <a:pt x="2668" y="7305"/>
                  <a:pt x="2669" y="7540"/>
                  <a:pt x="2659" y="7600"/>
                </a:cubicBezTo>
                <a:cubicBezTo>
                  <a:pt x="2657" y="7584"/>
                  <a:pt x="2656" y="7569"/>
                  <a:pt x="2654" y="7553"/>
                </a:cubicBezTo>
                <a:cubicBezTo>
                  <a:pt x="2641" y="7344"/>
                  <a:pt x="2633" y="7134"/>
                  <a:pt x="2612" y="6926"/>
                </a:cubicBezTo>
                <a:cubicBezTo>
                  <a:pt x="2566" y="6461"/>
                  <a:pt x="2531" y="5995"/>
                  <a:pt x="2488" y="5530"/>
                </a:cubicBezTo>
                <a:cubicBezTo>
                  <a:pt x="2356" y="4114"/>
                  <a:pt x="2369" y="2713"/>
                  <a:pt x="2322" y="1297"/>
                </a:cubicBezTo>
                <a:cubicBezTo>
                  <a:pt x="2319" y="1281"/>
                  <a:pt x="2316" y="1266"/>
                  <a:pt x="2313" y="1250"/>
                </a:cubicBezTo>
                <a:cubicBezTo>
                  <a:pt x="2300" y="1306"/>
                  <a:pt x="2274" y="1414"/>
                  <a:pt x="2266" y="1485"/>
                </a:cubicBezTo>
                <a:cubicBezTo>
                  <a:pt x="2093" y="2999"/>
                  <a:pt x="2304" y="4569"/>
                  <a:pt x="2432" y="6077"/>
                </a:cubicBezTo>
                <a:cubicBezTo>
                  <a:pt x="2464" y="6451"/>
                  <a:pt x="2495" y="6825"/>
                  <a:pt x="2522" y="7199"/>
                </a:cubicBezTo>
                <a:cubicBezTo>
                  <a:pt x="2526" y="7252"/>
                  <a:pt x="2531" y="7304"/>
                  <a:pt x="2535" y="7357"/>
                </a:cubicBezTo>
                <a:cubicBezTo>
                  <a:pt x="2532" y="7426"/>
                  <a:pt x="2552" y="7619"/>
                  <a:pt x="2522" y="7417"/>
                </a:cubicBezTo>
                <a:cubicBezTo>
                  <a:pt x="2471" y="7079"/>
                  <a:pt x="2479" y="6721"/>
                  <a:pt x="2458" y="6380"/>
                </a:cubicBezTo>
                <a:cubicBezTo>
                  <a:pt x="2355" y="4678"/>
                  <a:pt x="2313" y="2976"/>
                  <a:pt x="2313" y="1272"/>
                </a:cubicBezTo>
                <a:cubicBezTo>
                  <a:pt x="2296" y="1635"/>
                  <a:pt x="2297" y="2000"/>
                  <a:pt x="2296" y="2364"/>
                </a:cubicBezTo>
                <a:cubicBezTo>
                  <a:pt x="2293" y="3237"/>
                  <a:pt x="2320" y="4111"/>
                  <a:pt x="2347" y="4984"/>
                </a:cubicBezTo>
                <a:cubicBezTo>
                  <a:pt x="2363" y="5499"/>
                  <a:pt x="2393" y="6014"/>
                  <a:pt x="2407" y="6529"/>
                </a:cubicBezTo>
                <a:cubicBezTo>
                  <a:pt x="2415" y="6830"/>
                  <a:pt x="2432" y="7125"/>
                  <a:pt x="2403" y="7425"/>
                </a:cubicBezTo>
              </a:path>
              <a:path w="2668" h="11314">
                <a:moveTo>
                  <a:pt x="461" y="0"/>
                </a:moveTo>
                <a:cubicBezTo>
                  <a:pt x="462" y="185"/>
                  <a:pt x="461" y="370"/>
                  <a:pt x="457" y="555"/>
                </a:cubicBezTo>
                <a:cubicBezTo>
                  <a:pt x="413" y="2779"/>
                  <a:pt x="509" y="4989"/>
                  <a:pt x="649" y="7208"/>
                </a:cubicBezTo>
                <a:cubicBezTo>
                  <a:pt x="714" y="8235"/>
                  <a:pt x="809" y="9268"/>
                  <a:pt x="811" y="10297"/>
                </a:cubicBezTo>
                <a:cubicBezTo>
                  <a:pt x="811" y="10404"/>
                  <a:pt x="807" y="10510"/>
                  <a:pt x="807" y="10617"/>
                </a:cubicBezTo>
                <a:cubicBezTo>
                  <a:pt x="790" y="10096"/>
                  <a:pt x="760" y="9576"/>
                  <a:pt x="734" y="9055"/>
                </a:cubicBezTo>
                <a:cubicBezTo>
                  <a:pt x="605" y="6470"/>
                  <a:pt x="631" y="3843"/>
                  <a:pt x="316" y="1272"/>
                </a:cubicBezTo>
                <a:cubicBezTo>
                  <a:pt x="279" y="972"/>
                  <a:pt x="251" y="672"/>
                  <a:pt x="230" y="371"/>
                </a:cubicBezTo>
                <a:cubicBezTo>
                  <a:pt x="230" y="365"/>
                  <a:pt x="230" y="360"/>
                  <a:pt x="230" y="354"/>
                </a:cubicBezTo>
                <a:cubicBezTo>
                  <a:pt x="221" y="463"/>
                  <a:pt x="208" y="573"/>
                  <a:pt x="201" y="683"/>
                </a:cubicBezTo>
                <a:cubicBezTo>
                  <a:pt x="167" y="1195"/>
                  <a:pt x="151" y="1710"/>
                  <a:pt x="149" y="2223"/>
                </a:cubicBezTo>
                <a:cubicBezTo>
                  <a:pt x="142" y="3832"/>
                  <a:pt x="224" y="5440"/>
                  <a:pt x="316" y="7045"/>
                </a:cubicBezTo>
                <a:cubicBezTo>
                  <a:pt x="372" y="8031"/>
                  <a:pt x="457" y="9014"/>
                  <a:pt x="538" y="9998"/>
                </a:cubicBezTo>
                <a:cubicBezTo>
                  <a:pt x="531" y="9934"/>
                  <a:pt x="537" y="9973"/>
                  <a:pt x="529" y="9909"/>
                </a:cubicBezTo>
                <a:cubicBezTo>
                  <a:pt x="315" y="8178"/>
                  <a:pt x="79" y="6457"/>
                  <a:pt x="21" y="4711"/>
                </a:cubicBezTo>
                <a:cubicBezTo>
                  <a:pt x="-12" y="3707"/>
                  <a:pt x="17" y="2706"/>
                  <a:pt x="17" y="1703"/>
                </a:cubicBezTo>
                <a:cubicBezTo>
                  <a:pt x="17" y="1167"/>
                  <a:pt x="22" y="628"/>
                  <a:pt x="81" y="98"/>
                </a:cubicBezTo>
                <a:cubicBezTo>
                  <a:pt x="89" y="127"/>
                  <a:pt x="110" y="78"/>
                  <a:pt x="115" y="107"/>
                </a:cubicBezTo>
                <a:cubicBezTo>
                  <a:pt x="139" y="239"/>
                  <a:pt x="144" y="370"/>
                  <a:pt x="154" y="504"/>
                </a:cubicBezTo>
                <a:cubicBezTo>
                  <a:pt x="249" y="1830"/>
                  <a:pt x="251" y="3166"/>
                  <a:pt x="324" y="4494"/>
                </a:cubicBezTo>
                <a:cubicBezTo>
                  <a:pt x="356" y="5080"/>
                  <a:pt x="397" y="5666"/>
                  <a:pt x="431" y="6252"/>
                </a:cubicBezTo>
                <a:cubicBezTo>
                  <a:pt x="458" y="6709"/>
                  <a:pt x="478" y="7166"/>
                  <a:pt x="508" y="7622"/>
                </a:cubicBezTo>
                <a:cubicBezTo>
                  <a:pt x="580" y="8731"/>
                  <a:pt x="681" y="9852"/>
                  <a:pt x="640" y="10963"/>
                </a:cubicBezTo>
                <a:cubicBezTo>
                  <a:pt x="634" y="11043"/>
                  <a:pt x="621" y="11265"/>
                  <a:pt x="623" y="11185"/>
                </a:cubicBezTo>
                <a:cubicBezTo>
                  <a:pt x="625" y="11104"/>
                  <a:pt x="634" y="11023"/>
                  <a:pt x="636" y="10942"/>
                </a:cubicBezTo>
                <a:cubicBezTo>
                  <a:pt x="651" y="10434"/>
                  <a:pt x="616" y="9928"/>
                  <a:pt x="585" y="9422"/>
                </a:cubicBezTo>
                <a:cubicBezTo>
                  <a:pt x="649" y="9850"/>
                  <a:pt x="699" y="10280"/>
                  <a:pt x="738" y="10711"/>
                </a:cubicBezTo>
                <a:cubicBezTo>
                  <a:pt x="740" y="10737"/>
                  <a:pt x="756" y="10931"/>
                  <a:pt x="760" y="10899"/>
                </a:cubicBezTo>
                <a:cubicBezTo>
                  <a:pt x="773" y="10783"/>
                  <a:pt x="745" y="9819"/>
                  <a:pt x="755" y="9823"/>
                </a:cubicBezTo>
                <a:cubicBezTo>
                  <a:pt x="918" y="9883"/>
                  <a:pt x="882" y="10773"/>
                  <a:pt x="879" y="10937"/>
                </a:cubicBezTo>
                <a:cubicBezTo>
                  <a:pt x="878" y="10933"/>
                  <a:pt x="876" y="10928"/>
                  <a:pt x="875" y="10924"/>
                </a:cubicBezTo>
                <a:cubicBezTo>
                  <a:pt x="847" y="10485"/>
                  <a:pt x="381" y="9469"/>
                  <a:pt x="794" y="9619"/>
                </a:cubicBezTo>
                <a:cubicBezTo>
                  <a:pt x="827" y="9631"/>
                  <a:pt x="942" y="10097"/>
                  <a:pt x="964" y="10156"/>
                </a:cubicBezTo>
              </a:path>
              <a:path w="2668" h="11314">
                <a:moveTo>
                  <a:pt x="2415" y="725"/>
                </a:moveTo>
                <a:cubicBezTo>
                  <a:pt x="2412" y="743"/>
                  <a:pt x="2397" y="716"/>
                  <a:pt x="2394" y="734"/>
                </a:cubicBezTo>
                <a:cubicBezTo>
                  <a:pt x="2378" y="840"/>
                  <a:pt x="2383" y="956"/>
                  <a:pt x="2381" y="1063"/>
                </a:cubicBezTo>
                <a:cubicBezTo>
                  <a:pt x="2363" y="2154"/>
                  <a:pt x="2446" y="3250"/>
                  <a:pt x="2543" y="4336"/>
                </a:cubicBezTo>
                <a:cubicBezTo>
                  <a:pt x="2555" y="4475"/>
                  <a:pt x="2567" y="4615"/>
                  <a:pt x="2578" y="4754"/>
                </a:cubicBezTo>
                <a:cubicBezTo>
                  <a:pt x="2578" y="4758"/>
                  <a:pt x="2578" y="4763"/>
                  <a:pt x="2578" y="4767"/>
                </a:cubicBezTo>
                <a:cubicBezTo>
                  <a:pt x="2568" y="4569"/>
                  <a:pt x="2557" y="4371"/>
                  <a:pt x="2543" y="4173"/>
                </a:cubicBezTo>
                <a:cubicBezTo>
                  <a:pt x="2483" y="3334"/>
                  <a:pt x="2442" y="2497"/>
                  <a:pt x="2424" y="1656"/>
                </a:cubicBezTo>
                <a:cubicBezTo>
                  <a:pt x="2416" y="1299"/>
                  <a:pt x="2446" y="923"/>
                  <a:pt x="2403" y="568"/>
                </a:cubicBezTo>
                <a:cubicBezTo>
                  <a:pt x="2392" y="541"/>
                  <a:pt x="2388" y="539"/>
                  <a:pt x="2386" y="585"/>
                </a:cubicBezTo>
                <a:cubicBezTo>
                  <a:pt x="2351" y="1363"/>
                  <a:pt x="2348" y="2144"/>
                  <a:pt x="2356" y="2923"/>
                </a:cubicBezTo>
                <a:cubicBezTo>
                  <a:pt x="2362" y="3536"/>
                  <a:pt x="2367" y="4150"/>
                  <a:pt x="2390" y="4762"/>
                </a:cubicBezTo>
                <a:cubicBezTo>
                  <a:pt x="2408" y="5224"/>
                  <a:pt x="2424" y="5687"/>
                  <a:pt x="2458" y="6149"/>
                </a:cubicBezTo>
                <a:cubicBezTo>
                  <a:pt x="2476" y="6391"/>
                  <a:pt x="2491" y="6640"/>
                  <a:pt x="2535" y="6879"/>
                </a:cubicBezTo>
                <a:cubicBezTo>
                  <a:pt x="2545" y="6935"/>
                  <a:pt x="2558" y="6975"/>
                  <a:pt x="2569" y="7028"/>
                </a:cubicBezTo>
                <a:cubicBezTo>
                  <a:pt x="2574" y="6896"/>
                  <a:pt x="2573" y="6761"/>
                  <a:pt x="2565" y="6627"/>
                </a:cubicBezTo>
                <a:cubicBezTo>
                  <a:pt x="2541" y="6253"/>
                  <a:pt x="2500" y="5879"/>
                  <a:pt x="2471" y="5505"/>
                </a:cubicBezTo>
                <a:cubicBezTo>
                  <a:pt x="2415" y="4775"/>
                  <a:pt x="2345" y="4043"/>
                  <a:pt x="2339" y="3311"/>
                </a:cubicBezTo>
                <a:cubicBezTo>
                  <a:pt x="2430" y="4236"/>
                  <a:pt x="2454" y="5166"/>
                  <a:pt x="2492" y="6094"/>
                </a:cubicBezTo>
                <a:cubicBezTo>
                  <a:pt x="2505" y="6402"/>
                  <a:pt x="2520" y="6708"/>
                  <a:pt x="2522" y="7016"/>
                </a:cubicBezTo>
                <a:cubicBezTo>
                  <a:pt x="2523" y="7136"/>
                  <a:pt x="2517" y="7258"/>
                  <a:pt x="2526" y="7378"/>
                </a:cubicBezTo>
                <a:cubicBezTo>
                  <a:pt x="2527" y="7393"/>
                  <a:pt x="2524" y="7393"/>
                  <a:pt x="2526" y="7408"/>
                </a:cubicBezTo>
                <a:cubicBezTo>
                  <a:pt x="2529" y="7408"/>
                  <a:pt x="2532" y="7408"/>
                  <a:pt x="2535" y="7408"/>
                </a:cubicBezTo>
              </a:path>
              <a:path w="2668" h="11314">
                <a:moveTo>
                  <a:pt x="77" y="3640"/>
                </a:moveTo>
                <a:cubicBezTo>
                  <a:pt x="72" y="3667"/>
                  <a:pt x="54" y="3536"/>
                  <a:pt x="56" y="3563"/>
                </a:cubicBezTo>
                <a:cubicBezTo>
                  <a:pt x="76" y="3806"/>
                  <a:pt x="114" y="4052"/>
                  <a:pt x="149" y="4293"/>
                </a:cubicBezTo>
                <a:cubicBezTo>
                  <a:pt x="216" y="4752"/>
                  <a:pt x="275" y="5229"/>
                  <a:pt x="384" y="5680"/>
                </a:cubicBezTo>
                <a:cubicBezTo>
                  <a:pt x="400" y="5728"/>
                  <a:pt x="397" y="5735"/>
                  <a:pt x="414" y="5757"/>
                </a:cubicBezTo>
                <a:cubicBezTo>
                  <a:pt x="420" y="5613"/>
                  <a:pt x="433" y="5460"/>
                  <a:pt x="431" y="5313"/>
                </a:cubicBezTo>
                <a:cubicBezTo>
                  <a:pt x="420" y="4519"/>
                  <a:pt x="387" y="3716"/>
                  <a:pt x="307" y="2927"/>
                </a:cubicBezTo>
                <a:cubicBezTo>
                  <a:pt x="319" y="3118"/>
                  <a:pt x="332" y="3315"/>
                  <a:pt x="341" y="3508"/>
                </a:cubicBezTo>
                <a:cubicBezTo>
                  <a:pt x="406" y="4905"/>
                  <a:pt x="427" y="6318"/>
                  <a:pt x="538" y="7711"/>
                </a:cubicBezTo>
                <a:cubicBezTo>
                  <a:pt x="545" y="7804"/>
                  <a:pt x="554" y="7893"/>
                  <a:pt x="572" y="7984"/>
                </a:cubicBezTo>
                <a:cubicBezTo>
                  <a:pt x="575" y="7983"/>
                  <a:pt x="577" y="7981"/>
                  <a:pt x="580" y="7980"/>
                </a:cubicBezTo>
                <a:cubicBezTo>
                  <a:pt x="593" y="7763"/>
                  <a:pt x="598" y="7550"/>
                  <a:pt x="589" y="7331"/>
                </a:cubicBezTo>
                <a:cubicBezTo>
                  <a:pt x="577" y="7050"/>
                  <a:pt x="548" y="6745"/>
                  <a:pt x="504" y="6486"/>
                </a:cubicBezTo>
                <a:cubicBezTo>
                  <a:pt x="509" y="6696"/>
                  <a:pt x="519" y="6904"/>
                  <a:pt x="533" y="7114"/>
                </a:cubicBezTo>
                <a:cubicBezTo>
                  <a:pt x="612" y="8265"/>
                  <a:pt x="748" y="9411"/>
                  <a:pt x="824" y="10562"/>
                </a:cubicBezTo>
                <a:cubicBezTo>
                  <a:pt x="776" y="10220"/>
                  <a:pt x="721" y="9879"/>
                  <a:pt x="670" y="9538"/>
                </a:cubicBezTo>
                <a:cubicBezTo>
                  <a:pt x="634" y="9300"/>
                  <a:pt x="607" y="9064"/>
                  <a:pt x="593" y="8825"/>
                </a:cubicBezTo>
                <a:cubicBezTo>
                  <a:pt x="602" y="8865"/>
                  <a:pt x="642" y="9027"/>
                  <a:pt x="653" y="9098"/>
                </a:cubicBezTo>
                <a:cubicBezTo>
                  <a:pt x="754" y="9754"/>
                  <a:pt x="744" y="10429"/>
                  <a:pt x="747" y="11091"/>
                </a:cubicBezTo>
                <a:cubicBezTo>
                  <a:pt x="747" y="11042"/>
                  <a:pt x="752" y="10918"/>
                  <a:pt x="751" y="10856"/>
                </a:cubicBezTo>
                <a:cubicBezTo>
                  <a:pt x="745" y="10306"/>
                  <a:pt x="684" y="9745"/>
                  <a:pt x="585" y="9209"/>
                </a:cubicBezTo>
                <a:cubicBezTo>
                  <a:pt x="590" y="9344"/>
                  <a:pt x="592" y="9483"/>
                  <a:pt x="602" y="9619"/>
                </a:cubicBezTo>
                <a:cubicBezTo>
                  <a:pt x="644" y="10185"/>
                  <a:pt x="699" y="10754"/>
                  <a:pt x="790" y="11313"/>
                </a:cubicBezTo>
                <a:cubicBezTo>
                  <a:pt x="800" y="11241"/>
                  <a:pt x="823" y="11132"/>
                  <a:pt x="828" y="11048"/>
                </a:cubicBezTo>
                <a:cubicBezTo>
                  <a:pt x="855" y="10623"/>
                  <a:pt x="815" y="10192"/>
                  <a:pt x="790" y="9768"/>
                </a:cubicBezTo>
                <a:cubicBezTo>
                  <a:pt x="837" y="10134"/>
                  <a:pt x="729" y="11129"/>
                  <a:pt x="952" y="10835"/>
                </a:cubicBezTo>
                <a:cubicBezTo>
                  <a:pt x="964" y="10766"/>
                  <a:pt x="965" y="10728"/>
                  <a:pt x="952" y="1067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6" name="Freeform 22"/>
          <p:cNvSpPr/>
          <p:nvPr/>
        </p:nvSpPr>
        <p:spPr>
          <a:xfrm>
            <a:off x="4686480" y="2089080"/>
            <a:ext cx="1331640" cy="4246560"/>
          </a:xfrm>
          <a:custGeom>
            <a:avLst/>
            <a:gdLst/>
            <a:ahLst/>
            <a:rect l="l" t="t" r="r" b="b"/>
            <a:pathLst>
              <a:path w="3701" h="11796">
                <a:moveTo>
                  <a:pt x="1126" y="7852"/>
                </a:moveTo>
                <a:cubicBezTo>
                  <a:pt x="1158" y="7849"/>
                  <a:pt x="1151" y="7884"/>
                  <a:pt x="1178" y="7810"/>
                </a:cubicBezTo>
                <a:cubicBezTo>
                  <a:pt x="1214" y="7711"/>
                  <a:pt x="1229" y="7601"/>
                  <a:pt x="1250" y="7498"/>
                </a:cubicBezTo>
                <a:cubicBezTo>
                  <a:pt x="1285" y="7327"/>
                  <a:pt x="1304" y="7151"/>
                  <a:pt x="1348" y="6982"/>
                </a:cubicBezTo>
                <a:cubicBezTo>
                  <a:pt x="1358" y="7021"/>
                  <a:pt x="1361" y="7087"/>
                  <a:pt x="1361" y="7140"/>
                </a:cubicBezTo>
                <a:cubicBezTo>
                  <a:pt x="1361" y="7272"/>
                  <a:pt x="1354" y="7404"/>
                  <a:pt x="1348" y="7536"/>
                </a:cubicBezTo>
                <a:cubicBezTo>
                  <a:pt x="1344" y="7626"/>
                  <a:pt x="1336" y="7715"/>
                  <a:pt x="1335" y="7805"/>
                </a:cubicBezTo>
                <a:cubicBezTo>
                  <a:pt x="1335" y="7814"/>
                  <a:pt x="1335" y="7822"/>
                  <a:pt x="1335" y="7831"/>
                </a:cubicBezTo>
                <a:cubicBezTo>
                  <a:pt x="1345" y="7800"/>
                  <a:pt x="1359" y="7745"/>
                  <a:pt x="1365" y="7707"/>
                </a:cubicBezTo>
                <a:cubicBezTo>
                  <a:pt x="1384" y="7577"/>
                  <a:pt x="1396" y="7446"/>
                  <a:pt x="1408" y="7315"/>
                </a:cubicBezTo>
                <a:cubicBezTo>
                  <a:pt x="1419" y="7195"/>
                  <a:pt x="1426" y="7076"/>
                  <a:pt x="1434" y="6956"/>
                </a:cubicBezTo>
                <a:cubicBezTo>
                  <a:pt x="1440" y="6873"/>
                  <a:pt x="1438" y="6911"/>
                  <a:pt x="1434" y="6965"/>
                </a:cubicBezTo>
                <a:cubicBezTo>
                  <a:pt x="1432" y="7096"/>
                  <a:pt x="1429" y="7226"/>
                  <a:pt x="1429" y="7357"/>
                </a:cubicBezTo>
                <a:cubicBezTo>
                  <a:pt x="1429" y="7565"/>
                  <a:pt x="1352" y="8171"/>
                  <a:pt x="1434" y="7980"/>
                </a:cubicBezTo>
                <a:cubicBezTo>
                  <a:pt x="1434" y="7960"/>
                  <a:pt x="1434" y="7949"/>
                  <a:pt x="1434" y="7933"/>
                </a:cubicBezTo>
                <a:cubicBezTo>
                  <a:pt x="1434" y="7765"/>
                  <a:pt x="1430" y="7597"/>
                  <a:pt x="1412" y="7430"/>
                </a:cubicBezTo>
                <a:cubicBezTo>
                  <a:pt x="1403" y="7348"/>
                  <a:pt x="1401" y="7243"/>
                  <a:pt x="1370" y="7165"/>
                </a:cubicBezTo>
                <a:cubicBezTo>
                  <a:pt x="1367" y="7162"/>
                  <a:pt x="1364" y="7160"/>
                  <a:pt x="1361" y="7157"/>
                </a:cubicBezTo>
                <a:cubicBezTo>
                  <a:pt x="1342" y="7242"/>
                  <a:pt x="1336" y="7330"/>
                  <a:pt x="1331" y="7417"/>
                </a:cubicBezTo>
                <a:cubicBezTo>
                  <a:pt x="1322" y="7576"/>
                  <a:pt x="1323" y="7736"/>
                  <a:pt x="1323" y="7895"/>
                </a:cubicBezTo>
                <a:cubicBezTo>
                  <a:pt x="1323" y="8002"/>
                  <a:pt x="1327" y="8108"/>
                  <a:pt x="1344" y="8211"/>
                </a:cubicBezTo>
                <a:cubicBezTo>
                  <a:pt x="1368" y="8151"/>
                  <a:pt x="1385" y="8090"/>
                  <a:pt x="1395" y="8023"/>
                </a:cubicBezTo>
                <a:cubicBezTo>
                  <a:pt x="1421" y="7859"/>
                  <a:pt x="1440" y="7694"/>
                  <a:pt x="1451" y="7528"/>
                </a:cubicBezTo>
                <a:cubicBezTo>
                  <a:pt x="1458" y="7417"/>
                  <a:pt x="1464" y="7084"/>
                  <a:pt x="1464" y="7195"/>
                </a:cubicBezTo>
                <a:cubicBezTo>
                  <a:pt x="1464" y="7299"/>
                  <a:pt x="1460" y="7397"/>
                  <a:pt x="1464" y="7502"/>
                </a:cubicBezTo>
              </a:path>
              <a:path w="3701" h="11796">
                <a:moveTo>
                  <a:pt x="3333" y="10592"/>
                </a:moveTo>
                <a:cubicBezTo>
                  <a:pt x="3342" y="10758"/>
                  <a:pt x="3348" y="10925"/>
                  <a:pt x="3354" y="11091"/>
                </a:cubicBezTo>
                <a:cubicBezTo>
                  <a:pt x="3359" y="11228"/>
                  <a:pt x="3360" y="11364"/>
                  <a:pt x="3367" y="11501"/>
                </a:cubicBezTo>
                <a:cubicBezTo>
                  <a:pt x="3369" y="11538"/>
                  <a:pt x="3372" y="11575"/>
                  <a:pt x="3375" y="11612"/>
                </a:cubicBezTo>
                <a:cubicBezTo>
                  <a:pt x="3385" y="11561"/>
                  <a:pt x="3389" y="11504"/>
                  <a:pt x="3392" y="11450"/>
                </a:cubicBezTo>
                <a:cubicBezTo>
                  <a:pt x="3401" y="11283"/>
                  <a:pt x="3401" y="11117"/>
                  <a:pt x="3397" y="10950"/>
                </a:cubicBezTo>
                <a:cubicBezTo>
                  <a:pt x="3394" y="10807"/>
                  <a:pt x="3401" y="10658"/>
                  <a:pt x="3384" y="10515"/>
                </a:cubicBezTo>
                <a:cubicBezTo>
                  <a:pt x="3381" y="10502"/>
                  <a:pt x="3378" y="10490"/>
                  <a:pt x="3375" y="10477"/>
                </a:cubicBezTo>
                <a:cubicBezTo>
                  <a:pt x="3383" y="10536"/>
                  <a:pt x="3384" y="10619"/>
                  <a:pt x="3384" y="10686"/>
                </a:cubicBezTo>
                <a:cubicBezTo>
                  <a:pt x="3384" y="10932"/>
                  <a:pt x="3381" y="11178"/>
                  <a:pt x="3380" y="11424"/>
                </a:cubicBezTo>
                <a:cubicBezTo>
                  <a:pt x="3380" y="11455"/>
                  <a:pt x="3355" y="11656"/>
                  <a:pt x="3384" y="11680"/>
                </a:cubicBezTo>
                <a:cubicBezTo>
                  <a:pt x="3392" y="11672"/>
                  <a:pt x="3396" y="11665"/>
                  <a:pt x="3397" y="11654"/>
                </a:cubicBezTo>
                <a:cubicBezTo>
                  <a:pt x="3423" y="11484"/>
                  <a:pt x="3440" y="11313"/>
                  <a:pt x="3456" y="11142"/>
                </a:cubicBezTo>
                <a:cubicBezTo>
                  <a:pt x="3464" y="11055"/>
                  <a:pt x="3452" y="10936"/>
                  <a:pt x="3482" y="10852"/>
                </a:cubicBezTo>
                <a:cubicBezTo>
                  <a:pt x="3485" y="10852"/>
                  <a:pt x="3488" y="10852"/>
                  <a:pt x="3491" y="10852"/>
                </a:cubicBezTo>
                <a:cubicBezTo>
                  <a:pt x="3509" y="10951"/>
                  <a:pt x="3524" y="11051"/>
                  <a:pt x="3537" y="11151"/>
                </a:cubicBezTo>
                <a:cubicBezTo>
                  <a:pt x="3555" y="11294"/>
                  <a:pt x="3578" y="11438"/>
                  <a:pt x="3593" y="11582"/>
                </a:cubicBezTo>
                <a:cubicBezTo>
                  <a:pt x="3598" y="11636"/>
                  <a:pt x="3605" y="11686"/>
                  <a:pt x="3614" y="11740"/>
                </a:cubicBezTo>
                <a:cubicBezTo>
                  <a:pt x="3633" y="11704"/>
                  <a:pt x="3649" y="11629"/>
                  <a:pt x="3653" y="11569"/>
                </a:cubicBezTo>
                <a:cubicBezTo>
                  <a:pt x="3667" y="11369"/>
                  <a:pt x="3665" y="11168"/>
                  <a:pt x="3665" y="10967"/>
                </a:cubicBezTo>
                <a:cubicBezTo>
                  <a:pt x="3665" y="10738"/>
                  <a:pt x="3653" y="10509"/>
                  <a:pt x="3653" y="10280"/>
                </a:cubicBezTo>
                <a:cubicBezTo>
                  <a:pt x="3666" y="10372"/>
                  <a:pt x="3676" y="10465"/>
                  <a:pt x="3683" y="10558"/>
                </a:cubicBezTo>
                <a:cubicBezTo>
                  <a:pt x="3696" y="10737"/>
                  <a:pt x="3699" y="10916"/>
                  <a:pt x="3700" y="11095"/>
                </a:cubicBezTo>
                <a:cubicBezTo>
                  <a:pt x="3701" y="11217"/>
                  <a:pt x="3683" y="11332"/>
                  <a:pt x="3665" y="11450"/>
                </a:cubicBezTo>
                <a:cubicBezTo>
                  <a:pt x="3664" y="11466"/>
                  <a:pt x="3662" y="11481"/>
                  <a:pt x="3661" y="11497"/>
                </a:cubicBezTo>
                <a:cubicBezTo>
                  <a:pt x="3629" y="11504"/>
                  <a:pt x="3637" y="11542"/>
                  <a:pt x="3610" y="11467"/>
                </a:cubicBezTo>
                <a:cubicBezTo>
                  <a:pt x="3578" y="11380"/>
                  <a:pt x="3557" y="11289"/>
                  <a:pt x="3525" y="11202"/>
                </a:cubicBezTo>
                <a:cubicBezTo>
                  <a:pt x="3507" y="11152"/>
                  <a:pt x="3482" y="11032"/>
                  <a:pt x="3427" y="11006"/>
                </a:cubicBezTo>
                <a:cubicBezTo>
                  <a:pt x="3388" y="10988"/>
                  <a:pt x="3368" y="11256"/>
                  <a:pt x="3367" y="11262"/>
                </a:cubicBezTo>
                <a:cubicBezTo>
                  <a:pt x="3348" y="11438"/>
                  <a:pt x="3341" y="11610"/>
                  <a:pt x="3341" y="11787"/>
                </a:cubicBezTo>
                <a:cubicBezTo>
                  <a:pt x="3349" y="11767"/>
                  <a:pt x="3386" y="11626"/>
                  <a:pt x="3392" y="11578"/>
                </a:cubicBezTo>
                <a:cubicBezTo>
                  <a:pt x="3395" y="11532"/>
                  <a:pt x="3398" y="11487"/>
                  <a:pt x="3401" y="11441"/>
                </a:cubicBezTo>
              </a:path>
              <a:path w="3701" h="11796">
                <a:moveTo>
                  <a:pt x="1515" y="94"/>
                </a:moveTo>
                <a:cubicBezTo>
                  <a:pt x="1521" y="231"/>
                  <a:pt x="1523" y="367"/>
                  <a:pt x="1532" y="504"/>
                </a:cubicBezTo>
                <a:cubicBezTo>
                  <a:pt x="1542" y="666"/>
                  <a:pt x="1556" y="830"/>
                  <a:pt x="1583" y="990"/>
                </a:cubicBezTo>
                <a:cubicBezTo>
                  <a:pt x="1597" y="1071"/>
                  <a:pt x="1643" y="1189"/>
                  <a:pt x="1660" y="1246"/>
                </a:cubicBezTo>
                <a:cubicBezTo>
                  <a:pt x="1659" y="1176"/>
                  <a:pt x="1663" y="1101"/>
                  <a:pt x="1660" y="1029"/>
                </a:cubicBezTo>
                <a:cubicBezTo>
                  <a:pt x="1654" y="862"/>
                  <a:pt x="1649" y="696"/>
                  <a:pt x="1634" y="529"/>
                </a:cubicBezTo>
                <a:cubicBezTo>
                  <a:pt x="1618" y="350"/>
                  <a:pt x="1592" y="176"/>
                  <a:pt x="1562" y="0"/>
                </a:cubicBezTo>
                <a:cubicBezTo>
                  <a:pt x="1555" y="64"/>
                  <a:pt x="1531" y="151"/>
                  <a:pt x="1528" y="226"/>
                </a:cubicBezTo>
                <a:cubicBezTo>
                  <a:pt x="1507" y="734"/>
                  <a:pt x="1507" y="1272"/>
                  <a:pt x="1583" y="1775"/>
                </a:cubicBezTo>
                <a:cubicBezTo>
                  <a:pt x="1587" y="1779"/>
                  <a:pt x="1592" y="1784"/>
                  <a:pt x="1596" y="1788"/>
                </a:cubicBezTo>
                <a:cubicBezTo>
                  <a:pt x="1602" y="1730"/>
                  <a:pt x="1613" y="1671"/>
                  <a:pt x="1617" y="1613"/>
                </a:cubicBezTo>
                <a:cubicBezTo>
                  <a:pt x="1627" y="1452"/>
                  <a:pt x="1639" y="1292"/>
                  <a:pt x="1647" y="1131"/>
                </a:cubicBezTo>
                <a:cubicBezTo>
                  <a:pt x="1654" y="990"/>
                  <a:pt x="1662" y="845"/>
                  <a:pt x="1660" y="704"/>
                </a:cubicBezTo>
                <a:cubicBezTo>
                  <a:pt x="1657" y="693"/>
                  <a:pt x="1654" y="681"/>
                  <a:pt x="1651" y="670"/>
                </a:cubicBezTo>
                <a:cubicBezTo>
                  <a:pt x="1640" y="867"/>
                  <a:pt x="1638" y="1062"/>
                  <a:pt x="1634" y="1259"/>
                </a:cubicBezTo>
                <a:cubicBezTo>
                  <a:pt x="1606" y="2647"/>
                  <a:pt x="1431" y="3977"/>
                  <a:pt x="1306" y="5347"/>
                </a:cubicBezTo>
                <a:cubicBezTo>
                  <a:pt x="1277" y="5666"/>
                  <a:pt x="1344" y="5989"/>
                  <a:pt x="1344" y="6307"/>
                </a:cubicBezTo>
                <a:cubicBezTo>
                  <a:pt x="1344" y="6466"/>
                  <a:pt x="1332" y="6627"/>
                  <a:pt x="1323" y="6785"/>
                </a:cubicBezTo>
                <a:cubicBezTo>
                  <a:pt x="1299" y="7210"/>
                  <a:pt x="1290" y="7637"/>
                  <a:pt x="1263" y="8061"/>
                </a:cubicBezTo>
                <a:cubicBezTo>
                  <a:pt x="1263" y="8064"/>
                  <a:pt x="1263" y="8067"/>
                  <a:pt x="1263" y="8070"/>
                </a:cubicBezTo>
                <a:cubicBezTo>
                  <a:pt x="1270" y="8020"/>
                  <a:pt x="1278" y="7972"/>
                  <a:pt x="1284" y="7921"/>
                </a:cubicBezTo>
                <a:cubicBezTo>
                  <a:pt x="1303" y="7761"/>
                  <a:pt x="1315" y="7599"/>
                  <a:pt x="1331" y="7438"/>
                </a:cubicBezTo>
                <a:cubicBezTo>
                  <a:pt x="1340" y="7603"/>
                  <a:pt x="1349" y="7768"/>
                  <a:pt x="1353" y="7933"/>
                </a:cubicBezTo>
                <a:cubicBezTo>
                  <a:pt x="1357" y="8084"/>
                  <a:pt x="1357" y="8235"/>
                  <a:pt x="1361" y="8386"/>
                </a:cubicBezTo>
                <a:cubicBezTo>
                  <a:pt x="1362" y="8377"/>
                  <a:pt x="1385" y="8262"/>
                  <a:pt x="1387" y="8228"/>
                </a:cubicBezTo>
                <a:cubicBezTo>
                  <a:pt x="1400" y="8033"/>
                  <a:pt x="1404" y="7839"/>
                  <a:pt x="1404" y="7643"/>
                </a:cubicBezTo>
                <a:cubicBezTo>
                  <a:pt x="1404" y="7454"/>
                  <a:pt x="1405" y="7265"/>
                  <a:pt x="1395" y="7076"/>
                </a:cubicBezTo>
                <a:cubicBezTo>
                  <a:pt x="1393" y="7029"/>
                  <a:pt x="1390" y="7037"/>
                  <a:pt x="1387" y="6990"/>
                </a:cubicBezTo>
              </a:path>
              <a:path w="3701" h="11796">
                <a:moveTo>
                  <a:pt x="145" y="931"/>
                </a:moveTo>
                <a:cubicBezTo>
                  <a:pt x="143" y="1099"/>
                  <a:pt x="145" y="1266"/>
                  <a:pt x="149" y="1434"/>
                </a:cubicBezTo>
                <a:cubicBezTo>
                  <a:pt x="156" y="1730"/>
                  <a:pt x="179" y="2027"/>
                  <a:pt x="205" y="2322"/>
                </a:cubicBezTo>
                <a:cubicBezTo>
                  <a:pt x="223" y="2520"/>
                  <a:pt x="233" y="2717"/>
                  <a:pt x="247" y="2915"/>
                </a:cubicBezTo>
                <a:cubicBezTo>
                  <a:pt x="256" y="3044"/>
                  <a:pt x="256" y="3416"/>
                  <a:pt x="256" y="3286"/>
                </a:cubicBezTo>
                <a:cubicBezTo>
                  <a:pt x="256" y="3242"/>
                  <a:pt x="256" y="3221"/>
                  <a:pt x="256" y="3188"/>
                </a:cubicBezTo>
                <a:cubicBezTo>
                  <a:pt x="254" y="3006"/>
                  <a:pt x="251" y="2824"/>
                  <a:pt x="247" y="2642"/>
                </a:cubicBezTo>
                <a:cubicBezTo>
                  <a:pt x="241" y="2342"/>
                  <a:pt x="232" y="2041"/>
                  <a:pt x="234" y="1741"/>
                </a:cubicBezTo>
                <a:cubicBezTo>
                  <a:pt x="235" y="1525"/>
                  <a:pt x="234" y="1309"/>
                  <a:pt x="234" y="1093"/>
                </a:cubicBezTo>
                <a:cubicBezTo>
                  <a:pt x="234" y="1052"/>
                  <a:pt x="234" y="1010"/>
                  <a:pt x="234" y="969"/>
                </a:cubicBezTo>
                <a:cubicBezTo>
                  <a:pt x="230" y="1311"/>
                  <a:pt x="208" y="1652"/>
                  <a:pt x="192" y="1993"/>
                </a:cubicBezTo>
                <a:cubicBezTo>
                  <a:pt x="171" y="2447"/>
                  <a:pt x="149" y="2901"/>
                  <a:pt x="124" y="3354"/>
                </a:cubicBezTo>
                <a:cubicBezTo>
                  <a:pt x="103" y="3731"/>
                  <a:pt x="78" y="4116"/>
                  <a:pt x="25" y="4490"/>
                </a:cubicBezTo>
                <a:cubicBezTo>
                  <a:pt x="15" y="4548"/>
                  <a:pt x="11" y="4560"/>
                  <a:pt x="13" y="4596"/>
                </a:cubicBezTo>
                <a:cubicBezTo>
                  <a:pt x="13" y="4518"/>
                  <a:pt x="11" y="4426"/>
                  <a:pt x="13" y="4344"/>
                </a:cubicBezTo>
                <a:cubicBezTo>
                  <a:pt x="20" y="4064"/>
                  <a:pt x="26" y="3784"/>
                  <a:pt x="30" y="3504"/>
                </a:cubicBezTo>
                <a:cubicBezTo>
                  <a:pt x="35" y="3153"/>
                  <a:pt x="33" y="2801"/>
                  <a:pt x="42" y="2450"/>
                </a:cubicBezTo>
                <a:cubicBezTo>
                  <a:pt x="47" y="2261"/>
                  <a:pt x="43" y="2067"/>
                  <a:pt x="60" y="1878"/>
                </a:cubicBezTo>
                <a:cubicBezTo>
                  <a:pt x="63" y="1865"/>
                  <a:pt x="65" y="1852"/>
                  <a:pt x="68" y="1839"/>
                </a:cubicBezTo>
                <a:cubicBezTo>
                  <a:pt x="73" y="2041"/>
                  <a:pt x="68" y="2243"/>
                  <a:pt x="64" y="2445"/>
                </a:cubicBezTo>
                <a:cubicBezTo>
                  <a:pt x="52" y="3086"/>
                  <a:pt x="32" y="3726"/>
                  <a:pt x="13" y="4366"/>
                </a:cubicBezTo>
                <a:cubicBezTo>
                  <a:pt x="10" y="4461"/>
                  <a:pt x="5" y="4557"/>
                  <a:pt x="0" y="4652"/>
                </a:cubicBezTo>
                <a:cubicBezTo>
                  <a:pt x="16" y="4480"/>
                  <a:pt x="28" y="4308"/>
                  <a:pt x="38" y="4135"/>
                </a:cubicBezTo>
                <a:cubicBezTo>
                  <a:pt x="61" y="3714"/>
                  <a:pt x="84" y="3293"/>
                  <a:pt x="102" y="2872"/>
                </a:cubicBezTo>
                <a:cubicBezTo>
                  <a:pt x="120" y="2438"/>
                  <a:pt x="134" y="2005"/>
                  <a:pt x="149" y="1571"/>
                </a:cubicBezTo>
                <a:cubicBezTo>
                  <a:pt x="155" y="1408"/>
                  <a:pt x="161" y="1243"/>
                  <a:pt x="162" y="1080"/>
                </a:cubicBezTo>
                <a:cubicBezTo>
                  <a:pt x="119" y="1638"/>
                  <a:pt x="99" y="2198"/>
                  <a:pt x="77" y="2757"/>
                </a:cubicBezTo>
                <a:cubicBezTo>
                  <a:pt x="61" y="3159"/>
                  <a:pt x="52" y="3562"/>
                  <a:pt x="42" y="3965"/>
                </a:cubicBezTo>
                <a:cubicBezTo>
                  <a:pt x="37" y="4185"/>
                  <a:pt x="33" y="4406"/>
                  <a:pt x="30" y="4626"/>
                </a:cubicBezTo>
                <a:cubicBezTo>
                  <a:pt x="30" y="4633"/>
                  <a:pt x="20" y="4818"/>
                  <a:pt x="42" y="4690"/>
                </a:cubicBezTo>
                <a:cubicBezTo>
                  <a:pt x="119" y="4236"/>
                  <a:pt x="101" y="3737"/>
                  <a:pt x="111" y="3278"/>
                </a:cubicBezTo>
                <a:cubicBezTo>
                  <a:pt x="111" y="3222"/>
                  <a:pt x="111" y="3167"/>
                  <a:pt x="111" y="3111"/>
                </a:cubicBezTo>
                <a:cubicBezTo>
                  <a:pt x="110" y="3063"/>
                  <a:pt x="111" y="2803"/>
                  <a:pt x="102" y="3034"/>
                </a:cubicBezTo>
                <a:cubicBezTo>
                  <a:pt x="92" y="3284"/>
                  <a:pt x="91" y="3535"/>
                  <a:pt x="81" y="3785"/>
                </a:cubicBezTo>
                <a:cubicBezTo>
                  <a:pt x="72" y="4015"/>
                  <a:pt x="71" y="4253"/>
                  <a:pt x="17" y="4477"/>
                </a:cubicBezTo>
                <a:cubicBezTo>
                  <a:pt x="14" y="4478"/>
                  <a:pt x="11" y="4480"/>
                  <a:pt x="8" y="448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7" name="Freeform 53"/>
          <p:cNvSpPr/>
          <p:nvPr/>
        </p:nvSpPr>
        <p:spPr>
          <a:xfrm>
            <a:off x="1538280" y="4413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8" name="Freeform 55"/>
          <p:cNvSpPr/>
          <p:nvPr/>
        </p:nvSpPr>
        <p:spPr>
          <a:xfrm>
            <a:off x="6307200" y="2660760"/>
            <a:ext cx="716040" cy="674640"/>
          </a:xfrm>
          <a:custGeom>
            <a:avLst/>
            <a:gdLst/>
            <a:ahLst/>
            <a:rect l="l" t="t" r="r" b="b"/>
            <a:pathLst>
              <a:path w="1990" h="1874">
                <a:moveTo>
                  <a:pt x="149" y="550"/>
                </a:moveTo>
                <a:cubicBezTo>
                  <a:pt x="147" y="559"/>
                  <a:pt x="142" y="554"/>
                  <a:pt x="141" y="563"/>
                </a:cubicBezTo>
                <a:cubicBezTo>
                  <a:pt x="137" y="616"/>
                  <a:pt x="145" y="684"/>
                  <a:pt x="149" y="738"/>
                </a:cubicBezTo>
                <a:cubicBezTo>
                  <a:pt x="160" y="904"/>
                  <a:pt x="176" y="1071"/>
                  <a:pt x="188" y="1237"/>
                </a:cubicBezTo>
                <a:cubicBezTo>
                  <a:pt x="200" y="1403"/>
                  <a:pt x="196" y="1577"/>
                  <a:pt x="226" y="1741"/>
                </a:cubicBezTo>
                <a:cubicBezTo>
                  <a:pt x="232" y="1772"/>
                  <a:pt x="252" y="1839"/>
                  <a:pt x="260" y="1873"/>
                </a:cubicBezTo>
              </a:path>
              <a:path w="1990" h="1874">
                <a:moveTo>
                  <a:pt x="0" y="196"/>
                </a:moveTo>
                <a:cubicBezTo>
                  <a:pt x="110" y="99"/>
                  <a:pt x="235" y="-10"/>
                  <a:pt x="393" y="0"/>
                </a:cubicBezTo>
                <a:cubicBezTo>
                  <a:pt x="479" y="6"/>
                  <a:pt x="545" y="59"/>
                  <a:pt x="563" y="145"/>
                </a:cubicBezTo>
                <a:cubicBezTo>
                  <a:pt x="590" y="277"/>
                  <a:pt x="536" y="420"/>
                  <a:pt x="482" y="537"/>
                </a:cubicBezTo>
                <a:cubicBezTo>
                  <a:pt x="409" y="698"/>
                  <a:pt x="308" y="835"/>
                  <a:pt x="200" y="973"/>
                </a:cubicBezTo>
                <a:cubicBezTo>
                  <a:pt x="169" y="1012"/>
                  <a:pt x="89" y="1142"/>
                  <a:pt x="26" y="1148"/>
                </a:cubicBezTo>
                <a:cubicBezTo>
                  <a:pt x="20" y="1111"/>
                  <a:pt x="23" y="1096"/>
                  <a:pt x="55" y="1079"/>
                </a:cubicBezTo>
              </a:path>
              <a:path w="1990" h="1874">
                <a:moveTo>
                  <a:pt x="649" y="764"/>
                </a:moveTo>
                <a:cubicBezTo>
                  <a:pt x="623" y="792"/>
                  <a:pt x="605" y="816"/>
                  <a:pt x="593" y="857"/>
                </a:cubicBezTo>
                <a:cubicBezTo>
                  <a:pt x="564" y="954"/>
                  <a:pt x="531" y="1048"/>
                  <a:pt x="508" y="1148"/>
                </a:cubicBezTo>
                <a:cubicBezTo>
                  <a:pt x="487" y="1239"/>
                  <a:pt x="454" y="1340"/>
                  <a:pt x="461" y="1434"/>
                </a:cubicBezTo>
                <a:cubicBezTo>
                  <a:pt x="469" y="1462"/>
                  <a:pt x="471" y="1472"/>
                  <a:pt x="491" y="1481"/>
                </a:cubicBezTo>
                <a:cubicBezTo>
                  <a:pt x="552" y="1458"/>
                  <a:pt x="590" y="1407"/>
                  <a:pt x="627" y="1352"/>
                </a:cubicBezTo>
                <a:cubicBezTo>
                  <a:pt x="697" y="1247"/>
                  <a:pt x="732" y="1129"/>
                  <a:pt x="755" y="1007"/>
                </a:cubicBezTo>
                <a:cubicBezTo>
                  <a:pt x="772" y="913"/>
                  <a:pt x="778" y="818"/>
                  <a:pt x="725" y="734"/>
                </a:cubicBezTo>
                <a:cubicBezTo>
                  <a:pt x="685" y="671"/>
                  <a:pt x="655" y="745"/>
                  <a:pt x="636" y="776"/>
                </a:cubicBezTo>
                <a:cubicBezTo>
                  <a:pt x="629" y="788"/>
                  <a:pt x="621" y="799"/>
                  <a:pt x="614" y="811"/>
                </a:cubicBezTo>
              </a:path>
              <a:path w="1990" h="1874">
                <a:moveTo>
                  <a:pt x="1092" y="196"/>
                </a:moveTo>
                <a:cubicBezTo>
                  <a:pt x="1096" y="242"/>
                  <a:pt x="1093" y="282"/>
                  <a:pt x="1092" y="328"/>
                </a:cubicBezTo>
                <a:cubicBezTo>
                  <a:pt x="1088" y="466"/>
                  <a:pt x="1073" y="601"/>
                  <a:pt x="1062" y="738"/>
                </a:cubicBezTo>
                <a:cubicBezTo>
                  <a:pt x="1048" y="913"/>
                  <a:pt x="1032" y="1087"/>
                  <a:pt x="1024" y="1263"/>
                </a:cubicBezTo>
                <a:cubicBezTo>
                  <a:pt x="1020" y="1346"/>
                  <a:pt x="1010" y="1432"/>
                  <a:pt x="1058" y="1498"/>
                </a:cubicBezTo>
                <a:cubicBezTo>
                  <a:pt x="1099" y="1472"/>
                  <a:pt x="1111" y="1437"/>
                  <a:pt x="1139" y="1387"/>
                </a:cubicBezTo>
              </a:path>
              <a:path w="1990" h="1874">
                <a:moveTo>
                  <a:pt x="1327" y="1020"/>
                </a:moveTo>
                <a:cubicBezTo>
                  <a:pt x="1348" y="1048"/>
                  <a:pt x="1361" y="1066"/>
                  <a:pt x="1391" y="1084"/>
                </a:cubicBezTo>
                <a:cubicBezTo>
                  <a:pt x="1430" y="1107"/>
                  <a:pt x="1484" y="1111"/>
                  <a:pt x="1506" y="1062"/>
                </a:cubicBezTo>
                <a:cubicBezTo>
                  <a:pt x="1529" y="1013"/>
                  <a:pt x="1533" y="954"/>
                  <a:pt x="1532" y="900"/>
                </a:cubicBezTo>
                <a:cubicBezTo>
                  <a:pt x="1531" y="834"/>
                  <a:pt x="1515" y="767"/>
                  <a:pt x="1485" y="708"/>
                </a:cubicBezTo>
                <a:cubicBezTo>
                  <a:pt x="1468" y="675"/>
                  <a:pt x="1435" y="626"/>
                  <a:pt x="1391" y="636"/>
                </a:cubicBezTo>
                <a:cubicBezTo>
                  <a:pt x="1343" y="647"/>
                  <a:pt x="1323" y="748"/>
                  <a:pt x="1314" y="785"/>
                </a:cubicBezTo>
                <a:cubicBezTo>
                  <a:pt x="1286" y="895"/>
                  <a:pt x="1270" y="1009"/>
                  <a:pt x="1263" y="1122"/>
                </a:cubicBezTo>
                <a:cubicBezTo>
                  <a:pt x="1258" y="1196"/>
                  <a:pt x="1245" y="1310"/>
                  <a:pt x="1289" y="1378"/>
                </a:cubicBezTo>
                <a:cubicBezTo>
                  <a:pt x="1319" y="1424"/>
                  <a:pt x="1405" y="1384"/>
                  <a:pt x="1434" y="1357"/>
                </a:cubicBezTo>
                <a:cubicBezTo>
                  <a:pt x="1470" y="1303"/>
                  <a:pt x="1484" y="1283"/>
                  <a:pt x="1519" y="1254"/>
                </a:cubicBezTo>
              </a:path>
              <a:path w="1990" h="1874">
                <a:moveTo>
                  <a:pt x="1873" y="661"/>
                </a:moveTo>
                <a:cubicBezTo>
                  <a:pt x="1858" y="650"/>
                  <a:pt x="1852" y="639"/>
                  <a:pt x="1831" y="644"/>
                </a:cubicBezTo>
                <a:cubicBezTo>
                  <a:pt x="1810" y="649"/>
                  <a:pt x="1776" y="677"/>
                  <a:pt x="1762" y="691"/>
                </a:cubicBezTo>
                <a:cubicBezTo>
                  <a:pt x="1736" y="717"/>
                  <a:pt x="1709" y="746"/>
                  <a:pt x="1698" y="781"/>
                </a:cubicBezTo>
                <a:cubicBezTo>
                  <a:pt x="1688" y="813"/>
                  <a:pt x="1686" y="833"/>
                  <a:pt x="1715" y="853"/>
                </a:cubicBezTo>
                <a:cubicBezTo>
                  <a:pt x="1753" y="880"/>
                  <a:pt x="1797" y="877"/>
                  <a:pt x="1839" y="892"/>
                </a:cubicBezTo>
                <a:cubicBezTo>
                  <a:pt x="1885" y="908"/>
                  <a:pt x="1937" y="933"/>
                  <a:pt x="1967" y="973"/>
                </a:cubicBezTo>
                <a:cubicBezTo>
                  <a:pt x="1999" y="1015"/>
                  <a:pt x="1996" y="1080"/>
                  <a:pt x="1976" y="1126"/>
                </a:cubicBezTo>
                <a:cubicBezTo>
                  <a:pt x="1956" y="1171"/>
                  <a:pt x="1900" y="1238"/>
                  <a:pt x="1856" y="1263"/>
                </a:cubicBezTo>
                <a:cubicBezTo>
                  <a:pt x="1802" y="1294"/>
                  <a:pt x="1772" y="1257"/>
                  <a:pt x="1741" y="1220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Freeform 56"/>
          <p:cNvSpPr/>
          <p:nvPr/>
        </p:nvSpPr>
        <p:spPr>
          <a:xfrm>
            <a:off x="7264440" y="2417760"/>
            <a:ext cx="957240" cy="701640"/>
          </a:xfrm>
          <a:custGeom>
            <a:avLst/>
            <a:gdLst/>
            <a:ahLst/>
            <a:rect l="l" t="t" r="r" b="b"/>
            <a:pathLst>
              <a:path w="2663" h="1947">
                <a:moveTo>
                  <a:pt x="8" y="1456"/>
                </a:moveTo>
                <a:cubicBezTo>
                  <a:pt x="3" y="1539"/>
                  <a:pt x="-2" y="1624"/>
                  <a:pt x="0" y="1707"/>
                </a:cubicBezTo>
                <a:cubicBezTo>
                  <a:pt x="2" y="1775"/>
                  <a:pt x="2" y="1845"/>
                  <a:pt x="12" y="1912"/>
                </a:cubicBezTo>
                <a:cubicBezTo>
                  <a:pt x="16" y="1932"/>
                  <a:pt x="15" y="1936"/>
                  <a:pt x="21" y="1946"/>
                </a:cubicBezTo>
                <a:cubicBezTo>
                  <a:pt x="31" y="1909"/>
                  <a:pt x="37" y="1871"/>
                  <a:pt x="42" y="1831"/>
                </a:cubicBezTo>
                <a:cubicBezTo>
                  <a:pt x="56" y="1720"/>
                  <a:pt x="69" y="1610"/>
                  <a:pt x="81" y="1498"/>
                </a:cubicBezTo>
                <a:cubicBezTo>
                  <a:pt x="94" y="1377"/>
                  <a:pt x="111" y="1258"/>
                  <a:pt x="140" y="1140"/>
                </a:cubicBezTo>
                <a:cubicBezTo>
                  <a:pt x="154" y="1085"/>
                  <a:pt x="165" y="1052"/>
                  <a:pt x="196" y="1008"/>
                </a:cubicBezTo>
                <a:cubicBezTo>
                  <a:pt x="246" y="1013"/>
                  <a:pt x="248" y="1034"/>
                  <a:pt x="277" y="1072"/>
                </a:cubicBezTo>
                <a:cubicBezTo>
                  <a:pt x="308" y="1113"/>
                  <a:pt x="335" y="1136"/>
                  <a:pt x="379" y="1161"/>
                </a:cubicBezTo>
              </a:path>
              <a:path w="2663" h="1947">
                <a:moveTo>
                  <a:pt x="405" y="1528"/>
                </a:moveTo>
                <a:cubicBezTo>
                  <a:pt x="434" y="1533"/>
                  <a:pt x="422" y="1550"/>
                  <a:pt x="460" y="1520"/>
                </a:cubicBezTo>
                <a:cubicBezTo>
                  <a:pt x="510" y="1481"/>
                  <a:pt x="550" y="1422"/>
                  <a:pt x="580" y="1366"/>
                </a:cubicBezTo>
                <a:cubicBezTo>
                  <a:pt x="619" y="1293"/>
                  <a:pt x="648" y="1223"/>
                  <a:pt x="669" y="1144"/>
                </a:cubicBezTo>
                <a:cubicBezTo>
                  <a:pt x="679" y="1106"/>
                  <a:pt x="701" y="1029"/>
                  <a:pt x="674" y="991"/>
                </a:cubicBezTo>
                <a:cubicBezTo>
                  <a:pt x="658" y="982"/>
                  <a:pt x="652" y="979"/>
                  <a:pt x="640" y="978"/>
                </a:cubicBezTo>
                <a:cubicBezTo>
                  <a:pt x="586" y="1019"/>
                  <a:pt x="559" y="1065"/>
                  <a:pt x="529" y="1127"/>
                </a:cubicBezTo>
                <a:cubicBezTo>
                  <a:pt x="475" y="1241"/>
                  <a:pt x="447" y="1368"/>
                  <a:pt x="418" y="1490"/>
                </a:cubicBezTo>
                <a:cubicBezTo>
                  <a:pt x="399" y="1571"/>
                  <a:pt x="358" y="1716"/>
                  <a:pt x="396" y="1797"/>
                </a:cubicBezTo>
                <a:cubicBezTo>
                  <a:pt x="406" y="1807"/>
                  <a:pt x="416" y="1817"/>
                  <a:pt x="426" y="1827"/>
                </a:cubicBezTo>
                <a:cubicBezTo>
                  <a:pt x="515" y="1812"/>
                  <a:pt x="553" y="1747"/>
                  <a:pt x="605" y="1673"/>
                </a:cubicBezTo>
              </a:path>
              <a:path w="2663" h="1947">
                <a:moveTo>
                  <a:pt x="1152" y="1187"/>
                </a:moveTo>
                <a:cubicBezTo>
                  <a:pt x="1144" y="1209"/>
                  <a:pt x="1138" y="1227"/>
                  <a:pt x="1135" y="1251"/>
                </a:cubicBezTo>
                <a:cubicBezTo>
                  <a:pt x="1133" y="1271"/>
                  <a:pt x="1125" y="1292"/>
                  <a:pt x="1122" y="1306"/>
                </a:cubicBezTo>
                <a:cubicBezTo>
                  <a:pt x="1122" y="1308"/>
                  <a:pt x="1122" y="1309"/>
                  <a:pt x="1122" y="1311"/>
                </a:cubicBezTo>
                <a:cubicBezTo>
                  <a:pt x="1117" y="1278"/>
                  <a:pt x="1112" y="1245"/>
                  <a:pt x="1105" y="1212"/>
                </a:cubicBezTo>
                <a:cubicBezTo>
                  <a:pt x="1082" y="1109"/>
                  <a:pt x="1059" y="989"/>
                  <a:pt x="998" y="901"/>
                </a:cubicBezTo>
                <a:cubicBezTo>
                  <a:pt x="975" y="874"/>
                  <a:pt x="969" y="866"/>
                  <a:pt x="947" y="858"/>
                </a:cubicBezTo>
                <a:cubicBezTo>
                  <a:pt x="884" y="901"/>
                  <a:pt x="864" y="957"/>
                  <a:pt x="849" y="1033"/>
                </a:cubicBezTo>
                <a:cubicBezTo>
                  <a:pt x="821" y="1171"/>
                  <a:pt x="806" y="1310"/>
                  <a:pt x="806" y="1451"/>
                </a:cubicBezTo>
                <a:cubicBezTo>
                  <a:pt x="806" y="1557"/>
                  <a:pt x="807" y="1685"/>
                  <a:pt x="862" y="1780"/>
                </a:cubicBezTo>
                <a:cubicBezTo>
                  <a:pt x="912" y="1865"/>
                  <a:pt x="981" y="1759"/>
                  <a:pt x="1007" y="1724"/>
                </a:cubicBezTo>
              </a:path>
              <a:path w="2663" h="1947">
                <a:moveTo>
                  <a:pt x="1339" y="1251"/>
                </a:moveTo>
                <a:cubicBezTo>
                  <a:pt x="1350" y="1258"/>
                  <a:pt x="1344" y="1262"/>
                  <a:pt x="1357" y="1264"/>
                </a:cubicBezTo>
                <a:cubicBezTo>
                  <a:pt x="1383" y="1269"/>
                  <a:pt x="1406" y="1254"/>
                  <a:pt x="1425" y="1238"/>
                </a:cubicBezTo>
                <a:cubicBezTo>
                  <a:pt x="1462" y="1207"/>
                  <a:pt x="1485" y="1154"/>
                  <a:pt x="1502" y="1110"/>
                </a:cubicBezTo>
                <a:cubicBezTo>
                  <a:pt x="1527" y="1046"/>
                  <a:pt x="1535" y="982"/>
                  <a:pt x="1536" y="914"/>
                </a:cubicBezTo>
                <a:cubicBezTo>
                  <a:pt x="1537" y="865"/>
                  <a:pt x="1531" y="831"/>
                  <a:pt x="1502" y="794"/>
                </a:cubicBezTo>
                <a:cubicBezTo>
                  <a:pt x="1448" y="825"/>
                  <a:pt x="1433" y="861"/>
                  <a:pt x="1408" y="918"/>
                </a:cubicBezTo>
                <a:cubicBezTo>
                  <a:pt x="1363" y="1021"/>
                  <a:pt x="1325" y="1129"/>
                  <a:pt x="1301" y="1238"/>
                </a:cubicBezTo>
                <a:cubicBezTo>
                  <a:pt x="1285" y="1308"/>
                  <a:pt x="1259" y="1420"/>
                  <a:pt x="1293" y="1490"/>
                </a:cubicBezTo>
                <a:cubicBezTo>
                  <a:pt x="1325" y="1556"/>
                  <a:pt x="1397" y="1483"/>
                  <a:pt x="1425" y="1460"/>
                </a:cubicBezTo>
                <a:cubicBezTo>
                  <a:pt x="1481" y="1412"/>
                  <a:pt x="1502" y="1392"/>
                  <a:pt x="1519" y="1340"/>
                </a:cubicBezTo>
              </a:path>
              <a:path w="2663" h="1947">
                <a:moveTo>
                  <a:pt x="2005" y="606"/>
                </a:moveTo>
                <a:cubicBezTo>
                  <a:pt x="1961" y="654"/>
                  <a:pt x="1923" y="696"/>
                  <a:pt x="1894" y="756"/>
                </a:cubicBezTo>
                <a:cubicBezTo>
                  <a:pt x="1842" y="864"/>
                  <a:pt x="1806" y="978"/>
                  <a:pt x="1775" y="1093"/>
                </a:cubicBezTo>
                <a:cubicBezTo>
                  <a:pt x="1752" y="1179"/>
                  <a:pt x="1727" y="1264"/>
                  <a:pt x="1745" y="1353"/>
                </a:cubicBezTo>
                <a:cubicBezTo>
                  <a:pt x="1748" y="1360"/>
                  <a:pt x="1750" y="1368"/>
                  <a:pt x="1753" y="1375"/>
                </a:cubicBezTo>
                <a:cubicBezTo>
                  <a:pt x="1814" y="1343"/>
                  <a:pt x="1837" y="1323"/>
                  <a:pt x="1877" y="1255"/>
                </a:cubicBezTo>
                <a:cubicBezTo>
                  <a:pt x="1967" y="1102"/>
                  <a:pt x="2002" y="924"/>
                  <a:pt x="2031" y="752"/>
                </a:cubicBezTo>
                <a:cubicBezTo>
                  <a:pt x="2059" y="584"/>
                  <a:pt x="2067" y="422"/>
                  <a:pt x="2073" y="252"/>
                </a:cubicBezTo>
                <a:cubicBezTo>
                  <a:pt x="2076" y="174"/>
                  <a:pt x="2078" y="96"/>
                  <a:pt x="2082" y="18"/>
                </a:cubicBezTo>
                <a:cubicBezTo>
                  <a:pt x="2091" y="94"/>
                  <a:pt x="2081" y="134"/>
                  <a:pt x="2082" y="210"/>
                </a:cubicBezTo>
                <a:cubicBezTo>
                  <a:pt x="2084" y="414"/>
                  <a:pt x="2081" y="620"/>
                  <a:pt x="2086" y="824"/>
                </a:cubicBezTo>
                <a:cubicBezTo>
                  <a:pt x="2091" y="996"/>
                  <a:pt x="2098" y="1165"/>
                  <a:pt x="2120" y="1336"/>
                </a:cubicBezTo>
                <a:cubicBezTo>
                  <a:pt x="2126" y="1384"/>
                  <a:pt x="2125" y="1479"/>
                  <a:pt x="2172" y="1447"/>
                </a:cubicBezTo>
                <a:cubicBezTo>
                  <a:pt x="2179" y="1436"/>
                  <a:pt x="2186" y="1424"/>
                  <a:pt x="2193" y="1413"/>
                </a:cubicBezTo>
              </a:path>
              <a:path w="2663" h="1947">
                <a:moveTo>
                  <a:pt x="2389" y="811"/>
                </a:moveTo>
                <a:cubicBezTo>
                  <a:pt x="2386" y="839"/>
                  <a:pt x="2379" y="869"/>
                  <a:pt x="2381" y="897"/>
                </a:cubicBezTo>
                <a:cubicBezTo>
                  <a:pt x="2384" y="939"/>
                  <a:pt x="2396" y="967"/>
                  <a:pt x="2415" y="999"/>
                </a:cubicBezTo>
                <a:cubicBezTo>
                  <a:pt x="2454" y="985"/>
                  <a:pt x="2468" y="977"/>
                  <a:pt x="2496" y="939"/>
                </a:cubicBezTo>
                <a:cubicBezTo>
                  <a:pt x="2540" y="878"/>
                  <a:pt x="2571" y="800"/>
                  <a:pt x="2586" y="726"/>
                </a:cubicBezTo>
                <a:cubicBezTo>
                  <a:pt x="2602" y="649"/>
                  <a:pt x="2604" y="563"/>
                  <a:pt x="2586" y="487"/>
                </a:cubicBezTo>
                <a:cubicBezTo>
                  <a:pt x="2574" y="451"/>
                  <a:pt x="2571" y="440"/>
                  <a:pt x="2551" y="423"/>
                </a:cubicBezTo>
                <a:cubicBezTo>
                  <a:pt x="2485" y="423"/>
                  <a:pt x="2466" y="459"/>
                  <a:pt x="2440" y="521"/>
                </a:cubicBezTo>
                <a:cubicBezTo>
                  <a:pt x="2393" y="634"/>
                  <a:pt x="2366" y="762"/>
                  <a:pt x="2355" y="884"/>
                </a:cubicBezTo>
                <a:cubicBezTo>
                  <a:pt x="2345" y="987"/>
                  <a:pt x="2334" y="1129"/>
                  <a:pt x="2381" y="1225"/>
                </a:cubicBezTo>
                <a:cubicBezTo>
                  <a:pt x="2427" y="1320"/>
                  <a:pt x="2488" y="1281"/>
                  <a:pt x="2551" y="1234"/>
                </a:cubicBezTo>
                <a:cubicBezTo>
                  <a:pt x="2620" y="1179"/>
                  <a:pt x="2645" y="1156"/>
                  <a:pt x="2662" y="109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0" name="Freeform 57"/>
          <p:cNvSpPr/>
          <p:nvPr/>
        </p:nvSpPr>
        <p:spPr>
          <a:xfrm>
            <a:off x="6183360" y="3273480"/>
            <a:ext cx="550800" cy="584280"/>
          </a:xfrm>
          <a:custGeom>
            <a:avLst/>
            <a:gdLst/>
            <a:ahLst/>
            <a:rect l="l" t="t" r="r" b="b"/>
            <a:pathLst>
              <a:path w="1528" h="1623">
                <a:moveTo>
                  <a:pt x="136" y="777"/>
                </a:moveTo>
                <a:cubicBezTo>
                  <a:pt x="136" y="1064"/>
                  <a:pt x="16" y="1864"/>
                  <a:pt x="140" y="1605"/>
                </a:cubicBezTo>
              </a:path>
              <a:path w="1528" h="1623">
                <a:moveTo>
                  <a:pt x="4" y="483"/>
                </a:moveTo>
                <a:cubicBezTo>
                  <a:pt x="2" y="502"/>
                  <a:pt x="-1" y="524"/>
                  <a:pt x="8" y="542"/>
                </a:cubicBezTo>
                <a:cubicBezTo>
                  <a:pt x="9" y="544"/>
                  <a:pt x="11" y="545"/>
                  <a:pt x="12" y="547"/>
                </a:cubicBezTo>
                <a:cubicBezTo>
                  <a:pt x="30" y="547"/>
                  <a:pt x="49" y="547"/>
                  <a:pt x="55" y="530"/>
                </a:cubicBezTo>
                <a:cubicBezTo>
                  <a:pt x="55" y="517"/>
                  <a:pt x="55" y="504"/>
                  <a:pt x="55" y="491"/>
                </a:cubicBezTo>
              </a:path>
              <a:path w="1528" h="1623">
                <a:moveTo>
                  <a:pt x="473" y="884"/>
                </a:moveTo>
                <a:cubicBezTo>
                  <a:pt x="465" y="937"/>
                  <a:pt x="450" y="985"/>
                  <a:pt x="435" y="1037"/>
                </a:cubicBezTo>
                <a:cubicBezTo>
                  <a:pt x="426" y="1067"/>
                  <a:pt x="419" y="1101"/>
                  <a:pt x="413" y="1131"/>
                </a:cubicBezTo>
                <a:cubicBezTo>
                  <a:pt x="413" y="1141"/>
                  <a:pt x="413" y="1142"/>
                  <a:pt x="413" y="1148"/>
                </a:cubicBezTo>
                <a:cubicBezTo>
                  <a:pt x="419" y="1110"/>
                  <a:pt x="421" y="1071"/>
                  <a:pt x="426" y="1033"/>
                </a:cubicBezTo>
                <a:cubicBezTo>
                  <a:pt x="438" y="936"/>
                  <a:pt x="445" y="840"/>
                  <a:pt x="456" y="743"/>
                </a:cubicBezTo>
                <a:cubicBezTo>
                  <a:pt x="468" y="642"/>
                  <a:pt x="483" y="538"/>
                  <a:pt x="512" y="440"/>
                </a:cubicBezTo>
                <a:cubicBezTo>
                  <a:pt x="526" y="391"/>
                  <a:pt x="532" y="373"/>
                  <a:pt x="571" y="350"/>
                </a:cubicBezTo>
                <a:cubicBezTo>
                  <a:pt x="634" y="398"/>
                  <a:pt x="665" y="452"/>
                  <a:pt x="691" y="530"/>
                </a:cubicBezTo>
                <a:cubicBezTo>
                  <a:pt x="728" y="641"/>
                  <a:pt x="756" y="759"/>
                  <a:pt x="768" y="875"/>
                </a:cubicBezTo>
                <a:cubicBezTo>
                  <a:pt x="776" y="946"/>
                  <a:pt x="762" y="1028"/>
                  <a:pt x="776" y="1097"/>
                </a:cubicBezTo>
                <a:cubicBezTo>
                  <a:pt x="783" y="1132"/>
                  <a:pt x="780" y="1094"/>
                  <a:pt x="776" y="1067"/>
                </a:cubicBezTo>
              </a:path>
              <a:path w="1528" h="1623">
                <a:moveTo>
                  <a:pt x="1062" y="414"/>
                </a:moveTo>
                <a:cubicBezTo>
                  <a:pt x="1071" y="522"/>
                  <a:pt x="1085" y="630"/>
                  <a:pt x="1088" y="739"/>
                </a:cubicBezTo>
                <a:cubicBezTo>
                  <a:pt x="1090" y="829"/>
                  <a:pt x="1091" y="918"/>
                  <a:pt x="1092" y="1008"/>
                </a:cubicBezTo>
                <a:cubicBezTo>
                  <a:pt x="1093" y="1081"/>
                  <a:pt x="1082" y="1023"/>
                  <a:pt x="1101" y="1050"/>
                </a:cubicBezTo>
              </a:path>
              <a:path w="1528" h="1623">
                <a:moveTo>
                  <a:pt x="934" y="641"/>
                </a:moveTo>
                <a:cubicBezTo>
                  <a:pt x="978" y="654"/>
                  <a:pt x="1005" y="652"/>
                  <a:pt x="1049" y="636"/>
                </a:cubicBezTo>
                <a:cubicBezTo>
                  <a:pt x="1089" y="622"/>
                  <a:pt x="1127" y="607"/>
                  <a:pt x="1165" y="589"/>
                </a:cubicBezTo>
                <a:cubicBezTo>
                  <a:pt x="1186" y="579"/>
                  <a:pt x="1216" y="557"/>
                  <a:pt x="1241" y="564"/>
                </a:cubicBezTo>
                <a:cubicBezTo>
                  <a:pt x="1267" y="571"/>
                  <a:pt x="1277" y="595"/>
                  <a:pt x="1284" y="623"/>
                </a:cubicBezTo>
                <a:cubicBezTo>
                  <a:pt x="1299" y="679"/>
                  <a:pt x="1306" y="737"/>
                  <a:pt x="1314" y="794"/>
                </a:cubicBezTo>
                <a:cubicBezTo>
                  <a:pt x="1321" y="839"/>
                  <a:pt x="1328" y="893"/>
                  <a:pt x="1348" y="935"/>
                </a:cubicBezTo>
                <a:cubicBezTo>
                  <a:pt x="1363" y="967"/>
                  <a:pt x="1380" y="973"/>
                  <a:pt x="1408" y="956"/>
                </a:cubicBezTo>
                <a:cubicBezTo>
                  <a:pt x="1452" y="929"/>
                  <a:pt x="1477" y="880"/>
                  <a:pt x="1497" y="833"/>
                </a:cubicBezTo>
                <a:cubicBezTo>
                  <a:pt x="1526" y="765"/>
                  <a:pt x="1538" y="689"/>
                  <a:pt x="1523" y="615"/>
                </a:cubicBezTo>
                <a:cubicBezTo>
                  <a:pt x="1513" y="567"/>
                  <a:pt x="1486" y="525"/>
                  <a:pt x="1463" y="483"/>
                </a:cubicBezTo>
              </a:path>
              <a:path w="1528" h="1623">
                <a:moveTo>
                  <a:pt x="1041" y="0"/>
                </a:moveTo>
                <a:cubicBezTo>
                  <a:pt x="1042" y="6"/>
                  <a:pt x="1044" y="53"/>
                  <a:pt x="1045" y="69"/>
                </a:cubicBezTo>
                <a:cubicBezTo>
                  <a:pt x="1049" y="151"/>
                  <a:pt x="1060" y="236"/>
                  <a:pt x="1075" y="316"/>
                </a:cubicBezTo>
                <a:cubicBezTo>
                  <a:pt x="1089" y="395"/>
                  <a:pt x="1105" y="462"/>
                  <a:pt x="1130" y="538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1" name="Freeform 58"/>
          <p:cNvSpPr/>
          <p:nvPr/>
        </p:nvSpPr>
        <p:spPr>
          <a:xfrm>
            <a:off x="6921360" y="3135240"/>
            <a:ext cx="436680" cy="401760"/>
          </a:xfrm>
          <a:custGeom>
            <a:avLst/>
            <a:gdLst/>
            <a:ahLst/>
            <a:rect l="l" t="t" r="r" b="b"/>
            <a:pathLst>
              <a:path w="1213" h="1115">
                <a:moveTo>
                  <a:pt x="264" y="295"/>
                </a:moveTo>
                <a:cubicBezTo>
                  <a:pt x="262" y="399"/>
                  <a:pt x="258" y="502"/>
                  <a:pt x="260" y="606"/>
                </a:cubicBezTo>
                <a:cubicBezTo>
                  <a:pt x="263" y="730"/>
                  <a:pt x="269" y="854"/>
                  <a:pt x="277" y="978"/>
                </a:cubicBezTo>
                <a:cubicBezTo>
                  <a:pt x="280" y="1021"/>
                  <a:pt x="287" y="1078"/>
                  <a:pt x="294" y="1114"/>
                </a:cubicBezTo>
              </a:path>
              <a:path w="1213" h="1115">
                <a:moveTo>
                  <a:pt x="0" y="564"/>
                </a:moveTo>
                <a:cubicBezTo>
                  <a:pt x="78" y="486"/>
                  <a:pt x="144" y="406"/>
                  <a:pt x="213" y="320"/>
                </a:cubicBezTo>
                <a:cubicBezTo>
                  <a:pt x="286" y="228"/>
                  <a:pt x="349" y="107"/>
                  <a:pt x="435" y="26"/>
                </a:cubicBezTo>
                <a:cubicBezTo>
                  <a:pt x="465" y="7"/>
                  <a:pt x="472" y="1"/>
                  <a:pt x="495" y="0"/>
                </a:cubicBezTo>
                <a:cubicBezTo>
                  <a:pt x="538" y="56"/>
                  <a:pt x="550" y="91"/>
                  <a:pt x="567" y="171"/>
                </a:cubicBezTo>
                <a:cubicBezTo>
                  <a:pt x="595" y="306"/>
                  <a:pt x="615" y="444"/>
                  <a:pt x="631" y="581"/>
                </a:cubicBezTo>
                <a:cubicBezTo>
                  <a:pt x="646" y="710"/>
                  <a:pt x="650" y="841"/>
                  <a:pt x="666" y="969"/>
                </a:cubicBezTo>
                <a:cubicBezTo>
                  <a:pt x="669" y="992"/>
                  <a:pt x="667" y="996"/>
                  <a:pt x="674" y="1007"/>
                </a:cubicBezTo>
                <a:cubicBezTo>
                  <a:pt x="692" y="941"/>
                  <a:pt x="694" y="875"/>
                  <a:pt x="704" y="807"/>
                </a:cubicBezTo>
                <a:cubicBezTo>
                  <a:pt x="717" y="713"/>
                  <a:pt x="722" y="620"/>
                  <a:pt x="730" y="525"/>
                </a:cubicBezTo>
                <a:cubicBezTo>
                  <a:pt x="733" y="490"/>
                  <a:pt x="733" y="457"/>
                  <a:pt x="734" y="423"/>
                </a:cubicBezTo>
                <a:cubicBezTo>
                  <a:pt x="741" y="478"/>
                  <a:pt x="746" y="534"/>
                  <a:pt x="755" y="589"/>
                </a:cubicBezTo>
                <a:cubicBezTo>
                  <a:pt x="770" y="676"/>
                  <a:pt x="796" y="761"/>
                  <a:pt x="823" y="845"/>
                </a:cubicBezTo>
                <a:cubicBezTo>
                  <a:pt x="844" y="909"/>
                  <a:pt x="869" y="926"/>
                  <a:pt x="917" y="961"/>
                </a:cubicBezTo>
                <a:cubicBezTo>
                  <a:pt x="997" y="905"/>
                  <a:pt x="1039" y="852"/>
                  <a:pt x="1084" y="760"/>
                </a:cubicBezTo>
                <a:cubicBezTo>
                  <a:pt x="1128" y="669"/>
                  <a:pt x="1152" y="578"/>
                  <a:pt x="1182" y="483"/>
                </a:cubicBezTo>
                <a:cubicBezTo>
                  <a:pt x="1198" y="432"/>
                  <a:pt x="1218" y="381"/>
                  <a:pt x="1199" y="333"/>
                </a:cubicBezTo>
                <a:cubicBezTo>
                  <a:pt x="1193" y="330"/>
                  <a:pt x="1188" y="328"/>
                  <a:pt x="1182" y="325"/>
                </a:cubicBezTo>
                <a:cubicBezTo>
                  <a:pt x="1145" y="356"/>
                  <a:pt x="1127" y="380"/>
                  <a:pt x="1101" y="423"/>
                </a:cubicBezTo>
                <a:cubicBezTo>
                  <a:pt x="1055" y="499"/>
                  <a:pt x="1034" y="579"/>
                  <a:pt x="1016" y="666"/>
                </a:cubicBezTo>
                <a:cubicBezTo>
                  <a:pt x="1002" y="730"/>
                  <a:pt x="977" y="864"/>
                  <a:pt x="1050" y="905"/>
                </a:cubicBezTo>
                <a:cubicBezTo>
                  <a:pt x="1099" y="932"/>
                  <a:pt x="1141" y="892"/>
                  <a:pt x="1186" y="87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2" name="Freeform 59"/>
          <p:cNvSpPr/>
          <p:nvPr/>
        </p:nvSpPr>
        <p:spPr>
          <a:xfrm>
            <a:off x="7578720" y="2700360"/>
            <a:ext cx="1419120" cy="728640"/>
          </a:xfrm>
          <a:custGeom>
            <a:avLst/>
            <a:gdLst/>
            <a:ahLst/>
            <a:rect l="l" t="t" r="r" b="b"/>
            <a:pathLst>
              <a:path w="3944" h="2023">
                <a:moveTo>
                  <a:pt x="0" y="1668"/>
                </a:moveTo>
                <a:cubicBezTo>
                  <a:pt x="21" y="1735"/>
                  <a:pt x="35" y="1804"/>
                  <a:pt x="52" y="1873"/>
                </a:cubicBezTo>
                <a:cubicBezTo>
                  <a:pt x="65" y="1923"/>
                  <a:pt x="78" y="1971"/>
                  <a:pt x="98" y="2018"/>
                </a:cubicBezTo>
                <a:cubicBezTo>
                  <a:pt x="137" y="2011"/>
                  <a:pt x="149" y="2008"/>
                  <a:pt x="171" y="1963"/>
                </a:cubicBezTo>
                <a:cubicBezTo>
                  <a:pt x="215" y="1875"/>
                  <a:pt x="245" y="1775"/>
                  <a:pt x="273" y="1681"/>
                </a:cubicBezTo>
                <a:cubicBezTo>
                  <a:pt x="301" y="1586"/>
                  <a:pt x="324" y="1488"/>
                  <a:pt x="342" y="1391"/>
                </a:cubicBezTo>
                <a:cubicBezTo>
                  <a:pt x="345" y="1374"/>
                  <a:pt x="347" y="1357"/>
                  <a:pt x="350" y="1340"/>
                </a:cubicBezTo>
              </a:path>
              <a:path w="3944" h="2023">
                <a:moveTo>
                  <a:pt x="559" y="1361"/>
                </a:moveTo>
                <a:cubicBezTo>
                  <a:pt x="526" y="1432"/>
                  <a:pt x="497" y="1500"/>
                  <a:pt x="470" y="1574"/>
                </a:cubicBezTo>
                <a:cubicBezTo>
                  <a:pt x="444" y="1646"/>
                  <a:pt x="392" y="1761"/>
                  <a:pt x="414" y="1839"/>
                </a:cubicBezTo>
                <a:cubicBezTo>
                  <a:pt x="420" y="1849"/>
                  <a:pt x="425" y="1859"/>
                  <a:pt x="431" y="1869"/>
                </a:cubicBezTo>
                <a:cubicBezTo>
                  <a:pt x="477" y="1865"/>
                  <a:pt x="473" y="1886"/>
                  <a:pt x="521" y="1830"/>
                </a:cubicBezTo>
                <a:cubicBezTo>
                  <a:pt x="572" y="1770"/>
                  <a:pt x="600" y="1701"/>
                  <a:pt x="623" y="1626"/>
                </a:cubicBezTo>
                <a:cubicBezTo>
                  <a:pt x="644" y="1555"/>
                  <a:pt x="657" y="1478"/>
                  <a:pt x="662" y="1404"/>
                </a:cubicBezTo>
                <a:cubicBezTo>
                  <a:pt x="664" y="1380"/>
                  <a:pt x="660" y="1359"/>
                  <a:pt x="657" y="1335"/>
                </a:cubicBezTo>
                <a:cubicBezTo>
                  <a:pt x="649" y="1366"/>
                  <a:pt x="637" y="1394"/>
                  <a:pt x="636" y="1434"/>
                </a:cubicBezTo>
                <a:cubicBezTo>
                  <a:pt x="633" y="1534"/>
                  <a:pt x="627" y="1657"/>
                  <a:pt x="679" y="1745"/>
                </a:cubicBezTo>
                <a:cubicBezTo>
                  <a:pt x="685" y="1749"/>
                  <a:pt x="690" y="1754"/>
                  <a:pt x="696" y="1758"/>
                </a:cubicBezTo>
                <a:cubicBezTo>
                  <a:pt x="744" y="1733"/>
                  <a:pt x="772" y="1716"/>
                  <a:pt x="807" y="1664"/>
                </a:cubicBezTo>
                <a:cubicBezTo>
                  <a:pt x="892" y="1538"/>
                  <a:pt x="946" y="1371"/>
                  <a:pt x="982" y="1224"/>
                </a:cubicBezTo>
                <a:cubicBezTo>
                  <a:pt x="989" y="1195"/>
                  <a:pt x="993" y="1192"/>
                  <a:pt x="1012" y="1169"/>
                </a:cubicBezTo>
                <a:cubicBezTo>
                  <a:pt x="1015" y="1261"/>
                  <a:pt x="1008" y="1353"/>
                  <a:pt x="1007" y="1446"/>
                </a:cubicBezTo>
                <a:cubicBezTo>
                  <a:pt x="1007" y="1506"/>
                  <a:pt x="990" y="1654"/>
                  <a:pt x="1029" y="1707"/>
                </a:cubicBezTo>
                <a:cubicBezTo>
                  <a:pt x="1046" y="1719"/>
                  <a:pt x="1052" y="1723"/>
                  <a:pt x="1067" y="1715"/>
                </a:cubicBezTo>
                <a:cubicBezTo>
                  <a:pt x="1122" y="1647"/>
                  <a:pt x="1158" y="1579"/>
                  <a:pt x="1187" y="1493"/>
                </a:cubicBezTo>
                <a:cubicBezTo>
                  <a:pt x="1217" y="1404"/>
                  <a:pt x="1241" y="1311"/>
                  <a:pt x="1263" y="1220"/>
                </a:cubicBezTo>
                <a:cubicBezTo>
                  <a:pt x="1272" y="1183"/>
                  <a:pt x="1282" y="1148"/>
                  <a:pt x="1293" y="1113"/>
                </a:cubicBezTo>
                <a:cubicBezTo>
                  <a:pt x="1297" y="1165"/>
                  <a:pt x="1292" y="1215"/>
                  <a:pt x="1293" y="1267"/>
                </a:cubicBezTo>
                <a:cubicBezTo>
                  <a:pt x="1294" y="1345"/>
                  <a:pt x="1295" y="1428"/>
                  <a:pt x="1306" y="1506"/>
                </a:cubicBezTo>
                <a:cubicBezTo>
                  <a:pt x="1311" y="1540"/>
                  <a:pt x="1322" y="1568"/>
                  <a:pt x="1332" y="1600"/>
                </a:cubicBezTo>
                <a:cubicBezTo>
                  <a:pt x="1375" y="1574"/>
                  <a:pt x="1385" y="1561"/>
                  <a:pt x="1409" y="1506"/>
                </a:cubicBezTo>
                <a:cubicBezTo>
                  <a:pt x="1448" y="1418"/>
                  <a:pt x="1466" y="1329"/>
                  <a:pt x="1490" y="1237"/>
                </a:cubicBezTo>
                <a:cubicBezTo>
                  <a:pt x="1508" y="1167"/>
                  <a:pt x="1523" y="1092"/>
                  <a:pt x="1549" y="1024"/>
                </a:cubicBezTo>
                <a:cubicBezTo>
                  <a:pt x="1552" y="1018"/>
                  <a:pt x="1555" y="1013"/>
                  <a:pt x="1558" y="1007"/>
                </a:cubicBezTo>
                <a:cubicBezTo>
                  <a:pt x="1573" y="1059"/>
                  <a:pt x="1568" y="1096"/>
                  <a:pt x="1571" y="1152"/>
                </a:cubicBezTo>
                <a:cubicBezTo>
                  <a:pt x="1576" y="1258"/>
                  <a:pt x="1575" y="1371"/>
                  <a:pt x="1592" y="1476"/>
                </a:cubicBezTo>
                <a:cubicBezTo>
                  <a:pt x="1599" y="1519"/>
                  <a:pt x="1607" y="1635"/>
                  <a:pt x="1648" y="1664"/>
                </a:cubicBezTo>
                <a:cubicBezTo>
                  <a:pt x="1668" y="1673"/>
                  <a:pt x="1674" y="1673"/>
                  <a:pt x="1669" y="1643"/>
                </a:cubicBezTo>
              </a:path>
              <a:path w="3944" h="2023">
                <a:moveTo>
                  <a:pt x="1520" y="798"/>
                </a:moveTo>
                <a:cubicBezTo>
                  <a:pt x="1527" y="836"/>
                  <a:pt x="1526" y="846"/>
                  <a:pt x="1528" y="879"/>
                </a:cubicBezTo>
                <a:cubicBezTo>
                  <a:pt x="1547" y="877"/>
                  <a:pt x="1539" y="865"/>
                  <a:pt x="1554" y="853"/>
                </a:cubicBezTo>
              </a:path>
              <a:path w="3944" h="2023">
                <a:moveTo>
                  <a:pt x="1929" y="772"/>
                </a:moveTo>
                <a:cubicBezTo>
                  <a:pt x="1917" y="806"/>
                  <a:pt x="1888" y="841"/>
                  <a:pt x="1861" y="870"/>
                </a:cubicBezTo>
                <a:cubicBezTo>
                  <a:pt x="1823" y="910"/>
                  <a:pt x="1797" y="955"/>
                  <a:pt x="1763" y="998"/>
                </a:cubicBezTo>
                <a:cubicBezTo>
                  <a:pt x="1740" y="1027"/>
                  <a:pt x="1707" y="1065"/>
                  <a:pt x="1703" y="1105"/>
                </a:cubicBezTo>
                <a:cubicBezTo>
                  <a:pt x="1699" y="1140"/>
                  <a:pt x="1736" y="1150"/>
                  <a:pt x="1763" y="1152"/>
                </a:cubicBezTo>
                <a:cubicBezTo>
                  <a:pt x="1814" y="1156"/>
                  <a:pt x="1865" y="1142"/>
                  <a:pt x="1916" y="1143"/>
                </a:cubicBezTo>
                <a:cubicBezTo>
                  <a:pt x="1952" y="1144"/>
                  <a:pt x="2016" y="1144"/>
                  <a:pt x="2032" y="1186"/>
                </a:cubicBezTo>
                <a:cubicBezTo>
                  <a:pt x="2053" y="1242"/>
                  <a:pt x="2012" y="1307"/>
                  <a:pt x="1985" y="1352"/>
                </a:cubicBezTo>
                <a:cubicBezTo>
                  <a:pt x="1949" y="1413"/>
                  <a:pt x="1901" y="1476"/>
                  <a:pt x="1840" y="1515"/>
                </a:cubicBezTo>
                <a:cubicBezTo>
                  <a:pt x="1782" y="1552"/>
                  <a:pt x="1817" y="1532"/>
                  <a:pt x="1780" y="1510"/>
                </a:cubicBezTo>
              </a:path>
              <a:path w="3944" h="2023">
                <a:moveTo>
                  <a:pt x="2177" y="315"/>
                </a:moveTo>
                <a:cubicBezTo>
                  <a:pt x="2204" y="446"/>
                  <a:pt x="2228" y="577"/>
                  <a:pt x="2258" y="708"/>
                </a:cubicBezTo>
                <a:cubicBezTo>
                  <a:pt x="2285" y="828"/>
                  <a:pt x="2307" y="955"/>
                  <a:pt x="2347" y="1071"/>
                </a:cubicBezTo>
                <a:cubicBezTo>
                  <a:pt x="2358" y="1103"/>
                  <a:pt x="2372" y="1133"/>
                  <a:pt x="2382" y="1165"/>
                </a:cubicBezTo>
                <a:cubicBezTo>
                  <a:pt x="2383" y="1125"/>
                  <a:pt x="2387" y="1085"/>
                  <a:pt x="2390" y="1045"/>
                </a:cubicBezTo>
                <a:cubicBezTo>
                  <a:pt x="2396" y="963"/>
                  <a:pt x="2395" y="880"/>
                  <a:pt x="2403" y="798"/>
                </a:cubicBezTo>
                <a:cubicBezTo>
                  <a:pt x="2408" y="750"/>
                  <a:pt x="2417" y="702"/>
                  <a:pt x="2428" y="657"/>
                </a:cubicBezTo>
                <a:cubicBezTo>
                  <a:pt x="2448" y="691"/>
                  <a:pt x="2472" y="729"/>
                  <a:pt x="2484" y="768"/>
                </a:cubicBezTo>
                <a:cubicBezTo>
                  <a:pt x="2509" y="844"/>
                  <a:pt x="2526" y="923"/>
                  <a:pt x="2556" y="998"/>
                </a:cubicBezTo>
                <a:cubicBezTo>
                  <a:pt x="2561" y="1009"/>
                  <a:pt x="2605" y="1128"/>
                  <a:pt x="2629" y="1122"/>
                </a:cubicBezTo>
                <a:cubicBezTo>
                  <a:pt x="2640" y="1102"/>
                  <a:pt x="2645" y="1093"/>
                  <a:pt x="2655" y="1079"/>
                </a:cubicBezTo>
              </a:path>
              <a:path w="3944" h="2023">
                <a:moveTo>
                  <a:pt x="2877" y="802"/>
                </a:moveTo>
                <a:cubicBezTo>
                  <a:pt x="2884" y="902"/>
                  <a:pt x="2889" y="1001"/>
                  <a:pt x="2898" y="1101"/>
                </a:cubicBezTo>
                <a:cubicBezTo>
                  <a:pt x="2901" y="1130"/>
                  <a:pt x="2907" y="1154"/>
                  <a:pt x="2911" y="1182"/>
                </a:cubicBezTo>
                <a:cubicBezTo>
                  <a:pt x="2906" y="1144"/>
                  <a:pt x="2907" y="1134"/>
                  <a:pt x="2911" y="1096"/>
                </a:cubicBezTo>
              </a:path>
              <a:path w="3944" h="2023">
                <a:moveTo>
                  <a:pt x="2727" y="132"/>
                </a:moveTo>
                <a:cubicBezTo>
                  <a:pt x="2746" y="179"/>
                  <a:pt x="2754" y="236"/>
                  <a:pt x="2778" y="281"/>
                </a:cubicBezTo>
                <a:cubicBezTo>
                  <a:pt x="2795" y="314"/>
                  <a:pt x="2812" y="301"/>
                  <a:pt x="2842" y="298"/>
                </a:cubicBezTo>
              </a:path>
              <a:path w="3944" h="2023">
                <a:moveTo>
                  <a:pt x="3171" y="636"/>
                </a:moveTo>
                <a:cubicBezTo>
                  <a:pt x="3192" y="733"/>
                  <a:pt x="3196" y="823"/>
                  <a:pt x="3209" y="921"/>
                </a:cubicBezTo>
                <a:cubicBezTo>
                  <a:pt x="3213" y="949"/>
                  <a:pt x="3225" y="996"/>
                  <a:pt x="3231" y="1011"/>
                </a:cubicBezTo>
                <a:cubicBezTo>
                  <a:pt x="3253" y="951"/>
                  <a:pt x="3256" y="898"/>
                  <a:pt x="3265" y="836"/>
                </a:cubicBezTo>
                <a:cubicBezTo>
                  <a:pt x="3281" y="723"/>
                  <a:pt x="3304" y="612"/>
                  <a:pt x="3320" y="499"/>
                </a:cubicBezTo>
                <a:cubicBezTo>
                  <a:pt x="3329" y="433"/>
                  <a:pt x="3336" y="367"/>
                  <a:pt x="3363" y="307"/>
                </a:cubicBezTo>
                <a:cubicBezTo>
                  <a:pt x="3395" y="342"/>
                  <a:pt x="3412" y="374"/>
                  <a:pt x="3427" y="431"/>
                </a:cubicBezTo>
                <a:cubicBezTo>
                  <a:pt x="3456" y="544"/>
                  <a:pt x="3481" y="658"/>
                  <a:pt x="3521" y="768"/>
                </a:cubicBezTo>
                <a:cubicBezTo>
                  <a:pt x="3537" y="813"/>
                  <a:pt x="3554" y="865"/>
                  <a:pt x="3602" y="853"/>
                </a:cubicBezTo>
                <a:cubicBezTo>
                  <a:pt x="3629" y="843"/>
                  <a:pt x="3639" y="834"/>
                  <a:pt x="3640" y="806"/>
                </a:cubicBezTo>
              </a:path>
              <a:path w="3944" h="2023">
                <a:moveTo>
                  <a:pt x="3901" y="375"/>
                </a:moveTo>
                <a:cubicBezTo>
                  <a:pt x="3897" y="359"/>
                  <a:pt x="3895" y="353"/>
                  <a:pt x="3892" y="337"/>
                </a:cubicBezTo>
                <a:cubicBezTo>
                  <a:pt x="3882" y="290"/>
                  <a:pt x="3871" y="243"/>
                  <a:pt x="3858" y="196"/>
                </a:cubicBezTo>
                <a:cubicBezTo>
                  <a:pt x="3835" y="112"/>
                  <a:pt x="3799" y="55"/>
                  <a:pt x="3739" y="0"/>
                </a:cubicBezTo>
                <a:cubicBezTo>
                  <a:pt x="3706" y="37"/>
                  <a:pt x="3701" y="47"/>
                  <a:pt x="3692" y="106"/>
                </a:cubicBezTo>
                <a:cubicBezTo>
                  <a:pt x="3680" y="179"/>
                  <a:pt x="3692" y="262"/>
                  <a:pt x="3713" y="333"/>
                </a:cubicBezTo>
                <a:cubicBezTo>
                  <a:pt x="3728" y="384"/>
                  <a:pt x="3755" y="444"/>
                  <a:pt x="3798" y="478"/>
                </a:cubicBezTo>
                <a:cubicBezTo>
                  <a:pt x="3837" y="509"/>
                  <a:pt x="3851" y="499"/>
                  <a:pt x="3879" y="465"/>
                </a:cubicBezTo>
                <a:cubicBezTo>
                  <a:pt x="3906" y="432"/>
                  <a:pt x="3923" y="382"/>
                  <a:pt x="3931" y="341"/>
                </a:cubicBezTo>
                <a:cubicBezTo>
                  <a:pt x="3936" y="314"/>
                  <a:pt x="3938" y="287"/>
                  <a:pt x="3943" y="260"/>
                </a:cubicBezTo>
                <a:cubicBezTo>
                  <a:pt x="3941" y="294"/>
                  <a:pt x="3941" y="311"/>
                  <a:pt x="3939" y="345"/>
                </a:cubicBezTo>
                <a:cubicBezTo>
                  <a:pt x="3933" y="466"/>
                  <a:pt x="3930" y="587"/>
                  <a:pt x="3926" y="708"/>
                </a:cubicBezTo>
                <a:cubicBezTo>
                  <a:pt x="3918" y="937"/>
                  <a:pt x="3916" y="1167"/>
                  <a:pt x="3892" y="1395"/>
                </a:cubicBezTo>
                <a:cubicBezTo>
                  <a:pt x="3884" y="1475"/>
                  <a:pt x="3870" y="1578"/>
                  <a:pt x="3815" y="1643"/>
                </a:cubicBezTo>
                <a:cubicBezTo>
                  <a:pt x="3773" y="1692"/>
                  <a:pt x="3684" y="1682"/>
                  <a:pt x="3628" y="1677"/>
                </a:cubicBezTo>
                <a:cubicBezTo>
                  <a:pt x="3539" y="1669"/>
                  <a:pt x="3452" y="1655"/>
                  <a:pt x="3363" y="1651"/>
                </a:cubicBezTo>
                <a:cubicBezTo>
                  <a:pt x="3346" y="1651"/>
                  <a:pt x="3329" y="1651"/>
                  <a:pt x="3312" y="165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3" name="Freeform 60"/>
          <p:cNvSpPr/>
          <p:nvPr/>
        </p:nvSpPr>
        <p:spPr>
          <a:xfrm>
            <a:off x="6039000" y="3760920"/>
            <a:ext cx="887400" cy="699840"/>
          </a:xfrm>
          <a:custGeom>
            <a:avLst/>
            <a:gdLst/>
            <a:ahLst/>
            <a:rect l="l" t="t" r="r" b="b"/>
            <a:pathLst>
              <a:path w="2464" h="1947">
                <a:moveTo>
                  <a:pt x="508" y="832"/>
                </a:moveTo>
                <a:cubicBezTo>
                  <a:pt x="508" y="850"/>
                  <a:pt x="508" y="861"/>
                  <a:pt x="508" y="879"/>
                </a:cubicBezTo>
                <a:cubicBezTo>
                  <a:pt x="508" y="970"/>
                  <a:pt x="512" y="1058"/>
                  <a:pt x="517" y="1148"/>
                </a:cubicBezTo>
                <a:cubicBezTo>
                  <a:pt x="528" y="1362"/>
                  <a:pt x="531" y="1577"/>
                  <a:pt x="538" y="1792"/>
                </a:cubicBezTo>
                <a:cubicBezTo>
                  <a:pt x="539" y="1809"/>
                  <a:pt x="553" y="1951"/>
                  <a:pt x="555" y="1938"/>
                </a:cubicBezTo>
                <a:cubicBezTo>
                  <a:pt x="554" y="1922"/>
                  <a:pt x="552" y="1907"/>
                  <a:pt x="551" y="1891"/>
                </a:cubicBezTo>
              </a:path>
              <a:path w="2464" h="1947">
                <a:moveTo>
                  <a:pt x="0" y="1221"/>
                </a:moveTo>
                <a:cubicBezTo>
                  <a:pt x="43" y="1161"/>
                  <a:pt x="87" y="1102"/>
                  <a:pt x="137" y="1046"/>
                </a:cubicBezTo>
                <a:cubicBezTo>
                  <a:pt x="240" y="932"/>
                  <a:pt x="351" y="826"/>
                  <a:pt x="474" y="734"/>
                </a:cubicBezTo>
                <a:cubicBezTo>
                  <a:pt x="563" y="667"/>
                  <a:pt x="678" y="582"/>
                  <a:pt x="794" y="576"/>
                </a:cubicBezTo>
                <a:cubicBezTo>
                  <a:pt x="865" y="572"/>
                  <a:pt x="921" y="622"/>
                  <a:pt x="931" y="691"/>
                </a:cubicBezTo>
                <a:cubicBezTo>
                  <a:pt x="950" y="815"/>
                  <a:pt x="894" y="953"/>
                  <a:pt x="845" y="1063"/>
                </a:cubicBezTo>
                <a:cubicBezTo>
                  <a:pt x="824" y="1111"/>
                  <a:pt x="765" y="1284"/>
                  <a:pt x="709" y="1306"/>
                </a:cubicBezTo>
                <a:cubicBezTo>
                  <a:pt x="694" y="1296"/>
                  <a:pt x="690" y="1291"/>
                  <a:pt x="700" y="1276"/>
                </a:cubicBezTo>
              </a:path>
              <a:path w="2464" h="1947">
                <a:moveTo>
                  <a:pt x="1114" y="892"/>
                </a:moveTo>
                <a:cubicBezTo>
                  <a:pt x="1103" y="992"/>
                  <a:pt x="1070" y="1084"/>
                  <a:pt x="1054" y="1182"/>
                </a:cubicBezTo>
                <a:cubicBezTo>
                  <a:pt x="1049" y="1212"/>
                  <a:pt x="1050" y="1238"/>
                  <a:pt x="1054" y="1268"/>
                </a:cubicBezTo>
                <a:cubicBezTo>
                  <a:pt x="1090" y="1282"/>
                  <a:pt x="1107" y="1246"/>
                  <a:pt x="1127" y="1216"/>
                </a:cubicBezTo>
                <a:cubicBezTo>
                  <a:pt x="1178" y="1142"/>
                  <a:pt x="1196" y="1060"/>
                  <a:pt x="1212" y="973"/>
                </a:cubicBezTo>
                <a:cubicBezTo>
                  <a:pt x="1228" y="889"/>
                  <a:pt x="1238" y="796"/>
                  <a:pt x="1195" y="717"/>
                </a:cubicBezTo>
                <a:cubicBezTo>
                  <a:pt x="1169" y="669"/>
                  <a:pt x="1119" y="639"/>
                  <a:pt x="1071" y="674"/>
                </a:cubicBezTo>
                <a:cubicBezTo>
                  <a:pt x="1018" y="713"/>
                  <a:pt x="998" y="801"/>
                  <a:pt x="995" y="862"/>
                </a:cubicBezTo>
                <a:cubicBezTo>
                  <a:pt x="993" y="921"/>
                  <a:pt x="1010" y="951"/>
                  <a:pt x="1037" y="999"/>
                </a:cubicBezTo>
              </a:path>
              <a:path w="2464" h="1947">
                <a:moveTo>
                  <a:pt x="1417" y="726"/>
                </a:moveTo>
                <a:cubicBezTo>
                  <a:pt x="1414" y="800"/>
                  <a:pt x="1419" y="874"/>
                  <a:pt x="1421" y="948"/>
                </a:cubicBezTo>
                <a:cubicBezTo>
                  <a:pt x="1422" y="992"/>
                  <a:pt x="1426" y="1036"/>
                  <a:pt x="1426" y="1080"/>
                </a:cubicBezTo>
                <a:cubicBezTo>
                  <a:pt x="1426" y="1083"/>
                  <a:pt x="1426" y="1085"/>
                  <a:pt x="1426" y="1088"/>
                </a:cubicBezTo>
                <a:cubicBezTo>
                  <a:pt x="1424" y="1060"/>
                  <a:pt x="1424" y="1035"/>
                  <a:pt x="1426" y="1007"/>
                </a:cubicBezTo>
              </a:path>
              <a:path w="2464" h="1947">
                <a:moveTo>
                  <a:pt x="1315" y="278"/>
                </a:moveTo>
                <a:cubicBezTo>
                  <a:pt x="1313" y="313"/>
                  <a:pt x="1320" y="346"/>
                  <a:pt x="1332" y="380"/>
                </a:cubicBezTo>
                <a:cubicBezTo>
                  <a:pt x="1339" y="398"/>
                  <a:pt x="1339" y="403"/>
                  <a:pt x="1349" y="410"/>
                </a:cubicBezTo>
                <a:cubicBezTo>
                  <a:pt x="1363" y="393"/>
                  <a:pt x="1370" y="376"/>
                  <a:pt x="1383" y="354"/>
                </a:cubicBezTo>
              </a:path>
              <a:path w="2464" h="1947">
                <a:moveTo>
                  <a:pt x="1682" y="832"/>
                </a:moveTo>
                <a:cubicBezTo>
                  <a:pt x="1671" y="880"/>
                  <a:pt x="1660" y="928"/>
                  <a:pt x="1652" y="977"/>
                </a:cubicBezTo>
                <a:cubicBezTo>
                  <a:pt x="1652" y="980"/>
                  <a:pt x="1652" y="983"/>
                  <a:pt x="1652" y="986"/>
                </a:cubicBezTo>
                <a:cubicBezTo>
                  <a:pt x="1652" y="953"/>
                  <a:pt x="1656" y="911"/>
                  <a:pt x="1660" y="875"/>
                </a:cubicBezTo>
                <a:cubicBezTo>
                  <a:pt x="1672" y="752"/>
                  <a:pt x="1684" y="630"/>
                  <a:pt x="1699" y="508"/>
                </a:cubicBezTo>
                <a:cubicBezTo>
                  <a:pt x="1706" y="449"/>
                  <a:pt x="1708" y="379"/>
                  <a:pt x="1741" y="333"/>
                </a:cubicBezTo>
                <a:cubicBezTo>
                  <a:pt x="1796" y="377"/>
                  <a:pt x="1817" y="431"/>
                  <a:pt x="1840" y="499"/>
                </a:cubicBezTo>
                <a:cubicBezTo>
                  <a:pt x="1879" y="614"/>
                  <a:pt x="1910" y="732"/>
                  <a:pt x="1942" y="849"/>
                </a:cubicBezTo>
                <a:cubicBezTo>
                  <a:pt x="1959" y="912"/>
                  <a:pt x="1965" y="1007"/>
                  <a:pt x="2002" y="1063"/>
                </a:cubicBezTo>
                <a:cubicBezTo>
                  <a:pt x="2005" y="1063"/>
                  <a:pt x="2007" y="1063"/>
                  <a:pt x="2010" y="1063"/>
                </a:cubicBezTo>
                <a:cubicBezTo>
                  <a:pt x="2033" y="997"/>
                  <a:pt x="2025" y="928"/>
                  <a:pt x="2027" y="858"/>
                </a:cubicBezTo>
              </a:path>
              <a:path w="2464" h="1947">
                <a:moveTo>
                  <a:pt x="2164" y="0"/>
                </a:moveTo>
                <a:cubicBezTo>
                  <a:pt x="2184" y="45"/>
                  <a:pt x="2199" y="86"/>
                  <a:pt x="2198" y="137"/>
                </a:cubicBezTo>
                <a:cubicBezTo>
                  <a:pt x="2197" y="214"/>
                  <a:pt x="2184" y="294"/>
                  <a:pt x="2177" y="371"/>
                </a:cubicBezTo>
                <a:cubicBezTo>
                  <a:pt x="2166" y="490"/>
                  <a:pt x="2156" y="607"/>
                  <a:pt x="2160" y="726"/>
                </a:cubicBezTo>
                <a:cubicBezTo>
                  <a:pt x="2163" y="815"/>
                  <a:pt x="2162" y="918"/>
                  <a:pt x="2207" y="999"/>
                </a:cubicBezTo>
                <a:cubicBezTo>
                  <a:pt x="2235" y="1050"/>
                  <a:pt x="2280" y="1057"/>
                  <a:pt x="2326" y="1029"/>
                </a:cubicBezTo>
                <a:cubicBezTo>
                  <a:pt x="2382" y="995"/>
                  <a:pt x="2432" y="906"/>
                  <a:pt x="2450" y="845"/>
                </a:cubicBezTo>
                <a:cubicBezTo>
                  <a:pt x="2454" y="819"/>
                  <a:pt x="2459" y="794"/>
                  <a:pt x="2463" y="768"/>
                </a:cubicBezTo>
              </a:path>
              <a:path w="2464" h="1947">
                <a:moveTo>
                  <a:pt x="2096" y="324"/>
                </a:moveTo>
                <a:cubicBezTo>
                  <a:pt x="2125" y="326"/>
                  <a:pt x="2144" y="325"/>
                  <a:pt x="2172" y="312"/>
                </a:cubicBezTo>
                <a:cubicBezTo>
                  <a:pt x="2221" y="289"/>
                  <a:pt x="2261" y="268"/>
                  <a:pt x="2296" y="23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4" name="Freeform 61"/>
          <p:cNvSpPr/>
          <p:nvPr/>
        </p:nvSpPr>
        <p:spPr>
          <a:xfrm>
            <a:off x="7191360" y="3565440"/>
            <a:ext cx="571680" cy="441360"/>
          </a:xfrm>
          <a:custGeom>
            <a:avLst/>
            <a:gdLst/>
            <a:ahLst/>
            <a:rect l="l" t="t" r="r" b="b"/>
            <a:pathLst>
              <a:path w="1588" h="1226">
                <a:moveTo>
                  <a:pt x="201" y="226"/>
                </a:moveTo>
                <a:cubicBezTo>
                  <a:pt x="204" y="225"/>
                  <a:pt x="206" y="223"/>
                  <a:pt x="209" y="222"/>
                </a:cubicBezTo>
                <a:cubicBezTo>
                  <a:pt x="206" y="216"/>
                  <a:pt x="206" y="196"/>
                  <a:pt x="201" y="197"/>
                </a:cubicBezTo>
                <a:cubicBezTo>
                  <a:pt x="191" y="198"/>
                  <a:pt x="187" y="226"/>
                  <a:pt x="183" y="235"/>
                </a:cubicBezTo>
                <a:cubicBezTo>
                  <a:pt x="153" y="301"/>
                  <a:pt x="140" y="375"/>
                  <a:pt x="119" y="444"/>
                </a:cubicBezTo>
                <a:cubicBezTo>
                  <a:pt x="79" y="573"/>
                  <a:pt x="40" y="707"/>
                  <a:pt x="17" y="841"/>
                </a:cubicBezTo>
                <a:cubicBezTo>
                  <a:pt x="0" y="939"/>
                  <a:pt x="-23" y="1074"/>
                  <a:pt x="17" y="1169"/>
                </a:cubicBezTo>
                <a:cubicBezTo>
                  <a:pt x="45" y="1234"/>
                  <a:pt x="120" y="1233"/>
                  <a:pt x="175" y="1204"/>
                </a:cubicBezTo>
                <a:cubicBezTo>
                  <a:pt x="281" y="1148"/>
                  <a:pt x="363" y="1017"/>
                  <a:pt x="405" y="909"/>
                </a:cubicBezTo>
                <a:cubicBezTo>
                  <a:pt x="440" y="820"/>
                  <a:pt x="449" y="728"/>
                  <a:pt x="422" y="636"/>
                </a:cubicBezTo>
                <a:cubicBezTo>
                  <a:pt x="401" y="565"/>
                  <a:pt x="356" y="519"/>
                  <a:pt x="286" y="499"/>
                </a:cubicBezTo>
                <a:cubicBezTo>
                  <a:pt x="230" y="483"/>
                  <a:pt x="196" y="505"/>
                  <a:pt x="158" y="542"/>
                </a:cubicBezTo>
                <a:cubicBezTo>
                  <a:pt x="148" y="552"/>
                  <a:pt x="121" y="611"/>
                  <a:pt x="158" y="606"/>
                </a:cubicBezTo>
                <a:cubicBezTo>
                  <a:pt x="183" y="606"/>
                  <a:pt x="193" y="603"/>
                  <a:pt x="201" y="581"/>
                </a:cubicBezTo>
              </a:path>
              <a:path w="1588" h="1226">
                <a:moveTo>
                  <a:pt x="683" y="389"/>
                </a:moveTo>
                <a:cubicBezTo>
                  <a:pt x="677" y="388"/>
                  <a:pt x="664" y="375"/>
                  <a:pt x="657" y="380"/>
                </a:cubicBezTo>
                <a:cubicBezTo>
                  <a:pt x="639" y="392"/>
                  <a:pt x="639" y="437"/>
                  <a:pt x="636" y="453"/>
                </a:cubicBezTo>
                <a:cubicBezTo>
                  <a:pt x="622" y="526"/>
                  <a:pt x="615" y="600"/>
                  <a:pt x="610" y="674"/>
                </a:cubicBezTo>
                <a:cubicBezTo>
                  <a:pt x="605" y="746"/>
                  <a:pt x="593" y="821"/>
                  <a:pt x="610" y="892"/>
                </a:cubicBezTo>
                <a:cubicBezTo>
                  <a:pt x="613" y="901"/>
                  <a:pt x="616" y="909"/>
                  <a:pt x="619" y="918"/>
                </a:cubicBezTo>
                <a:cubicBezTo>
                  <a:pt x="666" y="915"/>
                  <a:pt x="690" y="865"/>
                  <a:pt x="717" y="824"/>
                </a:cubicBezTo>
                <a:cubicBezTo>
                  <a:pt x="770" y="743"/>
                  <a:pt x="806" y="641"/>
                  <a:pt x="841" y="551"/>
                </a:cubicBezTo>
                <a:cubicBezTo>
                  <a:pt x="870" y="477"/>
                  <a:pt x="890" y="400"/>
                  <a:pt x="917" y="325"/>
                </a:cubicBezTo>
                <a:cubicBezTo>
                  <a:pt x="925" y="308"/>
                  <a:pt x="927" y="303"/>
                  <a:pt x="939" y="299"/>
                </a:cubicBezTo>
                <a:cubicBezTo>
                  <a:pt x="942" y="357"/>
                  <a:pt x="943" y="415"/>
                  <a:pt x="943" y="474"/>
                </a:cubicBezTo>
                <a:cubicBezTo>
                  <a:pt x="943" y="579"/>
                  <a:pt x="936" y="690"/>
                  <a:pt x="947" y="794"/>
                </a:cubicBezTo>
                <a:cubicBezTo>
                  <a:pt x="953" y="845"/>
                  <a:pt x="967" y="883"/>
                  <a:pt x="990" y="926"/>
                </a:cubicBezTo>
                <a:cubicBezTo>
                  <a:pt x="1049" y="917"/>
                  <a:pt x="1066" y="854"/>
                  <a:pt x="1088" y="798"/>
                </a:cubicBezTo>
                <a:cubicBezTo>
                  <a:pt x="1126" y="702"/>
                  <a:pt x="1144" y="623"/>
                  <a:pt x="1161" y="521"/>
                </a:cubicBezTo>
              </a:path>
              <a:path w="1588" h="1226">
                <a:moveTo>
                  <a:pt x="1357" y="4"/>
                </a:moveTo>
                <a:cubicBezTo>
                  <a:pt x="1357" y="4"/>
                  <a:pt x="1349" y="8"/>
                  <a:pt x="1348" y="34"/>
                </a:cubicBezTo>
                <a:cubicBezTo>
                  <a:pt x="1345" y="105"/>
                  <a:pt x="1346" y="177"/>
                  <a:pt x="1344" y="248"/>
                </a:cubicBezTo>
                <a:cubicBezTo>
                  <a:pt x="1340" y="359"/>
                  <a:pt x="1339" y="470"/>
                  <a:pt x="1340" y="581"/>
                </a:cubicBezTo>
                <a:cubicBezTo>
                  <a:pt x="1341" y="633"/>
                  <a:pt x="1333" y="719"/>
                  <a:pt x="1378" y="760"/>
                </a:cubicBezTo>
                <a:cubicBezTo>
                  <a:pt x="1409" y="788"/>
                  <a:pt x="1454" y="725"/>
                  <a:pt x="1468" y="709"/>
                </a:cubicBezTo>
                <a:cubicBezTo>
                  <a:pt x="1510" y="660"/>
                  <a:pt x="1552" y="589"/>
                  <a:pt x="1575" y="529"/>
                </a:cubicBezTo>
                <a:cubicBezTo>
                  <a:pt x="1579" y="512"/>
                  <a:pt x="1583" y="495"/>
                  <a:pt x="1587" y="478"/>
                </a:cubicBezTo>
              </a:path>
              <a:path w="1588" h="1226">
                <a:moveTo>
                  <a:pt x="1216" y="256"/>
                </a:moveTo>
                <a:cubicBezTo>
                  <a:pt x="1244" y="274"/>
                  <a:pt x="1264" y="271"/>
                  <a:pt x="1301" y="265"/>
                </a:cubicBezTo>
                <a:cubicBezTo>
                  <a:pt x="1357" y="256"/>
                  <a:pt x="1442" y="216"/>
                  <a:pt x="1489" y="188"/>
                </a:cubicBezTo>
                <a:cubicBezTo>
                  <a:pt x="1505" y="175"/>
                  <a:pt x="1520" y="163"/>
                  <a:pt x="1536" y="150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5" name="Freeform 62"/>
          <p:cNvSpPr/>
          <p:nvPr/>
        </p:nvSpPr>
        <p:spPr>
          <a:xfrm>
            <a:off x="6276960" y="4278240"/>
            <a:ext cx="801720" cy="639720"/>
          </a:xfrm>
          <a:custGeom>
            <a:avLst/>
            <a:gdLst/>
            <a:ahLst/>
            <a:rect l="l" t="t" r="r" b="b"/>
            <a:pathLst>
              <a:path w="2224" h="1777">
                <a:moveTo>
                  <a:pt x="345" y="568"/>
                </a:moveTo>
                <a:cubicBezTo>
                  <a:pt x="352" y="559"/>
                  <a:pt x="356" y="555"/>
                  <a:pt x="363" y="546"/>
                </a:cubicBezTo>
                <a:cubicBezTo>
                  <a:pt x="360" y="547"/>
                  <a:pt x="346" y="545"/>
                  <a:pt x="333" y="555"/>
                </a:cubicBezTo>
                <a:cubicBezTo>
                  <a:pt x="299" y="581"/>
                  <a:pt x="268" y="607"/>
                  <a:pt x="235" y="636"/>
                </a:cubicBezTo>
                <a:cubicBezTo>
                  <a:pt x="186" y="679"/>
                  <a:pt x="143" y="726"/>
                  <a:pt x="98" y="773"/>
                </a:cubicBezTo>
                <a:cubicBezTo>
                  <a:pt x="69" y="804"/>
                  <a:pt x="40" y="834"/>
                  <a:pt x="13" y="867"/>
                </a:cubicBezTo>
                <a:cubicBezTo>
                  <a:pt x="6" y="877"/>
                  <a:pt x="5" y="878"/>
                  <a:pt x="0" y="884"/>
                </a:cubicBezTo>
                <a:cubicBezTo>
                  <a:pt x="22" y="886"/>
                  <a:pt x="48" y="888"/>
                  <a:pt x="72" y="888"/>
                </a:cubicBezTo>
                <a:cubicBezTo>
                  <a:pt x="147" y="888"/>
                  <a:pt x="222" y="905"/>
                  <a:pt x="294" y="926"/>
                </a:cubicBezTo>
                <a:cubicBezTo>
                  <a:pt x="376" y="950"/>
                  <a:pt x="473" y="996"/>
                  <a:pt x="533" y="1059"/>
                </a:cubicBezTo>
                <a:cubicBezTo>
                  <a:pt x="581" y="1110"/>
                  <a:pt x="605" y="1189"/>
                  <a:pt x="580" y="1255"/>
                </a:cubicBezTo>
                <a:cubicBezTo>
                  <a:pt x="554" y="1323"/>
                  <a:pt x="485" y="1374"/>
                  <a:pt x="422" y="1404"/>
                </a:cubicBezTo>
                <a:cubicBezTo>
                  <a:pt x="360" y="1433"/>
                  <a:pt x="295" y="1425"/>
                  <a:pt x="239" y="1387"/>
                </a:cubicBezTo>
                <a:cubicBezTo>
                  <a:pt x="168" y="1338"/>
                  <a:pt x="169" y="1259"/>
                  <a:pt x="158" y="1182"/>
                </a:cubicBezTo>
              </a:path>
              <a:path w="2224" h="1777">
                <a:moveTo>
                  <a:pt x="841" y="0"/>
                </a:moveTo>
                <a:cubicBezTo>
                  <a:pt x="882" y="49"/>
                  <a:pt x="886" y="119"/>
                  <a:pt x="896" y="184"/>
                </a:cubicBezTo>
                <a:cubicBezTo>
                  <a:pt x="920" y="343"/>
                  <a:pt x="938" y="503"/>
                  <a:pt x="960" y="662"/>
                </a:cubicBezTo>
                <a:cubicBezTo>
                  <a:pt x="979" y="795"/>
                  <a:pt x="990" y="933"/>
                  <a:pt x="1020" y="1063"/>
                </a:cubicBezTo>
                <a:cubicBezTo>
                  <a:pt x="1029" y="1100"/>
                  <a:pt x="1058" y="1155"/>
                  <a:pt x="1054" y="1118"/>
                </a:cubicBezTo>
                <a:cubicBezTo>
                  <a:pt x="1050" y="1102"/>
                  <a:pt x="1045" y="1087"/>
                  <a:pt x="1041" y="1071"/>
                </a:cubicBezTo>
              </a:path>
              <a:path w="2224" h="1777">
                <a:moveTo>
                  <a:pt x="542" y="401"/>
                </a:moveTo>
                <a:cubicBezTo>
                  <a:pt x="561" y="456"/>
                  <a:pt x="584" y="489"/>
                  <a:pt x="644" y="508"/>
                </a:cubicBezTo>
                <a:cubicBezTo>
                  <a:pt x="711" y="529"/>
                  <a:pt x="791" y="497"/>
                  <a:pt x="853" y="470"/>
                </a:cubicBezTo>
                <a:cubicBezTo>
                  <a:pt x="961" y="423"/>
                  <a:pt x="1063" y="363"/>
                  <a:pt x="1169" y="312"/>
                </a:cubicBezTo>
              </a:path>
              <a:path w="2224" h="1777">
                <a:moveTo>
                  <a:pt x="1476" y="359"/>
                </a:moveTo>
                <a:cubicBezTo>
                  <a:pt x="1450" y="385"/>
                  <a:pt x="1428" y="407"/>
                  <a:pt x="1400" y="431"/>
                </a:cubicBezTo>
                <a:cubicBezTo>
                  <a:pt x="1357" y="468"/>
                  <a:pt x="1308" y="513"/>
                  <a:pt x="1272" y="559"/>
                </a:cubicBezTo>
                <a:cubicBezTo>
                  <a:pt x="1234" y="609"/>
                  <a:pt x="1179" y="697"/>
                  <a:pt x="1195" y="764"/>
                </a:cubicBezTo>
                <a:cubicBezTo>
                  <a:pt x="1208" y="793"/>
                  <a:pt x="1211" y="802"/>
                  <a:pt x="1229" y="815"/>
                </a:cubicBezTo>
                <a:cubicBezTo>
                  <a:pt x="1298" y="806"/>
                  <a:pt x="1320" y="806"/>
                  <a:pt x="1374" y="751"/>
                </a:cubicBezTo>
                <a:cubicBezTo>
                  <a:pt x="1441" y="683"/>
                  <a:pt x="1477" y="597"/>
                  <a:pt x="1506" y="508"/>
                </a:cubicBezTo>
                <a:cubicBezTo>
                  <a:pt x="1532" y="430"/>
                  <a:pt x="1545" y="355"/>
                  <a:pt x="1549" y="273"/>
                </a:cubicBezTo>
                <a:cubicBezTo>
                  <a:pt x="1547" y="243"/>
                  <a:pt x="1544" y="210"/>
                  <a:pt x="1545" y="265"/>
                </a:cubicBezTo>
                <a:cubicBezTo>
                  <a:pt x="1546" y="341"/>
                  <a:pt x="1552" y="416"/>
                  <a:pt x="1562" y="491"/>
                </a:cubicBezTo>
                <a:cubicBezTo>
                  <a:pt x="1574" y="575"/>
                  <a:pt x="1581" y="671"/>
                  <a:pt x="1630" y="743"/>
                </a:cubicBezTo>
                <a:cubicBezTo>
                  <a:pt x="1657" y="783"/>
                  <a:pt x="1660" y="770"/>
                  <a:pt x="1690" y="790"/>
                </a:cubicBezTo>
                <a:cubicBezTo>
                  <a:pt x="1733" y="725"/>
                  <a:pt x="1764" y="675"/>
                  <a:pt x="1784" y="593"/>
                </a:cubicBezTo>
                <a:cubicBezTo>
                  <a:pt x="1811" y="482"/>
                  <a:pt x="1817" y="365"/>
                  <a:pt x="1831" y="252"/>
                </a:cubicBezTo>
                <a:cubicBezTo>
                  <a:pt x="1838" y="192"/>
                  <a:pt x="1839" y="133"/>
                  <a:pt x="1843" y="73"/>
                </a:cubicBezTo>
                <a:cubicBezTo>
                  <a:pt x="1843" y="76"/>
                  <a:pt x="1843" y="78"/>
                  <a:pt x="1843" y="81"/>
                </a:cubicBezTo>
                <a:cubicBezTo>
                  <a:pt x="1856" y="163"/>
                  <a:pt x="1863" y="249"/>
                  <a:pt x="1873" y="333"/>
                </a:cubicBezTo>
                <a:cubicBezTo>
                  <a:pt x="1889" y="466"/>
                  <a:pt x="1893" y="612"/>
                  <a:pt x="1937" y="739"/>
                </a:cubicBezTo>
                <a:cubicBezTo>
                  <a:pt x="1956" y="775"/>
                  <a:pt x="1958" y="785"/>
                  <a:pt x="1980" y="798"/>
                </a:cubicBezTo>
                <a:cubicBezTo>
                  <a:pt x="2021" y="768"/>
                  <a:pt x="2048" y="748"/>
                  <a:pt x="2070" y="683"/>
                </a:cubicBezTo>
                <a:cubicBezTo>
                  <a:pt x="2103" y="583"/>
                  <a:pt x="2119" y="475"/>
                  <a:pt x="2138" y="372"/>
                </a:cubicBezTo>
                <a:cubicBezTo>
                  <a:pt x="2151" y="304"/>
                  <a:pt x="2164" y="235"/>
                  <a:pt x="2176" y="167"/>
                </a:cubicBezTo>
                <a:cubicBezTo>
                  <a:pt x="2184" y="209"/>
                  <a:pt x="2195" y="258"/>
                  <a:pt x="2198" y="308"/>
                </a:cubicBezTo>
                <a:cubicBezTo>
                  <a:pt x="2207" y="468"/>
                  <a:pt x="2219" y="629"/>
                  <a:pt x="2223" y="790"/>
                </a:cubicBezTo>
                <a:cubicBezTo>
                  <a:pt x="2229" y="1049"/>
                  <a:pt x="2239" y="1319"/>
                  <a:pt x="2193" y="1575"/>
                </a:cubicBezTo>
                <a:cubicBezTo>
                  <a:pt x="2180" y="1650"/>
                  <a:pt x="2159" y="1756"/>
                  <a:pt x="2074" y="1776"/>
                </a:cubicBezTo>
                <a:cubicBezTo>
                  <a:pt x="1946" y="1807"/>
                  <a:pt x="1810" y="1662"/>
                  <a:pt x="1720" y="1596"/>
                </a:cubicBezTo>
                <a:cubicBezTo>
                  <a:pt x="1670" y="1559"/>
                  <a:pt x="1631" y="1519"/>
                  <a:pt x="1587" y="147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6" name="Freeform 63"/>
          <p:cNvSpPr/>
          <p:nvPr/>
        </p:nvSpPr>
        <p:spPr>
          <a:xfrm>
            <a:off x="7307280" y="3633840"/>
            <a:ext cx="1339920" cy="855720"/>
          </a:xfrm>
          <a:custGeom>
            <a:avLst/>
            <a:gdLst/>
            <a:ahLst/>
            <a:rect l="l" t="t" r="r" b="b"/>
            <a:pathLst>
              <a:path w="3718" h="2374">
                <a:moveTo>
                  <a:pt x="0" y="1822"/>
                </a:moveTo>
                <a:cubicBezTo>
                  <a:pt x="3" y="1850"/>
                  <a:pt x="12" y="1874"/>
                  <a:pt x="17" y="1903"/>
                </a:cubicBezTo>
                <a:cubicBezTo>
                  <a:pt x="42" y="2053"/>
                  <a:pt x="94" y="2201"/>
                  <a:pt x="171" y="2334"/>
                </a:cubicBezTo>
                <a:cubicBezTo>
                  <a:pt x="193" y="2372"/>
                  <a:pt x="201" y="2357"/>
                  <a:pt x="226" y="2364"/>
                </a:cubicBezTo>
                <a:cubicBezTo>
                  <a:pt x="274" y="2311"/>
                  <a:pt x="285" y="2248"/>
                  <a:pt x="303" y="2177"/>
                </a:cubicBezTo>
                <a:cubicBezTo>
                  <a:pt x="337" y="2042"/>
                  <a:pt x="360" y="1904"/>
                  <a:pt x="380" y="1767"/>
                </a:cubicBezTo>
                <a:cubicBezTo>
                  <a:pt x="394" y="1671"/>
                  <a:pt x="409" y="1572"/>
                  <a:pt x="423" y="1477"/>
                </a:cubicBezTo>
                <a:cubicBezTo>
                  <a:pt x="428" y="1442"/>
                  <a:pt x="419" y="1452"/>
                  <a:pt x="440" y="1485"/>
                </a:cubicBezTo>
              </a:path>
              <a:path w="3718" h="2374">
                <a:moveTo>
                  <a:pt x="632" y="1886"/>
                </a:moveTo>
                <a:cubicBezTo>
                  <a:pt x="662" y="1926"/>
                  <a:pt x="682" y="1947"/>
                  <a:pt x="730" y="1903"/>
                </a:cubicBezTo>
                <a:cubicBezTo>
                  <a:pt x="778" y="1859"/>
                  <a:pt x="805" y="1785"/>
                  <a:pt x="820" y="1724"/>
                </a:cubicBezTo>
                <a:cubicBezTo>
                  <a:pt x="839" y="1645"/>
                  <a:pt x="844" y="1557"/>
                  <a:pt x="824" y="1477"/>
                </a:cubicBezTo>
                <a:cubicBezTo>
                  <a:pt x="808" y="1415"/>
                  <a:pt x="778" y="1401"/>
                  <a:pt x="739" y="1374"/>
                </a:cubicBezTo>
                <a:cubicBezTo>
                  <a:pt x="681" y="1415"/>
                  <a:pt x="661" y="1470"/>
                  <a:pt x="645" y="1541"/>
                </a:cubicBezTo>
                <a:cubicBezTo>
                  <a:pt x="601" y="1741"/>
                  <a:pt x="566" y="2022"/>
                  <a:pt x="645" y="2219"/>
                </a:cubicBezTo>
                <a:cubicBezTo>
                  <a:pt x="666" y="2256"/>
                  <a:pt x="667" y="2268"/>
                  <a:pt x="696" y="2270"/>
                </a:cubicBezTo>
                <a:cubicBezTo>
                  <a:pt x="766" y="2251"/>
                  <a:pt x="798" y="2209"/>
                  <a:pt x="832" y="2142"/>
                </a:cubicBezTo>
                <a:cubicBezTo>
                  <a:pt x="882" y="2042"/>
                  <a:pt x="915" y="1927"/>
                  <a:pt x="935" y="1818"/>
                </a:cubicBezTo>
                <a:cubicBezTo>
                  <a:pt x="953" y="1721"/>
                  <a:pt x="962" y="1622"/>
                  <a:pt x="973" y="1524"/>
                </a:cubicBezTo>
                <a:cubicBezTo>
                  <a:pt x="976" y="1497"/>
                  <a:pt x="982" y="1482"/>
                  <a:pt x="986" y="1460"/>
                </a:cubicBezTo>
                <a:cubicBezTo>
                  <a:pt x="1001" y="1518"/>
                  <a:pt x="1013" y="1576"/>
                  <a:pt x="1024" y="1635"/>
                </a:cubicBezTo>
                <a:cubicBezTo>
                  <a:pt x="1044" y="1747"/>
                  <a:pt x="1058" y="1866"/>
                  <a:pt x="1088" y="1976"/>
                </a:cubicBezTo>
                <a:cubicBezTo>
                  <a:pt x="1098" y="2011"/>
                  <a:pt x="1112" y="2071"/>
                  <a:pt x="1131" y="2104"/>
                </a:cubicBezTo>
                <a:cubicBezTo>
                  <a:pt x="1134" y="2104"/>
                  <a:pt x="1137" y="2104"/>
                  <a:pt x="1140" y="2104"/>
                </a:cubicBezTo>
                <a:cubicBezTo>
                  <a:pt x="1148" y="2061"/>
                  <a:pt x="1158" y="2019"/>
                  <a:pt x="1165" y="1976"/>
                </a:cubicBezTo>
                <a:cubicBezTo>
                  <a:pt x="1181" y="1877"/>
                  <a:pt x="1194" y="1773"/>
                  <a:pt x="1204" y="1673"/>
                </a:cubicBezTo>
                <a:cubicBezTo>
                  <a:pt x="1214" y="1574"/>
                  <a:pt x="1222" y="1477"/>
                  <a:pt x="1246" y="1379"/>
                </a:cubicBezTo>
                <a:cubicBezTo>
                  <a:pt x="1254" y="1345"/>
                  <a:pt x="1264" y="1287"/>
                  <a:pt x="1306" y="1280"/>
                </a:cubicBezTo>
                <a:cubicBezTo>
                  <a:pt x="1338" y="1275"/>
                  <a:pt x="1380" y="1308"/>
                  <a:pt x="1408" y="1315"/>
                </a:cubicBezTo>
                <a:cubicBezTo>
                  <a:pt x="1415" y="1315"/>
                  <a:pt x="1423" y="1315"/>
                  <a:pt x="1430" y="1315"/>
                </a:cubicBezTo>
              </a:path>
              <a:path w="3718" h="2374">
                <a:moveTo>
                  <a:pt x="1878" y="461"/>
                </a:moveTo>
                <a:cubicBezTo>
                  <a:pt x="1871" y="473"/>
                  <a:pt x="1862" y="483"/>
                  <a:pt x="1861" y="521"/>
                </a:cubicBezTo>
                <a:cubicBezTo>
                  <a:pt x="1859" y="603"/>
                  <a:pt x="1853" y="682"/>
                  <a:pt x="1857" y="764"/>
                </a:cubicBezTo>
                <a:cubicBezTo>
                  <a:pt x="1863" y="908"/>
                  <a:pt x="1869" y="1051"/>
                  <a:pt x="1878" y="1195"/>
                </a:cubicBezTo>
                <a:cubicBezTo>
                  <a:pt x="1886" y="1323"/>
                  <a:pt x="1901" y="1451"/>
                  <a:pt x="1908" y="1579"/>
                </a:cubicBezTo>
                <a:cubicBezTo>
                  <a:pt x="1910" y="1614"/>
                  <a:pt x="1927" y="1702"/>
                  <a:pt x="1912" y="1737"/>
                </a:cubicBezTo>
                <a:cubicBezTo>
                  <a:pt x="1909" y="1737"/>
                  <a:pt x="1907" y="1737"/>
                  <a:pt x="1904" y="1737"/>
                </a:cubicBezTo>
                <a:cubicBezTo>
                  <a:pt x="1880" y="1696"/>
                  <a:pt x="1861" y="1656"/>
                  <a:pt x="1840" y="1613"/>
                </a:cubicBezTo>
                <a:cubicBezTo>
                  <a:pt x="1830" y="1592"/>
                  <a:pt x="1820" y="1570"/>
                  <a:pt x="1810" y="1549"/>
                </a:cubicBezTo>
              </a:path>
              <a:path w="3718" h="2374">
                <a:moveTo>
                  <a:pt x="1596" y="1195"/>
                </a:moveTo>
                <a:cubicBezTo>
                  <a:pt x="1599" y="1202"/>
                  <a:pt x="1614" y="1237"/>
                  <a:pt x="1626" y="1251"/>
                </a:cubicBezTo>
                <a:cubicBezTo>
                  <a:pt x="1660" y="1292"/>
                  <a:pt x="1688" y="1312"/>
                  <a:pt x="1741" y="1315"/>
                </a:cubicBezTo>
                <a:cubicBezTo>
                  <a:pt x="1805" y="1318"/>
                  <a:pt x="1862" y="1287"/>
                  <a:pt x="1908" y="1246"/>
                </a:cubicBezTo>
                <a:cubicBezTo>
                  <a:pt x="1968" y="1193"/>
                  <a:pt x="2024" y="1131"/>
                  <a:pt x="2066" y="1063"/>
                </a:cubicBezTo>
                <a:cubicBezTo>
                  <a:pt x="2096" y="1014"/>
                  <a:pt x="2118" y="960"/>
                  <a:pt x="2151" y="913"/>
                </a:cubicBezTo>
                <a:cubicBezTo>
                  <a:pt x="2159" y="902"/>
                  <a:pt x="2162" y="899"/>
                  <a:pt x="2168" y="892"/>
                </a:cubicBezTo>
                <a:cubicBezTo>
                  <a:pt x="2175" y="910"/>
                  <a:pt x="2182" y="920"/>
                  <a:pt x="2185" y="943"/>
                </a:cubicBezTo>
                <a:cubicBezTo>
                  <a:pt x="2195" y="1015"/>
                  <a:pt x="2192" y="1089"/>
                  <a:pt x="2198" y="1161"/>
                </a:cubicBezTo>
                <a:cubicBezTo>
                  <a:pt x="2207" y="1275"/>
                  <a:pt x="2223" y="1389"/>
                  <a:pt x="2241" y="1502"/>
                </a:cubicBezTo>
                <a:cubicBezTo>
                  <a:pt x="2252" y="1575"/>
                  <a:pt x="2267" y="1647"/>
                  <a:pt x="2292" y="1716"/>
                </a:cubicBezTo>
                <a:cubicBezTo>
                  <a:pt x="2309" y="1664"/>
                  <a:pt x="2308" y="1634"/>
                  <a:pt x="2300" y="1566"/>
                </a:cubicBezTo>
              </a:path>
              <a:path w="3718" h="2374">
                <a:moveTo>
                  <a:pt x="2155" y="444"/>
                </a:moveTo>
                <a:cubicBezTo>
                  <a:pt x="2169" y="499"/>
                  <a:pt x="2177" y="555"/>
                  <a:pt x="2194" y="610"/>
                </a:cubicBezTo>
                <a:cubicBezTo>
                  <a:pt x="2200" y="631"/>
                  <a:pt x="2223" y="715"/>
                  <a:pt x="2253" y="717"/>
                </a:cubicBezTo>
                <a:cubicBezTo>
                  <a:pt x="2290" y="720"/>
                  <a:pt x="2292" y="685"/>
                  <a:pt x="2300" y="662"/>
                </a:cubicBezTo>
              </a:path>
              <a:path w="3718" h="2374">
                <a:moveTo>
                  <a:pt x="2885" y="785"/>
                </a:moveTo>
                <a:cubicBezTo>
                  <a:pt x="2879" y="800"/>
                  <a:pt x="2857" y="826"/>
                  <a:pt x="2851" y="845"/>
                </a:cubicBezTo>
                <a:cubicBezTo>
                  <a:pt x="2844" y="870"/>
                  <a:pt x="2844" y="909"/>
                  <a:pt x="2842" y="935"/>
                </a:cubicBezTo>
                <a:cubicBezTo>
                  <a:pt x="2842" y="951"/>
                  <a:pt x="2842" y="955"/>
                  <a:pt x="2842" y="965"/>
                </a:cubicBezTo>
                <a:cubicBezTo>
                  <a:pt x="2832" y="952"/>
                  <a:pt x="2830" y="944"/>
                  <a:pt x="2821" y="931"/>
                </a:cubicBezTo>
                <a:cubicBezTo>
                  <a:pt x="2791" y="887"/>
                  <a:pt x="2766" y="840"/>
                  <a:pt x="2736" y="794"/>
                </a:cubicBezTo>
                <a:cubicBezTo>
                  <a:pt x="2708" y="750"/>
                  <a:pt x="2675" y="715"/>
                  <a:pt x="2633" y="687"/>
                </a:cubicBezTo>
                <a:cubicBezTo>
                  <a:pt x="2592" y="707"/>
                  <a:pt x="2586" y="753"/>
                  <a:pt x="2578" y="798"/>
                </a:cubicBezTo>
                <a:cubicBezTo>
                  <a:pt x="2561" y="894"/>
                  <a:pt x="2563" y="1004"/>
                  <a:pt x="2569" y="1101"/>
                </a:cubicBezTo>
                <a:cubicBezTo>
                  <a:pt x="2574" y="1180"/>
                  <a:pt x="2583" y="1277"/>
                  <a:pt x="2633" y="1340"/>
                </a:cubicBezTo>
                <a:cubicBezTo>
                  <a:pt x="2673" y="1390"/>
                  <a:pt x="2720" y="1356"/>
                  <a:pt x="2757" y="1323"/>
                </a:cubicBezTo>
                <a:cubicBezTo>
                  <a:pt x="2813" y="1272"/>
                  <a:pt x="2834" y="1207"/>
                  <a:pt x="2868" y="1140"/>
                </a:cubicBezTo>
              </a:path>
              <a:path w="3718" h="2374">
                <a:moveTo>
                  <a:pt x="3086" y="670"/>
                </a:moveTo>
                <a:cubicBezTo>
                  <a:pt x="3077" y="662"/>
                  <a:pt x="3070" y="637"/>
                  <a:pt x="3060" y="645"/>
                </a:cubicBezTo>
                <a:cubicBezTo>
                  <a:pt x="3049" y="654"/>
                  <a:pt x="3041" y="744"/>
                  <a:pt x="3039" y="756"/>
                </a:cubicBezTo>
                <a:cubicBezTo>
                  <a:pt x="3027" y="844"/>
                  <a:pt x="3004" y="932"/>
                  <a:pt x="2992" y="1020"/>
                </a:cubicBezTo>
                <a:cubicBezTo>
                  <a:pt x="2983" y="1084"/>
                  <a:pt x="2966" y="1179"/>
                  <a:pt x="3000" y="1234"/>
                </a:cubicBezTo>
                <a:cubicBezTo>
                  <a:pt x="3054" y="1206"/>
                  <a:pt x="3080" y="1166"/>
                  <a:pt x="3107" y="1110"/>
                </a:cubicBezTo>
                <a:cubicBezTo>
                  <a:pt x="3145" y="1033"/>
                  <a:pt x="3168" y="946"/>
                  <a:pt x="3184" y="862"/>
                </a:cubicBezTo>
                <a:cubicBezTo>
                  <a:pt x="3193" y="818"/>
                  <a:pt x="3196" y="775"/>
                  <a:pt x="3197" y="730"/>
                </a:cubicBezTo>
                <a:cubicBezTo>
                  <a:pt x="3187" y="776"/>
                  <a:pt x="3182" y="823"/>
                  <a:pt x="3179" y="871"/>
                </a:cubicBezTo>
                <a:cubicBezTo>
                  <a:pt x="3172" y="974"/>
                  <a:pt x="3180" y="1072"/>
                  <a:pt x="3192" y="1174"/>
                </a:cubicBezTo>
                <a:cubicBezTo>
                  <a:pt x="3198" y="1228"/>
                  <a:pt x="3203" y="1328"/>
                  <a:pt x="3269" y="1349"/>
                </a:cubicBezTo>
                <a:cubicBezTo>
                  <a:pt x="3336" y="1370"/>
                  <a:pt x="3360" y="1246"/>
                  <a:pt x="3376" y="1208"/>
                </a:cubicBezTo>
              </a:path>
              <a:path w="3718" h="2374">
                <a:moveTo>
                  <a:pt x="3461" y="0"/>
                </a:moveTo>
                <a:cubicBezTo>
                  <a:pt x="3473" y="64"/>
                  <a:pt x="3495" y="125"/>
                  <a:pt x="3512" y="188"/>
                </a:cubicBezTo>
                <a:cubicBezTo>
                  <a:pt x="3542" y="299"/>
                  <a:pt x="3562" y="411"/>
                  <a:pt x="3581" y="525"/>
                </a:cubicBezTo>
                <a:cubicBezTo>
                  <a:pt x="3607" y="680"/>
                  <a:pt x="3619" y="837"/>
                  <a:pt x="3653" y="990"/>
                </a:cubicBezTo>
                <a:cubicBezTo>
                  <a:pt x="3665" y="1045"/>
                  <a:pt x="3674" y="1104"/>
                  <a:pt x="3704" y="1152"/>
                </a:cubicBezTo>
                <a:cubicBezTo>
                  <a:pt x="3710" y="1158"/>
                  <a:pt x="3713" y="1161"/>
                  <a:pt x="3717" y="1165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 quick perspectiv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831960" y="2611440"/>
            <a:ext cx="7370640" cy="203040"/>
          </a:xfrm>
          <a:custGeom>
            <a:avLst/>
            <a:gdLst/>
            <a:ahLst/>
            <a:rect l="l" t="t" r="r" b="b"/>
            <a:pathLst>
              <a:path w="20476" h="564">
                <a:moveTo>
                  <a:pt x="0" y="508"/>
                </a:moveTo>
                <a:cubicBezTo>
                  <a:pt x="15" y="508"/>
                  <a:pt x="23" y="508"/>
                  <a:pt x="38" y="508"/>
                </a:cubicBezTo>
                <a:cubicBezTo>
                  <a:pt x="994" y="518"/>
                  <a:pt x="1944" y="554"/>
                  <a:pt x="2902" y="538"/>
                </a:cubicBezTo>
                <a:cubicBezTo>
                  <a:pt x="6273" y="483"/>
                  <a:pt x="9630" y="330"/>
                  <a:pt x="12998" y="188"/>
                </a:cubicBezTo>
                <a:cubicBezTo>
                  <a:pt x="14575" y="121"/>
                  <a:pt x="16161" y="74"/>
                  <a:pt x="17739" y="64"/>
                </a:cubicBezTo>
                <a:cubicBezTo>
                  <a:pt x="18552" y="59"/>
                  <a:pt x="19395" y="118"/>
                  <a:pt x="20206" y="43"/>
                </a:cubicBezTo>
                <a:cubicBezTo>
                  <a:pt x="20289" y="35"/>
                  <a:pt x="20405" y="18"/>
                  <a:pt x="20471" y="9"/>
                </a:cubicBezTo>
                <a:cubicBezTo>
                  <a:pt x="20488" y="7"/>
                  <a:pt x="20419" y="2"/>
                  <a:pt x="20436" y="0"/>
                </a:cubicBezTo>
              </a:path>
            </a:pathLst>
          </a:custGeom>
          <a:noFill/>
          <a:ln cap="rnd"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2197080" y="2746440"/>
            <a:ext cx="1873440" cy="3575160"/>
          </a:xfrm>
          <a:custGeom>
            <a:avLst/>
            <a:gdLst/>
            <a:ahLst/>
            <a:rect l="l" t="t" r="r" b="b"/>
            <a:pathLst>
              <a:path w="5203" h="9931">
                <a:moveTo>
                  <a:pt x="5202" y="0"/>
                </a:moveTo>
                <a:cubicBezTo>
                  <a:pt x="5186" y="21"/>
                  <a:pt x="5157" y="51"/>
                  <a:pt x="5138" y="77"/>
                </a:cubicBezTo>
                <a:cubicBezTo>
                  <a:pt x="4960" y="318"/>
                  <a:pt x="4824" y="581"/>
                  <a:pt x="4681" y="845"/>
                </a:cubicBezTo>
                <a:cubicBezTo>
                  <a:pt x="4310" y="1531"/>
                  <a:pt x="3909" y="2194"/>
                  <a:pt x="3524" y="2872"/>
                </a:cubicBezTo>
                <a:cubicBezTo>
                  <a:pt x="3342" y="3192"/>
                  <a:pt x="3172" y="3516"/>
                  <a:pt x="2991" y="3836"/>
                </a:cubicBezTo>
                <a:cubicBezTo>
                  <a:pt x="2771" y="4224"/>
                  <a:pt x="2578" y="4629"/>
                  <a:pt x="2394" y="5035"/>
                </a:cubicBezTo>
                <a:cubicBezTo>
                  <a:pt x="2047" y="5799"/>
                  <a:pt x="1614" y="6513"/>
                  <a:pt x="1241" y="7263"/>
                </a:cubicBezTo>
                <a:cubicBezTo>
                  <a:pt x="937" y="7875"/>
                  <a:pt x="668" y="8506"/>
                  <a:pt x="358" y="9115"/>
                </a:cubicBezTo>
                <a:cubicBezTo>
                  <a:pt x="222" y="9382"/>
                  <a:pt x="109" y="9662"/>
                  <a:pt x="4" y="9930"/>
                </a:cubicBezTo>
                <a:cubicBezTo>
                  <a:pt x="3" y="9927"/>
                  <a:pt x="1" y="9924"/>
                  <a:pt x="0" y="9921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0" name="Freeform 5"/>
          <p:cNvSpPr/>
          <p:nvPr/>
        </p:nvSpPr>
        <p:spPr>
          <a:xfrm>
            <a:off x="4122720" y="2743200"/>
            <a:ext cx="1446120" cy="3591000"/>
          </a:xfrm>
          <a:custGeom>
            <a:avLst/>
            <a:gdLst/>
            <a:ahLst/>
            <a:rect l="l" t="t" r="r" b="b"/>
            <a:pathLst>
              <a:path w="4021" h="9974">
                <a:moveTo>
                  <a:pt x="17" y="0"/>
                </a:moveTo>
                <a:cubicBezTo>
                  <a:pt x="20" y="23"/>
                  <a:pt x="-4" y="24"/>
                  <a:pt x="0" y="47"/>
                </a:cubicBezTo>
                <a:cubicBezTo>
                  <a:pt x="25" y="203"/>
                  <a:pt x="78" y="348"/>
                  <a:pt x="128" y="499"/>
                </a:cubicBezTo>
                <a:cubicBezTo>
                  <a:pt x="258" y="891"/>
                  <a:pt x="418" y="1267"/>
                  <a:pt x="563" y="1652"/>
                </a:cubicBezTo>
                <a:cubicBezTo>
                  <a:pt x="905" y="2558"/>
                  <a:pt x="1341" y="3427"/>
                  <a:pt x="1745" y="4306"/>
                </a:cubicBezTo>
                <a:cubicBezTo>
                  <a:pt x="2168" y="5226"/>
                  <a:pt x="2542" y="6141"/>
                  <a:pt x="2884" y="7093"/>
                </a:cubicBezTo>
                <a:cubicBezTo>
                  <a:pt x="3069" y="7609"/>
                  <a:pt x="3289" y="8102"/>
                  <a:pt x="3452" y="8625"/>
                </a:cubicBezTo>
                <a:cubicBezTo>
                  <a:pt x="3527" y="8866"/>
                  <a:pt x="3632" y="9072"/>
                  <a:pt x="3734" y="9299"/>
                </a:cubicBezTo>
                <a:cubicBezTo>
                  <a:pt x="3828" y="9509"/>
                  <a:pt x="3892" y="9737"/>
                  <a:pt x="3994" y="9939"/>
                </a:cubicBezTo>
                <a:cubicBezTo>
                  <a:pt x="4001" y="9953"/>
                  <a:pt x="4013" y="9955"/>
                  <a:pt x="4020" y="9969"/>
                </a:cubicBezTo>
                <a:cubicBezTo>
                  <a:pt x="4001" y="9934"/>
                  <a:pt x="3984" y="9898"/>
                  <a:pt x="3964" y="9862"/>
                </a:cubicBezTo>
                <a:cubicBezTo>
                  <a:pt x="3958" y="9853"/>
                  <a:pt x="3953" y="9845"/>
                  <a:pt x="3947" y="9836"/>
                </a:cubicBezTo>
              </a:path>
            </a:pathLst>
          </a:custGeom>
          <a:noFill/>
          <a:ln cap="rnd"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1523880" y="1447920"/>
            <a:ext cx="5073840" cy="2482560"/>
          </a:xfrm>
          <a:custGeom>
            <a:avLst/>
            <a:gdLst/>
            <a:ahLst/>
            <a:rect l="l" t="t" r="r" b="b"/>
            <a:pathLst>
              <a:path w="14092" h="6897">
                <a:moveTo>
                  <a:pt x="1959" y="943"/>
                </a:moveTo>
                <a:cubicBezTo>
                  <a:pt x="2008" y="957"/>
                  <a:pt x="2055" y="974"/>
                  <a:pt x="2100" y="999"/>
                </a:cubicBezTo>
                <a:cubicBezTo>
                  <a:pt x="2147" y="1025"/>
                  <a:pt x="2196" y="1053"/>
                  <a:pt x="2245" y="1076"/>
                </a:cubicBezTo>
                <a:cubicBezTo>
                  <a:pt x="2311" y="1106"/>
                  <a:pt x="2379" y="1132"/>
                  <a:pt x="2446" y="1161"/>
                </a:cubicBezTo>
                <a:cubicBezTo>
                  <a:pt x="2510" y="1189"/>
                  <a:pt x="2571" y="1220"/>
                  <a:pt x="2633" y="1251"/>
                </a:cubicBezTo>
                <a:cubicBezTo>
                  <a:pt x="2693" y="1281"/>
                  <a:pt x="2755" y="1306"/>
                  <a:pt x="2817" y="1332"/>
                </a:cubicBezTo>
              </a:path>
              <a:path w="14092" h="6897">
                <a:moveTo>
                  <a:pt x="1264" y="576"/>
                </a:moveTo>
                <a:cubicBezTo>
                  <a:pt x="1323" y="604"/>
                  <a:pt x="1380" y="635"/>
                  <a:pt x="1439" y="662"/>
                </a:cubicBezTo>
                <a:cubicBezTo>
                  <a:pt x="1563" y="718"/>
                  <a:pt x="1689" y="775"/>
                  <a:pt x="1814" y="828"/>
                </a:cubicBezTo>
                <a:cubicBezTo>
                  <a:pt x="1882" y="857"/>
                  <a:pt x="1952" y="883"/>
                  <a:pt x="2019" y="918"/>
                </a:cubicBezTo>
                <a:cubicBezTo>
                  <a:pt x="2170" y="997"/>
                  <a:pt x="2313" y="1090"/>
                  <a:pt x="2467" y="1165"/>
                </a:cubicBezTo>
                <a:cubicBezTo>
                  <a:pt x="2851" y="1354"/>
                  <a:pt x="3241" y="1447"/>
                  <a:pt x="3649" y="1566"/>
                </a:cubicBezTo>
                <a:cubicBezTo>
                  <a:pt x="3919" y="1645"/>
                  <a:pt x="4188" y="1754"/>
                  <a:pt x="4443" y="1869"/>
                </a:cubicBezTo>
                <a:cubicBezTo>
                  <a:pt x="4570" y="1927"/>
                  <a:pt x="4690" y="1995"/>
                  <a:pt x="4814" y="2057"/>
                </a:cubicBezTo>
                <a:cubicBezTo>
                  <a:pt x="4871" y="2085"/>
                  <a:pt x="4927" y="2115"/>
                  <a:pt x="4985" y="2143"/>
                </a:cubicBezTo>
                <a:cubicBezTo>
                  <a:pt x="5101" y="2199"/>
                  <a:pt x="5210" y="2258"/>
                  <a:pt x="5322" y="2322"/>
                </a:cubicBezTo>
                <a:cubicBezTo>
                  <a:pt x="5605" y="2485"/>
                  <a:pt x="5902" y="2624"/>
                  <a:pt x="6192" y="2774"/>
                </a:cubicBezTo>
                <a:cubicBezTo>
                  <a:pt x="6339" y="2850"/>
                  <a:pt x="6465" y="2936"/>
                  <a:pt x="6598" y="3034"/>
                </a:cubicBezTo>
                <a:cubicBezTo>
                  <a:pt x="6744" y="3142"/>
                  <a:pt x="6887" y="3200"/>
                  <a:pt x="7054" y="3265"/>
                </a:cubicBezTo>
                <a:cubicBezTo>
                  <a:pt x="7162" y="3307"/>
                  <a:pt x="7274" y="3353"/>
                  <a:pt x="7370" y="3418"/>
                </a:cubicBezTo>
                <a:cubicBezTo>
                  <a:pt x="7404" y="3441"/>
                  <a:pt x="7341" y="3414"/>
                  <a:pt x="7375" y="3436"/>
                </a:cubicBezTo>
              </a:path>
              <a:path w="14092" h="6897">
                <a:moveTo>
                  <a:pt x="7537" y="3423"/>
                </a:moveTo>
                <a:cubicBezTo>
                  <a:pt x="7558" y="3411"/>
                  <a:pt x="7587" y="3406"/>
                  <a:pt x="7609" y="3393"/>
                </a:cubicBezTo>
                <a:cubicBezTo>
                  <a:pt x="7949" y="3191"/>
                  <a:pt x="8257" y="2946"/>
                  <a:pt x="8608" y="2761"/>
                </a:cubicBezTo>
                <a:cubicBezTo>
                  <a:pt x="8777" y="2672"/>
                  <a:pt x="8954" y="2597"/>
                  <a:pt x="9124" y="2510"/>
                </a:cubicBezTo>
                <a:cubicBezTo>
                  <a:pt x="9492" y="2322"/>
                  <a:pt x="9848" y="2115"/>
                  <a:pt x="10208" y="1912"/>
                </a:cubicBezTo>
                <a:cubicBezTo>
                  <a:pt x="10656" y="1659"/>
                  <a:pt x="11128" y="1464"/>
                  <a:pt x="11582" y="1225"/>
                </a:cubicBezTo>
                <a:cubicBezTo>
                  <a:pt x="11995" y="1008"/>
                  <a:pt x="12417" y="820"/>
                  <a:pt x="12837" y="619"/>
                </a:cubicBezTo>
                <a:cubicBezTo>
                  <a:pt x="13166" y="462"/>
                  <a:pt x="13500" y="299"/>
                  <a:pt x="13840" y="167"/>
                </a:cubicBezTo>
                <a:cubicBezTo>
                  <a:pt x="13910" y="140"/>
                  <a:pt x="13988" y="116"/>
                  <a:pt x="14049" y="86"/>
                </a:cubicBezTo>
                <a:cubicBezTo>
                  <a:pt x="14062" y="79"/>
                  <a:pt x="14066" y="70"/>
                  <a:pt x="14079" y="64"/>
                </a:cubicBezTo>
                <a:cubicBezTo>
                  <a:pt x="14092" y="73"/>
                  <a:pt x="14096" y="76"/>
                  <a:pt x="14091" y="56"/>
                </a:cubicBezTo>
              </a:path>
              <a:path w="14092" h="6897">
                <a:moveTo>
                  <a:pt x="1340" y="585"/>
                </a:moveTo>
                <a:cubicBezTo>
                  <a:pt x="1325" y="575"/>
                  <a:pt x="1303" y="566"/>
                  <a:pt x="1289" y="555"/>
                </a:cubicBezTo>
                <a:cubicBezTo>
                  <a:pt x="1259" y="532"/>
                  <a:pt x="1230" y="511"/>
                  <a:pt x="1195" y="491"/>
                </a:cubicBezTo>
                <a:cubicBezTo>
                  <a:pt x="1149" y="465"/>
                  <a:pt x="1099" y="445"/>
                  <a:pt x="1050" y="423"/>
                </a:cubicBezTo>
                <a:cubicBezTo>
                  <a:pt x="1016" y="408"/>
                  <a:pt x="982" y="395"/>
                  <a:pt x="948" y="380"/>
                </a:cubicBezTo>
                <a:cubicBezTo>
                  <a:pt x="912" y="364"/>
                  <a:pt x="877" y="349"/>
                  <a:pt x="841" y="333"/>
                </a:cubicBezTo>
                <a:cubicBezTo>
                  <a:pt x="804" y="317"/>
                  <a:pt x="766" y="303"/>
                  <a:pt x="730" y="286"/>
                </a:cubicBezTo>
                <a:cubicBezTo>
                  <a:pt x="676" y="261"/>
                  <a:pt x="621" y="237"/>
                  <a:pt x="568" y="209"/>
                </a:cubicBezTo>
                <a:cubicBezTo>
                  <a:pt x="544" y="196"/>
                  <a:pt x="519" y="183"/>
                  <a:pt x="495" y="171"/>
                </a:cubicBezTo>
                <a:cubicBezTo>
                  <a:pt x="464" y="156"/>
                  <a:pt x="430" y="139"/>
                  <a:pt x="402" y="120"/>
                </a:cubicBezTo>
                <a:cubicBezTo>
                  <a:pt x="383" y="107"/>
                  <a:pt x="366" y="93"/>
                  <a:pt x="346" y="81"/>
                </a:cubicBezTo>
                <a:cubicBezTo>
                  <a:pt x="324" y="68"/>
                  <a:pt x="304" y="65"/>
                  <a:pt x="282" y="56"/>
                </a:cubicBezTo>
                <a:cubicBezTo>
                  <a:pt x="263" y="48"/>
                  <a:pt x="247" y="45"/>
                  <a:pt x="227" y="39"/>
                </a:cubicBezTo>
                <a:cubicBezTo>
                  <a:pt x="200" y="31"/>
                  <a:pt x="173" y="23"/>
                  <a:pt x="146" y="17"/>
                </a:cubicBezTo>
                <a:cubicBezTo>
                  <a:pt x="124" y="12"/>
                  <a:pt x="104" y="13"/>
                  <a:pt x="82" y="9"/>
                </a:cubicBezTo>
                <a:cubicBezTo>
                  <a:pt x="65" y="6"/>
                  <a:pt x="48" y="0"/>
                  <a:pt x="30" y="0"/>
                </a:cubicBezTo>
                <a:cubicBezTo>
                  <a:pt x="17" y="0"/>
                  <a:pt x="17" y="4"/>
                  <a:pt x="0" y="5"/>
                </a:cubicBezTo>
              </a:path>
              <a:path w="14092" h="6897">
                <a:moveTo>
                  <a:pt x="7746" y="3389"/>
                </a:moveTo>
                <a:cubicBezTo>
                  <a:pt x="7746" y="3517"/>
                  <a:pt x="7749" y="3645"/>
                  <a:pt x="7750" y="3773"/>
                </a:cubicBezTo>
                <a:cubicBezTo>
                  <a:pt x="7751" y="3887"/>
                  <a:pt x="7751" y="4001"/>
                  <a:pt x="7759" y="4114"/>
                </a:cubicBezTo>
                <a:cubicBezTo>
                  <a:pt x="7764" y="4185"/>
                  <a:pt x="7768" y="4262"/>
                  <a:pt x="7780" y="4332"/>
                </a:cubicBezTo>
                <a:cubicBezTo>
                  <a:pt x="7786" y="4352"/>
                  <a:pt x="7789" y="4354"/>
                  <a:pt x="7788" y="4366"/>
                </a:cubicBezTo>
                <a:cubicBezTo>
                  <a:pt x="7799" y="4329"/>
                  <a:pt x="7808" y="4287"/>
                  <a:pt x="7810" y="4246"/>
                </a:cubicBezTo>
                <a:cubicBezTo>
                  <a:pt x="7816" y="4132"/>
                  <a:pt x="7813" y="4015"/>
                  <a:pt x="7814" y="3901"/>
                </a:cubicBezTo>
                <a:cubicBezTo>
                  <a:pt x="7814" y="3791"/>
                  <a:pt x="7815" y="3681"/>
                  <a:pt x="7810" y="3572"/>
                </a:cubicBezTo>
                <a:cubicBezTo>
                  <a:pt x="7809" y="3554"/>
                  <a:pt x="7807" y="3535"/>
                  <a:pt x="7806" y="3517"/>
                </a:cubicBezTo>
                <a:cubicBezTo>
                  <a:pt x="7807" y="3493"/>
                  <a:pt x="7803" y="3437"/>
                  <a:pt x="7801" y="3495"/>
                </a:cubicBezTo>
                <a:cubicBezTo>
                  <a:pt x="7798" y="3568"/>
                  <a:pt x="7810" y="3643"/>
                  <a:pt x="7810" y="3717"/>
                </a:cubicBezTo>
                <a:cubicBezTo>
                  <a:pt x="7810" y="3926"/>
                  <a:pt x="7810" y="4536"/>
                  <a:pt x="7810" y="4327"/>
                </a:cubicBezTo>
                <a:cubicBezTo>
                  <a:pt x="7810" y="4316"/>
                  <a:pt x="7810" y="4304"/>
                  <a:pt x="7810" y="4293"/>
                </a:cubicBezTo>
                <a:cubicBezTo>
                  <a:pt x="7810" y="4071"/>
                  <a:pt x="7813" y="3849"/>
                  <a:pt x="7801" y="3628"/>
                </a:cubicBezTo>
                <a:cubicBezTo>
                  <a:pt x="7797" y="3557"/>
                  <a:pt x="7793" y="3485"/>
                  <a:pt x="7788" y="3414"/>
                </a:cubicBezTo>
                <a:cubicBezTo>
                  <a:pt x="7769" y="3495"/>
                  <a:pt x="7786" y="3582"/>
                  <a:pt x="7788" y="3666"/>
                </a:cubicBezTo>
                <a:cubicBezTo>
                  <a:pt x="7792" y="3837"/>
                  <a:pt x="7789" y="4007"/>
                  <a:pt x="7801" y="4178"/>
                </a:cubicBezTo>
                <a:cubicBezTo>
                  <a:pt x="7806" y="4252"/>
                  <a:pt x="7816" y="4316"/>
                  <a:pt x="7835" y="4387"/>
                </a:cubicBezTo>
              </a:path>
              <a:path w="14092" h="6897">
                <a:moveTo>
                  <a:pt x="8796" y="2817"/>
                </a:moveTo>
                <a:cubicBezTo>
                  <a:pt x="8793" y="2823"/>
                  <a:pt x="8793" y="2802"/>
                  <a:pt x="8791" y="2808"/>
                </a:cubicBezTo>
                <a:cubicBezTo>
                  <a:pt x="8788" y="2820"/>
                  <a:pt x="8780" y="2795"/>
                  <a:pt x="8778" y="2808"/>
                </a:cubicBezTo>
                <a:cubicBezTo>
                  <a:pt x="8752" y="3011"/>
                  <a:pt x="8757" y="3227"/>
                  <a:pt x="8744" y="3431"/>
                </a:cubicBezTo>
                <a:cubicBezTo>
                  <a:pt x="8724" y="3736"/>
                  <a:pt x="8700" y="4040"/>
                  <a:pt x="8676" y="4345"/>
                </a:cubicBezTo>
                <a:cubicBezTo>
                  <a:pt x="8629" y="4936"/>
                  <a:pt x="8586" y="5531"/>
                  <a:pt x="8578" y="6124"/>
                </a:cubicBezTo>
                <a:cubicBezTo>
                  <a:pt x="8576" y="6263"/>
                  <a:pt x="8577" y="6412"/>
                  <a:pt x="8599" y="6546"/>
                </a:cubicBezTo>
                <a:cubicBezTo>
                  <a:pt x="8601" y="6545"/>
                  <a:pt x="8602" y="6543"/>
                  <a:pt x="8604" y="6542"/>
                </a:cubicBezTo>
                <a:cubicBezTo>
                  <a:pt x="8615" y="6440"/>
                  <a:pt x="8622" y="6339"/>
                  <a:pt x="8625" y="6235"/>
                </a:cubicBezTo>
                <a:cubicBezTo>
                  <a:pt x="8633" y="5979"/>
                  <a:pt x="8638" y="5724"/>
                  <a:pt x="8638" y="5467"/>
                </a:cubicBezTo>
                <a:cubicBezTo>
                  <a:pt x="8638" y="4844"/>
                  <a:pt x="8588" y="4189"/>
                  <a:pt x="8697" y="3572"/>
                </a:cubicBezTo>
                <a:cubicBezTo>
                  <a:pt x="8706" y="3519"/>
                  <a:pt x="8721" y="3466"/>
                  <a:pt x="8732" y="3414"/>
                </a:cubicBezTo>
                <a:cubicBezTo>
                  <a:pt x="8732" y="3405"/>
                  <a:pt x="8732" y="3402"/>
                  <a:pt x="8736" y="3397"/>
                </a:cubicBezTo>
                <a:cubicBezTo>
                  <a:pt x="8730" y="3495"/>
                  <a:pt x="8723" y="3593"/>
                  <a:pt x="8719" y="3692"/>
                </a:cubicBezTo>
                <a:cubicBezTo>
                  <a:pt x="8708" y="3981"/>
                  <a:pt x="8706" y="4269"/>
                  <a:pt x="8702" y="4558"/>
                </a:cubicBezTo>
                <a:cubicBezTo>
                  <a:pt x="8693" y="5211"/>
                  <a:pt x="8707" y="5864"/>
                  <a:pt x="8710" y="6517"/>
                </a:cubicBezTo>
                <a:cubicBezTo>
                  <a:pt x="8710" y="6582"/>
                  <a:pt x="8716" y="6624"/>
                  <a:pt x="8723" y="6683"/>
                </a:cubicBezTo>
                <a:cubicBezTo>
                  <a:pt x="8707" y="6373"/>
                  <a:pt x="8710" y="6063"/>
                  <a:pt x="8702" y="5753"/>
                </a:cubicBezTo>
                <a:cubicBezTo>
                  <a:pt x="8688" y="5240"/>
                  <a:pt x="8679" y="4725"/>
                  <a:pt x="8685" y="4212"/>
                </a:cubicBezTo>
                <a:cubicBezTo>
                  <a:pt x="8688" y="3949"/>
                  <a:pt x="8700" y="3686"/>
                  <a:pt x="8719" y="3423"/>
                </a:cubicBezTo>
                <a:cubicBezTo>
                  <a:pt x="8725" y="3344"/>
                  <a:pt x="8738" y="3266"/>
                  <a:pt x="8744" y="3188"/>
                </a:cubicBezTo>
                <a:cubicBezTo>
                  <a:pt x="8744" y="3174"/>
                  <a:pt x="8744" y="3171"/>
                  <a:pt x="8744" y="3162"/>
                </a:cubicBezTo>
                <a:cubicBezTo>
                  <a:pt x="8743" y="3191"/>
                  <a:pt x="8742" y="3219"/>
                  <a:pt x="8740" y="3248"/>
                </a:cubicBezTo>
                <a:cubicBezTo>
                  <a:pt x="8732" y="3383"/>
                  <a:pt x="8721" y="3518"/>
                  <a:pt x="8719" y="3653"/>
                </a:cubicBezTo>
                <a:cubicBezTo>
                  <a:pt x="8714" y="4027"/>
                  <a:pt x="8721" y="4402"/>
                  <a:pt x="8732" y="4776"/>
                </a:cubicBezTo>
                <a:cubicBezTo>
                  <a:pt x="8746" y="5240"/>
                  <a:pt x="8754" y="5704"/>
                  <a:pt x="8774" y="6167"/>
                </a:cubicBezTo>
                <a:cubicBezTo>
                  <a:pt x="8784" y="6402"/>
                  <a:pt x="8812" y="6645"/>
                  <a:pt x="8813" y="6879"/>
                </a:cubicBezTo>
                <a:cubicBezTo>
                  <a:pt x="8810" y="6885"/>
                  <a:pt x="8807" y="6890"/>
                  <a:pt x="8804" y="6896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3448080" y="1692360"/>
            <a:ext cx="2646360" cy="4329000"/>
          </a:xfrm>
          <a:custGeom>
            <a:avLst/>
            <a:gdLst/>
            <a:ahLst/>
            <a:rect l="l" t="t" r="r" b="b"/>
            <a:pathLst>
              <a:path w="7354" h="12022">
                <a:moveTo>
                  <a:pt x="5189" y="1357"/>
                </a:moveTo>
                <a:cubicBezTo>
                  <a:pt x="5188" y="1367"/>
                  <a:pt x="5182" y="1373"/>
                  <a:pt x="5181" y="1383"/>
                </a:cubicBezTo>
                <a:cubicBezTo>
                  <a:pt x="5161" y="1583"/>
                  <a:pt x="5158" y="1785"/>
                  <a:pt x="5142" y="1985"/>
                </a:cubicBezTo>
                <a:cubicBezTo>
                  <a:pt x="5073" y="2826"/>
                  <a:pt x="5006" y="3667"/>
                  <a:pt x="4933" y="4507"/>
                </a:cubicBezTo>
                <a:cubicBezTo>
                  <a:pt x="4829" y="5707"/>
                  <a:pt x="4663" y="6927"/>
                  <a:pt x="4720" y="8134"/>
                </a:cubicBezTo>
                <a:cubicBezTo>
                  <a:pt x="4723" y="8167"/>
                  <a:pt x="4721" y="8172"/>
                  <a:pt x="4729" y="8189"/>
                </a:cubicBezTo>
                <a:cubicBezTo>
                  <a:pt x="4743" y="8106"/>
                  <a:pt x="4761" y="8006"/>
                  <a:pt x="4771" y="7916"/>
                </a:cubicBezTo>
                <a:cubicBezTo>
                  <a:pt x="4812" y="7549"/>
                  <a:pt x="4831" y="7179"/>
                  <a:pt x="4852" y="6811"/>
                </a:cubicBezTo>
                <a:cubicBezTo>
                  <a:pt x="4909" y="5825"/>
                  <a:pt x="5013" y="4844"/>
                  <a:pt x="5113" y="3862"/>
                </a:cubicBezTo>
                <a:cubicBezTo>
                  <a:pt x="5168" y="3316"/>
                  <a:pt x="5209" y="2752"/>
                  <a:pt x="5185" y="2202"/>
                </a:cubicBezTo>
                <a:cubicBezTo>
                  <a:pt x="5179" y="2073"/>
                  <a:pt x="5176" y="1943"/>
                  <a:pt x="5168" y="1814"/>
                </a:cubicBezTo>
                <a:cubicBezTo>
                  <a:pt x="5165" y="1769"/>
                  <a:pt x="5158" y="1726"/>
                  <a:pt x="5155" y="1682"/>
                </a:cubicBezTo>
                <a:cubicBezTo>
                  <a:pt x="5155" y="1679"/>
                  <a:pt x="5155" y="1676"/>
                  <a:pt x="5155" y="1673"/>
                </a:cubicBezTo>
                <a:cubicBezTo>
                  <a:pt x="5141" y="1849"/>
                  <a:pt x="5130" y="2026"/>
                  <a:pt x="5113" y="2202"/>
                </a:cubicBezTo>
                <a:cubicBezTo>
                  <a:pt x="5074" y="2613"/>
                  <a:pt x="5030" y="3024"/>
                  <a:pt x="5002" y="3436"/>
                </a:cubicBezTo>
                <a:cubicBezTo>
                  <a:pt x="4962" y="4019"/>
                  <a:pt x="4930" y="4602"/>
                  <a:pt x="4904" y="5185"/>
                </a:cubicBezTo>
                <a:cubicBezTo>
                  <a:pt x="4857" y="6242"/>
                  <a:pt x="4875" y="7305"/>
                  <a:pt x="4788" y="8360"/>
                </a:cubicBezTo>
                <a:cubicBezTo>
                  <a:pt x="4783" y="8423"/>
                  <a:pt x="4779" y="8485"/>
                  <a:pt x="4775" y="8548"/>
                </a:cubicBezTo>
                <a:cubicBezTo>
                  <a:pt x="4784" y="8437"/>
                  <a:pt x="4793" y="8327"/>
                  <a:pt x="4797" y="8215"/>
                </a:cubicBezTo>
                <a:cubicBezTo>
                  <a:pt x="4823" y="7386"/>
                  <a:pt x="4781" y="6556"/>
                  <a:pt x="4775" y="5727"/>
                </a:cubicBezTo>
                <a:cubicBezTo>
                  <a:pt x="4767" y="4595"/>
                  <a:pt x="4812" y="3469"/>
                  <a:pt x="4861" y="2339"/>
                </a:cubicBezTo>
                <a:cubicBezTo>
                  <a:pt x="4866" y="2233"/>
                  <a:pt x="4913" y="2003"/>
                  <a:pt x="4861" y="1899"/>
                </a:cubicBezTo>
                <a:cubicBezTo>
                  <a:pt x="4855" y="1886"/>
                  <a:pt x="4865" y="1997"/>
                  <a:pt x="4865" y="2006"/>
                </a:cubicBezTo>
                <a:cubicBezTo>
                  <a:pt x="4868" y="2232"/>
                  <a:pt x="4877" y="2458"/>
                  <a:pt x="4878" y="2684"/>
                </a:cubicBezTo>
                <a:cubicBezTo>
                  <a:pt x="4881" y="3607"/>
                  <a:pt x="4895" y="4531"/>
                  <a:pt x="4912" y="5454"/>
                </a:cubicBezTo>
                <a:cubicBezTo>
                  <a:pt x="4926" y="6219"/>
                  <a:pt x="4960" y="6984"/>
                  <a:pt x="4938" y="7750"/>
                </a:cubicBezTo>
                <a:cubicBezTo>
                  <a:pt x="4933" y="7922"/>
                  <a:pt x="4912" y="8090"/>
                  <a:pt x="4882" y="8258"/>
                </a:cubicBezTo>
                <a:cubicBezTo>
                  <a:pt x="4873" y="8307"/>
                  <a:pt x="4849" y="8370"/>
                  <a:pt x="4839" y="8411"/>
                </a:cubicBezTo>
                <a:cubicBezTo>
                  <a:pt x="4831" y="8267"/>
                  <a:pt x="4823" y="8121"/>
                  <a:pt x="4818" y="7976"/>
                </a:cubicBezTo>
                <a:cubicBezTo>
                  <a:pt x="4806" y="7645"/>
                  <a:pt x="4805" y="7313"/>
                  <a:pt x="4797" y="6982"/>
                </a:cubicBezTo>
              </a:path>
              <a:path w="7354" h="12022">
                <a:moveTo>
                  <a:pt x="7344" y="457"/>
                </a:moveTo>
                <a:cubicBezTo>
                  <a:pt x="7344" y="497"/>
                  <a:pt x="7353" y="540"/>
                  <a:pt x="7353" y="581"/>
                </a:cubicBezTo>
                <a:cubicBezTo>
                  <a:pt x="7354" y="920"/>
                  <a:pt x="7340" y="1262"/>
                  <a:pt x="7327" y="1601"/>
                </a:cubicBezTo>
                <a:cubicBezTo>
                  <a:pt x="7246" y="3682"/>
                  <a:pt x="7147" y="5761"/>
                  <a:pt x="7007" y="7839"/>
                </a:cubicBezTo>
                <a:cubicBezTo>
                  <a:pt x="6954" y="8621"/>
                  <a:pt x="6910" y="9403"/>
                  <a:pt x="6935" y="10187"/>
                </a:cubicBezTo>
                <a:cubicBezTo>
                  <a:pt x="6954" y="10799"/>
                  <a:pt x="7022" y="11411"/>
                  <a:pt x="7012" y="12021"/>
                </a:cubicBezTo>
                <a:cubicBezTo>
                  <a:pt x="6996" y="11962"/>
                  <a:pt x="6954" y="11891"/>
                  <a:pt x="6943" y="11821"/>
                </a:cubicBezTo>
                <a:cubicBezTo>
                  <a:pt x="6847" y="11233"/>
                  <a:pt x="6879" y="10625"/>
                  <a:pt x="6901" y="10033"/>
                </a:cubicBezTo>
                <a:cubicBezTo>
                  <a:pt x="6919" y="9548"/>
                  <a:pt x="6942" y="9063"/>
                  <a:pt x="6965" y="8578"/>
                </a:cubicBezTo>
                <a:cubicBezTo>
                  <a:pt x="7042" y="6979"/>
                  <a:pt x="7077" y="5387"/>
                  <a:pt x="6943" y="3790"/>
                </a:cubicBezTo>
                <a:cubicBezTo>
                  <a:pt x="6871" y="2932"/>
                  <a:pt x="6808" y="1987"/>
                  <a:pt x="6858" y="1174"/>
                </a:cubicBezTo>
                <a:cubicBezTo>
                  <a:pt x="6857" y="1191"/>
                  <a:pt x="6855" y="1208"/>
                  <a:pt x="6854" y="1225"/>
                </a:cubicBezTo>
                <a:cubicBezTo>
                  <a:pt x="6839" y="1868"/>
                  <a:pt x="6812" y="2511"/>
                  <a:pt x="6798" y="3154"/>
                </a:cubicBezTo>
                <a:cubicBezTo>
                  <a:pt x="6742" y="5699"/>
                  <a:pt x="6835" y="8249"/>
                  <a:pt x="6931" y="10792"/>
                </a:cubicBezTo>
                <a:cubicBezTo>
                  <a:pt x="6940" y="11019"/>
                  <a:pt x="6956" y="11245"/>
                  <a:pt x="6973" y="11471"/>
                </a:cubicBezTo>
                <a:cubicBezTo>
                  <a:pt x="6982" y="11464"/>
                  <a:pt x="6995" y="11714"/>
                  <a:pt x="6995" y="11548"/>
                </a:cubicBezTo>
                <a:cubicBezTo>
                  <a:pt x="6996" y="9986"/>
                  <a:pt x="6835" y="8433"/>
                  <a:pt x="6884" y="6866"/>
                </a:cubicBezTo>
                <a:cubicBezTo>
                  <a:pt x="6908" y="6097"/>
                  <a:pt x="6960" y="5330"/>
                  <a:pt x="7012" y="4562"/>
                </a:cubicBezTo>
                <a:cubicBezTo>
                  <a:pt x="7070" y="3698"/>
                  <a:pt x="7184" y="2808"/>
                  <a:pt x="7097" y="1942"/>
                </a:cubicBezTo>
                <a:cubicBezTo>
                  <a:pt x="7080" y="1778"/>
                  <a:pt x="7038" y="1621"/>
                  <a:pt x="7003" y="1464"/>
                </a:cubicBezTo>
                <a:cubicBezTo>
                  <a:pt x="6981" y="1745"/>
                  <a:pt x="6962" y="2027"/>
                  <a:pt x="6948" y="2309"/>
                </a:cubicBezTo>
                <a:cubicBezTo>
                  <a:pt x="6817" y="4966"/>
                  <a:pt x="6901" y="7626"/>
                  <a:pt x="6901" y="10285"/>
                </a:cubicBezTo>
                <a:cubicBezTo>
                  <a:pt x="6901" y="10686"/>
                  <a:pt x="6921" y="11121"/>
                  <a:pt x="6858" y="11518"/>
                </a:cubicBezTo>
                <a:cubicBezTo>
                  <a:pt x="6847" y="11546"/>
                  <a:pt x="6847" y="11553"/>
                  <a:pt x="6832" y="11565"/>
                </a:cubicBezTo>
              </a:path>
              <a:path w="7354" h="12022">
                <a:moveTo>
                  <a:pt x="1259" y="2650"/>
                </a:moveTo>
                <a:cubicBezTo>
                  <a:pt x="1259" y="2819"/>
                  <a:pt x="1262" y="2989"/>
                  <a:pt x="1263" y="3158"/>
                </a:cubicBezTo>
                <a:cubicBezTo>
                  <a:pt x="1263" y="3213"/>
                  <a:pt x="1263" y="3466"/>
                  <a:pt x="1259" y="3461"/>
                </a:cubicBezTo>
                <a:cubicBezTo>
                  <a:pt x="1259" y="3250"/>
                  <a:pt x="1252" y="3040"/>
                  <a:pt x="1246" y="2830"/>
                </a:cubicBezTo>
                <a:cubicBezTo>
                  <a:pt x="1242" y="2696"/>
                  <a:pt x="1234" y="2557"/>
                  <a:pt x="1216" y="2424"/>
                </a:cubicBezTo>
                <a:cubicBezTo>
                  <a:pt x="1213" y="2414"/>
                  <a:pt x="1211" y="2404"/>
                  <a:pt x="1208" y="2394"/>
                </a:cubicBezTo>
                <a:cubicBezTo>
                  <a:pt x="1208" y="2397"/>
                  <a:pt x="1215" y="2469"/>
                  <a:pt x="1216" y="2484"/>
                </a:cubicBezTo>
                <a:cubicBezTo>
                  <a:pt x="1224" y="2594"/>
                  <a:pt x="1239" y="2701"/>
                  <a:pt x="1242" y="2812"/>
                </a:cubicBezTo>
                <a:cubicBezTo>
                  <a:pt x="1245" y="2944"/>
                  <a:pt x="1239" y="3077"/>
                  <a:pt x="1238" y="3209"/>
                </a:cubicBezTo>
                <a:cubicBezTo>
                  <a:pt x="1237" y="3272"/>
                  <a:pt x="1234" y="3334"/>
                  <a:pt x="1234" y="3397"/>
                </a:cubicBezTo>
                <a:cubicBezTo>
                  <a:pt x="1231" y="3346"/>
                  <a:pt x="1226" y="3299"/>
                  <a:pt x="1225" y="3248"/>
                </a:cubicBezTo>
                <a:cubicBezTo>
                  <a:pt x="1223" y="3137"/>
                  <a:pt x="1221" y="3021"/>
                  <a:pt x="1208" y="2911"/>
                </a:cubicBezTo>
                <a:cubicBezTo>
                  <a:pt x="1198" y="2826"/>
                  <a:pt x="1195" y="2734"/>
                  <a:pt x="1178" y="2650"/>
                </a:cubicBezTo>
                <a:cubicBezTo>
                  <a:pt x="1175" y="2643"/>
                  <a:pt x="1173" y="2636"/>
                  <a:pt x="1170" y="2629"/>
                </a:cubicBezTo>
                <a:cubicBezTo>
                  <a:pt x="1165" y="2685"/>
                  <a:pt x="1165" y="2753"/>
                  <a:pt x="1165" y="2812"/>
                </a:cubicBezTo>
                <a:cubicBezTo>
                  <a:pt x="1165" y="2989"/>
                  <a:pt x="1161" y="3165"/>
                  <a:pt x="1161" y="3342"/>
                </a:cubicBezTo>
                <a:cubicBezTo>
                  <a:pt x="1161" y="3451"/>
                  <a:pt x="1167" y="3558"/>
                  <a:pt x="1170" y="3666"/>
                </a:cubicBezTo>
              </a:path>
              <a:path w="7354" h="12022">
                <a:moveTo>
                  <a:pt x="34" y="1916"/>
                </a:moveTo>
                <a:cubicBezTo>
                  <a:pt x="43" y="2092"/>
                  <a:pt x="48" y="2270"/>
                  <a:pt x="64" y="2445"/>
                </a:cubicBezTo>
                <a:cubicBezTo>
                  <a:pt x="95" y="2776"/>
                  <a:pt x="127" y="3108"/>
                  <a:pt x="150" y="3440"/>
                </a:cubicBezTo>
                <a:cubicBezTo>
                  <a:pt x="174" y="3785"/>
                  <a:pt x="201" y="4131"/>
                  <a:pt x="214" y="4477"/>
                </a:cubicBezTo>
                <a:cubicBezTo>
                  <a:pt x="221" y="4675"/>
                  <a:pt x="231" y="4875"/>
                  <a:pt x="226" y="5074"/>
                </a:cubicBezTo>
                <a:cubicBezTo>
                  <a:pt x="223" y="5128"/>
                  <a:pt x="222" y="5139"/>
                  <a:pt x="218" y="5172"/>
                </a:cubicBezTo>
                <a:cubicBezTo>
                  <a:pt x="202" y="5087"/>
                  <a:pt x="193" y="4986"/>
                  <a:pt x="188" y="4895"/>
                </a:cubicBezTo>
                <a:cubicBezTo>
                  <a:pt x="170" y="4578"/>
                  <a:pt x="160" y="4260"/>
                  <a:pt x="150" y="3943"/>
                </a:cubicBezTo>
                <a:cubicBezTo>
                  <a:pt x="134" y="3448"/>
                  <a:pt x="110" y="2953"/>
                  <a:pt x="94" y="2458"/>
                </a:cubicBezTo>
                <a:cubicBezTo>
                  <a:pt x="88" y="2262"/>
                  <a:pt x="85" y="2065"/>
                  <a:pt x="77" y="1869"/>
                </a:cubicBezTo>
                <a:cubicBezTo>
                  <a:pt x="75" y="2127"/>
                  <a:pt x="83" y="2384"/>
                  <a:pt x="86" y="2642"/>
                </a:cubicBezTo>
                <a:cubicBezTo>
                  <a:pt x="91" y="2993"/>
                  <a:pt x="84" y="3345"/>
                  <a:pt x="86" y="3696"/>
                </a:cubicBezTo>
                <a:cubicBezTo>
                  <a:pt x="88" y="4105"/>
                  <a:pt x="79" y="4513"/>
                  <a:pt x="77" y="4921"/>
                </a:cubicBezTo>
                <a:cubicBezTo>
                  <a:pt x="76" y="5019"/>
                  <a:pt x="71" y="5003"/>
                  <a:pt x="73" y="4912"/>
                </a:cubicBezTo>
                <a:cubicBezTo>
                  <a:pt x="74" y="4875"/>
                  <a:pt x="76" y="4838"/>
                  <a:pt x="77" y="4801"/>
                </a:cubicBezTo>
                <a:cubicBezTo>
                  <a:pt x="82" y="4519"/>
                  <a:pt x="82" y="4238"/>
                  <a:pt x="81" y="3956"/>
                </a:cubicBezTo>
                <a:cubicBezTo>
                  <a:pt x="79" y="3518"/>
                  <a:pt x="69" y="3075"/>
                  <a:pt x="34" y="2638"/>
                </a:cubicBezTo>
                <a:cubicBezTo>
                  <a:pt x="28" y="2584"/>
                  <a:pt x="23" y="2529"/>
                  <a:pt x="17" y="2475"/>
                </a:cubicBezTo>
                <a:cubicBezTo>
                  <a:pt x="9" y="2388"/>
                  <a:pt x="-4" y="2282"/>
                  <a:pt x="0" y="2369"/>
                </a:cubicBezTo>
                <a:cubicBezTo>
                  <a:pt x="13" y="2628"/>
                  <a:pt x="48" y="2886"/>
                  <a:pt x="64" y="3145"/>
                </a:cubicBezTo>
                <a:cubicBezTo>
                  <a:pt x="90" y="3564"/>
                  <a:pt x="123" y="3981"/>
                  <a:pt x="133" y="4400"/>
                </a:cubicBezTo>
                <a:cubicBezTo>
                  <a:pt x="140" y="4685"/>
                  <a:pt x="139" y="4969"/>
                  <a:pt x="120" y="5253"/>
                </a:cubicBezTo>
                <a:cubicBezTo>
                  <a:pt x="108" y="5427"/>
                  <a:pt x="117" y="5304"/>
                  <a:pt x="81" y="5309"/>
                </a:cubicBezTo>
              </a:path>
              <a:path w="7354" h="12022">
                <a:moveTo>
                  <a:pt x="7059" y="239"/>
                </a:moveTo>
                <a:cubicBezTo>
                  <a:pt x="7055" y="270"/>
                  <a:pt x="7050" y="314"/>
                  <a:pt x="7046" y="346"/>
                </a:cubicBezTo>
                <a:cubicBezTo>
                  <a:pt x="7027" y="509"/>
                  <a:pt x="7027" y="673"/>
                  <a:pt x="7020" y="837"/>
                </a:cubicBezTo>
                <a:cubicBezTo>
                  <a:pt x="7010" y="1072"/>
                  <a:pt x="7002" y="1302"/>
                  <a:pt x="7012" y="1537"/>
                </a:cubicBezTo>
                <a:cubicBezTo>
                  <a:pt x="7018" y="1676"/>
                  <a:pt x="7026" y="1817"/>
                  <a:pt x="7046" y="1955"/>
                </a:cubicBezTo>
                <a:cubicBezTo>
                  <a:pt x="7052" y="1991"/>
                  <a:pt x="7050" y="1996"/>
                  <a:pt x="7059" y="2014"/>
                </a:cubicBezTo>
                <a:cubicBezTo>
                  <a:pt x="7060" y="1940"/>
                  <a:pt x="7060" y="1867"/>
                  <a:pt x="7059" y="1793"/>
                </a:cubicBezTo>
                <a:cubicBezTo>
                  <a:pt x="7057" y="1578"/>
                  <a:pt x="7051" y="1363"/>
                  <a:pt x="7046" y="1148"/>
                </a:cubicBezTo>
                <a:cubicBezTo>
                  <a:pt x="7040" y="890"/>
                  <a:pt x="7029" y="633"/>
                  <a:pt x="7003" y="376"/>
                </a:cubicBezTo>
                <a:cubicBezTo>
                  <a:pt x="6996" y="307"/>
                  <a:pt x="6997" y="292"/>
                  <a:pt x="6982" y="252"/>
                </a:cubicBezTo>
                <a:cubicBezTo>
                  <a:pt x="6962" y="283"/>
                  <a:pt x="6943" y="361"/>
                  <a:pt x="6939" y="431"/>
                </a:cubicBezTo>
                <a:cubicBezTo>
                  <a:pt x="6928" y="616"/>
                  <a:pt x="6939" y="801"/>
                  <a:pt x="6952" y="986"/>
                </a:cubicBezTo>
                <a:cubicBezTo>
                  <a:pt x="6965" y="1164"/>
                  <a:pt x="6984" y="1344"/>
                  <a:pt x="7020" y="1519"/>
                </a:cubicBezTo>
                <a:cubicBezTo>
                  <a:pt x="7035" y="1593"/>
                  <a:pt x="7057" y="1645"/>
                  <a:pt x="7093" y="1690"/>
                </a:cubicBezTo>
                <a:cubicBezTo>
                  <a:pt x="7126" y="1606"/>
                  <a:pt x="7153" y="1516"/>
                  <a:pt x="7170" y="1421"/>
                </a:cubicBezTo>
                <a:cubicBezTo>
                  <a:pt x="7204" y="1224"/>
                  <a:pt x="7228" y="1026"/>
                  <a:pt x="7255" y="828"/>
                </a:cubicBezTo>
                <a:cubicBezTo>
                  <a:pt x="7276" y="674"/>
                  <a:pt x="7296" y="521"/>
                  <a:pt x="7315" y="367"/>
                </a:cubicBezTo>
                <a:cubicBezTo>
                  <a:pt x="7322" y="310"/>
                  <a:pt x="7308" y="396"/>
                  <a:pt x="7302" y="453"/>
                </a:cubicBezTo>
                <a:cubicBezTo>
                  <a:pt x="7274" y="693"/>
                  <a:pt x="7248" y="933"/>
                  <a:pt x="7225" y="1174"/>
                </a:cubicBezTo>
                <a:cubicBezTo>
                  <a:pt x="7211" y="1319"/>
                  <a:pt x="7202" y="1464"/>
                  <a:pt x="7191" y="1609"/>
                </a:cubicBezTo>
                <a:cubicBezTo>
                  <a:pt x="7188" y="1646"/>
                  <a:pt x="7187" y="1649"/>
                  <a:pt x="7187" y="1669"/>
                </a:cubicBezTo>
                <a:cubicBezTo>
                  <a:pt x="7202" y="1577"/>
                  <a:pt x="7218" y="1484"/>
                  <a:pt x="7229" y="1391"/>
                </a:cubicBezTo>
                <a:cubicBezTo>
                  <a:pt x="7271" y="1042"/>
                  <a:pt x="7314" y="685"/>
                  <a:pt x="7315" y="333"/>
                </a:cubicBezTo>
                <a:cubicBezTo>
                  <a:pt x="7315" y="216"/>
                  <a:pt x="7302" y="100"/>
                  <a:pt x="7276" y="0"/>
                </a:cubicBezTo>
                <a:cubicBezTo>
                  <a:pt x="7212" y="134"/>
                  <a:pt x="7191" y="276"/>
                  <a:pt x="7170" y="423"/>
                </a:cubicBezTo>
                <a:cubicBezTo>
                  <a:pt x="7128" y="716"/>
                  <a:pt x="7111" y="1014"/>
                  <a:pt x="7110" y="1310"/>
                </a:cubicBezTo>
                <a:cubicBezTo>
                  <a:pt x="7109" y="1544"/>
                  <a:pt x="7119" y="1782"/>
                  <a:pt x="7157" y="2014"/>
                </a:cubicBezTo>
                <a:cubicBezTo>
                  <a:pt x="7171" y="2101"/>
                  <a:pt x="7197" y="2186"/>
                  <a:pt x="7229" y="2266"/>
                </a:cubicBezTo>
              </a:path>
              <a:path w="7354" h="12022">
                <a:moveTo>
                  <a:pt x="6888" y="7285"/>
                </a:moveTo>
                <a:cubicBezTo>
                  <a:pt x="6897" y="7662"/>
                  <a:pt x="6896" y="8039"/>
                  <a:pt x="6901" y="8416"/>
                </a:cubicBezTo>
                <a:cubicBezTo>
                  <a:pt x="6904" y="8670"/>
                  <a:pt x="6913" y="8922"/>
                  <a:pt x="6931" y="9175"/>
                </a:cubicBezTo>
                <a:cubicBezTo>
                  <a:pt x="6967" y="9671"/>
                  <a:pt x="7019" y="10165"/>
                  <a:pt x="7054" y="10660"/>
                </a:cubicBezTo>
                <a:cubicBezTo>
                  <a:pt x="7057" y="10702"/>
                  <a:pt x="7062" y="10743"/>
                  <a:pt x="7067" y="10784"/>
                </a:cubicBezTo>
                <a:cubicBezTo>
                  <a:pt x="7063" y="10684"/>
                  <a:pt x="7060" y="10585"/>
                  <a:pt x="7059" y="10485"/>
                </a:cubicBezTo>
              </a:path>
              <a:path w="7354" h="12022">
                <a:moveTo>
                  <a:pt x="7101" y="7750"/>
                </a:moveTo>
                <a:cubicBezTo>
                  <a:pt x="7096" y="7976"/>
                  <a:pt x="7100" y="8202"/>
                  <a:pt x="7101" y="8428"/>
                </a:cubicBezTo>
                <a:cubicBezTo>
                  <a:pt x="7103" y="8737"/>
                  <a:pt x="7130" y="9045"/>
                  <a:pt x="7144" y="9354"/>
                </a:cubicBezTo>
                <a:cubicBezTo>
                  <a:pt x="7155" y="9606"/>
                  <a:pt x="7165" y="9858"/>
                  <a:pt x="7161" y="10110"/>
                </a:cubicBezTo>
                <a:cubicBezTo>
                  <a:pt x="7158" y="10335"/>
                  <a:pt x="7132" y="10561"/>
                  <a:pt x="7105" y="10784"/>
                </a:cubicBezTo>
                <a:cubicBezTo>
                  <a:pt x="7089" y="10917"/>
                  <a:pt x="7069" y="11049"/>
                  <a:pt x="7046" y="11181"/>
                </a:cubicBezTo>
                <a:cubicBezTo>
                  <a:pt x="7039" y="11206"/>
                  <a:pt x="7036" y="11209"/>
                  <a:pt x="7037" y="11223"/>
                </a:cubicBezTo>
                <a:cubicBezTo>
                  <a:pt x="7048" y="11099"/>
                  <a:pt x="7068" y="10976"/>
                  <a:pt x="7080" y="10852"/>
                </a:cubicBezTo>
                <a:cubicBezTo>
                  <a:pt x="7131" y="10305"/>
                  <a:pt x="7131" y="9753"/>
                  <a:pt x="7144" y="9205"/>
                </a:cubicBezTo>
                <a:cubicBezTo>
                  <a:pt x="7151" y="8915"/>
                  <a:pt x="7172" y="8616"/>
                  <a:pt x="7157" y="8326"/>
                </a:cubicBezTo>
                <a:cubicBezTo>
                  <a:pt x="7157" y="8291"/>
                  <a:pt x="7157" y="8281"/>
                  <a:pt x="7152" y="8330"/>
                </a:cubicBezTo>
                <a:cubicBezTo>
                  <a:pt x="7148" y="8568"/>
                  <a:pt x="7148" y="8805"/>
                  <a:pt x="7144" y="9043"/>
                </a:cubicBezTo>
                <a:cubicBezTo>
                  <a:pt x="7138" y="9346"/>
                  <a:pt x="7126" y="9649"/>
                  <a:pt x="7123" y="9952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Freeform 8"/>
          <p:cNvSpPr/>
          <p:nvPr/>
        </p:nvSpPr>
        <p:spPr>
          <a:xfrm>
            <a:off x="2116080" y="1706400"/>
            <a:ext cx="112680" cy="846360"/>
          </a:xfrm>
          <a:custGeom>
            <a:avLst/>
            <a:gdLst/>
            <a:ahLst/>
            <a:rect l="l" t="t" r="r" b="b"/>
            <a:pathLst>
              <a:path w="317" h="2348">
                <a:moveTo>
                  <a:pt x="69" y="456"/>
                </a:moveTo>
                <a:cubicBezTo>
                  <a:pt x="64" y="444"/>
                  <a:pt x="57" y="434"/>
                  <a:pt x="52" y="422"/>
                </a:cubicBezTo>
                <a:cubicBezTo>
                  <a:pt x="48" y="411"/>
                  <a:pt x="43" y="400"/>
                  <a:pt x="39" y="388"/>
                </a:cubicBezTo>
                <a:cubicBezTo>
                  <a:pt x="35" y="376"/>
                  <a:pt x="28" y="355"/>
                  <a:pt x="26" y="345"/>
                </a:cubicBezTo>
                <a:cubicBezTo>
                  <a:pt x="23" y="330"/>
                  <a:pt x="22" y="286"/>
                  <a:pt x="22" y="290"/>
                </a:cubicBezTo>
                <a:cubicBezTo>
                  <a:pt x="16" y="367"/>
                  <a:pt x="16" y="450"/>
                  <a:pt x="13" y="529"/>
                </a:cubicBezTo>
                <a:cubicBezTo>
                  <a:pt x="-2" y="942"/>
                  <a:pt x="-8" y="1354"/>
                  <a:pt x="22" y="1766"/>
                </a:cubicBezTo>
                <a:cubicBezTo>
                  <a:pt x="30" y="1878"/>
                  <a:pt x="42" y="1985"/>
                  <a:pt x="60" y="2095"/>
                </a:cubicBezTo>
                <a:cubicBezTo>
                  <a:pt x="77" y="2031"/>
                  <a:pt x="81" y="1960"/>
                  <a:pt x="81" y="1886"/>
                </a:cubicBezTo>
                <a:cubicBezTo>
                  <a:pt x="82" y="1626"/>
                  <a:pt x="83" y="1365"/>
                  <a:pt x="81" y="1105"/>
                </a:cubicBezTo>
                <a:cubicBezTo>
                  <a:pt x="80" y="881"/>
                  <a:pt x="82" y="658"/>
                  <a:pt x="73" y="435"/>
                </a:cubicBezTo>
                <a:cubicBezTo>
                  <a:pt x="69" y="344"/>
                  <a:pt x="68" y="253"/>
                  <a:pt x="64" y="162"/>
                </a:cubicBezTo>
                <a:cubicBezTo>
                  <a:pt x="77" y="267"/>
                  <a:pt x="93" y="372"/>
                  <a:pt x="107" y="478"/>
                </a:cubicBezTo>
                <a:cubicBezTo>
                  <a:pt x="167" y="922"/>
                  <a:pt x="128" y="1393"/>
                  <a:pt x="227" y="1830"/>
                </a:cubicBezTo>
                <a:cubicBezTo>
                  <a:pt x="230" y="1839"/>
                  <a:pt x="232" y="1847"/>
                  <a:pt x="235" y="1856"/>
                </a:cubicBezTo>
                <a:cubicBezTo>
                  <a:pt x="267" y="1781"/>
                  <a:pt x="279" y="1718"/>
                  <a:pt x="286" y="1630"/>
                </a:cubicBezTo>
                <a:cubicBezTo>
                  <a:pt x="304" y="1416"/>
                  <a:pt x="313" y="1200"/>
                  <a:pt x="316" y="985"/>
                </a:cubicBezTo>
                <a:cubicBezTo>
                  <a:pt x="320" y="677"/>
                  <a:pt x="316" y="361"/>
                  <a:pt x="274" y="55"/>
                </a:cubicBezTo>
                <a:cubicBezTo>
                  <a:pt x="271" y="38"/>
                  <a:pt x="268" y="21"/>
                  <a:pt x="265" y="4"/>
                </a:cubicBezTo>
                <a:cubicBezTo>
                  <a:pt x="245" y="63"/>
                  <a:pt x="237" y="178"/>
                  <a:pt x="235" y="260"/>
                </a:cubicBezTo>
                <a:cubicBezTo>
                  <a:pt x="220" y="824"/>
                  <a:pt x="237" y="1391"/>
                  <a:pt x="201" y="1954"/>
                </a:cubicBezTo>
                <a:cubicBezTo>
                  <a:pt x="193" y="2086"/>
                  <a:pt x="176" y="2216"/>
                  <a:pt x="158" y="234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3444840" y="2290680"/>
            <a:ext cx="957240" cy="1285920"/>
          </a:xfrm>
          <a:custGeom>
            <a:avLst/>
            <a:gdLst/>
            <a:ahLst/>
            <a:rect l="l" t="t" r="r" b="b"/>
            <a:pathLst>
              <a:path w="2659" h="3573">
                <a:moveTo>
                  <a:pt x="2556" y="879"/>
                </a:moveTo>
                <a:cubicBezTo>
                  <a:pt x="2551" y="1032"/>
                  <a:pt x="2552" y="1183"/>
                  <a:pt x="2556" y="1336"/>
                </a:cubicBezTo>
                <a:cubicBezTo>
                  <a:pt x="2561" y="1510"/>
                  <a:pt x="2571" y="1684"/>
                  <a:pt x="2586" y="1857"/>
                </a:cubicBezTo>
                <a:cubicBezTo>
                  <a:pt x="2594" y="1952"/>
                  <a:pt x="2606" y="2047"/>
                  <a:pt x="2611" y="2143"/>
                </a:cubicBezTo>
                <a:cubicBezTo>
                  <a:pt x="2611" y="2158"/>
                  <a:pt x="2611" y="2160"/>
                  <a:pt x="2611" y="2168"/>
                </a:cubicBezTo>
                <a:cubicBezTo>
                  <a:pt x="2608" y="2088"/>
                  <a:pt x="2610" y="2009"/>
                  <a:pt x="2607" y="1929"/>
                </a:cubicBezTo>
                <a:cubicBezTo>
                  <a:pt x="2599" y="1743"/>
                  <a:pt x="2584" y="1556"/>
                  <a:pt x="2569" y="1370"/>
                </a:cubicBezTo>
                <a:cubicBezTo>
                  <a:pt x="2556" y="1215"/>
                  <a:pt x="2543" y="1062"/>
                  <a:pt x="2513" y="909"/>
                </a:cubicBezTo>
                <a:cubicBezTo>
                  <a:pt x="2509" y="891"/>
                  <a:pt x="2504" y="872"/>
                  <a:pt x="2500" y="854"/>
                </a:cubicBezTo>
                <a:cubicBezTo>
                  <a:pt x="2495" y="860"/>
                  <a:pt x="2464" y="952"/>
                  <a:pt x="2458" y="1016"/>
                </a:cubicBezTo>
                <a:cubicBezTo>
                  <a:pt x="2438" y="1213"/>
                  <a:pt x="2438" y="1412"/>
                  <a:pt x="2424" y="1609"/>
                </a:cubicBezTo>
                <a:cubicBezTo>
                  <a:pt x="2410" y="1801"/>
                  <a:pt x="2391" y="1993"/>
                  <a:pt x="2381" y="2185"/>
                </a:cubicBezTo>
                <a:cubicBezTo>
                  <a:pt x="2378" y="2243"/>
                  <a:pt x="2376" y="2299"/>
                  <a:pt x="2372" y="2356"/>
                </a:cubicBezTo>
                <a:cubicBezTo>
                  <a:pt x="2388" y="2278"/>
                  <a:pt x="2406" y="2188"/>
                  <a:pt x="2415" y="2104"/>
                </a:cubicBezTo>
                <a:cubicBezTo>
                  <a:pt x="2441" y="1863"/>
                  <a:pt x="2468" y="1624"/>
                  <a:pt x="2492" y="1383"/>
                </a:cubicBezTo>
                <a:cubicBezTo>
                  <a:pt x="2513" y="1178"/>
                  <a:pt x="2528" y="974"/>
                  <a:pt x="2535" y="768"/>
                </a:cubicBezTo>
                <a:cubicBezTo>
                  <a:pt x="2537" y="717"/>
                  <a:pt x="2537" y="655"/>
                  <a:pt x="2526" y="743"/>
                </a:cubicBezTo>
                <a:cubicBezTo>
                  <a:pt x="2509" y="922"/>
                  <a:pt x="2506" y="1100"/>
                  <a:pt x="2500" y="1280"/>
                </a:cubicBezTo>
                <a:cubicBezTo>
                  <a:pt x="2493" y="1494"/>
                  <a:pt x="2493" y="1707"/>
                  <a:pt x="2500" y="1921"/>
                </a:cubicBezTo>
                <a:cubicBezTo>
                  <a:pt x="2503" y="2010"/>
                  <a:pt x="2513" y="2091"/>
                  <a:pt x="2530" y="2177"/>
                </a:cubicBezTo>
                <a:cubicBezTo>
                  <a:pt x="2561" y="2102"/>
                  <a:pt x="2577" y="2030"/>
                  <a:pt x="2590" y="1946"/>
                </a:cubicBezTo>
                <a:cubicBezTo>
                  <a:pt x="2625" y="1720"/>
                  <a:pt x="2642" y="1492"/>
                  <a:pt x="2654" y="1263"/>
                </a:cubicBezTo>
                <a:cubicBezTo>
                  <a:pt x="2658" y="1191"/>
                  <a:pt x="2659" y="1122"/>
                  <a:pt x="2654" y="1050"/>
                </a:cubicBezTo>
                <a:cubicBezTo>
                  <a:pt x="2644" y="1156"/>
                  <a:pt x="2633" y="1263"/>
                  <a:pt x="2628" y="1370"/>
                </a:cubicBezTo>
                <a:cubicBezTo>
                  <a:pt x="2616" y="1633"/>
                  <a:pt x="2623" y="1897"/>
                  <a:pt x="2628" y="2160"/>
                </a:cubicBezTo>
                <a:cubicBezTo>
                  <a:pt x="2629" y="2210"/>
                  <a:pt x="2648" y="2282"/>
                  <a:pt x="2646" y="2189"/>
                </a:cubicBezTo>
                <a:cubicBezTo>
                  <a:pt x="2643" y="2161"/>
                  <a:pt x="2640" y="2132"/>
                  <a:pt x="2637" y="2104"/>
                </a:cubicBezTo>
              </a:path>
              <a:path w="2659" h="3573">
                <a:moveTo>
                  <a:pt x="1242" y="918"/>
                </a:moveTo>
                <a:cubicBezTo>
                  <a:pt x="1224" y="1060"/>
                  <a:pt x="1198" y="1202"/>
                  <a:pt x="1186" y="1345"/>
                </a:cubicBezTo>
                <a:cubicBezTo>
                  <a:pt x="1178" y="1445"/>
                  <a:pt x="1172" y="1556"/>
                  <a:pt x="1186" y="1656"/>
                </a:cubicBezTo>
                <a:cubicBezTo>
                  <a:pt x="1190" y="1688"/>
                  <a:pt x="1202" y="1706"/>
                  <a:pt x="1212" y="1729"/>
                </a:cubicBezTo>
                <a:cubicBezTo>
                  <a:pt x="1234" y="1665"/>
                  <a:pt x="1247" y="1609"/>
                  <a:pt x="1254" y="1541"/>
                </a:cubicBezTo>
                <a:cubicBezTo>
                  <a:pt x="1270" y="1396"/>
                  <a:pt x="1270" y="1247"/>
                  <a:pt x="1271" y="1101"/>
                </a:cubicBezTo>
                <a:cubicBezTo>
                  <a:pt x="1272" y="991"/>
                  <a:pt x="1271" y="876"/>
                  <a:pt x="1254" y="768"/>
                </a:cubicBezTo>
                <a:cubicBezTo>
                  <a:pt x="1251" y="757"/>
                  <a:pt x="1249" y="745"/>
                  <a:pt x="1246" y="734"/>
                </a:cubicBezTo>
                <a:cubicBezTo>
                  <a:pt x="1238" y="793"/>
                  <a:pt x="1238" y="872"/>
                  <a:pt x="1242" y="939"/>
                </a:cubicBezTo>
                <a:cubicBezTo>
                  <a:pt x="1253" y="1108"/>
                  <a:pt x="1262" y="1278"/>
                  <a:pt x="1276" y="1447"/>
                </a:cubicBezTo>
                <a:cubicBezTo>
                  <a:pt x="1287" y="1580"/>
                  <a:pt x="1312" y="1711"/>
                  <a:pt x="1327" y="1844"/>
                </a:cubicBezTo>
                <a:cubicBezTo>
                  <a:pt x="1330" y="1888"/>
                  <a:pt x="1328" y="1898"/>
                  <a:pt x="1344" y="1921"/>
                </a:cubicBezTo>
                <a:cubicBezTo>
                  <a:pt x="1352" y="1868"/>
                  <a:pt x="1359" y="1812"/>
                  <a:pt x="1361" y="1758"/>
                </a:cubicBezTo>
                <a:cubicBezTo>
                  <a:pt x="1369" y="1542"/>
                  <a:pt x="1372" y="1317"/>
                  <a:pt x="1352" y="1101"/>
                </a:cubicBezTo>
                <a:cubicBezTo>
                  <a:pt x="1347" y="1047"/>
                  <a:pt x="1333" y="947"/>
                  <a:pt x="1318" y="1067"/>
                </a:cubicBezTo>
                <a:cubicBezTo>
                  <a:pt x="1310" y="1173"/>
                  <a:pt x="1307" y="1210"/>
                  <a:pt x="1288" y="1280"/>
                </a:cubicBezTo>
              </a:path>
              <a:path w="2659" h="3573">
                <a:moveTo>
                  <a:pt x="136" y="0"/>
                </a:moveTo>
                <a:cubicBezTo>
                  <a:pt x="138" y="44"/>
                  <a:pt x="137" y="84"/>
                  <a:pt x="136" y="128"/>
                </a:cubicBezTo>
                <a:cubicBezTo>
                  <a:pt x="130" y="509"/>
                  <a:pt x="156" y="888"/>
                  <a:pt x="183" y="1268"/>
                </a:cubicBezTo>
                <a:cubicBezTo>
                  <a:pt x="215" y="1720"/>
                  <a:pt x="269" y="2170"/>
                  <a:pt x="316" y="2620"/>
                </a:cubicBezTo>
                <a:cubicBezTo>
                  <a:pt x="330" y="2753"/>
                  <a:pt x="340" y="2890"/>
                  <a:pt x="362" y="3022"/>
                </a:cubicBezTo>
                <a:cubicBezTo>
                  <a:pt x="371" y="3063"/>
                  <a:pt x="374" y="3076"/>
                  <a:pt x="380" y="3103"/>
                </a:cubicBezTo>
                <a:cubicBezTo>
                  <a:pt x="372" y="3058"/>
                  <a:pt x="369" y="3028"/>
                  <a:pt x="362" y="2983"/>
                </a:cubicBezTo>
                <a:cubicBezTo>
                  <a:pt x="314" y="2678"/>
                  <a:pt x="290" y="2368"/>
                  <a:pt x="260" y="2061"/>
                </a:cubicBezTo>
                <a:cubicBezTo>
                  <a:pt x="224" y="1685"/>
                  <a:pt x="197" y="1308"/>
                  <a:pt x="162" y="931"/>
                </a:cubicBezTo>
                <a:cubicBezTo>
                  <a:pt x="140" y="688"/>
                  <a:pt x="120" y="444"/>
                  <a:pt x="98" y="201"/>
                </a:cubicBezTo>
                <a:cubicBezTo>
                  <a:pt x="96" y="264"/>
                  <a:pt x="94" y="309"/>
                  <a:pt x="94" y="372"/>
                </a:cubicBezTo>
                <a:cubicBezTo>
                  <a:pt x="94" y="613"/>
                  <a:pt x="108" y="852"/>
                  <a:pt x="115" y="1093"/>
                </a:cubicBezTo>
                <a:cubicBezTo>
                  <a:pt x="126" y="1456"/>
                  <a:pt x="133" y="1818"/>
                  <a:pt x="149" y="2181"/>
                </a:cubicBezTo>
                <a:cubicBezTo>
                  <a:pt x="163" y="2501"/>
                  <a:pt x="185" y="2821"/>
                  <a:pt x="205" y="3141"/>
                </a:cubicBezTo>
                <a:cubicBezTo>
                  <a:pt x="209" y="3198"/>
                  <a:pt x="244" y="3596"/>
                  <a:pt x="239" y="3538"/>
                </a:cubicBezTo>
                <a:cubicBezTo>
                  <a:pt x="236" y="3510"/>
                  <a:pt x="233" y="3481"/>
                  <a:pt x="230" y="3453"/>
                </a:cubicBezTo>
                <a:cubicBezTo>
                  <a:pt x="214" y="3090"/>
                  <a:pt x="179" y="2727"/>
                  <a:pt x="158" y="2364"/>
                </a:cubicBezTo>
                <a:cubicBezTo>
                  <a:pt x="119" y="1690"/>
                  <a:pt x="73" y="1016"/>
                  <a:pt x="25" y="342"/>
                </a:cubicBezTo>
                <a:cubicBezTo>
                  <a:pt x="19" y="256"/>
                  <a:pt x="10" y="175"/>
                  <a:pt x="0" y="90"/>
                </a:cubicBezTo>
                <a:cubicBezTo>
                  <a:pt x="8" y="209"/>
                  <a:pt x="12" y="328"/>
                  <a:pt x="17" y="448"/>
                </a:cubicBezTo>
                <a:cubicBezTo>
                  <a:pt x="32" y="805"/>
                  <a:pt x="45" y="1162"/>
                  <a:pt x="64" y="1519"/>
                </a:cubicBezTo>
                <a:cubicBezTo>
                  <a:pt x="83" y="1890"/>
                  <a:pt x="104" y="2262"/>
                  <a:pt x="128" y="2633"/>
                </a:cubicBezTo>
                <a:cubicBezTo>
                  <a:pt x="137" y="2772"/>
                  <a:pt x="169" y="2926"/>
                  <a:pt x="170" y="3064"/>
                </a:cubicBezTo>
                <a:cubicBezTo>
                  <a:pt x="166" y="3058"/>
                  <a:pt x="162" y="3053"/>
                  <a:pt x="158" y="3047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2062080" y="1754280"/>
            <a:ext cx="960480" cy="4073400"/>
          </a:xfrm>
          <a:custGeom>
            <a:avLst/>
            <a:gdLst/>
            <a:ahLst/>
            <a:rect l="l" t="t" r="r" b="b"/>
            <a:pathLst>
              <a:path w="2668" h="11314">
                <a:moveTo>
                  <a:pt x="2471" y="1067"/>
                </a:moveTo>
                <a:cubicBezTo>
                  <a:pt x="2461" y="1282"/>
                  <a:pt x="2458" y="1496"/>
                  <a:pt x="2458" y="1711"/>
                </a:cubicBezTo>
                <a:cubicBezTo>
                  <a:pt x="2458" y="2555"/>
                  <a:pt x="2507" y="3400"/>
                  <a:pt x="2548" y="4242"/>
                </a:cubicBezTo>
                <a:cubicBezTo>
                  <a:pt x="2580" y="4902"/>
                  <a:pt x="2605" y="5562"/>
                  <a:pt x="2633" y="6222"/>
                </a:cubicBezTo>
                <a:cubicBezTo>
                  <a:pt x="2647" y="6548"/>
                  <a:pt x="2664" y="6873"/>
                  <a:pt x="2667" y="7199"/>
                </a:cubicBezTo>
                <a:cubicBezTo>
                  <a:pt x="2668" y="7305"/>
                  <a:pt x="2669" y="7540"/>
                  <a:pt x="2659" y="7600"/>
                </a:cubicBezTo>
                <a:cubicBezTo>
                  <a:pt x="2657" y="7584"/>
                  <a:pt x="2656" y="7569"/>
                  <a:pt x="2654" y="7553"/>
                </a:cubicBezTo>
                <a:cubicBezTo>
                  <a:pt x="2641" y="7344"/>
                  <a:pt x="2633" y="7134"/>
                  <a:pt x="2612" y="6926"/>
                </a:cubicBezTo>
                <a:cubicBezTo>
                  <a:pt x="2566" y="6461"/>
                  <a:pt x="2531" y="5995"/>
                  <a:pt x="2488" y="5530"/>
                </a:cubicBezTo>
                <a:cubicBezTo>
                  <a:pt x="2356" y="4114"/>
                  <a:pt x="2369" y="2713"/>
                  <a:pt x="2322" y="1297"/>
                </a:cubicBezTo>
                <a:cubicBezTo>
                  <a:pt x="2319" y="1281"/>
                  <a:pt x="2316" y="1266"/>
                  <a:pt x="2313" y="1250"/>
                </a:cubicBezTo>
                <a:cubicBezTo>
                  <a:pt x="2300" y="1306"/>
                  <a:pt x="2274" y="1414"/>
                  <a:pt x="2266" y="1485"/>
                </a:cubicBezTo>
                <a:cubicBezTo>
                  <a:pt x="2093" y="2999"/>
                  <a:pt x="2304" y="4569"/>
                  <a:pt x="2432" y="6077"/>
                </a:cubicBezTo>
                <a:cubicBezTo>
                  <a:pt x="2464" y="6451"/>
                  <a:pt x="2495" y="6825"/>
                  <a:pt x="2522" y="7199"/>
                </a:cubicBezTo>
                <a:cubicBezTo>
                  <a:pt x="2526" y="7252"/>
                  <a:pt x="2531" y="7304"/>
                  <a:pt x="2535" y="7357"/>
                </a:cubicBezTo>
                <a:cubicBezTo>
                  <a:pt x="2532" y="7426"/>
                  <a:pt x="2552" y="7619"/>
                  <a:pt x="2522" y="7417"/>
                </a:cubicBezTo>
                <a:cubicBezTo>
                  <a:pt x="2471" y="7079"/>
                  <a:pt x="2479" y="6721"/>
                  <a:pt x="2458" y="6380"/>
                </a:cubicBezTo>
                <a:cubicBezTo>
                  <a:pt x="2355" y="4678"/>
                  <a:pt x="2313" y="2976"/>
                  <a:pt x="2313" y="1272"/>
                </a:cubicBezTo>
                <a:cubicBezTo>
                  <a:pt x="2296" y="1635"/>
                  <a:pt x="2297" y="2000"/>
                  <a:pt x="2296" y="2364"/>
                </a:cubicBezTo>
                <a:cubicBezTo>
                  <a:pt x="2293" y="3237"/>
                  <a:pt x="2320" y="4111"/>
                  <a:pt x="2347" y="4984"/>
                </a:cubicBezTo>
                <a:cubicBezTo>
                  <a:pt x="2363" y="5499"/>
                  <a:pt x="2393" y="6014"/>
                  <a:pt x="2407" y="6529"/>
                </a:cubicBezTo>
                <a:cubicBezTo>
                  <a:pt x="2415" y="6830"/>
                  <a:pt x="2432" y="7125"/>
                  <a:pt x="2403" y="7425"/>
                </a:cubicBezTo>
              </a:path>
              <a:path w="2668" h="11314">
                <a:moveTo>
                  <a:pt x="461" y="0"/>
                </a:moveTo>
                <a:cubicBezTo>
                  <a:pt x="462" y="185"/>
                  <a:pt x="461" y="370"/>
                  <a:pt x="457" y="555"/>
                </a:cubicBezTo>
                <a:cubicBezTo>
                  <a:pt x="413" y="2779"/>
                  <a:pt x="509" y="4989"/>
                  <a:pt x="649" y="7208"/>
                </a:cubicBezTo>
                <a:cubicBezTo>
                  <a:pt x="714" y="8235"/>
                  <a:pt x="809" y="9268"/>
                  <a:pt x="811" y="10297"/>
                </a:cubicBezTo>
                <a:cubicBezTo>
                  <a:pt x="811" y="10404"/>
                  <a:pt x="807" y="10510"/>
                  <a:pt x="807" y="10617"/>
                </a:cubicBezTo>
                <a:cubicBezTo>
                  <a:pt x="790" y="10096"/>
                  <a:pt x="760" y="9576"/>
                  <a:pt x="734" y="9055"/>
                </a:cubicBezTo>
                <a:cubicBezTo>
                  <a:pt x="605" y="6470"/>
                  <a:pt x="631" y="3843"/>
                  <a:pt x="316" y="1272"/>
                </a:cubicBezTo>
                <a:cubicBezTo>
                  <a:pt x="279" y="972"/>
                  <a:pt x="251" y="672"/>
                  <a:pt x="230" y="371"/>
                </a:cubicBezTo>
                <a:cubicBezTo>
                  <a:pt x="230" y="365"/>
                  <a:pt x="230" y="360"/>
                  <a:pt x="230" y="354"/>
                </a:cubicBezTo>
                <a:cubicBezTo>
                  <a:pt x="221" y="463"/>
                  <a:pt x="208" y="573"/>
                  <a:pt x="201" y="683"/>
                </a:cubicBezTo>
                <a:cubicBezTo>
                  <a:pt x="167" y="1195"/>
                  <a:pt x="151" y="1710"/>
                  <a:pt x="149" y="2223"/>
                </a:cubicBezTo>
                <a:cubicBezTo>
                  <a:pt x="142" y="3832"/>
                  <a:pt x="224" y="5440"/>
                  <a:pt x="316" y="7045"/>
                </a:cubicBezTo>
                <a:cubicBezTo>
                  <a:pt x="372" y="8031"/>
                  <a:pt x="457" y="9014"/>
                  <a:pt x="538" y="9998"/>
                </a:cubicBezTo>
                <a:cubicBezTo>
                  <a:pt x="531" y="9934"/>
                  <a:pt x="537" y="9973"/>
                  <a:pt x="529" y="9909"/>
                </a:cubicBezTo>
                <a:cubicBezTo>
                  <a:pt x="315" y="8178"/>
                  <a:pt x="79" y="6457"/>
                  <a:pt x="21" y="4711"/>
                </a:cubicBezTo>
                <a:cubicBezTo>
                  <a:pt x="-12" y="3707"/>
                  <a:pt x="17" y="2706"/>
                  <a:pt x="17" y="1703"/>
                </a:cubicBezTo>
                <a:cubicBezTo>
                  <a:pt x="17" y="1167"/>
                  <a:pt x="22" y="628"/>
                  <a:pt x="81" y="98"/>
                </a:cubicBezTo>
                <a:cubicBezTo>
                  <a:pt x="89" y="127"/>
                  <a:pt x="110" y="78"/>
                  <a:pt x="115" y="107"/>
                </a:cubicBezTo>
                <a:cubicBezTo>
                  <a:pt x="139" y="239"/>
                  <a:pt x="144" y="370"/>
                  <a:pt x="154" y="504"/>
                </a:cubicBezTo>
                <a:cubicBezTo>
                  <a:pt x="249" y="1830"/>
                  <a:pt x="251" y="3166"/>
                  <a:pt x="324" y="4494"/>
                </a:cubicBezTo>
                <a:cubicBezTo>
                  <a:pt x="356" y="5080"/>
                  <a:pt x="397" y="5666"/>
                  <a:pt x="431" y="6252"/>
                </a:cubicBezTo>
                <a:cubicBezTo>
                  <a:pt x="458" y="6709"/>
                  <a:pt x="478" y="7166"/>
                  <a:pt x="508" y="7622"/>
                </a:cubicBezTo>
                <a:cubicBezTo>
                  <a:pt x="580" y="8731"/>
                  <a:pt x="681" y="9852"/>
                  <a:pt x="640" y="10963"/>
                </a:cubicBezTo>
                <a:cubicBezTo>
                  <a:pt x="634" y="11043"/>
                  <a:pt x="621" y="11265"/>
                  <a:pt x="623" y="11185"/>
                </a:cubicBezTo>
                <a:cubicBezTo>
                  <a:pt x="625" y="11104"/>
                  <a:pt x="634" y="11023"/>
                  <a:pt x="636" y="10942"/>
                </a:cubicBezTo>
                <a:cubicBezTo>
                  <a:pt x="651" y="10434"/>
                  <a:pt x="616" y="9928"/>
                  <a:pt x="585" y="9422"/>
                </a:cubicBezTo>
                <a:cubicBezTo>
                  <a:pt x="649" y="9850"/>
                  <a:pt x="699" y="10280"/>
                  <a:pt x="738" y="10711"/>
                </a:cubicBezTo>
                <a:cubicBezTo>
                  <a:pt x="740" y="10737"/>
                  <a:pt x="756" y="10931"/>
                  <a:pt x="760" y="10899"/>
                </a:cubicBezTo>
                <a:cubicBezTo>
                  <a:pt x="773" y="10783"/>
                  <a:pt x="745" y="9819"/>
                  <a:pt x="755" y="9823"/>
                </a:cubicBezTo>
                <a:cubicBezTo>
                  <a:pt x="918" y="9883"/>
                  <a:pt x="882" y="10773"/>
                  <a:pt x="879" y="10937"/>
                </a:cubicBezTo>
                <a:cubicBezTo>
                  <a:pt x="878" y="10933"/>
                  <a:pt x="876" y="10928"/>
                  <a:pt x="875" y="10924"/>
                </a:cubicBezTo>
                <a:cubicBezTo>
                  <a:pt x="847" y="10485"/>
                  <a:pt x="381" y="9469"/>
                  <a:pt x="794" y="9619"/>
                </a:cubicBezTo>
                <a:cubicBezTo>
                  <a:pt x="827" y="9631"/>
                  <a:pt x="942" y="10097"/>
                  <a:pt x="964" y="10156"/>
                </a:cubicBezTo>
              </a:path>
              <a:path w="2668" h="11314">
                <a:moveTo>
                  <a:pt x="2415" y="725"/>
                </a:moveTo>
                <a:cubicBezTo>
                  <a:pt x="2412" y="743"/>
                  <a:pt x="2397" y="716"/>
                  <a:pt x="2394" y="734"/>
                </a:cubicBezTo>
                <a:cubicBezTo>
                  <a:pt x="2378" y="840"/>
                  <a:pt x="2383" y="956"/>
                  <a:pt x="2381" y="1063"/>
                </a:cubicBezTo>
                <a:cubicBezTo>
                  <a:pt x="2363" y="2154"/>
                  <a:pt x="2446" y="3250"/>
                  <a:pt x="2543" y="4336"/>
                </a:cubicBezTo>
                <a:cubicBezTo>
                  <a:pt x="2555" y="4475"/>
                  <a:pt x="2567" y="4615"/>
                  <a:pt x="2578" y="4754"/>
                </a:cubicBezTo>
                <a:cubicBezTo>
                  <a:pt x="2578" y="4758"/>
                  <a:pt x="2578" y="4763"/>
                  <a:pt x="2578" y="4767"/>
                </a:cubicBezTo>
                <a:cubicBezTo>
                  <a:pt x="2568" y="4569"/>
                  <a:pt x="2557" y="4371"/>
                  <a:pt x="2543" y="4173"/>
                </a:cubicBezTo>
                <a:cubicBezTo>
                  <a:pt x="2483" y="3334"/>
                  <a:pt x="2442" y="2497"/>
                  <a:pt x="2424" y="1656"/>
                </a:cubicBezTo>
                <a:cubicBezTo>
                  <a:pt x="2416" y="1299"/>
                  <a:pt x="2446" y="923"/>
                  <a:pt x="2403" y="568"/>
                </a:cubicBezTo>
                <a:cubicBezTo>
                  <a:pt x="2392" y="541"/>
                  <a:pt x="2388" y="539"/>
                  <a:pt x="2386" y="585"/>
                </a:cubicBezTo>
                <a:cubicBezTo>
                  <a:pt x="2351" y="1363"/>
                  <a:pt x="2348" y="2144"/>
                  <a:pt x="2356" y="2923"/>
                </a:cubicBezTo>
                <a:cubicBezTo>
                  <a:pt x="2362" y="3536"/>
                  <a:pt x="2367" y="4150"/>
                  <a:pt x="2390" y="4762"/>
                </a:cubicBezTo>
                <a:cubicBezTo>
                  <a:pt x="2408" y="5224"/>
                  <a:pt x="2424" y="5687"/>
                  <a:pt x="2458" y="6149"/>
                </a:cubicBezTo>
                <a:cubicBezTo>
                  <a:pt x="2476" y="6391"/>
                  <a:pt x="2491" y="6640"/>
                  <a:pt x="2535" y="6879"/>
                </a:cubicBezTo>
                <a:cubicBezTo>
                  <a:pt x="2545" y="6935"/>
                  <a:pt x="2558" y="6975"/>
                  <a:pt x="2569" y="7028"/>
                </a:cubicBezTo>
                <a:cubicBezTo>
                  <a:pt x="2574" y="6896"/>
                  <a:pt x="2573" y="6761"/>
                  <a:pt x="2565" y="6627"/>
                </a:cubicBezTo>
                <a:cubicBezTo>
                  <a:pt x="2541" y="6253"/>
                  <a:pt x="2500" y="5879"/>
                  <a:pt x="2471" y="5505"/>
                </a:cubicBezTo>
                <a:cubicBezTo>
                  <a:pt x="2415" y="4775"/>
                  <a:pt x="2345" y="4043"/>
                  <a:pt x="2339" y="3311"/>
                </a:cubicBezTo>
                <a:cubicBezTo>
                  <a:pt x="2430" y="4236"/>
                  <a:pt x="2454" y="5166"/>
                  <a:pt x="2492" y="6094"/>
                </a:cubicBezTo>
                <a:cubicBezTo>
                  <a:pt x="2505" y="6402"/>
                  <a:pt x="2520" y="6708"/>
                  <a:pt x="2522" y="7016"/>
                </a:cubicBezTo>
                <a:cubicBezTo>
                  <a:pt x="2523" y="7136"/>
                  <a:pt x="2517" y="7258"/>
                  <a:pt x="2526" y="7378"/>
                </a:cubicBezTo>
                <a:cubicBezTo>
                  <a:pt x="2527" y="7393"/>
                  <a:pt x="2524" y="7393"/>
                  <a:pt x="2526" y="7408"/>
                </a:cubicBezTo>
                <a:cubicBezTo>
                  <a:pt x="2529" y="7408"/>
                  <a:pt x="2532" y="7408"/>
                  <a:pt x="2535" y="7408"/>
                </a:cubicBezTo>
              </a:path>
              <a:path w="2668" h="11314">
                <a:moveTo>
                  <a:pt x="77" y="3640"/>
                </a:moveTo>
                <a:cubicBezTo>
                  <a:pt x="72" y="3667"/>
                  <a:pt x="54" y="3536"/>
                  <a:pt x="56" y="3563"/>
                </a:cubicBezTo>
                <a:cubicBezTo>
                  <a:pt x="76" y="3806"/>
                  <a:pt x="114" y="4052"/>
                  <a:pt x="149" y="4293"/>
                </a:cubicBezTo>
                <a:cubicBezTo>
                  <a:pt x="216" y="4752"/>
                  <a:pt x="275" y="5229"/>
                  <a:pt x="384" y="5680"/>
                </a:cubicBezTo>
                <a:cubicBezTo>
                  <a:pt x="400" y="5728"/>
                  <a:pt x="397" y="5735"/>
                  <a:pt x="414" y="5757"/>
                </a:cubicBezTo>
                <a:cubicBezTo>
                  <a:pt x="420" y="5613"/>
                  <a:pt x="433" y="5460"/>
                  <a:pt x="431" y="5313"/>
                </a:cubicBezTo>
                <a:cubicBezTo>
                  <a:pt x="420" y="4519"/>
                  <a:pt x="387" y="3716"/>
                  <a:pt x="307" y="2927"/>
                </a:cubicBezTo>
                <a:cubicBezTo>
                  <a:pt x="319" y="3118"/>
                  <a:pt x="332" y="3315"/>
                  <a:pt x="341" y="3508"/>
                </a:cubicBezTo>
                <a:cubicBezTo>
                  <a:pt x="406" y="4905"/>
                  <a:pt x="427" y="6318"/>
                  <a:pt x="538" y="7711"/>
                </a:cubicBezTo>
                <a:cubicBezTo>
                  <a:pt x="545" y="7804"/>
                  <a:pt x="554" y="7893"/>
                  <a:pt x="572" y="7984"/>
                </a:cubicBezTo>
                <a:cubicBezTo>
                  <a:pt x="575" y="7983"/>
                  <a:pt x="577" y="7981"/>
                  <a:pt x="580" y="7980"/>
                </a:cubicBezTo>
                <a:cubicBezTo>
                  <a:pt x="593" y="7763"/>
                  <a:pt x="598" y="7550"/>
                  <a:pt x="589" y="7331"/>
                </a:cubicBezTo>
                <a:cubicBezTo>
                  <a:pt x="577" y="7050"/>
                  <a:pt x="548" y="6745"/>
                  <a:pt x="504" y="6486"/>
                </a:cubicBezTo>
                <a:cubicBezTo>
                  <a:pt x="509" y="6696"/>
                  <a:pt x="519" y="6904"/>
                  <a:pt x="533" y="7114"/>
                </a:cubicBezTo>
                <a:cubicBezTo>
                  <a:pt x="612" y="8265"/>
                  <a:pt x="748" y="9411"/>
                  <a:pt x="824" y="10562"/>
                </a:cubicBezTo>
                <a:cubicBezTo>
                  <a:pt x="776" y="10220"/>
                  <a:pt x="721" y="9879"/>
                  <a:pt x="670" y="9538"/>
                </a:cubicBezTo>
                <a:cubicBezTo>
                  <a:pt x="634" y="9300"/>
                  <a:pt x="607" y="9064"/>
                  <a:pt x="593" y="8825"/>
                </a:cubicBezTo>
                <a:cubicBezTo>
                  <a:pt x="602" y="8865"/>
                  <a:pt x="642" y="9027"/>
                  <a:pt x="653" y="9098"/>
                </a:cubicBezTo>
                <a:cubicBezTo>
                  <a:pt x="754" y="9754"/>
                  <a:pt x="744" y="10429"/>
                  <a:pt x="747" y="11091"/>
                </a:cubicBezTo>
                <a:cubicBezTo>
                  <a:pt x="747" y="11042"/>
                  <a:pt x="752" y="10918"/>
                  <a:pt x="751" y="10856"/>
                </a:cubicBezTo>
                <a:cubicBezTo>
                  <a:pt x="745" y="10306"/>
                  <a:pt x="684" y="9745"/>
                  <a:pt x="585" y="9209"/>
                </a:cubicBezTo>
                <a:cubicBezTo>
                  <a:pt x="590" y="9344"/>
                  <a:pt x="592" y="9483"/>
                  <a:pt x="602" y="9619"/>
                </a:cubicBezTo>
                <a:cubicBezTo>
                  <a:pt x="644" y="10185"/>
                  <a:pt x="699" y="10754"/>
                  <a:pt x="790" y="11313"/>
                </a:cubicBezTo>
                <a:cubicBezTo>
                  <a:pt x="800" y="11241"/>
                  <a:pt x="823" y="11132"/>
                  <a:pt x="828" y="11048"/>
                </a:cubicBezTo>
                <a:cubicBezTo>
                  <a:pt x="855" y="10623"/>
                  <a:pt x="815" y="10192"/>
                  <a:pt x="790" y="9768"/>
                </a:cubicBezTo>
                <a:cubicBezTo>
                  <a:pt x="837" y="10134"/>
                  <a:pt x="729" y="11129"/>
                  <a:pt x="952" y="10835"/>
                </a:cubicBezTo>
                <a:cubicBezTo>
                  <a:pt x="964" y="10766"/>
                  <a:pt x="965" y="10728"/>
                  <a:pt x="952" y="10673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4686480" y="2089080"/>
            <a:ext cx="1331640" cy="4246560"/>
          </a:xfrm>
          <a:custGeom>
            <a:avLst/>
            <a:gdLst/>
            <a:ahLst/>
            <a:rect l="l" t="t" r="r" b="b"/>
            <a:pathLst>
              <a:path w="3701" h="11796">
                <a:moveTo>
                  <a:pt x="1126" y="7852"/>
                </a:moveTo>
                <a:cubicBezTo>
                  <a:pt x="1158" y="7849"/>
                  <a:pt x="1151" y="7884"/>
                  <a:pt x="1178" y="7810"/>
                </a:cubicBezTo>
                <a:cubicBezTo>
                  <a:pt x="1214" y="7711"/>
                  <a:pt x="1229" y="7601"/>
                  <a:pt x="1250" y="7498"/>
                </a:cubicBezTo>
                <a:cubicBezTo>
                  <a:pt x="1285" y="7327"/>
                  <a:pt x="1304" y="7151"/>
                  <a:pt x="1348" y="6982"/>
                </a:cubicBezTo>
                <a:cubicBezTo>
                  <a:pt x="1358" y="7021"/>
                  <a:pt x="1361" y="7087"/>
                  <a:pt x="1361" y="7140"/>
                </a:cubicBezTo>
                <a:cubicBezTo>
                  <a:pt x="1361" y="7272"/>
                  <a:pt x="1354" y="7404"/>
                  <a:pt x="1348" y="7536"/>
                </a:cubicBezTo>
                <a:cubicBezTo>
                  <a:pt x="1344" y="7626"/>
                  <a:pt x="1336" y="7715"/>
                  <a:pt x="1335" y="7805"/>
                </a:cubicBezTo>
                <a:cubicBezTo>
                  <a:pt x="1335" y="7814"/>
                  <a:pt x="1335" y="7822"/>
                  <a:pt x="1335" y="7831"/>
                </a:cubicBezTo>
                <a:cubicBezTo>
                  <a:pt x="1345" y="7800"/>
                  <a:pt x="1359" y="7745"/>
                  <a:pt x="1365" y="7707"/>
                </a:cubicBezTo>
                <a:cubicBezTo>
                  <a:pt x="1384" y="7577"/>
                  <a:pt x="1396" y="7446"/>
                  <a:pt x="1408" y="7315"/>
                </a:cubicBezTo>
                <a:cubicBezTo>
                  <a:pt x="1419" y="7195"/>
                  <a:pt x="1426" y="7076"/>
                  <a:pt x="1434" y="6956"/>
                </a:cubicBezTo>
                <a:cubicBezTo>
                  <a:pt x="1440" y="6873"/>
                  <a:pt x="1438" y="6911"/>
                  <a:pt x="1434" y="6965"/>
                </a:cubicBezTo>
                <a:cubicBezTo>
                  <a:pt x="1432" y="7096"/>
                  <a:pt x="1429" y="7226"/>
                  <a:pt x="1429" y="7357"/>
                </a:cubicBezTo>
                <a:cubicBezTo>
                  <a:pt x="1429" y="7565"/>
                  <a:pt x="1352" y="8171"/>
                  <a:pt x="1434" y="7980"/>
                </a:cubicBezTo>
                <a:cubicBezTo>
                  <a:pt x="1434" y="7960"/>
                  <a:pt x="1434" y="7949"/>
                  <a:pt x="1434" y="7933"/>
                </a:cubicBezTo>
                <a:cubicBezTo>
                  <a:pt x="1434" y="7765"/>
                  <a:pt x="1430" y="7597"/>
                  <a:pt x="1412" y="7430"/>
                </a:cubicBezTo>
                <a:cubicBezTo>
                  <a:pt x="1403" y="7348"/>
                  <a:pt x="1401" y="7243"/>
                  <a:pt x="1370" y="7165"/>
                </a:cubicBezTo>
                <a:cubicBezTo>
                  <a:pt x="1367" y="7162"/>
                  <a:pt x="1364" y="7160"/>
                  <a:pt x="1361" y="7157"/>
                </a:cubicBezTo>
                <a:cubicBezTo>
                  <a:pt x="1342" y="7242"/>
                  <a:pt x="1336" y="7330"/>
                  <a:pt x="1331" y="7417"/>
                </a:cubicBezTo>
                <a:cubicBezTo>
                  <a:pt x="1322" y="7576"/>
                  <a:pt x="1323" y="7736"/>
                  <a:pt x="1323" y="7895"/>
                </a:cubicBezTo>
                <a:cubicBezTo>
                  <a:pt x="1323" y="8002"/>
                  <a:pt x="1327" y="8108"/>
                  <a:pt x="1344" y="8211"/>
                </a:cubicBezTo>
                <a:cubicBezTo>
                  <a:pt x="1368" y="8151"/>
                  <a:pt x="1385" y="8090"/>
                  <a:pt x="1395" y="8023"/>
                </a:cubicBezTo>
                <a:cubicBezTo>
                  <a:pt x="1421" y="7859"/>
                  <a:pt x="1440" y="7694"/>
                  <a:pt x="1451" y="7528"/>
                </a:cubicBezTo>
                <a:cubicBezTo>
                  <a:pt x="1458" y="7417"/>
                  <a:pt x="1464" y="7084"/>
                  <a:pt x="1464" y="7195"/>
                </a:cubicBezTo>
                <a:cubicBezTo>
                  <a:pt x="1464" y="7299"/>
                  <a:pt x="1460" y="7397"/>
                  <a:pt x="1464" y="7502"/>
                </a:cubicBezTo>
              </a:path>
              <a:path w="3701" h="11796">
                <a:moveTo>
                  <a:pt x="3333" y="10592"/>
                </a:moveTo>
                <a:cubicBezTo>
                  <a:pt x="3342" y="10758"/>
                  <a:pt x="3348" y="10925"/>
                  <a:pt x="3354" y="11091"/>
                </a:cubicBezTo>
                <a:cubicBezTo>
                  <a:pt x="3359" y="11228"/>
                  <a:pt x="3360" y="11364"/>
                  <a:pt x="3367" y="11501"/>
                </a:cubicBezTo>
                <a:cubicBezTo>
                  <a:pt x="3369" y="11538"/>
                  <a:pt x="3372" y="11575"/>
                  <a:pt x="3375" y="11612"/>
                </a:cubicBezTo>
                <a:cubicBezTo>
                  <a:pt x="3385" y="11561"/>
                  <a:pt x="3389" y="11504"/>
                  <a:pt x="3392" y="11450"/>
                </a:cubicBezTo>
                <a:cubicBezTo>
                  <a:pt x="3401" y="11283"/>
                  <a:pt x="3401" y="11117"/>
                  <a:pt x="3397" y="10950"/>
                </a:cubicBezTo>
                <a:cubicBezTo>
                  <a:pt x="3394" y="10807"/>
                  <a:pt x="3401" y="10658"/>
                  <a:pt x="3384" y="10515"/>
                </a:cubicBezTo>
                <a:cubicBezTo>
                  <a:pt x="3381" y="10502"/>
                  <a:pt x="3378" y="10490"/>
                  <a:pt x="3375" y="10477"/>
                </a:cubicBezTo>
                <a:cubicBezTo>
                  <a:pt x="3383" y="10536"/>
                  <a:pt x="3384" y="10619"/>
                  <a:pt x="3384" y="10686"/>
                </a:cubicBezTo>
                <a:cubicBezTo>
                  <a:pt x="3384" y="10932"/>
                  <a:pt x="3381" y="11178"/>
                  <a:pt x="3380" y="11424"/>
                </a:cubicBezTo>
                <a:cubicBezTo>
                  <a:pt x="3380" y="11455"/>
                  <a:pt x="3355" y="11656"/>
                  <a:pt x="3384" y="11680"/>
                </a:cubicBezTo>
                <a:cubicBezTo>
                  <a:pt x="3392" y="11672"/>
                  <a:pt x="3396" y="11665"/>
                  <a:pt x="3397" y="11654"/>
                </a:cubicBezTo>
                <a:cubicBezTo>
                  <a:pt x="3423" y="11484"/>
                  <a:pt x="3440" y="11313"/>
                  <a:pt x="3456" y="11142"/>
                </a:cubicBezTo>
                <a:cubicBezTo>
                  <a:pt x="3464" y="11055"/>
                  <a:pt x="3452" y="10936"/>
                  <a:pt x="3482" y="10852"/>
                </a:cubicBezTo>
                <a:cubicBezTo>
                  <a:pt x="3485" y="10852"/>
                  <a:pt x="3488" y="10852"/>
                  <a:pt x="3491" y="10852"/>
                </a:cubicBezTo>
                <a:cubicBezTo>
                  <a:pt x="3509" y="10951"/>
                  <a:pt x="3524" y="11051"/>
                  <a:pt x="3537" y="11151"/>
                </a:cubicBezTo>
                <a:cubicBezTo>
                  <a:pt x="3555" y="11294"/>
                  <a:pt x="3578" y="11438"/>
                  <a:pt x="3593" y="11582"/>
                </a:cubicBezTo>
                <a:cubicBezTo>
                  <a:pt x="3598" y="11636"/>
                  <a:pt x="3605" y="11686"/>
                  <a:pt x="3614" y="11740"/>
                </a:cubicBezTo>
                <a:cubicBezTo>
                  <a:pt x="3633" y="11704"/>
                  <a:pt x="3649" y="11629"/>
                  <a:pt x="3653" y="11569"/>
                </a:cubicBezTo>
                <a:cubicBezTo>
                  <a:pt x="3667" y="11369"/>
                  <a:pt x="3665" y="11168"/>
                  <a:pt x="3665" y="10967"/>
                </a:cubicBezTo>
                <a:cubicBezTo>
                  <a:pt x="3665" y="10738"/>
                  <a:pt x="3653" y="10509"/>
                  <a:pt x="3653" y="10280"/>
                </a:cubicBezTo>
                <a:cubicBezTo>
                  <a:pt x="3666" y="10372"/>
                  <a:pt x="3676" y="10465"/>
                  <a:pt x="3683" y="10558"/>
                </a:cubicBezTo>
                <a:cubicBezTo>
                  <a:pt x="3696" y="10737"/>
                  <a:pt x="3699" y="10916"/>
                  <a:pt x="3700" y="11095"/>
                </a:cubicBezTo>
                <a:cubicBezTo>
                  <a:pt x="3701" y="11217"/>
                  <a:pt x="3683" y="11332"/>
                  <a:pt x="3665" y="11450"/>
                </a:cubicBezTo>
                <a:cubicBezTo>
                  <a:pt x="3664" y="11466"/>
                  <a:pt x="3662" y="11481"/>
                  <a:pt x="3661" y="11497"/>
                </a:cubicBezTo>
                <a:cubicBezTo>
                  <a:pt x="3629" y="11504"/>
                  <a:pt x="3637" y="11542"/>
                  <a:pt x="3610" y="11467"/>
                </a:cubicBezTo>
                <a:cubicBezTo>
                  <a:pt x="3578" y="11380"/>
                  <a:pt x="3557" y="11289"/>
                  <a:pt x="3525" y="11202"/>
                </a:cubicBezTo>
                <a:cubicBezTo>
                  <a:pt x="3507" y="11152"/>
                  <a:pt x="3482" y="11032"/>
                  <a:pt x="3427" y="11006"/>
                </a:cubicBezTo>
                <a:cubicBezTo>
                  <a:pt x="3388" y="10988"/>
                  <a:pt x="3368" y="11256"/>
                  <a:pt x="3367" y="11262"/>
                </a:cubicBezTo>
                <a:cubicBezTo>
                  <a:pt x="3348" y="11438"/>
                  <a:pt x="3341" y="11610"/>
                  <a:pt x="3341" y="11787"/>
                </a:cubicBezTo>
                <a:cubicBezTo>
                  <a:pt x="3349" y="11767"/>
                  <a:pt x="3386" y="11626"/>
                  <a:pt x="3392" y="11578"/>
                </a:cubicBezTo>
                <a:cubicBezTo>
                  <a:pt x="3395" y="11532"/>
                  <a:pt x="3398" y="11487"/>
                  <a:pt x="3401" y="11441"/>
                </a:cubicBezTo>
              </a:path>
              <a:path w="3701" h="11796">
                <a:moveTo>
                  <a:pt x="1515" y="94"/>
                </a:moveTo>
                <a:cubicBezTo>
                  <a:pt x="1521" y="231"/>
                  <a:pt x="1523" y="367"/>
                  <a:pt x="1532" y="504"/>
                </a:cubicBezTo>
                <a:cubicBezTo>
                  <a:pt x="1542" y="666"/>
                  <a:pt x="1556" y="830"/>
                  <a:pt x="1583" y="990"/>
                </a:cubicBezTo>
                <a:cubicBezTo>
                  <a:pt x="1597" y="1071"/>
                  <a:pt x="1643" y="1189"/>
                  <a:pt x="1660" y="1246"/>
                </a:cubicBezTo>
                <a:cubicBezTo>
                  <a:pt x="1659" y="1176"/>
                  <a:pt x="1663" y="1101"/>
                  <a:pt x="1660" y="1029"/>
                </a:cubicBezTo>
                <a:cubicBezTo>
                  <a:pt x="1654" y="862"/>
                  <a:pt x="1649" y="696"/>
                  <a:pt x="1634" y="529"/>
                </a:cubicBezTo>
                <a:cubicBezTo>
                  <a:pt x="1618" y="350"/>
                  <a:pt x="1592" y="176"/>
                  <a:pt x="1562" y="0"/>
                </a:cubicBezTo>
                <a:cubicBezTo>
                  <a:pt x="1555" y="64"/>
                  <a:pt x="1531" y="151"/>
                  <a:pt x="1528" y="226"/>
                </a:cubicBezTo>
                <a:cubicBezTo>
                  <a:pt x="1507" y="734"/>
                  <a:pt x="1507" y="1272"/>
                  <a:pt x="1583" y="1775"/>
                </a:cubicBezTo>
                <a:cubicBezTo>
                  <a:pt x="1587" y="1779"/>
                  <a:pt x="1592" y="1784"/>
                  <a:pt x="1596" y="1788"/>
                </a:cubicBezTo>
                <a:cubicBezTo>
                  <a:pt x="1602" y="1730"/>
                  <a:pt x="1613" y="1671"/>
                  <a:pt x="1617" y="1613"/>
                </a:cubicBezTo>
                <a:cubicBezTo>
                  <a:pt x="1627" y="1452"/>
                  <a:pt x="1639" y="1292"/>
                  <a:pt x="1647" y="1131"/>
                </a:cubicBezTo>
                <a:cubicBezTo>
                  <a:pt x="1654" y="990"/>
                  <a:pt x="1662" y="845"/>
                  <a:pt x="1660" y="704"/>
                </a:cubicBezTo>
                <a:cubicBezTo>
                  <a:pt x="1657" y="693"/>
                  <a:pt x="1654" y="681"/>
                  <a:pt x="1651" y="670"/>
                </a:cubicBezTo>
                <a:cubicBezTo>
                  <a:pt x="1640" y="867"/>
                  <a:pt x="1638" y="1062"/>
                  <a:pt x="1634" y="1259"/>
                </a:cubicBezTo>
                <a:cubicBezTo>
                  <a:pt x="1606" y="2647"/>
                  <a:pt x="1431" y="3977"/>
                  <a:pt x="1306" y="5347"/>
                </a:cubicBezTo>
                <a:cubicBezTo>
                  <a:pt x="1277" y="5666"/>
                  <a:pt x="1344" y="5989"/>
                  <a:pt x="1344" y="6307"/>
                </a:cubicBezTo>
                <a:cubicBezTo>
                  <a:pt x="1344" y="6466"/>
                  <a:pt x="1332" y="6627"/>
                  <a:pt x="1323" y="6785"/>
                </a:cubicBezTo>
                <a:cubicBezTo>
                  <a:pt x="1299" y="7210"/>
                  <a:pt x="1290" y="7637"/>
                  <a:pt x="1263" y="8061"/>
                </a:cubicBezTo>
                <a:cubicBezTo>
                  <a:pt x="1263" y="8064"/>
                  <a:pt x="1263" y="8067"/>
                  <a:pt x="1263" y="8070"/>
                </a:cubicBezTo>
                <a:cubicBezTo>
                  <a:pt x="1270" y="8020"/>
                  <a:pt x="1278" y="7972"/>
                  <a:pt x="1284" y="7921"/>
                </a:cubicBezTo>
                <a:cubicBezTo>
                  <a:pt x="1303" y="7761"/>
                  <a:pt x="1315" y="7599"/>
                  <a:pt x="1331" y="7438"/>
                </a:cubicBezTo>
                <a:cubicBezTo>
                  <a:pt x="1340" y="7603"/>
                  <a:pt x="1349" y="7768"/>
                  <a:pt x="1353" y="7933"/>
                </a:cubicBezTo>
                <a:cubicBezTo>
                  <a:pt x="1357" y="8084"/>
                  <a:pt x="1357" y="8235"/>
                  <a:pt x="1361" y="8386"/>
                </a:cubicBezTo>
                <a:cubicBezTo>
                  <a:pt x="1362" y="8377"/>
                  <a:pt x="1385" y="8262"/>
                  <a:pt x="1387" y="8228"/>
                </a:cubicBezTo>
                <a:cubicBezTo>
                  <a:pt x="1400" y="8033"/>
                  <a:pt x="1404" y="7839"/>
                  <a:pt x="1404" y="7643"/>
                </a:cubicBezTo>
                <a:cubicBezTo>
                  <a:pt x="1404" y="7454"/>
                  <a:pt x="1405" y="7265"/>
                  <a:pt x="1395" y="7076"/>
                </a:cubicBezTo>
                <a:cubicBezTo>
                  <a:pt x="1393" y="7029"/>
                  <a:pt x="1390" y="7037"/>
                  <a:pt x="1387" y="6990"/>
                </a:cubicBezTo>
              </a:path>
              <a:path w="3701" h="11796">
                <a:moveTo>
                  <a:pt x="145" y="931"/>
                </a:moveTo>
                <a:cubicBezTo>
                  <a:pt x="143" y="1099"/>
                  <a:pt x="145" y="1266"/>
                  <a:pt x="149" y="1434"/>
                </a:cubicBezTo>
                <a:cubicBezTo>
                  <a:pt x="156" y="1730"/>
                  <a:pt x="179" y="2027"/>
                  <a:pt x="205" y="2322"/>
                </a:cubicBezTo>
                <a:cubicBezTo>
                  <a:pt x="223" y="2520"/>
                  <a:pt x="233" y="2717"/>
                  <a:pt x="247" y="2915"/>
                </a:cubicBezTo>
                <a:cubicBezTo>
                  <a:pt x="256" y="3044"/>
                  <a:pt x="256" y="3416"/>
                  <a:pt x="256" y="3286"/>
                </a:cubicBezTo>
                <a:cubicBezTo>
                  <a:pt x="256" y="3242"/>
                  <a:pt x="256" y="3221"/>
                  <a:pt x="256" y="3188"/>
                </a:cubicBezTo>
                <a:cubicBezTo>
                  <a:pt x="254" y="3006"/>
                  <a:pt x="251" y="2824"/>
                  <a:pt x="247" y="2642"/>
                </a:cubicBezTo>
                <a:cubicBezTo>
                  <a:pt x="241" y="2342"/>
                  <a:pt x="232" y="2041"/>
                  <a:pt x="234" y="1741"/>
                </a:cubicBezTo>
                <a:cubicBezTo>
                  <a:pt x="235" y="1525"/>
                  <a:pt x="234" y="1309"/>
                  <a:pt x="234" y="1093"/>
                </a:cubicBezTo>
                <a:cubicBezTo>
                  <a:pt x="234" y="1052"/>
                  <a:pt x="234" y="1010"/>
                  <a:pt x="234" y="969"/>
                </a:cubicBezTo>
                <a:cubicBezTo>
                  <a:pt x="230" y="1311"/>
                  <a:pt x="208" y="1652"/>
                  <a:pt x="192" y="1993"/>
                </a:cubicBezTo>
                <a:cubicBezTo>
                  <a:pt x="171" y="2447"/>
                  <a:pt x="149" y="2901"/>
                  <a:pt x="124" y="3354"/>
                </a:cubicBezTo>
                <a:cubicBezTo>
                  <a:pt x="103" y="3731"/>
                  <a:pt x="78" y="4116"/>
                  <a:pt x="25" y="4490"/>
                </a:cubicBezTo>
                <a:cubicBezTo>
                  <a:pt x="15" y="4548"/>
                  <a:pt x="11" y="4560"/>
                  <a:pt x="13" y="4596"/>
                </a:cubicBezTo>
                <a:cubicBezTo>
                  <a:pt x="13" y="4518"/>
                  <a:pt x="11" y="4426"/>
                  <a:pt x="13" y="4344"/>
                </a:cubicBezTo>
                <a:cubicBezTo>
                  <a:pt x="20" y="4064"/>
                  <a:pt x="26" y="3784"/>
                  <a:pt x="30" y="3504"/>
                </a:cubicBezTo>
                <a:cubicBezTo>
                  <a:pt x="35" y="3153"/>
                  <a:pt x="33" y="2801"/>
                  <a:pt x="42" y="2450"/>
                </a:cubicBezTo>
                <a:cubicBezTo>
                  <a:pt x="47" y="2261"/>
                  <a:pt x="43" y="2067"/>
                  <a:pt x="60" y="1878"/>
                </a:cubicBezTo>
                <a:cubicBezTo>
                  <a:pt x="63" y="1865"/>
                  <a:pt x="65" y="1852"/>
                  <a:pt x="68" y="1839"/>
                </a:cubicBezTo>
                <a:cubicBezTo>
                  <a:pt x="73" y="2041"/>
                  <a:pt x="68" y="2243"/>
                  <a:pt x="64" y="2445"/>
                </a:cubicBezTo>
                <a:cubicBezTo>
                  <a:pt x="52" y="3086"/>
                  <a:pt x="32" y="3726"/>
                  <a:pt x="13" y="4366"/>
                </a:cubicBezTo>
                <a:cubicBezTo>
                  <a:pt x="10" y="4461"/>
                  <a:pt x="5" y="4557"/>
                  <a:pt x="0" y="4652"/>
                </a:cubicBezTo>
                <a:cubicBezTo>
                  <a:pt x="16" y="4480"/>
                  <a:pt x="28" y="4308"/>
                  <a:pt x="38" y="4135"/>
                </a:cubicBezTo>
                <a:cubicBezTo>
                  <a:pt x="61" y="3714"/>
                  <a:pt x="84" y="3293"/>
                  <a:pt x="102" y="2872"/>
                </a:cubicBezTo>
                <a:cubicBezTo>
                  <a:pt x="120" y="2438"/>
                  <a:pt x="134" y="2005"/>
                  <a:pt x="149" y="1571"/>
                </a:cubicBezTo>
                <a:cubicBezTo>
                  <a:pt x="155" y="1408"/>
                  <a:pt x="161" y="1243"/>
                  <a:pt x="162" y="1080"/>
                </a:cubicBezTo>
                <a:cubicBezTo>
                  <a:pt x="119" y="1638"/>
                  <a:pt x="99" y="2198"/>
                  <a:pt x="77" y="2757"/>
                </a:cubicBezTo>
                <a:cubicBezTo>
                  <a:pt x="61" y="3159"/>
                  <a:pt x="52" y="3562"/>
                  <a:pt x="42" y="3965"/>
                </a:cubicBezTo>
                <a:cubicBezTo>
                  <a:pt x="37" y="4185"/>
                  <a:pt x="33" y="4406"/>
                  <a:pt x="30" y="4626"/>
                </a:cubicBezTo>
                <a:cubicBezTo>
                  <a:pt x="30" y="4633"/>
                  <a:pt x="20" y="4818"/>
                  <a:pt x="42" y="4690"/>
                </a:cubicBezTo>
                <a:cubicBezTo>
                  <a:pt x="119" y="4236"/>
                  <a:pt x="101" y="3737"/>
                  <a:pt x="111" y="3278"/>
                </a:cubicBezTo>
                <a:cubicBezTo>
                  <a:pt x="111" y="3222"/>
                  <a:pt x="111" y="3167"/>
                  <a:pt x="111" y="3111"/>
                </a:cubicBezTo>
                <a:cubicBezTo>
                  <a:pt x="110" y="3063"/>
                  <a:pt x="111" y="2803"/>
                  <a:pt x="102" y="3034"/>
                </a:cubicBezTo>
                <a:cubicBezTo>
                  <a:pt x="92" y="3284"/>
                  <a:pt x="91" y="3535"/>
                  <a:pt x="81" y="3785"/>
                </a:cubicBezTo>
                <a:cubicBezTo>
                  <a:pt x="72" y="4015"/>
                  <a:pt x="71" y="4253"/>
                  <a:pt x="17" y="4477"/>
                </a:cubicBezTo>
                <a:cubicBezTo>
                  <a:pt x="14" y="4478"/>
                  <a:pt x="11" y="4480"/>
                  <a:pt x="8" y="4481"/>
                </a:cubicBezTo>
              </a:path>
            </a:pathLst>
          </a:custGeom>
          <a:noFill/>
          <a:ln cap="rnd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Freeform 12"/>
          <p:cNvSpPr/>
          <p:nvPr/>
        </p:nvSpPr>
        <p:spPr>
          <a:xfrm>
            <a:off x="3179880" y="4308480"/>
            <a:ext cx="1444680" cy="187200"/>
          </a:xfrm>
          <a:custGeom>
            <a:avLst/>
            <a:gdLst/>
            <a:ahLst/>
            <a:rect l="l" t="t" r="r" b="b"/>
            <a:pathLst>
              <a:path w="4012" h="517">
                <a:moveTo>
                  <a:pt x="136" y="294"/>
                </a:moveTo>
                <a:cubicBezTo>
                  <a:pt x="176" y="295"/>
                  <a:pt x="219" y="297"/>
                  <a:pt x="260" y="298"/>
                </a:cubicBezTo>
                <a:cubicBezTo>
                  <a:pt x="381" y="301"/>
                  <a:pt x="505" y="305"/>
                  <a:pt x="627" y="298"/>
                </a:cubicBezTo>
                <a:cubicBezTo>
                  <a:pt x="840" y="286"/>
                  <a:pt x="1053" y="273"/>
                  <a:pt x="1267" y="260"/>
                </a:cubicBezTo>
                <a:cubicBezTo>
                  <a:pt x="1550" y="242"/>
                  <a:pt x="1830" y="221"/>
                  <a:pt x="2112" y="192"/>
                </a:cubicBezTo>
                <a:cubicBezTo>
                  <a:pt x="2454" y="157"/>
                  <a:pt x="2795" y="131"/>
                  <a:pt x="3136" y="89"/>
                </a:cubicBezTo>
                <a:cubicBezTo>
                  <a:pt x="3372" y="60"/>
                  <a:pt x="3609" y="33"/>
                  <a:pt x="3845" y="0"/>
                </a:cubicBezTo>
                <a:cubicBezTo>
                  <a:pt x="3714" y="8"/>
                  <a:pt x="3583" y="20"/>
                  <a:pt x="3452" y="34"/>
                </a:cubicBezTo>
                <a:cubicBezTo>
                  <a:pt x="3141" y="68"/>
                  <a:pt x="2829" y="96"/>
                  <a:pt x="2517" y="123"/>
                </a:cubicBezTo>
                <a:cubicBezTo>
                  <a:pt x="2144" y="156"/>
                  <a:pt x="1772" y="187"/>
                  <a:pt x="1399" y="217"/>
                </a:cubicBezTo>
                <a:cubicBezTo>
                  <a:pt x="1092" y="242"/>
                  <a:pt x="783" y="263"/>
                  <a:pt x="478" y="298"/>
                </a:cubicBezTo>
                <a:cubicBezTo>
                  <a:pt x="970" y="294"/>
                  <a:pt x="1464" y="254"/>
                  <a:pt x="1954" y="217"/>
                </a:cubicBezTo>
                <a:cubicBezTo>
                  <a:pt x="2435" y="180"/>
                  <a:pt x="2916" y="140"/>
                  <a:pt x="3397" y="102"/>
                </a:cubicBezTo>
                <a:cubicBezTo>
                  <a:pt x="3578" y="88"/>
                  <a:pt x="3763" y="79"/>
                  <a:pt x="3943" y="51"/>
                </a:cubicBezTo>
                <a:cubicBezTo>
                  <a:pt x="3973" y="46"/>
                  <a:pt x="3951" y="48"/>
                  <a:pt x="3981" y="42"/>
                </a:cubicBezTo>
                <a:cubicBezTo>
                  <a:pt x="3824" y="58"/>
                  <a:pt x="3665" y="70"/>
                  <a:pt x="3508" y="89"/>
                </a:cubicBezTo>
                <a:cubicBezTo>
                  <a:pt x="3110" y="137"/>
                  <a:pt x="2714" y="195"/>
                  <a:pt x="2317" y="251"/>
                </a:cubicBezTo>
                <a:cubicBezTo>
                  <a:pt x="1970" y="300"/>
                  <a:pt x="1623" y="356"/>
                  <a:pt x="1276" y="405"/>
                </a:cubicBezTo>
                <a:cubicBezTo>
                  <a:pt x="970" y="449"/>
                  <a:pt x="659" y="496"/>
                  <a:pt x="350" y="516"/>
                </a:cubicBezTo>
                <a:cubicBezTo>
                  <a:pt x="337" y="516"/>
                  <a:pt x="324" y="516"/>
                  <a:pt x="311" y="516"/>
                </a:cubicBezTo>
                <a:cubicBezTo>
                  <a:pt x="383" y="498"/>
                  <a:pt x="466" y="477"/>
                  <a:pt x="546" y="465"/>
                </a:cubicBezTo>
                <a:cubicBezTo>
                  <a:pt x="813" y="426"/>
                  <a:pt x="1080" y="397"/>
                  <a:pt x="1348" y="371"/>
                </a:cubicBezTo>
                <a:cubicBezTo>
                  <a:pt x="1709" y="336"/>
                  <a:pt x="2070" y="310"/>
                  <a:pt x="2432" y="286"/>
                </a:cubicBezTo>
                <a:cubicBezTo>
                  <a:pt x="2758" y="264"/>
                  <a:pt x="3083" y="245"/>
                  <a:pt x="3409" y="226"/>
                </a:cubicBezTo>
                <a:cubicBezTo>
                  <a:pt x="3590" y="216"/>
                  <a:pt x="3770" y="208"/>
                  <a:pt x="3951" y="200"/>
                </a:cubicBezTo>
                <a:cubicBezTo>
                  <a:pt x="3968" y="199"/>
                  <a:pt x="3986" y="197"/>
                  <a:pt x="4003" y="196"/>
                </a:cubicBezTo>
                <a:cubicBezTo>
                  <a:pt x="3996" y="197"/>
                  <a:pt x="3845" y="214"/>
                  <a:pt x="3819" y="217"/>
                </a:cubicBezTo>
                <a:cubicBezTo>
                  <a:pt x="3593" y="239"/>
                  <a:pt x="3367" y="253"/>
                  <a:pt x="3141" y="277"/>
                </a:cubicBezTo>
                <a:cubicBezTo>
                  <a:pt x="2548" y="340"/>
                  <a:pt x="1952" y="389"/>
                  <a:pt x="1357" y="422"/>
                </a:cubicBezTo>
                <a:cubicBezTo>
                  <a:pt x="1140" y="434"/>
                  <a:pt x="367" y="588"/>
                  <a:pt x="175" y="448"/>
                </a:cubicBezTo>
                <a:cubicBezTo>
                  <a:pt x="98" y="391"/>
                  <a:pt x="360" y="411"/>
                  <a:pt x="456" y="405"/>
                </a:cubicBezTo>
                <a:cubicBezTo>
                  <a:pt x="635" y="401"/>
                  <a:pt x="699" y="398"/>
                  <a:pt x="819" y="375"/>
                </a:cubicBezTo>
              </a:path>
              <a:path w="4012" h="517">
                <a:moveTo>
                  <a:pt x="0" y="362"/>
                </a:moveTo>
                <a:cubicBezTo>
                  <a:pt x="64" y="368"/>
                  <a:pt x="128" y="374"/>
                  <a:pt x="192" y="379"/>
                </a:cubicBezTo>
                <a:cubicBezTo>
                  <a:pt x="567" y="409"/>
                  <a:pt x="945" y="383"/>
                  <a:pt x="1318" y="345"/>
                </a:cubicBezTo>
                <a:cubicBezTo>
                  <a:pt x="1620" y="314"/>
                  <a:pt x="1921" y="266"/>
                  <a:pt x="2223" y="230"/>
                </a:cubicBezTo>
                <a:cubicBezTo>
                  <a:pt x="2518" y="195"/>
                  <a:pt x="2811" y="154"/>
                  <a:pt x="3106" y="123"/>
                </a:cubicBezTo>
                <a:cubicBezTo>
                  <a:pt x="3308" y="102"/>
                  <a:pt x="3510" y="87"/>
                  <a:pt x="3712" y="68"/>
                </a:cubicBezTo>
                <a:cubicBezTo>
                  <a:pt x="3788" y="61"/>
                  <a:pt x="3864" y="58"/>
                  <a:pt x="3939" y="55"/>
                </a:cubicBezTo>
                <a:cubicBezTo>
                  <a:pt x="3868" y="67"/>
                  <a:pt x="3797" y="80"/>
                  <a:pt x="3725" y="89"/>
                </a:cubicBezTo>
                <a:cubicBezTo>
                  <a:pt x="3248" y="149"/>
                  <a:pt x="2770" y="207"/>
                  <a:pt x="2291" y="243"/>
                </a:cubicBezTo>
                <a:cubicBezTo>
                  <a:pt x="2017" y="264"/>
                  <a:pt x="1742" y="273"/>
                  <a:pt x="1468" y="294"/>
                </a:cubicBezTo>
                <a:cubicBezTo>
                  <a:pt x="1292" y="308"/>
                  <a:pt x="1114" y="311"/>
                  <a:pt x="939" y="332"/>
                </a:cubicBezTo>
                <a:cubicBezTo>
                  <a:pt x="904" y="336"/>
                  <a:pt x="844" y="356"/>
                  <a:pt x="815" y="362"/>
                </a:cubicBezTo>
                <a:cubicBezTo>
                  <a:pt x="898" y="365"/>
                  <a:pt x="979" y="362"/>
                  <a:pt x="1062" y="358"/>
                </a:cubicBezTo>
                <a:cubicBezTo>
                  <a:pt x="1290" y="346"/>
                  <a:pt x="1514" y="315"/>
                  <a:pt x="1741" y="286"/>
                </a:cubicBezTo>
                <a:cubicBezTo>
                  <a:pt x="2029" y="250"/>
                  <a:pt x="2321" y="220"/>
                  <a:pt x="2607" y="170"/>
                </a:cubicBezTo>
                <a:cubicBezTo>
                  <a:pt x="2811" y="127"/>
                  <a:pt x="2881" y="113"/>
                  <a:pt x="3021" y="98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Freeform 13"/>
          <p:cNvSpPr/>
          <p:nvPr/>
        </p:nvSpPr>
        <p:spPr>
          <a:xfrm>
            <a:off x="3522600" y="3689280"/>
            <a:ext cx="868320" cy="128520"/>
          </a:xfrm>
          <a:custGeom>
            <a:avLst/>
            <a:gdLst/>
            <a:ahLst/>
            <a:rect l="l" t="t" r="r" b="b"/>
            <a:pathLst>
              <a:path w="2412" h="355">
                <a:moveTo>
                  <a:pt x="342" y="158"/>
                </a:moveTo>
                <a:cubicBezTo>
                  <a:pt x="463" y="156"/>
                  <a:pt x="584" y="153"/>
                  <a:pt x="704" y="145"/>
                </a:cubicBezTo>
                <a:cubicBezTo>
                  <a:pt x="856" y="135"/>
                  <a:pt x="1006" y="116"/>
                  <a:pt x="1157" y="102"/>
                </a:cubicBezTo>
                <a:cubicBezTo>
                  <a:pt x="1324" y="87"/>
                  <a:pt x="1490" y="69"/>
                  <a:pt x="1656" y="51"/>
                </a:cubicBezTo>
                <a:cubicBezTo>
                  <a:pt x="1730" y="43"/>
                  <a:pt x="1931" y="17"/>
                  <a:pt x="1857" y="21"/>
                </a:cubicBezTo>
                <a:cubicBezTo>
                  <a:pt x="1831" y="21"/>
                  <a:pt x="1819" y="22"/>
                  <a:pt x="1801" y="30"/>
                </a:cubicBezTo>
                <a:cubicBezTo>
                  <a:pt x="1562" y="34"/>
                  <a:pt x="1323" y="67"/>
                  <a:pt x="1084" y="85"/>
                </a:cubicBezTo>
                <a:cubicBezTo>
                  <a:pt x="908" y="98"/>
                  <a:pt x="731" y="111"/>
                  <a:pt x="555" y="124"/>
                </a:cubicBezTo>
                <a:cubicBezTo>
                  <a:pt x="396" y="136"/>
                  <a:pt x="238" y="147"/>
                  <a:pt x="81" y="175"/>
                </a:cubicBezTo>
                <a:cubicBezTo>
                  <a:pt x="276" y="172"/>
                  <a:pt x="471" y="152"/>
                  <a:pt x="666" y="136"/>
                </a:cubicBezTo>
                <a:cubicBezTo>
                  <a:pt x="885" y="118"/>
                  <a:pt x="1104" y="106"/>
                  <a:pt x="1323" y="89"/>
                </a:cubicBezTo>
                <a:cubicBezTo>
                  <a:pt x="1599" y="67"/>
                  <a:pt x="1876" y="51"/>
                  <a:pt x="2151" y="30"/>
                </a:cubicBezTo>
                <a:cubicBezTo>
                  <a:pt x="2219" y="22"/>
                  <a:pt x="2239" y="19"/>
                  <a:pt x="2283" y="13"/>
                </a:cubicBezTo>
                <a:cubicBezTo>
                  <a:pt x="2286" y="-6"/>
                  <a:pt x="2370" y="4"/>
                  <a:pt x="2254" y="4"/>
                </a:cubicBezTo>
                <a:cubicBezTo>
                  <a:pt x="2121" y="4"/>
                  <a:pt x="1989" y="9"/>
                  <a:pt x="1857" y="21"/>
                </a:cubicBezTo>
                <a:cubicBezTo>
                  <a:pt x="1588" y="46"/>
                  <a:pt x="1319" y="91"/>
                  <a:pt x="1054" y="145"/>
                </a:cubicBezTo>
                <a:cubicBezTo>
                  <a:pt x="860" y="184"/>
                  <a:pt x="667" y="224"/>
                  <a:pt x="474" y="269"/>
                </a:cubicBezTo>
                <a:cubicBezTo>
                  <a:pt x="372" y="293"/>
                  <a:pt x="270" y="321"/>
                  <a:pt x="171" y="350"/>
                </a:cubicBezTo>
                <a:cubicBezTo>
                  <a:pt x="239" y="350"/>
                  <a:pt x="307" y="346"/>
                  <a:pt x="376" y="341"/>
                </a:cubicBezTo>
                <a:cubicBezTo>
                  <a:pt x="884" y="301"/>
                  <a:pt x="1392" y="263"/>
                  <a:pt x="1899" y="222"/>
                </a:cubicBezTo>
                <a:cubicBezTo>
                  <a:pt x="1932" y="219"/>
                  <a:pt x="2154" y="200"/>
                  <a:pt x="2155" y="205"/>
                </a:cubicBezTo>
                <a:cubicBezTo>
                  <a:pt x="2144" y="206"/>
                  <a:pt x="2132" y="208"/>
                  <a:pt x="2121" y="209"/>
                </a:cubicBezTo>
                <a:cubicBezTo>
                  <a:pt x="1963" y="232"/>
                  <a:pt x="1802" y="248"/>
                  <a:pt x="1643" y="260"/>
                </a:cubicBezTo>
                <a:cubicBezTo>
                  <a:pt x="1113" y="300"/>
                  <a:pt x="550" y="235"/>
                  <a:pt x="26" y="324"/>
                </a:cubicBezTo>
                <a:cubicBezTo>
                  <a:pt x="17" y="327"/>
                  <a:pt x="9" y="330"/>
                  <a:pt x="0" y="333"/>
                </a:cubicBezTo>
                <a:cubicBezTo>
                  <a:pt x="95" y="344"/>
                  <a:pt x="189" y="353"/>
                  <a:pt x="286" y="354"/>
                </a:cubicBezTo>
                <a:cubicBezTo>
                  <a:pt x="493" y="357"/>
                  <a:pt x="695" y="333"/>
                  <a:pt x="901" y="324"/>
                </a:cubicBezTo>
                <a:cubicBezTo>
                  <a:pt x="1081" y="316"/>
                  <a:pt x="1254" y="293"/>
                  <a:pt x="1434" y="273"/>
                </a:cubicBezTo>
              </a:path>
              <a:path w="2412" h="355">
                <a:moveTo>
                  <a:pt x="1127" y="252"/>
                </a:moveTo>
                <a:cubicBezTo>
                  <a:pt x="1381" y="229"/>
                  <a:pt x="1635" y="206"/>
                  <a:pt x="1887" y="171"/>
                </a:cubicBezTo>
                <a:cubicBezTo>
                  <a:pt x="2026" y="152"/>
                  <a:pt x="2165" y="135"/>
                  <a:pt x="2305" y="119"/>
                </a:cubicBezTo>
                <a:cubicBezTo>
                  <a:pt x="2341" y="115"/>
                  <a:pt x="2376" y="108"/>
                  <a:pt x="2411" y="102"/>
                </a:cubicBezTo>
                <a:cubicBezTo>
                  <a:pt x="2341" y="105"/>
                  <a:pt x="2277" y="120"/>
                  <a:pt x="2207" y="128"/>
                </a:cubicBezTo>
                <a:cubicBezTo>
                  <a:pt x="2026" y="149"/>
                  <a:pt x="1845" y="168"/>
                  <a:pt x="1665" y="192"/>
                </a:cubicBezTo>
                <a:cubicBezTo>
                  <a:pt x="1311" y="238"/>
                  <a:pt x="958" y="273"/>
                  <a:pt x="602" y="303"/>
                </a:cubicBezTo>
                <a:cubicBezTo>
                  <a:pt x="426" y="318"/>
                  <a:pt x="249" y="327"/>
                  <a:pt x="73" y="350"/>
                </a:cubicBezTo>
                <a:cubicBezTo>
                  <a:pt x="117" y="348"/>
                  <a:pt x="97" y="350"/>
                  <a:pt x="141" y="346"/>
                </a:cubicBezTo>
                <a:cubicBezTo>
                  <a:pt x="308" y="331"/>
                  <a:pt x="474" y="311"/>
                  <a:pt x="640" y="294"/>
                </a:cubicBezTo>
                <a:cubicBezTo>
                  <a:pt x="881" y="269"/>
                  <a:pt x="1122" y="239"/>
                  <a:pt x="1362" y="205"/>
                </a:cubicBezTo>
                <a:cubicBezTo>
                  <a:pt x="1568" y="176"/>
                  <a:pt x="1774" y="141"/>
                  <a:pt x="1980" y="111"/>
                </a:cubicBezTo>
                <a:cubicBezTo>
                  <a:pt x="2082" y="96"/>
                  <a:pt x="2387" y="43"/>
                  <a:pt x="2288" y="72"/>
                </a:cubicBezTo>
                <a:cubicBezTo>
                  <a:pt x="2248" y="84"/>
                  <a:pt x="2205" y="82"/>
                  <a:pt x="2164" y="85"/>
                </a:cubicBezTo>
                <a:cubicBezTo>
                  <a:pt x="2002" y="104"/>
                  <a:pt x="1839" y="125"/>
                  <a:pt x="1677" y="145"/>
                </a:cubicBezTo>
                <a:cubicBezTo>
                  <a:pt x="1450" y="173"/>
                  <a:pt x="1222" y="201"/>
                  <a:pt x="995" y="226"/>
                </a:cubicBezTo>
                <a:cubicBezTo>
                  <a:pt x="724" y="256"/>
                  <a:pt x="452" y="287"/>
                  <a:pt x="180" y="299"/>
                </a:cubicBezTo>
                <a:cubicBezTo>
                  <a:pt x="157" y="300"/>
                  <a:pt x="134" y="302"/>
                  <a:pt x="111" y="303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9" name="Freeform 14"/>
          <p:cNvSpPr/>
          <p:nvPr/>
        </p:nvSpPr>
        <p:spPr>
          <a:xfrm>
            <a:off x="3760920" y="2948040"/>
            <a:ext cx="541080" cy="355680"/>
          </a:xfrm>
          <a:custGeom>
            <a:avLst/>
            <a:gdLst/>
            <a:ahLst/>
            <a:rect l="l" t="t" r="r" b="b"/>
            <a:pathLst>
              <a:path w="1503" h="986">
                <a:moveTo>
                  <a:pt x="542" y="42"/>
                </a:moveTo>
                <a:cubicBezTo>
                  <a:pt x="572" y="52"/>
                  <a:pt x="608" y="56"/>
                  <a:pt x="640" y="59"/>
                </a:cubicBezTo>
                <a:cubicBezTo>
                  <a:pt x="684" y="63"/>
                  <a:pt x="733" y="58"/>
                  <a:pt x="776" y="51"/>
                </a:cubicBezTo>
                <a:cubicBezTo>
                  <a:pt x="818" y="44"/>
                  <a:pt x="864" y="37"/>
                  <a:pt x="904" y="25"/>
                </a:cubicBezTo>
                <a:cubicBezTo>
                  <a:pt x="923" y="20"/>
                  <a:pt x="947" y="15"/>
                  <a:pt x="964" y="4"/>
                </a:cubicBezTo>
                <a:cubicBezTo>
                  <a:pt x="964" y="3"/>
                  <a:pt x="964" y="1"/>
                  <a:pt x="964" y="0"/>
                </a:cubicBezTo>
                <a:cubicBezTo>
                  <a:pt x="943" y="1"/>
                  <a:pt x="921" y="2"/>
                  <a:pt x="900" y="4"/>
                </a:cubicBezTo>
                <a:cubicBezTo>
                  <a:pt x="848" y="9"/>
                  <a:pt x="799" y="15"/>
                  <a:pt x="747" y="25"/>
                </a:cubicBezTo>
                <a:cubicBezTo>
                  <a:pt x="687" y="37"/>
                  <a:pt x="622" y="42"/>
                  <a:pt x="563" y="59"/>
                </a:cubicBezTo>
                <a:cubicBezTo>
                  <a:pt x="529" y="69"/>
                  <a:pt x="492" y="82"/>
                  <a:pt x="461" y="98"/>
                </a:cubicBezTo>
                <a:cubicBezTo>
                  <a:pt x="458" y="99"/>
                  <a:pt x="455" y="101"/>
                  <a:pt x="452" y="102"/>
                </a:cubicBezTo>
                <a:cubicBezTo>
                  <a:pt x="489" y="111"/>
                  <a:pt x="520" y="115"/>
                  <a:pt x="559" y="115"/>
                </a:cubicBezTo>
                <a:cubicBezTo>
                  <a:pt x="642" y="116"/>
                  <a:pt x="723" y="110"/>
                  <a:pt x="806" y="102"/>
                </a:cubicBezTo>
                <a:cubicBezTo>
                  <a:pt x="886" y="94"/>
                  <a:pt x="965" y="84"/>
                  <a:pt x="1045" y="77"/>
                </a:cubicBezTo>
                <a:cubicBezTo>
                  <a:pt x="1076" y="74"/>
                  <a:pt x="1108" y="71"/>
                  <a:pt x="1139" y="68"/>
                </a:cubicBezTo>
                <a:cubicBezTo>
                  <a:pt x="1139" y="57"/>
                  <a:pt x="1137" y="55"/>
                  <a:pt x="1126" y="68"/>
                </a:cubicBezTo>
                <a:cubicBezTo>
                  <a:pt x="1081" y="70"/>
                  <a:pt x="1035" y="73"/>
                  <a:pt x="990" y="77"/>
                </a:cubicBezTo>
                <a:cubicBezTo>
                  <a:pt x="916" y="84"/>
                  <a:pt x="841" y="95"/>
                  <a:pt x="768" y="106"/>
                </a:cubicBezTo>
                <a:cubicBezTo>
                  <a:pt x="704" y="116"/>
                  <a:pt x="639" y="124"/>
                  <a:pt x="576" y="136"/>
                </a:cubicBezTo>
                <a:cubicBezTo>
                  <a:pt x="540" y="143"/>
                  <a:pt x="506" y="148"/>
                  <a:pt x="473" y="166"/>
                </a:cubicBezTo>
                <a:cubicBezTo>
                  <a:pt x="489" y="175"/>
                  <a:pt x="505" y="175"/>
                  <a:pt x="529" y="175"/>
                </a:cubicBezTo>
                <a:cubicBezTo>
                  <a:pt x="598" y="175"/>
                  <a:pt x="657" y="163"/>
                  <a:pt x="725" y="158"/>
                </a:cubicBezTo>
              </a:path>
              <a:path w="1503" h="986">
                <a:moveTo>
                  <a:pt x="81" y="764"/>
                </a:moveTo>
                <a:cubicBezTo>
                  <a:pt x="122" y="773"/>
                  <a:pt x="164" y="783"/>
                  <a:pt x="205" y="789"/>
                </a:cubicBezTo>
                <a:cubicBezTo>
                  <a:pt x="282" y="800"/>
                  <a:pt x="361" y="809"/>
                  <a:pt x="439" y="811"/>
                </a:cubicBezTo>
                <a:cubicBezTo>
                  <a:pt x="534" y="814"/>
                  <a:pt x="626" y="806"/>
                  <a:pt x="721" y="798"/>
                </a:cubicBezTo>
                <a:cubicBezTo>
                  <a:pt x="835" y="789"/>
                  <a:pt x="945" y="770"/>
                  <a:pt x="1058" y="751"/>
                </a:cubicBezTo>
                <a:cubicBezTo>
                  <a:pt x="1086" y="746"/>
                  <a:pt x="1109" y="745"/>
                  <a:pt x="1135" y="738"/>
                </a:cubicBezTo>
                <a:cubicBezTo>
                  <a:pt x="1114" y="741"/>
                  <a:pt x="1093" y="744"/>
                  <a:pt x="1071" y="747"/>
                </a:cubicBezTo>
                <a:cubicBezTo>
                  <a:pt x="1002" y="756"/>
                  <a:pt x="932" y="763"/>
                  <a:pt x="862" y="768"/>
                </a:cubicBezTo>
                <a:cubicBezTo>
                  <a:pt x="767" y="774"/>
                  <a:pt x="671" y="789"/>
                  <a:pt x="576" y="793"/>
                </a:cubicBezTo>
                <a:cubicBezTo>
                  <a:pt x="490" y="797"/>
                  <a:pt x="406" y="802"/>
                  <a:pt x="320" y="811"/>
                </a:cubicBezTo>
                <a:cubicBezTo>
                  <a:pt x="259" y="818"/>
                  <a:pt x="200" y="819"/>
                  <a:pt x="141" y="836"/>
                </a:cubicBezTo>
                <a:cubicBezTo>
                  <a:pt x="170" y="841"/>
                  <a:pt x="203" y="843"/>
                  <a:pt x="235" y="845"/>
                </a:cubicBezTo>
                <a:cubicBezTo>
                  <a:pt x="319" y="850"/>
                  <a:pt x="402" y="842"/>
                  <a:pt x="486" y="840"/>
                </a:cubicBezTo>
                <a:cubicBezTo>
                  <a:pt x="607" y="837"/>
                  <a:pt x="728" y="831"/>
                  <a:pt x="849" y="823"/>
                </a:cubicBezTo>
                <a:cubicBezTo>
                  <a:pt x="920" y="818"/>
                  <a:pt x="992" y="814"/>
                  <a:pt x="1062" y="806"/>
                </a:cubicBezTo>
                <a:cubicBezTo>
                  <a:pt x="1074" y="802"/>
                  <a:pt x="1076" y="801"/>
                  <a:pt x="1084" y="802"/>
                </a:cubicBezTo>
                <a:cubicBezTo>
                  <a:pt x="1052" y="807"/>
                  <a:pt x="1019" y="811"/>
                  <a:pt x="986" y="815"/>
                </a:cubicBezTo>
                <a:cubicBezTo>
                  <a:pt x="896" y="827"/>
                  <a:pt x="806" y="840"/>
                  <a:pt x="717" y="857"/>
                </a:cubicBezTo>
                <a:cubicBezTo>
                  <a:pt x="611" y="878"/>
                  <a:pt x="504" y="893"/>
                  <a:pt x="397" y="913"/>
                </a:cubicBezTo>
                <a:cubicBezTo>
                  <a:pt x="314" y="928"/>
                  <a:pt x="226" y="941"/>
                  <a:pt x="145" y="964"/>
                </a:cubicBezTo>
                <a:cubicBezTo>
                  <a:pt x="132" y="967"/>
                  <a:pt x="128" y="966"/>
                  <a:pt x="124" y="973"/>
                </a:cubicBezTo>
                <a:cubicBezTo>
                  <a:pt x="176" y="972"/>
                  <a:pt x="225" y="964"/>
                  <a:pt x="277" y="960"/>
                </a:cubicBezTo>
                <a:cubicBezTo>
                  <a:pt x="402" y="950"/>
                  <a:pt x="528" y="937"/>
                  <a:pt x="653" y="930"/>
                </a:cubicBezTo>
                <a:cubicBezTo>
                  <a:pt x="788" y="922"/>
                  <a:pt x="923" y="913"/>
                  <a:pt x="1058" y="904"/>
                </a:cubicBezTo>
                <a:cubicBezTo>
                  <a:pt x="1153" y="898"/>
                  <a:pt x="1243" y="885"/>
                  <a:pt x="1336" y="879"/>
                </a:cubicBezTo>
              </a:path>
              <a:path w="1503" h="986">
                <a:moveTo>
                  <a:pt x="21" y="985"/>
                </a:moveTo>
                <a:cubicBezTo>
                  <a:pt x="97" y="966"/>
                  <a:pt x="175" y="961"/>
                  <a:pt x="252" y="947"/>
                </a:cubicBezTo>
                <a:cubicBezTo>
                  <a:pt x="395" y="922"/>
                  <a:pt x="539" y="903"/>
                  <a:pt x="683" y="879"/>
                </a:cubicBezTo>
                <a:cubicBezTo>
                  <a:pt x="841" y="853"/>
                  <a:pt x="998" y="819"/>
                  <a:pt x="1156" y="793"/>
                </a:cubicBezTo>
                <a:cubicBezTo>
                  <a:pt x="1256" y="776"/>
                  <a:pt x="1359" y="767"/>
                  <a:pt x="1459" y="747"/>
                </a:cubicBezTo>
                <a:cubicBezTo>
                  <a:pt x="1485" y="740"/>
                  <a:pt x="1487" y="737"/>
                  <a:pt x="1502" y="738"/>
                </a:cubicBezTo>
                <a:cubicBezTo>
                  <a:pt x="1418" y="751"/>
                  <a:pt x="1331" y="755"/>
                  <a:pt x="1246" y="764"/>
                </a:cubicBezTo>
                <a:cubicBezTo>
                  <a:pt x="1085" y="781"/>
                  <a:pt x="924" y="795"/>
                  <a:pt x="764" y="815"/>
                </a:cubicBezTo>
                <a:cubicBezTo>
                  <a:pt x="604" y="834"/>
                  <a:pt x="445" y="857"/>
                  <a:pt x="286" y="887"/>
                </a:cubicBezTo>
                <a:cubicBezTo>
                  <a:pt x="189" y="905"/>
                  <a:pt x="90" y="922"/>
                  <a:pt x="0" y="964"/>
                </a:cubicBezTo>
                <a:cubicBezTo>
                  <a:pt x="0" y="965"/>
                  <a:pt x="0" y="967"/>
                  <a:pt x="0" y="968"/>
                </a:cubicBezTo>
                <a:cubicBezTo>
                  <a:pt x="94" y="966"/>
                  <a:pt x="180" y="951"/>
                  <a:pt x="273" y="934"/>
                </a:cubicBezTo>
                <a:cubicBezTo>
                  <a:pt x="371" y="917"/>
                  <a:pt x="404" y="911"/>
                  <a:pt x="465" y="883"/>
                </a:cubicBezTo>
              </a:path>
              <a:path w="1503" h="986">
                <a:moveTo>
                  <a:pt x="409" y="145"/>
                </a:moveTo>
                <a:cubicBezTo>
                  <a:pt x="452" y="145"/>
                  <a:pt x="495" y="141"/>
                  <a:pt x="538" y="136"/>
                </a:cubicBezTo>
                <a:cubicBezTo>
                  <a:pt x="637" y="125"/>
                  <a:pt x="734" y="109"/>
                  <a:pt x="832" y="89"/>
                </a:cubicBezTo>
                <a:cubicBezTo>
                  <a:pt x="923" y="70"/>
                  <a:pt x="1014" y="52"/>
                  <a:pt x="1105" y="34"/>
                </a:cubicBezTo>
                <a:cubicBezTo>
                  <a:pt x="1135" y="28"/>
                  <a:pt x="1160" y="21"/>
                  <a:pt x="1186" y="8"/>
                </a:cubicBezTo>
                <a:cubicBezTo>
                  <a:pt x="1152" y="16"/>
                  <a:pt x="1115" y="23"/>
                  <a:pt x="1079" y="25"/>
                </a:cubicBezTo>
                <a:cubicBezTo>
                  <a:pt x="990" y="30"/>
                  <a:pt x="892" y="35"/>
                  <a:pt x="806" y="59"/>
                </a:cubicBezTo>
                <a:cubicBezTo>
                  <a:pt x="785" y="68"/>
                  <a:pt x="763" y="76"/>
                  <a:pt x="742" y="85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0" name="Freeform 15"/>
          <p:cNvSpPr/>
          <p:nvPr/>
        </p:nvSpPr>
        <p:spPr>
          <a:xfrm>
            <a:off x="6145200" y="2716200"/>
            <a:ext cx="1220760" cy="696960"/>
          </a:xfrm>
          <a:custGeom>
            <a:avLst/>
            <a:gdLst/>
            <a:ahLst/>
            <a:rect l="l" t="t" r="r" b="b"/>
            <a:pathLst>
              <a:path w="3393" h="1939">
                <a:moveTo>
                  <a:pt x="439" y="572"/>
                </a:moveTo>
                <a:cubicBezTo>
                  <a:pt x="442" y="577"/>
                  <a:pt x="439" y="558"/>
                  <a:pt x="439" y="564"/>
                </a:cubicBezTo>
                <a:cubicBezTo>
                  <a:pt x="439" y="580"/>
                  <a:pt x="439" y="590"/>
                  <a:pt x="439" y="606"/>
                </a:cubicBezTo>
                <a:cubicBezTo>
                  <a:pt x="439" y="705"/>
                  <a:pt x="435" y="802"/>
                  <a:pt x="431" y="901"/>
                </a:cubicBezTo>
                <a:cubicBezTo>
                  <a:pt x="423" y="1123"/>
                  <a:pt x="413" y="1344"/>
                  <a:pt x="397" y="1566"/>
                </a:cubicBezTo>
                <a:cubicBezTo>
                  <a:pt x="389" y="1679"/>
                  <a:pt x="374" y="1791"/>
                  <a:pt x="367" y="1904"/>
                </a:cubicBezTo>
                <a:cubicBezTo>
                  <a:pt x="365" y="1933"/>
                  <a:pt x="375" y="1958"/>
                  <a:pt x="380" y="1908"/>
                </a:cubicBezTo>
              </a:path>
              <a:path w="3393" h="1939">
                <a:moveTo>
                  <a:pt x="0" y="632"/>
                </a:moveTo>
                <a:cubicBezTo>
                  <a:pt x="17" y="616"/>
                  <a:pt x="35" y="589"/>
                  <a:pt x="55" y="572"/>
                </a:cubicBezTo>
                <a:cubicBezTo>
                  <a:pt x="167" y="475"/>
                  <a:pt x="276" y="375"/>
                  <a:pt x="392" y="282"/>
                </a:cubicBezTo>
                <a:cubicBezTo>
                  <a:pt x="526" y="175"/>
                  <a:pt x="718" y="-5"/>
                  <a:pt x="905" y="0"/>
                </a:cubicBezTo>
                <a:cubicBezTo>
                  <a:pt x="990" y="2"/>
                  <a:pt x="1019" y="80"/>
                  <a:pt x="1028" y="150"/>
                </a:cubicBezTo>
                <a:cubicBezTo>
                  <a:pt x="1043" y="269"/>
                  <a:pt x="1008" y="392"/>
                  <a:pt x="960" y="500"/>
                </a:cubicBezTo>
                <a:cubicBezTo>
                  <a:pt x="898" y="638"/>
                  <a:pt x="813" y="759"/>
                  <a:pt x="708" y="867"/>
                </a:cubicBezTo>
                <a:cubicBezTo>
                  <a:pt x="624" y="953"/>
                  <a:pt x="532" y="1022"/>
                  <a:pt x="431" y="1084"/>
                </a:cubicBezTo>
                <a:cubicBezTo>
                  <a:pt x="406" y="1099"/>
                  <a:pt x="307" y="1129"/>
                  <a:pt x="294" y="1157"/>
                </a:cubicBezTo>
                <a:cubicBezTo>
                  <a:pt x="269" y="1211"/>
                  <a:pt x="322" y="1286"/>
                  <a:pt x="345" y="1328"/>
                </a:cubicBezTo>
                <a:cubicBezTo>
                  <a:pt x="402" y="1431"/>
                  <a:pt x="461" y="1530"/>
                  <a:pt x="533" y="1622"/>
                </a:cubicBezTo>
                <a:cubicBezTo>
                  <a:pt x="606" y="1715"/>
                  <a:pt x="629" y="1715"/>
                  <a:pt x="730" y="1737"/>
                </a:cubicBezTo>
              </a:path>
              <a:path w="3393" h="1939">
                <a:moveTo>
                  <a:pt x="1033" y="1127"/>
                </a:moveTo>
                <a:cubicBezTo>
                  <a:pt x="1020" y="1120"/>
                  <a:pt x="1008" y="1114"/>
                  <a:pt x="994" y="1106"/>
                </a:cubicBezTo>
                <a:cubicBezTo>
                  <a:pt x="972" y="1094"/>
                  <a:pt x="948" y="1077"/>
                  <a:pt x="922" y="1076"/>
                </a:cubicBezTo>
                <a:cubicBezTo>
                  <a:pt x="873" y="1073"/>
                  <a:pt x="842" y="1152"/>
                  <a:pt x="832" y="1187"/>
                </a:cubicBezTo>
                <a:cubicBezTo>
                  <a:pt x="804" y="1283"/>
                  <a:pt x="786" y="1395"/>
                  <a:pt x="785" y="1494"/>
                </a:cubicBezTo>
                <a:cubicBezTo>
                  <a:pt x="784" y="1576"/>
                  <a:pt x="786" y="1718"/>
                  <a:pt x="845" y="1784"/>
                </a:cubicBezTo>
                <a:cubicBezTo>
                  <a:pt x="852" y="1788"/>
                  <a:pt x="859" y="1793"/>
                  <a:pt x="866" y="1797"/>
                </a:cubicBezTo>
                <a:cubicBezTo>
                  <a:pt x="919" y="1786"/>
                  <a:pt x="938" y="1755"/>
                  <a:pt x="960" y="1703"/>
                </a:cubicBezTo>
                <a:cubicBezTo>
                  <a:pt x="991" y="1628"/>
                  <a:pt x="996" y="1547"/>
                  <a:pt x="1007" y="1468"/>
                </a:cubicBezTo>
                <a:cubicBezTo>
                  <a:pt x="1014" y="1419"/>
                  <a:pt x="1014" y="1382"/>
                  <a:pt x="1007" y="1336"/>
                </a:cubicBezTo>
                <a:cubicBezTo>
                  <a:pt x="1007" y="1450"/>
                  <a:pt x="1011" y="1563"/>
                  <a:pt x="1024" y="1677"/>
                </a:cubicBezTo>
                <a:cubicBezTo>
                  <a:pt x="1030" y="1735"/>
                  <a:pt x="1033" y="1816"/>
                  <a:pt x="1071" y="1865"/>
                </a:cubicBezTo>
                <a:cubicBezTo>
                  <a:pt x="1107" y="1911"/>
                  <a:pt x="1135" y="1818"/>
                  <a:pt x="1152" y="1793"/>
                </a:cubicBezTo>
              </a:path>
              <a:path w="3393" h="1939">
                <a:moveTo>
                  <a:pt x="1306" y="1255"/>
                </a:moveTo>
                <a:cubicBezTo>
                  <a:pt x="1292" y="1331"/>
                  <a:pt x="1283" y="1411"/>
                  <a:pt x="1284" y="1490"/>
                </a:cubicBezTo>
                <a:cubicBezTo>
                  <a:pt x="1285" y="1528"/>
                  <a:pt x="1285" y="1576"/>
                  <a:pt x="1293" y="1613"/>
                </a:cubicBezTo>
                <a:cubicBezTo>
                  <a:pt x="1294" y="1617"/>
                  <a:pt x="1296" y="1622"/>
                  <a:pt x="1297" y="1626"/>
                </a:cubicBezTo>
                <a:cubicBezTo>
                  <a:pt x="1302" y="1606"/>
                  <a:pt x="1306" y="1596"/>
                  <a:pt x="1306" y="1575"/>
                </a:cubicBezTo>
                <a:cubicBezTo>
                  <a:pt x="1304" y="1559"/>
                  <a:pt x="1303" y="1544"/>
                  <a:pt x="1301" y="1528"/>
                </a:cubicBezTo>
              </a:path>
              <a:path w="3393" h="1939">
                <a:moveTo>
                  <a:pt x="1216" y="576"/>
                </a:moveTo>
                <a:cubicBezTo>
                  <a:pt x="1221" y="607"/>
                  <a:pt x="1235" y="645"/>
                  <a:pt x="1246" y="675"/>
                </a:cubicBezTo>
                <a:cubicBezTo>
                  <a:pt x="1258" y="706"/>
                  <a:pt x="1268" y="737"/>
                  <a:pt x="1280" y="768"/>
                </a:cubicBezTo>
                <a:cubicBezTo>
                  <a:pt x="1283" y="774"/>
                  <a:pt x="1302" y="824"/>
                  <a:pt x="1297" y="790"/>
                </a:cubicBezTo>
              </a:path>
              <a:path w="3393" h="1939">
                <a:moveTo>
                  <a:pt x="1519" y="239"/>
                </a:moveTo>
                <a:cubicBezTo>
                  <a:pt x="1512" y="375"/>
                  <a:pt x="1506" y="513"/>
                  <a:pt x="1493" y="649"/>
                </a:cubicBezTo>
                <a:cubicBezTo>
                  <a:pt x="1475" y="831"/>
                  <a:pt x="1463" y="1012"/>
                  <a:pt x="1455" y="1195"/>
                </a:cubicBezTo>
                <a:cubicBezTo>
                  <a:pt x="1450" y="1311"/>
                  <a:pt x="1446" y="1429"/>
                  <a:pt x="1455" y="1545"/>
                </a:cubicBezTo>
                <a:cubicBezTo>
                  <a:pt x="1458" y="1575"/>
                  <a:pt x="1456" y="1580"/>
                  <a:pt x="1464" y="1596"/>
                </a:cubicBezTo>
                <a:cubicBezTo>
                  <a:pt x="1499" y="1542"/>
                  <a:pt x="1511" y="1502"/>
                  <a:pt x="1528" y="1434"/>
                </a:cubicBezTo>
              </a:path>
              <a:path w="3393" h="1939">
                <a:moveTo>
                  <a:pt x="1656" y="1161"/>
                </a:moveTo>
                <a:cubicBezTo>
                  <a:pt x="1662" y="1222"/>
                  <a:pt x="1665" y="1282"/>
                  <a:pt x="1681" y="1340"/>
                </a:cubicBezTo>
                <a:cubicBezTo>
                  <a:pt x="1691" y="1376"/>
                  <a:pt x="1709" y="1400"/>
                  <a:pt x="1724" y="1430"/>
                </a:cubicBezTo>
                <a:cubicBezTo>
                  <a:pt x="1731" y="1444"/>
                  <a:pt x="1732" y="1449"/>
                  <a:pt x="1741" y="1460"/>
                </a:cubicBezTo>
                <a:cubicBezTo>
                  <a:pt x="1742" y="1452"/>
                  <a:pt x="1745" y="1440"/>
                  <a:pt x="1745" y="1426"/>
                </a:cubicBezTo>
                <a:cubicBezTo>
                  <a:pt x="1746" y="1373"/>
                  <a:pt x="1750" y="1316"/>
                  <a:pt x="1758" y="1263"/>
                </a:cubicBezTo>
                <a:cubicBezTo>
                  <a:pt x="1772" y="1167"/>
                  <a:pt x="1783" y="1067"/>
                  <a:pt x="1809" y="973"/>
                </a:cubicBezTo>
                <a:cubicBezTo>
                  <a:pt x="1825" y="916"/>
                  <a:pt x="1847" y="821"/>
                  <a:pt x="1890" y="777"/>
                </a:cubicBezTo>
                <a:cubicBezTo>
                  <a:pt x="1915" y="752"/>
                  <a:pt x="1964" y="744"/>
                  <a:pt x="1993" y="743"/>
                </a:cubicBezTo>
              </a:path>
              <a:path w="3393" h="1939">
                <a:moveTo>
                  <a:pt x="2146" y="922"/>
                </a:moveTo>
                <a:cubicBezTo>
                  <a:pt x="2130" y="994"/>
                  <a:pt x="2118" y="1067"/>
                  <a:pt x="2108" y="1140"/>
                </a:cubicBezTo>
                <a:cubicBezTo>
                  <a:pt x="2096" y="1227"/>
                  <a:pt x="2077" y="1315"/>
                  <a:pt x="2078" y="1404"/>
                </a:cubicBezTo>
                <a:cubicBezTo>
                  <a:pt x="2078" y="1456"/>
                  <a:pt x="2085" y="1498"/>
                  <a:pt x="2112" y="1541"/>
                </a:cubicBezTo>
                <a:cubicBezTo>
                  <a:pt x="2154" y="1530"/>
                  <a:pt x="2172" y="1488"/>
                  <a:pt x="2189" y="1447"/>
                </a:cubicBezTo>
                <a:cubicBezTo>
                  <a:pt x="2229" y="1351"/>
                  <a:pt x="2240" y="1248"/>
                  <a:pt x="2240" y="1144"/>
                </a:cubicBezTo>
                <a:cubicBezTo>
                  <a:pt x="2240" y="1034"/>
                  <a:pt x="2240" y="902"/>
                  <a:pt x="2198" y="798"/>
                </a:cubicBezTo>
                <a:cubicBezTo>
                  <a:pt x="2178" y="749"/>
                  <a:pt x="2173" y="787"/>
                  <a:pt x="2172" y="811"/>
                </a:cubicBezTo>
                <a:cubicBezTo>
                  <a:pt x="2172" y="815"/>
                  <a:pt x="2172" y="820"/>
                  <a:pt x="2172" y="824"/>
                </a:cubicBezTo>
              </a:path>
              <a:path w="3393" h="1939">
                <a:moveTo>
                  <a:pt x="2590" y="798"/>
                </a:moveTo>
                <a:cubicBezTo>
                  <a:pt x="2585" y="804"/>
                  <a:pt x="2586" y="796"/>
                  <a:pt x="2582" y="803"/>
                </a:cubicBezTo>
                <a:cubicBezTo>
                  <a:pt x="2560" y="846"/>
                  <a:pt x="2537" y="889"/>
                  <a:pt x="2522" y="935"/>
                </a:cubicBezTo>
                <a:cubicBezTo>
                  <a:pt x="2494" y="1018"/>
                  <a:pt x="2467" y="1101"/>
                  <a:pt x="2445" y="1187"/>
                </a:cubicBezTo>
                <a:cubicBezTo>
                  <a:pt x="2433" y="1235"/>
                  <a:pt x="2408" y="1307"/>
                  <a:pt x="2428" y="1357"/>
                </a:cubicBezTo>
                <a:cubicBezTo>
                  <a:pt x="2431" y="1360"/>
                  <a:pt x="2434" y="1363"/>
                  <a:pt x="2437" y="1366"/>
                </a:cubicBezTo>
                <a:cubicBezTo>
                  <a:pt x="2476" y="1336"/>
                  <a:pt x="2485" y="1319"/>
                  <a:pt x="2509" y="1272"/>
                </a:cubicBezTo>
                <a:cubicBezTo>
                  <a:pt x="2559" y="1173"/>
                  <a:pt x="2583" y="1068"/>
                  <a:pt x="2611" y="961"/>
                </a:cubicBezTo>
                <a:cubicBezTo>
                  <a:pt x="2618" y="937"/>
                  <a:pt x="2621" y="933"/>
                  <a:pt x="2620" y="918"/>
                </a:cubicBezTo>
                <a:cubicBezTo>
                  <a:pt x="2620" y="1016"/>
                  <a:pt x="2613" y="1115"/>
                  <a:pt x="2629" y="1212"/>
                </a:cubicBezTo>
                <a:cubicBezTo>
                  <a:pt x="2638" y="1269"/>
                  <a:pt x="2647" y="1339"/>
                  <a:pt x="2714" y="1349"/>
                </a:cubicBezTo>
                <a:cubicBezTo>
                  <a:pt x="2770" y="1358"/>
                  <a:pt x="2808" y="1307"/>
                  <a:pt x="2850" y="1276"/>
                </a:cubicBezTo>
              </a:path>
              <a:path w="3393" h="1939">
                <a:moveTo>
                  <a:pt x="3171" y="850"/>
                </a:moveTo>
                <a:cubicBezTo>
                  <a:pt x="3156" y="837"/>
                  <a:pt x="3142" y="824"/>
                  <a:pt x="3128" y="811"/>
                </a:cubicBezTo>
                <a:cubicBezTo>
                  <a:pt x="3095" y="842"/>
                  <a:pt x="3074" y="869"/>
                  <a:pt x="3055" y="914"/>
                </a:cubicBezTo>
                <a:cubicBezTo>
                  <a:pt x="3014" y="1009"/>
                  <a:pt x="2983" y="1130"/>
                  <a:pt x="2983" y="1234"/>
                </a:cubicBezTo>
                <a:cubicBezTo>
                  <a:pt x="2983" y="1267"/>
                  <a:pt x="2989" y="1304"/>
                  <a:pt x="3008" y="1332"/>
                </a:cubicBezTo>
                <a:cubicBezTo>
                  <a:pt x="3011" y="1333"/>
                  <a:pt x="3014" y="1335"/>
                  <a:pt x="3017" y="1336"/>
                </a:cubicBezTo>
                <a:cubicBezTo>
                  <a:pt x="3042" y="1317"/>
                  <a:pt x="3054" y="1305"/>
                  <a:pt x="3068" y="1272"/>
                </a:cubicBezTo>
                <a:cubicBezTo>
                  <a:pt x="3105" y="1187"/>
                  <a:pt x="3131" y="1094"/>
                  <a:pt x="3149" y="1003"/>
                </a:cubicBezTo>
                <a:cubicBezTo>
                  <a:pt x="3181" y="846"/>
                  <a:pt x="3194" y="684"/>
                  <a:pt x="3213" y="525"/>
                </a:cubicBezTo>
                <a:cubicBezTo>
                  <a:pt x="3226" y="418"/>
                  <a:pt x="3226" y="303"/>
                  <a:pt x="3247" y="197"/>
                </a:cubicBezTo>
                <a:cubicBezTo>
                  <a:pt x="3250" y="190"/>
                  <a:pt x="3253" y="182"/>
                  <a:pt x="3256" y="175"/>
                </a:cubicBezTo>
                <a:cubicBezTo>
                  <a:pt x="3259" y="266"/>
                  <a:pt x="3260" y="357"/>
                  <a:pt x="3260" y="448"/>
                </a:cubicBezTo>
                <a:cubicBezTo>
                  <a:pt x="3260" y="624"/>
                  <a:pt x="3266" y="803"/>
                  <a:pt x="3286" y="978"/>
                </a:cubicBezTo>
                <a:cubicBezTo>
                  <a:pt x="3298" y="1086"/>
                  <a:pt x="3304" y="1218"/>
                  <a:pt x="3371" y="1310"/>
                </a:cubicBezTo>
                <a:cubicBezTo>
                  <a:pt x="3378" y="1314"/>
                  <a:pt x="3385" y="1319"/>
                  <a:pt x="3392" y="1323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1" name="Freeform 16"/>
          <p:cNvSpPr/>
          <p:nvPr/>
        </p:nvSpPr>
        <p:spPr>
          <a:xfrm>
            <a:off x="7489800" y="2658960"/>
            <a:ext cx="652320" cy="538200"/>
          </a:xfrm>
          <a:custGeom>
            <a:avLst/>
            <a:gdLst/>
            <a:ahLst/>
            <a:rect l="l" t="t" r="r" b="b"/>
            <a:pathLst>
              <a:path w="1814" h="1495">
                <a:moveTo>
                  <a:pt x="205" y="798"/>
                </a:moveTo>
                <a:cubicBezTo>
                  <a:pt x="190" y="902"/>
                  <a:pt x="169" y="1006"/>
                  <a:pt x="158" y="1110"/>
                </a:cubicBezTo>
                <a:cubicBezTo>
                  <a:pt x="147" y="1206"/>
                  <a:pt x="139" y="1307"/>
                  <a:pt x="141" y="1404"/>
                </a:cubicBezTo>
                <a:cubicBezTo>
                  <a:pt x="142" y="1438"/>
                  <a:pt x="148" y="1463"/>
                  <a:pt x="158" y="1494"/>
                </a:cubicBezTo>
                <a:cubicBezTo>
                  <a:pt x="170" y="1456"/>
                  <a:pt x="191" y="1397"/>
                  <a:pt x="196" y="1353"/>
                </a:cubicBezTo>
                <a:cubicBezTo>
                  <a:pt x="197" y="1325"/>
                  <a:pt x="199" y="1296"/>
                  <a:pt x="200" y="1268"/>
                </a:cubicBezTo>
              </a:path>
              <a:path w="1814" h="1495">
                <a:moveTo>
                  <a:pt x="77" y="111"/>
                </a:moveTo>
                <a:cubicBezTo>
                  <a:pt x="73" y="114"/>
                  <a:pt x="68" y="117"/>
                  <a:pt x="64" y="120"/>
                </a:cubicBezTo>
                <a:cubicBezTo>
                  <a:pt x="76" y="137"/>
                  <a:pt x="85" y="161"/>
                  <a:pt x="98" y="175"/>
                </a:cubicBezTo>
                <a:cubicBezTo>
                  <a:pt x="105" y="182"/>
                  <a:pt x="115" y="202"/>
                  <a:pt x="128" y="201"/>
                </a:cubicBezTo>
                <a:cubicBezTo>
                  <a:pt x="133" y="201"/>
                  <a:pt x="129" y="215"/>
                  <a:pt x="132" y="188"/>
                </a:cubicBezTo>
              </a:path>
              <a:path w="1814" h="1495">
                <a:moveTo>
                  <a:pt x="196" y="9"/>
                </a:moveTo>
                <a:cubicBezTo>
                  <a:pt x="204" y="35"/>
                  <a:pt x="202" y="37"/>
                  <a:pt x="205" y="64"/>
                </a:cubicBezTo>
                <a:cubicBezTo>
                  <a:pt x="217" y="160"/>
                  <a:pt x="206" y="259"/>
                  <a:pt x="205" y="355"/>
                </a:cubicBezTo>
                <a:cubicBezTo>
                  <a:pt x="203" y="510"/>
                  <a:pt x="189" y="665"/>
                  <a:pt x="183" y="820"/>
                </a:cubicBezTo>
                <a:cubicBezTo>
                  <a:pt x="178" y="959"/>
                  <a:pt x="167" y="1098"/>
                  <a:pt x="171" y="1238"/>
                </a:cubicBezTo>
                <a:cubicBezTo>
                  <a:pt x="173" y="1304"/>
                  <a:pt x="173" y="1379"/>
                  <a:pt x="192" y="1443"/>
                </a:cubicBezTo>
                <a:cubicBezTo>
                  <a:pt x="195" y="1447"/>
                  <a:pt x="197" y="1452"/>
                  <a:pt x="200" y="1456"/>
                </a:cubicBezTo>
                <a:cubicBezTo>
                  <a:pt x="219" y="1433"/>
                  <a:pt x="221" y="1448"/>
                  <a:pt x="230" y="1396"/>
                </a:cubicBezTo>
                <a:cubicBezTo>
                  <a:pt x="240" y="1337"/>
                  <a:pt x="249" y="1290"/>
                  <a:pt x="252" y="1229"/>
                </a:cubicBezTo>
              </a:path>
              <a:path w="1814" h="1495">
                <a:moveTo>
                  <a:pt x="8" y="756"/>
                </a:moveTo>
                <a:cubicBezTo>
                  <a:pt x="0" y="777"/>
                  <a:pt x="8" y="789"/>
                  <a:pt x="34" y="790"/>
                </a:cubicBezTo>
                <a:cubicBezTo>
                  <a:pt x="92" y="792"/>
                  <a:pt x="133" y="777"/>
                  <a:pt x="188" y="764"/>
                </a:cubicBezTo>
                <a:cubicBezTo>
                  <a:pt x="261" y="747"/>
                  <a:pt x="301" y="716"/>
                  <a:pt x="367" y="688"/>
                </a:cubicBezTo>
                <a:cubicBezTo>
                  <a:pt x="402" y="680"/>
                  <a:pt x="413" y="679"/>
                  <a:pt x="427" y="658"/>
                </a:cubicBezTo>
              </a:path>
              <a:path w="1814" h="1495">
                <a:moveTo>
                  <a:pt x="691" y="739"/>
                </a:moveTo>
                <a:cubicBezTo>
                  <a:pt x="659" y="805"/>
                  <a:pt x="634" y="888"/>
                  <a:pt x="623" y="961"/>
                </a:cubicBezTo>
                <a:cubicBezTo>
                  <a:pt x="609" y="1058"/>
                  <a:pt x="600" y="1156"/>
                  <a:pt x="597" y="1255"/>
                </a:cubicBezTo>
                <a:cubicBezTo>
                  <a:pt x="596" y="1304"/>
                  <a:pt x="594" y="1356"/>
                  <a:pt x="619" y="1396"/>
                </a:cubicBezTo>
                <a:cubicBezTo>
                  <a:pt x="642" y="1345"/>
                  <a:pt x="635" y="1310"/>
                  <a:pt x="644" y="1247"/>
                </a:cubicBezTo>
                <a:cubicBezTo>
                  <a:pt x="650" y="1221"/>
                  <a:pt x="655" y="1196"/>
                  <a:pt x="661" y="1170"/>
                </a:cubicBezTo>
              </a:path>
              <a:path w="1814" h="1495">
                <a:moveTo>
                  <a:pt x="687" y="141"/>
                </a:moveTo>
                <a:cubicBezTo>
                  <a:pt x="687" y="218"/>
                  <a:pt x="672" y="295"/>
                  <a:pt x="687" y="372"/>
                </a:cubicBezTo>
                <a:cubicBezTo>
                  <a:pt x="690" y="388"/>
                  <a:pt x="707" y="475"/>
                  <a:pt x="742" y="466"/>
                </a:cubicBezTo>
                <a:cubicBezTo>
                  <a:pt x="761" y="447"/>
                  <a:pt x="769" y="441"/>
                  <a:pt x="789" y="440"/>
                </a:cubicBezTo>
              </a:path>
              <a:path w="1814" h="1495">
                <a:moveTo>
                  <a:pt x="1058" y="918"/>
                </a:moveTo>
                <a:cubicBezTo>
                  <a:pt x="1052" y="933"/>
                  <a:pt x="1051" y="938"/>
                  <a:pt x="1050" y="948"/>
                </a:cubicBezTo>
                <a:cubicBezTo>
                  <a:pt x="1063" y="948"/>
                  <a:pt x="1070" y="958"/>
                  <a:pt x="1084" y="948"/>
                </a:cubicBezTo>
                <a:cubicBezTo>
                  <a:pt x="1116" y="926"/>
                  <a:pt x="1130" y="893"/>
                  <a:pt x="1143" y="858"/>
                </a:cubicBezTo>
                <a:cubicBezTo>
                  <a:pt x="1176" y="769"/>
                  <a:pt x="1183" y="648"/>
                  <a:pt x="1161" y="555"/>
                </a:cubicBezTo>
                <a:cubicBezTo>
                  <a:pt x="1153" y="522"/>
                  <a:pt x="1142" y="506"/>
                  <a:pt x="1118" y="487"/>
                </a:cubicBezTo>
                <a:cubicBezTo>
                  <a:pt x="1059" y="526"/>
                  <a:pt x="1053" y="598"/>
                  <a:pt x="1028" y="666"/>
                </a:cubicBezTo>
                <a:cubicBezTo>
                  <a:pt x="983" y="789"/>
                  <a:pt x="959" y="915"/>
                  <a:pt x="947" y="1046"/>
                </a:cubicBezTo>
                <a:cubicBezTo>
                  <a:pt x="940" y="1124"/>
                  <a:pt x="933" y="1234"/>
                  <a:pt x="990" y="1298"/>
                </a:cubicBezTo>
                <a:cubicBezTo>
                  <a:pt x="1045" y="1360"/>
                  <a:pt x="1107" y="1282"/>
                  <a:pt x="1139" y="1242"/>
                </a:cubicBezTo>
                <a:cubicBezTo>
                  <a:pt x="1227" y="1132"/>
                  <a:pt x="1285" y="1013"/>
                  <a:pt x="1348" y="888"/>
                </a:cubicBezTo>
              </a:path>
              <a:path w="1814" h="1495">
                <a:moveTo>
                  <a:pt x="1745" y="346"/>
                </a:moveTo>
                <a:cubicBezTo>
                  <a:pt x="1757" y="342"/>
                  <a:pt x="1762" y="342"/>
                  <a:pt x="1754" y="333"/>
                </a:cubicBezTo>
                <a:cubicBezTo>
                  <a:pt x="1749" y="336"/>
                  <a:pt x="1736" y="346"/>
                  <a:pt x="1724" y="359"/>
                </a:cubicBezTo>
                <a:cubicBezTo>
                  <a:pt x="1689" y="397"/>
                  <a:pt x="1663" y="433"/>
                  <a:pt x="1638" y="478"/>
                </a:cubicBezTo>
                <a:cubicBezTo>
                  <a:pt x="1610" y="529"/>
                  <a:pt x="1571" y="597"/>
                  <a:pt x="1579" y="658"/>
                </a:cubicBezTo>
                <a:cubicBezTo>
                  <a:pt x="1584" y="697"/>
                  <a:pt x="1606" y="722"/>
                  <a:pt x="1634" y="747"/>
                </a:cubicBezTo>
                <a:cubicBezTo>
                  <a:pt x="1671" y="780"/>
                  <a:pt x="1713" y="807"/>
                  <a:pt x="1749" y="841"/>
                </a:cubicBezTo>
                <a:cubicBezTo>
                  <a:pt x="1784" y="874"/>
                  <a:pt x="1812" y="905"/>
                  <a:pt x="1813" y="956"/>
                </a:cubicBezTo>
                <a:cubicBezTo>
                  <a:pt x="1814" y="997"/>
                  <a:pt x="1780" y="1051"/>
                  <a:pt x="1745" y="1072"/>
                </a:cubicBezTo>
                <a:cubicBezTo>
                  <a:pt x="1707" y="1095"/>
                  <a:pt x="1651" y="1106"/>
                  <a:pt x="1609" y="1110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Freeform 17"/>
          <p:cNvSpPr/>
          <p:nvPr/>
        </p:nvSpPr>
        <p:spPr>
          <a:xfrm>
            <a:off x="6126120" y="3238560"/>
            <a:ext cx="1736640" cy="831960"/>
          </a:xfrm>
          <a:custGeom>
            <a:avLst/>
            <a:gdLst/>
            <a:ahLst/>
            <a:rect l="l" t="t" r="r" b="b"/>
            <a:pathLst>
              <a:path w="4823" h="2310">
                <a:moveTo>
                  <a:pt x="42" y="1635"/>
                </a:moveTo>
                <a:cubicBezTo>
                  <a:pt x="38" y="1646"/>
                  <a:pt x="31" y="1645"/>
                  <a:pt x="29" y="1656"/>
                </a:cubicBezTo>
                <a:cubicBezTo>
                  <a:pt x="20" y="1718"/>
                  <a:pt x="8" y="1786"/>
                  <a:pt x="4" y="1848"/>
                </a:cubicBezTo>
                <a:cubicBezTo>
                  <a:pt x="-3" y="1951"/>
                  <a:pt x="-5" y="2062"/>
                  <a:pt x="8" y="2164"/>
                </a:cubicBezTo>
                <a:cubicBezTo>
                  <a:pt x="15" y="2220"/>
                  <a:pt x="29" y="2258"/>
                  <a:pt x="55" y="2305"/>
                </a:cubicBezTo>
                <a:cubicBezTo>
                  <a:pt x="118" y="2300"/>
                  <a:pt x="147" y="2249"/>
                  <a:pt x="175" y="2189"/>
                </a:cubicBezTo>
                <a:cubicBezTo>
                  <a:pt x="226" y="2080"/>
                  <a:pt x="265" y="1949"/>
                  <a:pt x="286" y="1831"/>
                </a:cubicBezTo>
                <a:cubicBezTo>
                  <a:pt x="304" y="1730"/>
                  <a:pt x="315" y="1626"/>
                  <a:pt x="328" y="1524"/>
                </a:cubicBezTo>
                <a:cubicBezTo>
                  <a:pt x="331" y="1500"/>
                  <a:pt x="328" y="1494"/>
                  <a:pt x="341" y="1485"/>
                </a:cubicBezTo>
                <a:cubicBezTo>
                  <a:pt x="355" y="1546"/>
                  <a:pt x="372" y="1611"/>
                  <a:pt x="388" y="1673"/>
                </a:cubicBezTo>
                <a:cubicBezTo>
                  <a:pt x="417" y="1789"/>
                  <a:pt x="456" y="1899"/>
                  <a:pt x="507" y="2006"/>
                </a:cubicBezTo>
                <a:cubicBezTo>
                  <a:pt x="526" y="2045"/>
                  <a:pt x="536" y="2048"/>
                  <a:pt x="563" y="2074"/>
                </a:cubicBezTo>
                <a:cubicBezTo>
                  <a:pt x="599" y="2023"/>
                  <a:pt x="611" y="1995"/>
                  <a:pt x="623" y="1929"/>
                </a:cubicBezTo>
                <a:cubicBezTo>
                  <a:pt x="645" y="1806"/>
                  <a:pt x="645" y="1683"/>
                  <a:pt x="644" y="1558"/>
                </a:cubicBezTo>
                <a:cubicBezTo>
                  <a:pt x="644" y="1459"/>
                  <a:pt x="636" y="1360"/>
                  <a:pt x="640" y="1263"/>
                </a:cubicBezTo>
                <a:cubicBezTo>
                  <a:pt x="640" y="1250"/>
                  <a:pt x="640" y="1238"/>
                  <a:pt x="640" y="1225"/>
                </a:cubicBezTo>
              </a:path>
              <a:path w="4823" h="2310">
                <a:moveTo>
                  <a:pt x="1015" y="1165"/>
                </a:moveTo>
                <a:cubicBezTo>
                  <a:pt x="982" y="1222"/>
                  <a:pt x="951" y="1281"/>
                  <a:pt x="930" y="1349"/>
                </a:cubicBezTo>
                <a:cubicBezTo>
                  <a:pt x="894" y="1466"/>
                  <a:pt x="855" y="1590"/>
                  <a:pt x="836" y="1711"/>
                </a:cubicBezTo>
                <a:cubicBezTo>
                  <a:pt x="819" y="1815"/>
                  <a:pt x="819" y="1898"/>
                  <a:pt x="857" y="1985"/>
                </a:cubicBezTo>
                <a:cubicBezTo>
                  <a:pt x="917" y="1950"/>
                  <a:pt x="935" y="1932"/>
                  <a:pt x="968" y="1861"/>
                </a:cubicBezTo>
                <a:cubicBezTo>
                  <a:pt x="1015" y="1759"/>
                  <a:pt x="1031" y="1643"/>
                  <a:pt x="1045" y="1532"/>
                </a:cubicBezTo>
                <a:cubicBezTo>
                  <a:pt x="1057" y="1439"/>
                  <a:pt x="1050" y="1351"/>
                  <a:pt x="1037" y="1259"/>
                </a:cubicBezTo>
                <a:cubicBezTo>
                  <a:pt x="1033" y="1234"/>
                  <a:pt x="1036" y="1227"/>
                  <a:pt x="1020" y="1221"/>
                </a:cubicBezTo>
                <a:cubicBezTo>
                  <a:pt x="1002" y="1249"/>
                  <a:pt x="990" y="1270"/>
                  <a:pt x="990" y="1310"/>
                </a:cubicBezTo>
                <a:cubicBezTo>
                  <a:pt x="991" y="1356"/>
                  <a:pt x="994" y="1399"/>
                  <a:pt x="1024" y="1434"/>
                </a:cubicBezTo>
                <a:cubicBezTo>
                  <a:pt x="1031" y="1437"/>
                  <a:pt x="1038" y="1440"/>
                  <a:pt x="1045" y="1443"/>
                </a:cubicBezTo>
                <a:cubicBezTo>
                  <a:pt x="1097" y="1413"/>
                  <a:pt x="1130" y="1393"/>
                  <a:pt x="1169" y="1344"/>
                </a:cubicBezTo>
                <a:cubicBezTo>
                  <a:pt x="1216" y="1284"/>
                  <a:pt x="1256" y="1218"/>
                  <a:pt x="1293" y="1152"/>
                </a:cubicBezTo>
                <a:cubicBezTo>
                  <a:pt x="1310" y="1122"/>
                  <a:pt x="1329" y="1089"/>
                  <a:pt x="1348" y="1067"/>
                </a:cubicBezTo>
                <a:cubicBezTo>
                  <a:pt x="1348" y="1152"/>
                  <a:pt x="1346" y="1238"/>
                  <a:pt x="1340" y="1323"/>
                </a:cubicBezTo>
                <a:cubicBezTo>
                  <a:pt x="1332" y="1441"/>
                  <a:pt x="1324" y="1558"/>
                  <a:pt x="1323" y="1677"/>
                </a:cubicBezTo>
                <a:cubicBezTo>
                  <a:pt x="1323" y="1744"/>
                  <a:pt x="1332" y="1782"/>
                  <a:pt x="1357" y="1835"/>
                </a:cubicBezTo>
                <a:cubicBezTo>
                  <a:pt x="1399" y="1779"/>
                  <a:pt x="1432" y="1728"/>
                  <a:pt x="1459" y="1660"/>
                </a:cubicBezTo>
                <a:cubicBezTo>
                  <a:pt x="1506" y="1543"/>
                  <a:pt x="1545" y="1420"/>
                  <a:pt x="1579" y="1298"/>
                </a:cubicBezTo>
                <a:cubicBezTo>
                  <a:pt x="1602" y="1215"/>
                  <a:pt x="1619" y="1125"/>
                  <a:pt x="1647" y="1046"/>
                </a:cubicBezTo>
                <a:cubicBezTo>
                  <a:pt x="1645" y="1139"/>
                  <a:pt x="1638" y="1231"/>
                  <a:pt x="1630" y="1323"/>
                </a:cubicBezTo>
                <a:cubicBezTo>
                  <a:pt x="1621" y="1438"/>
                  <a:pt x="1614" y="1554"/>
                  <a:pt x="1617" y="1669"/>
                </a:cubicBezTo>
                <a:cubicBezTo>
                  <a:pt x="1619" y="1729"/>
                  <a:pt x="1632" y="1738"/>
                  <a:pt x="1651" y="1784"/>
                </a:cubicBezTo>
                <a:cubicBezTo>
                  <a:pt x="1694" y="1731"/>
                  <a:pt x="1694" y="1703"/>
                  <a:pt x="1715" y="1635"/>
                </a:cubicBezTo>
                <a:cubicBezTo>
                  <a:pt x="1724" y="1611"/>
                  <a:pt x="1732" y="1586"/>
                  <a:pt x="1741" y="1562"/>
                </a:cubicBezTo>
              </a:path>
              <a:path w="4823" h="2310">
                <a:moveTo>
                  <a:pt x="1967" y="721"/>
                </a:moveTo>
                <a:cubicBezTo>
                  <a:pt x="1985" y="771"/>
                  <a:pt x="1985" y="822"/>
                  <a:pt x="1988" y="875"/>
                </a:cubicBezTo>
                <a:cubicBezTo>
                  <a:pt x="1995" y="980"/>
                  <a:pt x="2003" y="1086"/>
                  <a:pt x="2010" y="1191"/>
                </a:cubicBezTo>
                <a:cubicBezTo>
                  <a:pt x="2015" y="1269"/>
                  <a:pt x="2022" y="1344"/>
                  <a:pt x="2035" y="1421"/>
                </a:cubicBezTo>
                <a:cubicBezTo>
                  <a:pt x="2039" y="1439"/>
                  <a:pt x="2041" y="1446"/>
                  <a:pt x="2052" y="1455"/>
                </a:cubicBezTo>
              </a:path>
              <a:path w="4823" h="2310">
                <a:moveTo>
                  <a:pt x="2526" y="854"/>
                </a:moveTo>
                <a:cubicBezTo>
                  <a:pt x="2525" y="833"/>
                  <a:pt x="2529" y="808"/>
                  <a:pt x="2522" y="785"/>
                </a:cubicBezTo>
                <a:cubicBezTo>
                  <a:pt x="2513" y="754"/>
                  <a:pt x="2500" y="743"/>
                  <a:pt x="2479" y="721"/>
                </a:cubicBezTo>
                <a:cubicBezTo>
                  <a:pt x="2446" y="737"/>
                  <a:pt x="2430" y="748"/>
                  <a:pt x="2411" y="785"/>
                </a:cubicBezTo>
                <a:cubicBezTo>
                  <a:pt x="2368" y="870"/>
                  <a:pt x="2332" y="959"/>
                  <a:pt x="2304" y="1050"/>
                </a:cubicBezTo>
                <a:cubicBezTo>
                  <a:pt x="2275" y="1144"/>
                  <a:pt x="2251" y="1242"/>
                  <a:pt x="2244" y="1340"/>
                </a:cubicBezTo>
                <a:cubicBezTo>
                  <a:pt x="2240" y="1397"/>
                  <a:pt x="2242" y="1404"/>
                  <a:pt x="2283" y="1430"/>
                </a:cubicBezTo>
                <a:cubicBezTo>
                  <a:pt x="2349" y="1407"/>
                  <a:pt x="2383" y="1359"/>
                  <a:pt x="2419" y="1298"/>
                </a:cubicBezTo>
                <a:cubicBezTo>
                  <a:pt x="2489" y="1181"/>
                  <a:pt x="2526" y="1056"/>
                  <a:pt x="2564" y="926"/>
                </a:cubicBezTo>
                <a:cubicBezTo>
                  <a:pt x="2599" y="805"/>
                  <a:pt x="2623" y="683"/>
                  <a:pt x="2645" y="559"/>
                </a:cubicBezTo>
                <a:cubicBezTo>
                  <a:pt x="2653" y="515"/>
                  <a:pt x="2654" y="504"/>
                  <a:pt x="2662" y="478"/>
                </a:cubicBezTo>
                <a:cubicBezTo>
                  <a:pt x="2662" y="623"/>
                  <a:pt x="2652" y="768"/>
                  <a:pt x="2650" y="913"/>
                </a:cubicBezTo>
                <a:cubicBezTo>
                  <a:pt x="2648" y="1058"/>
                  <a:pt x="2653" y="1201"/>
                  <a:pt x="2680" y="1344"/>
                </a:cubicBezTo>
                <a:cubicBezTo>
                  <a:pt x="2692" y="1405"/>
                  <a:pt x="2701" y="1412"/>
                  <a:pt x="2748" y="1400"/>
                </a:cubicBezTo>
              </a:path>
              <a:path w="4823" h="2310">
                <a:moveTo>
                  <a:pt x="3691" y="632"/>
                </a:moveTo>
                <a:cubicBezTo>
                  <a:pt x="3683" y="622"/>
                  <a:pt x="3686" y="611"/>
                  <a:pt x="3674" y="602"/>
                </a:cubicBezTo>
                <a:cubicBezTo>
                  <a:pt x="3650" y="584"/>
                  <a:pt x="3626" y="586"/>
                  <a:pt x="3597" y="589"/>
                </a:cubicBezTo>
                <a:cubicBezTo>
                  <a:pt x="3538" y="595"/>
                  <a:pt x="3487" y="640"/>
                  <a:pt x="3448" y="679"/>
                </a:cubicBezTo>
                <a:cubicBezTo>
                  <a:pt x="3390" y="737"/>
                  <a:pt x="3347" y="813"/>
                  <a:pt x="3324" y="892"/>
                </a:cubicBezTo>
                <a:cubicBezTo>
                  <a:pt x="3306" y="952"/>
                  <a:pt x="3305" y="1029"/>
                  <a:pt x="3341" y="1084"/>
                </a:cubicBezTo>
                <a:cubicBezTo>
                  <a:pt x="3368" y="1125"/>
                  <a:pt x="3423" y="1126"/>
                  <a:pt x="3465" y="1110"/>
                </a:cubicBezTo>
                <a:cubicBezTo>
                  <a:pt x="3513" y="1092"/>
                  <a:pt x="3548" y="1041"/>
                  <a:pt x="3567" y="995"/>
                </a:cubicBezTo>
                <a:cubicBezTo>
                  <a:pt x="3580" y="964"/>
                  <a:pt x="3587" y="933"/>
                  <a:pt x="3593" y="901"/>
                </a:cubicBezTo>
                <a:cubicBezTo>
                  <a:pt x="3595" y="889"/>
                  <a:pt x="3594" y="907"/>
                  <a:pt x="3589" y="918"/>
                </a:cubicBezTo>
                <a:cubicBezTo>
                  <a:pt x="3589" y="1078"/>
                  <a:pt x="3595" y="1237"/>
                  <a:pt x="3601" y="1396"/>
                </a:cubicBezTo>
                <a:cubicBezTo>
                  <a:pt x="3607" y="1563"/>
                  <a:pt x="3609" y="1725"/>
                  <a:pt x="3597" y="1891"/>
                </a:cubicBezTo>
                <a:cubicBezTo>
                  <a:pt x="3589" y="1998"/>
                  <a:pt x="3591" y="2129"/>
                  <a:pt x="3529" y="2224"/>
                </a:cubicBezTo>
                <a:cubicBezTo>
                  <a:pt x="3494" y="2278"/>
                  <a:pt x="3436" y="2288"/>
                  <a:pt x="3384" y="2249"/>
                </a:cubicBezTo>
                <a:cubicBezTo>
                  <a:pt x="3302" y="2188"/>
                  <a:pt x="3268" y="2077"/>
                  <a:pt x="3226" y="1989"/>
                </a:cubicBezTo>
              </a:path>
              <a:path w="4823" h="2310">
                <a:moveTo>
                  <a:pt x="3874" y="952"/>
                </a:moveTo>
                <a:cubicBezTo>
                  <a:pt x="3870" y="986"/>
                  <a:pt x="3877" y="1005"/>
                  <a:pt x="3887" y="1037"/>
                </a:cubicBezTo>
                <a:cubicBezTo>
                  <a:pt x="3924" y="1020"/>
                  <a:pt x="3935" y="1015"/>
                  <a:pt x="3956" y="973"/>
                </a:cubicBezTo>
                <a:cubicBezTo>
                  <a:pt x="3992" y="901"/>
                  <a:pt x="4027" y="824"/>
                  <a:pt x="4049" y="747"/>
                </a:cubicBezTo>
                <a:cubicBezTo>
                  <a:pt x="4076" y="654"/>
                  <a:pt x="4084" y="565"/>
                  <a:pt x="4096" y="470"/>
                </a:cubicBezTo>
                <a:cubicBezTo>
                  <a:pt x="4102" y="421"/>
                  <a:pt x="4104" y="400"/>
                  <a:pt x="4092" y="354"/>
                </a:cubicBezTo>
                <a:cubicBezTo>
                  <a:pt x="4049" y="389"/>
                  <a:pt x="4032" y="416"/>
                  <a:pt x="4007" y="478"/>
                </a:cubicBezTo>
                <a:cubicBezTo>
                  <a:pt x="3957" y="601"/>
                  <a:pt x="3925" y="725"/>
                  <a:pt x="3896" y="854"/>
                </a:cubicBezTo>
                <a:cubicBezTo>
                  <a:pt x="3873" y="957"/>
                  <a:pt x="3855" y="1074"/>
                  <a:pt x="3887" y="1178"/>
                </a:cubicBezTo>
                <a:cubicBezTo>
                  <a:pt x="3909" y="1250"/>
                  <a:pt x="3954" y="1271"/>
                  <a:pt x="4020" y="1242"/>
                </a:cubicBezTo>
                <a:cubicBezTo>
                  <a:pt x="4107" y="1204"/>
                  <a:pt x="4174" y="1112"/>
                  <a:pt x="4212" y="1029"/>
                </a:cubicBezTo>
                <a:cubicBezTo>
                  <a:pt x="4260" y="924"/>
                  <a:pt x="4293" y="813"/>
                  <a:pt x="4327" y="704"/>
                </a:cubicBezTo>
              </a:path>
              <a:path w="4823" h="2310">
                <a:moveTo>
                  <a:pt x="4668" y="0"/>
                </a:moveTo>
                <a:cubicBezTo>
                  <a:pt x="4642" y="104"/>
                  <a:pt x="4615" y="208"/>
                  <a:pt x="4587" y="312"/>
                </a:cubicBezTo>
                <a:cubicBezTo>
                  <a:pt x="4552" y="438"/>
                  <a:pt x="4519" y="573"/>
                  <a:pt x="4510" y="704"/>
                </a:cubicBezTo>
                <a:cubicBezTo>
                  <a:pt x="4504" y="788"/>
                  <a:pt x="4502" y="881"/>
                  <a:pt x="4536" y="960"/>
                </a:cubicBezTo>
                <a:cubicBezTo>
                  <a:pt x="4566" y="1029"/>
                  <a:pt x="4623" y="1018"/>
                  <a:pt x="4668" y="973"/>
                </a:cubicBezTo>
                <a:cubicBezTo>
                  <a:pt x="4737" y="904"/>
                  <a:pt x="4761" y="817"/>
                  <a:pt x="4800" y="730"/>
                </a:cubicBezTo>
              </a:path>
              <a:path w="4823" h="2310">
                <a:moveTo>
                  <a:pt x="4472" y="423"/>
                </a:moveTo>
                <a:cubicBezTo>
                  <a:pt x="4472" y="454"/>
                  <a:pt x="4474" y="460"/>
                  <a:pt x="4468" y="478"/>
                </a:cubicBezTo>
                <a:cubicBezTo>
                  <a:pt x="4513" y="487"/>
                  <a:pt x="4543" y="469"/>
                  <a:pt x="4583" y="444"/>
                </a:cubicBezTo>
                <a:cubicBezTo>
                  <a:pt x="4676" y="386"/>
                  <a:pt x="4743" y="310"/>
                  <a:pt x="4822" y="235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Freeform 18"/>
          <p:cNvSpPr/>
          <p:nvPr/>
        </p:nvSpPr>
        <p:spPr>
          <a:xfrm>
            <a:off x="6176880" y="3772080"/>
            <a:ext cx="1401840" cy="695160"/>
          </a:xfrm>
          <a:custGeom>
            <a:avLst/>
            <a:gdLst/>
            <a:ahLst/>
            <a:rect l="l" t="t" r="r" b="b"/>
            <a:pathLst>
              <a:path w="3893" h="1934">
                <a:moveTo>
                  <a:pt x="466" y="1225"/>
                </a:moveTo>
                <a:cubicBezTo>
                  <a:pt x="473" y="1215"/>
                  <a:pt x="482" y="1210"/>
                  <a:pt x="487" y="1199"/>
                </a:cubicBezTo>
                <a:cubicBezTo>
                  <a:pt x="487" y="1198"/>
                  <a:pt x="487" y="1196"/>
                  <a:pt x="487" y="1195"/>
                </a:cubicBezTo>
                <a:cubicBezTo>
                  <a:pt x="480" y="1199"/>
                  <a:pt x="459" y="1209"/>
                  <a:pt x="449" y="1216"/>
                </a:cubicBezTo>
                <a:cubicBezTo>
                  <a:pt x="409" y="1244"/>
                  <a:pt x="371" y="1276"/>
                  <a:pt x="329" y="1302"/>
                </a:cubicBezTo>
                <a:cubicBezTo>
                  <a:pt x="267" y="1341"/>
                  <a:pt x="201" y="1374"/>
                  <a:pt x="137" y="1408"/>
                </a:cubicBezTo>
                <a:cubicBezTo>
                  <a:pt x="96" y="1430"/>
                  <a:pt x="51" y="1447"/>
                  <a:pt x="13" y="1472"/>
                </a:cubicBezTo>
                <a:cubicBezTo>
                  <a:pt x="3" y="1479"/>
                  <a:pt x="-1" y="1478"/>
                  <a:pt x="0" y="1485"/>
                </a:cubicBezTo>
                <a:cubicBezTo>
                  <a:pt x="51" y="1495"/>
                  <a:pt x="102" y="1502"/>
                  <a:pt x="154" y="1511"/>
                </a:cubicBezTo>
                <a:cubicBezTo>
                  <a:pt x="238" y="1526"/>
                  <a:pt x="324" y="1549"/>
                  <a:pt x="402" y="1583"/>
                </a:cubicBezTo>
                <a:cubicBezTo>
                  <a:pt x="455" y="1606"/>
                  <a:pt x="524" y="1641"/>
                  <a:pt x="530" y="1707"/>
                </a:cubicBezTo>
                <a:cubicBezTo>
                  <a:pt x="536" y="1772"/>
                  <a:pt x="467" y="1822"/>
                  <a:pt x="419" y="1852"/>
                </a:cubicBezTo>
                <a:cubicBezTo>
                  <a:pt x="349" y="1896"/>
                  <a:pt x="227" y="1953"/>
                  <a:pt x="141" y="1933"/>
                </a:cubicBezTo>
                <a:cubicBezTo>
                  <a:pt x="94" y="1912"/>
                  <a:pt x="82" y="1909"/>
                  <a:pt x="60" y="1886"/>
                </a:cubicBezTo>
              </a:path>
              <a:path w="3893" h="1934">
                <a:moveTo>
                  <a:pt x="850" y="1400"/>
                </a:moveTo>
                <a:cubicBezTo>
                  <a:pt x="829" y="1474"/>
                  <a:pt x="800" y="1541"/>
                  <a:pt x="773" y="1613"/>
                </a:cubicBezTo>
                <a:cubicBezTo>
                  <a:pt x="762" y="1643"/>
                  <a:pt x="751" y="1673"/>
                  <a:pt x="743" y="1703"/>
                </a:cubicBezTo>
                <a:cubicBezTo>
                  <a:pt x="760" y="1666"/>
                  <a:pt x="781" y="1627"/>
                  <a:pt x="794" y="1588"/>
                </a:cubicBezTo>
                <a:cubicBezTo>
                  <a:pt x="827" y="1494"/>
                  <a:pt x="855" y="1398"/>
                  <a:pt x="880" y="1302"/>
                </a:cubicBezTo>
                <a:cubicBezTo>
                  <a:pt x="900" y="1224"/>
                  <a:pt x="922" y="1147"/>
                  <a:pt x="948" y="1071"/>
                </a:cubicBezTo>
                <a:cubicBezTo>
                  <a:pt x="951" y="1063"/>
                  <a:pt x="953" y="1054"/>
                  <a:pt x="956" y="1046"/>
                </a:cubicBezTo>
                <a:cubicBezTo>
                  <a:pt x="977" y="1077"/>
                  <a:pt x="988" y="1118"/>
                  <a:pt x="995" y="1169"/>
                </a:cubicBezTo>
                <a:cubicBezTo>
                  <a:pt x="1008" y="1269"/>
                  <a:pt x="1020" y="1369"/>
                  <a:pt x="1037" y="1468"/>
                </a:cubicBezTo>
                <a:cubicBezTo>
                  <a:pt x="1047" y="1524"/>
                  <a:pt x="1056" y="1583"/>
                  <a:pt x="1080" y="1634"/>
                </a:cubicBezTo>
                <a:cubicBezTo>
                  <a:pt x="1114" y="1609"/>
                  <a:pt x="1126" y="1593"/>
                  <a:pt x="1144" y="1545"/>
                </a:cubicBezTo>
                <a:cubicBezTo>
                  <a:pt x="1179" y="1451"/>
                  <a:pt x="1193" y="1348"/>
                  <a:pt x="1212" y="1250"/>
                </a:cubicBezTo>
                <a:cubicBezTo>
                  <a:pt x="1227" y="1175"/>
                  <a:pt x="1228" y="1094"/>
                  <a:pt x="1247" y="1020"/>
                </a:cubicBezTo>
                <a:cubicBezTo>
                  <a:pt x="1250" y="1014"/>
                  <a:pt x="1252" y="1009"/>
                  <a:pt x="1255" y="1003"/>
                </a:cubicBezTo>
                <a:cubicBezTo>
                  <a:pt x="1268" y="1062"/>
                  <a:pt x="1272" y="1118"/>
                  <a:pt x="1281" y="1178"/>
                </a:cubicBezTo>
                <a:cubicBezTo>
                  <a:pt x="1295" y="1277"/>
                  <a:pt x="1305" y="1386"/>
                  <a:pt x="1336" y="1481"/>
                </a:cubicBezTo>
                <a:cubicBezTo>
                  <a:pt x="1341" y="1496"/>
                  <a:pt x="1388" y="1634"/>
                  <a:pt x="1439" y="1588"/>
                </a:cubicBezTo>
                <a:cubicBezTo>
                  <a:pt x="1462" y="1541"/>
                  <a:pt x="1471" y="1524"/>
                  <a:pt x="1498" y="1498"/>
                </a:cubicBezTo>
              </a:path>
              <a:path w="3893" h="1934">
                <a:moveTo>
                  <a:pt x="1946" y="930"/>
                </a:moveTo>
                <a:cubicBezTo>
                  <a:pt x="1945" y="929"/>
                  <a:pt x="1915" y="881"/>
                  <a:pt x="1912" y="883"/>
                </a:cubicBezTo>
                <a:cubicBezTo>
                  <a:pt x="1884" y="897"/>
                  <a:pt x="1859" y="961"/>
                  <a:pt x="1848" y="986"/>
                </a:cubicBezTo>
                <a:cubicBezTo>
                  <a:pt x="1806" y="1078"/>
                  <a:pt x="1770" y="1172"/>
                  <a:pt x="1737" y="1267"/>
                </a:cubicBezTo>
                <a:cubicBezTo>
                  <a:pt x="1716" y="1328"/>
                  <a:pt x="1673" y="1417"/>
                  <a:pt x="1690" y="1485"/>
                </a:cubicBezTo>
                <a:cubicBezTo>
                  <a:pt x="1694" y="1491"/>
                  <a:pt x="1699" y="1496"/>
                  <a:pt x="1703" y="1502"/>
                </a:cubicBezTo>
                <a:cubicBezTo>
                  <a:pt x="1755" y="1463"/>
                  <a:pt x="1790" y="1418"/>
                  <a:pt x="1823" y="1361"/>
                </a:cubicBezTo>
                <a:cubicBezTo>
                  <a:pt x="1874" y="1274"/>
                  <a:pt x="1915" y="1180"/>
                  <a:pt x="1942" y="1084"/>
                </a:cubicBezTo>
                <a:cubicBezTo>
                  <a:pt x="1956" y="1036"/>
                  <a:pt x="1987" y="890"/>
                  <a:pt x="1976" y="939"/>
                </a:cubicBezTo>
                <a:cubicBezTo>
                  <a:pt x="1969" y="953"/>
                  <a:pt x="1967" y="963"/>
                  <a:pt x="1968" y="977"/>
                </a:cubicBezTo>
                <a:cubicBezTo>
                  <a:pt x="1965" y="1082"/>
                  <a:pt x="1950" y="1187"/>
                  <a:pt x="1951" y="1293"/>
                </a:cubicBezTo>
                <a:cubicBezTo>
                  <a:pt x="1952" y="1358"/>
                  <a:pt x="1951" y="1426"/>
                  <a:pt x="1981" y="1481"/>
                </a:cubicBezTo>
                <a:cubicBezTo>
                  <a:pt x="2036" y="1458"/>
                  <a:pt x="2047" y="1393"/>
                  <a:pt x="2066" y="1336"/>
                </a:cubicBezTo>
              </a:path>
              <a:path w="3893" h="1934">
                <a:moveTo>
                  <a:pt x="2326" y="504"/>
                </a:moveTo>
                <a:cubicBezTo>
                  <a:pt x="2320" y="530"/>
                  <a:pt x="2306" y="579"/>
                  <a:pt x="2318" y="606"/>
                </a:cubicBezTo>
                <a:cubicBezTo>
                  <a:pt x="2328" y="628"/>
                  <a:pt x="2324" y="636"/>
                  <a:pt x="2330" y="661"/>
                </a:cubicBezTo>
                <a:cubicBezTo>
                  <a:pt x="2347" y="729"/>
                  <a:pt x="2349" y="804"/>
                  <a:pt x="2352" y="875"/>
                </a:cubicBezTo>
                <a:cubicBezTo>
                  <a:pt x="2356" y="984"/>
                  <a:pt x="2357" y="1094"/>
                  <a:pt x="2365" y="1203"/>
                </a:cubicBezTo>
                <a:cubicBezTo>
                  <a:pt x="2366" y="1219"/>
                  <a:pt x="2374" y="1342"/>
                  <a:pt x="2390" y="1349"/>
                </a:cubicBezTo>
                <a:cubicBezTo>
                  <a:pt x="2396" y="1343"/>
                  <a:pt x="2401" y="1337"/>
                  <a:pt x="2407" y="1331"/>
                </a:cubicBezTo>
              </a:path>
              <a:path w="3893" h="1934">
                <a:moveTo>
                  <a:pt x="2646" y="0"/>
                </a:moveTo>
                <a:cubicBezTo>
                  <a:pt x="2647" y="156"/>
                  <a:pt x="2603" y="309"/>
                  <a:pt x="2595" y="465"/>
                </a:cubicBezTo>
                <a:cubicBezTo>
                  <a:pt x="2586" y="639"/>
                  <a:pt x="2575" y="816"/>
                  <a:pt x="2582" y="990"/>
                </a:cubicBezTo>
                <a:cubicBezTo>
                  <a:pt x="2587" y="1106"/>
                  <a:pt x="2599" y="1211"/>
                  <a:pt x="2638" y="1319"/>
                </a:cubicBezTo>
                <a:cubicBezTo>
                  <a:pt x="2673" y="1269"/>
                  <a:pt x="2686" y="1230"/>
                  <a:pt x="2706" y="1165"/>
                </a:cubicBezTo>
              </a:path>
              <a:path w="3893" h="1934">
                <a:moveTo>
                  <a:pt x="2898" y="777"/>
                </a:moveTo>
                <a:cubicBezTo>
                  <a:pt x="2876" y="799"/>
                  <a:pt x="2864" y="788"/>
                  <a:pt x="2864" y="836"/>
                </a:cubicBezTo>
                <a:cubicBezTo>
                  <a:pt x="2864" y="867"/>
                  <a:pt x="2876" y="896"/>
                  <a:pt x="2898" y="918"/>
                </a:cubicBezTo>
                <a:cubicBezTo>
                  <a:pt x="2928" y="948"/>
                  <a:pt x="2946" y="935"/>
                  <a:pt x="2979" y="926"/>
                </a:cubicBezTo>
                <a:cubicBezTo>
                  <a:pt x="3024" y="914"/>
                  <a:pt x="3048" y="849"/>
                  <a:pt x="3064" y="811"/>
                </a:cubicBezTo>
                <a:cubicBezTo>
                  <a:pt x="3093" y="743"/>
                  <a:pt x="3106" y="658"/>
                  <a:pt x="3086" y="585"/>
                </a:cubicBezTo>
                <a:cubicBezTo>
                  <a:pt x="3075" y="545"/>
                  <a:pt x="3063" y="552"/>
                  <a:pt x="3039" y="529"/>
                </a:cubicBezTo>
                <a:cubicBezTo>
                  <a:pt x="2999" y="571"/>
                  <a:pt x="2978" y="599"/>
                  <a:pt x="2958" y="661"/>
                </a:cubicBezTo>
                <a:cubicBezTo>
                  <a:pt x="2929" y="754"/>
                  <a:pt x="2912" y="854"/>
                  <a:pt x="2907" y="952"/>
                </a:cubicBezTo>
                <a:cubicBezTo>
                  <a:pt x="2902" y="1043"/>
                  <a:pt x="2907" y="1104"/>
                  <a:pt x="2962" y="1169"/>
                </a:cubicBezTo>
                <a:cubicBezTo>
                  <a:pt x="3022" y="1137"/>
                  <a:pt x="3042" y="1121"/>
                  <a:pt x="3082" y="1058"/>
                </a:cubicBezTo>
                <a:cubicBezTo>
                  <a:pt x="3137" y="971"/>
                  <a:pt x="3171" y="874"/>
                  <a:pt x="3205" y="777"/>
                </a:cubicBezTo>
                <a:cubicBezTo>
                  <a:pt x="3227" y="715"/>
                  <a:pt x="3239" y="618"/>
                  <a:pt x="3278" y="563"/>
                </a:cubicBezTo>
                <a:cubicBezTo>
                  <a:pt x="3285" y="544"/>
                  <a:pt x="3286" y="537"/>
                  <a:pt x="3303" y="542"/>
                </a:cubicBezTo>
                <a:cubicBezTo>
                  <a:pt x="3309" y="591"/>
                  <a:pt x="3315" y="639"/>
                  <a:pt x="3325" y="687"/>
                </a:cubicBezTo>
                <a:cubicBezTo>
                  <a:pt x="3341" y="765"/>
                  <a:pt x="3344" y="850"/>
                  <a:pt x="3363" y="926"/>
                </a:cubicBezTo>
                <a:cubicBezTo>
                  <a:pt x="3373" y="966"/>
                  <a:pt x="3388" y="1017"/>
                  <a:pt x="3414" y="1050"/>
                </a:cubicBezTo>
                <a:cubicBezTo>
                  <a:pt x="3418" y="1051"/>
                  <a:pt x="3423" y="1053"/>
                  <a:pt x="3427" y="1054"/>
                </a:cubicBezTo>
                <a:cubicBezTo>
                  <a:pt x="3454" y="1023"/>
                  <a:pt x="3465" y="1003"/>
                  <a:pt x="3478" y="956"/>
                </a:cubicBezTo>
                <a:cubicBezTo>
                  <a:pt x="3504" y="862"/>
                  <a:pt x="3523" y="762"/>
                  <a:pt x="3555" y="670"/>
                </a:cubicBezTo>
                <a:cubicBezTo>
                  <a:pt x="3589" y="571"/>
                  <a:pt x="3629" y="484"/>
                  <a:pt x="3692" y="401"/>
                </a:cubicBezTo>
                <a:cubicBezTo>
                  <a:pt x="3729" y="352"/>
                  <a:pt x="3780" y="318"/>
                  <a:pt x="3845" y="320"/>
                </a:cubicBezTo>
                <a:cubicBezTo>
                  <a:pt x="3861" y="323"/>
                  <a:pt x="3876" y="326"/>
                  <a:pt x="3892" y="329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Freeform 19"/>
          <p:cNvSpPr/>
          <p:nvPr/>
        </p:nvSpPr>
        <p:spPr>
          <a:xfrm>
            <a:off x="7797960" y="3618000"/>
            <a:ext cx="272880" cy="466560"/>
          </a:xfrm>
          <a:custGeom>
            <a:avLst/>
            <a:gdLst/>
            <a:ahLst/>
            <a:rect l="l" t="t" r="r" b="b"/>
            <a:pathLst>
              <a:path w="756" h="1299">
                <a:moveTo>
                  <a:pt x="298" y="0"/>
                </a:moveTo>
                <a:cubicBezTo>
                  <a:pt x="284" y="106"/>
                  <a:pt x="282" y="214"/>
                  <a:pt x="268" y="320"/>
                </a:cubicBezTo>
                <a:cubicBezTo>
                  <a:pt x="244" y="497"/>
                  <a:pt x="229" y="672"/>
                  <a:pt x="213" y="850"/>
                </a:cubicBezTo>
                <a:cubicBezTo>
                  <a:pt x="200" y="995"/>
                  <a:pt x="194" y="1136"/>
                  <a:pt x="200" y="1281"/>
                </a:cubicBezTo>
                <a:cubicBezTo>
                  <a:pt x="200" y="1287"/>
                  <a:pt x="200" y="1292"/>
                  <a:pt x="200" y="1298"/>
                </a:cubicBezTo>
                <a:cubicBezTo>
                  <a:pt x="207" y="1271"/>
                  <a:pt x="218" y="1200"/>
                  <a:pt x="213" y="1152"/>
                </a:cubicBezTo>
                <a:cubicBezTo>
                  <a:pt x="209" y="1125"/>
                  <a:pt x="204" y="1098"/>
                  <a:pt x="200" y="1071"/>
                </a:cubicBezTo>
              </a:path>
              <a:path w="756" h="1299">
                <a:moveTo>
                  <a:pt x="0" y="645"/>
                </a:moveTo>
                <a:cubicBezTo>
                  <a:pt x="15" y="679"/>
                  <a:pt x="26" y="716"/>
                  <a:pt x="72" y="713"/>
                </a:cubicBezTo>
                <a:cubicBezTo>
                  <a:pt x="126" y="709"/>
                  <a:pt x="177" y="671"/>
                  <a:pt x="221" y="645"/>
                </a:cubicBezTo>
                <a:cubicBezTo>
                  <a:pt x="275" y="613"/>
                  <a:pt x="326" y="576"/>
                  <a:pt x="379" y="542"/>
                </a:cubicBezTo>
                <a:cubicBezTo>
                  <a:pt x="404" y="526"/>
                  <a:pt x="428" y="511"/>
                  <a:pt x="452" y="495"/>
                </a:cubicBezTo>
                <a:cubicBezTo>
                  <a:pt x="477" y="516"/>
                  <a:pt x="483" y="519"/>
                  <a:pt x="482" y="559"/>
                </a:cubicBezTo>
                <a:cubicBezTo>
                  <a:pt x="480" y="632"/>
                  <a:pt x="469" y="705"/>
                  <a:pt x="465" y="777"/>
                </a:cubicBezTo>
                <a:cubicBezTo>
                  <a:pt x="461" y="837"/>
                  <a:pt x="447" y="929"/>
                  <a:pt x="473" y="986"/>
                </a:cubicBezTo>
                <a:cubicBezTo>
                  <a:pt x="495" y="1034"/>
                  <a:pt x="548" y="1048"/>
                  <a:pt x="593" y="1037"/>
                </a:cubicBezTo>
                <a:cubicBezTo>
                  <a:pt x="658" y="1021"/>
                  <a:pt x="705" y="955"/>
                  <a:pt x="729" y="896"/>
                </a:cubicBezTo>
                <a:cubicBezTo>
                  <a:pt x="763" y="811"/>
                  <a:pt x="761" y="707"/>
                  <a:pt x="742" y="619"/>
                </a:cubicBezTo>
                <a:cubicBezTo>
                  <a:pt x="727" y="548"/>
                  <a:pt x="699" y="467"/>
                  <a:pt x="623" y="444"/>
                </a:cubicBezTo>
                <a:cubicBezTo>
                  <a:pt x="548" y="422"/>
                  <a:pt x="538" y="458"/>
                  <a:pt x="495" y="508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5" name="Freeform 20"/>
          <p:cNvSpPr/>
          <p:nvPr/>
        </p:nvSpPr>
        <p:spPr>
          <a:xfrm>
            <a:off x="8331120" y="3456000"/>
            <a:ext cx="514440" cy="480960"/>
          </a:xfrm>
          <a:custGeom>
            <a:avLst/>
            <a:gdLst/>
            <a:ahLst/>
            <a:rect l="l" t="t" r="r" b="b"/>
            <a:pathLst>
              <a:path w="1427" h="1333">
                <a:moveTo>
                  <a:pt x="90" y="13"/>
                </a:moveTo>
                <a:cubicBezTo>
                  <a:pt x="91" y="13"/>
                  <a:pt x="106" y="-1"/>
                  <a:pt x="107" y="4"/>
                </a:cubicBezTo>
                <a:cubicBezTo>
                  <a:pt x="109" y="11"/>
                  <a:pt x="103" y="9"/>
                  <a:pt x="103" y="17"/>
                </a:cubicBezTo>
                <a:cubicBezTo>
                  <a:pt x="101" y="79"/>
                  <a:pt x="88" y="139"/>
                  <a:pt x="81" y="201"/>
                </a:cubicBezTo>
                <a:cubicBezTo>
                  <a:pt x="63" y="359"/>
                  <a:pt x="37" y="516"/>
                  <a:pt x="22" y="674"/>
                </a:cubicBezTo>
                <a:cubicBezTo>
                  <a:pt x="7" y="832"/>
                  <a:pt x="-13" y="998"/>
                  <a:pt x="0" y="1157"/>
                </a:cubicBezTo>
                <a:cubicBezTo>
                  <a:pt x="4" y="1206"/>
                  <a:pt x="14" y="1326"/>
                  <a:pt x="86" y="1332"/>
                </a:cubicBezTo>
                <a:cubicBezTo>
                  <a:pt x="149" y="1337"/>
                  <a:pt x="207" y="1249"/>
                  <a:pt x="231" y="1204"/>
                </a:cubicBezTo>
                <a:cubicBezTo>
                  <a:pt x="283" y="1106"/>
                  <a:pt x="306" y="1005"/>
                  <a:pt x="316" y="896"/>
                </a:cubicBezTo>
                <a:cubicBezTo>
                  <a:pt x="323" y="812"/>
                  <a:pt x="315" y="726"/>
                  <a:pt x="291" y="645"/>
                </a:cubicBezTo>
                <a:cubicBezTo>
                  <a:pt x="284" y="620"/>
                  <a:pt x="259" y="565"/>
                  <a:pt x="222" y="589"/>
                </a:cubicBezTo>
                <a:cubicBezTo>
                  <a:pt x="193" y="607"/>
                  <a:pt x="191" y="642"/>
                  <a:pt x="180" y="666"/>
                </a:cubicBezTo>
                <a:cubicBezTo>
                  <a:pt x="177" y="670"/>
                  <a:pt x="174" y="675"/>
                  <a:pt x="171" y="679"/>
                </a:cubicBezTo>
                <a:cubicBezTo>
                  <a:pt x="186" y="674"/>
                  <a:pt x="196" y="678"/>
                  <a:pt x="222" y="649"/>
                </a:cubicBezTo>
                <a:cubicBezTo>
                  <a:pt x="252" y="615"/>
                  <a:pt x="282" y="585"/>
                  <a:pt x="312" y="551"/>
                </a:cubicBezTo>
              </a:path>
              <a:path w="1427" h="1333">
                <a:moveTo>
                  <a:pt x="615" y="512"/>
                </a:moveTo>
                <a:cubicBezTo>
                  <a:pt x="602" y="617"/>
                  <a:pt x="588" y="722"/>
                  <a:pt x="576" y="828"/>
                </a:cubicBezTo>
                <a:cubicBezTo>
                  <a:pt x="565" y="923"/>
                  <a:pt x="546" y="1022"/>
                  <a:pt x="547" y="1118"/>
                </a:cubicBezTo>
                <a:cubicBezTo>
                  <a:pt x="548" y="1179"/>
                  <a:pt x="555" y="1150"/>
                  <a:pt x="576" y="1174"/>
                </a:cubicBezTo>
                <a:cubicBezTo>
                  <a:pt x="614" y="1110"/>
                  <a:pt x="650" y="1044"/>
                  <a:pt x="675" y="973"/>
                </a:cubicBezTo>
                <a:cubicBezTo>
                  <a:pt x="716" y="860"/>
                  <a:pt x="745" y="742"/>
                  <a:pt x="781" y="628"/>
                </a:cubicBezTo>
                <a:cubicBezTo>
                  <a:pt x="803" y="557"/>
                  <a:pt x="824" y="486"/>
                  <a:pt x="854" y="418"/>
                </a:cubicBezTo>
                <a:cubicBezTo>
                  <a:pt x="860" y="448"/>
                  <a:pt x="862" y="509"/>
                  <a:pt x="858" y="551"/>
                </a:cubicBezTo>
                <a:cubicBezTo>
                  <a:pt x="848" y="669"/>
                  <a:pt x="834" y="787"/>
                  <a:pt x="841" y="905"/>
                </a:cubicBezTo>
                <a:cubicBezTo>
                  <a:pt x="845" y="944"/>
                  <a:pt x="844" y="955"/>
                  <a:pt x="858" y="977"/>
                </a:cubicBezTo>
                <a:cubicBezTo>
                  <a:pt x="898" y="969"/>
                  <a:pt x="912" y="965"/>
                  <a:pt x="939" y="913"/>
                </a:cubicBezTo>
                <a:cubicBezTo>
                  <a:pt x="987" y="820"/>
                  <a:pt x="1016" y="715"/>
                  <a:pt x="1046" y="615"/>
                </a:cubicBezTo>
              </a:path>
              <a:path w="1427" h="1333">
                <a:moveTo>
                  <a:pt x="1281" y="26"/>
                </a:moveTo>
                <a:cubicBezTo>
                  <a:pt x="1261" y="129"/>
                  <a:pt x="1252" y="233"/>
                  <a:pt x="1242" y="337"/>
                </a:cubicBezTo>
                <a:cubicBezTo>
                  <a:pt x="1232" y="441"/>
                  <a:pt x="1210" y="561"/>
                  <a:pt x="1217" y="666"/>
                </a:cubicBezTo>
                <a:cubicBezTo>
                  <a:pt x="1219" y="704"/>
                  <a:pt x="1219" y="800"/>
                  <a:pt x="1255" y="828"/>
                </a:cubicBezTo>
                <a:cubicBezTo>
                  <a:pt x="1261" y="829"/>
                  <a:pt x="1266" y="831"/>
                  <a:pt x="1272" y="832"/>
                </a:cubicBezTo>
                <a:cubicBezTo>
                  <a:pt x="1308" y="812"/>
                  <a:pt x="1347" y="772"/>
                  <a:pt x="1366" y="734"/>
                </a:cubicBezTo>
                <a:cubicBezTo>
                  <a:pt x="1387" y="673"/>
                  <a:pt x="1395" y="652"/>
                  <a:pt x="1426" y="619"/>
                </a:cubicBezTo>
              </a:path>
              <a:path w="1427" h="1333">
                <a:moveTo>
                  <a:pt x="1110" y="214"/>
                </a:moveTo>
                <a:cubicBezTo>
                  <a:pt x="1122" y="244"/>
                  <a:pt x="1166" y="219"/>
                  <a:pt x="1195" y="205"/>
                </a:cubicBezTo>
                <a:cubicBezTo>
                  <a:pt x="1255" y="175"/>
                  <a:pt x="1308" y="132"/>
                  <a:pt x="1366" y="98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Freeform 21"/>
          <p:cNvSpPr/>
          <p:nvPr/>
        </p:nvSpPr>
        <p:spPr>
          <a:xfrm>
            <a:off x="6202440" y="4406760"/>
            <a:ext cx="1139760" cy="650880"/>
          </a:xfrm>
          <a:custGeom>
            <a:avLst/>
            <a:gdLst/>
            <a:ahLst/>
            <a:rect l="l" t="t" r="r" b="b"/>
            <a:pathLst>
              <a:path w="3167" h="1806">
                <a:moveTo>
                  <a:pt x="38" y="981"/>
                </a:moveTo>
                <a:cubicBezTo>
                  <a:pt x="32" y="992"/>
                  <a:pt x="25" y="997"/>
                  <a:pt x="21" y="1020"/>
                </a:cubicBezTo>
                <a:cubicBezTo>
                  <a:pt x="4" y="1113"/>
                  <a:pt x="1" y="1212"/>
                  <a:pt x="0" y="1306"/>
                </a:cubicBezTo>
                <a:cubicBezTo>
                  <a:pt x="-1" y="1421"/>
                  <a:pt x="4" y="1536"/>
                  <a:pt x="17" y="1651"/>
                </a:cubicBezTo>
                <a:cubicBezTo>
                  <a:pt x="23" y="1704"/>
                  <a:pt x="34" y="1756"/>
                  <a:pt x="47" y="1805"/>
                </a:cubicBezTo>
                <a:cubicBezTo>
                  <a:pt x="57" y="1760"/>
                  <a:pt x="63" y="1710"/>
                  <a:pt x="64" y="1660"/>
                </a:cubicBezTo>
                <a:cubicBezTo>
                  <a:pt x="67" y="1528"/>
                  <a:pt x="72" y="1395"/>
                  <a:pt x="77" y="1263"/>
                </a:cubicBezTo>
                <a:cubicBezTo>
                  <a:pt x="82" y="1137"/>
                  <a:pt x="82" y="1008"/>
                  <a:pt x="102" y="883"/>
                </a:cubicBezTo>
                <a:cubicBezTo>
                  <a:pt x="109" y="837"/>
                  <a:pt x="121" y="804"/>
                  <a:pt x="141" y="764"/>
                </a:cubicBezTo>
                <a:cubicBezTo>
                  <a:pt x="182" y="780"/>
                  <a:pt x="221" y="801"/>
                  <a:pt x="260" y="823"/>
                </a:cubicBezTo>
                <a:cubicBezTo>
                  <a:pt x="308" y="851"/>
                  <a:pt x="337" y="856"/>
                  <a:pt x="392" y="866"/>
                </a:cubicBezTo>
              </a:path>
              <a:path w="3167" h="1806">
                <a:moveTo>
                  <a:pt x="409" y="1276"/>
                </a:moveTo>
                <a:cubicBezTo>
                  <a:pt x="440" y="1296"/>
                  <a:pt x="446" y="1301"/>
                  <a:pt x="482" y="1288"/>
                </a:cubicBezTo>
                <a:cubicBezTo>
                  <a:pt x="532" y="1270"/>
                  <a:pt x="569" y="1213"/>
                  <a:pt x="593" y="1169"/>
                </a:cubicBezTo>
                <a:cubicBezTo>
                  <a:pt x="638" y="1086"/>
                  <a:pt x="671" y="1006"/>
                  <a:pt x="691" y="913"/>
                </a:cubicBezTo>
                <a:cubicBezTo>
                  <a:pt x="704" y="851"/>
                  <a:pt x="718" y="757"/>
                  <a:pt x="678" y="700"/>
                </a:cubicBezTo>
                <a:cubicBezTo>
                  <a:pt x="672" y="697"/>
                  <a:pt x="667" y="694"/>
                  <a:pt x="661" y="691"/>
                </a:cubicBezTo>
                <a:cubicBezTo>
                  <a:pt x="598" y="707"/>
                  <a:pt x="564" y="768"/>
                  <a:pt x="542" y="832"/>
                </a:cubicBezTo>
                <a:cubicBezTo>
                  <a:pt x="502" y="947"/>
                  <a:pt x="476" y="1082"/>
                  <a:pt x="473" y="1203"/>
                </a:cubicBezTo>
                <a:cubicBezTo>
                  <a:pt x="471" y="1285"/>
                  <a:pt x="470" y="1401"/>
                  <a:pt x="520" y="1472"/>
                </a:cubicBezTo>
                <a:cubicBezTo>
                  <a:pt x="529" y="1479"/>
                  <a:pt x="537" y="1486"/>
                  <a:pt x="546" y="1493"/>
                </a:cubicBezTo>
                <a:cubicBezTo>
                  <a:pt x="607" y="1483"/>
                  <a:pt x="662" y="1438"/>
                  <a:pt x="691" y="1378"/>
                </a:cubicBezTo>
                <a:cubicBezTo>
                  <a:pt x="721" y="1289"/>
                  <a:pt x="730" y="1260"/>
                  <a:pt x="755" y="1203"/>
                </a:cubicBezTo>
              </a:path>
              <a:path w="3167" h="1806">
                <a:moveTo>
                  <a:pt x="985" y="896"/>
                </a:moveTo>
                <a:cubicBezTo>
                  <a:pt x="985" y="991"/>
                  <a:pt x="981" y="1084"/>
                  <a:pt x="977" y="1178"/>
                </a:cubicBezTo>
                <a:cubicBezTo>
                  <a:pt x="975" y="1238"/>
                  <a:pt x="966" y="1293"/>
                  <a:pt x="960" y="1352"/>
                </a:cubicBezTo>
                <a:cubicBezTo>
                  <a:pt x="960" y="1358"/>
                  <a:pt x="960" y="1364"/>
                  <a:pt x="960" y="1370"/>
                </a:cubicBezTo>
                <a:cubicBezTo>
                  <a:pt x="961" y="1330"/>
                  <a:pt x="971" y="1298"/>
                  <a:pt x="977" y="1259"/>
                </a:cubicBezTo>
                <a:cubicBezTo>
                  <a:pt x="1000" y="1116"/>
                  <a:pt x="1017" y="971"/>
                  <a:pt x="1041" y="828"/>
                </a:cubicBezTo>
                <a:cubicBezTo>
                  <a:pt x="1053" y="757"/>
                  <a:pt x="1056" y="653"/>
                  <a:pt x="1092" y="589"/>
                </a:cubicBezTo>
                <a:cubicBezTo>
                  <a:pt x="1096" y="586"/>
                  <a:pt x="1101" y="583"/>
                  <a:pt x="1105" y="580"/>
                </a:cubicBezTo>
                <a:cubicBezTo>
                  <a:pt x="1144" y="658"/>
                  <a:pt x="1155" y="728"/>
                  <a:pt x="1169" y="815"/>
                </a:cubicBezTo>
                <a:cubicBezTo>
                  <a:pt x="1183" y="901"/>
                  <a:pt x="1196" y="986"/>
                  <a:pt x="1212" y="1071"/>
                </a:cubicBezTo>
                <a:cubicBezTo>
                  <a:pt x="1218" y="1101"/>
                  <a:pt x="1228" y="1125"/>
                  <a:pt x="1237" y="1148"/>
                </a:cubicBezTo>
                <a:cubicBezTo>
                  <a:pt x="1264" y="1100"/>
                  <a:pt x="1274" y="1063"/>
                  <a:pt x="1288" y="1007"/>
                </a:cubicBezTo>
                <a:cubicBezTo>
                  <a:pt x="1314" y="904"/>
                  <a:pt x="1330" y="800"/>
                  <a:pt x="1348" y="695"/>
                </a:cubicBezTo>
                <a:cubicBezTo>
                  <a:pt x="1360" y="625"/>
                  <a:pt x="1372" y="556"/>
                  <a:pt x="1382" y="486"/>
                </a:cubicBezTo>
                <a:cubicBezTo>
                  <a:pt x="1395" y="515"/>
                  <a:pt x="1405" y="572"/>
                  <a:pt x="1412" y="614"/>
                </a:cubicBezTo>
                <a:cubicBezTo>
                  <a:pt x="1434" y="746"/>
                  <a:pt x="1455" y="874"/>
                  <a:pt x="1506" y="998"/>
                </a:cubicBezTo>
                <a:cubicBezTo>
                  <a:pt x="1533" y="1064"/>
                  <a:pt x="1536" y="1064"/>
                  <a:pt x="1596" y="1084"/>
                </a:cubicBezTo>
              </a:path>
              <a:path w="3167" h="1806">
                <a:moveTo>
                  <a:pt x="1954" y="397"/>
                </a:moveTo>
                <a:cubicBezTo>
                  <a:pt x="1960" y="374"/>
                  <a:pt x="1958" y="377"/>
                  <a:pt x="1954" y="354"/>
                </a:cubicBezTo>
                <a:cubicBezTo>
                  <a:pt x="1933" y="376"/>
                  <a:pt x="1912" y="405"/>
                  <a:pt x="1899" y="435"/>
                </a:cubicBezTo>
                <a:cubicBezTo>
                  <a:pt x="1864" y="518"/>
                  <a:pt x="1834" y="602"/>
                  <a:pt x="1805" y="687"/>
                </a:cubicBezTo>
                <a:cubicBezTo>
                  <a:pt x="1782" y="756"/>
                  <a:pt x="1748" y="835"/>
                  <a:pt x="1754" y="909"/>
                </a:cubicBezTo>
                <a:cubicBezTo>
                  <a:pt x="1761" y="934"/>
                  <a:pt x="1759" y="941"/>
                  <a:pt x="1775" y="947"/>
                </a:cubicBezTo>
                <a:cubicBezTo>
                  <a:pt x="1829" y="929"/>
                  <a:pt x="1851" y="897"/>
                  <a:pt x="1882" y="849"/>
                </a:cubicBezTo>
                <a:cubicBezTo>
                  <a:pt x="1924" y="782"/>
                  <a:pt x="1956" y="700"/>
                  <a:pt x="1976" y="623"/>
                </a:cubicBezTo>
                <a:cubicBezTo>
                  <a:pt x="1988" y="578"/>
                  <a:pt x="1990" y="531"/>
                  <a:pt x="1997" y="486"/>
                </a:cubicBezTo>
                <a:cubicBezTo>
                  <a:pt x="1998" y="525"/>
                  <a:pt x="2002" y="562"/>
                  <a:pt x="2005" y="601"/>
                </a:cubicBezTo>
                <a:cubicBezTo>
                  <a:pt x="2012" y="682"/>
                  <a:pt x="2025" y="760"/>
                  <a:pt x="2040" y="840"/>
                </a:cubicBezTo>
                <a:cubicBezTo>
                  <a:pt x="2047" y="880"/>
                  <a:pt x="2059" y="934"/>
                  <a:pt x="2095" y="943"/>
                </a:cubicBezTo>
                <a:cubicBezTo>
                  <a:pt x="2104" y="940"/>
                  <a:pt x="2112" y="937"/>
                  <a:pt x="2121" y="934"/>
                </a:cubicBezTo>
              </a:path>
              <a:path w="3167" h="1806">
                <a:moveTo>
                  <a:pt x="2441" y="469"/>
                </a:moveTo>
                <a:cubicBezTo>
                  <a:pt x="2427" y="535"/>
                  <a:pt x="2415" y="606"/>
                  <a:pt x="2415" y="674"/>
                </a:cubicBezTo>
                <a:cubicBezTo>
                  <a:pt x="2415" y="730"/>
                  <a:pt x="2422" y="785"/>
                  <a:pt x="2432" y="840"/>
                </a:cubicBezTo>
                <a:cubicBezTo>
                  <a:pt x="2436" y="864"/>
                  <a:pt x="2449" y="906"/>
                  <a:pt x="2453" y="866"/>
                </a:cubicBezTo>
                <a:cubicBezTo>
                  <a:pt x="2455" y="857"/>
                  <a:pt x="2456" y="849"/>
                  <a:pt x="2458" y="840"/>
                </a:cubicBezTo>
              </a:path>
              <a:path w="3167" h="1806">
                <a:moveTo>
                  <a:pt x="2394" y="4"/>
                </a:moveTo>
                <a:cubicBezTo>
                  <a:pt x="2391" y="33"/>
                  <a:pt x="2376" y="78"/>
                  <a:pt x="2377" y="102"/>
                </a:cubicBezTo>
                <a:cubicBezTo>
                  <a:pt x="2378" y="117"/>
                  <a:pt x="2376" y="153"/>
                  <a:pt x="2385" y="141"/>
                </a:cubicBezTo>
                <a:cubicBezTo>
                  <a:pt x="2385" y="139"/>
                  <a:pt x="2385" y="138"/>
                  <a:pt x="2385" y="136"/>
                </a:cubicBezTo>
                <a:cubicBezTo>
                  <a:pt x="2389" y="106"/>
                  <a:pt x="2397" y="79"/>
                  <a:pt x="2402" y="47"/>
                </a:cubicBezTo>
                <a:cubicBezTo>
                  <a:pt x="2404" y="31"/>
                  <a:pt x="2405" y="16"/>
                  <a:pt x="2407" y="0"/>
                </a:cubicBezTo>
              </a:path>
              <a:path w="3167" h="1806">
                <a:moveTo>
                  <a:pt x="2710" y="230"/>
                </a:moveTo>
                <a:cubicBezTo>
                  <a:pt x="2700" y="305"/>
                  <a:pt x="2705" y="375"/>
                  <a:pt x="2705" y="452"/>
                </a:cubicBezTo>
                <a:cubicBezTo>
                  <a:pt x="2705" y="488"/>
                  <a:pt x="2700" y="509"/>
                  <a:pt x="2705" y="542"/>
                </a:cubicBezTo>
                <a:cubicBezTo>
                  <a:pt x="2717" y="524"/>
                  <a:pt x="2729" y="494"/>
                  <a:pt x="2739" y="465"/>
                </a:cubicBezTo>
                <a:cubicBezTo>
                  <a:pt x="2763" y="393"/>
                  <a:pt x="2783" y="319"/>
                  <a:pt x="2808" y="247"/>
                </a:cubicBezTo>
                <a:cubicBezTo>
                  <a:pt x="2827" y="192"/>
                  <a:pt x="2845" y="139"/>
                  <a:pt x="2880" y="94"/>
                </a:cubicBezTo>
                <a:cubicBezTo>
                  <a:pt x="2925" y="83"/>
                  <a:pt x="2926" y="131"/>
                  <a:pt x="2944" y="170"/>
                </a:cubicBezTo>
                <a:cubicBezTo>
                  <a:pt x="2980" y="248"/>
                  <a:pt x="3013" y="329"/>
                  <a:pt x="3055" y="405"/>
                </a:cubicBezTo>
                <a:cubicBezTo>
                  <a:pt x="3083" y="456"/>
                  <a:pt x="3114" y="502"/>
                  <a:pt x="3166" y="520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7" name="Freeform 22"/>
          <p:cNvSpPr/>
          <p:nvPr/>
        </p:nvSpPr>
        <p:spPr>
          <a:xfrm>
            <a:off x="7543800" y="3938760"/>
            <a:ext cx="1273320" cy="915840"/>
          </a:xfrm>
          <a:custGeom>
            <a:avLst/>
            <a:gdLst/>
            <a:ahLst/>
            <a:rect l="l" t="t" r="r" b="b"/>
            <a:pathLst>
              <a:path w="3539" h="2545">
                <a:moveTo>
                  <a:pt x="73" y="1481"/>
                </a:moveTo>
                <a:cubicBezTo>
                  <a:pt x="62" y="1561"/>
                  <a:pt x="55" y="1639"/>
                  <a:pt x="51" y="1720"/>
                </a:cubicBezTo>
                <a:cubicBezTo>
                  <a:pt x="44" y="1863"/>
                  <a:pt x="54" y="2001"/>
                  <a:pt x="68" y="2142"/>
                </a:cubicBezTo>
                <a:cubicBezTo>
                  <a:pt x="79" y="2256"/>
                  <a:pt x="96" y="2365"/>
                  <a:pt x="124" y="2475"/>
                </a:cubicBezTo>
                <a:cubicBezTo>
                  <a:pt x="139" y="2534"/>
                  <a:pt x="136" y="2532"/>
                  <a:pt x="154" y="2526"/>
                </a:cubicBezTo>
                <a:cubicBezTo>
                  <a:pt x="149" y="2441"/>
                  <a:pt x="128" y="2359"/>
                  <a:pt x="115" y="2275"/>
                </a:cubicBezTo>
                <a:cubicBezTo>
                  <a:pt x="86" y="2091"/>
                  <a:pt x="54" y="1908"/>
                  <a:pt x="30" y="1724"/>
                </a:cubicBezTo>
                <a:cubicBezTo>
                  <a:pt x="9" y="1566"/>
                  <a:pt x="-13" y="1401"/>
                  <a:pt x="9" y="1242"/>
                </a:cubicBezTo>
                <a:cubicBezTo>
                  <a:pt x="20" y="1162"/>
                  <a:pt x="27" y="1151"/>
                  <a:pt x="86" y="1118"/>
                </a:cubicBezTo>
                <a:cubicBezTo>
                  <a:pt x="170" y="1131"/>
                  <a:pt x="219" y="1169"/>
                  <a:pt x="278" y="1233"/>
                </a:cubicBezTo>
                <a:cubicBezTo>
                  <a:pt x="351" y="1313"/>
                  <a:pt x="408" y="1406"/>
                  <a:pt x="435" y="1511"/>
                </a:cubicBezTo>
                <a:cubicBezTo>
                  <a:pt x="455" y="1587"/>
                  <a:pt x="461" y="1667"/>
                  <a:pt x="414" y="1733"/>
                </a:cubicBezTo>
                <a:cubicBezTo>
                  <a:pt x="379" y="1781"/>
                  <a:pt x="348" y="1780"/>
                  <a:pt x="303" y="1750"/>
                </a:cubicBezTo>
                <a:cubicBezTo>
                  <a:pt x="270" y="1728"/>
                  <a:pt x="263" y="1664"/>
                  <a:pt x="252" y="1630"/>
                </a:cubicBezTo>
              </a:path>
              <a:path w="3539" h="2545">
                <a:moveTo>
                  <a:pt x="901" y="1054"/>
                </a:moveTo>
                <a:cubicBezTo>
                  <a:pt x="875" y="1057"/>
                  <a:pt x="867" y="1049"/>
                  <a:pt x="845" y="1076"/>
                </a:cubicBezTo>
                <a:cubicBezTo>
                  <a:pt x="812" y="1116"/>
                  <a:pt x="783" y="1169"/>
                  <a:pt x="760" y="1216"/>
                </a:cubicBezTo>
                <a:cubicBezTo>
                  <a:pt x="727" y="1284"/>
                  <a:pt x="688" y="1353"/>
                  <a:pt x="666" y="1425"/>
                </a:cubicBezTo>
                <a:cubicBezTo>
                  <a:pt x="656" y="1457"/>
                  <a:pt x="656" y="1487"/>
                  <a:pt x="653" y="1519"/>
                </a:cubicBezTo>
                <a:cubicBezTo>
                  <a:pt x="689" y="1524"/>
                  <a:pt x="693" y="1524"/>
                  <a:pt x="726" y="1489"/>
                </a:cubicBezTo>
                <a:cubicBezTo>
                  <a:pt x="803" y="1408"/>
                  <a:pt x="856" y="1292"/>
                  <a:pt x="901" y="1191"/>
                </a:cubicBezTo>
                <a:cubicBezTo>
                  <a:pt x="910" y="1171"/>
                  <a:pt x="920" y="1152"/>
                  <a:pt x="930" y="1135"/>
                </a:cubicBezTo>
                <a:cubicBezTo>
                  <a:pt x="934" y="1164"/>
                  <a:pt x="935" y="1196"/>
                  <a:pt x="939" y="1225"/>
                </a:cubicBezTo>
                <a:cubicBezTo>
                  <a:pt x="948" y="1285"/>
                  <a:pt x="960" y="1342"/>
                  <a:pt x="977" y="1400"/>
                </a:cubicBezTo>
                <a:cubicBezTo>
                  <a:pt x="990" y="1443"/>
                  <a:pt x="998" y="1432"/>
                  <a:pt x="1024" y="1455"/>
                </a:cubicBezTo>
                <a:cubicBezTo>
                  <a:pt x="1061" y="1422"/>
                  <a:pt x="1083" y="1398"/>
                  <a:pt x="1105" y="1349"/>
                </a:cubicBezTo>
                <a:cubicBezTo>
                  <a:pt x="1149" y="1250"/>
                  <a:pt x="1184" y="1138"/>
                  <a:pt x="1208" y="1033"/>
                </a:cubicBezTo>
                <a:cubicBezTo>
                  <a:pt x="1215" y="1003"/>
                  <a:pt x="1216" y="1003"/>
                  <a:pt x="1229" y="982"/>
                </a:cubicBezTo>
                <a:cubicBezTo>
                  <a:pt x="1232" y="1026"/>
                  <a:pt x="1233" y="1069"/>
                  <a:pt x="1233" y="1114"/>
                </a:cubicBezTo>
                <a:cubicBezTo>
                  <a:pt x="1233" y="1193"/>
                  <a:pt x="1238" y="1271"/>
                  <a:pt x="1246" y="1349"/>
                </a:cubicBezTo>
                <a:cubicBezTo>
                  <a:pt x="1250" y="1393"/>
                  <a:pt x="1248" y="1453"/>
                  <a:pt x="1268" y="1494"/>
                </a:cubicBezTo>
                <a:cubicBezTo>
                  <a:pt x="1276" y="1502"/>
                  <a:pt x="1278" y="1504"/>
                  <a:pt x="1285" y="1507"/>
                </a:cubicBezTo>
                <a:cubicBezTo>
                  <a:pt x="1296" y="1470"/>
                  <a:pt x="1309" y="1430"/>
                  <a:pt x="1319" y="1391"/>
                </a:cubicBezTo>
                <a:cubicBezTo>
                  <a:pt x="1341" y="1303"/>
                  <a:pt x="1353" y="1212"/>
                  <a:pt x="1374" y="1123"/>
                </a:cubicBezTo>
                <a:cubicBezTo>
                  <a:pt x="1390" y="1058"/>
                  <a:pt x="1402" y="967"/>
                  <a:pt x="1438" y="909"/>
                </a:cubicBezTo>
                <a:cubicBezTo>
                  <a:pt x="1456" y="892"/>
                  <a:pt x="1460" y="888"/>
                  <a:pt x="1472" y="879"/>
                </a:cubicBezTo>
                <a:cubicBezTo>
                  <a:pt x="1491" y="890"/>
                  <a:pt x="1515" y="919"/>
                  <a:pt x="1532" y="926"/>
                </a:cubicBezTo>
                <a:cubicBezTo>
                  <a:pt x="1559" y="931"/>
                  <a:pt x="1572" y="934"/>
                  <a:pt x="1592" y="939"/>
                </a:cubicBezTo>
              </a:path>
              <a:path w="3539" h="2545">
                <a:moveTo>
                  <a:pt x="1869" y="824"/>
                </a:moveTo>
                <a:cubicBezTo>
                  <a:pt x="1820" y="880"/>
                  <a:pt x="1762" y="940"/>
                  <a:pt x="1728" y="1007"/>
                </a:cubicBezTo>
                <a:cubicBezTo>
                  <a:pt x="1696" y="1069"/>
                  <a:pt x="1659" y="1133"/>
                  <a:pt x="1652" y="1204"/>
                </a:cubicBezTo>
                <a:cubicBezTo>
                  <a:pt x="1648" y="1247"/>
                  <a:pt x="1660" y="1280"/>
                  <a:pt x="1707" y="1272"/>
                </a:cubicBezTo>
                <a:cubicBezTo>
                  <a:pt x="1762" y="1262"/>
                  <a:pt x="1797" y="1217"/>
                  <a:pt x="1827" y="1174"/>
                </a:cubicBezTo>
                <a:cubicBezTo>
                  <a:pt x="1857" y="1131"/>
                  <a:pt x="1874" y="1083"/>
                  <a:pt x="1891" y="1033"/>
                </a:cubicBezTo>
                <a:cubicBezTo>
                  <a:pt x="1896" y="1017"/>
                  <a:pt x="1899" y="1002"/>
                  <a:pt x="1903" y="986"/>
                </a:cubicBezTo>
                <a:cubicBezTo>
                  <a:pt x="1908" y="1012"/>
                  <a:pt x="1909" y="1037"/>
                  <a:pt x="1912" y="1063"/>
                </a:cubicBezTo>
                <a:cubicBezTo>
                  <a:pt x="1916" y="1099"/>
                  <a:pt x="1936" y="1123"/>
                  <a:pt x="1955" y="1152"/>
                </a:cubicBezTo>
              </a:path>
              <a:path w="3539" h="2545">
                <a:moveTo>
                  <a:pt x="2245" y="260"/>
                </a:moveTo>
                <a:cubicBezTo>
                  <a:pt x="2251" y="290"/>
                  <a:pt x="2249" y="307"/>
                  <a:pt x="2253" y="337"/>
                </a:cubicBezTo>
                <a:cubicBezTo>
                  <a:pt x="2265" y="437"/>
                  <a:pt x="2271" y="536"/>
                  <a:pt x="2275" y="636"/>
                </a:cubicBezTo>
                <a:cubicBezTo>
                  <a:pt x="2281" y="777"/>
                  <a:pt x="2272" y="917"/>
                  <a:pt x="2270" y="1058"/>
                </a:cubicBezTo>
                <a:cubicBezTo>
                  <a:pt x="2268" y="1153"/>
                  <a:pt x="2270" y="1249"/>
                  <a:pt x="2270" y="1344"/>
                </a:cubicBezTo>
                <a:cubicBezTo>
                  <a:pt x="2277" y="1275"/>
                  <a:pt x="2297" y="1205"/>
                  <a:pt x="2305" y="1135"/>
                </a:cubicBezTo>
                <a:cubicBezTo>
                  <a:pt x="2323" y="972"/>
                  <a:pt x="2350" y="811"/>
                  <a:pt x="2373" y="649"/>
                </a:cubicBezTo>
              </a:path>
              <a:path w="3539" h="2545">
                <a:moveTo>
                  <a:pt x="2488" y="64"/>
                </a:moveTo>
                <a:cubicBezTo>
                  <a:pt x="2498" y="144"/>
                  <a:pt x="2508" y="223"/>
                  <a:pt x="2518" y="303"/>
                </a:cubicBezTo>
                <a:cubicBezTo>
                  <a:pt x="2536" y="449"/>
                  <a:pt x="2548" y="596"/>
                  <a:pt x="2565" y="743"/>
                </a:cubicBezTo>
                <a:cubicBezTo>
                  <a:pt x="2578" y="858"/>
                  <a:pt x="2589" y="972"/>
                  <a:pt x="2620" y="1084"/>
                </a:cubicBezTo>
                <a:cubicBezTo>
                  <a:pt x="2635" y="1139"/>
                  <a:pt x="2635" y="1119"/>
                  <a:pt x="2667" y="1148"/>
                </a:cubicBezTo>
                <a:cubicBezTo>
                  <a:pt x="2686" y="1110"/>
                  <a:pt x="2694" y="1096"/>
                  <a:pt x="2710" y="1071"/>
                </a:cubicBezTo>
              </a:path>
              <a:path w="3539" h="2545">
                <a:moveTo>
                  <a:pt x="2915" y="627"/>
                </a:moveTo>
                <a:cubicBezTo>
                  <a:pt x="2925" y="647"/>
                  <a:pt x="2927" y="672"/>
                  <a:pt x="2953" y="679"/>
                </a:cubicBezTo>
                <a:cubicBezTo>
                  <a:pt x="2994" y="690"/>
                  <a:pt x="3024" y="663"/>
                  <a:pt x="3051" y="640"/>
                </a:cubicBezTo>
                <a:cubicBezTo>
                  <a:pt x="3091" y="606"/>
                  <a:pt x="3119" y="573"/>
                  <a:pt x="3132" y="521"/>
                </a:cubicBezTo>
                <a:cubicBezTo>
                  <a:pt x="3141" y="485"/>
                  <a:pt x="3136" y="441"/>
                  <a:pt x="3103" y="418"/>
                </a:cubicBezTo>
                <a:cubicBezTo>
                  <a:pt x="3063" y="390"/>
                  <a:pt x="3032" y="411"/>
                  <a:pt x="3004" y="440"/>
                </a:cubicBezTo>
                <a:cubicBezTo>
                  <a:pt x="2943" y="503"/>
                  <a:pt x="2931" y="599"/>
                  <a:pt x="2923" y="683"/>
                </a:cubicBezTo>
                <a:cubicBezTo>
                  <a:pt x="2914" y="776"/>
                  <a:pt x="2915" y="880"/>
                  <a:pt x="2945" y="969"/>
                </a:cubicBezTo>
                <a:cubicBezTo>
                  <a:pt x="2962" y="1020"/>
                  <a:pt x="3001" y="1083"/>
                  <a:pt x="3060" y="1037"/>
                </a:cubicBezTo>
                <a:cubicBezTo>
                  <a:pt x="3119" y="991"/>
                  <a:pt x="3141" y="926"/>
                  <a:pt x="3171" y="862"/>
                </a:cubicBezTo>
              </a:path>
              <a:path w="3539" h="2545">
                <a:moveTo>
                  <a:pt x="3461" y="0"/>
                </a:moveTo>
                <a:cubicBezTo>
                  <a:pt x="3459" y="50"/>
                  <a:pt x="3469" y="106"/>
                  <a:pt x="3474" y="158"/>
                </a:cubicBezTo>
                <a:cubicBezTo>
                  <a:pt x="3485" y="287"/>
                  <a:pt x="3495" y="417"/>
                  <a:pt x="3504" y="546"/>
                </a:cubicBezTo>
                <a:cubicBezTo>
                  <a:pt x="3512" y="662"/>
                  <a:pt x="3532" y="776"/>
                  <a:pt x="3538" y="892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8" name="Freeform 23"/>
          <p:cNvSpPr/>
          <p:nvPr/>
        </p:nvSpPr>
        <p:spPr>
          <a:xfrm>
            <a:off x="6159600" y="5141880"/>
            <a:ext cx="341280" cy="409680"/>
          </a:xfrm>
          <a:custGeom>
            <a:avLst/>
            <a:gdLst/>
            <a:ahLst/>
            <a:rect l="l" t="t" r="r" b="b"/>
            <a:pathLst>
              <a:path w="949" h="1136">
                <a:moveTo>
                  <a:pt x="380" y="76"/>
                </a:moveTo>
                <a:cubicBezTo>
                  <a:pt x="373" y="63"/>
                  <a:pt x="370" y="55"/>
                  <a:pt x="367" y="42"/>
                </a:cubicBezTo>
                <a:cubicBezTo>
                  <a:pt x="364" y="27"/>
                  <a:pt x="357" y="23"/>
                  <a:pt x="354" y="8"/>
                </a:cubicBezTo>
                <a:cubicBezTo>
                  <a:pt x="359" y="32"/>
                  <a:pt x="357" y="31"/>
                  <a:pt x="359" y="55"/>
                </a:cubicBezTo>
                <a:cubicBezTo>
                  <a:pt x="367" y="171"/>
                  <a:pt x="369" y="288"/>
                  <a:pt x="376" y="405"/>
                </a:cubicBezTo>
                <a:cubicBezTo>
                  <a:pt x="387" y="596"/>
                  <a:pt x="401" y="787"/>
                  <a:pt x="423" y="977"/>
                </a:cubicBezTo>
                <a:cubicBezTo>
                  <a:pt x="428" y="1018"/>
                  <a:pt x="452" y="1092"/>
                  <a:pt x="448" y="1135"/>
                </a:cubicBezTo>
                <a:cubicBezTo>
                  <a:pt x="445" y="1131"/>
                  <a:pt x="443" y="1126"/>
                  <a:pt x="440" y="1122"/>
                </a:cubicBezTo>
              </a:path>
              <a:path w="949" h="1136">
                <a:moveTo>
                  <a:pt x="0" y="567"/>
                </a:moveTo>
                <a:cubicBezTo>
                  <a:pt x="24" y="611"/>
                  <a:pt x="14" y="627"/>
                  <a:pt x="77" y="614"/>
                </a:cubicBezTo>
                <a:cubicBezTo>
                  <a:pt x="185" y="591"/>
                  <a:pt x="295" y="515"/>
                  <a:pt x="389" y="460"/>
                </a:cubicBezTo>
                <a:cubicBezTo>
                  <a:pt x="491" y="400"/>
                  <a:pt x="624" y="291"/>
                  <a:pt x="747" y="281"/>
                </a:cubicBezTo>
                <a:cubicBezTo>
                  <a:pt x="804" y="276"/>
                  <a:pt x="814" y="330"/>
                  <a:pt x="815" y="375"/>
                </a:cubicBezTo>
                <a:cubicBezTo>
                  <a:pt x="816" y="465"/>
                  <a:pt x="795" y="560"/>
                  <a:pt x="781" y="648"/>
                </a:cubicBezTo>
                <a:cubicBezTo>
                  <a:pt x="767" y="734"/>
                  <a:pt x="743" y="825"/>
                  <a:pt x="751" y="913"/>
                </a:cubicBezTo>
                <a:cubicBezTo>
                  <a:pt x="756" y="966"/>
                  <a:pt x="771" y="959"/>
                  <a:pt x="794" y="990"/>
                </a:cubicBezTo>
                <a:cubicBezTo>
                  <a:pt x="845" y="965"/>
                  <a:pt x="881" y="924"/>
                  <a:pt x="905" y="870"/>
                </a:cubicBezTo>
                <a:cubicBezTo>
                  <a:pt x="943" y="784"/>
                  <a:pt x="952" y="681"/>
                  <a:pt x="943" y="588"/>
                </a:cubicBezTo>
                <a:cubicBezTo>
                  <a:pt x="936" y="518"/>
                  <a:pt x="915" y="430"/>
                  <a:pt x="849" y="392"/>
                </a:cubicBezTo>
                <a:cubicBezTo>
                  <a:pt x="819" y="374"/>
                  <a:pt x="799" y="413"/>
                  <a:pt x="781" y="431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9" name="Freeform 24"/>
          <p:cNvSpPr/>
          <p:nvPr/>
        </p:nvSpPr>
        <p:spPr>
          <a:xfrm>
            <a:off x="6669000" y="4903920"/>
            <a:ext cx="609840" cy="501480"/>
          </a:xfrm>
          <a:custGeom>
            <a:avLst/>
            <a:gdLst/>
            <a:ahLst/>
            <a:rect l="l" t="t" r="r" b="b"/>
            <a:pathLst>
              <a:path w="1695" h="1392">
                <a:moveTo>
                  <a:pt x="346" y="273"/>
                </a:moveTo>
                <a:cubicBezTo>
                  <a:pt x="351" y="290"/>
                  <a:pt x="356" y="342"/>
                  <a:pt x="358" y="371"/>
                </a:cubicBezTo>
                <a:cubicBezTo>
                  <a:pt x="370" y="539"/>
                  <a:pt x="376" y="707"/>
                  <a:pt x="388" y="875"/>
                </a:cubicBezTo>
                <a:cubicBezTo>
                  <a:pt x="398" y="1012"/>
                  <a:pt x="414" y="1148"/>
                  <a:pt x="427" y="1285"/>
                </a:cubicBezTo>
                <a:cubicBezTo>
                  <a:pt x="428" y="1290"/>
                  <a:pt x="430" y="1422"/>
                  <a:pt x="444" y="1374"/>
                </a:cubicBezTo>
                <a:cubicBezTo>
                  <a:pt x="450" y="1339"/>
                  <a:pt x="450" y="1320"/>
                  <a:pt x="440" y="1293"/>
                </a:cubicBezTo>
              </a:path>
              <a:path w="1695" h="1392">
                <a:moveTo>
                  <a:pt x="0" y="615"/>
                </a:moveTo>
                <a:cubicBezTo>
                  <a:pt x="33" y="675"/>
                  <a:pt x="31" y="709"/>
                  <a:pt x="115" y="721"/>
                </a:cubicBezTo>
                <a:cubicBezTo>
                  <a:pt x="196" y="732"/>
                  <a:pt x="308" y="689"/>
                  <a:pt x="376" y="649"/>
                </a:cubicBezTo>
                <a:cubicBezTo>
                  <a:pt x="484" y="586"/>
                  <a:pt x="575" y="494"/>
                  <a:pt x="657" y="401"/>
                </a:cubicBezTo>
                <a:cubicBezTo>
                  <a:pt x="731" y="317"/>
                  <a:pt x="777" y="230"/>
                  <a:pt x="819" y="128"/>
                </a:cubicBezTo>
                <a:cubicBezTo>
                  <a:pt x="837" y="85"/>
                  <a:pt x="848" y="34"/>
                  <a:pt x="853" y="0"/>
                </a:cubicBezTo>
                <a:cubicBezTo>
                  <a:pt x="842" y="69"/>
                  <a:pt x="836" y="134"/>
                  <a:pt x="836" y="205"/>
                </a:cubicBezTo>
                <a:cubicBezTo>
                  <a:pt x="835" y="350"/>
                  <a:pt x="837" y="495"/>
                  <a:pt x="845" y="640"/>
                </a:cubicBezTo>
                <a:cubicBezTo>
                  <a:pt x="852" y="765"/>
                  <a:pt x="865" y="893"/>
                  <a:pt x="888" y="1016"/>
                </a:cubicBezTo>
                <a:cubicBezTo>
                  <a:pt x="897" y="1062"/>
                  <a:pt x="910" y="1088"/>
                  <a:pt x="926" y="1127"/>
                </a:cubicBezTo>
                <a:cubicBezTo>
                  <a:pt x="946" y="1060"/>
                  <a:pt x="949" y="997"/>
                  <a:pt x="956" y="926"/>
                </a:cubicBezTo>
                <a:cubicBezTo>
                  <a:pt x="964" y="846"/>
                  <a:pt x="976" y="767"/>
                  <a:pt x="977" y="687"/>
                </a:cubicBezTo>
                <a:cubicBezTo>
                  <a:pt x="978" y="654"/>
                  <a:pt x="981" y="634"/>
                  <a:pt x="986" y="602"/>
                </a:cubicBezTo>
                <a:cubicBezTo>
                  <a:pt x="998" y="650"/>
                  <a:pt x="1009" y="705"/>
                  <a:pt x="1024" y="755"/>
                </a:cubicBezTo>
                <a:cubicBezTo>
                  <a:pt x="1041" y="813"/>
                  <a:pt x="1067" y="902"/>
                  <a:pt x="1110" y="947"/>
                </a:cubicBezTo>
                <a:cubicBezTo>
                  <a:pt x="1160" y="1000"/>
                  <a:pt x="1203" y="1003"/>
                  <a:pt x="1267" y="969"/>
                </a:cubicBezTo>
                <a:cubicBezTo>
                  <a:pt x="1396" y="900"/>
                  <a:pt x="1450" y="635"/>
                  <a:pt x="1472" y="508"/>
                </a:cubicBezTo>
                <a:cubicBezTo>
                  <a:pt x="1483" y="442"/>
                  <a:pt x="1470" y="418"/>
                  <a:pt x="1455" y="367"/>
                </a:cubicBezTo>
                <a:cubicBezTo>
                  <a:pt x="1427" y="418"/>
                  <a:pt x="1413" y="457"/>
                  <a:pt x="1400" y="516"/>
                </a:cubicBezTo>
                <a:cubicBezTo>
                  <a:pt x="1378" y="617"/>
                  <a:pt x="1364" y="743"/>
                  <a:pt x="1404" y="841"/>
                </a:cubicBezTo>
                <a:cubicBezTo>
                  <a:pt x="1432" y="909"/>
                  <a:pt x="1472" y="933"/>
                  <a:pt x="1545" y="922"/>
                </a:cubicBezTo>
                <a:cubicBezTo>
                  <a:pt x="1606" y="913"/>
                  <a:pt x="1652" y="850"/>
                  <a:pt x="1694" y="811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Freeform 25"/>
          <p:cNvSpPr/>
          <p:nvPr/>
        </p:nvSpPr>
        <p:spPr>
          <a:xfrm>
            <a:off x="7462800" y="4486320"/>
            <a:ext cx="1521000" cy="701640"/>
          </a:xfrm>
          <a:custGeom>
            <a:avLst/>
            <a:gdLst/>
            <a:ahLst/>
            <a:rect l="l" t="t" r="r" b="b"/>
            <a:pathLst>
              <a:path w="4222" h="1952">
                <a:moveTo>
                  <a:pt x="9" y="500"/>
                </a:moveTo>
                <a:cubicBezTo>
                  <a:pt x="5" y="538"/>
                  <a:pt x="8" y="556"/>
                  <a:pt x="9" y="594"/>
                </a:cubicBezTo>
                <a:cubicBezTo>
                  <a:pt x="15" y="756"/>
                  <a:pt x="34" y="918"/>
                  <a:pt x="51" y="1080"/>
                </a:cubicBezTo>
                <a:cubicBezTo>
                  <a:pt x="73" y="1285"/>
                  <a:pt x="101" y="1491"/>
                  <a:pt x="137" y="1695"/>
                </a:cubicBezTo>
                <a:cubicBezTo>
                  <a:pt x="153" y="1786"/>
                  <a:pt x="176" y="1866"/>
                  <a:pt x="209" y="1951"/>
                </a:cubicBezTo>
                <a:cubicBezTo>
                  <a:pt x="245" y="1906"/>
                  <a:pt x="258" y="1875"/>
                  <a:pt x="273" y="1810"/>
                </a:cubicBezTo>
                <a:cubicBezTo>
                  <a:pt x="299" y="1700"/>
                  <a:pt x="320" y="1589"/>
                  <a:pt x="337" y="1477"/>
                </a:cubicBezTo>
                <a:cubicBezTo>
                  <a:pt x="348" y="1404"/>
                  <a:pt x="340" y="1311"/>
                  <a:pt x="367" y="1242"/>
                </a:cubicBezTo>
                <a:cubicBezTo>
                  <a:pt x="374" y="1223"/>
                  <a:pt x="371" y="1214"/>
                  <a:pt x="384" y="1217"/>
                </a:cubicBezTo>
                <a:cubicBezTo>
                  <a:pt x="407" y="1276"/>
                  <a:pt x="426" y="1333"/>
                  <a:pt x="440" y="1396"/>
                </a:cubicBezTo>
                <a:cubicBezTo>
                  <a:pt x="460" y="1487"/>
                  <a:pt x="480" y="1580"/>
                  <a:pt x="508" y="1669"/>
                </a:cubicBezTo>
                <a:cubicBezTo>
                  <a:pt x="524" y="1718"/>
                  <a:pt x="538" y="1725"/>
                  <a:pt x="564" y="1759"/>
                </a:cubicBezTo>
                <a:cubicBezTo>
                  <a:pt x="606" y="1708"/>
                  <a:pt x="616" y="1680"/>
                  <a:pt x="636" y="1613"/>
                </a:cubicBezTo>
                <a:cubicBezTo>
                  <a:pt x="643" y="1590"/>
                  <a:pt x="650" y="1568"/>
                  <a:pt x="657" y="1545"/>
                </a:cubicBezTo>
              </a:path>
              <a:path w="4222" h="1952">
                <a:moveTo>
                  <a:pt x="824" y="1093"/>
                </a:moveTo>
                <a:cubicBezTo>
                  <a:pt x="816" y="1146"/>
                  <a:pt x="806" y="1202"/>
                  <a:pt x="803" y="1255"/>
                </a:cubicBezTo>
                <a:cubicBezTo>
                  <a:pt x="799" y="1319"/>
                  <a:pt x="788" y="1388"/>
                  <a:pt x="794" y="1451"/>
                </a:cubicBezTo>
                <a:cubicBezTo>
                  <a:pt x="798" y="1494"/>
                  <a:pt x="802" y="1549"/>
                  <a:pt x="824" y="1588"/>
                </a:cubicBezTo>
                <a:cubicBezTo>
                  <a:pt x="840" y="1617"/>
                  <a:pt x="858" y="1638"/>
                  <a:pt x="888" y="1652"/>
                </a:cubicBezTo>
                <a:cubicBezTo>
                  <a:pt x="913" y="1663"/>
                  <a:pt x="942" y="1652"/>
                  <a:pt x="956" y="1626"/>
                </a:cubicBezTo>
                <a:cubicBezTo>
                  <a:pt x="984" y="1574"/>
                  <a:pt x="986" y="1512"/>
                  <a:pt x="977" y="1456"/>
                </a:cubicBezTo>
                <a:cubicBezTo>
                  <a:pt x="964" y="1375"/>
                  <a:pt x="941" y="1293"/>
                  <a:pt x="892" y="1225"/>
                </a:cubicBezTo>
                <a:cubicBezTo>
                  <a:pt x="872" y="1197"/>
                  <a:pt x="821" y="1134"/>
                  <a:pt x="781" y="1131"/>
                </a:cubicBezTo>
                <a:cubicBezTo>
                  <a:pt x="736" y="1127"/>
                  <a:pt x="774" y="1149"/>
                  <a:pt x="781" y="1161"/>
                </a:cubicBezTo>
              </a:path>
              <a:path w="4222" h="1952">
                <a:moveTo>
                  <a:pt x="1212" y="1071"/>
                </a:moveTo>
                <a:cubicBezTo>
                  <a:pt x="1212" y="1123"/>
                  <a:pt x="1222" y="1176"/>
                  <a:pt x="1234" y="1229"/>
                </a:cubicBezTo>
                <a:cubicBezTo>
                  <a:pt x="1249" y="1298"/>
                  <a:pt x="1267" y="1363"/>
                  <a:pt x="1289" y="1430"/>
                </a:cubicBezTo>
                <a:cubicBezTo>
                  <a:pt x="1301" y="1466"/>
                  <a:pt x="1314" y="1501"/>
                  <a:pt x="1327" y="1537"/>
                </a:cubicBezTo>
                <a:cubicBezTo>
                  <a:pt x="1326" y="1514"/>
                  <a:pt x="1325" y="1491"/>
                  <a:pt x="1323" y="1468"/>
                </a:cubicBezTo>
                <a:cubicBezTo>
                  <a:pt x="1318" y="1394"/>
                  <a:pt x="1316" y="1320"/>
                  <a:pt x="1319" y="1246"/>
                </a:cubicBezTo>
                <a:cubicBezTo>
                  <a:pt x="1321" y="1176"/>
                  <a:pt x="1321" y="1092"/>
                  <a:pt x="1344" y="1025"/>
                </a:cubicBezTo>
                <a:cubicBezTo>
                  <a:pt x="1356" y="989"/>
                  <a:pt x="1380" y="955"/>
                  <a:pt x="1409" y="931"/>
                </a:cubicBezTo>
                <a:cubicBezTo>
                  <a:pt x="1442" y="904"/>
                  <a:pt x="1487" y="888"/>
                  <a:pt x="1524" y="867"/>
                </a:cubicBezTo>
              </a:path>
              <a:path w="4222" h="1952">
                <a:moveTo>
                  <a:pt x="1724" y="739"/>
                </a:moveTo>
                <a:cubicBezTo>
                  <a:pt x="1733" y="817"/>
                  <a:pt x="1731" y="894"/>
                  <a:pt x="1737" y="973"/>
                </a:cubicBezTo>
                <a:cubicBezTo>
                  <a:pt x="1742" y="1049"/>
                  <a:pt x="1746" y="1130"/>
                  <a:pt x="1767" y="1204"/>
                </a:cubicBezTo>
                <a:cubicBezTo>
                  <a:pt x="1777" y="1229"/>
                  <a:pt x="1777" y="1233"/>
                  <a:pt x="1784" y="1246"/>
                </a:cubicBezTo>
                <a:cubicBezTo>
                  <a:pt x="1782" y="1209"/>
                  <a:pt x="1783" y="1181"/>
                  <a:pt x="1780" y="1140"/>
                </a:cubicBezTo>
              </a:path>
              <a:path w="4222" h="1952">
                <a:moveTo>
                  <a:pt x="1660" y="0"/>
                </a:moveTo>
                <a:cubicBezTo>
                  <a:pt x="1656" y="77"/>
                  <a:pt x="1661" y="161"/>
                  <a:pt x="1677" y="239"/>
                </a:cubicBezTo>
                <a:cubicBezTo>
                  <a:pt x="1689" y="298"/>
                  <a:pt x="1706" y="354"/>
                  <a:pt x="1746" y="397"/>
                </a:cubicBezTo>
              </a:path>
              <a:path w="4222" h="1952">
                <a:moveTo>
                  <a:pt x="1968" y="623"/>
                </a:moveTo>
                <a:cubicBezTo>
                  <a:pt x="1968" y="611"/>
                  <a:pt x="1971" y="609"/>
                  <a:pt x="1963" y="606"/>
                </a:cubicBezTo>
              </a:path>
              <a:path w="4222" h="1952">
                <a:moveTo>
                  <a:pt x="1980" y="704"/>
                </a:moveTo>
                <a:cubicBezTo>
                  <a:pt x="1979" y="712"/>
                  <a:pt x="1977" y="721"/>
                  <a:pt x="1976" y="730"/>
                </a:cubicBezTo>
                <a:cubicBezTo>
                  <a:pt x="1985" y="721"/>
                  <a:pt x="1983" y="717"/>
                  <a:pt x="1993" y="709"/>
                </a:cubicBezTo>
                <a:cubicBezTo>
                  <a:pt x="2043" y="668"/>
                  <a:pt x="2097" y="630"/>
                  <a:pt x="2151" y="594"/>
                </a:cubicBezTo>
                <a:cubicBezTo>
                  <a:pt x="2207" y="557"/>
                  <a:pt x="2264" y="528"/>
                  <a:pt x="2326" y="504"/>
                </a:cubicBezTo>
                <a:cubicBezTo>
                  <a:pt x="2360" y="490"/>
                  <a:pt x="2387" y="489"/>
                  <a:pt x="2399" y="530"/>
                </a:cubicBezTo>
                <a:cubicBezTo>
                  <a:pt x="2412" y="576"/>
                  <a:pt x="2392" y="668"/>
                  <a:pt x="2381" y="713"/>
                </a:cubicBezTo>
                <a:cubicBezTo>
                  <a:pt x="2359" y="803"/>
                  <a:pt x="2330" y="891"/>
                  <a:pt x="2313" y="982"/>
                </a:cubicBezTo>
                <a:cubicBezTo>
                  <a:pt x="2303" y="1038"/>
                  <a:pt x="2293" y="1100"/>
                  <a:pt x="2300" y="1157"/>
                </a:cubicBezTo>
                <a:cubicBezTo>
                  <a:pt x="2304" y="1187"/>
                  <a:pt x="2322" y="1205"/>
                  <a:pt x="2352" y="1204"/>
                </a:cubicBezTo>
                <a:cubicBezTo>
                  <a:pt x="2391" y="1203"/>
                  <a:pt x="2427" y="1132"/>
                  <a:pt x="2445" y="1106"/>
                </a:cubicBezTo>
                <a:cubicBezTo>
                  <a:pt x="2489" y="1043"/>
                  <a:pt x="2530" y="967"/>
                  <a:pt x="2561" y="897"/>
                </a:cubicBezTo>
                <a:cubicBezTo>
                  <a:pt x="2582" y="838"/>
                  <a:pt x="2589" y="818"/>
                  <a:pt x="2608" y="781"/>
                </a:cubicBezTo>
              </a:path>
              <a:path w="4222" h="1952">
                <a:moveTo>
                  <a:pt x="2117" y="798"/>
                </a:moveTo>
                <a:cubicBezTo>
                  <a:pt x="2114" y="812"/>
                  <a:pt x="2115" y="818"/>
                  <a:pt x="2104" y="815"/>
                </a:cubicBezTo>
                <a:cubicBezTo>
                  <a:pt x="2133" y="811"/>
                  <a:pt x="2163" y="816"/>
                  <a:pt x="2194" y="811"/>
                </a:cubicBezTo>
                <a:cubicBezTo>
                  <a:pt x="2260" y="801"/>
                  <a:pt x="2344" y="781"/>
                  <a:pt x="2403" y="751"/>
                </a:cubicBezTo>
                <a:cubicBezTo>
                  <a:pt x="2467" y="709"/>
                  <a:pt x="2488" y="695"/>
                  <a:pt x="2535" y="675"/>
                </a:cubicBezTo>
              </a:path>
              <a:path w="4222" h="1952">
                <a:moveTo>
                  <a:pt x="2825" y="427"/>
                </a:moveTo>
                <a:cubicBezTo>
                  <a:pt x="2796" y="475"/>
                  <a:pt x="2766" y="503"/>
                  <a:pt x="2770" y="564"/>
                </a:cubicBezTo>
                <a:cubicBezTo>
                  <a:pt x="2774" y="620"/>
                  <a:pt x="2799" y="679"/>
                  <a:pt x="2834" y="722"/>
                </a:cubicBezTo>
                <a:cubicBezTo>
                  <a:pt x="2863" y="758"/>
                  <a:pt x="2917" y="807"/>
                  <a:pt x="2966" y="811"/>
                </a:cubicBezTo>
                <a:cubicBezTo>
                  <a:pt x="3013" y="815"/>
                  <a:pt x="3028" y="806"/>
                  <a:pt x="3047" y="764"/>
                </a:cubicBezTo>
                <a:cubicBezTo>
                  <a:pt x="3065" y="726"/>
                  <a:pt x="3043" y="627"/>
                  <a:pt x="3034" y="589"/>
                </a:cubicBezTo>
                <a:cubicBezTo>
                  <a:pt x="3015" y="503"/>
                  <a:pt x="2969" y="426"/>
                  <a:pt x="2945" y="342"/>
                </a:cubicBezTo>
                <a:cubicBezTo>
                  <a:pt x="2945" y="339"/>
                  <a:pt x="2945" y="336"/>
                  <a:pt x="2945" y="333"/>
                </a:cubicBezTo>
                <a:cubicBezTo>
                  <a:pt x="2963" y="333"/>
                  <a:pt x="2985" y="334"/>
                  <a:pt x="3005" y="333"/>
                </a:cubicBezTo>
                <a:cubicBezTo>
                  <a:pt x="3046" y="331"/>
                  <a:pt x="3084" y="325"/>
                  <a:pt x="3124" y="316"/>
                </a:cubicBezTo>
                <a:cubicBezTo>
                  <a:pt x="3185" y="302"/>
                  <a:pt x="3237" y="290"/>
                  <a:pt x="3286" y="337"/>
                </a:cubicBezTo>
                <a:cubicBezTo>
                  <a:pt x="3338" y="386"/>
                  <a:pt x="3367" y="464"/>
                  <a:pt x="3389" y="530"/>
                </a:cubicBezTo>
                <a:cubicBezTo>
                  <a:pt x="3411" y="597"/>
                  <a:pt x="3430" y="677"/>
                  <a:pt x="3440" y="747"/>
                </a:cubicBezTo>
                <a:cubicBezTo>
                  <a:pt x="3444" y="773"/>
                  <a:pt x="3445" y="783"/>
                  <a:pt x="3453" y="807"/>
                </a:cubicBezTo>
                <a:cubicBezTo>
                  <a:pt x="3457" y="770"/>
                  <a:pt x="3457" y="730"/>
                  <a:pt x="3461" y="692"/>
                </a:cubicBezTo>
                <a:cubicBezTo>
                  <a:pt x="3472" y="594"/>
                  <a:pt x="3484" y="499"/>
                  <a:pt x="3504" y="402"/>
                </a:cubicBezTo>
                <a:cubicBezTo>
                  <a:pt x="3523" y="310"/>
                  <a:pt x="3551" y="221"/>
                  <a:pt x="3593" y="137"/>
                </a:cubicBezTo>
                <a:cubicBezTo>
                  <a:pt x="3615" y="93"/>
                  <a:pt x="3647" y="32"/>
                  <a:pt x="3700" y="77"/>
                </a:cubicBezTo>
                <a:cubicBezTo>
                  <a:pt x="3756" y="125"/>
                  <a:pt x="3798" y="221"/>
                  <a:pt x="3828" y="286"/>
                </a:cubicBezTo>
                <a:cubicBezTo>
                  <a:pt x="3867" y="371"/>
                  <a:pt x="3900" y="459"/>
                  <a:pt x="3931" y="547"/>
                </a:cubicBezTo>
                <a:cubicBezTo>
                  <a:pt x="3932" y="551"/>
                  <a:pt x="3953" y="643"/>
                  <a:pt x="3952" y="602"/>
                </a:cubicBezTo>
                <a:cubicBezTo>
                  <a:pt x="3952" y="578"/>
                  <a:pt x="3950" y="565"/>
                  <a:pt x="3943" y="547"/>
                </a:cubicBezTo>
              </a:path>
              <a:path w="4222" h="1952">
                <a:moveTo>
                  <a:pt x="3977" y="389"/>
                </a:moveTo>
                <a:cubicBezTo>
                  <a:pt x="3992" y="443"/>
                  <a:pt x="3993" y="491"/>
                  <a:pt x="4012" y="542"/>
                </a:cubicBezTo>
              </a:path>
              <a:path w="4222" h="1952">
                <a:moveTo>
                  <a:pt x="4127" y="367"/>
                </a:moveTo>
                <a:cubicBezTo>
                  <a:pt x="4149" y="378"/>
                  <a:pt x="4167" y="373"/>
                  <a:pt x="4182" y="393"/>
                </a:cubicBezTo>
                <a:cubicBezTo>
                  <a:pt x="4196" y="412"/>
                  <a:pt x="4199" y="431"/>
                  <a:pt x="4204" y="453"/>
                </a:cubicBezTo>
                <a:cubicBezTo>
                  <a:pt x="4209" y="473"/>
                  <a:pt x="4202" y="491"/>
                  <a:pt x="4221" y="478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1" name="Freeform 26"/>
          <p:cNvSpPr/>
          <p:nvPr/>
        </p:nvSpPr>
        <p:spPr>
          <a:xfrm>
            <a:off x="2759040" y="5229360"/>
            <a:ext cx="2120760" cy="225360"/>
          </a:xfrm>
          <a:custGeom>
            <a:avLst/>
            <a:gdLst/>
            <a:ahLst/>
            <a:rect l="l" t="t" r="r" b="b"/>
            <a:pathLst>
              <a:path w="5890" h="628">
                <a:moveTo>
                  <a:pt x="244" y="162"/>
                </a:moveTo>
                <a:cubicBezTo>
                  <a:pt x="204" y="184"/>
                  <a:pt x="163" y="201"/>
                  <a:pt x="124" y="226"/>
                </a:cubicBezTo>
                <a:cubicBezTo>
                  <a:pt x="83" y="252"/>
                  <a:pt x="-27" y="259"/>
                  <a:pt x="0" y="299"/>
                </a:cubicBezTo>
                <a:cubicBezTo>
                  <a:pt x="7" y="309"/>
                  <a:pt x="52" y="298"/>
                  <a:pt x="60" y="299"/>
                </a:cubicBezTo>
                <a:cubicBezTo>
                  <a:pt x="670" y="373"/>
                  <a:pt x="1404" y="229"/>
                  <a:pt x="2015" y="192"/>
                </a:cubicBezTo>
                <a:cubicBezTo>
                  <a:pt x="2405" y="169"/>
                  <a:pt x="2794" y="142"/>
                  <a:pt x="3184" y="115"/>
                </a:cubicBezTo>
                <a:cubicBezTo>
                  <a:pt x="3707" y="79"/>
                  <a:pt x="4231" y="45"/>
                  <a:pt x="4754" y="21"/>
                </a:cubicBezTo>
                <a:cubicBezTo>
                  <a:pt x="4950" y="12"/>
                  <a:pt x="5147" y="1"/>
                  <a:pt x="5343" y="0"/>
                </a:cubicBezTo>
                <a:cubicBezTo>
                  <a:pt x="5391" y="0"/>
                  <a:pt x="5440" y="3"/>
                  <a:pt x="5488" y="4"/>
                </a:cubicBezTo>
                <a:cubicBezTo>
                  <a:pt x="5411" y="13"/>
                  <a:pt x="5332" y="23"/>
                  <a:pt x="5254" y="30"/>
                </a:cubicBezTo>
                <a:cubicBezTo>
                  <a:pt x="4654" y="83"/>
                  <a:pt x="4050" y="105"/>
                  <a:pt x="3449" y="141"/>
                </a:cubicBezTo>
                <a:cubicBezTo>
                  <a:pt x="2841" y="177"/>
                  <a:pt x="2235" y="239"/>
                  <a:pt x="1631" y="316"/>
                </a:cubicBezTo>
                <a:cubicBezTo>
                  <a:pt x="1447" y="339"/>
                  <a:pt x="1250" y="364"/>
                  <a:pt x="1076" y="401"/>
                </a:cubicBezTo>
                <a:cubicBezTo>
                  <a:pt x="1200" y="404"/>
                  <a:pt x="1322" y="403"/>
                  <a:pt x="1447" y="397"/>
                </a:cubicBezTo>
                <a:cubicBezTo>
                  <a:pt x="2643" y="341"/>
                  <a:pt x="3837" y="231"/>
                  <a:pt x="5032" y="158"/>
                </a:cubicBezTo>
                <a:cubicBezTo>
                  <a:pt x="5269" y="144"/>
                  <a:pt x="5507" y="130"/>
                  <a:pt x="5744" y="119"/>
                </a:cubicBezTo>
                <a:cubicBezTo>
                  <a:pt x="5775" y="118"/>
                  <a:pt x="5807" y="116"/>
                  <a:pt x="5838" y="115"/>
                </a:cubicBezTo>
                <a:cubicBezTo>
                  <a:pt x="5779" y="121"/>
                  <a:pt x="5821" y="120"/>
                  <a:pt x="5761" y="124"/>
                </a:cubicBezTo>
                <a:cubicBezTo>
                  <a:pt x="5099" y="170"/>
                  <a:pt x="4435" y="194"/>
                  <a:pt x="3773" y="234"/>
                </a:cubicBezTo>
                <a:cubicBezTo>
                  <a:pt x="3289" y="263"/>
                  <a:pt x="2805" y="299"/>
                  <a:pt x="2322" y="345"/>
                </a:cubicBezTo>
                <a:cubicBezTo>
                  <a:pt x="1689" y="406"/>
                  <a:pt x="1008" y="436"/>
                  <a:pt x="393" y="614"/>
                </a:cubicBezTo>
                <a:cubicBezTo>
                  <a:pt x="390" y="617"/>
                  <a:pt x="388" y="620"/>
                  <a:pt x="385" y="623"/>
                </a:cubicBezTo>
                <a:cubicBezTo>
                  <a:pt x="531" y="625"/>
                  <a:pt x="674" y="621"/>
                  <a:pt x="820" y="610"/>
                </a:cubicBezTo>
                <a:cubicBezTo>
                  <a:pt x="1286" y="576"/>
                  <a:pt x="1750" y="525"/>
                  <a:pt x="2215" y="482"/>
                </a:cubicBezTo>
                <a:cubicBezTo>
                  <a:pt x="3109" y="400"/>
                  <a:pt x="4004" y="326"/>
                  <a:pt x="4899" y="252"/>
                </a:cubicBezTo>
                <a:cubicBezTo>
                  <a:pt x="5226" y="225"/>
                  <a:pt x="5553" y="194"/>
                  <a:pt x="5881" y="175"/>
                </a:cubicBezTo>
                <a:cubicBezTo>
                  <a:pt x="5868" y="176"/>
                  <a:pt x="5856" y="178"/>
                  <a:pt x="5843" y="179"/>
                </a:cubicBezTo>
                <a:cubicBezTo>
                  <a:pt x="5574" y="201"/>
                  <a:pt x="5305" y="222"/>
                  <a:pt x="5036" y="243"/>
                </a:cubicBezTo>
                <a:cubicBezTo>
                  <a:pt x="3755" y="344"/>
                  <a:pt x="2472" y="402"/>
                  <a:pt x="1187" y="409"/>
                </a:cubicBezTo>
                <a:cubicBezTo>
                  <a:pt x="965" y="410"/>
                  <a:pt x="742" y="404"/>
                  <a:pt x="521" y="392"/>
                </a:cubicBezTo>
                <a:cubicBezTo>
                  <a:pt x="596" y="382"/>
                  <a:pt x="722" y="365"/>
                  <a:pt x="807" y="358"/>
                </a:cubicBezTo>
                <a:cubicBezTo>
                  <a:pt x="2476" y="227"/>
                  <a:pt x="4148" y="195"/>
                  <a:pt x="5821" y="149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2" name="Freeform 27"/>
          <p:cNvSpPr/>
          <p:nvPr/>
        </p:nvSpPr>
        <p:spPr>
          <a:xfrm>
            <a:off x="2343240" y="6251400"/>
            <a:ext cx="3022560" cy="185760"/>
          </a:xfrm>
          <a:custGeom>
            <a:avLst/>
            <a:gdLst/>
            <a:ahLst/>
            <a:rect l="l" t="t" r="r" b="b"/>
            <a:pathLst>
              <a:path w="8399" h="517">
                <a:moveTo>
                  <a:pt x="550" y="439"/>
                </a:moveTo>
                <a:cubicBezTo>
                  <a:pt x="646" y="433"/>
                  <a:pt x="744" y="425"/>
                  <a:pt x="841" y="422"/>
                </a:cubicBezTo>
                <a:cubicBezTo>
                  <a:pt x="1066" y="414"/>
                  <a:pt x="1290" y="416"/>
                  <a:pt x="1515" y="405"/>
                </a:cubicBezTo>
                <a:cubicBezTo>
                  <a:pt x="3423" y="315"/>
                  <a:pt x="5412" y="-44"/>
                  <a:pt x="7319" y="136"/>
                </a:cubicBezTo>
                <a:cubicBezTo>
                  <a:pt x="7330" y="139"/>
                  <a:pt x="7342" y="142"/>
                  <a:pt x="7353" y="145"/>
                </a:cubicBezTo>
                <a:cubicBezTo>
                  <a:pt x="7218" y="161"/>
                  <a:pt x="7078" y="179"/>
                  <a:pt x="6939" y="187"/>
                </a:cubicBezTo>
                <a:cubicBezTo>
                  <a:pt x="6508" y="212"/>
                  <a:pt x="6078" y="235"/>
                  <a:pt x="5646" y="243"/>
                </a:cubicBezTo>
                <a:cubicBezTo>
                  <a:pt x="4131" y="271"/>
                  <a:pt x="2635" y="356"/>
                  <a:pt x="1127" y="495"/>
                </a:cubicBezTo>
                <a:cubicBezTo>
                  <a:pt x="1055" y="506"/>
                  <a:pt x="908" y="520"/>
                  <a:pt x="1084" y="503"/>
                </a:cubicBezTo>
                <a:cubicBezTo>
                  <a:pt x="1851" y="428"/>
                  <a:pt x="2619" y="362"/>
                  <a:pt x="3388" y="303"/>
                </a:cubicBezTo>
                <a:cubicBezTo>
                  <a:pt x="5010" y="179"/>
                  <a:pt x="6639" y="110"/>
                  <a:pt x="8266" y="89"/>
                </a:cubicBezTo>
                <a:cubicBezTo>
                  <a:pt x="8340" y="86"/>
                  <a:pt x="8354" y="83"/>
                  <a:pt x="8398" y="89"/>
                </a:cubicBezTo>
                <a:cubicBezTo>
                  <a:pt x="8176" y="97"/>
                  <a:pt x="7954" y="103"/>
                  <a:pt x="7733" y="115"/>
                </a:cubicBezTo>
                <a:cubicBezTo>
                  <a:pt x="5381" y="238"/>
                  <a:pt x="2952" y="526"/>
                  <a:pt x="597" y="388"/>
                </a:cubicBezTo>
                <a:cubicBezTo>
                  <a:pt x="586" y="385"/>
                  <a:pt x="574" y="382"/>
                  <a:pt x="563" y="379"/>
                </a:cubicBezTo>
                <a:cubicBezTo>
                  <a:pt x="702" y="345"/>
                  <a:pt x="837" y="309"/>
                  <a:pt x="986" y="290"/>
                </a:cubicBezTo>
                <a:cubicBezTo>
                  <a:pt x="2691" y="78"/>
                  <a:pt x="4429" y="51"/>
                  <a:pt x="6145" y="25"/>
                </a:cubicBezTo>
                <a:cubicBezTo>
                  <a:pt x="6684" y="17"/>
                  <a:pt x="7223" y="12"/>
                  <a:pt x="7762" y="17"/>
                </a:cubicBezTo>
                <a:cubicBezTo>
                  <a:pt x="7906" y="13"/>
                  <a:pt x="8336" y="15"/>
                  <a:pt x="8193" y="4"/>
                </a:cubicBezTo>
                <a:cubicBezTo>
                  <a:pt x="8042" y="-7"/>
                  <a:pt x="7888" y="5"/>
                  <a:pt x="7737" y="8"/>
                </a:cubicBezTo>
                <a:cubicBezTo>
                  <a:pt x="6869" y="24"/>
                  <a:pt x="6000" y="93"/>
                  <a:pt x="5134" y="153"/>
                </a:cubicBezTo>
                <a:cubicBezTo>
                  <a:pt x="3560" y="262"/>
                  <a:pt x="1989" y="403"/>
                  <a:pt x="414" y="495"/>
                </a:cubicBezTo>
                <a:cubicBezTo>
                  <a:pt x="276" y="503"/>
                  <a:pt x="132" y="503"/>
                  <a:pt x="0" y="503"/>
                </a:cubicBezTo>
                <a:cubicBezTo>
                  <a:pt x="467" y="397"/>
                  <a:pt x="953" y="361"/>
                  <a:pt x="1430" y="324"/>
                </a:cubicBezTo>
                <a:cubicBezTo>
                  <a:pt x="3644" y="151"/>
                  <a:pt x="5889" y="297"/>
                  <a:pt x="8095" y="68"/>
                </a:cubicBezTo>
                <a:cubicBezTo>
                  <a:pt x="8122" y="64"/>
                  <a:pt x="8149" y="59"/>
                  <a:pt x="8176" y="55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3" name="Freeform 28"/>
          <p:cNvSpPr/>
          <p:nvPr/>
        </p:nvSpPr>
        <p:spPr>
          <a:xfrm>
            <a:off x="2692440" y="5192640"/>
            <a:ext cx="2325600" cy="184320"/>
          </a:xfrm>
          <a:custGeom>
            <a:avLst/>
            <a:gdLst/>
            <a:ahLst/>
            <a:rect l="l" t="t" r="r" b="b"/>
            <a:pathLst>
              <a:path w="6462" h="513">
                <a:moveTo>
                  <a:pt x="298" y="504"/>
                </a:moveTo>
                <a:cubicBezTo>
                  <a:pt x="240" y="494"/>
                  <a:pt x="182" y="484"/>
                  <a:pt x="123" y="474"/>
                </a:cubicBezTo>
                <a:cubicBezTo>
                  <a:pt x="82" y="467"/>
                  <a:pt x="40" y="460"/>
                  <a:pt x="0" y="453"/>
                </a:cubicBezTo>
                <a:cubicBezTo>
                  <a:pt x="33" y="453"/>
                  <a:pt x="76" y="452"/>
                  <a:pt x="111" y="453"/>
                </a:cubicBezTo>
                <a:cubicBezTo>
                  <a:pt x="597" y="461"/>
                  <a:pt x="1089" y="449"/>
                  <a:pt x="1574" y="410"/>
                </a:cubicBezTo>
                <a:cubicBezTo>
                  <a:pt x="2255" y="355"/>
                  <a:pt x="2934" y="281"/>
                  <a:pt x="3614" y="222"/>
                </a:cubicBezTo>
                <a:cubicBezTo>
                  <a:pt x="4359" y="157"/>
                  <a:pt x="5106" y="158"/>
                  <a:pt x="5850" y="103"/>
                </a:cubicBezTo>
                <a:cubicBezTo>
                  <a:pt x="5863" y="99"/>
                  <a:pt x="5867" y="98"/>
                  <a:pt x="5850" y="94"/>
                </a:cubicBezTo>
                <a:cubicBezTo>
                  <a:pt x="5760" y="92"/>
                  <a:pt x="5671" y="87"/>
                  <a:pt x="5581" y="86"/>
                </a:cubicBezTo>
                <a:cubicBezTo>
                  <a:pt x="5382" y="83"/>
                  <a:pt x="5183" y="88"/>
                  <a:pt x="4984" y="94"/>
                </a:cubicBezTo>
                <a:cubicBezTo>
                  <a:pt x="4185" y="120"/>
                  <a:pt x="3330" y="95"/>
                  <a:pt x="2543" y="248"/>
                </a:cubicBezTo>
                <a:cubicBezTo>
                  <a:pt x="2536" y="251"/>
                  <a:pt x="2529" y="253"/>
                  <a:pt x="2522" y="256"/>
                </a:cubicBezTo>
                <a:cubicBezTo>
                  <a:pt x="2627" y="263"/>
                  <a:pt x="2729" y="272"/>
                  <a:pt x="2838" y="269"/>
                </a:cubicBezTo>
                <a:cubicBezTo>
                  <a:pt x="3676" y="243"/>
                  <a:pt x="4516" y="151"/>
                  <a:pt x="5351" y="81"/>
                </a:cubicBezTo>
                <a:cubicBezTo>
                  <a:pt x="5625" y="58"/>
                  <a:pt x="5901" y="48"/>
                  <a:pt x="6175" y="22"/>
                </a:cubicBezTo>
                <a:cubicBezTo>
                  <a:pt x="6271" y="13"/>
                  <a:pt x="6365" y="5"/>
                  <a:pt x="6461" y="0"/>
                </a:cubicBezTo>
                <a:cubicBezTo>
                  <a:pt x="6371" y="22"/>
                  <a:pt x="6278" y="45"/>
                  <a:pt x="6183" y="60"/>
                </a:cubicBezTo>
                <a:cubicBezTo>
                  <a:pt x="5499" y="166"/>
                  <a:pt x="4794" y="301"/>
                  <a:pt x="4101" y="316"/>
                </a:cubicBezTo>
                <a:cubicBezTo>
                  <a:pt x="4098" y="315"/>
                  <a:pt x="4095" y="313"/>
                  <a:pt x="4092" y="312"/>
                </a:cubicBezTo>
                <a:cubicBezTo>
                  <a:pt x="4191" y="296"/>
                  <a:pt x="4291" y="280"/>
                  <a:pt x="4391" y="265"/>
                </a:cubicBezTo>
                <a:cubicBezTo>
                  <a:pt x="4964" y="181"/>
                  <a:pt x="5540" y="116"/>
                  <a:pt x="6115" y="47"/>
                </a:cubicBezTo>
                <a:cubicBezTo>
                  <a:pt x="6180" y="39"/>
                  <a:pt x="6246" y="30"/>
                  <a:pt x="6311" y="22"/>
                </a:cubicBezTo>
                <a:cubicBezTo>
                  <a:pt x="6148" y="46"/>
                  <a:pt x="5984" y="68"/>
                  <a:pt x="5820" y="90"/>
                </a:cubicBezTo>
                <a:cubicBezTo>
                  <a:pt x="4268" y="303"/>
                  <a:pt x="2668" y="476"/>
                  <a:pt x="1101" y="504"/>
                </a:cubicBezTo>
                <a:cubicBezTo>
                  <a:pt x="972" y="506"/>
                  <a:pt x="844" y="524"/>
                  <a:pt x="721" y="491"/>
                </a:cubicBezTo>
                <a:cubicBezTo>
                  <a:pt x="720" y="485"/>
                  <a:pt x="718" y="480"/>
                  <a:pt x="717" y="474"/>
                </a:cubicBez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Freeform 29"/>
          <p:cNvSpPr/>
          <p:nvPr/>
        </p:nvSpPr>
        <p:spPr>
          <a:xfrm>
            <a:off x="1538280" y="44132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me holds true for geometric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5808600" y="1562040"/>
            <a:ext cx="1955880" cy="1074960"/>
          </a:xfrm>
          <a:custGeom>
            <a:avLst/>
            <a:gdLst/>
            <a:ahLst/>
            <a:rect l="l" t="t" r="r" b="b"/>
            <a:pathLst>
              <a:path w="5434" h="2983">
                <a:moveTo>
                  <a:pt x="1464" y="780"/>
                </a:moveTo>
                <a:cubicBezTo>
                  <a:pt x="1447" y="786"/>
                  <a:pt x="1424" y="791"/>
                  <a:pt x="1404" y="798"/>
                </a:cubicBezTo>
                <a:cubicBezTo>
                  <a:pt x="1344" y="819"/>
                  <a:pt x="1302" y="847"/>
                  <a:pt x="1251" y="887"/>
                </a:cubicBezTo>
                <a:cubicBezTo>
                  <a:pt x="1142" y="972"/>
                  <a:pt x="1064" y="1077"/>
                  <a:pt x="986" y="1190"/>
                </a:cubicBezTo>
                <a:cubicBezTo>
                  <a:pt x="827" y="1420"/>
                  <a:pt x="687" y="1663"/>
                  <a:pt x="559" y="1911"/>
                </a:cubicBezTo>
                <a:cubicBezTo>
                  <a:pt x="440" y="2143"/>
                  <a:pt x="302" y="2396"/>
                  <a:pt x="235" y="2650"/>
                </a:cubicBezTo>
                <a:cubicBezTo>
                  <a:pt x="228" y="2678"/>
                  <a:pt x="225" y="2714"/>
                  <a:pt x="214" y="2739"/>
                </a:cubicBezTo>
                <a:cubicBezTo>
                  <a:pt x="206" y="2743"/>
                  <a:pt x="204" y="2743"/>
                  <a:pt x="201" y="2748"/>
                </a:cubicBezTo>
              </a:path>
              <a:path w="5434" h="2983">
                <a:moveTo>
                  <a:pt x="0" y="2347"/>
                </a:moveTo>
                <a:cubicBezTo>
                  <a:pt x="22" y="2407"/>
                  <a:pt x="47" y="2464"/>
                  <a:pt x="64" y="2526"/>
                </a:cubicBezTo>
                <a:cubicBezTo>
                  <a:pt x="86" y="2607"/>
                  <a:pt x="99" y="2694"/>
                  <a:pt x="98" y="2778"/>
                </a:cubicBezTo>
                <a:cubicBezTo>
                  <a:pt x="97" y="2846"/>
                  <a:pt x="86" y="2915"/>
                  <a:pt x="77" y="2982"/>
                </a:cubicBezTo>
                <a:cubicBezTo>
                  <a:pt x="99" y="2964"/>
                  <a:pt x="120" y="2936"/>
                  <a:pt x="141" y="2914"/>
                </a:cubicBezTo>
                <a:cubicBezTo>
                  <a:pt x="218" y="2833"/>
                  <a:pt x="290" y="2751"/>
                  <a:pt x="372" y="2675"/>
                </a:cubicBezTo>
              </a:path>
              <a:path w="5434" h="2983">
                <a:moveTo>
                  <a:pt x="1857" y="4"/>
                </a:moveTo>
                <a:cubicBezTo>
                  <a:pt x="1856" y="7"/>
                  <a:pt x="1856" y="-4"/>
                  <a:pt x="1852" y="12"/>
                </a:cubicBezTo>
                <a:cubicBezTo>
                  <a:pt x="1830" y="100"/>
                  <a:pt x="1824" y="200"/>
                  <a:pt x="1818" y="290"/>
                </a:cubicBezTo>
                <a:cubicBezTo>
                  <a:pt x="1807" y="442"/>
                  <a:pt x="1782" y="594"/>
                  <a:pt x="1776" y="746"/>
                </a:cubicBezTo>
                <a:cubicBezTo>
                  <a:pt x="1774" y="800"/>
                  <a:pt x="1778" y="853"/>
                  <a:pt x="1784" y="904"/>
                </a:cubicBezTo>
                <a:cubicBezTo>
                  <a:pt x="1809" y="882"/>
                  <a:pt x="1841" y="851"/>
                  <a:pt x="1861" y="815"/>
                </a:cubicBezTo>
                <a:cubicBezTo>
                  <a:pt x="1906" y="732"/>
                  <a:pt x="1946" y="645"/>
                  <a:pt x="1993" y="563"/>
                </a:cubicBezTo>
                <a:cubicBezTo>
                  <a:pt x="2023" y="510"/>
                  <a:pt x="2063" y="413"/>
                  <a:pt x="2113" y="375"/>
                </a:cubicBezTo>
                <a:cubicBezTo>
                  <a:pt x="2120" y="374"/>
                  <a:pt x="2127" y="372"/>
                  <a:pt x="2134" y="371"/>
                </a:cubicBezTo>
                <a:cubicBezTo>
                  <a:pt x="2178" y="415"/>
                  <a:pt x="2180" y="463"/>
                  <a:pt x="2189" y="524"/>
                </a:cubicBezTo>
                <a:cubicBezTo>
                  <a:pt x="2203" y="617"/>
                  <a:pt x="2208" y="712"/>
                  <a:pt x="2215" y="806"/>
                </a:cubicBezTo>
                <a:cubicBezTo>
                  <a:pt x="2217" y="834"/>
                  <a:pt x="2215" y="916"/>
                  <a:pt x="2245" y="926"/>
                </a:cubicBezTo>
                <a:cubicBezTo>
                  <a:pt x="2252" y="922"/>
                  <a:pt x="2259" y="917"/>
                  <a:pt x="2266" y="913"/>
                </a:cubicBezTo>
              </a:path>
              <a:path w="5434" h="2983">
                <a:moveTo>
                  <a:pt x="2480" y="597"/>
                </a:moveTo>
                <a:cubicBezTo>
                  <a:pt x="2471" y="657"/>
                  <a:pt x="2447" y="718"/>
                  <a:pt x="2454" y="780"/>
                </a:cubicBezTo>
                <a:cubicBezTo>
                  <a:pt x="2457" y="794"/>
                  <a:pt x="2455" y="798"/>
                  <a:pt x="2463" y="802"/>
                </a:cubicBezTo>
                <a:cubicBezTo>
                  <a:pt x="2470" y="796"/>
                  <a:pt x="2484" y="790"/>
                  <a:pt x="2492" y="780"/>
                </a:cubicBezTo>
                <a:cubicBezTo>
                  <a:pt x="2525" y="740"/>
                  <a:pt x="2548" y="688"/>
                  <a:pt x="2574" y="644"/>
                </a:cubicBezTo>
                <a:cubicBezTo>
                  <a:pt x="2610" y="582"/>
                  <a:pt x="2647" y="517"/>
                  <a:pt x="2667" y="448"/>
                </a:cubicBezTo>
                <a:cubicBezTo>
                  <a:pt x="2678" y="411"/>
                  <a:pt x="2694" y="352"/>
                  <a:pt x="2663" y="320"/>
                </a:cubicBezTo>
                <a:cubicBezTo>
                  <a:pt x="2633" y="289"/>
                  <a:pt x="2588" y="329"/>
                  <a:pt x="2565" y="345"/>
                </a:cubicBezTo>
                <a:cubicBezTo>
                  <a:pt x="2526" y="372"/>
                  <a:pt x="2491" y="410"/>
                  <a:pt x="2463" y="448"/>
                </a:cubicBezTo>
                <a:cubicBezTo>
                  <a:pt x="2438" y="482"/>
                  <a:pt x="2442" y="483"/>
                  <a:pt x="2463" y="499"/>
                </a:cubicBezTo>
              </a:path>
              <a:path w="5434" h="2983">
                <a:moveTo>
                  <a:pt x="2855" y="507"/>
                </a:moveTo>
                <a:cubicBezTo>
                  <a:pt x="2855" y="547"/>
                  <a:pt x="2852" y="587"/>
                  <a:pt x="2851" y="627"/>
                </a:cubicBezTo>
                <a:cubicBezTo>
                  <a:pt x="2851" y="632"/>
                  <a:pt x="2851" y="666"/>
                  <a:pt x="2847" y="670"/>
                </a:cubicBezTo>
                <a:cubicBezTo>
                  <a:pt x="2845" y="668"/>
                  <a:pt x="2844" y="667"/>
                  <a:pt x="2842" y="665"/>
                </a:cubicBezTo>
                <a:cubicBezTo>
                  <a:pt x="2853" y="656"/>
                  <a:pt x="2855" y="646"/>
                  <a:pt x="2864" y="631"/>
                </a:cubicBezTo>
                <a:cubicBezTo>
                  <a:pt x="2885" y="597"/>
                  <a:pt x="2908" y="565"/>
                  <a:pt x="2932" y="533"/>
                </a:cubicBezTo>
                <a:cubicBezTo>
                  <a:pt x="2965" y="490"/>
                  <a:pt x="2998" y="445"/>
                  <a:pt x="3034" y="405"/>
                </a:cubicBezTo>
                <a:cubicBezTo>
                  <a:pt x="3054" y="383"/>
                  <a:pt x="3093" y="349"/>
                  <a:pt x="3124" y="345"/>
                </a:cubicBezTo>
                <a:cubicBezTo>
                  <a:pt x="3150" y="342"/>
                  <a:pt x="3159" y="371"/>
                  <a:pt x="3167" y="388"/>
                </a:cubicBezTo>
              </a:path>
              <a:path w="5434" h="2983">
                <a:moveTo>
                  <a:pt x="3401" y="448"/>
                </a:moveTo>
                <a:cubicBezTo>
                  <a:pt x="3404" y="501"/>
                  <a:pt x="3398" y="553"/>
                  <a:pt x="3401" y="606"/>
                </a:cubicBezTo>
              </a:path>
              <a:path w="5434" h="2983">
                <a:moveTo>
                  <a:pt x="3546" y="38"/>
                </a:moveTo>
                <a:cubicBezTo>
                  <a:pt x="3544" y="65"/>
                  <a:pt x="3537" y="65"/>
                  <a:pt x="3555" y="81"/>
                </a:cubicBezTo>
              </a:path>
              <a:path w="5434" h="2983">
                <a:moveTo>
                  <a:pt x="3670" y="358"/>
                </a:moveTo>
                <a:cubicBezTo>
                  <a:pt x="3670" y="357"/>
                  <a:pt x="3665" y="324"/>
                  <a:pt x="3666" y="311"/>
                </a:cubicBezTo>
                <a:cubicBezTo>
                  <a:pt x="3667" y="299"/>
                  <a:pt x="3668" y="295"/>
                  <a:pt x="3679" y="290"/>
                </a:cubicBezTo>
                <a:cubicBezTo>
                  <a:pt x="3692" y="284"/>
                  <a:pt x="3716" y="280"/>
                  <a:pt x="3730" y="277"/>
                </a:cubicBezTo>
                <a:cubicBezTo>
                  <a:pt x="3767" y="268"/>
                  <a:pt x="3804" y="257"/>
                  <a:pt x="3841" y="247"/>
                </a:cubicBezTo>
                <a:cubicBezTo>
                  <a:pt x="3875" y="238"/>
                  <a:pt x="3909" y="230"/>
                  <a:pt x="3943" y="221"/>
                </a:cubicBezTo>
                <a:cubicBezTo>
                  <a:pt x="3958" y="217"/>
                  <a:pt x="3956" y="219"/>
                  <a:pt x="3969" y="221"/>
                </a:cubicBezTo>
                <a:cubicBezTo>
                  <a:pt x="3964" y="250"/>
                  <a:pt x="3958" y="278"/>
                  <a:pt x="3948" y="307"/>
                </a:cubicBezTo>
                <a:cubicBezTo>
                  <a:pt x="3931" y="357"/>
                  <a:pt x="3911" y="405"/>
                  <a:pt x="3896" y="456"/>
                </a:cubicBezTo>
                <a:cubicBezTo>
                  <a:pt x="3885" y="494"/>
                  <a:pt x="3870" y="536"/>
                  <a:pt x="3867" y="576"/>
                </a:cubicBezTo>
                <a:cubicBezTo>
                  <a:pt x="3866" y="597"/>
                  <a:pt x="3863" y="609"/>
                  <a:pt x="3884" y="614"/>
                </a:cubicBezTo>
                <a:cubicBezTo>
                  <a:pt x="3909" y="619"/>
                  <a:pt x="3937" y="609"/>
                  <a:pt x="3960" y="597"/>
                </a:cubicBezTo>
                <a:cubicBezTo>
                  <a:pt x="4011" y="570"/>
                  <a:pt x="4053" y="532"/>
                  <a:pt x="4097" y="495"/>
                </a:cubicBezTo>
                <a:cubicBezTo>
                  <a:pt x="4134" y="466"/>
                  <a:pt x="4145" y="458"/>
                  <a:pt x="4161" y="431"/>
                </a:cubicBezTo>
              </a:path>
              <a:path w="5434" h="2983">
                <a:moveTo>
                  <a:pt x="3854" y="413"/>
                </a:moveTo>
                <a:cubicBezTo>
                  <a:pt x="3909" y="426"/>
                  <a:pt x="3939" y="407"/>
                  <a:pt x="3995" y="401"/>
                </a:cubicBezTo>
              </a:path>
              <a:path w="5434" h="2983">
                <a:moveTo>
                  <a:pt x="4609" y="157"/>
                </a:moveTo>
                <a:cubicBezTo>
                  <a:pt x="4594" y="164"/>
                  <a:pt x="4550" y="180"/>
                  <a:pt x="4524" y="196"/>
                </a:cubicBezTo>
                <a:cubicBezTo>
                  <a:pt x="4478" y="225"/>
                  <a:pt x="4444" y="259"/>
                  <a:pt x="4408" y="298"/>
                </a:cubicBezTo>
                <a:cubicBezTo>
                  <a:pt x="4383" y="324"/>
                  <a:pt x="4349" y="362"/>
                  <a:pt x="4349" y="401"/>
                </a:cubicBezTo>
                <a:cubicBezTo>
                  <a:pt x="4349" y="440"/>
                  <a:pt x="4375" y="442"/>
                  <a:pt x="4408" y="443"/>
                </a:cubicBezTo>
                <a:cubicBezTo>
                  <a:pt x="4461" y="444"/>
                  <a:pt x="4527" y="412"/>
                  <a:pt x="4571" y="384"/>
                </a:cubicBezTo>
                <a:cubicBezTo>
                  <a:pt x="4630" y="346"/>
                  <a:pt x="4663" y="300"/>
                  <a:pt x="4694" y="239"/>
                </a:cubicBezTo>
                <a:cubicBezTo>
                  <a:pt x="4718" y="192"/>
                  <a:pt x="4716" y="153"/>
                  <a:pt x="4694" y="106"/>
                </a:cubicBezTo>
                <a:cubicBezTo>
                  <a:pt x="4680" y="77"/>
                  <a:pt x="4649" y="54"/>
                  <a:pt x="4618" y="46"/>
                </a:cubicBezTo>
                <a:cubicBezTo>
                  <a:pt x="4592" y="39"/>
                  <a:pt x="4600" y="50"/>
                  <a:pt x="4583" y="55"/>
                </a:cubicBezTo>
                <a:cubicBezTo>
                  <a:pt x="4600" y="75"/>
                  <a:pt x="4616" y="98"/>
                  <a:pt x="4643" y="110"/>
                </a:cubicBezTo>
                <a:cubicBezTo>
                  <a:pt x="4683" y="128"/>
                  <a:pt x="4740" y="144"/>
                  <a:pt x="4784" y="149"/>
                </a:cubicBezTo>
                <a:cubicBezTo>
                  <a:pt x="4836" y="154"/>
                  <a:pt x="4896" y="137"/>
                  <a:pt x="4946" y="153"/>
                </a:cubicBezTo>
                <a:cubicBezTo>
                  <a:pt x="4967" y="160"/>
                  <a:pt x="4972" y="173"/>
                  <a:pt x="4980" y="192"/>
                </a:cubicBezTo>
                <a:cubicBezTo>
                  <a:pt x="4991" y="217"/>
                  <a:pt x="4996" y="245"/>
                  <a:pt x="5014" y="268"/>
                </a:cubicBezTo>
                <a:cubicBezTo>
                  <a:pt x="5034" y="294"/>
                  <a:pt x="5041" y="296"/>
                  <a:pt x="5074" y="294"/>
                </a:cubicBezTo>
                <a:cubicBezTo>
                  <a:pt x="5110" y="291"/>
                  <a:pt x="5155" y="247"/>
                  <a:pt x="5181" y="226"/>
                </a:cubicBezTo>
                <a:cubicBezTo>
                  <a:pt x="5212" y="201"/>
                  <a:pt x="5240" y="158"/>
                  <a:pt x="5275" y="140"/>
                </a:cubicBezTo>
                <a:cubicBezTo>
                  <a:pt x="5292" y="132"/>
                  <a:pt x="5297" y="130"/>
                  <a:pt x="5309" y="128"/>
                </a:cubicBezTo>
                <a:cubicBezTo>
                  <a:pt x="5328" y="156"/>
                  <a:pt x="5332" y="173"/>
                  <a:pt x="5339" y="209"/>
                </a:cubicBezTo>
                <a:cubicBezTo>
                  <a:pt x="5350" y="266"/>
                  <a:pt x="5365" y="321"/>
                  <a:pt x="5386" y="375"/>
                </a:cubicBezTo>
                <a:cubicBezTo>
                  <a:pt x="5400" y="412"/>
                  <a:pt x="5408" y="428"/>
                  <a:pt x="5433" y="456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Freeform 8"/>
          <p:cNvSpPr/>
          <p:nvPr/>
        </p:nvSpPr>
        <p:spPr>
          <a:xfrm>
            <a:off x="703440" y="2717640"/>
            <a:ext cx="7734240" cy="152640"/>
          </a:xfrm>
          <a:custGeom>
            <a:avLst/>
            <a:gdLst/>
            <a:ahLst/>
            <a:rect l="l" t="t" r="r" b="b"/>
            <a:pathLst>
              <a:path w="21483" h="423">
                <a:moveTo>
                  <a:pt x="0" y="371"/>
                </a:moveTo>
                <a:cubicBezTo>
                  <a:pt x="329" y="402"/>
                  <a:pt x="631" y="412"/>
                  <a:pt x="973" y="379"/>
                </a:cubicBezTo>
                <a:cubicBezTo>
                  <a:pt x="2178" y="264"/>
                  <a:pt x="3359" y="72"/>
                  <a:pt x="4574" y="47"/>
                </a:cubicBezTo>
                <a:cubicBezTo>
                  <a:pt x="6500" y="8"/>
                  <a:pt x="8423" y="226"/>
                  <a:pt x="10348" y="273"/>
                </a:cubicBezTo>
                <a:cubicBezTo>
                  <a:pt x="12349" y="321"/>
                  <a:pt x="14344" y="288"/>
                  <a:pt x="16344" y="226"/>
                </a:cubicBezTo>
                <a:cubicBezTo>
                  <a:pt x="18028" y="174"/>
                  <a:pt x="19706" y="-15"/>
                  <a:pt x="21392" y="4"/>
                </a:cubicBezTo>
                <a:cubicBezTo>
                  <a:pt x="21413" y="4"/>
                  <a:pt x="21470" y="8"/>
                  <a:pt x="21478" y="8"/>
                </a:cubicBezTo>
                <a:cubicBezTo>
                  <a:pt x="21490" y="8"/>
                  <a:pt x="21457" y="8"/>
                  <a:pt x="21469" y="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Freeform 11"/>
          <p:cNvSpPr/>
          <p:nvPr/>
        </p:nvSpPr>
        <p:spPr>
          <a:xfrm>
            <a:off x="6710400" y="1909800"/>
            <a:ext cx="689040" cy="588960"/>
          </a:xfrm>
          <a:custGeom>
            <a:avLst/>
            <a:gdLst/>
            <a:ahLst/>
            <a:rect l="l" t="t" r="r" b="b"/>
            <a:pathLst>
              <a:path w="1913" h="1635">
                <a:moveTo>
                  <a:pt x="111" y="0"/>
                </a:moveTo>
                <a:cubicBezTo>
                  <a:pt x="111" y="1"/>
                  <a:pt x="111" y="-2"/>
                  <a:pt x="111" y="0"/>
                </a:cubicBezTo>
                <a:cubicBezTo>
                  <a:pt x="109" y="15"/>
                  <a:pt x="108" y="29"/>
                  <a:pt x="107" y="43"/>
                </a:cubicBezTo>
                <a:cubicBezTo>
                  <a:pt x="98" y="152"/>
                  <a:pt x="86" y="262"/>
                  <a:pt x="77" y="371"/>
                </a:cubicBezTo>
                <a:cubicBezTo>
                  <a:pt x="62" y="562"/>
                  <a:pt x="49" y="752"/>
                  <a:pt x="34" y="943"/>
                </a:cubicBezTo>
                <a:cubicBezTo>
                  <a:pt x="19" y="1133"/>
                  <a:pt x="9" y="1321"/>
                  <a:pt x="9" y="1511"/>
                </a:cubicBezTo>
                <a:cubicBezTo>
                  <a:pt x="9" y="1552"/>
                  <a:pt x="9" y="1593"/>
                  <a:pt x="9" y="1634"/>
                </a:cubicBezTo>
                <a:cubicBezTo>
                  <a:pt x="2" y="1596"/>
                  <a:pt x="0" y="1563"/>
                  <a:pt x="0" y="1523"/>
                </a:cubicBezTo>
              </a:path>
              <a:path w="1913" h="1635">
                <a:moveTo>
                  <a:pt x="487" y="559"/>
                </a:moveTo>
                <a:cubicBezTo>
                  <a:pt x="473" y="602"/>
                  <a:pt x="481" y="640"/>
                  <a:pt x="482" y="687"/>
                </a:cubicBezTo>
                <a:cubicBezTo>
                  <a:pt x="483" y="736"/>
                  <a:pt x="484" y="784"/>
                  <a:pt x="474" y="832"/>
                </a:cubicBezTo>
                <a:cubicBezTo>
                  <a:pt x="461" y="893"/>
                  <a:pt x="433" y="948"/>
                  <a:pt x="418" y="1007"/>
                </a:cubicBezTo>
                <a:cubicBezTo>
                  <a:pt x="400" y="1080"/>
                  <a:pt x="382" y="1155"/>
                  <a:pt x="371" y="1229"/>
                </a:cubicBezTo>
                <a:cubicBezTo>
                  <a:pt x="365" y="1269"/>
                  <a:pt x="373" y="1387"/>
                  <a:pt x="363" y="1348"/>
                </a:cubicBezTo>
                <a:cubicBezTo>
                  <a:pt x="359" y="1322"/>
                  <a:pt x="358" y="1313"/>
                  <a:pt x="371" y="1297"/>
                </a:cubicBezTo>
              </a:path>
              <a:path w="1913" h="1635">
                <a:moveTo>
                  <a:pt x="610" y="320"/>
                </a:moveTo>
                <a:cubicBezTo>
                  <a:pt x="627" y="385"/>
                  <a:pt x="629" y="443"/>
                  <a:pt x="645" y="508"/>
                </a:cubicBezTo>
                <a:cubicBezTo>
                  <a:pt x="649" y="525"/>
                  <a:pt x="665" y="597"/>
                  <a:pt x="657" y="529"/>
                </a:cubicBezTo>
              </a:path>
              <a:path w="1913" h="1635">
                <a:moveTo>
                  <a:pt x="756" y="696"/>
                </a:moveTo>
                <a:cubicBezTo>
                  <a:pt x="757" y="729"/>
                  <a:pt x="751" y="759"/>
                  <a:pt x="747" y="794"/>
                </a:cubicBezTo>
                <a:cubicBezTo>
                  <a:pt x="741" y="842"/>
                  <a:pt x="733" y="888"/>
                  <a:pt x="721" y="935"/>
                </a:cubicBezTo>
                <a:cubicBezTo>
                  <a:pt x="712" y="969"/>
                  <a:pt x="704" y="1003"/>
                  <a:pt x="696" y="1037"/>
                </a:cubicBezTo>
                <a:cubicBezTo>
                  <a:pt x="695" y="1041"/>
                  <a:pt x="693" y="1046"/>
                  <a:pt x="692" y="1050"/>
                </a:cubicBezTo>
                <a:cubicBezTo>
                  <a:pt x="707" y="1031"/>
                  <a:pt x="719" y="1021"/>
                  <a:pt x="730" y="999"/>
                </a:cubicBezTo>
                <a:cubicBezTo>
                  <a:pt x="765" y="927"/>
                  <a:pt x="799" y="854"/>
                  <a:pt x="832" y="781"/>
                </a:cubicBezTo>
                <a:cubicBezTo>
                  <a:pt x="870" y="697"/>
                  <a:pt x="909" y="606"/>
                  <a:pt x="960" y="529"/>
                </a:cubicBezTo>
                <a:cubicBezTo>
                  <a:pt x="981" y="497"/>
                  <a:pt x="1004" y="471"/>
                  <a:pt x="1033" y="448"/>
                </a:cubicBezTo>
                <a:cubicBezTo>
                  <a:pt x="1081" y="468"/>
                  <a:pt x="1093" y="516"/>
                  <a:pt x="1105" y="568"/>
                </a:cubicBezTo>
                <a:cubicBezTo>
                  <a:pt x="1131" y="680"/>
                  <a:pt x="1137" y="795"/>
                  <a:pt x="1148" y="909"/>
                </a:cubicBezTo>
                <a:cubicBezTo>
                  <a:pt x="1157" y="1001"/>
                  <a:pt x="1164" y="1094"/>
                  <a:pt x="1174" y="1186"/>
                </a:cubicBezTo>
                <a:cubicBezTo>
                  <a:pt x="1175" y="1195"/>
                  <a:pt x="1177" y="1203"/>
                  <a:pt x="1178" y="1212"/>
                </a:cubicBezTo>
                <a:cubicBezTo>
                  <a:pt x="1192" y="1163"/>
                  <a:pt x="1213" y="1091"/>
                  <a:pt x="1216" y="1033"/>
                </a:cubicBezTo>
                <a:cubicBezTo>
                  <a:pt x="1216" y="996"/>
                  <a:pt x="1216" y="959"/>
                  <a:pt x="1216" y="922"/>
                </a:cubicBezTo>
              </a:path>
              <a:path w="1913" h="1635">
                <a:moveTo>
                  <a:pt x="1298" y="734"/>
                </a:moveTo>
                <a:cubicBezTo>
                  <a:pt x="1305" y="755"/>
                  <a:pt x="1312" y="764"/>
                  <a:pt x="1293" y="760"/>
                </a:cubicBezTo>
                <a:cubicBezTo>
                  <a:pt x="1311" y="758"/>
                  <a:pt x="1326" y="754"/>
                  <a:pt x="1344" y="751"/>
                </a:cubicBezTo>
                <a:cubicBezTo>
                  <a:pt x="1361" y="748"/>
                  <a:pt x="1379" y="746"/>
                  <a:pt x="1396" y="742"/>
                </a:cubicBezTo>
                <a:cubicBezTo>
                  <a:pt x="1422" y="736"/>
                  <a:pt x="1447" y="730"/>
                  <a:pt x="1472" y="721"/>
                </a:cubicBezTo>
                <a:cubicBezTo>
                  <a:pt x="1504" y="709"/>
                  <a:pt x="1541" y="684"/>
                  <a:pt x="1562" y="657"/>
                </a:cubicBezTo>
                <a:cubicBezTo>
                  <a:pt x="1591" y="618"/>
                  <a:pt x="1604" y="576"/>
                  <a:pt x="1613" y="529"/>
                </a:cubicBezTo>
                <a:cubicBezTo>
                  <a:pt x="1621" y="489"/>
                  <a:pt x="1622" y="445"/>
                  <a:pt x="1613" y="405"/>
                </a:cubicBezTo>
                <a:cubicBezTo>
                  <a:pt x="1609" y="388"/>
                  <a:pt x="1603" y="377"/>
                  <a:pt x="1596" y="363"/>
                </a:cubicBezTo>
                <a:cubicBezTo>
                  <a:pt x="1595" y="361"/>
                  <a:pt x="1593" y="360"/>
                  <a:pt x="1592" y="358"/>
                </a:cubicBezTo>
                <a:cubicBezTo>
                  <a:pt x="1579" y="369"/>
                  <a:pt x="1566" y="379"/>
                  <a:pt x="1554" y="393"/>
                </a:cubicBezTo>
                <a:cubicBezTo>
                  <a:pt x="1525" y="426"/>
                  <a:pt x="1514" y="480"/>
                  <a:pt x="1502" y="521"/>
                </a:cubicBezTo>
                <a:cubicBezTo>
                  <a:pt x="1478" y="601"/>
                  <a:pt x="1462" y="678"/>
                  <a:pt x="1447" y="760"/>
                </a:cubicBezTo>
                <a:cubicBezTo>
                  <a:pt x="1432" y="842"/>
                  <a:pt x="1422" y="923"/>
                  <a:pt x="1430" y="1007"/>
                </a:cubicBezTo>
                <a:cubicBezTo>
                  <a:pt x="1436" y="1065"/>
                  <a:pt x="1465" y="1124"/>
                  <a:pt x="1524" y="1144"/>
                </a:cubicBezTo>
                <a:cubicBezTo>
                  <a:pt x="1593" y="1167"/>
                  <a:pt x="1690" y="1138"/>
                  <a:pt x="1746" y="1097"/>
                </a:cubicBezTo>
                <a:cubicBezTo>
                  <a:pt x="1811" y="1050"/>
                  <a:pt x="1861" y="994"/>
                  <a:pt x="1912" y="935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9" name="Freeform 12"/>
          <p:cNvSpPr/>
          <p:nvPr/>
        </p:nvSpPr>
        <p:spPr>
          <a:xfrm>
            <a:off x="987480" y="42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me holds true for geometric sha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"/>
          <p:cNvSpPr/>
          <p:nvPr/>
        </p:nvSpPr>
        <p:spPr>
          <a:xfrm>
            <a:off x="703440" y="2717640"/>
            <a:ext cx="7734240" cy="152640"/>
          </a:xfrm>
          <a:custGeom>
            <a:avLst/>
            <a:gdLst/>
            <a:ahLst/>
            <a:rect l="l" t="t" r="r" b="b"/>
            <a:pathLst>
              <a:path w="21483" h="423">
                <a:moveTo>
                  <a:pt x="0" y="371"/>
                </a:moveTo>
                <a:cubicBezTo>
                  <a:pt x="329" y="402"/>
                  <a:pt x="631" y="412"/>
                  <a:pt x="973" y="379"/>
                </a:cubicBezTo>
                <a:cubicBezTo>
                  <a:pt x="2178" y="264"/>
                  <a:pt x="3359" y="72"/>
                  <a:pt x="4574" y="47"/>
                </a:cubicBezTo>
                <a:cubicBezTo>
                  <a:pt x="6500" y="8"/>
                  <a:pt x="8423" y="226"/>
                  <a:pt x="10348" y="273"/>
                </a:cubicBezTo>
                <a:cubicBezTo>
                  <a:pt x="12349" y="321"/>
                  <a:pt x="14344" y="288"/>
                  <a:pt x="16344" y="226"/>
                </a:cubicBezTo>
                <a:cubicBezTo>
                  <a:pt x="18028" y="174"/>
                  <a:pt x="19706" y="-15"/>
                  <a:pt x="21392" y="4"/>
                </a:cubicBezTo>
                <a:cubicBezTo>
                  <a:pt x="21413" y="4"/>
                  <a:pt x="21470" y="8"/>
                  <a:pt x="21478" y="8"/>
                </a:cubicBezTo>
                <a:cubicBezTo>
                  <a:pt x="21490" y="8"/>
                  <a:pt x="21457" y="8"/>
                  <a:pt x="21469" y="8"/>
                </a:cubicBez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Freeform 7"/>
          <p:cNvSpPr/>
          <p:nvPr/>
        </p:nvSpPr>
        <p:spPr>
          <a:xfrm>
            <a:off x="987480" y="42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3" name="Freeform 9"/>
          <p:cNvSpPr/>
          <p:nvPr/>
        </p:nvSpPr>
        <p:spPr>
          <a:xfrm>
            <a:off x="3144960" y="3508200"/>
            <a:ext cx="2227320" cy="158760"/>
          </a:xfrm>
          <a:custGeom>
            <a:avLst/>
            <a:gdLst/>
            <a:ahLst/>
            <a:rect l="l" t="t" r="r" b="b"/>
            <a:pathLst>
              <a:path w="6188" h="441">
                <a:moveTo>
                  <a:pt x="0" y="401"/>
                </a:moveTo>
                <a:cubicBezTo>
                  <a:pt x="23" y="406"/>
                  <a:pt x="44" y="418"/>
                  <a:pt x="68" y="423"/>
                </a:cubicBezTo>
                <a:cubicBezTo>
                  <a:pt x="240" y="456"/>
                  <a:pt x="423" y="442"/>
                  <a:pt x="597" y="436"/>
                </a:cubicBezTo>
                <a:cubicBezTo>
                  <a:pt x="1384" y="408"/>
                  <a:pt x="2158" y="324"/>
                  <a:pt x="2940" y="239"/>
                </a:cubicBezTo>
                <a:cubicBezTo>
                  <a:pt x="3983" y="126"/>
                  <a:pt x="5079" y="12"/>
                  <a:pt x="6128" y="5"/>
                </a:cubicBezTo>
                <a:cubicBezTo>
                  <a:pt x="6155" y="5"/>
                  <a:pt x="6148" y="3"/>
                  <a:pt x="6175" y="5"/>
                </a:cubicBezTo>
                <a:cubicBezTo>
                  <a:pt x="6171" y="8"/>
                  <a:pt x="6166" y="10"/>
                  <a:pt x="6162" y="13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4" name="Freeform 10"/>
          <p:cNvSpPr/>
          <p:nvPr/>
        </p:nvSpPr>
        <p:spPr>
          <a:xfrm>
            <a:off x="3165480" y="3598920"/>
            <a:ext cx="2359080" cy="1698480"/>
          </a:xfrm>
          <a:custGeom>
            <a:avLst/>
            <a:gdLst/>
            <a:ahLst/>
            <a:rect l="l" t="t" r="r" b="b"/>
            <a:pathLst>
              <a:path w="6552" h="4717">
                <a:moveTo>
                  <a:pt x="60" y="0"/>
                </a:moveTo>
                <a:cubicBezTo>
                  <a:pt x="57" y="12"/>
                  <a:pt x="22" y="65"/>
                  <a:pt x="17" y="98"/>
                </a:cubicBezTo>
                <a:cubicBezTo>
                  <a:pt x="-93" y="841"/>
                  <a:pt x="40" y="1647"/>
                  <a:pt x="47" y="2394"/>
                </a:cubicBezTo>
                <a:cubicBezTo>
                  <a:pt x="53" y="3088"/>
                  <a:pt x="52" y="3805"/>
                  <a:pt x="22" y="4489"/>
                </a:cubicBezTo>
                <a:cubicBezTo>
                  <a:pt x="21" y="4517"/>
                  <a:pt x="-16" y="4600"/>
                  <a:pt x="9" y="4634"/>
                </a:cubicBezTo>
                <a:cubicBezTo>
                  <a:pt x="31" y="4664"/>
                  <a:pt x="49" y="4677"/>
                  <a:pt x="90" y="4698"/>
                </a:cubicBezTo>
                <a:cubicBezTo>
                  <a:pt x="204" y="4756"/>
                  <a:pt x="394" y="4709"/>
                  <a:pt x="512" y="4698"/>
                </a:cubicBezTo>
                <a:cubicBezTo>
                  <a:pt x="1066" y="4647"/>
                  <a:pt x="1609" y="4523"/>
                  <a:pt x="2168" y="4498"/>
                </a:cubicBezTo>
                <a:cubicBezTo>
                  <a:pt x="3534" y="4438"/>
                  <a:pt x="4896" y="4568"/>
                  <a:pt x="6252" y="4344"/>
                </a:cubicBezTo>
                <a:cubicBezTo>
                  <a:pt x="6325" y="4332"/>
                  <a:pt x="6477" y="4333"/>
                  <a:pt x="6538" y="4289"/>
                </a:cubicBezTo>
                <a:cubicBezTo>
                  <a:pt x="6553" y="4278"/>
                  <a:pt x="6540" y="4207"/>
                  <a:pt x="6551" y="4199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5" name="Freeform 11"/>
          <p:cNvSpPr/>
          <p:nvPr/>
        </p:nvSpPr>
        <p:spPr>
          <a:xfrm>
            <a:off x="5335560" y="3419640"/>
            <a:ext cx="160200" cy="1711080"/>
          </a:xfrm>
          <a:custGeom>
            <a:avLst/>
            <a:gdLst/>
            <a:ahLst/>
            <a:rect l="l" t="t" r="r" b="b"/>
            <a:pathLst>
              <a:path w="445" h="4755">
                <a:moveTo>
                  <a:pt x="8" y="8"/>
                </a:moveTo>
                <a:cubicBezTo>
                  <a:pt x="8" y="20"/>
                  <a:pt x="0" y="13"/>
                  <a:pt x="0" y="25"/>
                </a:cubicBezTo>
                <a:cubicBezTo>
                  <a:pt x="2" y="79"/>
                  <a:pt x="12" y="134"/>
                  <a:pt x="17" y="188"/>
                </a:cubicBezTo>
                <a:cubicBezTo>
                  <a:pt x="41" y="435"/>
                  <a:pt x="53" y="682"/>
                  <a:pt x="68" y="930"/>
                </a:cubicBezTo>
                <a:cubicBezTo>
                  <a:pt x="110" y="1631"/>
                  <a:pt x="144" y="2334"/>
                  <a:pt x="209" y="3034"/>
                </a:cubicBezTo>
                <a:cubicBezTo>
                  <a:pt x="237" y="3338"/>
                  <a:pt x="272" y="3645"/>
                  <a:pt x="320" y="3947"/>
                </a:cubicBezTo>
                <a:cubicBezTo>
                  <a:pt x="351" y="4143"/>
                  <a:pt x="406" y="4337"/>
                  <a:pt x="435" y="4532"/>
                </a:cubicBezTo>
                <a:cubicBezTo>
                  <a:pt x="437" y="4545"/>
                  <a:pt x="438" y="4552"/>
                  <a:pt x="439" y="4566"/>
                </a:cubicBezTo>
                <a:cubicBezTo>
                  <a:pt x="443" y="4615"/>
                  <a:pt x="435" y="4727"/>
                  <a:pt x="414" y="4749"/>
                </a:cubicBezTo>
                <a:cubicBezTo>
                  <a:pt x="405" y="4759"/>
                  <a:pt x="420" y="4702"/>
                  <a:pt x="410" y="4711"/>
                </a:cubicBez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6:04:07Z</dcterms:created>
  <dc:creator>ASB</dc:creator>
  <dc:description/>
  <dc:language>en-US</dc:language>
  <cp:lastModifiedBy>Brian Reverman [STAFF]</cp:lastModifiedBy>
  <dcterms:modified xsi:type="dcterms:W3CDTF">2012-09-13T02:47:38Z</dcterms:modified>
  <cp:revision>30</cp:revision>
  <dc:subject/>
  <dc:title>The body</dc:title>
</cp:coreProperties>
</file>